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6D1-AB95-4C94-8FE8-3B24CA79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9EC-9C9E-4725-971A-F456B189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614-5423-40BB-B56D-6F9B540C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2EE-E8E7-4210-B333-91460B8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214-7C8E-426B-973F-427A4AA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E21-06A1-4ADF-9544-EE177550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610-3DF3-481D-9A8E-DDB0FA57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9CB-E9AD-4EAC-80BC-40CB37C7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518-F7BF-4EF3-9754-40289FED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9DF-D937-4487-8B9B-AD37072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425-BD0B-4166-922F-83CD15D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6C8-6B87-4FC1-9ECD-1462CBC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02BD-BDCA-4BE5-BFFA-43CB8EAD9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pnews.ru/upload/news/2007/01/bab02f4d/bab02f4d_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63;&#1057;%20&#1087;&#1088;&#1080;&#1088;&#1086;&#1076;&#1085;&#1086;&#1075;&#1086;%20&#1080;%20&#1090;&#1077;&#1093;&#1085;&#1086;&#1075;&#1077;&#1085;&#1085;&#1086;&#1075;&#1086;%20&#1093;&#1072;&#1088;&#1072;&#1082;&#1090;&#1077;&#1088;&#1072;.ppt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9185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резвычайные ситуации природного характ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раганы, цун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авайи - это государство, подверженное наибольшему риску появления цунами. По статистике, небольшие цунами возникают здесь ежегодно, а серьезные, приносящие ущерб - где-то раз в 7 лет. В зоне риска находится Аляска, Калифорния, Орегон и Вашингтон, в них в среднем цунами возникают раз в 18 лет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Картинка 2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276640"/>
            <a:ext cx="4318200" cy="31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Знаете ли вы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1964 г., неподалеку от Аляски произошло землетрясение, вызвавшее цунами с волнами высотой в 3-6 м., разрушившими побережье в Калифорнии, Орегоне и Вашингт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тр предупреждения о цунами в зонах риска тщательно контролирует беспорядки, какие могут вызвать цунами. Когда возникает опасная ситуация, центр фиксирует это и выдает предупреждение в случа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www.people.md/data/photos2/1294_1207856182_149.jpg"/>
          <p:cNvPicPr/>
          <p:nvPr/>
        </p:nvPicPr>
        <p:blipFill>
          <a:blip r:embed="rId1"/>
          <a:stretch/>
        </p:blipFill>
        <p:spPr>
          <a:xfrm>
            <a:off x="324000" y="1197000"/>
            <a:ext cx="3887640" cy="2597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cynami.com/box/media/foto/23.jpg"/>
          <p:cNvPicPr/>
          <p:nvPr/>
        </p:nvPicPr>
        <p:blipFill>
          <a:blip r:embed="rId2"/>
          <a:stretch/>
        </p:blipFill>
        <p:spPr>
          <a:xfrm>
            <a:off x="971640" y="3716280"/>
            <a:ext cx="3618000" cy="2732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cynami.com/box/media/foto/23.jpg"/>
          <p:cNvPicPr/>
          <p:nvPr/>
        </p:nvPicPr>
        <p:blipFill>
          <a:blip r:embed="rId3"/>
          <a:stretch/>
        </p:blipFill>
        <p:spPr>
          <a:xfrm>
            <a:off x="971640" y="3716280"/>
            <a:ext cx="3618000" cy="2732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cynami.com/box/media/foto/23.jpg"/>
          <p:cNvPicPr/>
          <p:nvPr/>
        </p:nvPicPr>
        <p:blipFill>
          <a:blip r:embed="rId4"/>
          <a:stretch/>
        </p:blipFill>
        <p:spPr>
          <a:xfrm>
            <a:off x="900000" y="3716280"/>
            <a:ext cx="36896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унами приводит к человеческим смертям, наиболее распространенная смерть - утопление, на втором месте находятся травмы, несовместимые с жизнью. Кстати, попытка сделать необычные фото цунами очень часто приводит к гибели незадачливого фотографа. Волны цунами разрушают прибрежные структуры, вызывают наводнения, загрязняют питьевую воду, разрушают газопро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novayavolnatur.ru/upload/iblock/79b/79bd42b38d86d7027cc3f03895ab0654.jpg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356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mignews.com/aimages/12_04/301204_140651_23484_21.jpg"/>
          <p:cNvPicPr/>
          <p:nvPr/>
        </p:nvPicPr>
        <p:blipFill>
          <a:blip r:embed="rId2"/>
          <a:stretch/>
        </p:blipFill>
        <p:spPr>
          <a:xfrm>
            <a:off x="5364000" y="260280"/>
            <a:ext cx="288792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В глубоководных районах, цунами могут быть в высоту только до 1 м., что делает возможность их обнаружить еще на глубине практически нереаль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Как часто цунами происходят? Несмотря на множество фото цунами, в реальности это явление случается намного реже, чем принято думать. В каждом столетии фиксируется 6-7 крупных цунами, принесших большие разрушения, хотя, конечно, фотографии цунами небольшой величины делаются чуть ли не ежего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7093080" y="4941720"/>
            <a:ext cx="1081080" cy="720720"/>
          </a:xfrm>
          <a:custGeom>
            <a:avLst/>
            <a:gdLst>
              <a:gd name="textAreaLeft" fmla="*/ 46440 w 1081080"/>
              <a:gd name="textAreaRight" fmla="*/ 1034640 w 1081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5" h="21600">
                <a:moveTo>
                  <a:pt x="9191" y="7493"/>
                </a:moveTo>
                <a:lnTo>
                  <a:pt x="12698" y="7493"/>
                </a:lnTo>
                <a:lnTo>
                  <a:pt x="12698" y="12828"/>
                </a:lnTo>
                <a:cubicBezTo>
                  <a:pt x="12698" y="13751"/>
                  <a:pt x="13499" y="14482"/>
                  <a:pt x="14535" y="14482"/>
                </a:cubicBezTo>
                <a:lnTo>
                  <a:pt x="16197" y="14482"/>
                </a:lnTo>
                <a:cubicBezTo>
                  <a:pt x="17233" y="14482"/>
                  <a:pt x="18034" y="13751"/>
                  <a:pt x="18034" y="12828"/>
                </a:cubicBezTo>
                <a:lnTo>
                  <a:pt x="18034" y="7493"/>
                </a:lnTo>
                <a:lnTo>
                  <a:pt x="16197" y="7493"/>
                </a:lnTo>
                <a:lnTo>
                  <a:pt x="19705" y="3985"/>
                </a:lnTo>
                <a:lnTo>
                  <a:pt x="23378" y="7493"/>
                </a:lnTo>
                <a:lnTo>
                  <a:pt x="21541" y="7493"/>
                </a:lnTo>
                <a:lnTo>
                  <a:pt x="21541" y="12828"/>
                </a:lnTo>
                <a:cubicBezTo>
                  <a:pt x="21541" y="15596"/>
                  <a:pt x="18965" y="18155"/>
                  <a:pt x="16197" y="18155"/>
                </a:cubicBezTo>
                <a:lnTo>
                  <a:pt x="14535" y="18155"/>
                </a:lnTo>
                <a:cubicBezTo>
                  <a:pt x="11767" y="18155"/>
                  <a:pt x="9191" y="15596"/>
                  <a:pt x="919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age.newsru.com/pict/id/large/870904_1153134325.gif"/>
          <p:cNvPicPr/>
          <p:nvPr/>
        </p:nvPicPr>
        <p:blipFill>
          <a:blip r:embed="rId2"/>
          <a:stretch/>
        </p:blipFill>
        <p:spPr>
          <a:xfrm>
            <a:off x="1187280" y="2997360"/>
            <a:ext cx="4499280" cy="33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рага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циклоны, которые возникают в тропических широтах, при этом сила ветра достигает 64 узлов (74 миль в час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673440" cy="33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ый страшный на памяти человечества ураган прошел 12—13 ноября 1970 года над островами в дельте Ганга, Бангладеш. Он унес около миллиона жиз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03848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следствие ураг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3278520" cy="218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26880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3456000" cy="26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3889440" cy="29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Что делать, если поступило штормовое предупреж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наветренной стороны здания плотно закрыть окна, двери, чердачные люки и вентиляционные отверстия; стёкла окон оклеить, по возможности защитить ставнями или щитами; чтобы уравнять внутреннее давление, с подветренной стороны двери и окна открыть и закрепить в этом полож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овить автономный запас воды и пищи, медикаментов; взять фонарик, керосиновую лампу, свечу, походную плитку или керосинку, приёмник на батарейках; взять с собой документы и деньг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брать с балконов, подоконников и лоджий вещи, которые могут быть захвачены воздушным потоком; то же касается предметов во дворе или на крыш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гасить огонь в печах, подготовиться к выключению электросети, закрыть газовые к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вить включёнными радиоприёмники и телевизоры: по ним может поступить новая важная информ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лёгких зданий перейти в более прочные или убежища 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Шкала Бофорта.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раган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12 баллов, скорость - более 120,7км/ч; большие разру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22560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332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603600" cy="270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211640" y="3860640"/>
            <a:ext cx="3889440" cy="26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унами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ставляет собой серию огромных волн, появляющихся после того, как происходят подводные вол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8480" cy="38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ун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astronomy.net.ua/4files/data/media/59/tsunami-wave-hits-beach.jpg"/>
          <p:cNvPicPr/>
          <p:nvPr/>
        </p:nvPicPr>
        <p:blipFill>
          <a:blip r:embed="rId1"/>
          <a:stretch/>
        </p:blipFill>
        <p:spPr>
          <a:xfrm>
            <a:off x="539640" y="9810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virt-page.narod.ru/Tailand/1104400539.jpg"/>
          <p:cNvPicPr/>
          <p:nvPr/>
        </p:nvPicPr>
        <p:blipFill>
          <a:blip r:embed="rId2"/>
          <a:stretch/>
        </p:blipFill>
        <p:spPr>
          <a:xfrm>
            <a:off x="4572000" y="981000"/>
            <a:ext cx="4205160" cy="2694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Чтобы подводное землетрясение стало причиной возникновения цунами, оно должно достигать почти 7 баллов по шкале Рих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Около 90 процентов всех цунами возникают в Тихом океане, соответственно, и фото цунами в большинстве своем делаются именно 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Многие цунами сегодня обнаруживаются еще до того, как они обрушиваются на землю, что позволяет свести к минимуму смерти. Использование современных технологий, в том числе сейсмографов и систем оповещения, обеспечивает сравнительную безопасность, правда, не позволяет защитить постро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Термин «цунами» происходит из Японии, и значит «волна в гаван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fb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Цунами начинается, когда огромные объемы воды быстро перемещаются (из-за подземных явлений,), волны цунами доходят до берега и разрушаю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837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3763"/>
                </a:solidFill>
                <a:latin typeface="Arial"/>
              </a:rPr>
              <a:t>Цунами отличается не только высотой, его волны еще и очень длинные, расстояние между гребнями достигает несколько сот км., что приводит к большому временному промежутку между 2мя идущими подряд волнами, доходящем до 1 ча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img.lenta.ru/world/2005/01/18/chilie/picture.jpg"/>
          <p:cNvPicPr/>
          <p:nvPr/>
        </p:nvPicPr>
        <p:blipFill>
          <a:blip r:embed="rId1"/>
          <a:stretch/>
        </p:blipFill>
        <p:spPr>
          <a:xfrm>
            <a:off x="4859280" y="333360"/>
            <a:ext cx="3944880" cy="286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img-fotki.yandex.ru/get/3001/isolow.5/0_fcc_5f4a94d5_L"/>
          <p:cNvPicPr/>
          <p:nvPr/>
        </p:nvPicPr>
        <p:blipFill>
          <a:blip r:embed="rId2"/>
          <a:stretch/>
        </p:blipFill>
        <p:spPr>
          <a:xfrm>
            <a:off x="4859280" y="3213000"/>
            <a:ext cx="4008600" cy="30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убков Артём 11 класс МОУ Большевязёмская гимназия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36:18Z</dcterms:created>
  <dc:creator>Елена</dc:creator>
  <dc:description/>
  <dc:language>en-US</dc:language>
  <cp:lastModifiedBy>Елена</cp:lastModifiedBy>
  <dcterms:modified xsi:type="dcterms:W3CDTF">2010-01-23T23:46:36Z</dcterms:modified>
  <cp:revision>8</cp:revision>
  <dc:subject/>
  <dc:title>Слайд 1</dc:title>
</cp:coreProperties>
</file>