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7632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5da2"/>
                </a:solidFill>
                <a:latin typeface="Calibri"/>
                <a:ea typeface="Arial Unicode MS"/>
              </a:rPr>
              <a:t>Этимологический словарь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834920" y="3176280"/>
            <a:ext cx="6337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Подготовила учитель    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начальных  классов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МОБУ СОШ № 19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С о к о л о в а  Е . В 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г.Богородицк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95280" y="2457360"/>
            <a:ext cx="774072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Мороз , морозец , морозище , морозно , морозный , заморозки , Морозко , (за- , на- , об- , от- , пере- , под- , раз- , при- ) морозить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1223640" y="296640"/>
            <a:ext cx="777708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Мороз-</a:t>
            </a: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1) Холод , стужа . </a:t>
            </a:r>
            <a:r>
              <a:rPr b="0" i="1" lang="ru-RU" sz="2800" spc="-1" strike="noStrike">
                <a:solidFill>
                  <a:srgbClr val="005da2"/>
                </a:solidFill>
                <a:latin typeface="Calibri"/>
              </a:rPr>
              <a:t>НЕ велик мороз , да краснеет нос.</a:t>
            </a:r>
            <a:br>
              <a:rPr sz="2800"/>
            </a:br>
            <a:r>
              <a:rPr b="0" i="1" lang="ru-RU" sz="2800" spc="-1" strike="noStrike">
                <a:solidFill>
                  <a:srgbClr val="005da2"/>
                </a:solidFill>
                <a:latin typeface="Calibri"/>
              </a:rPr>
              <a:t>2)Холодная ,зимняя погода ; холода . Просыпается земля . Кончились морозы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287280">
              <a:spcBef>
                <a:spcPts val="60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Сильные , жестокие , лютые , страшные (разгов.) , небывалые , первые , январские ,февральские , русские, сибирские , северные , тридцатиградусные…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287280">
              <a:spcBef>
                <a:spcPts val="60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Мороз ударил (разгов.) , усиливается , крепчает , трещит (разгов.) , пробирает (разгов. ) до костей , щиплет нос , уши , морозы наступили , установились 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287280">
              <a:spcBef>
                <a:spcPts val="601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da2"/>
                </a:solidFill>
                <a:latin typeface="Calibri"/>
              </a:rPr>
              <a:t>От мороза (побелеть , спасаться ) . В мороз (выехать , гулять ) . На мороз  (выйти , вынести ) . На морозе (стоять , разговаривать ).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Сочетаемость слов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24000" y="2636640"/>
            <a:ext cx="759600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А н т о н и м ы -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 Мороз – жара , зной ; Морозный – жаркий , знойный ;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Морозно – жарко , знойно ;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23640" y="296640"/>
            <a:ext cx="7669080" cy="15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С и н о н и м ы -</a:t>
            </a: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  Мороз , холод , стужа ; морозный , холодный , студёный , ледяной , мёрзлый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Когда так говорят ?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Мороз по коже ( по спине ) дерёт ( идёт )-возникает неприятное ощущение от холода или от внезапного страха , ужаса 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Пословицы и поговорки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23640" y="1592280"/>
            <a:ext cx="360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Мороз невелик , да стоять не велит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Мороз и метели под февраль полетели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56000" y="1592280"/>
            <a:ext cx="360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Береги нос в большой мороз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Мороз ленивого за нос хватает , а перед проворным шапку снимает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da2"/>
                </a:solidFill>
                <a:latin typeface="Calibri"/>
              </a:rPr>
              <a:t>Предложения , тексты.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24000" y="1052640"/>
            <a:ext cx="7704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Блеснул мороз . И рады мы проказам матушки зимы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Шалун уж заморозил пальчик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Вот пришли морозцы , и зима настала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Морозно . Равнины белеют под снегом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Славная осень . Морозные ночи , ясные , тихие дни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Погода великолепная , метелица , морозик 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Calibri"/>
              </a:rPr>
              <a:t>Морозище , даже зайцы продрогли. Может , даже уши себе отморозили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78342</cp:lastModifiedBy>
  <dcterms:modified xsi:type="dcterms:W3CDTF">2013-12-17T15:58:35Z</dcterms:modified>
  <cp:revision>18</cp:revision>
  <dc:subject/>
  <dc:title>Слайд 1</dc:title>
</cp:coreProperties>
</file>