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94DB-0C99-49B7-A16A-2AEE8D338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D9C0-A789-4528-AD9F-8180AD6E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35EE-A974-4603-A751-7CCF50781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8344-5EFF-465B-9C5E-8850FCE2E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76CDC-B1D7-4EEC-91BD-0AFA561EA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069F29-D110-4B88-96F8-194E62A7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CDD4C-BC91-44E1-9193-9D1D18D0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A9F47E-159B-473D-A8F0-0AD57FA5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51BF8-C762-4F06-A754-F9367530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74B8C3-AA5C-4A2C-AA6F-B0A3A08A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2757CB-23F9-471E-8182-CF93E0A0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A7A6-7107-4384-9576-78A6A72E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76554-1CDC-4C4F-8CB0-648DB5F7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725AB7-346B-4402-8C2B-C12AF63C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2F7BD-64A2-4F95-80F8-5CA8E795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646DD-6B13-425B-9305-C7E7C4159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AAF33-8C69-4CAD-AD77-D44EC4646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4B69-D55B-4474-AA01-36393E64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A4F9-1856-4E63-9DBE-24B5665E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9119-3B45-4AC3-A099-76CDC962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5FB6-83F5-4E37-A00A-2F8127E69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249F-BF62-4C6E-8618-7BAE7A6A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FFBE-574A-4B51-95B2-D3FA87AC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B7C3-B91A-4A2C-9F35-AE5782B2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EF3C-75AA-4258-BB6A-8BE2C57EFFC9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78AE-C297-453D-B38A-8376B5CE742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litpodarok.com.ua/published/publicdata/OKSANALELITPODAROK/attachments/SC/products_pictures/slovari_dala2_enl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3;&#1086;&#1074;&#1072;&#1088;&#1080;_&#1088;&#1091;&#1089;&#1089;&#1082;&#1086;&#1075;&#1086;_&#1103;&#1079;&#1099;&#1082;&#1072;" TargetMode="External"/><Relationship Id="rId2" Type="http://schemas.openxmlformats.org/officeDocument/2006/relationships/hyperlink" Target="http://ru.wikipedia.org/wiki/&#1044;&#1072;&#1083;&#1100;,_&#1042;&#1083;&#1072;&#1076;&#1080;&#1084;&#1080;&#1088;_&#1048;&#1074;&#1072;&#1085;&#1086;&#1074;&#1080;&#1095;" TargetMode="External"/><Relationship Id="rId3" Type="http://schemas.openxmlformats.org/officeDocument/2006/relationships/hyperlink" Target="http://ru.wikipedia.org/wiki/XIX_&#1074;&#1077;&#1082;" TargetMode="External"/><Relationship Id="rId4" Type="http://schemas.openxmlformats.org/officeDocument/2006/relationships/hyperlink" Target="http://ru.wikipedia.org/wiki/&#1056;&#1091;&#1089;&#1089;&#1082;&#1080;&#1081;_&#1103;&#1079;&#1099;&#1082;" TargetMode="External"/><Relationship Id="rId5" Type="http://schemas.openxmlformats.org/officeDocument/2006/relationships/hyperlink" Target="http://4.bp.blogspot.com/_r2cAyT3Hmig/SwF8CFlMMZI/AAAAAAAAABM/4pYD3Z2aK-c/s1600/t72dal.jpg" TargetMode="Externa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lovari.yandex.ru/art.xml?art=dal/dal/03100/09900.htm" TargetMode="External"/><Relationship Id="rId2" Type="http://schemas.openxmlformats.org/officeDocument/2006/relationships/hyperlink" Target="http://ru.wikipedia.org/wiki/&#1051;&#1072;&#1087;&#1090;&#1080;" TargetMode="External"/><Relationship Id="rId3" Type="http://schemas.openxmlformats.org/officeDocument/2006/relationships/hyperlink" Target="http://slovari.yandex.ru/art.xml?art=dal/dal/03110/30500.htm" TargetMode="External"/><Relationship Id="rId4" Type="http://schemas.openxmlformats.org/officeDocument/2006/relationships/hyperlink" Target="http://slovari.yandex.ru/art.xml?art=dal/dal/03140/30500.htm" TargetMode="External"/><Relationship Id="rId5" Type="http://schemas.openxmlformats.org/officeDocument/2006/relationships/hyperlink" Target="http://ru.wikipedia.org/wiki/&#1052;&#1072;&#1095;&#1090;&#1072;" TargetMode="External"/><Relationship Id="rId6" Type="http://schemas.openxmlformats.org/officeDocument/2006/relationships/hyperlink" Target="http://ru.wikipedia.org/wiki/&#1055;&#1072;&#1088;&#1091;&#1089;" TargetMode="External"/><Relationship Id="rId7" Type="http://schemas.openxmlformats.org/officeDocument/2006/relationships/hyperlink" Target="http://slovari.yandex.ru/art.xml?art=dal/dal/03151/68400.htm" TargetMode="External"/><Relationship Id="rId8" Type="http://schemas.openxmlformats.org/officeDocument/2006/relationships/hyperlink" Target="http://ru.wikipedia.org/wiki/1861_&#1075;&#1086;&#1076;" TargetMode="External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9182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3e3ff"/>
                </a:solidFill>
                <a:latin typeface="Arial"/>
              </a:rPr>
              <a:t>Презентация на тему: Толковый словарь живого великорусского языка</a:t>
            </a:r>
            <a:r>
              <a:rPr b="0" lang="ru-RU" sz="4800" spc="-1" strike="noStrike">
                <a:solidFill>
                  <a:srgbClr val="e3e3ff"/>
                </a:solidFill>
                <a:latin typeface="Arial"/>
              </a:rPr>
              <a:t> </a:t>
            </a:r>
            <a:br>
              <a:rPr sz="4800"/>
            </a:b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Подготовили ученики 10 класса «Б»</a:t>
            </a:r>
            <a:br>
              <a:rPr sz="3200"/>
            </a:b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Карабашев Д., Лебин Р., Сухоручкин С.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427280" y="3330360"/>
            <a:ext cx="865080" cy="19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11" descr="Картинка 15 из 265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637000"/>
            <a:ext cx="874872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олко́вый слова́рь живо́го великору́сского языка́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оригинальное название: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Толковый словарь живаго Великорускаго язык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 —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словар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составленный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Владимиром Ивановичем Дале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 середине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XIX век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Один из крупнейших словарей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русского язык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Содержит около 200 000 слов и 30 000 пословиц, поговорок, загадок и присловий, служащих для пояснения смысла приводимых сл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10" descr="Картинка 6 из 2657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43280" y="1628640"/>
            <a:ext cx="40323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4321440" cy="61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e3ff"/>
                </a:solidFill>
                <a:latin typeface="Arial"/>
              </a:rPr>
              <a:t>В основе словаря лежит живой народный язык с его областными видоизменениями, словарь включает лексику письменной и устной речи XIX века, терминологию и фразеологию различных профессий и ремёсел.</a:t>
            </a:r>
            <a:br>
              <a:rPr sz="1200"/>
            </a:br>
            <a:r>
              <a:rPr b="0" lang="ru-RU" sz="1200" spc="-1" strike="noStrike">
                <a:solidFill>
                  <a:srgbClr val="e3e3ff"/>
                </a:solidFill>
                <a:latin typeface="Arial"/>
              </a:rPr>
              <a:t>Словарь не только даёт информацию о языке, но и о народном быте, поверьях, приметах, другие этнографические сведения. Так, например, в статье о слове </a:t>
            </a:r>
            <a:r>
              <a:rPr b="0" lang="ru-RU" sz="12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«лапоть»</a:t>
            </a:r>
            <a:r>
              <a:rPr b="0" lang="ru-RU" sz="1200" spc="-1" strike="noStrike">
                <a:solidFill>
                  <a:srgbClr val="e3e3ff"/>
                </a:solidFill>
                <a:latin typeface="Arial"/>
              </a:rPr>
              <a:t> не только охарактеризованы все типичные виды </a:t>
            </a:r>
            <a:r>
              <a:rPr b="0" lang="ru-RU" sz="12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лаптей</a:t>
            </a:r>
            <a:r>
              <a:rPr b="0" lang="ru-RU" sz="1200" spc="-1" strike="noStrike">
                <a:solidFill>
                  <a:srgbClr val="e3e3ff"/>
                </a:solidFill>
                <a:latin typeface="Arial"/>
              </a:rPr>
              <a:t>, но и указан способ изготовления; при словах </a:t>
            </a:r>
            <a:r>
              <a:rPr b="0" lang="ru-RU" sz="12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«мачта»</a:t>
            </a:r>
            <a:r>
              <a:rPr b="0" lang="ru-RU" sz="1200" spc="-1" strike="noStrike">
                <a:solidFill>
                  <a:srgbClr val="e3e3ff"/>
                </a:solidFill>
                <a:latin typeface="Arial"/>
              </a:rPr>
              <a:t>, </a:t>
            </a:r>
            <a:r>
              <a:rPr b="0" lang="ru-RU" sz="12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«парус»</a:t>
            </a:r>
            <a:r>
              <a:rPr b="0" lang="ru-RU" sz="1200" spc="-1" strike="noStrike">
                <a:solidFill>
                  <a:srgbClr val="e3e3ff"/>
                </a:solidFill>
                <a:latin typeface="Arial"/>
              </a:rPr>
              <a:t> даются не только названия различных видов </a:t>
            </a:r>
            <a:r>
              <a:rPr b="0" lang="ru-RU" sz="12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мачт</a:t>
            </a:r>
            <a:r>
              <a:rPr b="0" lang="ru-RU" sz="1200" spc="-1" strike="noStrike">
                <a:solidFill>
                  <a:srgbClr val="e3e3ff"/>
                </a:solidFill>
                <a:latin typeface="Arial"/>
              </a:rPr>
              <a:t> и </a:t>
            </a:r>
            <a:r>
              <a:rPr b="0" lang="ru-RU" sz="1200" spc="-1" strike="noStrike" u="sng">
                <a:solidFill>
                  <a:srgbClr val="00ffcc"/>
                </a:solidFill>
                <a:uFillTx/>
                <a:latin typeface="Arial"/>
                <a:hlinkClick r:id="rId6"/>
              </a:rPr>
              <a:t>парусов</a:t>
            </a:r>
            <a:r>
              <a:rPr b="0" lang="ru-RU" sz="1200" spc="-1" strike="noStrike">
                <a:solidFill>
                  <a:srgbClr val="e3e3ff"/>
                </a:solidFill>
                <a:latin typeface="Arial"/>
              </a:rPr>
              <a:t>, но объясняется и их назначение; наряду с флотскими названиями, заимствованными из голландского и английского языков, даются и названия, возникшие и употреблявшиеся на Каспийском и Белом морях. В статье о слове </a:t>
            </a:r>
            <a:r>
              <a:rPr b="0" lang="ru-RU" sz="1200" spc="-1" strike="noStrike" u="sng">
                <a:solidFill>
                  <a:srgbClr val="00ffcc"/>
                </a:solidFill>
                <a:uFillTx/>
                <a:latin typeface="Arial"/>
                <a:hlinkClick r:id="rId7"/>
              </a:rPr>
              <a:t>«рукобитье»</a:t>
            </a:r>
            <a:r>
              <a:rPr b="0" lang="ru-RU" sz="1200" spc="-1" strike="noStrike">
                <a:solidFill>
                  <a:srgbClr val="e3e3ff"/>
                </a:solidFill>
                <a:latin typeface="Arial"/>
              </a:rPr>
              <a:t> объясняется сложный свадебный обряд и целый ряд связанных с ним обычаев, характерных для свадьбы в старом крестьянском быту.</a:t>
            </a:r>
            <a:br>
              <a:rPr sz="1200"/>
            </a:br>
            <a:r>
              <a:rPr b="0" lang="ru-RU" sz="1200" spc="-1" strike="noStrike">
                <a:solidFill>
                  <a:srgbClr val="e3e3ff"/>
                </a:solidFill>
                <a:latin typeface="Arial"/>
              </a:rPr>
              <a:t>За первые выпуски словаря Даль получил в </a:t>
            </a:r>
            <a:r>
              <a:rPr b="0" lang="ru-RU" sz="1200" spc="-1" strike="noStrike" u="sng">
                <a:solidFill>
                  <a:srgbClr val="00ffcc"/>
                </a:solidFill>
                <a:uFillTx/>
                <a:latin typeface="Arial"/>
                <a:hlinkClick r:id="rId8"/>
              </a:rPr>
              <a:t>1861 году</a:t>
            </a:r>
            <a:r>
              <a:rPr b="0" lang="ru-RU" sz="1200" spc="-1" strike="noStrike">
                <a:solidFill>
                  <a:srgbClr val="e3e3ff"/>
                </a:solidFill>
                <a:latin typeface="Arial"/>
              </a:rPr>
              <a:t> Константиновскую медаль, а в 1868 году он был избран почётным членом Академии наук и удостоен </a:t>
            </a:r>
            <a:r>
              <a:rPr b="0" i="1" lang="ru-RU" sz="1200" spc="-1" strike="noStrike">
                <a:solidFill>
                  <a:srgbClr val="e3e3ff"/>
                </a:solidFill>
                <a:latin typeface="Arial"/>
              </a:rPr>
              <a:t>Ломоносовской премии</a:t>
            </a:r>
            <a:r>
              <a:rPr b="0" lang="ru-RU" sz="1200" spc="-1" strike="noStrike">
                <a:solidFill>
                  <a:srgbClr val="e3e3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9" name="Picture 4" descr="Картинка 5 из 26429"/>
          <p:cNvPicPr/>
          <p:nvPr/>
        </p:nvPicPr>
        <p:blipFill>
          <a:blip r:embed="rId9"/>
          <a:stretch/>
        </p:blipFill>
        <p:spPr>
          <a:xfrm>
            <a:off x="4716360" y="415800"/>
            <a:ext cx="4427640" cy="58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3e3ff"/>
                </a:solidFill>
                <a:latin typeface="Arial"/>
              </a:rPr>
              <a:t>Структура и состав 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61928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Словарь не является нормативным, в нём практически отсутствует стилистическая характеристика лексики (только пометы диалектизмов местного употребления), грамматические указания, нет отбора лексики. Даль приводит множество примеров использования слов, но не даёт развёрнутых определений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Словарь составлен по алфавитно-гнездовому принципу. Такой метод способствует раскрытию словообразования, но вызывает и трудности: порой не ясно, где именно следует искать какое-то конкретное слово. Гнездовая система, впрочем, проведена недостаточно аккуратно: порой сведены вместе слова лишь созвучные, а не родственные; иногда же родственные разделены на несколько статей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В одно гнездо были объединены слова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кт, актёр, акциз, акция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простой и простор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тлеть и тло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колеть и кол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Не объединёнными в одно гнездо оказались слова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дикий и дичь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знак и значок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круг и кружить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В 3-м и 4-м изданиях редактор (Бодуэн де Куртене) частично перестроил структуру подачи материала, что облегчило пользование словарем, но нарушило авторскую систему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Даль включил также в словарь несколько слов, которые он сам придумал для замены заимствований: «сглас» вместо слова «гармония», </a:t>
            </a:r>
            <a:r>
              <a:rPr b="0" i="1" lang="ru-RU" sz="1000" spc="-1" strike="noStrike">
                <a:solidFill>
                  <a:srgbClr val="ffffff"/>
                </a:solidFill>
                <a:latin typeface="Arial"/>
              </a:rPr>
              <a:t>«живуля»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 — «автомат», «ловкосилье» — «гимнастика». По выходе словаря такая «подделка» была обнаружена. В статье под названием «Ответ на приговор» Даль вынужден был сознаться, что в его словаре присутствуют «слова, не бывшие доселе в обиходе»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История создания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 марта 1819 года… мы выпущены в мичмана, и я по желанию написан в Чёрное море в Николаев. На этой первой поездке моей по Руси я положил бессознательно основание к моему словарю, записывая каждое слово, которое дотоле не слыша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3 года жизни Владимир Даль составлял словар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5712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дин из бывших министров просвещения (Кн. Шихматов), по дошедшим до него слухам, предложил мне передать академии запасы свои, по принятой в то время расценке: по 15 коп. за каждое слово, пропущенное в словаре академии, и по 7½ коп. за дополнение и поправку. Я предложил, взамен этой сделки, другую: отдаться совсем, и с запасами, и с посильными трудами своими, в полное распоряжение академии, не требуя и даже не желая ничего, кроме необходимого содержания; но на это не согласились, а повторили первое предложенье. Я отправил 1000 прибавочных слов и 1000 дополнений, с надписью: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тысяча перва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Меня спросили, много ли их еще в запасе? Я отвечал, что верно не знаю, но во всяком случае десятки тысяч. Покупка такого склада товара, сомнительной доброты, по-видимому не входила в расчет, и сделка оборвалась на первой тысяч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 неделю до смерти, прикованный болезнью к постели, В. И. Даль поручает дочери внести в рукопись словаря, второе издание которого он готовил, четыре новых слова, услышанных им от прислуг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7" descr="0012-012-Spasibo-za-vnimanie"/>
          <p:cNvPicPr/>
          <p:nvPr/>
        </p:nvPicPr>
        <p:blipFill>
          <a:blip r:embed="rId1"/>
          <a:stretch/>
        </p:blipFill>
        <p:spPr>
          <a:xfrm>
            <a:off x="108000" y="0"/>
            <a:ext cx="9036000" cy="67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1T14:50:27Z</dcterms:created>
  <dc:creator>Jaguar</dc:creator>
  <dc:description/>
  <dc:language>en-US</dc:language>
  <cp:lastModifiedBy>Admin</cp:lastModifiedBy>
  <dcterms:modified xsi:type="dcterms:W3CDTF">2012-03-11T16:14:30Z</dcterms:modified>
  <cp:revision>6</cp:revision>
  <dc:subject/>
  <dc:title>Презентация на тему: Толковый словарь живого великорусского языка  Подготовили ученики 10 класса «Б» Карабашев Д., Лебин Р., Сухоручкин С.</dc:title>
</cp:coreProperties>
</file>