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BAD-A0DF-4DE1-8E53-8046AF7F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6ED-A64F-4D0F-8AE0-6B8C934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2C7-6972-47F4-9FCA-6E065330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56E-D3EB-4AB6-9346-94140068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5019F-6C4A-4A29-8C06-15EBF2A8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0F74-321E-4CC8-A679-B0F0BCD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2560D-F53D-4770-85D9-C89A07F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26EF2-A33D-4A3B-8D3B-B0FDB614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51F05-93B7-4164-BDA2-70A76551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76D9-B668-4518-86C1-E52E2219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7D711-3E97-431A-8313-255B1BE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0C1-E1A4-450E-BA21-72EC184C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D56AB-6213-4EFE-B8E0-C61C5C9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0F47-6F0F-492B-8112-FA882A6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817EC-6148-4C10-8629-1C9BEEAD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0E17E-4FB1-472E-A990-D5F49690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F2A8E-5403-48AF-8E0D-D636B1E1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0D3-884B-4A35-89DC-C2F0392E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4BB-9F69-4BA0-B7F1-7AADAFC4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C73-B29B-4DC2-B089-8EF39A5B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12A-A7BE-4B16-819E-29E1756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BD2-D750-4CEB-8697-3B34C4D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197-8359-40D0-8D8A-22284A9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C63-95DE-48F9-9178-E2327E0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BDE-0CAB-42DF-8D2F-4A96694CCFC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62F-4D3B-4CAF-8641-BC390E16705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itpodarok.com.ua/published/publicdata/OKSANALELITPODAROK/attachments/SC/products_pictures/slovari_dala2_en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3;&#1086;&#1074;&#1072;&#1088;&#1080;_&#1088;&#1091;&#1089;&#1089;&#1082;&#1086;&#1075;&#1086;_&#1103;&#1079;&#1099;&#1082;&#1072;" TargetMode="External"/><Relationship Id="rId2" Type="http://schemas.openxmlformats.org/officeDocument/2006/relationships/hyperlink" Target="http://ru.wikipedia.org/wiki/&#1044;&#1072;&#1083;&#1100;,_&#1042;&#1083;&#1072;&#1076;&#1080;&#1084;&#1080;&#1088;_&#1048;&#1074;&#1072;&#1085;&#1086;&#1074;&#1080;&#1095;" TargetMode="External"/><Relationship Id="rId3" Type="http://schemas.openxmlformats.org/officeDocument/2006/relationships/hyperlink" Target="http://ru.wikipedia.org/wiki/XIX_&#1074;&#1077;&#1082;" TargetMode="External"/><Relationship Id="rId4" Type="http://schemas.openxmlformats.org/officeDocument/2006/relationships/hyperlink" Target="http://ru.wikipedia.org/wiki/&#1056;&#1091;&#1089;&#1089;&#1082;&#1080;&#1081;_&#1103;&#1079;&#1099;&#1082;" TargetMode="External"/><Relationship Id="rId5" Type="http://schemas.openxmlformats.org/officeDocument/2006/relationships/hyperlink" Target="http://4.bp.blogspot.com/_r2cAyT3Hmig/SwF8CFlMMZI/AAAAAAAAABM/4pYD3Z2aK-c/s1600/t72dal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art.xml?art=dal/dal/03100/09900.htm" TargetMode="External"/><Relationship Id="rId2" Type="http://schemas.openxmlformats.org/officeDocument/2006/relationships/hyperlink" Target="http://ru.wikipedia.org/wiki/&#1051;&#1072;&#1087;&#1090;&#1080;" TargetMode="External"/><Relationship Id="rId3" Type="http://schemas.openxmlformats.org/officeDocument/2006/relationships/hyperlink" Target="http://slovari.yandex.ru/art.xml?art=dal/dal/03110/30500.htm" TargetMode="External"/><Relationship Id="rId4" Type="http://schemas.openxmlformats.org/officeDocument/2006/relationships/hyperlink" Target="http://slovari.yandex.ru/art.xml?art=dal/dal/03140/30500.htm" TargetMode="External"/><Relationship Id="rId5" Type="http://schemas.openxmlformats.org/officeDocument/2006/relationships/hyperlink" Target="http://ru.wikipedia.org/wiki/&#1052;&#1072;&#1095;&#1090;&#1072;" TargetMode="External"/><Relationship Id="rId6" Type="http://schemas.openxmlformats.org/officeDocument/2006/relationships/hyperlink" Target="http://ru.wikipedia.org/wiki/&#1055;&#1072;&#1088;&#1091;&#1089;" TargetMode="External"/><Relationship Id="rId7" Type="http://schemas.openxmlformats.org/officeDocument/2006/relationships/hyperlink" Target="http://slovari.yandex.ru/art.xml?art=dal/dal/03151/68400.htm" TargetMode="External"/><Relationship Id="rId8" Type="http://schemas.openxmlformats.org/officeDocument/2006/relationships/hyperlink" Target="http://ru.wikipedia.org/wiki/1861_&#1075;&#1086;&#1076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Презентация на тему: Толковый словарь живого великорусского языка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Подготовили ученики 10 класса «Б»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рабашев Д., Лебин Р., Сухоручкин С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427280" y="3330360"/>
            <a:ext cx="865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Картинка 15 из 265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8748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ко́вый слова́рь живо́го великору́сского языка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ригинальное название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лковый словарь живаго Великоруска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словар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ставленны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Владимиром Ивановичем Дал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середине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XIX ве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дин из крупнейших слова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русско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держит около 200 000 слов и 30 000 пословиц, поговорок, загадок и присловий, служащих для пояснения смысла приводимых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Картинка 6 из 265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321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В основе словаря лежит живой народный язык с его областными видоизменениями, словарь включает лексику письменной и устной речи XIX века, терминологию и фразеологию различных профессий и ремёсел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Словарь не только даёт информацию о языке, но и о народном быте, поверьях, приметах, другие этнографические сведения. Так, например,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лапоть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не только охарактеризованы все типичные виды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лаптей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и указан способ изготовления; при словах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«мачта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«парус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даются не только названия различных видо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мачт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парусов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объясняется и их назначение; наряду с флотскими названиями, заимствованными из голландского и английского языков, даются и названия, возникшие и употреблявшиеся на Каспийском и Белом морях.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рукобитье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объясняется сложный свадебный обряд и целый ряд связанных с ним обычаев, характерных для свадьбы в старом крестьянском быту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За первые выпуски словаря Даль получил 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1861 году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Константиновскую медаль, а в 1868 году он был избран почётным членом Академии наук и удостоен </a:t>
            </a:r>
            <a:r>
              <a:rPr b="0" i="1" lang="ru-RU" sz="1200" spc="-1" strike="noStrike">
                <a:solidFill>
                  <a:srgbClr val="e3e3ff"/>
                </a:solidFill>
                <a:latin typeface="Arial"/>
              </a:rPr>
              <a:t>Ломоносовской премии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Картинка 5 из 26429"/>
          <p:cNvPicPr/>
          <p:nvPr/>
        </p:nvPicPr>
        <p:blipFill>
          <a:blip r:embed="rId9"/>
          <a:stretch/>
        </p:blipFill>
        <p:spPr>
          <a:xfrm>
            <a:off x="4716360" y="415800"/>
            <a:ext cx="44276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труктура и состав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19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не является нормативным, в нём практически отсутствует стилистическая характеристика лексики (только пометы диалектизмов местного употребления), грамматические указания, нет отбора лексики. Даль приводит множество примеров использования слов, но не даёт развёрнутых определе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составлен по алфавитно-гнездовому принципу. Такой метод способствует раскрытию словообразования, но вызывает и трудности: порой не ясно, где именно следует искать какое-то конкретное слово. Гнездовая система, впрочем, проведена недостаточно аккуратно: порой сведены вместе слова лишь созвучные, а не родственные; иногда же родственные разделены на несколько стат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одно гнездо были объединены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т, актёр, акциз, акция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стой и простор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леть и тло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олеть и ко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 объединёнными в одно гнездо оказались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кий и дичь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нак и значок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руг и кружи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3-м и 4-м изданиях редактор (Бодуэн де Куртене) частично перестроил структуру подачи материала, что облегчило пользование словарем, но нарушило авторскую систем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ль включил также в словарь несколько слов, которые он сам придумал для замены заимствований: «сглас» вместо слова «гармония»,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«живуля»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— «автомат», «ловкосилье» — «гимнастика». По выходе словаря такая «подделка» была обнаружена. В статье под названием «Ответ на приговор» Даль вынужден был сознаться, что в его словаре присутствуют «слова, не бывшие доселе в обиходе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тория созда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марта 1819 года… мы выпущены в мичмана, и я по желанию написан в Чёрное море в Николаев. На этой первой поездке моей по Руси я положил бессознательно основание к моему словарю, записывая каждое слово, которое дотоле не слыш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3 года жизни Владимир Даль составлял 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бывших министров просвещения (Кн. Шихматов), по дошедшим до него слухам, предложил мне передать академии запасы свои, по принятой в то время расценке: по 15 коп. за каждое слово, пропущенное в словаре академии, и по 7½ коп. за дополнение и поправку. Я предложил, взамен этой сделки, другую: отдаться совсем, и с запасами, и с посильными трудами своими, в полное распоряжение академии, не требуя и даже не желая ничего, кроме необходимого содержания; но на это не согласились, а повторили первое предложенье. Я отправил 1000 прибавочных слов и 1000 дополнений, с надписью: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сяча перв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Меня спросили, много ли их еще в запасе? Я отвечал, что верно не знаю, но во всяком случае десятки тысяч. Покупка такого склада товара, сомнительной доброты, по-видимому не входила в расчет, и сделка оборвалась на первой тысяч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неделю до смерти, прикованный болезнью к постели, В. И. Даль поручает дочери внести в рукопись словаря, второе издание которого он готовил, четыре новых слова, услышанных им от при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0012-012-Spasibo-za-vnimanie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4:50:27Z</dcterms:created>
  <dc:creator>Jaguar</dc:creator>
  <dc:description/>
  <dc:language>en-US</dc:language>
  <cp:lastModifiedBy>Admin</cp:lastModifiedBy>
  <dcterms:modified xsi:type="dcterms:W3CDTF">2012-03-11T16:14:30Z</dcterms:modified>
  <cp:revision>6</cp:revision>
  <dc:subject/>
  <dc:title>Презентация на тему: Толковый словарь живого великорусского языка  Подготовили ученики 10 класса «Б» Карабашев Д., Лебин Р., Сухоручкин С.</dc:title>
</cp:coreProperties>
</file>