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20E-FA43-4900-B0B0-71EAAB12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C68-D4F3-452F-ADB6-40E9792C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A3B-DB5A-4385-B2E0-907C7B7B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F12-789F-46E0-9268-D3134E99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9AE3E-CB99-4F2C-94CA-B3CB242B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8B0AF-D6A5-4B30-BB5E-D6E9EDAE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53A18-BC1C-4A50-8384-416EDC52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C4A62-B82C-4019-9D18-D41D8DAA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63472-A179-4F6E-B893-FCDDC0EE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A6C66-05AE-402E-83A5-D5D00AA3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2E105-B199-4C83-A415-FA2AAA18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057-5FF9-4ED9-B8AE-28A90632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2BE61-A48A-4AA4-BDE7-A9C66792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497C4-51C4-4B86-AFDB-6EF34E0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3FBF2-71BC-439E-B411-7C7324CA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69F3F-06F2-49FE-9C81-013068ED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4C2DF-F4EA-48B6-8911-4780F82F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A08-F97D-4931-A03A-B74AC4AF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284-06EA-4472-BE61-AC7CB8BF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6B5-900D-420E-A324-95B5C457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9F1-6CB0-4283-9E63-E31C05F9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A2A-04B8-46AB-ABC6-14EC422C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676-CEB6-4161-8859-1CDD8F78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728-F589-4525-B935-7BE159B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2066-C59F-4184-AC59-90A95A78CF3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7404-AA79-4B74-8E33-F993F07C2A3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litpodarok.com.ua/published/publicdata/OKSANALELITPODAROK/attachments/SC/products_pictures/slovari_dala2_en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3;&#1086;&#1074;&#1072;&#1088;&#1080;_&#1088;&#1091;&#1089;&#1089;&#1082;&#1086;&#1075;&#1086;_&#1103;&#1079;&#1099;&#1082;&#1072;" TargetMode="External"/><Relationship Id="rId2" Type="http://schemas.openxmlformats.org/officeDocument/2006/relationships/hyperlink" Target="http://ru.wikipedia.org/wiki/&#1044;&#1072;&#1083;&#1100;,_&#1042;&#1083;&#1072;&#1076;&#1080;&#1084;&#1080;&#1088;_&#1048;&#1074;&#1072;&#1085;&#1086;&#1074;&#1080;&#1095;" TargetMode="External"/><Relationship Id="rId3" Type="http://schemas.openxmlformats.org/officeDocument/2006/relationships/hyperlink" Target="http://ru.wikipedia.org/wiki/XIX_&#1074;&#1077;&#1082;" TargetMode="External"/><Relationship Id="rId4" Type="http://schemas.openxmlformats.org/officeDocument/2006/relationships/hyperlink" Target="http://ru.wikipedia.org/wiki/&#1056;&#1091;&#1089;&#1089;&#1082;&#1080;&#1081;_&#1103;&#1079;&#1099;&#1082;" TargetMode="External"/><Relationship Id="rId5" Type="http://schemas.openxmlformats.org/officeDocument/2006/relationships/hyperlink" Target="http://4.bp.blogspot.com/_r2cAyT3Hmig/SwF8CFlMMZI/AAAAAAAAABM/4pYD3Z2aK-c/s1600/t72dal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lovari.yandex.ru/art.xml?art=dal/dal/03100/09900.htm" TargetMode="External"/><Relationship Id="rId2" Type="http://schemas.openxmlformats.org/officeDocument/2006/relationships/hyperlink" Target="http://ru.wikipedia.org/wiki/&#1051;&#1072;&#1087;&#1090;&#1080;" TargetMode="External"/><Relationship Id="rId3" Type="http://schemas.openxmlformats.org/officeDocument/2006/relationships/hyperlink" Target="http://slovari.yandex.ru/art.xml?art=dal/dal/03110/30500.htm" TargetMode="External"/><Relationship Id="rId4" Type="http://schemas.openxmlformats.org/officeDocument/2006/relationships/hyperlink" Target="http://slovari.yandex.ru/art.xml?art=dal/dal/03140/30500.htm" TargetMode="External"/><Relationship Id="rId5" Type="http://schemas.openxmlformats.org/officeDocument/2006/relationships/hyperlink" Target="http://ru.wikipedia.org/wiki/&#1052;&#1072;&#1095;&#1090;&#1072;" TargetMode="External"/><Relationship Id="rId6" Type="http://schemas.openxmlformats.org/officeDocument/2006/relationships/hyperlink" Target="http://ru.wikipedia.org/wiki/&#1055;&#1072;&#1088;&#1091;&#1089;" TargetMode="External"/><Relationship Id="rId7" Type="http://schemas.openxmlformats.org/officeDocument/2006/relationships/hyperlink" Target="http://slovari.yandex.ru/art.xml?art=dal/dal/03151/68400.htm" TargetMode="External"/><Relationship Id="rId8" Type="http://schemas.openxmlformats.org/officeDocument/2006/relationships/hyperlink" Target="http://ru.wikipedia.org/wiki/1861_&#1075;&#1086;&#1076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18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Презентация на тему: Толковый словарь живого великорусского языка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Подготовили ученики 10 класса «Б»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Карабашев Д., Лебин Р., Сухоручкин С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427280" y="3330360"/>
            <a:ext cx="8650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Картинка 15 из 265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8748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ко́вый слова́рь живо́го великору́сского языка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ригинальное название: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лковый словарь живаго Великорускаго язы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словар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ставленный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Владимиром Ивановичем Дал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середине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XIX ве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Один из крупнейших словарей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русского язы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одержит около 200 000 слов и 30 000 пословиц, поговорок, загадок и присловий, служащих для пояснения смысла приводимых с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Картинка 6 из 265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432144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В основе словаря лежит живой народный язык с его областными видоизменениями, словарь включает лексику письменной и устной речи XIX века, терминологию и фразеологию различных профессий и ремёсел.</a:t>
            </a:r>
            <a:br>
              <a:rPr sz="1200"/>
            </a:b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Словарь не только даёт информацию о языке, но и о народном быте, поверьях, приметах, другие этнографические сведения. Так, например, в статье о слове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«лапоть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не только охарактеризованы все типичные виды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лаптей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, но и указан способ изготовления; при словах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«мачта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,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«парус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даются не только названия различных видов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мачт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и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парусов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, но объясняется и их назначение; наряду с флотскими названиями, заимствованными из голландского и английского языков, даются и названия, возникшие и употреблявшиеся на Каспийском и Белом морях. В статье о слове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«рукобитье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объясняется сложный свадебный обряд и целый ряд связанных с ним обычаев, характерных для свадьбы в старом крестьянском быту.</a:t>
            </a:r>
            <a:br>
              <a:rPr sz="1200"/>
            </a:b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За первые выпуски словаря Даль получил в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1861 году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Константиновскую медаль, а в 1868 году он был избран почётным членом Академии наук и удостоен </a:t>
            </a:r>
            <a:r>
              <a:rPr b="0" i="1" lang="ru-RU" sz="1200" spc="-1" strike="noStrike">
                <a:solidFill>
                  <a:srgbClr val="e3e3ff"/>
                </a:solidFill>
                <a:latin typeface="Arial"/>
              </a:rPr>
              <a:t>Ломоносовской премии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4" descr="Картинка 5 из 26429"/>
          <p:cNvPicPr/>
          <p:nvPr/>
        </p:nvPicPr>
        <p:blipFill>
          <a:blip r:embed="rId9"/>
          <a:stretch/>
        </p:blipFill>
        <p:spPr>
          <a:xfrm>
            <a:off x="4716360" y="415800"/>
            <a:ext cx="442764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труктура и состав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619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ловарь не является нормативным, в нём практически отсутствует стилистическая характеристика лексики (только пометы диалектизмов местного употребления), грамматические указания, нет отбора лексики. Даль приводит множество примеров использования слов, но не даёт развёрнутых определени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ловарь составлен по алфавитно-гнездовому принципу. Такой метод способствует раскрытию словообразования, но вызывает и трудности: порой не ясно, где именно следует искать какое-то конкретное слово. Гнездовая система, впрочем, проведена недостаточно аккуратно: порой сведены вместе слова лишь созвучные, а не родственные; иногда же родственные разделены на несколько стате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одно гнездо были объединены слова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т, актёр, акциз, акция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стой и простор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леть и тло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олеть и ко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е объединёнными в одно гнездо оказались слова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икий и дичь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знак и значок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руг и кружи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3-м и 4-м изданиях редактор (Бодуэн де Куртене) частично перестроил структуру подачи материала, что облегчило пользование словарем, но нарушило авторскую систему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ль включил также в словарь несколько слов, которые он сам придумал для замены заимствований: «сглас» вместо слова «гармония»,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«живуля»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— «автомат», «ловкосилье» — «гимнастика». По выходе словаря такая «подделка» была обнаружена. В статье под названием «Ответ на приговор» Даль вынужден был сознаться, что в его словаре присутствуют «слова, не бывшие доселе в обиходе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тория создан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марта 1819 года… мы выпущены в мичмана, и я по желанию написан в Чёрное море в Николаев. На этой первой поездке моей по Руси я положил бессознательно основание к моему словарю, записывая каждое слово, которое дотоле не слыша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3 года жизни Владимир Даль составлял слова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71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из бывших министров просвещения (Кн. Шихматов), по дошедшим до него слухам, предложил мне передать академии запасы свои, по принятой в то время расценке: по 15 коп. за каждое слово, пропущенное в словаре академии, и по 7½ коп. за дополнение и поправку. Я предложил, взамен этой сделки, другую: отдаться совсем, и с запасами, и с посильными трудами своими, в полное распоряжение академии, не требуя и даже не желая ничего, кроме необходимого содержания; но на это не согласились, а повторили первое предложенье. Я отправил 1000 прибавочных слов и 1000 дополнений, с надписью: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сяча перв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Меня спросили, много ли их еще в запасе? Я отвечал, что верно не знаю, но во всяком случае десятки тысяч. Покупка такого склада товара, сомнительной доброты, по-видимому не входила в расчет, и сделка оборвалась на первой тысяч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неделю до смерти, прикованный болезнью к постели, В. И. Даль поручает дочери внести в рукопись словаря, второе издание которого он готовил, четыре новых слова, услышанных им от при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0012-012-Spasibo-za-vnimanie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4:50:27Z</dcterms:created>
  <dc:creator>Jaguar</dc:creator>
  <dc:description/>
  <dc:language>en-US</dc:language>
  <cp:lastModifiedBy>Admin</cp:lastModifiedBy>
  <dcterms:modified xsi:type="dcterms:W3CDTF">2012-03-11T16:14:30Z</dcterms:modified>
  <cp:revision>6</cp:revision>
  <dc:subject/>
  <dc:title>Презентация на тему: Толковый словарь живого великорусского языка  Подготовили ученики 10 класса «Б» Карабашев Д., Лебин Р., Сухоручкин С.</dc:title>
</cp:coreProperties>
</file>