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D83-002C-4B0C-B7D1-00DEDF95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D5E-1DAE-4657-B207-B259B200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BDF-52A6-4452-A45A-C6A6616E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99F-13B5-4498-955B-E9ADED49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0D4A7-318E-4B01-815A-E3A92319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CEC3D-07D1-44D9-93EC-56B04DB5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15194-F111-4B42-8450-5B3B150E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A9459-4C29-49F8-87A9-FA655B2A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D187E-6A80-463D-A1E0-2F098E2B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AC011-C8B5-46D9-AF33-1822F245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B6302-2AD6-4DA0-9096-6B7DDDE8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6BB-08B4-4395-8BB5-A4DF686A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E0447-9F20-4CB3-9ED9-4584571D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A3A58-BE5D-4915-AC32-4BF36498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D03C9-26FB-4C9B-8972-3996497C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DCA27-90B4-40C1-AE3B-2C9B4B6C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E5D60-E9D7-4BD7-BBE7-769B3A8B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57E81-90AA-48B8-A7FA-9B9D951E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A72A3-FA90-48CD-B12F-2F2473D0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D4656-C870-4673-AFB4-D6CD7D82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1247A-5605-4CF6-85EA-5215EF1F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44BBB-9DEF-402B-BC7A-D64506B7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B5BE-6064-4385-BDB9-6F52B896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1A33F-8C38-403E-A2BC-902B704E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70578-A3FB-46F3-A2D4-57F8CC44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CBF02-D959-4104-A6C3-8BC90DEA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D3857-30F5-45DE-90CC-855F3E1D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59F52-14A4-4C6D-8D9C-9987DDFA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C00B1-A901-4A88-A9D7-9DFAF7A3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85697-0537-428C-8782-5187F766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46D21-9581-49EB-810F-1406D418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A44C1-C0F6-4F0D-AD24-A29EB1EB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DD87E-4E8A-403E-9D55-8BFC3CC0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3E7-463F-4CBB-A751-74B80CE4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154289-967A-42C2-823C-C4760A43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029C2-72B1-46D9-AAAF-6CDA6585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A610AE-C426-4353-8CFD-E796558E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D3A1A-AEA2-484F-8E8D-9A95B743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74577-6505-40A0-9FF6-666229B7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A11EB0-F83E-4890-A881-BE177601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CF5DD-2D1F-490F-89EA-FCA8D275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AB50A3-4C54-48C1-93FE-CEAF9E6D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23A161-21E6-429E-ABD5-393A20FE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F9C2A-AB44-4EF3-8B35-0E2E3DCD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9B3-D029-4D09-9101-E25E9746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1E580-A4DA-424E-8678-2F01BCD7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FA1DD-1205-4691-A0D4-B44A5A3F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1B840-9293-4655-9816-84F22B6A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4B824-E824-417A-A8F1-A8DD3FC3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25669-E6FB-4A48-A761-4B88B902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6B6FD-5208-4083-A19C-24D35C0F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ECE11-0D4F-49FE-B412-1A7C183A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D05DC-51FA-404E-BDDD-9658E793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814C9-FA55-4B0F-9328-B4ECA7B5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C2BD4-2BE3-4FEE-AA27-0EF7771A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56F4-BB6D-4F9E-A3B4-99B90CB0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42A6B-DE2B-4EE8-9935-DDA6B6E1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2683-C73B-4C4E-B7A9-6B2CF624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5DFD-BB4F-42B1-8498-C0A47B3D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AD2-09F0-4A59-A612-8D2F1376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6F93-F471-4C4F-B2E9-B3DE7A6F3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449B-128B-450B-836D-8FC43D415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B054-C180-4D8B-9522-5A018A8A8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BF22-6619-4349-8233-C5B6D8614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1223-3F24-4D01-A773-269E03528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2" descr="№3а.png"/>
          <p:cNvPicPr/>
          <p:nvPr/>
        </p:nvPicPr>
        <p:blipFill>
          <a:blip r:embed="rId2"/>
          <a:stretch/>
        </p:blipFill>
        <p:spPr>
          <a:xfrm>
            <a:off x="2556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76720" y="907560"/>
            <a:ext cx="45352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РОЗЫ 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НА ДЕНЬ МАТЕРИ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2916360" y="3933720"/>
            <a:ext cx="53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Автор: Абрамычева Е.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учитель нач. к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ГБОУ СОШ № 19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 &amp;Mcy;&amp;acy;&amp;scy;&amp;tcy;&amp;iecy;&amp;rcy;-&amp;kcy;&amp;lcy;&amp;acy;&amp;scy;&amp;scy; &amp;Mcy;&amp;ocy;&amp;dcy;&amp;iecy;&amp;lcy;&amp;icy;&amp;rcy;&amp;ocy;&amp;vcy;&amp;acy;&amp;ncy;&amp;icy;&amp;iecy;: &amp;Mcy;&amp;icy;&amp;lcy;&amp;lcy;&amp;icy;&amp;ocy;&amp;ncy; &amp;rcy;&amp;ocy;&amp;zcy; &amp;icy;&amp;zcy; &amp;gcy;&amp;ocy;&amp;fcy;&amp;rcy;&amp;icy;&amp;rcy;&amp;ocy;&amp;vcy;&amp;acy;&amp;ncy;&amp;ncy;&amp;ocy;&amp;jcy; &amp;bcy;&amp;ucy;&amp;mcy;&amp;acy;&amp;gcy;&amp;icy; &amp;Bcy;&amp;ucy;&amp;mcy;&amp;acy;&amp;gcy;&amp;acy; &amp;gcy;&amp;ocy;&amp;fcy;&amp;rcy;&amp;icy;&amp;rcy;&amp;ocy;&amp;vcy;&amp;acy;&amp;ncy;&amp;ncy;&amp;acy;&amp;yacy;, &amp;Scy;&amp;acy;&amp;lcy;&amp;fcy;&amp;iecy;&amp;tcy;&amp;kcy;&amp;icy; 8 &amp;mcy;&amp;acy;&amp;rcy;&amp;tcy;&amp;acy;, &amp;Vcy;&amp;acy;&amp;lcy;&amp;iecy;&amp;ncy;&amp;tcy;&amp;icy;&amp;ncy;&amp;ocy;&amp;vcy; &amp;dcy;&amp;iecy;&amp;ncy;&amp;softcy;, &amp;Dcy;&amp;iecy;&amp;ncy;&amp;softcy; &amp;mcy;&amp;acy;&amp;tcy;&amp;iecy;&amp;rcy;&amp;icy;"/>
          <p:cNvPicPr/>
          <p:nvPr/>
        </p:nvPicPr>
        <p:blipFill>
          <a:blip r:embed="rId2"/>
          <a:stretch/>
        </p:blipFill>
        <p:spPr>
          <a:xfrm>
            <a:off x="1187280" y="333360"/>
            <a:ext cx="6409080" cy="6191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684360" y="62064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озьми хозяйственные салфетки. Вырежи круг диаметром  6-7 см. Край можно сделать волнисты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Рисунок 2" descr="http://stranamasterov.ru/files/imagecache/orig_with_logo2/images/technic/million/PICT3430.jpg"/>
          <p:cNvPicPr/>
          <p:nvPr/>
        </p:nvPicPr>
        <p:blipFill>
          <a:blip r:embed="rId2"/>
          <a:stretch/>
        </p:blipFill>
        <p:spPr>
          <a:xfrm>
            <a:off x="826920" y="3284640"/>
            <a:ext cx="3168720" cy="29527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3" descr="http://stranamasterov.ru/files/imagecache/orig_with_logo2/images/technic/million/PICT3431.jpg"/>
          <p:cNvPicPr/>
          <p:nvPr/>
        </p:nvPicPr>
        <p:blipFill>
          <a:blip r:embed="rId3"/>
          <a:stretch/>
        </p:blipFill>
        <p:spPr>
          <a:xfrm>
            <a:off x="5508720" y="3645000"/>
            <a:ext cx="27352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826920" y="47628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ложи заготовку кулёчком. Сверху должна остаться небольшая петель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Рисунок 2" descr="http://stranamasterov.ru/files/imagecache/orig_with_logo2/images/technic/million/PICT3432.jpg"/>
          <p:cNvPicPr/>
          <p:nvPr/>
        </p:nvPicPr>
        <p:blipFill>
          <a:blip r:embed="rId2"/>
          <a:stretch/>
        </p:blipFill>
        <p:spPr>
          <a:xfrm>
            <a:off x="1619280" y="1700280"/>
            <a:ext cx="5040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755640" y="620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зьми степлер и , располагая заготовку вдоль, скрепи её в середин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Рисунок 2" descr="http://stranamasterov.ru/files/imagecache/orig_with_logo2/images/technic/million/PICT3436.jpg"/>
          <p:cNvPicPr/>
          <p:nvPr/>
        </p:nvPicPr>
        <p:blipFill>
          <a:blip r:embed="rId2"/>
          <a:stretch/>
        </p:blipFill>
        <p:spPr>
          <a:xfrm>
            <a:off x="900000" y="2708280"/>
            <a:ext cx="3492720" cy="27813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" descr="http://stranamasterov.ru/files/imagecache/orig_with_logo2/images/technic/million/PICT3437.jpg"/>
          <p:cNvPicPr/>
          <p:nvPr/>
        </p:nvPicPr>
        <p:blipFill>
          <a:blip r:embed="rId3"/>
          <a:stretch/>
        </p:blipFill>
        <p:spPr>
          <a:xfrm>
            <a:off x="5435640" y="1989000"/>
            <a:ext cx="31687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684360" y="549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Теперь её нужно вывернуть наизнанку, т.е. поднять  наверх всю нижнюю половин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Рисунок 2" descr="http://stranamasterov.ru/files/imagecache/orig_with_logo2/images/technic/million/PICT3439.jpg"/>
          <p:cNvPicPr/>
          <p:nvPr/>
        </p:nvPicPr>
        <p:blipFill>
          <a:blip r:embed="rId2"/>
          <a:stretch/>
        </p:blipFill>
        <p:spPr>
          <a:xfrm>
            <a:off x="3059280" y="1773360"/>
            <a:ext cx="475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http://stranamasterov.ru/files/imagecache/orig_with_logo2/images/technic/million/PICT3428.jpg"/>
          <p:cNvPicPr/>
          <p:nvPr/>
        </p:nvPicPr>
        <p:blipFill>
          <a:blip r:embed="rId2"/>
          <a:stretch/>
        </p:blipFill>
        <p:spPr>
          <a:xfrm>
            <a:off x="539640" y="1341360"/>
            <a:ext cx="4032360" cy="49672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"/>
          <p:cNvSpPr/>
          <p:nvPr/>
        </p:nvSpPr>
        <p:spPr>
          <a:xfrm>
            <a:off x="4716360" y="342900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тебли и листья вырезаем из той же салфет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755640" y="62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Можно сделать такую открыт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777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Можно сделать розу из гофрированной бумаг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1042920" y="76500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ырежи кружок из гофрированной бумаг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Рисунок 2" descr="http://stranamasterov.ru/files/imagecache/orig_with_logo2/images/technic/million/PICT3440.jpg"/>
          <p:cNvPicPr/>
          <p:nvPr/>
        </p:nvPicPr>
        <p:blipFill>
          <a:blip r:embed="rId2"/>
          <a:stretch/>
        </p:blipFill>
        <p:spPr>
          <a:xfrm>
            <a:off x="826920" y="2376360"/>
            <a:ext cx="74901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468360" y="54936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перь  скрепи заготовку степлером . Линии гофрировки должны идти вдоль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Рисунок 2" descr="http://stranamasterov.ru/files/imagecache/orig_with_logo2/images/technic/million/PICT3443.jpg"/>
          <p:cNvPicPr/>
          <p:nvPr/>
        </p:nvPicPr>
        <p:blipFill>
          <a:blip r:embed="rId2"/>
          <a:stretch/>
        </p:blipFill>
        <p:spPr>
          <a:xfrm>
            <a:off x="971640" y="1916280"/>
            <a:ext cx="3744720" cy="37447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http://stranamasterov.ru/files/imagecache/orig_with_logo2/images/technic/million/PICT3444.jpg"/>
          <p:cNvPicPr/>
          <p:nvPr/>
        </p:nvPicPr>
        <p:blipFill>
          <a:blip r:embed="rId3"/>
          <a:stretch/>
        </p:blipFill>
        <p:spPr>
          <a:xfrm>
            <a:off x="5003640" y="1989000"/>
            <a:ext cx="3456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http://stranamasterov.ru/files/imagecache/orig_with_logo2/images/technic/million/PICT3442.jpg"/>
          <p:cNvPicPr/>
          <p:nvPr/>
        </p:nvPicPr>
        <p:blipFill>
          <a:blip r:embed="rId2"/>
          <a:stretch/>
        </p:blipFill>
        <p:spPr>
          <a:xfrm>
            <a:off x="1908000" y="3213000"/>
            <a:ext cx="5616720" cy="31687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2"/>
          <p:cNvSpPr/>
          <p:nvPr/>
        </p:nvSpPr>
        <p:spPr>
          <a:xfrm>
            <a:off x="611280" y="4762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торожно выворачивай сначала одну  сторону, потом другую. Выворачивать нужно точно до скрепки. Серединка может сплющится. Придай объём с помощью карандаш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187280" y="549360"/>
            <a:ext cx="403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На белом свете есть слов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которые мы называем свят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И одно из таких святых, тепл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ласковых слов — это слово «МАМА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Слово, которое ребенок говорит чащ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всего — слово «МАМА». Слово, при котором взрослый, хмурый человек улыбнется, это тоже слово «МАМА»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684360" y="5013360"/>
            <a:ext cx="41036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Georgia"/>
              </a:rPr>
              <a:t>Мама, мамочка... Сколько тепла таит это магическое слово, которым называют самого близкого, родного, единственн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Рисунок 3" descr="мама.jpg"/>
          <p:cNvPicPr/>
          <p:nvPr/>
        </p:nvPicPr>
        <p:blipFill>
          <a:blip r:embed="rId2"/>
          <a:stretch/>
        </p:blipFill>
        <p:spPr>
          <a:xfrm>
            <a:off x="5292720" y="765000"/>
            <a:ext cx="3619440" cy="4889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468360" y="4806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Чтобы сделать стебель, возьми полоску  шириной 2,5 – 3с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Рисунок 2" descr="http://stranamasterov.ru/files/imagecache/orig_with_logo2/images/technic/million/PICT3445.jpg"/>
          <p:cNvPicPr/>
          <p:nvPr/>
        </p:nvPicPr>
        <p:blipFill>
          <a:blip r:embed="rId2"/>
          <a:stretch/>
        </p:blipFill>
        <p:spPr>
          <a:xfrm>
            <a:off x="1619280" y="1557360"/>
            <a:ext cx="6048360" cy="171144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3"/>
          <p:cNvSpPr/>
          <p:nvPr/>
        </p:nvSpPr>
        <p:spPr>
          <a:xfrm>
            <a:off x="539640" y="3357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ложи её вчетверо и сделай надрез на глубину 1,5 с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Рисунок 4" descr="http://stranamasterov.ru/files/imagecache/orig_with_logo2/images/technic/million/PICT3446.jpg"/>
          <p:cNvPicPr/>
          <p:nvPr/>
        </p:nvPicPr>
        <p:blipFill>
          <a:blip r:embed="rId3"/>
          <a:stretch/>
        </p:blipFill>
        <p:spPr>
          <a:xfrm>
            <a:off x="1979640" y="4508640"/>
            <a:ext cx="5905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857160" y="836640"/>
            <a:ext cx="733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крути полоску в жгутик до надрез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Рисунок 2" descr="http://stranamasterov.ru/files/imagecache/orig_with_logo2/images/technic/million/PICT3448.jpg"/>
          <p:cNvPicPr/>
          <p:nvPr/>
        </p:nvPicPr>
        <p:blipFill>
          <a:blip r:embed="rId2"/>
          <a:stretch/>
        </p:blipFill>
        <p:spPr>
          <a:xfrm>
            <a:off x="1332000" y="1700280"/>
            <a:ext cx="6335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755640" y="765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тогни листочки вниз и немного сомни  конец, заостряя е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Рисунок 2" descr="http://stranamasterov.ru/files/imagecache/orig_with_logo2/images/technic/million/PICT3450.jpg"/>
          <p:cNvPicPr/>
          <p:nvPr/>
        </p:nvPicPr>
        <p:blipFill>
          <a:blip r:embed="rId2"/>
          <a:stretch/>
        </p:blipFill>
        <p:spPr>
          <a:xfrm>
            <a:off x="1258920" y="2781360"/>
            <a:ext cx="655308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" descr="http://stranamasterov.ru/files/imagecache/orig_with_logo2/images/technic/million/PICT3452.jpg"/>
          <p:cNvPicPr/>
          <p:nvPr/>
        </p:nvPicPr>
        <p:blipFill>
          <a:blip r:embed="rId2"/>
          <a:stretch/>
        </p:blipFill>
        <p:spPr>
          <a:xfrm>
            <a:off x="3564000" y="981000"/>
            <a:ext cx="2879640" cy="54975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2"/>
          <p:cNvSpPr/>
          <p:nvPr/>
        </p:nvSpPr>
        <p:spPr>
          <a:xfrm>
            <a:off x="551520" y="404640"/>
            <a:ext cx="55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дклей стебелёк к цвет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1" descr="http://stranamasterov.ru/files/imagecache/orig_with_logo2/images/technic/million/PICT3453.jpg"/>
          <p:cNvPicPr/>
          <p:nvPr/>
        </p:nvPicPr>
        <p:blipFill>
          <a:blip r:embed="rId2"/>
          <a:stretch/>
        </p:blipFill>
        <p:spPr>
          <a:xfrm>
            <a:off x="1835280" y="2708280"/>
            <a:ext cx="3384360" cy="34974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2" descr="http://stranamasterov.ru/files/imagecache/orig_with_logo2/images/technic/million/PICT3454.jpg"/>
          <p:cNvPicPr/>
          <p:nvPr/>
        </p:nvPicPr>
        <p:blipFill>
          <a:blip r:embed="rId3"/>
          <a:stretch/>
        </p:blipFill>
        <p:spPr>
          <a:xfrm>
            <a:off x="5508720" y="476280"/>
            <a:ext cx="2381040" cy="60199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3"/>
          <p:cNvSpPr/>
          <p:nvPr/>
        </p:nvSpPr>
        <p:spPr>
          <a:xfrm>
            <a:off x="611280" y="47628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Чтобы сделать розу пышней, возьмите сразу несколько круг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1187280" y="112536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СЫЛ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r.mail.yandex.net/url/GjVuvCtrHy9GRjZjuVjqAQ,1350581879/stranamasterov.ru%2Fnode%2F48996%3Ftid%3D45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PHILka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3132000" y="4653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айт «Школа АБ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www. shkola-abv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Georgia"/>
              </a:rPr>
              <a:t>История создания празд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5976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Во многих странах мира отмечают День матери, правда, в разное время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По некоторым источникам традиция празднования Дня матери берет начало еще в древнем Ри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Римляне посвящали три дня в мар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(с 22 по 25) матери богов – восточной Кибеле.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Древние греки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отдавали дань уважения матери всех богов - Гее.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Для кельтов Днем матери был день чествования богини Бридж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8" descr="baby"/>
          <p:cNvPicPr/>
          <p:nvPr/>
        </p:nvPicPr>
        <p:blipFill>
          <a:blip r:embed="rId2"/>
          <a:stretch/>
        </p:blipFill>
        <p:spPr>
          <a:xfrm>
            <a:off x="6300720" y="1700280"/>
            <a:ext cx="2843280" cy="4249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133"/>
          <p:cNvPicPr/>
          <p:nvPr/>
        </p:nvPicPr>
        <p:blipFill>
          <a:blip r:embed="rId3"/>
          <a:stretch/>
        </p:blipFill>
        <p:spPr>
          <a:xfrm>
            <a:off x="0" y="0"/>
            <a:ext cx="1465200" cy="2236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ff0000"/>
                </a:solidFill>
                <a:latin typeface="Georgia"/>
              </a:rPr>
              <a:t>История развития праздник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42595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        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С XVII по XIX век в Великобритании отмечалось «мамино воскресенье» .В этот день юноши и девушки, которые работали подмастерьями или слугами, возвращаясь домой, приносили в подарок своим мамам фруктовый пирог.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День матери, аналог нынешнего праздника, берет свое начало в XIX веке в американском штате Западная Вирджи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7" descr="15948_10_o"/>
          <p:cNvPicPr/>
          <p:nvPr/>
        </p:nvPicPr>
        <p:blipFill>
          <a:blip r:embed="rId2"/>
          <a:stretch/>
        </p:blipFill>
        <p:spPr>
          <a:xfrm>
            <a:off x="5327640" y="1844640"/>
            <a:ext cx="3354480" cy="447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Georgia"/>
              </a:rPr>
              <a:t>День матери в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82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 России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День матери отмечается в четвертое воскресенье ноября</a:t>
            </a: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с 1998 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на основании Ука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Президента РФ   Б.Н. Ельцина. В этот день по традиции поздравляют женщин, добившихся успехов в воспитании детей, многодетных мам и матерей-одиночек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4" descr="baby"/>
          <p:cNvPicPr/>
          <p:nvPr/>
        </p:nvPicPr>
        <p:blipFill>
          <a:blip r:embed="rId2"/>
          <a:stretch/>
        </p:blipFill>
        <p:spPr>
          <a:xfrm>
            <a:off x="4932360" y="1557360"/>
            <a:ext cx="3235320" cy="4821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Georgia"/>
              </a:rPr>
              <a:t>На свете не существует человека роднее и ближе матери. Ее любовь к детям безгранична, бескорыстна, полна самоотверженности. А материнство на Руси всегда было равноценно синониму свят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9" descr="1377046"/>
          <p:cNvPicPr/>
          <p:nvPr/>
        </p:nvPicPr>
        <p:blipFill>
          <a:blip r:embed="rId2"/>
          <a:stretch/>
        </p:blipFill>
        <p:spPr>
          <a:xfrm>
            <a:off x="2124000" y="2492280"/>
            <a:ext cx="4761000" cy="4137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Georgia"/>
              </a:rPr>
              <a:t>Женщина, мать стала воплощением кисти великих мастеров искусства: Рембрандта, Венецианова, Тропинина, Серо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4" descr="венецианов"/>
          <p:cNvPicPr/>
          <p:nvPr/>
        </p:nvPicPr>
        <p:blipFill>
          <a:blip r:embed="rId2"/>
          <a:stretch/>
        </p:blipFill>
        <p:spPr>
          <a:xfrm>
            <a:off x="179280" y="1628640"/>
            <a:ext cx="4498920" cy="39610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5805360"/>
            <a:ext cx="8229600" cy="7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Georgia"/>
              </a:rPr>
              <a:t>Венецианов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Georgia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eeece1"/>
                </a:solidFill>
                <a:latin typeface="Georgia"/>
              </a:rPr>
              <a:t>Рембрант «Мадонна с младенцем и Св. Иосифом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8" descr="Рембрант "/>
          <p:cNvPicPr/>
          <p:nvPr/>
        </p:nvPicPr>
        <p:blipFill>
          <a:blip r:embed="rId3"/>
          <a:stretch/>
        </p:blipFill>
        <p:spPr>
          <a:xfrm>
            <a:off x="5076720" y="1628640"/>
            <a:ext cx="364824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2" descr="1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3443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5742_101"/>
          <p:cNvPicPr/>
          <p:nvPr/>
        </p:nvPicPr>
        <p:blipFill>
          <a:blip r:embed="rId3"/>
          <a:stretch/>
        </p:blipFill>
        <p:spPr>
          <a:xfrm>
            <a:off x="2843280" y="0"/>
            <a:ext cx="3405240" cy="4951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Александр Рекуненко"/>
          <p:cNvPicPr/>
          <p:nvPr/>
        </p:nvPicPr>
        <p:blipFill>
          <a:blip r:embed="rId4"/>
          <a:stretch/>
        </p:blipFill>
        <p:spPr>
          <a:xfrm>
            <a:off x="6197760" y="3444840"/>
            <a:ext cx="2946240" cy="3413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marinka_19"/>
          <p:cNvPicPr/>
          <p:nvPr/>
        </p:nvPicPr>
        <p:blipFill>
          <a:blip r:embed="rId5"/>
          <a:stretch/>
        </p:blipFill>
        <p:spPr>
          <a:xfrm>
            <a:off x="2771640" y="4551480"/>
            <a:ext cx="3456000" cy="2306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2" descr="IC-058"/>
          <p:cNvPicPr/>
          <p:nvPr/>
        </p:nvPicPr>
        <p:blipFill>
          <a:blip r:embed="rId6"/>
          <a:stretch/>
        </p:blipFill>
        <p:spPr>
          <a:xfrm>
            <a:off x="0" y="0"/>
            <a:ext cx="2876400" cy="3860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Рафаэль Санти"/>
          <p:cNvPicPr/>
          <p:nvPr/>
        </p:nvPicPr>
        <p:blipFill>
          <a:blip r:embed="rId7"/>
          <a:stretch/>
        </p:blipFill>
        <p:spPr>
          <a:xfrm>
            <a:off x="0" y="2766960"/>
            <a:ext cx="3087720" cy="4091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059280" y="404640"/>
            <a:ext cx="60847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Дети — самое дорогое для матери. Счастлив тот, кто с детства знает материнскую любовь, ласку, заботу. А дети должны отвечать ей тем же — любовью, вниманием, заботой. С уважением и признательностью мы относимся к тем людям, которые до седых волос почтительно произносят имя матери, оберегают ее старость, дарят ей покой и стар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Как бы ни манил вас бег событ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Как ни влек бы в свой водоворо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Пуще глаза маму берегит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От обид, от тягот и заб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Содержимое 4" descr="мама2.jpg"/>
          <p:cNvPicPr/>
          <p:nvPr/>
        </p:nvPicPr>
        <p:blipFill>
          <a:blip r:embed="rId2"/>
          <a:stretch/>
        </p:blipFill>
        <p:spPr>
          <a:xfrm>
            <a:off x="0" y="692280"/>
            <a:ext cx="3182760" cy="4122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на</dc:creator>
  <dc:description/>
  <dc:language>en-US</dc:language>
  <cp:lastModifiedBy>Boris</cp:lastModifiedBy>
  <dcterms:modified xsi:type="dcterms:W3CDTF">2012-10-21T15:48:49Z</dcterms:modified>
  <cp:revision>25</cp:revision>
  <dc:subject/>
  <dc:title>Куликовская битва.</dc:title>
</cp:coreProperties>
</file>