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EC77-EAA0-4398-A97B-ED54B5FAC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3B24-69DE-4618-ABFE-BAAE7FEF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C817-1E0E-40A0-9CB1-5598DC70D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41F9-1329-4534-AE4F-BE8234BC7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12057-A953-40C0-8AA7-C5DCB03B7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57019A-2805-492B-8F46-718606DD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BD544-AD1C-42BC-9833-A736240C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76207-2CE4-4191-B1CD-6EC68D4C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F33784-1A43-458C-906E-B3BF3F04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01B01-6BB5-447D-A018-FDA520D3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47ACD-D3F2-457B-9594-466691E9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202A-6ECB-43EC-82F2-727BCC5A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9C66A-0196-4ADC-B0BE-36B32C5A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57141-E87B-4681-878E-3DEA0988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FECDD-27C6-40BB-9DB6-BA42DD85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DC1D64-2458-45BE-9F2B-42E3428A3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9DAD7-3E6E-4078-83A7-D99A66CF3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D6D5F1-A1C7-4284-AA07-F0C159CB5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22D79E-540E-4D5E-80C6-B52EA761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1DF34F-C536-4974-87B3-AAC27A41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9A7FA0-3F18-42E7-80A8-9CE6DE3B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109E92-AB5C-4F70-A779-276EBC36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A5F7-0D50-409A-9857-AD3CA440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894AE0-D826-4978-A54C-6F99589B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3EBB05-0F39-4F38-9CD1-09882A58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8DE269-1EA0-4C09-A623-F6B982F4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371FE2-84E2-462E-BC7C-A0502C48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C878A0-E564-4882-9ECD-22F16D1E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9A0577-86A5-4069-ADFB-8B70191D6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1B9667-7CBA-4ED0-9DCA-1A96387B9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217B32-05FE-4782-B0D4-4E46B644F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D592DB-7B26-4A69-AD33-34D8D77F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449A81-6F95-463C-BEF8-B0037A80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C206-BC6B-4321-9897-8E83ED94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C79B2D-7FBB-453B-B332-8619B1C3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420A2A-DD73-4CB8-AF7F-7B06570E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70E5FE-FED6-4FA0-9A07-0C9653A7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A1A0C0-7B8F-4781-B6F4-374B75E0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A4B816-CDFD-4CCE-B6FC-8552D4F8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422E84-00FC-46F4-B263-E164C3EF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486494-47AE-42DA-ADB9-61FFF307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393300-7126-495D-80C0-2722CF1F6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E513D8-7B96-487E-ADAE-D40FB7E37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DE48F5-2346-4C0A-9AD3-508A92C61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C9FF-0C52-4158-9D54-DBCAC28A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85F3B4-DBC0-4C6D-9B01-D38E19217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D255D7-C082-4736-B67C-F3467270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7AA203-FF16-4E41-9F1F-C0DA9B7B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E34063-B302-4636-97F6-C5862D2A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58F0F5-0FF4-48C7-86CB-55FF008A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475216-C14C-45BE-B5CB-55CD961C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BDFC80-C55E-40F7-BE28-72F1D456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B3EA5E-993C-4206-A8E9-A52A42CB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E5243E-1E4B-49AB-8263-BB3DF4FB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FE9BDF-D546-4BB5-9B74-08933EC8D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E6CE-F1F7-4F02-858B-53A9A6BD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D206BC-E9BE-4419-BAEE-903D8F36A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1C5C-5200-4C85-BEB7-568425C1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0A2A-7DAA-4A94-BE05-9B5371C3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90D3-1B8C-480A-A6C7-D86D66A6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A583-AA97-497F-883D-FA5B9E9200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E95F-67A1-464E-9C3D-BD6951F4AE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242E-C84B-4EF5-A728-7DDFAF145D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8EB1-E79D-4ABF-834B-8649AB6B1B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F6DD-B428-4CC3-AA08-32766AB335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Рисунок 2" descr="№3а.png"/>
          <p:cNvPicPr/>
          <p:nvPr/>
        </p:nvPicPr>
        <p:blipFill>
          <a:blip r:embed="rId2"/>
          <a:stretch/>
        </p:blipFill>
        <p:spPr>
          <a:xfrm>
            <a:off x="2556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76720" y="907560"/>
            <a:ext cx="453528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Monotype Corsiva"/>
              </a:rPr>
              <a:t>РОЗЫ </a:t>
            </a:r>
            <a:br>
              <a:rPr sz="5400"/>
            </a:br>
            <a:r>
              <a:rPr b="0" lang="ru-RU" sz="5400" spc="-1" strike="noStrike">
                <a:solidFill>
                  <a:srgbClr val="ff0000"/>
                </a:solidFill>
                <a:latin typeface="Monotype Corsiva"/>
              </a:rPr>
              <a:t>НА ДЕНЬ МАТЕРИ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3"/>
          <p:cNvSpPr/>
          <p:nvPr/>
        </p:nvSpPr>
        <p:spPr>
          <a:xfrm>
            <a:off x="2916360" y="3933720"/>
            <a:ext cx="532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53735"/>
                </a:solidFill>
                <a:latin typeface="Calibri"/>
              </a:rPr>
              <a:t>Автор: Абрамычева Е.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53735"/>
                </a:solidFill>
                <a:latin typeface="Calibri"/>
              </a:rPr>
              <a:t>учитель нач. к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53735"/>
                </a:solidFill>
                <a:latin typeface="Calibri"/>
              </a:rPr>
              <a:t>ГБОУ СОШ № 192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Рисунок 1" descr=" &amp;Mcy;&amp;acy;&amp;scy;&amp;tcy;&amp;iecy;&amp;rcy;-&amp;kcy;&amp;lcy;&amp;acy;&amp;scy;&amp;scy; &amp;Mcy;&amp;ocy;&amp;dcy;&amp;iecy;&amp;lcy;&amp;icy;&amp;rcy;&amp;ocy;&amp;vcy;&amp;acy;&amp;ncy;&amp;icy;&amp;iecy;: &amp;Mcy;&amp;icy;&amp;lcy;&amp;lcy;&amp;icy;&amp;ocy;&amp;ncy; &amp;rcy;&amp;ocy;&amp;zcy; &amp;icy;&amp;zcy; &amp;gcy;&amp;ocy;&amp;fcy;&amp;rcy;&amp;icy;&amp;rcy;&amp;ocy;&amp;vcy;&amp;acy;&amp;ncy;&amp;ncy;&amp;ocy;&amp;jcy; &amp;bcy;&amp;ucy;&amp;mcy;&amp;acy;&amp;gcy;&amp;icy; &amp;Bcy;&amp;ucy;&amp;mcy;&amp;acy;&amp;gcy;&amp;acy; &amp;gcy;&amp;ocy;&amp;fcy;&amp;rcy;&amp;icy;&amp;rcy;&amp;ocy;&amp;vcy;&amp;acy;&amp;ncy;&amp;ncy;&amp;acy;&amp;yacy;, &amp;Scy;&amp;acy;&amp;lcy;&amp;fcy;&amp;iecy;&amp;tcy;&amp;kcy;&amp;icy; 8 &amp;mcy;&amp;acy;&amp;rcy;&amp;tcy;&amp;acy;, &amp;Vcy;&amp;acy;&amp;lcy;&amp;iecy;&amp;ncy;&amp;tcy;&amp;icy;&amp;ncy;&amp;ocy;&amp;vcy; &amp;dcy;&amp;iecy;&amp;ncy;&amp;softcy;, &amp;Dcy;&amp;iecy;&amp;ncy;&amp;softcy; &amp;mcy;&amp;acy;&amp;tcy;&amp;iecy;&amp;rcy;&amp;icy;"/>
          <p:cNvPicPr/>
          <p:nvPr/>
        </p:nvPicPr>
        <p:blipFill>
          <a:blip r:embed="rId2"/>
          <a:stretch/>
        </p:blipFill>
        <p:spPr>
          <a:xfrm>
            <a:off x="1187280" y="333360"/>
            <a:ext cx="6409080" cy="61912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1"/>
          <p:cNvSpPr/>
          <p:nvPr/>
        </p:nvSpPr>
        <p:spPr>
          <a:xfrm>
            <a:off x="684360" y="620640"/>
            <a:ext cx="777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Возьми хозяйственные салфетки. Вырежи круг диаметром  6-7 см. Край можно сделать волнисты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Рисунок 2" descr="http://stranamasterov.ru/files/imagecache/orig_with_logo2/images/technic/million/PICT3430.jpg"/>
          <p:cNvPicPr/>
          <p:nvPr/>
        </p:nvPicPr>
        <p:blipFill>
          <a:blip r:embed="rId2"/>
          <a:stretch/>
        </p:blipFill>
        <p:spPr>
          <a:xfrm>
            <a:off x="826920" y="3284640"/>
            <a:ext cx="3168720" cy="295272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3" descr="http://stranamasterov.ru/files/imagecache/orig_with_logo2/images/technic/million/PICT3431.jpg"/>
          <p:cNvPicPr/>
          <p:nvPr/>
        </p:nvPicPr>
        <p:blipFill>
          <a:blip r:embed="rId3"/>
          <a:stretch/>
        </p:blipFill>
        <p:spPr>
          <a:xfrm>
            <a:off x="5508720" y="3645000"/>
            <a:ext cx="273528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1"/>
          <p:cNvSpPr/>
          <p:nvPr/>
        </p:nvSpPr>
        <p:spPr>
          <a:xfrm>
            <a:off x="826920" y="47628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Сложи заготовку кулёчком. Сверху должна остаться небольшая петельк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Рисунок 2" descr="http://stranamasterov.ru/files/imagecache/orig_with_logo2/images/technic/million/PICT3432.jpg"/>
          <p:cNvPicPr/>
          <p:nvPr/>
        </p:nvPicPr>
        <p:blipFill>
          <a:blip r:embed="rId2"/>
          <a:stretch/>
        </p:blipFill>
        <p:spPr>
          <a:xfrm>
            <a:off x="1619280" y="1700280"/>
            <a:ext cx="504036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1"/>
          <p:cNvSpPr/>
          <p:nvPr/>
        </p:nvSpPr>
        <p:spPr>
          <a:xfrm>
            <a:off x="755640" y="62064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озьми степлер и , располагая заготовку вдоль, скрепи её в середин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Рисунок 2" descr="http://stranamasterov.ru/files/imagecache/orig_with_logo2/images/technic/million/PICT3436.jpg"/>
          <p:cNvPicPr/>
          <p:nvPr/>
        </p:nvPicPr>
        <p:blipFill>
          <a:blip r:embed="rId2"/>
          <a:stretch/>
        </p:blipFill>
        <p:spPr>
          <a:xfrm>
            <a:off x="900000" y="2708280"/>
            <a:ext cx="3492720" cy="278136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3" descr="http://stranamasterov.ru/files/imagecache/orig_with_logo2/images/technic/million/PICT3437.jpg"/>
          <p:cNvPicPr/>
          <p:nvPr/>
        </p:nvPicPr>
        <p:blipFill>
          <a:blip r:embed="rId3"/>
          <a:stretch/>
        </p:blipFill>
        <p:spPr>
          <a:xfrm>
            <a:off x="5435640" y="1989000"/>
            <a:ext cx="316872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оугольник 1"/>
          <p:cNvSpPr/>
          <p:nvPr/>
        </p:nvSpPr>
        <p:spPr>
          <a:xfrm>
            <a:off x="684360" y="54936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Теперь её нужно вывернуть наизнанку, т.е. поднять  наверх всю нижнюю половин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Рисунок 2" descr="http://stranamasterov.ru/files/imagecache/orig_with_logo2/images/technic/million/PICT3439.jpg"/>
          <p:cNvPicPr/>
          <p:nvPr/>
        </p:nvPicPr>
        <p:blipFill>
          <a:blip r:embed="rId2"/>
          <a:stretch/>
        </p:blipFill>
        <p:spPr>
          <a:xfrm>
            <a:off x="3059280" y="1773360"/>
            <a:ext cx="4752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Рисунок 1" descr="http://stranamasterov.ru/files/imagecache/orig_with_logo2/images/technic/million/PICT3428.jpg"/>
          <p:cNvPicPr/>
          <p:nvPr/>
        </p:nvPicPr>
        <p:blipFill>
          <a:blip r:embed="rId2"/>
          <a:stretch/>
        </p:blipFill>
        <p:spPr>
          <a:xfrm>
            <a:off x="539640" y="1341360"/>
            <a:ext cx="4032360" cy="496728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2"/>
          <p:cNvSpPr/>
          <p:nvPr/>
        </p:nvSpPr>
        <p:spPr>
          <a:xfrm>
            <a:off x="4716360" y="3429000"/>
            <a:ext cx="40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Стебли и листья вырезаем из той же салфетк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755640" y="62064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Можно сделать такую открытк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280" y="1052280"/>
            <a:ext cx="777708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Можно сделать розу из гофрированной бумаги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рямоугольник 1"/>
          <p:cNvSpPr/>
          <p:nvPr/>
        </p:nvSpPr>
        <p:spPr>
          <a:xfrm>
            <a:off x="1042920" y="765000"/>
            <a:ext cx="72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Вырежи кружок из гофрированной бумаг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Рисунок 2" descr="http://stranamasterov.ru/files/imagecache/orig_with_logo2/images/technic/million/PICT3440.jpg"/>
          <p:cNvPicPr/>
          <p:nvPr/>
        </p:nvPicPr>
        <p:blipFill>
          <a:blip r:embed="rId2"/>
          <a:stretch/>
        </p:blipFill>
        <p:spPr>
          <a:xfrm>
            <a:off x="826920" y="2376360"/>
            <a:ext cx="749016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Прямоугольник 1"/>
          <p:cNvSpPr/>
          <p:nvPr/>
        </p:nvSpPr>
        <p:spPr>
          <a:xfrm>
            <a:off x="468360" y="549360"/>
            <a:ext cx="80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еперь  скрепи заготовку степлером . Линии гофрировки должны идти вдоль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Рисунок 2" descr="http://stranamasterov.ru/files/imagecache/orig_with_logo2/images/technic/million/PICT3443.jpg"/>
          <p:cNvPicPr/>
          <p:nvPr/>
        </p:nvPicPr>
        <p:blipFill>
          <a:blip r:embed="rId2"/>
          <a:stretch/>
        </p:blipFill>
        <p:spPr>
          <a:xfrm>
            <a:off x="971640" y="1916280"/>
            <a:ext cx="3744720" cy="374472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3" descr="http://stranamasterov.ru/files/imagecache/orig_with_logo2/images/technic/million/PICT3444.jpg"/>
          <p:cNvPicPr/>
          <p:nvPr/>
        </p:nvPicPr>
        <p:blipFill>
          <a:blip r:embed="rId3"/>
          <a:stretch/>
        </p:blipFill>
        <p:spPr>
          <a:xfrm>
            <a:off x="5003640" y="1989000"/>
            <a:ext cx="345600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Рисунок 1" descr="http://stranamasterov.ru/files/imagecache/orig_with_logo2/images/technic/million/PICT3442.jpg"/>
          <p:cNvPicPr/>
          <p:nvPr/>
        </p:nvPicPr>
        <p:blipFill>
          <a:blip r:embed="rId2"/>
          <a:stretch/>
        </p:blipFill>
        <p:spPr>
          <a:xfrm>
            <a:off x="1908000" y="3213000"/>
            <a:ext cx="5616720" cy="316872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2"/>
          <p:cNvSpPr/>
          <p:nvPr/>
        </p:nvSpPr>
        <p:spPr>
          <a:xfrm>
            <a:off x="611280" y="476280"/>
            <a:ext cx="799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Осторожно выворачивай сначала одну  сторону, потом другую. Выворачивать нужно точно до скрепки. Серединка может сплющится. Придай объём с помощью карандаш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1187280" y="549360"/>
            <a:ext cx="4032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0000"/>
                </a:solidFill>
                <a:latin typeface="Georgia"/>
              </a:rPr>
              <a:t>На белом свете есть слов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0000"/>
                </a:solidFill>
                <a:latin typeface="Georgia"/>
              </a:rPr>
              <a:t>которые мы называем святы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0000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bf0000"/>
                </a:solidFill>
                <a:latin typeface="Georgia"/>
              </a:rPr>
              <a:t>И одно из таких святых, теплы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0000"/>
                </a:solidFill>
                <a:latin typeface="Georgia"/>
              </a:rPr>
              <a:t>ласковых слов — это слово «МАМА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0000"/>
                </a:solidFill>
                <a:latin typeface="Georgia"/>
              </a:rPr>
              <a:t>Слово, которое ребенок говорит чащ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0000"/>
                </a:solidFill>
                <a:latin typeface="Georgia"/>
              </a:rPr>
              <a:t>всего — слово «МАМА». Слово, при котором взрослый, хмурый человек улыбнется, это тоже слово «МАМА»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Прямоугольник 2"/>
          <p:cNvSpPr/>
          <p:nvPr/>
        </p:nvSpPr>
        <p:spPr>
          <a:xfrm>
            <a:off x="684360" y="5013360"/>
            <a:ext cx="410364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Georgia"/>
              </a:rPr>
              <a:t>Мама, мамочка... Сколько тепла таит это магическое слово, которым называют самого близкого, родного, единственног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Рисунок 3" descr="мама.jpg"/>
          <p:cNvPicPr/>
          <p:nvPr/>
        </p:nvPicPr>
        <p:blipFill>
          <a:blip r:embed="rId2"/>
          <a:stretch/>
        </p:blipFill>
        <p:spPr>
          <a:xfrm>
            <a:off x="5292720" y="765000"/>
            <a:ext cx="3619440" cy="48895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"/>
          <p:cNvSpPr/>
          <p:nvPr/>
        </p:nvSpPr>
        <p:spPr>
          <a:xfrm>
            <a:off x="468360" y="48060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Чтобы сделать стебель, возьми полоску  шириной 2,5 – 3с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Рисунок 2" descr="http://stranamasterov.ru/files/imagecache/orig_with_logo2/images/technic/million/PICT3445.jpg"/>
          <p:cNvPicPr/>
          <p:nvPr/>
        </p:nvPicPr>
        <p:blipFill>
          <a:blip r:embed="rId2"/>
          <a:stretch/>
        </p:blipFill>
        <p:spPr>
          <a:xfrm>
            <a:off x="1619280" y="1557360"/>
            <a:ext cx="6048360" cy="1711440"/>
          </a:xfrm>
          <a:prstGeom prst="rect">
            <a:avLst/>
          </a:prstGeom>
          <a:ln w="0">
            <a:noFill/>
          </a:ln>
        </p:spPr>
      </p:pic>
      <p:sp>
        <p:nvSpPr>
          <p:cNvPr id="259" name="Прямоугольник 3"/>
          <p:cNvSpPr/>
          <p:nvPr/>
        </p:nvSpPr>
        <p:spPr>
          <a:xfrm>
            <a:off x="539640" y="335772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Сложи её вчетверо и сделай надрез на глубину 1,5 с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Рисунок 4" descr="http://stranamasterov.ru/files/imagecache/orig_with_logo2/images/technic/million/PICT3446.jpg"/>
          <p:cNvPicPr/>
          <p:nvPr/>
        </p:nvPicPr>
        <p:blipFill>
          <a:blip r:embed="rId3"/>
          <a:stretch/>
        </p:blipFill>
        <p:spPr>
          <a:xfrm>
            <a:off x="1979640" y="4508640"/>
            <a:ext cx="59054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1"/>
          <p:cNvSpPr/>
          <p:nvPr/>
        </p:nvSpPr>
        <p:spPr>
          <a:xfrm>
            <a:off x="857160" y="836640"/>
            <a:ext cx="733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Скрути полоску в жгутик до надрез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Рисунок 2" descr="http://stranamasterov.ru/files/imagecache/orig_with_logo2/images/technic/million/PICT3448.jpg"/>
          <p:cNvPicPr/>
          <p:nvPr/>
        </p:nvPicPr>
        <p:blipFill>
          <a:blip r:embed="rId2"/>
          <a:stretch/>
        </p:blipFill>
        <p:spPr>
          <a:xfrm>
            <a:off x="1332000" y="1700280"/>
            <a:ext cx="63356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Прямоугольник 1"/>
          <p:cNvSpPr/>
          <p:nvPr/>
        </p:nvSpPr>
        <p:spPr>
          <a:xfrm>
            <a:off x="755640" y="76500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Отогни листочки вниз и немного сомни  конец, заостряя ег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Рисунок 2" descr="http://stranamasterov.ru/files/imagecache/orig_with_logo2/images/technic/million/PICT3450.jpg"/>
          <p:cNvPicPr/>
          <p:nvPr/>
        </p:nvPicPr>
        <p:blipFill>
          <a:blip r:embed="rId2"/>
          <a:stretch/>
        </p:blipFill>
        <p:spPr>
          <a:xfrm>
            <a:off x="1258920" y="2781360"/>
            <a:ext cx="655308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Рисунок 1" descr="http://stranamasterov.ru/files/imagecache/orig_with_logo2/images/technic/million/PICT3452.jpg"/>
          <p:cNvPicPr/>
          <p:nvPr/>
        </p:nvPicPr>
        <p:blipFill>
          <a:blip r:embed="rId2"/>
          <a:stretch/>
        </p:blipFill>
        <p:spPr>
          <a:xfrm>
            <a:off x="3564000" y="981000"/>
            <a:ext cx="2879640" cy="549756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оугольник 2"/>
          <p:cNvSpPr/>
          <p:nvPr/>
        </p:nvSpPr>
        <p:spPr>
          <a:xfrm>
            <a:off x="551520" y="404640"/>
            <a:ext cx="55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Подклей стебелёк к цветк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Рисунок 1" descr="http://stranamasterov.ru/files/imagecache/orig_with_logo2/images/technic/million/PICT3453.jpg"/>
          <p:cNvPicPr/>
          <p:nvPr/>
        </p:nvPicPr>
        <p:blipFill>
          <a:blip r:embed="rId2"/>
          <a:stretch/>
        </p:blipFill>
        <p:spPr>
          <a:xfrm>
            <a:off x="1835280" y="2708280"/>
            <a:ext cx="3384360" cy="349740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2" descr="http://stranamasterov.ru/files/imagecache/orig_with_logo2/images/technic/million/PICT3454.jpg"/>
          <p:cNvPicPr/>
          <p:nvPr/>
        </p:nvPicPr>
        <p:blipFill>
          <a:blip r:embed="rId3"/>
          <a:stretch/>
        </p:blipFill>
        <p:spPr>
          <a:xfrm>
            <a:off x="5508720" y="476280"/>
            <a:ext cx="2381040" cy="6019920"/>
          </a:xfrm>
          <a:prstGeom prst="rect">
            <a:avLst/>
          </a:prstGeom>
          <a:ln w="0">
            <a:noFill/>
          </a:ln>
        </p:spPr>
      </p:pic>
      <p:sp>
        <p:nvSpPr>
          <p:cNvPr id="269" name="TextBox 3"/>
          <p:cNvSpPr/>
          <p:nvPr/>
        </p:nvSpPr>
        <p:spPr>
          <a:xfrm>
            <a:off x="611280" y="476280"/>
            <a:ext cx="46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Чтобы сделать розу пышней, возьмите сразу несколько круг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Box 1"/>
          <p:cNvSpPr/>
          <p:nvPr/>
        </p:nvSpPr>
        <p:spPr>
          <a:xfrm>
            <a:off x="1187280" y="1125360"/>
            <a:ext cx="705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СЫЛК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r.mail.yandex.net/url/GjVuvCtrHy9GRjZjuVjqAQ,1350581879/stranamasterov.ru%2Fnode%2F48996%3Ftid%3D45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PHILka.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1"/>
          <p:cNvSpPr/>
          <p:nvPr/>
        </p:nvSpPr>
        <p:spPr>
          <a:xfrm>
            <a:off x="3132000" y="4653000"/>
            <a:ext cx="26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Сайт «Школа АБВ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www. shkola-abv.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Georgia"/>
              </a:rPr>
              <a:t>История создания праздн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50920" y="2205000"/>
            <a:ext cx="5976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7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Во многих странах мира отмечают День матери, правда, в разное время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7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По некоторым источникам традиция празднования Дня матери берет начало еще в древнем Рим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Римляне посвящали три дня в мар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(с 22 по 25) матери богов – восточной Кибеле.</a:t>
            </a: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     </a:t>
            </a: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Древние греки </a:t>
            </a: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отдавали дань уважения матери всех богов - Гее.</a:t>
            </a: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Для кельтов Днем матери был день чествования богини Бриджи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8" descr="baby"/>
          <p:cNvPicPr/>
          <p:nvPr/>
        </p:nvPicPr>
        <p:blipFill>
          <a:blip r:embed="rId2"/>
          <a:stretch/>
        </p:blipFill>
        <p:spPr>
          <a:xfrm>
            <a:off x="6300720" y="1700280"/>
            <a:ext cx="2843280" cy="4249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133"/>
          <p:cNvPicPr/>
          <p:nvPr/>
        </p:nvPicPr>
        <p:blipFill>
          <a:blip r:embed="rId3"/>
          <a:stretch/>
        </p:blipFill>
        <p:spPr>
          <a:xfrm>
            <a:off x="0" y="0"/>
            <a:ext cx="1465200" cy="22366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ff0000"/>
                </a:solidFill>
                <a:latin typeface="Georgia"/>
              </a:rPr>
              <a:t>История развития праздника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4259520" cy="42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Georgia"/>
              </a:rPr>
              <a:t>         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</a:rPr>
              <a:t>С XVII по XIX век в Великобритании отмечалось «мамино воскресенье» .В этот день юноши и девушки, которые работали подмастерьями или слугами, возвращаясь домой, приносили в подарок своим мамам фруктовый пирог. 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Georgia"/>
              </a:rPr>
              <a:t>День матери, аналог нынешнего праздника, берет свое начало в XIX веке в американском штате Западная Вирджиния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7" descr="15948_10_o"/>
          <p:cNvPicPr/>
          <p:nvPr/>
        </p:nvPicPr>
        <p:blipFill>
          <a:blip r:embed="rId2"/>
          <a:stretch/>
        </p:blipFill>
        <p:spPr>
          <a:xfrm>
            <a:off x="5327640" y="1844640"/>
            <a:ext cx="3354480" cy="4471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Georgia"/>
              </a:rPr>
              <a:t>День матери в Ро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4824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В России</a:t>
            </a: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 День матери отмечается в четвертое воскресенье ноября</a:t>
            </a:r>
            <a:r>
              <a:rPr b="0" lang="en-US" sz="2400" spc="-1" strike="noStrike">
                <a:solidFill>
                  <a:srgbClr val="002060"/>
                </a:solidFill>
                <a:latin typeface="Georgia"/>
              </a:rPr>
              <a:t>  </a:t>
            </a: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с 1998 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     </a:t>
            </a: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на основании Указ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     </a:t>
            </a: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Президента РФ   Б.Н. Ельцина. В этот день по традиции поздравляют женщин, добившихся успехов в воспитании детей, многодетных мам и матерей-одиночек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14" descr="baby"/>
          <p:cNvPicPr/>
          <p:nvPr/>
        </p:nvPicPr>
        <p:blipFill>
          <a:blip r:embed="rId2"/>
          <a:stretch/>
        </p:blipFill>
        <p:spPr>
          <a:xfrm>
            <a:off x="4932360" y="1557360"/>
            <a:ext cx="3235320" cy="48211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Georgia"/>
              </a:rPr>
              <a:t>На свете не существует человека роднее и ближе матери. Ее любовь к детям безгранична, бескорыстна, полна самоотверженности. А материнство на Руси всегда было равноценно синониму святост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9" descr="1377046"/>
          <p:cNvPicPr/>
          <p:nvPr/>
        </p:nvPicPr>
        <p:blipFill>
          <a:blip r:embed="rId2"/>
          <a:stretch/>
        </p:blipFill>
        <p:spPr>
          <a:xfrm>
            <a:off x="2124000" y="2492280"/>
            <a:ext cx="4761000" cy="41371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Georgia"/>
              </a:rPr>
              <a:t>Женщина, мать стала воплощением кисти великих мастеров искусства: Рембрандта, Венецианова, Тропинина, Серов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4" descr="венецианов"/>
          <p:cNvPicPr/>
          <p:nvPr/>
        </p:nvPicPr>
        <p:blipFill>
          <a:blip r:embed="rId2"/>
          <a:stretch/>
        </p:blipFill>
        <p:spPr>
          <a:xfrm>
            <a:off x="179280" y="1628640"/>
            <a:ext cx="4498920" cy="396108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7280" y="5805360"/>
            <a:ext cx="8229600" cy="7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eece1"/>
                </a:solidFill>
                <a:latin typeface="Georgia"/>
              </a:rPr>
              <a:t>Венецианов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eece1"/>
                </a:solidFill>
                <a:latin typeface="Georgia"/>
              </a:rPr>
              <a:t>                                                               </a:t>
            </a:r>
            <a:r>
              <a:rPr b="0" lang="ru-RU" sz="1600" spc="-1" strike="noStrike">
                <a:solidFill>
                  <a:srgbClr val="eeece1"/>
                </a:solidFill>
                <a:latin typeface="Georgia"/>
              </a:rPr>
              <a:t>Рембрант «Мадонна с младенцем и Св. Иосифом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8" descr="Рембрант "/>
          <p:cNvPicPr/>
          <p:nvPr/>
        </p:nvPicPr>
        <p:blipFill>
          <a:blip r:embed="rId3"/>
          <a:stretch/>
        </p:blipFill>
        <p:spPr>
          <a:xfrm>
            <a:off x="5076720" y="1628640"/>
            <a:ext cx="3648240" cy="4249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12" descr="1"/>
          <p:cNvPicPr/>
          <p:nvPr/>
        </p:nvPicPr>
        <p:blipFill>
          <a:blip r:embed="rId2"/>
          <a:stretch/>
        </p:blipFill>
        <p:spPr>
          <a:xfrm>
            <a:off x="6227640" y="0"/>
            <a:ext cx="2916360" cy="34434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3" descr="5742_101"/>
          <p:cNvPicPr/>
          <p:nvPr/>
        </p:nvPicPr>
        <p:blipFill>
          <a:blip r:embed="rId3"/>
          <a:stretch/>
        </p:blipFill>
        <p:spPr>
          <a:xfrm>
            <a:off x="2843280" y="0"/>
            <a:ext cx="3405240" cy="4951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6" descr="Александр Рекуненко"/>
          <p:cNvPicPr/>
          <p:nvPr/>
        </p:nvPicPr>
        <p:blipFill>
          <a:blip r:embed="rId4"/>
          <a:stretch/>
        </p:blipFill>
        <p:spPr>
          <a:xfrm>
            <a:off x="6197760" y="3444840"/>
            <a:ext cx="2946240" cy="34131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9" descr="marinka_19"/>
          <p:cNvPicPr/>
          <p:nvPr/>
        </p:nvPicPr>
        <p:blipFill>
          <a:blip r:embed="rId5"/>
          <a:stretch/>
        </p:blipFill>
        <p:spPr>
          <a:xfrm>
            <a:off x="2771640" y="4551480"/>
            <a:ext cx="3456000" cy="23065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2" descr="IC-058"/>
          <p:cNvPicPr/>
          <p:nvPr/>
        </p:nvPicPr>
        <p:blipFill>
          <a:blip r:embed="rId6"/>
          <a:stretch/>
        </p:blipFill>
        <p:spPr>
          <a:xfrm>
            <a:off x="0" y="0"/>
            <a:ext cx="2876400" cy="38606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1" descr="Рафаэль Санти"/>
          <p:cNvPicPr/>
          <p:nvPr/>
        </p:nvPicPr>
        <p:blipFill>
          <a:blip r:embed="rId7"/>
          <a:stretch/>
        </p:blipFill>
        <p:spPr>
          <a:xfrm>
            <a:off x="0" y="2766960"/>
            <a:ext cx="3087720" cy="40910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059280" y="404640"/>
            <a:ext cx="608472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Georgia"/>
              </a:rPr>
              <a:t>    </a:t>
            </a:r>
            <a:r>
              <a:rPr b="0" lang="en-US" sz="2400" spc="-1" strike="noStrike">
                <a:solidFill>
                  <a:srgbClr val="002060"/>
                </a:solidFill>
                <a:latin typeface="Georgia"/>
              </a:rPr>
              <a:t>Дети — самое дорогое для матери. Счастлив тот, кто с детства знает материнскую любовь, ласку, заботу. А дети должны отвечать ей тем же — любовью, вниманием, заботой. С уважением и признательностью мы относимся к тем людям, которые до седых волос почтительно произносят имя матери, оберегают ее старость, дарят ей покой и стар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Как бы ни манил вас бег событи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Как ни влек бы в свой водоворот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Пуще глаза маму берегит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От обид, от тягот и забо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Содержимое 4" descr="мама2.jpg"/>
          <p:cNvPicPr/>
          <p:nvPr/>
        </p:nvPicPr>
        <p:blipFill>
          <a:blip r:embed="rId2"/>
          <a:stretch/>
        </p:blipFill>
        <p:spPr>
          <a:xfrm>
            <a:off x="0" y="692280"/>
            <a:ext cx="3182760" cy="41227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ена</dc:creator>
  <dc:description/>
  <dc:language>en-US</dc:language>
  <cp:lastModifiedBy>Boris</cp:lastModifiedBy>
  <dcterms:modified xsi:type="dcterms:W3CDTF">2012-10-21T15:48:49Z</dcterms:modified>
  <cp:revision>25</cp:revision>
  <dc:subject/>
  <dc:title>Куликовская битва.</dc:title>
</cp:coreProperties>
</file>