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8232-B9F7-4E7E-BD2C-4434020A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E7B-9ADB-4491-B035-608D90DA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1354-A269-4A12-9F97-18585FDD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2B57-8ECB-4F62-B1E0-E377382D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5038E-0D35-4B0D-9081-89597AEB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0D4B7-9629-4757-84C4-C46219D0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E8D66-7DB1-4531-879F-E04636FB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EC4F0-0ACC-4ADD-8CFB-F750D019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ADB5A-D5FF-45EA-8B0C-F8D621D2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B83C9-2AF5-41BC-A949-F07C05AB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1A4A1-FC08-4D4C-AE40-9ACF13A2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1E16-8082-42AA-9337-46E8F547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9C809-5524-4FE1-9054-3DCE56BE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65C9C-BA9D-4B85-A1C9-BBE0FF38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4DF59-7EBA-4D3B-A098-1134F023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74659-D836-43A5-B4F5-498AD7E6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3CC97-26B5-4040-8951-15236DED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C5D3E-5B35-4729-A830-AF9E3AC5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53661-E457-4529-A3A9-72563187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8EF5B-ED11-418F-98B0-85F57AA1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848679-E822-4264-82FF-04BA848B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CDF12-762E-45D2-83A2-5BBCD358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CDC4-A927-4208-B795-4E14B6DA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22004F-7FE8-441D-AC79-98E08A5C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B9703-9E76-4C1E-8895-EAFD68DB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B46034-14E4-454C-9359-C58DCF83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F9125C-2633-4373-9F96-3F6EF765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5219E-54EF-44A8-A1B1-E55929F3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A4EAD-98F8-4FEA-BB22-6C30EF6D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8E659-6DD1-4605-8914-1CB3255F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E6A111-02A6-493E-928B-716F90F9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66EA1E-47DC-44FC-8977-DC53AECB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F33032-E7AD-481F-B52F-A287DB2F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9CED-2775-4CB6-8A19-3D476614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1559A8-43C3-4FE5-9868-50BB1099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1767EA-AC24-46D7-BE1F-35D4BC60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1DF919-BA52-4518-8B23-DC8F3046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255555-98DE-4D72-B3FE-93B2AA33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9D0DE0-AEAE-4B20-8DF7-86068A9C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0CE58C-FD25-41AA-B683-BBA70273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656B53-C3A9-4ED9-8348-1FA8B85B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DE3FF6-0FEA-4A62-8542-4FC9A791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CCA57A-A678-46AE-8825-8C1A29BA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705C0D-DC5A-4791-8773-12A020EF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8187-F1F3-4E93-A82A-350E590B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1EF199-85A9-4DF4-962F-1CE9AA08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C40E2A-E9CF-4B9E-8E03-04EB5D68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5C639B-0EDE-4B5A-9F1A-4BC2A973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EA43A-1376-466D-95C5-F1243A75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A404AE-8BC0-43DB-8AE1-8F1AE670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531323-A6BC-47DB-AB58-2260ED77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1495D9-4DEE-4712-BCC2-E7414B96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404E0F-8D7A-4288-A678-9FB3561B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E104CA-C59F-45D1-A835-4E906068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8F4BD9-B9BF-4038-96A2-924411B5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6CAE-16A6-493D-9D7D-59D76D9F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4EED61-E19F-4514-A77D-658D6165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F959-41CE-4DB7-BC72-4B1B7AB8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F775-0BB1-41D7-AE0A-A57FB66E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152-2CA5-4979-871F-D8EFC3D2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5007-AD9C-4276-BB97-3B4983776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D9D2-484F-4873-A3E7-AA4693E6D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F866-0CBD-4612-B791-757D07A8E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BFB3-1AE5-4CEA-94BF-7A6AC97D4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BED5-6B73-480D-9C30-833A73970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2" descr="№3а.png"/>
          <p:cNvPicPr/>
          <p:nvPr/>
        </p:nvPicPr>
        <p:blipFill>
          <a:blip r:embed="rId2"/>
          <a:stretch/>
        </p:blipFill>
        <p:spPr>
          <a:xfrm>
            <a:off x="2556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76720" y="907560"/>
            <a:ext cx="453528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РОЗЫ 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НА ДЕНЬ МАТЕРИ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2916360" y="3933720"/>
            <a:ext cx="532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Автор: Абрамычева Е.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учитель нач. к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ГБОУ СОШ № 19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1" descr=" &amp;Mcy;&amp;acy;&amp;scy;&amp;tcy;&amp;iecy;&amp;rcy;-&amp;kcy;&amp;lcy;&amp;acy;&amp;scy;&amp;scy; &amp;Mcy;&amp;ocy;&amp;dcy;&amp;iecy;&amp;lcy;&amp;icy;&amp;rcy;&amp;ocy;&amp;vcy;&amp;acy;&amp;ncy;&amp;icy;&amp;iecy;: &amp;Mcy;&amp;icy;&amp;lcy;&amp;lcy;&amp;icy;&amp;ocy;&amp;ncy; &amp;rcy;&amp;ocy;&amp;zcy; &amp;icy;&amp;zcy; &amp;gcy;&amp;ocy;&amp;fcy;&amp;rcy;&amp;icy;&amp;rcy;&amp;ocy;&amp;vcy;&amp;acy;&amp;ncy;&amp;ncy;&amp;ocy;&amp;jcy; &amp;bcy;&amp;ucy;&amp;mcy;&amp;acy;&amp;gcy;&amp;icy; &amp;Bcy;&amp;ucy;&amp;mcy;&amp;acy;&amp;gcy;&amp;acy; &amp;gcy;&amp;ocy;&amp;fcy;&amp;rcy;&amp;icy;&amp;rcy;&amp;ocy;&amp;vcy;&amp;acy;&amp;ncy;&amp;ncy;&amp;acy;&amp;yacy;, &amp;Scy;&amp;acy;&amp;lcy;&amp;fcy;&amp;iecy;&amp;tcy;&amp;kcy;&amp;icy; 8 &amp;mcy;&amp;acy;&amp;rcy;&amp;tcy;&amp;acy;, &amp;Vcy;&amp;acy;&amp;lcy;&amp;iecy;&amp;ncy;&amp;tcy;&amp;icy;&amp;ncy;&amp;ocy;&amp;vcy; &amp;dcy;&amp;iecy;&amp;ncy;&amp;softcy;, &amp;Dcy;&amp;iecy;&amp;ncy;&amp;softcy; &amp;mcy;&amp;acy;&amp;tcy;&amp;iecy;&amp;rcy;&amp;icy;"/>
          <p:cNvPicPr/>
          <p:nvPr/>
        </p:nvPicPr>
        <p:blipFill>
          <a:blip r:embed="rId2"/>
          <a:stretch/>
        </p:blipFill>
        <p:spPr>
          <a:xfrm>
            <a:off x="1187280" y="333360"/>
            <a:ext cx="6409080" cy="6191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684360" y="620640"/>
            <a:ext cx="77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озьми хозяйственные салфетки. Вырежи круг диаметром  6-7 см. Край можно сделать волнисты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Рисунок 2" descr="http://stranamasterov.ru/files/imagecache/orig_with_logo2/images/technic/million/PICT3430.jpg"/>
          <p:cNvPicPr/>
          <p:nvPr/>
        </p:nvPicPr>
        <p:blipFill>
          <a:blip r:embed="rId2"/>
          <a:stretch/>
        </p:blipFill>
        <p:spPr>
          <a:xfrm>
            <a:off x="826920" y="3284640"/>
            <a:ext cx="3168720" cy="295272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3" descr="http://stranamasterov.ru/files/imagecache/orig_with_logo2/images/technic/million/PICT3431.jpg"/>
          <p:cNvPicPr/>
          <p:nvPr/>
        </p:nvPicPr>
        <p:blipFill>
          <a:blip r:embed="rId3"/>
          <a:stretch/>
        </p:blipFill>
        <p:spPr>
          <a:xfrm>
            <a:off x="5508720" y="3645000"/>
            <a:ext cx="273528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826920" y="47628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ложи заготовку кулёчком. Сверху должна остаться небольшая петель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Рисунок 2" descr="http://stranamasterov.ru/files/imagecache/orig_with_logo2/images/technic/million/PICT3432.jpg"/>
          <p:cNvPicPr/>
          <p:nvPr/>
        </p:nvPicPr>
        <p:blipFill>
          <a:blip r:embed="rId2"/>
          <a:stretch/>
        </p:blipFill>
        <p:spPr>
          <a:xfrm>
            <a:off x="1619280" y="1700280"/>
            <a:ext cx="50403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755640" y="62064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зьми степлер и , располагая заготовку вдоль, скрепи её в середин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Рисунок 2" descr="http://stranamasterov.ru/files/imagecache/orig_with_logo2/images/technic/million/PICT3436.jpg"/>
          <p:cNvPicPr/>
          <p:nvPr/>
        </p:nvPicPr>
        <p:blipFill>
          <a:blip r:embed="rId2"/>
          <a:stretch/>
        </p:blipFill>
        <p:spPr>
          <a:xfrm>
            <a:off x="900000" y="2708280"/>
            <a:ext cx="3492720" cy="278136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3" descr="http://stranamasterov.ru/files/imagecache/orig_with_logo2/images/technic/million/PICT3437.jpg"/>
          <p:cNvPicPr/>
          <p:nvPr/>
        </p:nvPicPr>
        <p:blipFill>
          <a:blip r:embed="rId3"/>
          <a:stretch/>
        </p:blipFill>
        <p:spPr>
          <a:xfrm>
            <a:off x="5435640" y="1989000"/>
            <a:ext cx="316872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1"/>
          <p:cNvSpPr/>
          <p:nvPr/>
        </p:nvSpPr>
        <p:spPr>
          <a:xfrm>
            <a:off x="684360" y="54936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Теперь её нужно вывернуть наизнанку, т.е. поднять  наверх всю нижнюю половин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Рисунок 2" descr="http://stranamasterov.ru/files/imagecache/orig_with_logo2/images/technic/million/PICT3439.jpg"/>
          <p:cNvPicPr/>
          <p:nvPr/>
        </p:nvPicPr>
        <p:blipFill>
          <a:blip r:embed="rId2"/>
          <a:stretch/>
        </p:blipFill>
        <p:spPr>
          <a:xfrm>
            <a:off x="3059280" y="1773360"/>
            <a:ext cx="4752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" descr="http://stranamasterov.ru/files/imagecache/orig_with_logo2/images/technic/million/PICT3428.jpg"/>
          <p:cNvPicPr/>
          <p:nvPr/>
        </p:nvPicPr>
        <p:blipFill>
          <a:blip r:embed="rId2"/>
          <a:stretch/>
        </p:blipFill>
        <p:spPr>
          <a:xfrm>
            <a:off x="539640" y="1341360"/>
            <a:ext cx="4032360" cy="49672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2"/>
          <p:cNvSpPr/>
          <p:nvPr/>
        </p:nvSpPr>
        <p:spPr>
          <a:xfrm>
            <a:off x="4716360" y="342900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тебли и листья вырезаем из той же салфет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755640" y="620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Можно сделать такую открыт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280" y="1052280"/>
            <a:ext cx="77770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Можно сделать розу из гофрированной бумаги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1042920" y="76500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ырежи кружок из гофрированной бумаг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Рисунок 2" descr="http://stranamasterov.ru/files/imagecache/orig_with_logo2/images/technic/million/PICT3440.jpg"/>
          <p:cNvPicPr/>
          <p:nvPr/>
        </p:nvPicPr>
        <p:blipFill>
          <a:blip r:embed="rId2"/>
          <a:stretch/>
        </p:blipFill>
        <p:spPr>
          <a:xfrm>
            <a:off x="826920" y="2376360"/>
            <a:ext cx="74901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468360" y="54936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перь  скрепи заготовку степлером . Линии гофрировки должны идти вдоль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Рисунок 2" descr="http://stranamasterov.ru/files/imagecache/orig_with_logo2/images/technic/million/PICT3443.jpg"/>
          <p:cNvPicPr/>
          <p:nvPr/>
        </p:nvPicPr>
        <p:blipFill>
          <a:blip r:embed="rId2"/>
          <a:stretch/>
        </p:blipFill>
        <p:spPr>
          <a:xfrm>
            <a:off x="971640" y="1916280"/>
            <a:ext cx="3744720" cy="374472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3" descr="http://stranamasterov.ru/files/imagecache/orig_with_logo2/images/technic/million/PICT3444.jpg"/>
          <p:cNvPicPr/>
          <p:nvPr/>
        </p:nvPicPr>
        <p:blipFill>
          <a:blip r:embed="rId3"/>
          <a:stretch/>
        </p:blipFill>
        <p:spPr>
          <a:xfrm>
            <a:off x="5003640" y="1989000"/>
            <a:ext cx="3456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1" descr="http://stranamasterov.ru/files/imagecache/orig_with_logo2/images/technic/million/PICT3442.jpg"/>
          <p:cNvPicPr/>
          <p:nvPr/>
        </p:nvPicPr>
        <p:blipFill>
          <a:blip r:embed="rId2"/>
          <a:stretch/>
        </p:blipFill>
        <p:spPr>
          <a:xfrm>
            <a:off x="1908000" y="3213000"/>
            <a:ext cx="5616720" cy="31687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2"/>
          <p:cNvSpPr/>
          <p:nvPr/>
        </p:nvSpPr>
        <p:spPr>
          <a:xfrm>
            <a:off x="611280" y="47628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сторожно выворачивай сначала одну  сторону, потом другую. Выворачивать нужно точно до скрепки. Серединка может сплющится. Придай объём с помощью карандаш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187280" y="549360"/>
            <a:ext cx="403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0000"/>
                </a:solidFill>
                <a:latin typeface="Georgia"/>
              </a:rPr>
              <a:t>На белом свете есть слов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0000"/>
                </a:solidFill>
                <a:latin typeface="Georgia"/>
              </a:rPr>
              <a:t>которые мы называем святы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bf0000"/>
                </a:solidFill>
                <a:latin typeface="Georgia"/>
              </a:rPr>
              <a:t>И одно из таких святых, тепл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0000"/>
                </a:solidFill>
                <a:latin typeface="Georgia"/>
              </a:rPr>
              <a:t>ласковых слов — это слово «МАМА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0000"/>
                </a:solidFill>
                <a:latin typeface="Georgia"/>
              </a:rPr>
              <a:t>Слово, которое ребенок говорит чащ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0000"/>
                </a:solidFill>
                <a:latin typeface="Georgia"/>
              </a:rPr>
              <a:t>всего — слово «МАМА». Слово, при котором взрослый, хмурый человек улыбнется, это тоже слово «МАМА»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684360" y="5013360"/>
            <a:ext cx="41036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Georgia"/>
              </a:rPr>
              <a:t>Мама, мамочка... Сколько тепла таит это магическое слово, которым называют самого близкого, родного, единственно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Рисунок 3" descr="мама.jpg"/>
          <p:cNvPicPr/>
          <p:nvPr/>
        </p:nvPicPr>
        <p:blipFill>
          <a:blip r:embed="rId2"/>
          <a:stretch/>
        </p:blipFill>
        <p:spPr>
          <a:xfrm>
            <a:off x="5292720" y="765000"/>
            <a:ext cx="3619440" cy="48895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468360" y="4806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Чтобы сделать стебель, возьми полоску  шириной 2,5 – 3с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Рисунок 2" descr="http://stranamasterov.ru/files/imagecache/orig_with_logo2/images/technic/million/PICT3445.jpg"/>
          <p:cNvPicPr/>
          <p:nvPr/>
        </p:nvPicPr>
        <p:blipFill>
          <a:blip r:embed="rId2"/>
          <a:stretch/>
        </p:blipFill>
        <p:spPr>
          <a:xfrm>
            <a:off x="1619280" y="1557360"/>
            <a:ext cx="6048360" cy="171144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3"/>
          <p:cNvSpPr/>
          <p:nvPr/>
        </p:nvSpPr>
        <p:spPr>
          <a:xfrm>
            <a:off x="539640" y="33577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ложи её вчетверо и сделай надрез на глубину 1,5 с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Рисунок 4" descr="http://stranamasterov.ru/files/imagecache/orig_with_logo2/images/technic/million/PICT3446.jpg"/>
          <p:cNvPicPr/>
          <p:nvPr/>
        </p:nvPicPr>
        <p:blipFill>
          <a:blip r:embed="rId3"/>
          <a:stretch/>
        </p:blipFill>
        <p:spPr>
          <a:xfrm>
            <a:off x="1979640" y="4508640"/>
            <a:ext cx="59054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857160" y="836640"/>
            <a:ext cx="733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крути полоску в жгутик до надрез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Рисунок 2" descr="http://stranamasterov.ru/files/imagecache/orig_with_logo2/images/technic/million/PICT3448.jpg"/>
          <p:cNvPicPr/>
          <p:nvPr/>
        </p:nvPicPr>
        <p:blipFill>
          <a:blip r:embed="rId2"/>
          <a:stretch/>
        </p:blipFill>
        <p:spPr>
          <a:xfrm>
            <a:off x="1332000" y="1700280"/>
            <a:ext cx="63356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1"/>
          <p:cNvSpPr/>
          <p:nvPr/>
        </p:nvSpPr>
        <p:spPr>
          <a:xfrm>
            <a:off x="755640" y="7650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тогни листочки вниз и немного сомни  конец, заостряя ег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Рисунок 2" descr="http://stranamasterov.ru/files/imagecache/orig_with_logo2/images/technic/million/PICT3450.jpg"/>
          <p:cNvPicPr/>
          <p:nvPr/>
        </p:nvPicPr>
        <p:blipFill>
          <a:blip r:embed="rId2"/>
          <a:stretch/>
        </p:blipFill>
        <p:spPr>
          <a:xfrm>
            <a:off x="1258920" y="2781360"/>
            <a:ext cx="655308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1" descr="http://stranamasterov.ru/files/imagecache/orig_with_logo2/images/technic/million/PICT3452.jpg"/>
          <p:cNvPicPr/>
          <p:nvPr/>
        </p:nvPicPr>
        <p:blipFill>
          <a:blip r:embed="rId2"/>
          <a:stretch/>
        </p:blipFill>
        <p:spPr>
          <a:xfrm>
            <a:off x="3564000" y="981000"/>
            <a:ext cx="2879640" cy="549756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2"/>
          <p:cNvSpPr/>
          <p:nvPr/>
        </p:nvSpPr>
        <p:spPr>
          <a:xfrm>
            <a:off x="551520" y="404640"/>
            <a:ext cx="55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Подклей стебелёк к цвет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Рисунок 1" descr="http://stranamasterov.ru/files/imagecache/orig_with_logo2/images/technic/million/PICT3453.jpg"/>
          <p:cNvPicPr/>
          <p:nvPr/>
        </p:nvPicPr>
        <p:blipFill>
          <a:blip r:embed="rId2"/>
          <a:stretch/>
        </p:blipFill>
        <p:spPr>
          <a:xfrm>
            <a:off x="1835280" y="2708280"/>
            <a:ext cx="3384360" cy="349740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2" descr="http://stranamasterov.ru/files/imagecache/orig_with_logo2/images/technic/million/PICT3454.jpg"/>
          <p:cNvPicPr/>
          <p:nvPr/>
        </p:nvPicPr>
        <p:blipFill>
          <a:blip r:embed="rId3"/>
          <a:stretch/>
        </p:blipFill>
        <p:spPr>
          <a:xfrm>
            <a:off x="5508720" y="476280"/>
            <a:ext cx="2381040" cy="6019920"/>
          </a:xfrm>
          <a:prstGeom prst="rect">
            <a:avLst/>
          </a:prstGeom>
          <a:ln w="0">
            <a:noFill/>
          </a:ln>
        </p:spPr>
      </p:pic>
      <p:sp>
        <p:nvSpPr>
          <p:cNvPr id="269" name="TextBox 3"/>
          <p:cNvSpPr/>
          <p:nvPr/>
        </p:nvSpPr>
        <p:spPr>
          <a:xfrm>
            <a:off x="611280" y="47628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Чтобы сделать розу пышней, возьмите сразу несколько круг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1"/>
          <p:cNvSpPr/>
          <p:nvPr/>
        </p:nvSpPr>
        <p:spPr>
          <a:xfrm>
            <a:off x="1187280" y="1125360"/>
            <a:ext cx="70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СЫЛ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r.mail.yandex.net/url/GjVuvCtrHy9GRjZjuVjqAQ,1350581879/stranamasterov.ru%2Fnode%2F48996%3Ftid%3D45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PHILka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"/>
          <p:cNvSpPr/>
          <p:nvPr/>
        </p:nvSpPr>
        <p:spPr>
          <a:xfrm>
            <a:off x="3132000" y="465300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айт «Школа АБ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www. shkola-abv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Georgia"/>
              </a:rPr>
              <a:t>История создания празд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5976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7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Во многих странах мира отмечают День матери, правда, в разное время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По некоторым источникам традиция празднования Дня матери берет начало еще в древнем Рим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Римляне посвящали три дня в мар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(с 22 по 25) матери богов – восточной Кибеле.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Древние греки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отдавали дань уважения матери всех богов - Гее.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Для кельтов Днем матери был день чествования богини Бридж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8" descr="baby"/>
          <p:cNvPicPr/>
          <p:nvPr/>
        </p:nvPicPr>
        <p:blipFill>
          <a:blip r:embed="rId2"/>
          <a:stretch/>
        </p:blipFill>
        <p:spPr>
          <a:xfrm>
            <a:off x="6300720" y="1700280"/>
            <a:ext cx="2843280" cy="4249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133"/>
          <p:cNvPicPr/>
          <p:nvPr/>
        </p:nvPicPr>
        <p:blipFill>
          <a:blip r:embed="rId3"/>
          <a:stretch/>
        </p:blipFill>
        <p:spPr>
          <a:xfrm>
            <a:off x="0" y="0"/>
            <a:ext cx="1465200" cy="2236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ff0000"/>
                </a:solidFill>
                <a:latin typeface="Georgia"/>
              </a:rPr>
              <a:t>История развития праздника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425952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         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С XVII по XIX век в Великобритании отмечалось «мамино воскресенье» .В этот день юноши и девушки, которые работали подмастерьями или слугами, возвращаясь домой, приносили в подарок своим мамам фруктовый пирог.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День матери, аналог нынешнего праздника, берет свое начало в XIX веке в американском штате Западная Вирджин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7" descr="15948_10_o"/>
          <p:cNvPicPr/>
          <p:nvPr/>
        </p:nvPicPr>
        <p:blipFill>
          <a:blip r:embed="rId2"/>
          <a:stretch/>
        </p:blipFill>
        <p:spPr>
          <a:xfrm>
            <a:off x="5327640" y="1844640"/>
            <a:ext cx="3354480" cy="447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Georgia"/>
              </a:rPr>
              <a:t>День матери в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82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В России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День матери отмечается в четвертое воскресенье ноября</a:t>
            </a:r>
            <a:r>
              <a:rPr b="0" lang="en-US" sz="2400" spc="-1" strike="noStrike">
                <a:solidFill>
                  <a:srgbClr val="002060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с 1998 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на основании Указ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Президента РФ   Б.Н. Ельцина. В этот день по традиции поздравляют женщин, добившихся успехов в воспитании детей, многодетных мам и матерей-одиночек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4" descr="baby"/>
          <p:cNvPicPr/>
          <p:nvPr/>
        </p:nvPicPr>
        <p:blipFill>
          <a:blip r:embed="rId2"/>
          <a:stretch/>
        </p:blipFill>
        <p:spPr>
          <a:xfrm>
            <a:off x="4932360" y="1557360"/>
            <a:ext cx="3235320" cy="4821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Georgia"/>
              </a:rPr>
              <a:t>На свете не существует человека роднее и ближе матери. Ее любовь к детям безгранична, бескорыстна, полна самоотверженности. А материнство на Руси всегда было равноценно синониму свят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9" descr="1377046"/>
          <p:cNvPicPr/>
          <p:nvPr/>
        </p:nvPicPr>
        <p:blipFill>
          <a:blip r:embed="rId2"/>
          <a:stretch/>
        </p:blipFill>
        <p:spPr>
          <a:xfrm>
            <a:off x="2124000" y="2492280"/>
            <a:ext cx="4761000" cy="4137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Georgia"/>
              </a:rPr>
              <a:t>Женщина, мать стала воплощением кисти великих мастеров искусства: Рембрандта, Венецианова, Тропинина, Серо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4" descr="венецианов"/>
          <p:cNvPicPr/>
          <p:nvPr/>
        </p:nvPicPr>
        <p:blipFill>
          <a:blip r:embed="rId2"/>
          <a:stretch/>
        </p:blipFill>
        <p:spPr>
          <a:xfrm>
            <a:off x="179280" y="1628640"/>
            <a:ext cx="4498920" cy="39610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7280" y="5805360"/>
            <a:ext cx="8229600" cy="7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Georgia"/>
              </a:rPr>
              <a:t>Венецианов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Georgia"/>
              </a:rPr>
              <a:t>                                                               </a:t>
            </a:r>
            <a:r>
              <a:rPr b="0" lang="ru-RU" sz="1600" spc="-1" strike="noStrike">
                <a:solidFill>
                  <a:srgbClr val="eeece1"/>
                </a:solidFill>
                <a:latin typeface="Georgia"/>
              </a:rPr>
              <a:t>Рембрант «Мадонна с младенцем и Св. Иосифом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8" descr="Рембрант "/>
          <p:cNvPicPr/>
          <p:nvPr/>
        </p:nvPicPr>
        <p:blipFill>
          <a:blip r:embed="rId3"/>
          <a:stretch/>
        </p:blipFill>
        <p:spPr>
          <a:xfrm>
            <a:off x="5076720" y="1628640"/>
            <a:ext cx="3648240" cy="4249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2" descr="1"/>
          <p:cNvPicPr/>
          <p:nvPr/>
        </p:nvPicPr>
        <p:blipFill>
          <a:blip r:embed="rId2"/>
          <a:stretch/>
        </p:blipFill>
        <p:spPr>
          <a:xfrm>
            <a:off x="6227640" y="0"/>
            <a:ext cx="2916360" cy="3443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3" descr="5742_101"/>
          <p:cNvPicPr/>
          <p:nvPr/>
        </p:nvPicPr>
        <p:blipFill>
          <a:blip r:embed="rId3"/>
          <a:stretch/>
        </p:blipFill>
        <p:spPr>
          <a:xfrm>
            <a:off x="2843280" y="0"/>
            <a:ext cx="3405240" cy="4951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6" descr="Александр Рекуненко"/>
          <p:cNvPicPr/>
          <p:nvPr/>
        </p:nvPicPr>
        <p:blipFill>
          <a:blip r:embed="rId4"/>
          <a:stretch/>
        </p:blipFill>
        <p:spPr>
          <a:xfrm>
            <a:off x="6197760" y="3444840"/>
            <a:ext cx="2946240" cy="3413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" descr="marinka_19"/>
          <p:cNvPicPr/>
          <p:nvPr/>
        </p:nvPicPr>
        <p:blipFill>
          <a:blip r:embed="rId5"/>
          <a:stretch/>
        </p:blipFill>
        <p:spPr>
          <a:xfrm>
            <a:off x="2771640" y="4551480"/>
            <a:ext cx="3456000" cy="2306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2" descr="IC-058"/>
          <p:cNvPicPr/>
          <p:nvPr/>
        </p:nvPicPr>
        <p:blipFill>
          <a:blip r:embed="rId6"/>
          <a:stretch/>
        </p:blipFill>
        <p:spPr>
          <a:xfrm>
            <a:off x="0" y="0"/>
            <a:ext cx="2876400" cy="3860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Рафаэль Санти"/>
          <p:cNvPicPr/>
          <p:nvPr/>
        </p:nvPicPr>
        <p:blipFill>
          <a:blip r:embed="rId7"/>
          <a:stretch/>
        </p:blipFill>
        <p:spPr>
          <a:xfrm>
            <a:off x="0" y="2766960"/>
            <a:ext cx="3087720" cy="4091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059280" y="404640"/>
            <a:ext cx="608472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0" lang="en-US" sz="2400" spc="-1" strike="noStrike">
                <a:solidFill>
                  <a:srgbClr val="002060"/>
                </a:solidFill>
                <a:latin typeface="Georgia"/>
              </a:rPr>
              <a:t>Дети — самое дорогое для матери. Счастлив тот, кто с детства знает материнскую любовь, ласку, заботу. А дети должны отвечать ей тем же — любовью, вниманием, заботой. С уважением и признательностью мы относимся к тем людям, которые до седых волос почтительно произносят имя матери, оберегают ее старость, дарят ей покой и стар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Как бы ни манил вас бег событ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Как ни влек бы в свой водоворо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Пуще глаза маму берегит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От обид, от тягот и заб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Содержимое 4" descr="мама2.jpg"/>
          <p:cNvPicPr/>
          <p:nvPr/>
        </p:nvPicPr>
        <p:blipFill>
          <a:blip r:embed="rId2"/>
          <a:stretch/>
        </p:blipFill>
        <p:spPr>
          <a:xfrm>
            <a:off x="0" y="692280"/>
            <a:ext cx="3182760" cy="4122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ена</dc:creator>
  <dc:description/>
  <dc:language>en-US</dc:language>
  <cp:lastModifiedBy>Boris</cp:lastModifiedBy>
  <dcterms:modified xsi:type="dcterms:W3CDTF">2012-10-21T15:48:49Z</dcterms:modified>
  <cp:revision>25</cp:revision>
  <dc:subject/>
  <dc:title>Куликовская битва.</dc:title>
</cp:coreProperties>
</file>