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BE4-47E4-493A-88D6-C7911046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E13-7624-4B4B-A10A-FF793444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B37-DF3E-4F68-BE23-9B06CE92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681-7FA8-402C-AF18-7F3799E2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002-2632-464A-A284-5DED7254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291F-129E-4D0F-A75E-57AFE4BB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2DDB-4A70-4D6B-8942-C1FBD70B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E81-5B6E-43F5-AF64-5CC1B984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79EC-28FB-4BC9-A801-AA5D666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2C4A-FD18-44FB-9864-E447954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CCC-360B-4998-AAB3-391E3068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963-906F-424E-9669-78D6787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B49-6F45-4603-A95D-C2F5838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256C-21FF-4F5B-A5F4-BB8E095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A73-C27D-4352-AE11-5338C0C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B31C-39EF-4C49-8521-19B999F9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0CCD-6E21-4A2F-A2FA-FE4CBC0C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097-B029-4DBE-AA8C-43C0FA7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13B-ADFF-4C9D-B504-0F65917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CB5-05CA-41FC-B6A8-DA2D508B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A85-56B8-429C-B67F-55EE0EA6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265-CC8D-41DC-967A-7DCB7EE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991-214E-4A44-8BFD-B1FD2C7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85D-E8BE-4698-90AB-427E8EC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9D6-1785-4550-B7D6-33894E656261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21B-304C-4512-B9A6-29F060B8341A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03280" y="692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в подготовке к выбору професс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104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ознакомительной профориентационной работ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по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етоды изучения личности школьников в целях профориент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исок литератур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3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9"/>
          <p:cNvGrpSpPr/>
          <p:nvPr/>
        </p:nvGrpSpPr>
        <p:grpSpPr>
          <a:xfrm>
            <a:off x="838080" y="1104840"/>
            <a:ext cx="7467480" cy="5143320"/>
            <a:chOff x="838080" y="1104840"/>
            <a:chExt cx="7467480" cy="5143320"/>
          </a:xfrm>
        </p:grpSpPr>
        <p:sp>
          <p:nvSpPr>
            <p:cNvPr id="287" name="Rectangle 37"/>
            <p:cNvSpPr/>
            <p:nvPr/>
          </p:nvSpPr>
          <p:spPr>
            <a:xfrm>
              <a:off x="2361960" y="1104840"/>
              <a:ext cx="47242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83808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83808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37335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64767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647676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647676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83808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Text Box 45"/>
            <p:cNvSpPr/>
            <p:nvPr/>
          </p:nvSpPr>
          <p:spPr>
            <a:xfrm>
              <a:off x="990360" y="2790000"/>
              <a:ext cx="1371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Урок в учебных мастерских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Text Box 46"/>
            <p:cNvSpPr/>
            <p:nvPr/>
          </p:nvSpPr>
          <p:spPr>
            <a:xfrm>
              <a:off x="6629040" y="270684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Дни открытых дверей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Text Box 47"/>
            <p:cNvSpPr/>
            <p:nvPr/>
          </p:nvSpPr>
          <p:spPr>
            <a:xfrm>
              <a:off x="99036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Профоринтационный урок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48"/>
            <p:cNvSpPr/>
            <p:nvPr/>
          </p:nvSpPr>
          <p:spPr>
            <a:xfrm>
              <a:off x="388584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ыставки передового опыт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Text Box 49"/>
            <p:cNvSpPr/>
            <p:nvPr/>
          </p:nvSpPr>
          <p:spPr>
            <a:xfrm>
              <a:off x="6629040" y="3887280"/>
              <a:ext cx="13716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Тематические, художественные вечер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Text Box 50"/>
            <p:cNvSpPr/>
            <p:nvPr/>
          </p:nvSpPr>
          <p:spPr>
            <a:xfrm>
              <a:off x="990360" y="4983480"/>
              <a:ext cx="137124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Экскурсии на предприятия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Text Box 51"/>
            <p:cNvSpPr/>
            <p:nvPr/>
          </p:nvSpPr>
          <p:spPr>
            <a:xfrm>
              <a:off x="6629040" y="49834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стречи со специалистам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Line 52"/>
            <p:cNvSpPr/>
            <p:nvPr/>
          </p:nvSpPr>
          <p:spPr>
            <a:xfrm flipH="1">
              <a:off x="2056680" y="1779120"/>
              <a:ext cx="7621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53"/>
            <p:cNvSpPr/>
            <p:nvPr/>
          </p:nvSpPr>
          <p:spPr>
            <a:xfrm flipH="1">
              <a:off x="2361600" y="1779120"/>
              <a:ext cx="167652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220968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>
              <a:off x="6324120" y="1779120"/>
              <a:ext cx="60948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4647960" y="1779120"/>
              <a:ext cx="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Line 57"/>
            <p:cNvSpPr/>
            <p:nvPr/>
          </p:nvSpPr>
          <p:spPr>
            <a:xfrm>
              <a:off x="525780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Line 58"/>
            <p:cNvSpPr/>
            <p:nvPr/>
          </p:nvSpPr>
          <p:spPr>
            <a:xfrm>
              <a:off x="4952880" y="1779120"/>
              <a:ext cx="1523880" cy="31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Rectangle 59"/>
            <p:cNvSpPr/>
            <p:nvPr/>
          </p:nvSpPr>
          <p:spPr>
            <a:xfrm>
              <a:off x="838080" y="5911200"/>
              <a:ext cx="7467480" cy="33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1447560" y="5995440"/>
              <a:ext cx="62485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З А Д А Ч 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Line 61"/>
            <p:cNvSpPr/>
            <p:nvPr/>
          </p:nvSpPr>
          <p:spPr>
            <a:xfrm>
              <a:off x="2209680" y="3296880"/>
              <a:ext cx="15238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Line 62"/>
            <p:cNvSpPr/>
            <p:nvPr/>
          </p:nvSpPr>
          <p:spPr>
            <a:xfrm>
              <a:off x="2361960" y="4477680"/>
              <a:ext cx="91404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Line 63"/>
            <p:cNvSpPr/>
            <p:nvPr/>
          </p:nvSpPr>
          <p:spPr>
            <a:xfrm>
              <a:off x="1600200" y="5573880"/>
              <a:ext cx="45684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Line 64"/>
            <p:cNvSpPr/>
            <p:nvPr/>
          </p:nvSpPr>
          <p:spPr>
            <a:xfrm>
              <a:off x="4800240" y="4477680"/>
              <a:ext cx="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Line 65"/>
            <p:cNvSpPr/>
            <p:nvPr/>
          </p:nvSpPr>
          <p:spPr>
            <a:xfrm flipH="1">
              <a:off x="5409360" y="3296880"/>
              <a:ext cx="10666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66"/>
            <p:cNvSpPr/>
            <p:nvPr/>
          </p:nvSpPr>
          <p:spPr>
            <a:xfrm flipH="1">
              <a:off x="5714280" y="4477680"/>
              <a:ext cx="76212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67"/>
            <p:cNvSpPr/>
            <p:nvPr/>
          </p:nvSpPr>
          <p:spPr>
            <a:xfrm flipH="1">
              <a:off x="6476760" y="5573880"/>
              <a:ext cx="30456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68"/>
            <p:cNvSpPr/>
            <p:nvPr/>
          </p:nvSpPr>
          <p:spPr>
            <a:xfrm>
              <a:off x="2463480" y="1329480"/>
              <a:ext cx="45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aeaea"/>
                  </a:solidFill>
                  <a:latin typeface="Times New Roman"/>
                </a:rPr>
                <a:t>Формы ознакомительной профориентационной работы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ответственного отношения к выбору професси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понимания профессионального самоопредел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мотива выбо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творческого отношения к труду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важных качеств с учетом потребности обще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ознакомительной профориентационной работы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ссказ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глядная агитац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ъяснени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кскурс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испут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уро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Методы и формы профессиональной ориентации активирующие деятельность учащихся</a:t>
            </a:r>
            <a:endParaRPr b="0" lang="en-US" sz="2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ндивидуальные зад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ечера техни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дели технолог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нкурсы «Лучший по професси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ружки технического творчест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лубы будущих специалистов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изучения личности школьник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кетиров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блю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ализ результатов деятельности школьн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общение независимых характеристи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едагогический эксперимен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метод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готовности школьника к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ределение свойств личности, её способностей и наклонност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у школьников качеств, необходимых для всех профессий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) Трудолюб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) Дисциплинир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) Организ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учение профессий и их психофизиологические особен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писок литературы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иреев В.И. Профессиональная ориентация учащихся.- м, 199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щицкая Е.Н. Выбирайте профессию .- м, 1991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аров В.Ф. Профессиональная ориентация школьников. – м, 200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моненко В.Д. Профессиональная ориентация школьников.- м, 1994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истякова С.Н. Основы профессиональной ориентации школьников. – м, 1990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33:55Z</dcterms:modified>
  <cp:revision>12</cp:revision>
  <dc:subject/>
  <dc:title>PowerPoint Presentation</dc:title>
</cp:coreProperties>
</file>