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611-90E0-4E3D-90BE-38793AA3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244-B1B3-4B92-BD07-D8CE8E9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B12-420A-4B24-B7B4-3B8C075F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6D0-A065-4FE6-8B5B-87B4B926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2CDD-E5E3-4925-9BC8-CB1268EA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642D-FD78-4109-A836-443D884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1C97-F216-4966-8BCB-0455B2C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DC0F-5061-4052-ACEA-6E97D00A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0FD0-A269-40C3-BF85-73A748D9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45D4-24B1-427C-941A-F187417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86E6-A4DE-4C2A-AFFF-1BCD339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010-E096-42A6-A720-2AE4B26C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D4F5-F5E1-4C98-80A2-EC56CE2D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4881-5990-4E51-8398-53F9CE6A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C07E-E3D2-440B-AC42-B338BF20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43A-7A64-4404-A593-3A83919F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EF9-4457-45B8-8332-C0317C80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CB1-E2C6-4D9E-979C-98EF886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641-7857-48B0-B3D5-E1FB089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59E-D65A-4EB6-A733-F3EE954A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567-CE7D-4CB0-AC84-F83F1DA0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AD7-ED44-4C97-ABD8-D3104BE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0FD-16B1-4249-8229-BEC575E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D3B-B64C-4921-AFBE-C968859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E0CB-3066-4763-BFC3-B7BCA653DEA4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7B2-E144-47C2-840D-94BEF81E0F39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03280" y="692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в подготовке к выбору професс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104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ознакомительной профориентационной работ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по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етоды изучения личности школьников в целях профориент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исок литератур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3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9"/>
          <p:cNvGrpSpPr/>
          <p:nvPr/>
        </p:nvGrpSpPr>
        <p:grpSpPr>
          <a:xfrm>
            <a:off x="838080" y="1104840"/>
            <a:ext cx="7467480" cy="5143320"/>
            <a:chOff x="838080" y="1104840"/>
            <a:chExt cx="7467480" cy="5143320"/>
          </a:xfrm>
        </p:grpSpPr>
        <p:sp>
          <p:nvSpPr>
            <p:cNvPr id="287" name="Rectangle 37"/>
            <p:cNvSpPr/>
            <p:nvPr/>
          </p:nvSpPr>
          <p:spPr>
            <a:xfrm>
              <a:off x="2361960" y="1104840"/>
              <a:ext cx="47242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83808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83808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37335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64767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647676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647676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83808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Text Box 45"/>
            <p:cNvSpPr/>
            <p:nvPr/>
          </p:nvSpPr>
          <p:spPr>
            <a:xfrm>
              <a:off x="990360" y="2790000"/>
              <a:ext cx="1371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Урок в учебных мастерских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Text Box 46"/>
            <p:cNvSpPr/>
            <p:nvPr/>
          </p:nvSpPr>
          <p:spPr>
            <a:xfrm>
              <a:off x="6629040" y="270684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Дни открытых дверей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Text Box 47"/>
            <p:cNvSpPr/>
            <p:nvPr/>
          </p:nvSpPr>
          <p:spPr>
            <a:xfrm>
              <a:off x="99036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Профоринтационный урок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48"/>
            <p:cNvSpPr/>
            <p:nvPr/>
          </p:nvSpPr>
          <p:spPr>
            <a:xfrm>
              <a:off x="388584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ыставки передового опыт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Text Box 49"/>
            <p:cNvSpPr/>
            <p:nvPr/>
          </p:nvSpPr>
          <p:spPr>
            <a:xfrm>
              <a:off x="6629040" y="3887280"/>
              <a:ext cx="13716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Тематические, художественные вечер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Text Box 50"/>
            <p:cNvSpPr/>
            <p:nvPr/>
          </p:nvSpPr>
          <p:spPr>
            <a:xfrm>
              <a:off x="990360" y="4983480"/>
              <a:ext cx="137124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Экскурсии на предприятия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Text Box 51"/>
            <p:cNvSpPr/>
            <p:nvPr/>
          </p:nvSpPr>
          <p:spPr>
            <a:xfrm>
              <a:off x="6629040" y="49834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стречи со специалистам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Line 52"/>
            <p:cNvSpPr/>
            <p:nvPr/>
          </p:nvSpPr>
          <p:spPr>
            <a:xfrm flipH="1">
              <a:off x="2056680" y="1779120"/>
              <a:ext cx="7621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53"/>
            <p:cNvSpPr/>
            <p:nvPr/>
          </p:nvSpPr>
          <p:spPr>
            <a:xfrm flipH="1">
              <a:off x="2361600" y="1779120"/>
              <a:ext cx="167652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220968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>
              <a:off x="6324120" y="1779120"/>
              <a:ext cx="60948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4647960" y="1779120"/>
              <a:ext cx="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Line 57"/>
            <p:cNvSpPr/>
            <p:nvPr/>
          </p:nvSpPr>
          <p:spPr>
            <a:xfrm>
              <a:off x="525780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Line 58"/>
            <p:cNvSpPr/>
            <p:nvPr/>
          </p:nvSpPr>
          <p:spPr>
            <a:xfrm>
              <a:off x="4952880" y="1779120"/>
              <a:ext cx="1523880" cy="31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Rectangle 59"/>
            <p:cNvSpPr/>
            <p:nvPr/>
          </p:nvSpPr>
          <p:spPr>
            <a:xfrm>
              <a:off x="838080" y="5911200"/>
              <a:ext cx="7467480" cy="33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1447560" y="5995440"/>
              <a:ext cx="62485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З А Д А Ч 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Line 61"/>
            <p:cNvSpPr/>
            <p:nvPr/>
          </p:nvSpPr>
          <p:spPr>
            <a:xfrm>
              <a:off x="2209680" y="3296880"/>
              <a:ext cx="15238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Line 62"/>
            <p:cNvSpPr/>
            <p:nvPr/>
          </p:nvSpPr>
          <p:spPr>
            <a:xfrm>
              <a:off x="2361960" y="4477680"/>
              <a:ext cx="91404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Line 63"/>
            <p:cNvSpPr/>
            <p:nvPr/>
          </p:nvSpPr>
          <p:spPr>
            <a:xfrm>
              <a:off x="1600200" y="5573880"/>
              <a:ext cx="45684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Line 64"/>
            <p:cNvSpPr/>
            <p:nvPr/>
          </p:nvSpPr>
          <p:spPr>
            <a:xfrm>
              <a:off x="4800240" y="4477680"/>
              <a:ext cx="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Line 65"/>
            <p:cNvSpPr/>
            <p:nvPr/>
          </p:nvSpPr>
          <p:spPr>
            <a:xfrm flipH="1">
              <a:off x="5409360" y="3296880"/>
              <a:ext cx="10666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66"/>
            <p:cNvSpPr/>
            <p:nvPr/>
          </p:nvSpPr>
          <p:spPr>
            <a:xfrm flipH="1">
              <a:off x="5714280" y="4477680"/>
              <a:ext cx="76212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67"/>
            <p:cNvSpPr/>
            <p:nvPr/>
          </p:nvSpPr>
          <p:spPr>
            <a:xfrm flipH="1">
              <a:off x="6476760" y="5573880"/>
              <a:ext cx="30456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68"/>
            <p:cNvSpPr/>
            <p:nvPr/>
          </p:nvSpPr>
          <p:spPr>
            <a:xfrm>
              <a:off x="2463480" y="1329480"/>
              <a:ext cx="45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aeaea"/>
                  </a:solidFill>
                  <a:latin typeface="Times New Roman"/>
                </a:rPr>
                <a:t>Формы ознакомительной профориентационной работы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ответственного отношения к выбору професси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понимания профессионального самоопредел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мотива выбо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творческого отношения к труду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важных качеств с учетом потребности обще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ознакомительной профориентационной работы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ссказ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глядная агитац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ъяснени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кскурс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испут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уро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Методы и формы профессиональной ориентации активирующие деятельность учащихся</a:t>
            </a:r>
            <a:endParaRPr b="0" lang="en-US" sz="2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ндивидуальные зад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ечера техни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дели технолог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нкурсы «Лучший по професси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ружки технического творчест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лубы будущих специалистов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изучения личности школьник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кетиров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блю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ализ результатов деятельности школьн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общение независимых характеристи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едагогический эксперимен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метод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готовности школьника к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ределение свойств личности, её способностей и наклонност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у школьников качеств, необходимых для всех профессий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) Трудолюб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) Дисциплинир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) Организ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учение профессий и их психофизиологические особен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писок литературы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иреев В.И. Профессиональная ориентация учащихся.- м, 199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щицкая Е.Н. Выбирайте профессию .- м, 1991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аров В.Ф. Профессиональная ориентация школьников. – м, 200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моненко В.Д. Профессиональная ориентация школьников.- м, 1994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истякова С.Н. Основы профессиональной ориентации школьников. – м, 1990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33:55Z</dcterms:modified>
  <cp:revision>12</cp:revision>
  <dc:subject/>
  <dc:title>PowerPoint Presentation</dc:title>
</cp:coreProperties>
</file>