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340-BB1F-430E-82E8-DA4A0B79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D93-A259-4231-AEDF-786D41F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79F-9007-4088-B1DE-9C17FFA6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8AC-A440-485B-B621-546F5068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1F79-C5C6-4417-B1FA-A27518CD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3E25-B836-4C6B-A5DD-4A1ADE98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F769-1D85-458B-985F-45B58425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AC5-BB88-4A8A-ABA2-3547B02A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84B-4E5D-4430-AA8E-2B68FD86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4BFE-EF34-4E2C-8ADC-71CEDB8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386-1291-4DC0-8E55-06CB5F87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173-4839-453E-B42B-29A178C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253-5F00-45E9-BD47-07080B81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5CCD-50C8-4F4D-B8BB-A6E0A94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95F0-A327-49D3-9605-476005E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1C91-AE6D-4FF9-BE40-FDBB5E71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5CB0-BF82-41E4-94D9-BFB1B9E0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365-38AB-4B0C-A16D-E680B5C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82E-219F-445D-815C-2C80476F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8D3-E659-4093-8F20-24A4BD19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C19-F022-44F5-BF6A-75D2F4C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19A-EDDD-4056-94D3-2C3A98C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C44-FA43-45DF-A971-2DC70C4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529-4EA4-4817-8A93-6020B774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F5FA-D7E1-44C3-8E0E-E4754E8239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F150-33AB-4B3B-9562-0E311B50A9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МОУ «Гусиноозёрская гимназия»</a:t>
            </a:r>
            <a:br>
              <a:rPr sz="1400"/>
            </a:br>
            <a:br>
              <a:rPr sz="4000"/>
            </a:b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Научно – исследовательская работа </a:t>
            </a:r>
            <a:br>
              <a:rPr sz="2800"/>
            </a:b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«Кто ты наш читатель?»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24000" y="3141720"/>
            <a:ext cx="341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11 «а» класса Шевкунова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учный руководител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асильева Г.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4321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ть значимость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ледить ситуацию в современном состоянии чтения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сти анкетирование 5, 7, 9, 11 клас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явить результ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2781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етагур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деж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мё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Школьный библиотекар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4967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Основные показател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исло читателей -  55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посещений -  600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книговыдач – 1132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ой фонд – 10142 экземпля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ый фонд – 222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Справочный фонд библиотеки: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ниверсальные энциклопедии и справочники для всех возрас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вейшие энциклопедии и справочники по всем отраслям зн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ковые и языковые слов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91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Периодика – издания для учащихс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ирный следоп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круг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чего и поч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ская газ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ный жур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ская школьная акаде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ный эруд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ре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шу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онерская прав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р тех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оль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Виды деятельности библиотек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Проект «Эстетическое восприятие мира», 2003-2008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тературно-музыкальные гости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и кн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речи с интересными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и на художественные вы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Организация научно-исследовательск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Чтение современных школьник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Книга и компьютер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Мероприятия библиоте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ие в конкурсах «Библиобраз 1», «Библиобраз 2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рамма «Эстетическое восприятие мира» (совместно с центральной поселенческой библиотекой) – с 2003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дение обсуждений книг, читательских конференций, бесед, обзоров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16360" y="1978200"/>
            <a:ext cx="4032360" cy="3392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4176720" cy="353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 rot="21187200">
            <a:off x="755280" y="333000"/>
            <a:ext cx="460548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>
                    <a:alpha val="9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за  рабо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>
                  <a:alpha val="9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08:00:40Z</dcterms:created>
  <dc:creator>OEM</dc:creator>
  <dc:description/>
  <dc:language>en-US</dc:language>
  <cp:lastModifiedBy>Гимназия</cp:lastModifiedBy>
  <dcterms:modified xsi:type="dcterms:W3CDTF">2009-01-29T07:22:00Z</dcterms:modified>
  <cp:revision>18</cp:revision>
  <dc:subject/>
  <dc:title>БИБЛИОТЕКА</dc:title>
</cp:coreProperties>
</file>