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B52-68DD-436B-832A-FA0F91BE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E58-291E-4694-96F2-03450C48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81D-72AF-4148-BE17-7FF63B5B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01F-E6F2-46B0-9353-889342F6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6887-BF39-4B84-AA1E-1BBF5CE4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552B-F96A-4D0C-B78C-D8709086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88AF-376C-47A5-A6E8-4AD571BF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898F-A6D6-4822-B72D-9D059016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419B-FCC2-4B60-9453-BB245C0A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2373-DC14-41DC-A35B-5F42DBE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9C5F-3883-4D88-A5B0-5FADF30C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7E6-902E-4688-BAAC-7146AC9F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B6DF-F443-4749-A8CB-95FF0D3D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208D-A750-4BD0-A27D-2590925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A12C-9A0B-4EFF-8A58-1EF8B122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783-1C70-4920-97E8-3E2F3111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6372-45F5-4FE8-B3A0-95E4794B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1D4-F33A-484E-B426-65C16D82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928-4A5E-4569-B22F-87E9F39A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9CC-9598-4C15-BF2D-1719F0E6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F1A-E3C7-49C7-9098-2F9F17D2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F9D-37D7-49D0-BE8B-10AEF6A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6E5-682B-418F-B89B-BBF7669E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33F-7187-4DEE-8DE8-E5E907A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53F7-1E87-4C81-833B-9E0D3736A5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0DE2-47D6-4C00-BAE7-70C9113EF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МОУ «Гусиноозёрская гимназия»</a:t>
            </a:r>
            <a:br>
              <a:rPr sz="1400"/>
            </a:br>
            <a:br>
              <a:rPr sz="4000"/>
            </a:b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Научно – исследовательская работа </a:t>
            </a:r>
            <a:br>
              <a:rPr sz="2800"/>
            </a:b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«Кто ты наш читатель?»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24000" y="3141720"/>
            <a:ext cx="341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ца11 «а» класса Шевкунова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аучный руководитель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асильева Г.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4321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ть значимость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следить ситуацию в современном состоянии чтения 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сти анкетирование 5, 7, 9, 11 клас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явить результ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2781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етагур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деж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емён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Школьный библиотекар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4967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Основные показател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исло читателей -  55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о посещений -  600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о книговыдач – 1132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ой фонд – 10142 экземпля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ый фонд – 222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Справочный фонд библиотеки: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ниверсальные энциклопедии и справочники для всех возрас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вейшие энциклопедии и справочники по всем отраслям зна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ковые и языковые слов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91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Периодика – издания для учащихс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мирный следоп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круг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чего и поч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ская газ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ный журн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ская школьная акаде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ный эруд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ре 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шу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онерская прав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р тех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коль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Виды деятельности библиотек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Проект «Эстетическое восприятие мира», 2003-2008г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тературно-музыкальные гости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ции кни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тречи с интересными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ктор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курсии на художественные вы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Организация научно-исследовательской деятель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Чтение современных школьников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Книга и компьютер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Мероприятия библиоте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ие в конкурсах «Библиобраз 1», «Библиобраз 2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рамма «Эстетическое восприятие мира» (совместно с центральной поселенческой библиотекой) – с 2003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дение обсуждений книг, читательских конференций, бесед, обзоров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716360" y="1978200"/>
            <a:ext cx="4032360" cy="3392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4176720" cy="3533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 rot="21187200">
            <a:off x="755280" y="333000"/>
            <a:ext cx="4605480" cy="17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>
                    <a:alpha val="9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за  работ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>
                  <a:alpha val="9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08:00:40Z</dcterms:created>
  <dc:creator>OEM</dc:creator>
  <dc:description/>
  <dc:language>en-US</dc:language>
  <cp:lastModifiedBy>Гимназия</cp:lastModifiedBy>
  <dcterms:modified xsi:type="dcterms:W3CDTF">2009-01-29T07:22:00Z</dcterms:modified>
  <cp:revision>18</cp:revision>
  <dc:subject/>
  <dc:title>БИБЛИОТЕКА</dc:title>
</cp:coreProperties>
</file>