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ADED-A9F6-452F-9516-FD11A695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B7E-C1CF-4683-800C-B7BF0AA0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52F-8F19-4C6A-81B9-081E6A79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B4B9-D2C6-4695-974A-1F996F3F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6A1F-4152-4C2F-A2EB-57241B81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B656-133A-4ED6-B182-66F9637D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59BD-0A16-4E70-8295-6AF08674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7B35-C55B-45B4-B617-937F8CD2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1EC4-7541-4901-B2B1-A4E51912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C5AA-67D6-46C4-BF26-B4BDC829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BE40-85D9-4FD8-88CD-9E6F9DD6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7E0-8FC8-43BE-B8AF-1E9B14C7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F2CC-2B13-45C6-8BC2-804D30E5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03D2-C1D4-42E4-8BB4-ED9C7D8F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0C80-F595-4033-AA7A-10ADDB64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AAFB-9225-411E-8548-C5808FEF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E43C-B40C-46DB-B623-89E86875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FA9-29A9-48C0-9B46-2F245B09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01A-263A-4AA8-B1DE-53621FCF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126-64C7-481E-AEAB-0D2AA544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6EC-ACB7-4917-BE6D-C1030E02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7FC-F51D-42AA-BF39-8810774F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033A-8A38-4EEF-A82D-3C72935B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11A-0806-46E9-A7E3-3769785B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2253-02BD-41A4-A364-FFA6F613CF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1E90-230A-49DF-86C1-FF5F6522F4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3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МОУ «Гусиноозёрская гимназия»</a:t>
            </a:r>
            <a:br>
              <a:rPr sz="1400"/>
            </a:br>
            <a:br>
              <a:rPr sz="4000"/>
            </a:b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Научно – исследовательская работа </a:t>
            </a:r>
            <a:br>
              <a:rPr sz="2800"/>
            </a:b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«Кто ты наш читатель?»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24000" y="3141720"/>
            <a:ext cx="3419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ца11 «а» класса Шевкунова 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Научный руководитель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асильева Г.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432108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следовать значимость пробл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следить ситуацию в современном состоянии чтения учащих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сти анкетирование 5, 7, 9, 11 клас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явить результа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68360" y="2781360"/>
            <a:ext cx="28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Хетагуро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деж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емён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Школьный библиотекарь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708360" y="2133720"/>
            <a:ext cx="49672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Основные показател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исло читателей -  55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ичество посещений -  600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ичество книговыдач – 1132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новной фонд – 10142 экземпля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бный фонд – 222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Справочный фонд библиотеки:</a:t>
            </a: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ниверсальные энциклопедии и справочники для всех возрас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вейшие энциклопедии и справочники по всем отраслям зна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лковые и языковые слова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1912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Периодика – издания для учащихся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емирный следопы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круг с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чего и поче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тская газ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лассный журн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тская школьная академ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Юный эруд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мире 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ишу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онерская прав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ир тех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коль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Виды деятельности библиотек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Проект «Эстетическое восприятие мира», 2003-2008г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тературно-музыкальные гости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зентации кни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тречи с интересными люд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ктор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скурсии на художественные выст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Организация научно-исследовательской деятельно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Чтение современных школьников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Книга и компьютер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Мероприятия библиотек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стие в конкурсах «Библиобраз 1», «Библиобраз 2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грамма «Эстетическое восприятие мира» (совместно с центральной поселенческой библиотекой) – с 2003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ведение обсуждений книг, читательских конференций, бесед, обзоров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716360" y="1978200"/>
            <a:ext cx="4032360" cy="3392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95280" y="2781360"/>
            <a:ext cx="4176720" cy="3533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 rot="21187200">
            <a:off x="755280" y="333000"/>
            <a:ext cx="4605480" cy="17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>
                    <a:alpha val="90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за  работ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>
                  <a:alpha val="90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08:00:40Z</dcterms:created>
  <dc:creator>OEM</dc:creator>
  <dc:description/>
  <dc:language>en-US</dc:language>
  <cp:lastModifiedBy>Гимназия</cp:lastModifiedBy>
  <dcterms:modified xsi:type="dcterms:W3CDTF">2009-01-29T07:22:00Z</dcterms:modified>
  <cp:revision>18</cp:revision>
  <dc:subject/>
  <dc:title>БИБЛИОТЕКА</dc:title>
</cp:coreProperties>
</file>