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54.gif" ContentType="image/gif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png" ContentType="image/png"/>
  <Override PartName="/ppt/media/image37.png" ContentType="image/png"/>
  <Override PartName="/ppt/media/image48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52.gif" ContentType="image/gif"/>
  <Override PartName="/ppt/media/image45.png" ContentType="image/png"/>
  <Override PartName="/ppt/media/image46.jpeg" ContentType="image/jpeg"/>
  <Override PartName="/ppt/media/image50.jpeg" ContentType="image/jpeg"/>
  <Override PartName="/ppt/media/image13.png" ContentType="image/png"/>
  <Override PartName="/ppt/media/image51.png" ContentType="image/png"/>
  <Override PartName="/ppt/media/image53.png" ContentType="image/png"/>
  <Override PartName="/ppt/media/image31.png" ContentType="image/png"/>
  <Override PartName="/ppt/media/image6.png" ContentType="image/png"/>
  <Override PartName="/ppt/media/image30.jpeg" ContentType="image/jpeg"/>
  <Override PartName="/ppt/media/image7.wmf" ContentType="image/x-wmf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8.wmf" ContentType="image/x-wmf"/>
  <Override PartName="/ppt/media/image40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7BB-504A-445D-B1BD-4DA6B2B4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D5E-5D04-4BD4-9B0C-B1632897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35E-B921-4910-B8F9-15508B65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1CA-5C91-496F-B8DB-FBDEF2DF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4108-29FE-4A3D-A249-A86881A5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C888-5864-4CB1-ADBD-2D263EE6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29FB-4AA9-406D-A2C9-35D8D19B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B8F5-4B3E-4F4A-A1FC-7ECC7867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B48E-8D75-41E7-BD4A-99CCD584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042B-AE24-43B4-9E0D-16AE29D8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75B2-C48A-4DB7-8B64-F84B3EB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CF0-1A1F-401F-8666-8880B230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9F88-F458-4DAC-9464-1F17F06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F7E1-C265-41D3-9CD4-78373EA7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145A-165B-4BDC-B398-6BE5DA36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387F-20EF-441D-8192-FDAE8E31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F35E-5125-4BEC-AC2C-DE3EB679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427B-1876-4AE9-9111-D1E089D4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4960-F0A4-4402-BC9B-86B0C6E7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3C113-B658-48B7-810A-7D88E7A2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B357-FBBC-418D-B3C5-B48A8C39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D7C8-446D-4261-820C-18FFB897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7BC-7442-4D2E-9328-8429A236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A519-94F2-4303-9514-FF8F9352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8AAEB-FFF3-4D32-B395-99D5D9B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E9D8D-B09A-4F6F-82E3-A889B2E8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612B-BF9D-44B6-B9ED-5E826708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0F55-D7B5-4661-94C3-22AF4F68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2020-F2C7-402D-BC62-753A7348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0D5F-47C9-4799-8D13-478B3051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8392-940C-4581-B667-04DD46C2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7CF6A-B355-48FB-B8E5-07FCE3B2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109B6-0CE0-4B74-ACD6-7808E7D5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841-4FDD-4E2A-B6D6-F2D0DD96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9501-6A84-4FC6-821E-AEE982A6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A3C9C-E99D-4454-873C-313D6227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CB31F-14AF-419D-ACC1-41FF1F09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27E0-D3A2-4FB8-8A28-3285AFA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32BA-13A2-4146-A563-5C000A9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A10E-31CD-47B8-891B-0BF94F87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0993-A8DB-4484-BB24-4BEF76E0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9326-D9FF-40E2-9ED2-D328C1A6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3442F-FF0A-4C8A-BB5E-9EA415FE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E83E2-2374-4FAD-ABB5-F868132E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BD4-32BD-40BB-A1CE-236F4EC1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D384-84D0-4FB8-B0F2-45B212A0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59316-6D90-46F7-9842-A2AA5769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0C0A9-982E-41D2-87F6-3F8E33D6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4BDF-EB54-4343-AE67-374A748E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1F7F-4543-48AD-B2DB-4ECD2B0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84D5C-2F88-42BD-B90F-F0B51100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B576E-9D36-449B-8485-F29F2AE8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917D-EBA9-42AB-84D3-C9A3B43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25E44-C32F-4C2D-AA1F-F8DD986C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699A6-FE1F-4679-8C7B-0B17E2CC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5FC-9D06-4625-9EB4-812B2D65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585DA-8423-4AE9-921C-3F02DEB0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B75-90DC-4B88-BB06-AE80A5A2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FEE-C3DC-4631-82AE-31DA14E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62E-9D5C-4EF8-B85E-DCF68CF8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5165-E802-4773-B9CB-C9D4B366BA8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2816-B988-451C-B86C-329851449B6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F0C0-3CAA-484B-ABB9-F83ED7AF505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DC66-A7FB-4CD7-8908-3BA7589DFDC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105B-19C6-4E33-BB1C-55F5AEF88F6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menovschool3-nn.edusite.ru/DswMedia/russkoyrechigosudar-poprozvaniyuslovar-2klass.docx" TargetMode="External"/><Relationship Id="rId3" Type="http://schemas.openxmlformats.org/officeDocument/2006/relationships/hyperlink" Target="http://langbibl-media5.ucoz.ru/index/russkoj_rechi_gosudar_po_prozvaniju_slovar/0-59" TargetMode="External"/><Relationship Id="rId4" Type="http://schemas.openxmlformats.org/officeDocument/2006/relationships/hyperlink" Target="http://www.uchportal.ru/load/32-1-0-10332" TargetMode="External"/><Relationship Id="rId5" Type="http://schemas.openxmlformats.org/officeDocument/2006/relationships/hyperlink" Target="http://www.audiobooks.ua/en/russian_study/slovar_trudnostei_russkogo_yazyka-25977.html" TargetMode="External"/><Relationship Id="rId6" Type="http://schemas.openxmlformats.org/officeDocument/2006/relationships/hyperlink" Target="http://www.dom-knigi.ru/book.asp?Art=283879&amp;CatalogID=16" TargetMode="External"/><Relationship Id="rId7" Type="http://schemas.openxmlformats.org/officeDocument/2006/relationships/hyperlink" Target="http://downloadzzle.ru/pomosh/grammatiko-orfograficheskiy-slovar.html" TargetMode="External"/><Relationship Id="rId8" Type="http://schemas.openxmlformats.org/officeDocument/2006/relationships/hyperlink" Target="http://downloadzzle.ru/vrach/shkolniy-slovar-inostrannih-slov-ivanova.html" TargetMode="External"/><Relationship Id="rId9" Type="http://schemas.openxmlformats.org/officeDocument/2006/relationships/hyperlink" Target="http://www.goodreads.ru/books/1754504/default.aspx" TargetMode="External"/><Relationship Id="rId10" Type="http://schemas.openxmlformats.org/officeDocument/2006/relationships/hyperlink" Target="http://www.goodreads.ru/books/1754504/default.aspx" TargetMode="External"/><Relationship Id="rId11" Type="http://schemas.openxmlformats.org/officeDocument/2006/relationships/hyperlink" Target="http://www.goodreads.ru/books/1754504/default.aspx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2"/>
          <a:stretch/>
        </p:blipFill>
        <p:spPr>
          <a:xfrm>
            <a:off x="689040" y="1066680"/>
            <a:ext cx="8192880" cy="2840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3152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Урок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русского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языка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в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onstantia"/>
              </a:rPr>
              <a:t>классе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Автор: учитель русского языка Шарамыгина Е.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БОУ Кисловская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Заголовок 1"/>
          <p:cNvGrpSpPr/>
          <p:nvPr/>
        </p:nvGrpSpPr>
        <p:grpSpPr>
          <a:xfrm>
            <a:off x="438120" y="390600"/>
            <a:ext cx="8261280" cy="1474560"/>
            <a:chOff x="438120" y="390600"/>
            <a:chExt cx="8261280" cy="1474560"/>
          </a:xfrm>
        </p:grpSpPr>
        <p:pic>
          <p:nvPicPr>
            <p:cNvPr id="30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38120" y="390600"/>
              <a:ext cx="826128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7200" y="404640"/>
              <a:ext cx="8229600" cy="14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70c0"/>
                  </a:solidFill>
                  <a:latin typeface="Constantia"/>
                </a:rPr>
                <a:t>Слова с прямым и переносным значением</a:t>
              </a:r>
              <a:endParaRPr b="1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428760" y="25718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Жгучий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-ая, -е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; жгуч.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Такой, который жжет, вызывает ощущение жжения.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Жгучие лучи солнца. Ж. мороз. Жгучая боль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также вообще о сильной боли)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перен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Сильно переживаемый, острый.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Ж. стыд. Жгучее любопытство. Ж. вопрос (очень злободневный)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Заголовок 1"/>
          <p:cNvGrpSpPr/>
          <p:nvPr/>
        </p:nvGrpSpPr>
        <p:grpSpPr>
          <a:xfrm>
            <a:off x="182520" y="-30240"/>
            <a:ext cx="9101160" cy="1865520"/>
            <a:chOff x="182520" y="-30240"/>
            <a:chExt cx="9101160" cy="1865520"/>
          </a:xfrm>
        </p:grpSpPr>
        <p:pic>
          <p:nvPicPr>
            <p:cNvPr id="31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82520" y="-30240"/>
              <a:ext cx="910116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7200" y="333360"/>
              <a:ext cx="82296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nstantia"/>
                </a:rPr>
                <a:t>омонимы</a:t>
              </a:r>
              <a:endParaRPr b="1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Кисть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-и, мн. –и, -ей, ж.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Укрепленный в рукоятке пучок ровных щетинок, волосков для нанесения на поверхность краски, клея, лака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Кисти для акварели, для масла. Малярная к. Картина кисти Репина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написанная Репиным)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Владеть кистью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уметь писать картины).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2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Украшение в виде стянутого вверху и расходящегося книзу пучка ниток, шнурков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Скатерть, кушак с кистями.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Разветвленное соцветие (при созревании его – плоды) на удлиненном стебле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Виноградная 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Кисть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-и, мн. –и, -ей, ж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Часть руки (у животных – передней конечности) от запястья до конца пальцев.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Узкая в кисти ру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Рисунок 3" descr="df348102c40034d3f9974cfcede60628.jpg"/>
          <p:cNvPicPr/>
          <p:nvPr/>
        </p:nvPicPr>
        <p:blipFill>
          <a:blip r:embed="rId3"/>
          <a:stretch/>
        </p:blipFill>
        <p:spPr>
          <a:xfrm>
            <a:off x="1071720" y="5072040"/>
            <a:ext cx="2523960" cy="178596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4" descr="1000971780.jpg"/>
          <p:cNvPicPr/>
          <p:nvPr/>
        </p:nvPicPr>
        <p:blipFill>
          <a:blip r:embed="rId4"/>
          <a:stretch/>
        </p:blipFill>
        <p:spPr>
          <a:xfrm>
            <a:off x="5715000" y="5214960"/>
            <a:ext cx="207180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7030a0"/>
                </a:solidFill>
                <a:latin typeface="Arial Narrow"/>
              </a:rPr>
              <a:t>Толковый словарь живого великорусского язык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9" name="Клип 6" descr="даль.jpg"/>
          <p:cNvPicPr/>
          <p:nvPr/>
        </p:nvPicPr>
        <p:blipFill>
          <a:blip r:embed="rId2"/>
          <a:stretch/>
        </p:blipFill>
        <p:spPr>
          <a:xfrm>
            <a:off x="357120" y="1785960"/>
            <a:ext cx="3857760" cy="4714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071960" y="1714680"/>
            <a:ext cx="4929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 словарь В.И.Даль включил более 200 тысяч слов и 30 тысяч пословиц, которые приводятся в качестве иллюстраций для пояснения значения слов. Даль работал над словарем 47 лет. В нем, кроме слов литературного языка, собраны многие слова местных наречий, говоров (диалектов). Это настоящий подвиг человека, влюбленного в русский язы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8688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Calibri"/>
              </a:rPr>
              <a:t>Словарь  синонимов.</a:t>
            </a:r>
            <a:br>
              <a:rPr sz="4500"/>
            </a:br>
            <a:r>
              <a:rPr b="1" i="1" lang="en-US" sz="4900" spc="-1" strike="noStrike" u="sng">
                <a:solidFill>
                  <a:srgbClr val="5c2e00"/>
                </a:solidFill>
                <a:uFillTx/>
                <a:latin typeface="Bookman Old Style"/>
              </a:rPr>
              <a:t> </a:t>
            </a:r>
            <a:r>
              <a:rPr b="1" i="1" lang="en-US" sz="2400" spc="-1" strike="noStrike" u="sng">
                <a:solidFill>
                  <a:srgbClr val="5c2e00"/>
                </a:solidFill>
                <a:uFillTx/>
                <a:latin typeface="Bookman Old Style"/>
              </a:rPr>
              <a:t>Найти замену слову, да не одну, а даже три? </a:t>
            </a:r>
            <a:br>
              <a:rPr sz="2400"/>
            </a:br>
            <a:r>
              <a:rPr b="1" i="1" lang="en-US" sz="2400" spc="-1" strike="noStrike" u="sng">
                <a:solidFill>
                  <a:srgbClr val="5c2e00"/>
                </a:solidFill>
                <a:uFillTx/>
                <a:latin typeface="Bookman Old Style"/>
              </a:rPr>
              <a:t> Словарь синонимов смотри!</a:t>
            </a:r>
            <a:r>
              <a:rPr b="1" lang="en-US" sz="2400" spc="-1" strike="noStrike">
                <a:solidFill>
                  <a:srgbClr val="496b54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00320" y="1980720"/>
            <a:ext cx="514332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ловарь синонимов содержит ряды синонимов. Он помогает подобрать наиболее удачное слово или словосочетание  для более точного и яркого выражения мысли. Каждая словарная статья представляет собой перечень слов – синонимов, их толкование и примеры из литературно – художественных произведений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инонимы расширяют словарный состав языка, делают его ярче, выразительнее, разнообразне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Клип 6" descr="синонимы.jpg"/>
          <p:cNvPicPr/>
          <p:nvPr/>
        </p:nvPicPr>
        <p:blipFill>
          <a:blip r:embed="rId2"/>
          <a:stretch/>
        </p:blipFill>
        <p:spPr>
          <a:xfrm>
            <a:off x="428760" y="2000160"/>
            <a:ext cx="35002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6" descr=""/>
          <p:cNvPicPr/>
          <p:nvPr/>
        </p:nvPicPr>
        <p:blipFill>
          <a:blip r:embed="rId2"/>
          <a:stretch/>
        </p:blipFill>
        <p:spPr>
          <a:xfrm>
            <a:off x="152280" y="706320"/>
            <a:ext cx="8918640" cy="602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Заголовок 1"/>
          <p:cNvGrpSpPr/>
          <p:nvPr/>
        </p:nvGrpSpPr>
        <p:grpSpPr>
          <a:xfrm>
            <a:off x="566640" y="536400"/>
            <a:ext cx="7918560" cy="1541520"/>
            <a:chOff x="566640" y="536400"/>
            <a:chExt cx="7918560" cy="1541520"/>
          </a:xfrm>
        </p:grpSpPr>
        <p:pic>
          <p:nvPicPr>
            <p:cNvPr id="32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566640" y="536400"/>
              <a:ext cx="791856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642960" y="571680"/>
              <a:ext cx="7772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70c0"/>
                  </a:solidFill>
                  <a:latin typeface="Constantia"/>
                </a:rPr>
                <a:t>Словарь антонимов.</a:t>
              </a:r>
              <a:endParaRPr b="1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Клип 4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600360" cy="4321080"/>
          </a:xfrm>
          <a:prstGeom prst="rect">
            <a:avLst/>
          </a:prstGeom>
          <a:ln w="57240">
            <a:solidFill>
              <a:srgbClr val="55a839"/>
            </a:solidFill>
            <a:miter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Словарь антонимов русского языка среди других словарей занимает важное место. Он помогает подобрать слова с противоположными значениями,                    найти образное противопоставление, «схватить» полярные проявления того или иного свойства, кач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Короткий, краткий – долгий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Непродолжительный, малый по времени. – длительный, продолжительны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Каждая минута этих д о л г и х и вместе с тем к о р о т к и х двадцати восьми дней должна быть борьбой за то, чтобы стать человеком.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.Н.Полевой Повесть о настоящем человек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Этимологический словарь</a:t>
            </a:r>
            <a:br>
              <a:rPr sz="45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Цель – дать сведения о происхождении слова, его пути в язык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71960" y="1676520"/>
            <a:ext cx="4929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алисадник. Собств.русс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Является суффиксальным производным от палисад- «забор, изгородь, частокол»-нем.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palissade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, передающего в свою очередь франц. 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palissade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«частокол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4" name="Клип 5" descr="этимол.jpg"/>
          <p:cNvPicPr/>
          <p:nvPr/>
        </p:nvPicPr>
        <p:blipFill>
          <a:blip r:embed="rId2"/>
          <a:stretch/>
        </p:blipFill>
        <p:spPr>
          <a:xfrm>
            <a:off x="357120" y="1928880"/>
            <a:ext cx="328608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8" descr=""/>
          <p:cNvPicPr/>
          <p:nvPr/>
        </p:nvPicPr>
        <p:blipFill>
          <a:blip r:embed="rId2"/>
          <a:stretch/>
        </p:blipFill>
        <p:spPr>
          <a:xfrm>
            <a:off x="152280" y="360360"/>
            <a:ext cx="8918640" cy="594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DejaVu Serif Condensed"/>
              </a:rPr>
              <a:t>Словарь устаревших слов.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7" name="Клип 4" descr="устар.jpg"/>
          <p:cNvPicPr/>
          <p:nvPr/>
        </p:nvPicPr>
        <p:blipFill>
          <a:blip r:embed="rId2"/>
          <a:stretch/>
        </p:blipFill>
        <p:spPr>
          <a:xfrm>
            <a:off x="395280" y="1700280"/>
            <a:ext cx="3214800" cy="42861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571560" y="1500120"/>
            <a:ext cx="5429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В словарь включены историзмы и архаизмы,  представлены некоторые устаревшие фразеологические обороты, формы вежливого обращения, названия должностей. В словаре раскрываются значения этих слов, дается их грамматическая и стилистическая характеристика, на примерах-иллюстрациях показано, как они функционировали в речи. Многие словарные статьи сопровождаются рисунками, дающими возможность реально представить предметы, называемые тем или иным слово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Calibri"/>
              </a:rPr>
              <a:t>Цель урока</a:t>
            </a:r>
            <a:r>
              <a:rPr b="0" lang="ru-RU" sz="50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3857400"/>
            <a:ext cx="777240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знакомить учащихся с различными групп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оварей и их назнач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ировать умения работать со словар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6" descr="an00790_"/>
          <p:cNvPicPr/>
          <p:nvPr/>
        </p:nvPicPr>
        <p:blipFill>
          <a:blip r:embed="rId2"/>
          <a:stretch/>
        </p:blipFill>
        <p:spPr>
          <a:xfrm>
            <a:off x="5286240" y="428760"/>
            <a:ext cx="292284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4" descr=""/>
          <p:cNvPicPr/>
          <p:nvPr/>
        </p:nvPicPr>
        <p:blipFill>
          <a:blip r:embed="rId2"/>
          <a:stretch/>
        </p:blipFill>
        <p:spPr>
          <a:xfrm>
            <a:off x="182520" y="219240"/>
            <a:ext cx="885816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Rectangle 2"/>
          <p:cNvGrpSpPr/>
          <p:nvPr/>
        </p:nvGrpSpPr>
        <p:grpSpPr>
          <a:xfrm>
            <a:off x="438120" y="103320"/>
            <a:ext cx="8663040" cy="2334960"/>
            <a:chOff x="438120" y="103320"/>
            <a:chExt cx="8663040" cy="2334960"/>
          </a:xfrm>
        </p:grpSpPr>
        <p:pic>
          <p:nvPicPr>
            <p:cNvPr id="341" name="Rectangle 2" descr=""/>
            <p:cNvPicPr/>
            <p:nvPr/>
          </p:nvPicPr>
          <p:blipFill>
            <a:blip r:embed="rId2"/>
            <a:stretch/>
          </p:blipFill>
          <p:spPr>
            <a:xfrm>
              <a:off x="438120" y="103320"/>
              <a:ext cx="8663040" cy="23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85800" y="357120"/>
              <a:ext cx="77724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70c0"/>
                  </a:solidFill>
                  <a:latin typeface="Calibri"/>
                </a:rPr>
                <a:t>Фразеологический словарь.</a:t>
              </a:r>
              <a:br>
                <a:rPr sz="4500"/>
              </a:br>
              <a:r>
                <a:rPr b="1" lang="en-US" sz="2800" spc="-1" strike="noStrike">
                  <a:solidFill>
                    <a:srgbClr val="0070c0"/>
                  </a:solidFill>
                  <a:latin typeface="Calibri"/>
                </a:rPr>
                <a:t>Цель – дать сведения об устойчивых оборотах, об их происхождении и употреблении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071600" y="1785960"/>
            <a:ext cx="5072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чертя голову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не думая, не рассуждая, безрассудно. -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х, маменька! Маменька! И как это вы, друг мой, так, очертя голову, действовали!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лтыков-Щедрин «Господа Головлевы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Клип 6" descr=""/>
          <p:cNvPicPr/>
          <p:nvPr/>
        </p:nvPicPr>
        <p:blipFill>
          <a:blip r:embed="rId3"/>
          <a:stretch/>
        </p:blipFill>
        <p:spPr>
          <a:xfrm>
            <a:off x="947880" y="1989000"/>
            <a:ext cx="271116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Словарь иностранных слов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700280"/>
            <a:ext cx="43876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В словаре иностранных слов содержится около 3 000 иностранных слов, вошедших в русский язык из других языков мира. В словарных статьях содержатся краткая справка о происхождении слов, их перевод и толкование. Завершает словарь обширный раздел иностранных выражений - крылатых фраз и знаменитых цитат на языке оригинала с пояснением на русском язык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Клип 6" descr=""/>
          <p:cNvPicPr/>
          <p:nvPr/>
        </p:nvPicPr>
        <p:blipFill>
          <a:blip r:embed="rId2"/>
          <a:stretch/>
        </p:blipFill>
        <p:spPr>
          <a:xfrm>
            <a:off x="669960" y="1700280"/>
            <a:ext cx="3773520" cy="4670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4"/>
          <p:cNvSpPr/>
          <p:nvPr/>
        </p:nvSpPr>
        <p:spPr>
          <a:xfrm>
            <a:off x="1714680" y="1658880"/>
            <a:ext cx="58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ебарда(фр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allebarde)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инное холодное оружие в виде длинного копья с топориком или секирой различной формы на ко</a:t>
            </a:r>
            <a:r>
              <a:rPr b="1" lang="ru-RU" sz="3200" spc="-1" strike="noStrike">
                <a:solidFill>
                  <a:srgbClr val="000000"/>
                </a:solidFill>
                <a:latin typeface="Palatino Linotype"/>
              </a:rPr>
              <a:t>нц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Rectangle 2"/>
          <p:cNvGrpSpPr/>
          <p:nvPr/>
        </p:nvGrpSpPr>
        <p:grpSpPr>
          <a:xfrm>
            <a:off x="-133200" y="304920"/>
            <a:ext cx="8948520" cy="1657080"/>
            <a:chOff x="-133200" y="304920"/>
            <a:chExt cx="8948520" cy="1657080"/>
          </a:xfrm>
        </p:grpSpPr>
        <p:pic>
          <p:nvPicPr>
            <p:cNvPr id="350" name="Rectangle 2" descr=""/>
            <p:cNvPicPr/>
            <p:nvPr/>
          </p:nvPicPr>
          <p:blipFill>
            <a:blip r:embed="rId2"/>
            <a:stretch/>
          </p:blipFill>
          <p:spPr>
            <a:xfrm>
              <a:off x="-133200" y="304920"/>
              <a:ext cx="894852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Орфоэпический</a:t>
              </a: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словарь</a:t>
              </a:r>
              <a:r>
                <a:rPr b="1" lang="en-US" sz="4500" spc="-1" strike="noStrike">
                  <a:solidFill>
                    <a:srgbClr val="ff0000"/>
                  </a:solidFill>
                  <a:latin typeface="Calibri"/>
                </a:rPr>
                <a:t>.</a:t>
              </a:r>
              <a:br>
                <a:rPr sz="4500"/>
              </a:br>
              <a:r>
                <a:rPr b="1" lang="en-US" sz="2400" spc="-1" strike="noStrike">
                  <a:solidFill>
                    <a:srgbClr val="7030a0"/>
                  </a:solidFill>
                  <a:latin typeface="Calibri"/>
                </a:rPr>
                <a:t>Цель – дать сведения о правильном произношении слова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647960" y="2438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расивый,-ая,-ое, краткая форма-красив, красива, сравнительная степень - красивее. !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еправильно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красиве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Прямая соединительная линия 9"/>
          <p:cNvSpPr/>
          <p:nvPr/>
        </p:nvSpPr>
        <p:spPr>
          <a:xfrm flipH="1">
            <a:off x="5857920" y="2500200"/>
            <a:ext cx="71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ая соединительная линия 11"/>
          <p:cNvSpPr/>
          <p:nvPr/>
        </p:nvSpPr>
        <p:spPr>
          <a:xfrm flipH="1">
            <a:off x="6000840" y="4071960"/>
            <a:ext cx="71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ая соединительная линия 14"/>
          <p:cNvSpPr/>
          <p:nvPr/>
        </p:nvSpPr>
        <p:spPr>
          <a:xfrm flipH="1">
            <a:off x="6214680" y="4857840"/>
            <a:ext cx="7164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ая соединительная линия 17"/>
          <p:cNvSpPr/>
          <p:nvPr/>
        </p:nvSpPr>
        <p:spPr>
          <a:xfrm flipH="1">
            <a:off x="5857920" y="3286080"/>
            <a:ext cx="7128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Клип 12" descr=""/>
          <p:cNvPicPr/>
          <p:nvPr/>
        </p:nvPicPr>
        <p:blipFill>
          <a:blip r:embed="rId3"/>
          <a:stretch/>
        </p:blipFill>
        <p:spPr>
          <a:xfrm>
            <a:off x="609480" y="1785960"/>
            <a:ext cx="40719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Заголовок 8"/>
          <p:cNvGrpSpPr/>
          <p:nvPr/>
        </p:nvGrpSpPr>
        <p:grpSpPr>
          <a:xfrm>
            <a:off x="384120" y="-79200"/>
            <a:ext cx="8369280" cy="1968480"/>
            <a:chOff x="384120" y="-79200"/>
            <a:chExt cx="8369280" cy="1968480"/>
          </a:xfrm>
        </p:grpSpPr>
        <p:pic>
          <p:nvPicPr>
            <p:cNvPr id="359" name="Заголовок 8" descr=""/>
            <p:cNvPicPr/>
            <p:nvPr/>
          </p:nvPicPr>
          <p:blipFill>
            <a:blip r:embed="rId2"/>
            <a:stretch/>
          </p:blipFill>
          <p:spPr>
            <a:xfrm>
              <a:off x="384120" y="-79200"/>
              <a:ext cx="83692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85800" y="0"/>
              <a:ext cx="7772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030a0"/>
                  </a:solidFill>
                  <a:latin typeface="Bookman Old Style"/>
                </a:rPr>
                <a:t>Орфографические словари.</a:t>
              </a:r>
              <a:br>
                <a:rPr sz="4500"/>
              </a:b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Цель – дать сведения о правильном написании слова.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Клип 11" descr=""/>
          <p:cNvPicPr/>
          <p:nvPr/>
        </p:nvPicPr>
        <p:blipFill>
          <a:blip r:embed="rId3"/>
          <a:stretch/>
        </p:blipFill>
        <p:spPr>
          <a:xfrm>
            <a:off x="714240" y="2023920"/>
            <a:ext cx="3357720" cy="4095720"/>
          </a:xfrm>
          <a:prstGeom prst="rect">
            <a:avLst/>
          </a:prstGeom>
          <a:ln w="38160">
            <a:solidFill>
              <a:srgbClr val="0b5395"/>
            </a:solidFill>
            <a:miter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ирект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ириж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искусс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блест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брокачествен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верх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 завт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кумен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носчи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Заголовок 1"/>
          <p:cNvGrpSpPr/>
          <p:nvPr/>
        </p:nvGrpSpPr>
        <p:grpSpPr>
          <a:xfrm>
            <a:off x="334800" y="-414360"/>
            <a:ext cx="8255160" cy="2492280"/>
            <a:chOff x="334800" y="-414360"/>
            <a:chExt cx="8255160" cy="2492280"/>
          </a:xfrm>
        </p:grpSpPr>
        <p:pic>
          <p:nvPicPr>
            <p:cNvPr id="36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34800" y="-414360"/>
              <a:ext cx="825516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71680" y="642960"/>
              <a:ext cx="77724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b5395"/>
                  </a:solidFill>
                  <a:latin typeface="Calibri"/>
                </a:rPr>
                <a:t>Словообразовательный словарь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Клип 4" descr="словообр.jpg"/>
          <p:cNvPicPr/>
          <p:nvPr/>
        </p:nvPicPr>
        <p:blipFill>
          <a:blip r:embed="rId3"/>
          <a:stretch/>
        </p:blipFill>
        <p:spPr>
          <a:xfrm>
            <a:off x="214200" y="1773360"/>
            <a:ext cx="3421080" cy="47988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714480" y="1785600"/>
            <a:ext cx="5143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2e00"/>
                </a:solidFill>
                <a:latin typeface="Palatino Linotype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ловообразовательный словарь даёт сведения о том, как образуются слова в русском языке. Слова в языке очень разнообразны по структуре. Слова, кроме корня,  могут включать в себя и приставку, и суффикс, и окончание.  Словарь показывает структуру слова, элементы, из которых оно состои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словарной статье можно найти толкование некоторых непонятных слов, интересные факты, связанные как со словообразованием, так и с историей возникновения и употребления слов в русском язык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214200" y="-6660720"/>
            <a:ext cx="71280" cy="7175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860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рх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357280" y="404280"/>
            <a:ext cx="6678720" cy="5843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уш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а       верх –ушеч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ш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и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а       верш –ин –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 -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м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- вер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– 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 – 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– 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– верх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– 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– вер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– вер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х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гляд     верх – о – гляд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тв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ш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ть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верш – и – ть     за – верш –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71" name="Прямая со стрелкой 16"/>
          <p:cNvCxnSpPr/>
          <p:nvPr/>
        </p:nvCxnSpPr>
        <p:spPr>
          <a:xfrm>
            <a:off x="1571400" y="2714760"/>
            <a:ext cx="57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Прямая соединительная линия 18"/>
          <p:cNvSpPr/>
          <p:nvPr/>
        </p:nvSpPr>
        <p:spPr>
          <a:xfrm>
            <a:off x="2357280" y="857160"/>
            <a:ext cx="0" cy="45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Прямая со стрелкой 13"/>
          <p:cNvCxnSpPr/>
          <p:nvPr/>
        </p:nvCxnSpPr>
        <p:spPr>
          <a:xfrm>
            <a:off x="4857840" y="620280"/>
            <a:ext cx="4291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Прямая со стрелкой 17"/>
          <p:cNvCxnSpPr/>
          <p:nvPr/>
        </p:nvCxnSpPr>
        <p:spPr>
          <a:xfrm>
            <a:off x="4857840" y="1052640"/>
            <a:ext cx="429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Прямая со стрелкой 20"/>
          <p:cNvCxnSpPr/>
          <p:nvPr/>
        </p:nvCxnSpPr>
        <p:spPr>
          <a:xfrm>
            <a:off x="4929120" y="5157360"/>
            <a:ext cx="28656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Прямая со стрелкой 22"/>
          <p:cNvCxnSpPr/>
          <p:nvPr/>
        </p:nvCxnSpPr>
        <p:spPr>
          <a:xfrm>
            <a:off x="4785840" y="5661000"/>
            <a:ext cx="3582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Прямая со стрелкой 24"/>
          <p:cNvCxnSpPr/>
          <p:nvPr/>
        </p:nvCxnSpPr>
        <p:spPr>
          <a:xfrm>
            <a:off x="7786800" y="5589720"/>
            <a:ext cx="3578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wipe dir="l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Заголовок 1"/>
          <p:cNvGrpSpPr/>
          <p:nvPr/>
        </p:nvGrpSpPr>
        <p:grpSpPr>
          <a:xfrm>
            <a:off x="103320" y="365040"/>
            <a:ext cx="8602560" cy="1573200"/>
            <a:chOff x="103320" y="365040"/>
            <a:chExt cx="8602560" cy="1573200"/>
          </a:xfrm>
        </p:grpSpPr>
        <p:pic>
          <p:nvPicPr>
            <p:cNvPr id="37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03320" y="365040"/>
              <a:ext cx="860256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685800" y="609480"/>
              <a:ext cx="77724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500" spc="-1" strike="noStrike">
                  <a:solidFill>
                    <a:srgbClr val="c12f7f"/>
                  </a:solidFill>
                  <a:latin typeface="Bookman Old Style"/>
                </a:rPr>
                <a:t>Словарь строения слов.</a:t>
              </a:r>
              <a:endParaRPr b="1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1" name="Клип 4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3494160" cy="43704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285800" y="1785960"/>
            <a:ext cx="44290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ловарь строения слов дает полные сведения об особенностях словоизменения и строения слов разных частей речи русского языка.                                    При этом каждое слово, вошедшее в словарь, сопровождается грамматической характеристикой, помогающей понять, почему так, а не иначе изменяется то или иное слово. Основная цель словаря - стать надежным справочником для каждого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4" descr=""/>
          <p:cNvPicPr/>
          <p:nvPr/>
        </p:nvPicPr>
        <p:blipFill>
          <a:blip r:embed="rId2"/>
          <a:stretch/>
        </p:blipFill>
        <p:spPr>
          <a:xfrm>
            <a:off x="49320" y="639720"/>
            <a:ext cx="868680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Эпиграф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Словарь-это вся вселенная в алфавитном порядке! Если хорошенько подумать, словарь- это книга книг. Он включает в себя все другие книги, нужно лишь извлечь их из не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Анатоль Франс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2d700"/>
                </a:solidFill>
                <a:latin typeface="Mistral"/>
              </a:rPr>
              <a:t> </a:t>
            </a:r>
            <a:r>
              <a:rPr b="1" lang="ru-RU" sz="3600" spc="-1" strike="noStrike">
                <a:solidFill>
                  <a:srgbClr val="c12f7f"/>
                </a:solidFill>
                <a:latin typeface="Palatino Linotype"/>
              </a:rPr>
              <a:t>КАК ПОЛЬЗОВАТЬСЯ </a:t>
            </a:r>
            <a:br>
              <a:rPr sz="3600"/>
            </a:br>
            <a:r>
              <a:rPr b="1" lang="ru-RU" sz="3600" spc="-1" strike="noStrike">
                <a:solidFill>
                  <a:srgbClr val="c12f7f"/>
                </a:solidFill>
                <a:latin typeface="Palatino Linotype"/>
              </a:rPr>
              <a:t>СЛОВАРЕМ</a:t>
            </a:r>
            <a:br>
              <a:rPr sz="43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143000"/>
            <a:ext cx="87487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мни, что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onstantia"/>
              </a:rPr>
              <a:t>слова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 в словаре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расположены в алфавитном порядке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мни, чт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словарь состоит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 из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предисловия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 и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словарных статей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этому сначала внимательно изучи текст предисловия. Это поможет тебе легко ориентироваться в словар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Помни, чт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словарная статья рассказывает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о разных сторонах слова: его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написании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, правильном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произношении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,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истории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слова, </a:t>
            </a:r>
            <a:r>
              <a:rPr b="1" lang="ru-RU" sz="2000" spc="-1" strike="noStrike" u="sng">
                <a:solidFill>
                  <a:srgbClr val="ff0066"/>
                </a:solidFill>
                <a:uFillTx/>
                <a:latin typeface="Constantia"/>
              </a:rPr>
              <a:t>его составе</a:t>
            </a:r>
            <a:r>
              <a:rPr b="1" lang="ru-RU" sz="2000" spc="-1" strike="noStrike">
                <a:solidFill>
                  <a:srgbClr val="ff0066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nstantia"/>
              </a:rPr>
              <a:t>и способах образования, лексическом значении и т.д. Во многих словарных статьях помещаются иллюстрированные цитаты, которыми авторы словарей подтверждают, оправдывают употребление слова или выражения в языке. Цитаты эти выписываются из художественной, общественно-политической, научной и другой литературы. В качестве цитат используются пословицы, поговорк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755640" y="907920"/>
            <a:ext cx="7920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4.Помни, что в большинстве словарей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Constantia"/>
              </a:rPr>
              <a:t>в начале страницы указаны жирным шрифтом слова, которыми начинается и кончается данная страница</a:t>
            </a: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, либо парные три буквы этих слов. Это облегчит поиск нужного слов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5.  Помни, что в целях экономии многие пояснения в словарной статье даются в сокращенном виде.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Constantia"/>
              </a:rPr>
              <a:t>Разъяснение к системе сокращений дается в начале словар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Palatino Linotype"/>
              </a:rPr>
              <a:t>ПРОВЕРЬ СЕБЯ!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28760" y="856800"/>
            <a:ext cx="82296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объясняет значение слов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показывает, как правильно писать слова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рассказывает о происхождении слов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объясняет значение устойчивых словосочетаний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объясняет значение заимствованных слов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слова, близкие по значению к другим словам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слова, имеющие противоположное значение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помогает из одного слова образовать другие, используя суффиксы, приставки, оконча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историзмы и архаизм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ой словарь содержит словоизменения и строения слов разных частей речи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Narrow"/>
              </a:rPr>
              <a:t>Какие словари нужно использовать при подготовке ответов на следующие вопросы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336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ово происхождение слов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вдребезги  азбу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ово значение слов </a:t>
            </a:r>
            <a:r>
              <a:rPr b="0" lang="ru-RU" sz="2400" spc="-1" strike="noStrike">
                <a:solidFill>
                  <a:srgbClr val="92d050"/>
                </a:solidFill>
                <a:latin typeface="Constantia"/>
              </a:rPr>
              <a:t>идт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свеж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 обозначают выражения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танталовы муки попасть впросак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вьте ударение в словах </a:t>
            </a:r>
            <a:r>
              <a:rPr b="0" lang="ru-RU" sz="2400" spc="-1" strike="noStrike">
                <a:solidFill>
                  <a:srgbClr val="55a839"/>
                </a:solidFill>
                <a:latin typeface="Constantia"/>
              </a:rPr>
              <a:t>ворот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маркетинг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ъясните значение слов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акселерация, олимпиад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должите синонимический ряд: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малень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берите антонимы к словам: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холодный, ден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верьте написание слов: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винегрет, приоритет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 образовано слово </a:t>
            </a:r>
            <a:r>
              <a:rPr b="0" lang="ru-RU" sz="2400" spc="-1" strike="noStrike">
                <a:solidFill>
                  <a:srgbClr val="00cc00"/>
                </a:solidFill>
                <a:latin typeface="Constantia"/>
              </a:rPr>
              <a:t>писательски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71560" indent="-4694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estwood LE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dd9"/>
                </a:solidFill>
                <a:uFillTx/>
                <a:latin typeface="Palatino Linotype"/>
              </a:rPr>
              <a:t>Определить, из каких словарей </a:t>
            </a:r>
            <a:br>
              <a:rPr sz="3200"/>
            </a:br>
            <a:r>
              <a:rPr b="1" lang="ru-RU" sz="3200" spc="-1" strike="noStrike" u="sng">
                <a:solidFill>
                  <a:srgbClr val="009dd9"/>
                </a:solidFill>
                <a:uFillTx/>
                <a:latin typeface="Palatino Linotype"/>
              </a:rPr>
              <a:t>даны словарные стать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ЗИПУ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. стар. – русский кафтан без козыря (стоячего ворота)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АШЕ</a:t>
            </a: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фр. sachet) – 1)подушечка, наполненная ароматическим веществом, помещаемая среди белья для придания ему приятного запаха; 2)вышитая матерчатая сумка для белья, носовых платков и т.п. </a:t>
            </a:r>
            <a:br>
              <a:rPr sz="1800"/>
            </a:br>
            <a:r>
              <a:rPr b="1" lang="ru-RU" sz="1800" spc="-1" strike="noStrike">
                <a:solidFill>
                  <a:srgbClr val="4c7058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ЗАЛИВАТЬСЯ СОЛОВЬЕМ</a:t>
            </a: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зг. шутл. Увлеченно говори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ЧИПС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ов, только мн. (сер. ХХ в.) Жареный хрустящий картофель в ломтиках.- Англ. chips – жареный хрустящий картофель, мн. от chip – тонкий кусочек чего-либо (сушеного яблока, поджаренного картофеля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ГУЛЛИВЕР – ЛИЛИПУ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5" descr="01"/>
          <p:cNvPicPr/>
          <p:nvPr/>
        </p:nvPicPr>
        <p:blipFill>
          <a:blip r:embed="rId2"/>
          <a:stretch/>
        </p:blipFill>
        <p:spPr>
          <a:xfrm>
            <a:off x="7740720" y="189000"/>
            <a:ext cx="1244520" cy="124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Palatino Linotype"/>
              </a:rPr>
              <a:t>Определите,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Palatino Linotype"/>
              </a:rPr>
              <a:t>какой перед вами словар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Мое назначение толковать слова.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Кроме того, я указываю, к какой части речи принадлежит слово, даю его формы и привожу примеры употребления в реч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ри чтении журналов, газет, книг вы часто встречаетесь со словами, вошедшими в русский язык из других языков мира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 моем словаре можно получить справку о значении незнакомого иностранного слова, сведения о его происхождени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Известно, ч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инонимы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обогащают речь, дают возможность выразить любой оттенок мысли, избежать повторения одного и того же слова. Умелый подбор синонимов придает языку красочность и выразительность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 я предлагаю эти сло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ейчас я вам прочитаю что-то очень интересно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Мальчик услышал, что пришедшая в гости старуха собаку съела в каких-то делах, и спрятал от неё свою собак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– С тобой голову потеряешь,– говорит сердитая мать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тгадали, что я за словарь?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зад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ть сообщение о слове (на выбор: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богатый, ленивый, праздник, финиш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, используя словарные статьи различных словар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ьте свой небольшой словарь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«снежных сл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 или «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лесных сл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171960" cy="411480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7" descr="Папа и сын делают уроки.gif"/>
          <p:cNvPicPr/>
          <p:nvPr/>
        </p:nvPicPr>
        <p:blipFill>
          <a:blip r:embed="rId3"/>
          <a:stretch/>
        </p:blipFill>
        <p:spPr>
          <a:xfrm>
            <a:off x="214200" y="2071800"/>
            <a:ext cx="364356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итерату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semenovschool3-nn.edusite.ru/DswMedia/russkoyrechigosudar-poprozvaniyuslovar-2klass.doc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langbibl-media5.ucoz.ru/index/russkoj_rechi_gosudar_po_prozvaniju_slovar/0-59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http://www.uchportal.ru/load/32-1-0-1033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http://www.audiobooks.ua/en/russian_study/slovar_trudnostei_russkogo_yazyka-25977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http://www.dom-knigi.ru/book.asp?Art=283879&amp;CatalogID=1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http://downloadzzle.ru/pomosh/grammatiko-orfograficheskiy-slovar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http://downloadzzle.ru/vrach/shkolniy-slovar-inostrannih-slov-ivanova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http://www.goodreads.ru/books/1754504/default.asp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http://www.spletnik.ru/blogs/govoryat_chto/48109_govoryat_ch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http://www.libex.ru/?pg=1329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booka.ru/books/165700/about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book.59i.ru/index.php?ukey=product&amp;productID=538826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bookin.org.ru/book/23094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booksiti.net.ru/books/812747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Constantia"/>
              </a:rPr>
              <a:t>http://www.xxlbook.ru/offerlab99997.aspx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усской речи государь по прозванию Словарь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Есть волшебная страна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то распахнута пред ва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а, которая словами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к людьми насел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авит ими государ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 прозванию Словар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аже Пушкин , я об эт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остоверно говорю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е однажды за совет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бращался к словар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8" descr="BS00554_"/>
          <p:cNvPicPr/>
          <p:nvPr/>
        </p:nvPicPr>
        <p:blipFill>
          <a:blip r:embed="rId2"/>
          <a:stretch/>
        </p:blipFill>
        <p:spPr>
          <a:xfrm>
            <a:off x="5715000" y="2214720"/>
            <a:ext cx="34290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Заголовок 6"/>
          <p:cNvGrpSpPr/>
          <p:nvPr/>
        </p:nvGrpSpPr>
        <p:grpSpPr>
          <a:xfrm>
            <a:off x="334800" y="268200"/>
            <a:ext cx="8491680" cy="1474920"/>
            <a:chOff x="334800" y="268200"/>
            <a:chExt cx="8491680" cy="1474920"/>
          </a:xfrm>
        </p:grpSpPr>
        <p:pic>
          <p:nvPicPr>
            <p:cNvPr id="256" name="Заголовок 6" descr=""/>
            <p:cNvPicPr/>
            <p:nvPr/>
          </p:nvPicPr>
          <p:blipFill>
            <a:blip r:embed="rId2"/>
            <a:stretch/>
          </p:blipFill>
          <p:spPr>
            <a:xfrm>
              <a:off x="334800" y="268200"/>
              <a:ext cx="849168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85800" y="609480"/>
              <a:ext cx="777240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70c0"/>
                  </a:solidFill>
                  <a:latin typeface="Constantia"/>
                </a:rPr>
                <a:t>Энциклопедические словари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Содержимое 3" descr="энциклоп.jpg"/>
          <p:cNvPicPr/>
          <p:nvPr/>
        </p:nvPicPr>
        <p:blipFill>
          <a:blip r:embed="rId3"/>
          <a:stretch/>
        </p:blipFill>
        <p:spPr>
          <a:xfrm>
            <a:off x="0" y="1981080"/>
            <a:ext cx="3786120" cy="44481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000680" y="1142640"/>
            <a:ext cx="5000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сли вы хотите узнать о разных странах, государствах, представителях культуры, искусства, если вас интересуют явления природы (затмения, землетрясения и пр.), вам хочется больше узнать о планетах, истории цивилизаций и т.д. – обращайтесь к энциклопедическим словарям. В них вы найдете ответы на вопросы из разных областей зн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Блок-схема: перфолента 13"/>
          <p:cNvGrpSpPr/>
          <p:nvPr/>
        </p:nvGrpSpPr>
        <p:grpSpPr>
          <a:xfrm>
            <a:off x="774720" y="-244440"/>
            <a:ext cx="7326360" cy="2865240"/>
            <a:chOff x="774720" y="-244440"/>
            <a:chExt cx="7326360" cy="2865240"/>
          </a:xfrm>
        </p:grpSpPr>
        <p:pic>
          <p:nvPicPr>
            <p:cNvPr id="261" name="Блок-схема: перфолента 13" descr=""/>
            <p:cNvPicPr/>
            <p:nvPr/>
          </p:nvPicPr>
          <p:blipFill>
            <a:blip r:embed="rId2"/>
            <a:stretch/>
          </p:blipFill>
          <p:spPr>
            <a:xfrm>
              <a:off x="774720" y="-244440"/>
              <a:ext cx="7326360" cy="28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357200" y="414360"/>
              <a:ext cx="650088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Constantia"/>
                </a:rPr>
                <a:t>Лингвистические словар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Constantia"/>
                </a:rPr>
                <a:t>Цель – дать информацию о слове.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Овал 18"/>
          <p:cNvGrpSpPr/>
          <p:nvPr/>
        </p:nvGrpSpPr>
        <p:grpSpPr>
          <a:xfrm>
            <a:off x="950760" y="1596960"/>
            <a:ext cx="4133880" cy="1133640"/>
            <a:chOff x="950760" y="1596960"/>
            <a:chExt cx="4133880" cy="1133640"/>
          </a:xfrm>
        </p:grpSpPr>
        <p:pic>
          <p:nvPicPr>
            <p:cNvPr id="264" name="Овал 18" descr=""/>
            <p:cNvPicPr/>
            <p:nvPr/>
          </p:nvPicPr>
          <p:blipFill>
            <a:blip r:embed="rId3"/>
            <a:stretch/>
          </p:blipFill>
          <p:spPr>
            <a:xfrm>
              <a:off x="950760" y="1596960"/>
              <a:ext cx="41338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44760" y="1747800"/>
              <a:ext cx="26254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</a:rPr>
                <a:t>орфографические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Овал 19"/>
          <p:cNvGrpSpPr/>
          <p:nvPr/>
        </p:nvGrpSpPr>
        <p:grpSpPr>
          <a:xfrm>
            <a:off x="738360" y="2951280"/>
            <a:ext cx="4278240" cy="1206360"/>
            <a:chOff x="738360" y="2951280"/>
            <a:chExt cx="4278240" cy="1206360"/>
          </a:xfrm>
        </p:grpSpPr>
        <p:pic>
          <p:nvPicPr>
            <p:cNvPr id="267" name="Овал 19" descr=""/>
            <p:cNvPicPr/>
            <p:nvPr/>
          </p:nvPicPr>
          <p:blipFill>
            <a:blip r:embed="rId4"/>
            <a:stretch/>
          </p:blipFill>
          <p:spPr>
            <a:xfrm>
              <a:off x="738360" y="2951280"/>
              <a:ext cx="427824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351080" y="3114720"/>
              <a:ext cx="2727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орфоэпическ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Овал 20"/>
          <p:cNvGrpSpPr/>
          <p:nvPr/>
        </p:nvGrpSpPr>
        <p:grpSpPr>
          <a:xfrm>
            <a:off x="-36360" y="3638520"/>
            <a:ext cx="4303440" cy="1420920"/>
            <a:chOff x="-36360" y="3638520"/>
            <a:chExt cx="4303440" cy="1420920"/>
          </a:xfrm>
        </p:grpSpPr>
        <p:pic>
          <p:nvPicPr>
            <p:cNvPr id="270" name="Овал 20" descr=""/>
            <p:cNvPicPr/>
            <p:nvPr/>
          </p:nvPicPr>
          <p:blipFill>
            <a:blip r:embed="rId5"/>
            <a:stretch/>
          </p:blipFill>
          <p:spPr>
            <a:xfrm>
              <a:off x="-36360" y="3638520"/>
              <a:ext cx="43034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88960" y="3890880"/>
              <a:ext cx="2727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словообразова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Овал 21"/>
          <p:cNvGrpSpPr/>
          <p:nvPr/>
        </p:nvGrpSpPr>
        <p:grpSpPr>
          <a:xfrm>
            <a:off x="5218200" y="1682640"/>
            <a:ext cx="3779640" cy="1346400"/>
            <a:chOff x="5218200" y="1682640"/>
            <a:chExt cx="3779640" cy="1346400"/>
          </a:xfrm>
        </p:grpSpPr>
        <p:pic>
          <p:nvPicPr>
            <p:cNvPr id="273" name="Овал 21" descr=""/>
            <p:cNvPicPr/>
            <p:nvPr/>
          </p:nvPicPr>
          <p:blipFill>
            <a:blip r:embed="rId6"/>
            <a:stretch/>
          </p:blipFill>
          <p:spPr>
            <a:xfrm>
              <a:off x="5218200" y="1682640"/>
              <a:ext cx="37796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021360" y="2114640"/>
              <a:ext cx="2173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толковые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Овал 22"/>
          <p:cNvGrpSpPr/>
          <p:nvPr/>
        </p:nvGrpSpPr>
        <p:grpSpPr>
          <a:xfrm>
            <a:off x="4803840" y="2700360"/>
            <a:ext cx="3895560" cy="1103400"/>
            <a:chOff x="4803840" y="2700360"/>
            <a:chExt cx="3895560" cy="1103400"/>
          </a:xfrm>
        </p:grpSpPr>
        <p:pic>
          <p:nvPicPr>
            <p:cNvPr id="276" name="Овал 22" descr=""/>
            <p:cNvPicPr/>
            <p:nvPr/>
          </p:nvPicPr>
          <p:blipFill>
            <a:blip r:embed="rId7"/>
            <a:stretch/>
          </p:blipFill>
          <p:spPr>
            <a:xfrm>
              <a:off x="4803840" y="2700360"/>
              <a:ext cx="38955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462640" y="2951280"/>
              <a:ext cx="2576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синонимо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Овал 23"/>
          <p:cNvGrpSpPr/>
          <p:nvPr/>
        </p:nvGrpSpPr>
        <p:grpSpPr>
          <a:xfrm>
            <a:off x="5095800" y="3597120"/>
            <a:ext cx="4060800" cy="1292400"/>
            <a:chOff x="5095800" y="3597120"/>
            <a:chExt cx="4060800" cy="1292400"/>
          </a:xfrm>
        </p:grpSpPr>
        <p:pic>
          <p:nvPicPr>
            <p:cNvPr id="279" name="Овал 23" descr=""/>
            <p:cNvPicPr/>
            <p:nvPr/>
          </p:nvPicPr>
          <p:blipFill>
            <a:blip r:embed="rId8"/>
            <a:stretch/>
          </p:blipFill>
          <p:spPr>
            <a:xfrm>
              <a:off x="5095800" y="3597120"/>
              <a:ext cx="40608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676840" y="3757680"/>
              <a:ext cx="2576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антонимов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Овал 24"/>
          <p:cNvGrpSpPr/>
          <p:nvPr/>
        </p:nvGrpSpPr>
        <p:grpSpPr>
          <a:xfrm>
            <a:off x="4206960" y="5767560"/>
            <a:ext cx="4741920" cy="1206360"/>
            <a:chOff x="4206960" y="5767560"/>
            <a:chExt cx="4741920" cy="1206360"/>
          </a:xfrm>
        </p:grpSpPr>
        <p:pic>
          <p:nvPicPr>
            <p:cNvPr id="282" name="Овал 24" descr=""/>
            <p:cNvPicPr/>
            <p:nvPr/>
          </p:nvPicPr>
          <p:blipFill>
            <a:blip r:embed="rId9"/>
            <a:stretch/>
          </p:blipFill>
          <p:spPr>
            <a:xfrm>
              <a:off x="4206960" y="5767560"/>
              <a:ext cx="474192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210280" y="5911920"/>
              <a:ext cx="30812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фразеологическ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Овал 25"/>
          <p:cNvGrpSpPr/>
          <p:nvPr/>
        </p:nvGrpSpPr>
        <p:grpSpPr>
          <a:xfrm>
            <a:off x="4413240" y="4900680"/>
            <a:ext cx="4761000" cy="1036440"/>
            <a:chOff x="4413240" y="4900680"/>
            <a:chExt cx="4761000" cy="1036440"/>
          </a:xfrm>
        </p:grpSpPr>
        <p:pic>
          <p:nvPicPr>
            <p:cNvPr id="285" name="Овал 25" descr=""/>
            <p:cNvPicPr/>
            <p:nvPr/>
          </p:nvPicPr>
          <p:blipFill>
            <a:blip r:embed="rId10"/>
            <a:stretch/>
          </p:blipFill>
          <p:spPr>
            <a:xfrm>
              <a:off x="4413240" y="4900680"/>
              <a:ext cx="47610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424480" y="5022720"/>
              <a:ext cx="3081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иностранных сло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Овал 26"/>
          <p:cNvGrpSpPr/>
          <p:nvPr/>
        </p:nvGrpSpPr>
        <p:grpSpPr>
          <a:xfrm>
            <a:off x="-55440" y="5157720"/>
            <a:ext cx="4646520" cy="1219320"/>
            <a:chOff x="-55440" y="5157720"/>
            <a:chExt cx="4646520" cy="1219320"/>
          </a:xfrm>
        </p:grpSpPr>
        <p:pic>
          <p:nvPicPr>
            <p:cNvPr id="288" name="Овал 26" descr=""/>
            <p:cNvPicPr/>
            <p:nvPr/>
          </p:nvPicPr>
          <p:blipFill>
            <a:blip r:embed="rId11"/>
            <a:stretch/>
          </p:blipFill>
          <p:spPr>
            <a:xfrm>
              <a:off x="-55440" y="5157720"/>
              <a:ext cx="46465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17400" y="5329080"/>
              <a:ext cx="29797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этимологическ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Овал 27"/>
          <p:cNvGrpSpPr/>
          <p:nvPr/>
        </p:nvGrpSpPr>
        <p:grpSpPr>
          <a:xfrm>
            <a:off x="444600" y="5803920"/>
            <a:ext cx="4578120" cy="1419120"/>
            <a:chOff x="444600" y="5803920"/>
            <a:chExt cx="4578120" cy="1419120"/>
          </a:xfrm>
        </p:grpSpPr>
        <p:pic>
          <p:nvPicPr>
            <p:cNvPr id="291" name="Овал 27" descr=""/>
            <p:cNvPicPr/>
            <p:nvPr/>
          </p:nvPicPr>
          <p:blipFill>
            <a:blip r:embed="rId12"/>
            <a:stretch/>
          </p:blipFill>
          <p:spPr>
            <a:xfrm>
              <a:off x="444600" y="5803920"/>
              <a:ext cx="45781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106640" y="6027840"/>
              <a:ext cx="29304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nstantia"/>
                </a:rPr>
                <a:t>словарь устаревших сло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Овал 12"/>
          <p:cNvSpPr/>
          <p:nvPr/>
        </p:nvSpPr>
        <p:spPr>
          <a:xfrm>
            <a:off x="285840" y="2357280"/>
            <a:ext cx="3000240" cy="642960"/>
          </a:xfrm>
          <a:prstGeom prst="ellipse">
            <a:avLst/>
          </a:prstGeom>
          <a:solidFill>
            <a:srgbClr val="00ffcc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рамматико -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рфографическ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Овал 14"/>
          <p:cNvSpPr/>
          <p:nvPr/>
        </p:nvSpPr>
        <p:spPr>
          <a:xfrm>
            <a:off x="2000160" y="4500720"/>
            <a:ext cx="3429000" cy="714240"/>
          </a:xfrm>
          <a:prstGeom prst="ellipse">
            <a:avLst/>
          </a:prstGeom>
          <a:solidFill>
            <a:srgbClr val="00ffcc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словарь строения слов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Rectangle 2"/>
          <p:cNvGrpSpPr/>
          <p:nvPr/>
        </p:nvGrpSpPr>
        <p:grpSpPr>
          <a:xfrm>
            <a:off x="639720" y="-208080"/>
            <a:ext cx="8169480" cy="2713320"/>
            <a:chOff x="639720" y="-208080"/>
            <a:chExt cx="8169480" cy="2713320"/>
          </a:xfrm>
        </p:grpSpPr>
        <p:pic>
          <p:nvPicPr>
            <p:cNvPr id="296" name="Rectangle 2" descr=""/>
            <p:cNvPicPr/>
            <p:nvPr/>
          </p:nvPicPr>
          <p:blipFill>
            <a:blip r:embed="rId2"/>
            <a:stretch/>
          </p:blipFill>
          <p:spPr>
            <a:xfrm>
              <a:off x="639720" y="-208080"/>
              <a:ext cx="816948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000080" y="142920"/>
              <a:ext cx="77724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Bookman Old Style"/>
                </a:rPr>
                <a:t>Толковый словарь русского языка.</a:t>
              </a:r>
              <a:br>
                <a:rPr sz="3600"/>
              </a:br>
              <a:r>
                <a:rPr b="1" lang="en-US" sz="2900" spc="-1" strike="noStrike">
                  <a:solidFill>
                    <a:srgbClr val="0f6fc6"/>
                  </a:solidFill>
                  <a:latin typeface="Bookman Old Style"/>
                </a:rPr>
                <a:t>Его задача – давать толкование, объяснение значения слова.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26708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Клип 6" descr="257950.jpg"/>
          <p:cNvPicPr/>
          <p:nvPr/>
        </p:nvPicPr>
        <p:blipFill>
          <a:blip r:embed="rId3"/>
          <a:stretch/>
        </p:blipFill>
        <p:spPr>
          <a:xfrm>
            <a:off x="285840" y="1981080"/>
            <a:ext cx="3903480" cy="48769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7" descr="1847566.jpg"/>
          <p:cNvPicPr/>
          <p:nvPr/>
        </p:nvPicPr>
        <p:blipFill>
          <a:blip r:embed="rId4"/>
          <a:stretch/>
        </p:blipFill>
        <p:spPr>
          <a:xfrm>
            <a:off x="4500720" y="2000160"/>
            <a:ext cx="40719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ШКОЛЬНЫЙ ТОЛКОВЫЙ СЛОВАРЬ</a:t>
            </a:r>
            <a:br>
              <a:rPr sz="2800"/>
            </a:br>
            <a:r>
              <a:rPr b="1" i="1" lang="en-US" sz="2800" spc="-1" strike="noStrike" u="sng">
                <a:solidFill>
                  <a:srgbClr val="5c2e00"/>
                </a:solidFill>
                <a:uFillTx/>
                <a:latin typeface="Bookman Old Style"/>
              </a:rPr>
              <a:t>Объяснить любое слово </a:t>
            </a:r>
            <a:br>
              <a:rPr sz="2800"/>
            </a:br>
            <a:r>
              <a:rPr b="1" i="1" lang="en-US" sz="2800" spc="-1" strike="noStrike" u="sng">
                <a:solidFill>
                  <a:srgbClr val="5c2e00"/>
                </a:solidFill>
                <a:uFillTx/>
                <a:latin typeface="Bookman Old Style"/>
              </a:rPr>
              <a:t>может нам словарь толковы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560" y="1981080"/>
            <a:ext cx="54291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Толковый словарь – тип словаря, в котором объясняется, растолковывается значение слова. Это настоящая кладовая языковых богатств, и читать их – одно удовольствие. Причем польза от этого чтения очень большая: вы узнаете значение слов, которые слышали или встречали в книге, а порой и вообще они могут явиться для вас открытие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311640" cy="43927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ransition spd="slow"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Заголовок 4"/>
          <p:cNvGrpSpPr/>
          <p:nvPr/>
        </p:nvGrpSpPr>
        <p:grpSpPr>
          <a:xfrm>
            <a:off x="347760" y="262080"/>
            <a:ext cx="8905680" cy="2292120"/>
            <a:chOff x="347760" y="262080"/>
            <a:chExt cx="8905680" cy="2292120"/>
          </a:xfrm>
        </p:grpSpPr>
        <p:pic>
          <p:nvPicPr>
            <p:cNvPr id="305" name="Заголовок 4" descr=""/>
            <p:cNvPicPr/>
            <p:nvPr/>
          </p:nvPicPr>
          <p:blipFill>
            <a:blip r:embed="rId2"/>
            <a:stretch/>
          </p:blipFill>
          <p:spPr>
            <a:xfrm>
              <a:off x="347760" y="262080"/>
              <a:ext cx="890568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57200" y="7048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4617b"/>
                  </a:solidFill>
                  <a:latin typeface="Calibri"/>
                </a:rPr>
                <a:t>Однозначные и многозначные слова</a:t>
              </a:r>
              <a:endParaRPr b="1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одокач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-и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ж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Специальное здание с насосами для подачи вод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Водолаз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-а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Специалист, занимающийся подводными работами в водонепроницаемом костюме и со специальным снаряжением.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Сильная, хорошо плавающая собака, используемая для спасения утопающи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3:30:40Z</dcterms:created>
  <dc:creator>User</dc:creator>
  <dc:description/>
  <dc:language>en-US</dc:language>
  <cp:lastModifiedBy>Мама</cp:lastModifiedBy>
  <dcterms:modified xsi:type="dcterms:W3CDTF">2012-07-24T13:05:14Z</dcterms:modified>
  <cp:revision>120</cp:revision>
  <dc:subject/>
  <dc:title>Русской речи государь по прозванию Словарь.</dc:title>
</cp:coreProperties>
</file>