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4.gif" ContentType="image/gif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37.png" ContentType="image/png"/>
  <Override PartName="/ppt/media/image48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52.gif" ContentType="image/gif"/>
  <Override PartName="/ppt/media/image45.png" ContentType="image/png"/>
  <Override PartName="/ppt/media/image46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3.png" ContentType="image/png"/>
  <Override PartName="/ppt/media/image31.png" ContentType="image/png"/>
  <Override PartName="/ppt/media/image6.png" ContentType="image/png"/>
  <Override PartName="/ppt/media/image30.jpeg" ContentType="image/jpeg"/>
  <Override PartName="/ppt/media/image7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8.wmf" ContentType="image/x-wmf"/>
  <Override PartName="/ppt/media/image40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7AD-B04F-457E-84C1-59912A7F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BD0-298D-4B4C-BE4D-629245DA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A2B-B7B5-46B3-83CD-1AFF4D2C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22A-5224-44F9-8DA3-002CAAB9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F0AC-2ABA-47F8-B2BB-EE8808CB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19DC-7823-481A-BA04-BCD52718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EDD6-EA3A-43CC-9B92-2596928F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DE38-18B4-48D0-A2D8-5D0D6ADD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0D2A-4326-4607-9597-435C538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73A8-0398-40FD-B223-3BFDCB1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27CC-3F24-4C24-9AA4-FE66F49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B36-42E9-41F4-9218-4C85EED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541E-05E1-403F-83AE-BD97EDB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5D7-9CC6-4379-A9F4-0BF60111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ED6A-41BD-4237-AE2D-C156DDA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F1B1-C386-488C-B64F-F022E5CA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171D-08F2-4FF0-A02D-62D19D89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C6C3-FF6D-463C-882A-ABC52F70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B186-BD77-48DE-9726-6262A7E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41A2-9C48-4A69-9E99-AB5294E6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C320-A4B1-4B3D-8A1C-4AC5172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63AC-C973-481D-BB68-586FEBAA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E83-90C6-4704-920B-AEA1E4A9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F160-63CB-4095-A6AF-3E4AA8FB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040C-11AC-46D8-A7D2-4166D98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1470-DDB1-4F19-B648-F8358F6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A8EA-2402-4379-973D-A01B246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19C1-DC01-4A72-81A4-46BDA3B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540D-9C42-4B47-A16F-28B69AF4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CE2A-2B86-4943-A94D-25615ECB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884D-24C3-47A5-8E72-2FA83F1F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E1B4-39F1-47D8-B154-E2C5F02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C681-BF76-42FF-B084-EF84D3C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995-7F95-4490-B6A2-A6C88DE7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D4F2-959F-4CB5-A819-F8618B5C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4BFF-3DD8-41C1-98F6-4A5C410D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5BB0-FE2D-4B91-806F-4E00075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1733-2E67-467E-81D1-54409EA4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2DA6-81A4-49C6-97D8-40877CF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6CE6-1082-42BF-8A96-C1B4466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F72D-E8BA-4F1D-A92C-551DD173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B7DE-E37D-4932-BE3C-3D506263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5881-926D-4A66-A536-D1837B5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C2728-C702-4D6B-94E4-C4A46B8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0BE-64D8-4950-BF55-1E3C743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79D73-031F-4834-AD69-4ED2EF40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A08A5-FD93-4A0F-A80F-8ED6AD04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FC567-AF17-42BE-BA74-121BC747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23F0-E050-43A6-BBA4-1110D33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3C15-F460-4CB6-B1ED-72E5707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80B4B-432F-4434-A66F-A4CC545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0324-BAB3-4ED5-BD17-6D9931F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46BB2-088E-4C5C-A622-77E884D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D681-9106-4B40-9FD0-AD8E449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3BDC-780B-4758-8058-4D97435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3ED-04C7-465D-8DBE-94BE7D2B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1B0D-DD92-4A67-AE96-72DC9CE8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1DA-4A71-408B-B153-C980515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7AA-4E2B-43F6-8DBA-A22857E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E99-2D85-4543-83ED-D30D90C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3DC8-BC7E-4CCE-9CE7-4F0F1A8875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219E-E91C-435C-9392-64D7F0E12F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EBCE-805C-41F2-8C81-105F6745311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58BD-F47E-49C7-BB9B-2AE54DF12D0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1FC-A580-4937-8E2F-DB76B72C0A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menovschool3-nn.edusite.ru/DswMedia/russkoyrechigosudar-poprozvaniyuslovar-2klass.docx" TargetMode="External"/><Relationship Id="rId3" Type="http://schemas.openxmlformats.org/officeDocument/2006/relationships/hyperlink" Target="http://langbibl-media5.ucoz.ru/index/russkoj_rechi_gosudar_po_prozvaniju_slovar/0-59" TargetMode="External"/><Relationship Id="rId4" Type="http://schemas.openxmlformats.org/officeDocument/2006/relationships/hyperlink" Target="http://www.uchportal.ru/load/32-1-0-10332" TargetMode="External"/><Relationship Id="rId5" Type="http://schemas.openxmlformats.org/officeDocument/2006/relationships/hyperlink" Target="http://www.audiobooks.ua/en/russian_study/slovar_trudnostei_russkogo_yazyka-25977.html" TargetMode="External"/><Relationship Id="rId6" Type="http://schemas.openxmlformats.org/officeDocument/2006/relationships/hyperlink" Target="http://www.dom-knigi.ru/book.asp?Art=283879&amp;CatalogID=16" TargetMode="External"/><Relationship Id="rId7" Type="http://schemas.openxmlformats.org/officeDocument/2006/relationships/hyperlink" Target="http://downloadzzle.ru/pomosh/grammatiko-orfograficheskiy-slovar.html" TargetMode="External"/><Relationship Id="rId8" Type="http://schemas.openxmlformats.org/officeDocument/2006/relationships/hyperlink" Target="http://downloadzzle.ru/vrach/shkolniy-slovar-inostrannih-slov-ivanova.html" TargetMode="External"/><Relationship Id="rId9" Type="http://schemas.openxmlformats.org/officeDocument/2006/relationships/hyperlink" Target="http://www.goodreads.ru/books/1754504/default.aspx" TargetMode="External"/><Relationship Id="rId10" Type="http://schemas.openxmlformats.org/officeDocument/2006/relationships/hyperlink" Target="http://www.goodreads.ru/books/1754504/default.aspx" TargetMode="External"/><Relationship Id="rId11" Type="http://schemas.openxmlformats.org/officeDocument/2006/relationships/hyperlink" Target="http://www.goodreads.ru/books/1754504/default.asp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689040" y="1066680"/>
            <a:ext cx="8192880" cy="284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152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Урок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русского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языка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в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лассе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Автор: учитель русского языка Шарамыгина Е.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БОУ Кисловская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Заголовок 1"/>
          <p:cNvGrpSpPr/>
          <p:nvPr/>
        </p:nvGrpSpPr>
        <p:grpSpPr>
          <a:xfrm>
            <a:off x="438120" y="390600"/>
            <a:ext cx="8261280" cy="1474560"/>
            <a:chOff x="438120" y="390600"/>
            <a:chExt cx="8261280" cy="1474560"/>
          </a:xfrm>
        </p:grpSpPr>
        <p:pic>
          <p:nvPicPr>
            <p:cNvPr id="30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390600"/>
              <a:ext cx="826128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7200" y="404640"/>
              <a:ext cx="8229600" cy="14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onstantia"/>
                </a:rPr>
                <a:t>Слова с прямым и переносным значением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428760" y="25718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гучи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-ая, -е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; жгуч.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Такой, который жжет, вызывает ощущение жжения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гучие лучи солнца. Ж. мороз. Жгучая бол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также вообще о сильной боли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ере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Сильно переживаемый, острый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. стыд. Жгучее любопытство. Ж. вопрос (очень злободневный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Заголовок 1"/>
          <p:cNvGrpSpPr/>
          <p:nvPr/>
        </p:nvGrpSpPr>
        <p:grpSpPr>
          <a:xfrm>
            <a:off x="182520" y="-30240"/>
            <a:ext cx="9101160" cy="1865520"/>
            <a:chOff x="182520" y="-30240"/>
            <a:chExt cx="9101160" cy="1865520"/>
          </a:xfrm>
        </p:grpSpPr>
        <p:pic>
          <p:nvPicPr>
            <p:cNvPr id="31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2520" y="-30240"/>
              <a:ext cx="910116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7200" y="333360"/>
              <a:ext cx="8229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nstantia"/>
                </a:rPr>
                <a:t>омонимы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Укрепленный в рукоятке пучок ровных щетинок, волосков для нанесения на поверхность краски, клея, лака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Кисти для акварели, для масла. Малярная к. Картина кисти Репи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написанная Репиным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ладеть кистью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уметь писать картины).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Украшение в виде стянутого вверху и расходящегося книзу пучка ниток, шнурко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Скатерть, кушак с кистями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Разветвленное соцветие (при созревании его – плоды) на удлиненном стебле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иноградная 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Часть руки (у животных – передней конечности) от запястья до конца пальце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Узкая в кисти ру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Рисунок 3" descr="df348102c40034d3f9974cfcede60628.jpg"/>
          <p:cNvPicPr/>
          <p:nvPr/>
        </p:nvPicPr>
        <p:blipFill>
          <a:blip r:embed="rId3"/>
          <a:stretch/>
        </p:blipFill>
        <p:spPr>
          <a:xfrm>
            <a:off x="1071720" y="50720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1000971780.jpg"/>
          <p:cNvPicPr/>
          <p:nvPr/>
        </p:nvPicPr>
        <p:blipFill>
          <a:blip r:embed="rId4"/>
          <a:stretch/>
        </p:blipFill>
        <p:spPr>
          <a:xfrm>
            <a:off x="5715000" y="5214960"/>
            <a:ext cx="20718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Arial Narrow"/>
              </a:rPr>
              <a:t>Толковый словарь живого великорусского язык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9" name="Клип 6" descr="даль.jpg"/>
          <p:cNvPicPr/>
          <p:nvPr/>
        </p:nvPicPr>
        <p:blipFill>
          <a:blip r:embed="rId2"/>
          <a:stretch/>
        </p:blipFill>
        <p:spPr>
          <a:xfrm>
            <a:off x="357120" y="1785960"/>
            <a:ext cx="3857760" cy="4714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071960" y="17146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словарь В.И.Даль включил более 200 тысяч слов и 30 тысяч пословиц, которые приводятся в качестве иллюстраций для пояснения значения слов. Даль работал над словарем 47 лет. В нем, кроме слов литературного языка, собраны многие слова местных наречий, говоров (диалектов). Это настоящий подвиг человека, влюбленного в русский язы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Словарь  синонимов.</a:t>
            </a:r>
            <a:br>
              <a:rPr sz="4500"/>
            </a:br>
            <a:r>
              <a:rPr b="1" i="1" lang="en-US" sz="4900" spc="-1" strike="noStrike" u="sng">
                <a:solidFill>
                  <a:srgbClr val="5c2e00"/>
                </a:solidFill>
                <a:uFillTx/>
                <a:latin typeface="Bookman Old Style"/>
              </a:rPr>
              <a:t> </a:t>
            </a: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Найти замену слову, да не одну, а даже три? </a:t>
            </a:r>
            <a:br>
              <a:rPr sz="2400"/>
            </a:b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 Словарь синонимов смотри!</a:t>
            </a:r>
            <a:r>
              <a:rPr b="1" lang="en-US" sz="2400" spc="-1" strike="noStrike">
                <a:solidFill>
                  <a:srgbClr val="496b54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00320" y="1980720"/>
            <a:ext cx="51433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оварь синонимов содержит ряды синонимов. Он помогает подобрать наиболее удачное слово или словосочетание  для более точного и яркого выражения мысли. Каждая словарная статья представляет собой перечень слов – синонимов, их толкование и примеры из литературно – художественных произведений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инонимы расширяют словарный состав языка, делают его ярче, выразительнее, разнообразне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Клип 6" descr="синонимы.jpg"/>
          <p:cNvPicPr/>
          <p:nvPr/>
        </p:nvPicPr>
        <p:blipFill>
          <a:blip r:embed="rId2"/>
          <a:stretch/>
        </p:blipFill>
        <p:spPr>
          <a:xfrm>
            <a:off x="428760" y="2000160"/>
            <a:ext cx="35002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6" descr=""/>
          <p:cNvPicPr/>
          <p:nvPr/>
        </p:nvPicPr>
        <p:blipFill>
          <a:blip r:embed="rId2"/>
          <a:stretch/>
        </p:blipFill>
        <p:spPr>
          <a:xfrm>
            <a:off x="152280" y="706320"/>
            <a:ext cx="891864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Заголовок 1"/>
          <p:cNvGrpSpPr/>
          <p:nvPr/>
        </p:nvGrpSpPr>
        <p:grpSpPr>
          <a:xfrm>
            <a:off x="566640" y="536400"/>
            <a:ext cx="7918560" cy="1541520"/>
            <a:chOff x="566640" y="536400"/>
            <a:chExt cx="7918560" cy="1541520"/>
          </a:xfrm>
        </p:grpSpPr>
        <p:pic>
          <p:nvPicPr>
            <p:cNvPr id="32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566640" y="536400"/>
              <a:ext cx="79185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42960" y="571680"/>
              <a:ext cx="7772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70c0"/>
                  </a:solidFill>
                  <a:latin typeface="Constantia"/>
                </a:rPr>
                <a:t>Словарь антонимов.</a:t>
              </a:r>
              <a:endParaRPr b="1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Клип 4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600360" cy="4321080"/>
          </a:xfrm>
          <a:prstGeom prst="rect">
            <a:avLst/>
          </a:prstGeom>
          <a:ln w="57240">
            <a:solidFill>
              <a:srgbClr val="55a839"/>
            </a:solidFill>
            <a:miter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ловарь антонимов русского языка среди других словарей занимает важное место. Он помогает подобрать слова с противоположными значениями,                    найти образное противопоставление, «схватить» полярные проявления того или иного свойства, ка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ороткий, краткий – долги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епродолжительный, малый по времени. – длительный, продолжительны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Каждая минута этих д о л г и х и вместе с тем к о р о т к и х двадцати восьми дней должна быть борьбой за то, чтобы стать человеком.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.Н.Полевой Повесть о настоящем челов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Этимологический словарь</a:t>
            </a:r>
            <a:br>
              <a:rPr sz="45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Цель – дать сведения о происхождении слова, его пути в язык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71960" y="1676520"/>
            <a:ext cx="4929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алисадник. Собств.русс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вляется суффиксальным производным от палисад- «забор, изгородь, частокол»-нем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передающего в свою очередь франц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«частокол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Клип 5" descr="этимол.jpg"/>
          <p:cNvPicPr/>
          <p:nvPr/>
        </p:nvPicPr>
        <p:blipFill>
          <a:blip r:embed="rId2"/>
          <a:stretch/>
        </p:blipFill>
        <p:spPr>
          <a:xfrm>
            <a:off x="357120" y="1928880"/>
            <a:ext cx="3286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8" descr=""/>
          <p:cNvPicPr/>
          <p:nvPr/>
        </p:nvPicPr>
        <p:blipFill>
          <a:blip r:embed="rId2"/>
          <a:stretch/>
        </p:blipFill>
        <p:spPr>
          <a:xfrm>
            <a:off x="152280" y="360360"/>
            <a:ext cx="891864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DejaVu Serif Condensed"/>
              </a:rPr>
              <a:t>Словарь устаревших слов.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7" name="Клип 4" descr="устар.jpg"/>
          <p:cNvPicPr/>
          <p:nvPr/>
        </p:nvPicPr>
        <p:blipFill>
          <a:blip r:embed="rId2"/>
          <a:stretch/>
        </p:blipFill>
        <p:spPr>
          <a:xfrm>
            <a:off x="395280" y="1700280"/>
            <a:ext cx="3214800" cy="42861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571560" y="1500120"/>
            <a:ext cx="5429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словарь включены историзмы и архаизмы,  представлены некоторые устаревшие фразеологические обороты, формы вежливого обращения, названия должностей. В словаре раскрываются значения этих слов, дается их грамматическая и стилистическая характеристика, на примерах-иллюстрациях показано, как они функционировали в речи. Многие словарные статьи сопровождаются рисунками, дающими возможность реально представить предметы, называемые тем или иным слов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Цель урока</a:t>
            </a: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385740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накомить учащихся с различными групп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варей и их назнач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ировать умения работать со словар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6" descr="an00790_"/>
          <p:cNvPicPr/>
          <p:nvPr/>
        </p:nvPicPr>
        <p:blipFill>
          <a:blip r:embed="rId2"/>
          <a:stretch/>
        </p:blipFill>
        <p:spPr>
          <a:xfrm>
            <a:off x="5286240" y="428760"/>
            <a:ext cx="29228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4" descr=""/>
          <p:cNvPicPr/>
          <p:nvPr/>
        </p:nvPicPr>
        <p:blipFill>
          <a:blip r:embed="rId2"/>
          <a:stretch/>
        </p:blipFill>
        <p:spPr>
          <a:xfrm>
            <a:off x="182520" y="219240"/>
            <a:ext cx="88581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Rectangle 2"/>
          <p:cNvGrpSpPr/>
          <p:nvPr/>
        </p:nvGrpSpPr>
        <p:grpSpPr>
          <a:xfrm>
            <a:off x="438120" y="103320"/>
            <a:ext cx="8663040" cy="2334960"/>
            <a:chOff x="438120" y="103320"/>
            <a:chExt cx="8663040" cy="2334960"/>
          </a:xfrm>
        </p:grpSpPr>
        <p:pic>
          <p:nvPicPr>
            <p:cNvPr id="341" name="Rectangle 2" descr=""/>
            <p:cNvPicPr/>
            <p:nvPr/>
          </p:nvPicPr>
          <p:blipFill>
            <a:blip r:embed="rId2"/>
            <a:stretch/>
          </p:blipFill>
          <p:spPr>
            <a:xfrm>
              <a:off x="438120" y="103320"/>
              <a:ext cx="866304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85800" y="35712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alibri"/>
                </a:rPr>
                <a:t>Фразеологический словарь.</a:t>
              </a:r>
              <a:br>
                <a:rPr sz="4500"/>
              </a:br>
              <a:r>
                <a:rPr b="1" lang="en-US" sz="2800" spc="-1" strike="noStrike">
                  <a:solidFill>
                    <a:srgbClr val="0070c0"/>
                  </a:solidFill>
                  <a:latin typeface="Calibri"/>
                </a:rPr>
                <a:t>Цель – дать сведения об устойчивых оборотах, об их происхождении и употреблении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071600" y="1785960"/>
            <a:ext cx="5072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чертя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е думая, не рассуждая, безрассудно. 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х, маменька! Маменька! И как это вы, друг мой, так, очертя голову, действовали!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лтыков-Щедрин «Господа Головлевы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Клип 6" descr=""/>
          <p:cNvPicPr/>
          <p:nvPr/>
        </p:nvPicPr>
        <p:blipFill>
          <a:blip r:embed="rId3"/>
          <a:stretch/>
        </p:blipFill>
        <p:spPr>
          <a:xfrm>
            <a:off x="947880" y="1989000"/>
            <a:ext cx="271116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ловарь иностранных слов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3876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В словаре иностранных слов содержится около 3 000 иностранных слов, вошедших в русский язык из других языков мира. В словарных статьях содержатся краткая справка о происхождении слов, их перевод и толкование. Завершает словарь обширный раздел иностранных выражений - крылатых фраз и знаменитых цитат на языке оригинала с пояснением на русском язык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Клип 6" descr=""/>
          <p:cNvPicPr/>
          <p:nvPr/>
        </p:nvPicPr>
        <p:blipFill>
          <a:blip r:embed="rId2"/>
          <a:stretch/>
        </p:blipFill>
        <p:spPr>
          <a:xfrm>
            <a:off x="669960" y="1700280"/>
            <a:ext cx="3773520" cy="467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4"/>
          <p:cNvSpPr/>
          <p:nvPr/>
        </p:nvSpPr>
        <p:spPr>
          <a:xfrm>
            <a:off x="1714680" y="1658880"/>
            <a:ext cx="58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барда(фр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llebarde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инное холодное оружие в виде длинного копья с топориком или секирой различной формы на ко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ц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Rectangle 2"/>
          <p:cNvGrpSpPr/>
          <p:nvPr/>
        </p:nvGrpSpPr>
        <p:grpSpPr>
          <a:xfrm>
            <a:off x="-133200" y="304920"/>
            <a:ext cx="8948520" cy="1657080"/>
            <a:chOff x="-133200" y="304920"/>
            <a:chExt cx="8948520" cy="1657080"/>
          </a:xfrm>
        </p:grpSpPr>
        <p:pic>
          <p:nvPicPr>
            <p:cNvPr id="350" name="Rectangle 2" descr=""/>
            <p:cNvPicPr/>
            <p:nvPr/>
          </p:nvPicPr>
          <p:blipFill>
            <a:blip r:embed="rId2"/>
            <a:stretch/>
          </p:blipFill>
          <p:spPr>
            <a:xfrm>
              <a:off x="-133200" y="304920"/>
              <a:ext cx="89485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Орфоэпический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словарь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.</a:t>
              </a:r>
              <a:br>
                <a:rPr sz="4500"/>
              </a:br>
              <a:r>
                <a:rPr b="1" lang="en-US" sz="2400" spc="-1" strike="noStrike">
                  <a:solidFill>
                    <a:srgbClr val="7030a0"/>
                  </a:solidFill>
                  <a:latin typeface="Calibri"/>
                </a:rPr>
                <a:t>Цель – дать сведения о правильном произношении слова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796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асивый,-ая,-ое, краткая форма-красив, красива, сравнительная степень - красивее. !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правильно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красив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Прямая соединительная линия 9"/>
          <p:cNvSpPr/>
          <p:nvPr/>
        </p:nvSpPr>
        <p:spPr>
          <a:xfrm flipH="1">
            <a:off x="5857920" y="250020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 flipH="1">
            <a:off x="6000840" y="407196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H="1">
            <a:off x="6214680" y="4857840"/>
            <a:ext cx="7164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H="1">
            <a:off x="5857920" y="328608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Клип 12" descr=""/>
          <p:cNvPicPr/>
          <p:nvPr/>
        </p:nvPicPr>
        <p:blipFill>
          <a:blip r:embed="rId3"/>
          <a:stretch/>
        </p:blipFill>
        <p:spPr>
          <a:xfrm>
            <a:off x="609480" y="1785960"/>
            <a:ext cx="4071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Заголовок 8"/>
          <p:cNvGrpSpPr/>
          <p:nvPr/>
        </p:nvGrpSpPr>
        <p:grpSpPr>
          <a:xfrm>
            <a:off x="384120" y="-79200"/>
            <a:ext cx="8369280" cy="1968480"/>
            <a:chOff x="384120" y="-79200"/>
            <a:chExt cx="8369280" cy="1968480"/>
          </a:xfrm>
        </p:grpSpPr>
        <p:pic>
          <p:nvPicPr>
            <p:cNvPr id="359" name="Заголовок 8" descr=""/>
            <p:cNvPicPr/>
            <p:nvPr/>
          </p:nvPicPr>
          <p:blipFill>
            <a:blip r:embed="rId2"/>
            <a:stretch/>
          </p:blipFill>
          <p:spPr>
            <a:xfrm>
              <a:off x="384120" y="-79200"/>
              <a:ext cx="83692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5800" y="0"/>
              <a:ext cx="7772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030a0"/>
                  </a:solidFill>
                  <a:latin typeface="Bookman Old Style"/>
                </a:rPr>
                <a:t>Орфографические словари.</a:t>
              </a:r>
              <a:br>
                <a:rPr sz="4500"/>
              </a:b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Цель – дать сведения о правильном написании слова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Клип 11" descr=""/>
          <p:cNvPicPr/>
          <p:nvPr/>
        </p:nvPicPr>
        <p:blipFill>
          <a:blip r:embed="rId3"/>
          <a:stretch/>
        </p:blipFill>
        <p:spPr>
          <a:xfrm>
            <a:off x="714240" y="2023920"/>
            <a:ext cx="3357720" cy="4095720"/>
          </a:xfrm>
          <a:prstGeom prst="rect">
            <a:avLst/>
          </a:prstGeom>
          <a:ln w="38160">
            <a:solidFill>
              <a:srgbClr val="0b5395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ек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иж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ску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лест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рокачестве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верх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 завт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куме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нос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1"/>
          <p:cNvGrpSpPr/>
          <p:nvPr/>
        </p:nvGrpSpPr>
        <p:grpSpPr>
          <a:xfrm>
            <a:off x="334800" y="-414360"/>
            <a:ext cx="8255160" cy="2492280"/>
            <a:chOff x="334800" y="-414360"/>
            <a:chExt cx="8255160" cy="2492280"/>
          </a:xfrm>
        </p:grpSpPr>
        <p:pic>
          <p:nvPicPr>
            <p:cNvPr id="36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34800" y="-414360"/>
              <a:ext cx="825516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71680" y="642960"/>
              <a:ext cx="77724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b5395"/>
                  </a:solidFill>
                  <a:latin typeface="Calibri"/>
                </a:rPr>
                <a:t>Словообразовательный словарь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Клип 4" descr="словообр.jpg"/>
          <p:cNvPicPr/>
          <p:nvPr/>
        </p:nvPicPr>
        <p:blipFill>
          <a:blip r:embed="rId3"/>
          <a:stretch/>
        </p:blipFill>
        <p:spPr>
          <a:xfrm>
            <a:off x="214200" y="1773360"/>
            <a:ext cx="3421080" cy="4798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714480" y="1785600"/>
            <a:ext cx="5143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e00"/>
                </a:solidFill>
                <a:latin typeface="Palatino Linotype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ловообразовательный словарь даёт сведения о том, как образуются слова в русском языке. Слова в языке очень разнообразны по структуре. Слова, кроме корня,  могут включать в себя и приставку, и суффикс, и окончание.  Словарь показывает структуру слова, элементы, из которых оно состои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словарной статье можно найти толкование некоторых непонятных слов, интересные факты, связанные как со словообразованием, так и с историей возникновения и употребления слов в русском язы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214200" y="-6660720"/>
            <a:ext cx="7128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860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р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357280" y="404280"/>
            <a:ext cx="6678720" cy="5843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ш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а       верх –ушеч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и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а       верш –ин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-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-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гляд     верх – о – гляд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в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ть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верш – и – ть     за – 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71" name="Прямая со стрелкой 16"/>
          <p:cNvCxnSpPr/>
          <p:nvPr/>
        </p:nvCxnSpPr>
        <p:spPr>
          <a:xfrm>
            <a:off x="1571400" y="271476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Прямая соединительная линия 18"/>
          <p:cNvSpPr/>
          <p:nvPr/>
        </p:nvSpPr>
        <p:spPr>
          <a:xfrm>
            <a:off x="2357280" y="857160"/>
            <a:ext cx="0" cy="45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Прямая со стрелкой 13"/>
          <p:cNvCxnSpPr/>
          <p:nvPr/>
        </p:nvCxnSpPr>
        <p:spPr>
          <a:xfrm>
            <a:off x="4857840" y="620280"/>
            <a:ext cx="4291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17"/>
          <p:cNvCxnSpPr/>
          <p:nvPr/>
        </p:nvCxnSpPr>
        <p:spPr>
          <a:xfrm>
            <a:off x="4857840" y="1052640"/>
            <a:ext cx="429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Прямая со стрелкой 20"/>
          <p:cNvCxnSpPr/>
          <p:nvPr/>
        </p:nvCxnSpPr>
        <p:spPr>
          <a:xfrm>
            <a:off x="4929120" y="5157360"/>
            <a:ext cx="2865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Прямая со стрелкой 22"/>
          <p:cNvCxnSpPr/>
          <p:nvPr/>
        </p:nvCxnSpPr>
        <p:spPr>
          <a:xfrm>
            <a:off x="4785840" y="5661000"/>
            <a:ext cx="358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Прямая со стрелкой 24"/>
          <p:cNvCxnSpPr/>
          <p:nvPr/>
        </p:nvCxnSpPr>
        <p:spPr>
          <a:xfrm>
            <a:off x="7786800" y="558972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Заголовок 1"/>
          <p:cNvGrpSpPr/>
          <p:nvPr/>
        </p:nvGrpSpPr>
        <p:grpSpPr>
          <a:xfrm>
            <a:off x="103320" y="365040"/>
            <a:ext cx="8602560" cy="1573200"/>
            <a:chOff x="103320" y="365040"/>
            <a:chExt cx="8602560" cy="1573200"/>
          </a:xfrm>
        </p:grpSpPr>
        <p:pic>
          <p:nvPicPr>
            <p:cNvPr id="37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03320" y="365040"/>
              <a:ext cx="86025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85800" y="609480"/>
              <a:ext cx="77724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500" spc="-1" strike="noStrike">
                  <a:solidFill>
                    <a:srgbClr val="c12f7f"/>
                  </a:solidFill>
                  <a:latin typeface="Bookman Old Style"/>
                </a:rPr>
                <a:t>Словарь строения слов.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Клип 4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494160" cy="4370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5800" y="1785960"/>
            <a:ext cx="44290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оварь строения слов дает полные сведения об особенностях словоизменения и строения слов разных частей речи русского языка.                                    При этом каждое слово, вошедшее в словарь, сопровождается грамматической характеристикой, помогающей понять, почему так, а не иначе изменяется то или иное слово. Основная цель словаря - стать надежным справочником для каждого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4" descr=""/>
          <p:cNvPicPr/>
          <p:nvPr/>
        </p:nvPicPr>
        <p:blipFill>
          <a:blip r:embed="rId2"/>
          <a:stretch/>
        </p:blipFill>
        <p:spPr>
          <a:xfrm>
            <a:off x="49320" y="639720"/>
            <a:ext cx="868680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пиграф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ловарь-это вся вселенная в алфавитном порядке! Если хорошенько подумать, словарь- это книга книг. Он включает в себя все другие книги, нужно лишь извлечь их из не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Анатоль Франс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2d700"/>
                </a:solidFill>
                <a:latin typeface="Mistral"/>
              </a:rPr>
              <a:t> </a:t>
            </a: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КАК ПОЛЬЗОВАТЬСЯ </a:t>
            </a:r>
            <a:br>
              <a:rPr sz="3600"/>
            </a:b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СЛОВАРЕМ</a:t>
            </a:r>
            <a:br>
              <a:rPr sz="4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143000"/>
            <a:ext cx="87487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 в словаре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расположены в алфавитном порядк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ь состоит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з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едисловия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ых статей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этому сначала внимательно изучи текст предисловия. Это поможет тебе легко ориентироваться в слова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ая статья рассказывает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о разных сторонах слова: ег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написа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правильном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оизноше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истории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слова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его состав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и способах образования, лексическом значении и т.д. Во многих словарных статьях помещаются иллюстрированные цитаты, которыми авторы словарей подтверждают, оправдывают употребление слова или выражения в языке. Цитаты эти выписываются из художественной, общественно-политической, научной и другой литературы. В качестве цитат используются пословицы, поговор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755640" y="907920"/>
            <a:ext cx="7920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4.Помни, что в большинстве словарей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в начале страницы указаны жирным шрифтом слова, которыми начинается и кончается данная страница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, либо парные три буквы этих слов. Это облегчит поиск нужного сло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5.  Помни, что в целях экономии многие пояснения в словарной статье даются в сокращенном виде.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Разъяснение к системе сокращений дается в начале словар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Palatino Linotype"/>
              </a:rPr>
              <a:t>ПРОВЕРЬ СЕБЯ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казывает, как правильно писать слова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рассказывает о происхождении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устойчивых словосочетани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заимствованных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близкие по значению к другим словам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имеющие противоположное значение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могает из одного слова образовать другие, используя суффиксы, приставки, оконча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историзмы и архаизм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оизменения и строения слов разных частей речи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Narrow"/>
              </a:rPr>
              <a:t>Какие словари нужно использовать при подготовке ответов на следующие вопросы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336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происхожд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дребезги  азбу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значение слов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ид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свеж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обозначают выражения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танталовы муки попасть впроса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вьте ударение в словах </a:t>
            </a:r>
            <a:r>
              <a:rPr b="0" lang="ru-RU" sz="2400" spc="-1" strike="noStrike">
                <a:solidFill>
                  <a:srgbClr val="55a839"/>
                </a:solidFill>
                <a:latin typeface="Constantia"/>
              </a:rPr>
              <a:t>воро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ркетинг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ясните знач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акселерация, олимпиад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должите синонимический ряд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лень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ерите антонимы к словам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холодный, ден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рьте написание слов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инегрет, 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образовано слово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писатель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estwood LE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Определить, из каких словарей </a:t>
            </a:r>
            <a:br>
              <a:rPr sz="3200"/>
            </a:b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даны словарные стать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ИПУ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. стар. – русский кафтан без козыря (стоячего ворота)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АШЕ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р. sachet) – 1)подушечка, наполненная ароматическим веществом, помещаемая среди белья для придания ему приятного запаха; 2)вышитая матерчатая сумка для белья, носовых платков и т.п. </a:t>
            </a:r>
            <a:br>
              <a:rPr sz="1800"/>
            </a:br>
            <a:r>
              <a:rPr b="1" lang="ru-RU" sz="1800" spc="-1" strike="noStrike">
                <a:solidFill>
                  <a:srgbClr val="4c7058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АЛИВАТЬСЯ СОЛОВЬЕМ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г. шутл. Увлеченно говори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ЧИПС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ов, только мн. (сер. ХХ в.) Жареный хрустящий картофель в ломтиках.- Англ. chips – жареный хрустящий картофель, мн. от chip – тонкий кусочек чего-либо (сушеного яблока, поджаренного картофеля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ГУЛЛИВЕР – ЛИЛИП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01"/>
          <p:cNvPicPr/>
          <p:nvPr/>
        </p:nvPicPr>
        <p:blipFill>
          <a:blip r:embed="rId2"/>
          <a:stretch/>
        </p:blipFill>
        <p:spPr>
          <a:xfrm>
            <a:off x="7740720" y="189000"/>
            <a:ext cx="1244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Определите,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какой перед вами словар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ое назначение толковать слова.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Кроме того, я указываю, к какой части речи принадлежит слово, даю его формы и привожу примеры употребления в реч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ри чтении журналов, газет, книг вы часто встречаетесь со словами, вошедшими в русский язык из других языков мир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 моем словаре можно получить справку о значении незнакомого иностранного слова, сведения о его происхожд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Известно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инонимы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обогащают речь, дают возможность выразить любой оттенок мысли, избежать повторения одного и того же слова. Умелый подбор синонимов придает языку красочность и выразительность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 я предлагаю эти сл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ейчас я вам прочитаю что-то очень интересно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Мальчик услышал, что пришедшая в гости старуха собаку съела в каких-то делах, и спрятал от неё свою соба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– С тобой голову потеряешь,– говорит сердитая мать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тгадали, что я за словарь?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сообщение о слове (на выбор: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богатый, ленивый, праздник, финиш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, используя словарные статьи различных словар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ьте свой небольшой словарь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«снеж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или «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лес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17196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Папа и сын делают уроки.gif"/>
          <p:cNvPicPr/>
          <p:nvPr/>
        </p:nvPicPr>
        <p:blipFill>
          <a:blip r:embed="rId3"/>
          <a:stretch/>
        </p:blipFill>
        <p:spPr>
          <a:xfrm>
            <a:off x="214200" y="2071800"/>
            <a:ext cx="364356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emenovschool3-nn.edusite.ru/DswMedia/russkoyrechigosudar-poprozvaniyuslovar-2klass.doc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langbibl-media5.ucoz.ru/index/russkoj_rechi_gosudar_po_prozvaniju_slovar/0-5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uchportal.ru/load/32-1-0-1033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audiobooks.ua/en/russian_study/slovar_trudnostei_russkogo_yazyka-25977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http://www.dom-knigi.ru/book.asp?Art=283879&amp;CatalogID=1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ttp://downloadzzle.ru/pomosh/grammatiko-orfograficheskiy-slovar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downloadzzle.ru/vrach/shkolniy-slovar-inostrannih-slov-ivanova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http://www.goodreads.ru/books/1754504/default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http://www.spletnik.ru/blogs/govoryat_chto/48109_govoryat_ch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tp://www.libex.ru/?pg=132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a.ru/books/165700/abou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book.59i.ru/index.php?ukey=product&amp;productID=538826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in.org.ru/book/23094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siti.net.ru/books/812747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xxlbook.ru/offerlab99997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усской речи государь по прозванию Словарь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Есть волшебная стран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о распахнута пред 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а, которая сло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 людьми насел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авит ими государ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прозванию Словар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аже Пушкин , я об э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стоверно говорю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 однажды за сове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ращался к словар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8" descr="BS00554_"/>
          <p:cNvPicPr/>
          <p:nvPr/>
        </p:nvPicPr>
        <p:blipFill>
          <a:blip r:embed="rId2"/>
          <a:stretch/>
        </p:blipFill>
        <p:spPr>
          <a:xfrm>
            <a:off x="5715000" y="2214720"/>
            <a:ext cx="3429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Заголовок 6"/>
          <p:cNvGrpSpPr/>
          <p:nvPr/>
        </p:nvGrpSpPr>
        <p:grpSpPr>
          <a:xfrm>
            <a:off x="334800" y="268200"/>
            <a:ext cx="8491680" cy="1474920"/>
            <a:chOff x="334800" y="268200"/>
            <a:chExt cx="8491680" cy="1474920"/>
          </a:xfrm>
        </p:grpSpPr>
        <p:pic>
          <p:nvPicPr>
            <p:cNvPr id="256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334800" y="268200"/>
              <a:ext cx="849168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5800" y="609480"/>
              <a:ext cx="7772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onstantia"/>
                </a:rPr>
                <a:t>Энциклопедические словари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Содержимое 3" descr="энциклоп.jpg"/>
          <p:cNvPicPr/>
          <p:nvPr/>
        </p:nvPicPr>
        <p:blipFill>
          <a:blip r:embed="rId3"/>
          <a:stretch/>
        </p:blipFill>
        <p:spPr>
          <a:xfrm>
            <a:off x="0" y="1981080"/>
            <a:ext cx="3786120" cy="4448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000680" y="1142640"/>
            <a:ext cx="5000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сли вы хотите узнать о разных странах, государствах, представителях культуры, искусства, если вас интересуют явления природы (затмения, землетрясения и пр.), вам хочется больше узнать о планетах, истории цивилизаций и т.д. – обращайтесь к энциклопедическим словарям. В них вы найдете ответы на вопросы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Блок-схема: перфолента 13"/>
          <p:cNvGrpSpPr/>
          <p:nvPr/>
        </p:nvGrpSpPr>
        <p:grpSpPr>
          <a:xfrm>
            <a:off x="774720" y="-244440"/>
            <a:ext cx="7326360" cy="2865240"/>
            <a:chOff x="774720" y="-244440"/>
            <a:chExt cx="7326360" cy="2865240"/>
          </a:xfrm>
        </p:grpSpPr>
        <p:pic>
          <p:nvPicPr>
            <p:cNvPr id="261" name="Блок-схема: перфолента 13" descr=""/>
            <p:cNvPicPr/>
            <p:nvPr/>
          </p:nvPicPr>
          <p:blipFill>
            <a:blip r:embed="rId2"/>
            <a:stretch/>
          </p:blipFill>
          <p:spPr>
            <a:xfrm>
              <a:off x="774720" y="-244440"/>
              <a:ext cx="73263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57200" y="414360"/>
              <a:ext cx="650088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Лингвистические словар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Цель – дать информацию о слове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Овал 18"/>
          <p:cNvGrpSpPr/>
          <p:nvPr/>
        </p:nvGrpSpPr>
        <p:grpSpPr>
          <a:xfrm>
            <a:off x="950760" y="1596960"/>
            <a:ext cx="4133880" cy="1133640"/>
            <a:chOff x="950760" y="1596960"/>
            <a:chExt cx="4133880" cy="1133640"/>
          </a:xfrm>
        </p:grpSpPr>
        <p:pic>
          <p:nvPicPr>
            <p:cNvPr id="264" name="Овал 18" descr=""/>
            <p:cNvPicPr/>
            <p:nvPr/>
          </p:nvPicPr>
          <p:blipFill>
            <a:blip r:embed="rId3"/>
            <a:stretch/>
          </p:blipFill>
          <p:spPr>
            <a:xfrm>
              <a:off x="950760" y="1596960"/>
              <a:ext cx="41338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44760" y="1747800"/>
              <a:ext cx="26254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орфографически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Овал 19"/>
          <p:cNvGrpSpPr/>
          <p:nvPr/>
        </p:nvGrpSpPr>
        <p:grpSpPr>
          <a:xfrm>
            <a:off x="738360" y="2951280"/>
            <a:ext cx="4278240" cy="1206360"/>
            <a:chOff x="738360" y="2951280"/>
            <a:chExt cx="4278240" cy="1206360"/>
          </a:xfrm>
        </p:grpSpPr>
        <p:pic>
          <p:nvPicPr>
            <p:cNvPr id="267" name="Овал 19" descr=""/>
            <p:cNvPicPr/>
            <p:nvPr/>
          </p:nvPicPr>
          <p:blipFill>
            <a:blip r:embed="rId4"/>
            <a:stretch/>
          </p:blipFill>
          <p:spPr>
            <a:xfrm>
              <a:off x="738360" y="2951280"/>
              <a:ext cx="42782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51080" y="3114720"/>
              <a:ext cx="2727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рфоэп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Овал 20"/>
          <p:cNvGrpSpPr/>
          <p:nvPr/>
        </p:nvGrpSpPr>
        <p:grpSpPr>
          <a:xfrm>
            <a:off x="-36360" y="3638520"/>
            <a:ext cx="4303440" cy="1420920"/>
            <a:chOff x="-36360" y="3638520"/>
            <a:chExt cx="4303440" cy="1420920"/>
          </a:xfrm>
        </p:grpSpPr>
        <p:pic>
          <p:nvPicPr>
            <p:cNvPr id="270" name="Овал 20" descr=""/>
            <p:cNvPicPr/>
            <p:nvPr/>
          </p:nvPicPr>
          <p:blipFill>
            <a:blip r:embed="rId5"/>
            <a:stretch/>
          </p:blipFill>
          <p:spPr>
            <a:xfrm>
              <a:off x="-36360" y="3638520"/>
              <a:ext cx="43034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88960" y="3890880"/>
              <a:ext cx="2727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ообразова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Овал 21"/>
          <p:cNvGrpSpPr/>
          <p:nvPr/>
        </p:nvGrpSpPr>
        <p:grpSpPr>
          <a:xfrm>
            <a:off x="5218200" y="1682640"/>
            <a:ext cx="3779640" cy="1346400"/>
            <a:chOff x="5218200" y="1682640"/>
            <a:chExt cx="3779640" cy="1346400"/>
          </a:xfrm>
        </p:grpSpPr>
        <p:pic>
          <p:nvPicPr>
            <p:cNvPr id="273" name="Овал 21" descr=""/>
            <p:cNvPicPr/>
            <p:nvPr/>
          </p:nvPicPr>
          <p:blipFill>
            <a:blip r:embed="rId6"/>
            <a:stretch/>
          </p:blipFill>
          <p:spPr>
            <a:xfrm>
              <a:off x="5218200" y="1682640"/>
              <a:ext cx="37796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21360" y="2114640"/>
              <a:ext cx="2173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толковые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Овал 22"/>
          <p:cNvGrpSpPr/>
          <p:nvPr/>
        </p:nvGrpSpPr>
        <p:grpSpPr>
          <a:xfrm>
            <a:off x="4803840" y="2700360"/>
            <a:ext cx="3895560" cy="1103400"/>
            <a:chOff x="4803840" y="2700360"/>
            <a:chExt cx="3895560" cy="1103400"/>
          </a:xfrm>
        </p:grpSpPr>
        <p:pic>
          <p:nvPicPr>
            <p:cNvPr id="276" name="Овал 22" descr=""/>
            <p:cNvPicPr/>
            <p:nvPr/>
          </p:nvPicPr>
          <p:blipFill>
            <a:blip r:embed="rId7"/>
            <a:stretch/>
          </p:blipFill>
          <p:spPr>
            <a:xfrm>
              <a:off x="4803840" y="2700360"/>
              <a:ext cx="3895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462640" y="2951280"/>
              <a:ext cx="2576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син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Овал 23"/>
          <p:cNvGrpSpPr/>
          <p:nvPr/>
        </p:nvGrpSpPr>
        <p:grpSpPr>
          <a:xfrm>
            <a:off x="5095800" y="3597120"/>
            <a:ext cx="4060800" cy="1292400"/>
            <a:chOff x="5095800" y="3597120"/>
            <a:chExt cx="4060800" cy="1292400"/>
          </a:xfrm>
        </p:grpSpPr>
        <p:pic>
          <p:nvPicPr>
            <p:cNvPr id="279" name="Овал 23" descr=""/>
            <p:cNvPicPr/>
            <p:nvPr/>
          </p:nvPicPr>
          <p:blipFill>
            <a:blip r:embed="rId8"/>
            <a:stretch/>
          </p:blipFill>
          <p:spPr>
            <a:xfrm>
              <a:off x="5095800" y="3597120"/>
              <a:ext cx="40608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676840" y="3757680"/>
              <a:ext cx="2576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ант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Овал 24"/>
          <p:cNvGrpSpPr/>
          <p:nvPr/>
        </p:nvGrpSpPr>
        <p:grpSpPr>
          <a:xfrm>
            <a:off x="4206960" y="5767560"/>
            <a:ext cx="4741920" cy="1206360"/>
            <a:chOff x="4206960" y="5767560"/>
            <a:chExt cx="4741920" cy="1206360"/>
          </a:xfrm>
        </p:grpSpPr>
        <p:pic>
          <p:nvPicPr>
            <p:cNvPr id="282" name="Овал 24" descr=""/>
            <p:cNvPicPr/>
            <p:nvPr/>
          </p:nvPicPr>
          <p:blipFill>
            <a:blip r:embed="rId9"/>
            <a:stretch/>
          </p:blipFill>
          <p:spPr>
            <a:xfrm>
              <a:off x="4206960" y="5767560"/>
              <a:ext cx="47419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210280" y="5911920"/>
              <a:ext cx="30812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фразе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Овал 25"/>
          <p:cNvGrpSpPr/>
          <p:nvPr/>
        </p:nvGrpSpPr>
        <p:grpSpPr>
          <a:xfrm>
            <a:off x="4413240" y="4900680"/>
            <a:ext cx="4761000" cy="1036440"/>
            <a:chOff x="4413240" y="4900680"/>
            <a:chExt cx="4761000" cy="1036440"/>
          </a:xfrm>
        </p:grpSpPr>
        <p:pic>
          <p:nvPicPr>
            <p:cNvPr id="285" name="Овал 25" descr=""/>
            <p:cNvPicPr/>
            <p:nvPr/>
          </p:nvPicPr>
          <p:blipFill>
            <a:blip r:embed="rId10"/>
            <a:stretch/>
          </p:blipFill>
          <p:spPr>
            <a:xfrm>
              <a:off x="4413240" y="4900680"/>
              <a:ext cx="4761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24480" y="5022720"/>
              <a:ext cx="3081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иностранны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Овал 26"/>
          <p:cNvGrpSpPr/>
          <p:nvPr/>
        </p:nvGrpSpPr>
        <p:grpSpPr>
          <a:xfrm>
            <a:off x="-55440" y="5157720"/>
            <a:ext cx="4646520" cy="1219320"/>
            <a:chOff x="-55440" y="5157720"/>
            <a:chExt cx="4646520" cy="1219320"/>
          </a:xfrm>
        </p:grpSpPr>
        <p:pic>
          <p:nvPicPr>
            <p:cNvPr id="288" name="Овал 26" descr=""/>
            <p:cNvPicPr/>
            <p:nvPr/>
          </p:nvPicPr>
          <p:blipFill>
            <a:blip r:embed="rId11"/>
            <a:stretch/>
          </p:blipFill>
          <p:spPr>
            <a:xfrm>
              <a:off x="-55440" y="5157720"/>
              <a:ext cx="464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17400" y="5329080"/>
              <a:ext cx="29797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этим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Овал 27"/>
          <p:cNvGrpSpPr/>
          <p:nvPr/>
        </p:nvGrpSpPr>
        <p:grpSpPr>
          <a:xfrm>
            <a:off x="444600" y="5803920"/>
            <a:ext cx="4578120" cy="1419120"/>
            <a:chOff x="444600" y="5803920"/>
            <a:chExt cx="4578120" cy="1419120"/>
          </a:xfrm>
        </p:grpSpPr>
        <p:pic>
          <p:nvPicPr>
            <p:cNvPr id="291" name="Овал 27" descr=""/>
            <p:cNvPicPr/>
            <p:nvPr/>
          </p:nvPicPr>
          <p:blipFill>
            <a:blip r:embed="rId12"/>
            <a:stretch/>
          </p:blipFill>
          <p:spPr>
            <a:xfrm>
              <a:off x="444600" y="5803920"/>
              <a:ext cx="45781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06640" y="6027840"/>
              <a:ext cx="29304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арь устаревши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Овал 12"/>
          <p:cNvSpPr/>
          <p:nvPr/>
        </p:nvSpPr>
        <p:spPr>
          <a:xfrm>
            <a:off x="285840" y="2357280"/>
            <a:ext cx="3000240" cy="64296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амматико -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рфограф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Овал 14"/>
          <p:cNvSpPr/>
          <p:nvPr/>
        </p:nvSpPr>
        <p:spPr>
          <a:xfrm>
            <a:off x="2000160" y="4500720"/>
            <a:ext cx="3429000" cy="71424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словарь строения сло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Rectangle 2"/>
          <p:cNvGrpSpPr/>
          <p:nvPr/>
        </p:nvGrpSpPr>
        <p:grpSpPr>
          <a:xfrm>
            <a:off x="639720" y="-208080"/>
            <a:ext cx="8169480" cy="2713320"/>
            <a:chOff x="639720" y="-208080"/>
            <a:chExt cx="8169480" cy="2713320"/>
          </a:xfrm>
        </p:grpSpPr>
        <p:pic>
          <p:nvPicPr>
            <p:cNvPr id="296" name="Rectangle 2" descr=""/>
            <p:cNvPicPr/>
            <p:nvPr/>
          </p:nvPicPr>
          <p:blipFill>
            <a:blip r:embed="rId2"/>
            <a:stretch/>
          </p:blipFill>
          <p:spPr>
            <a:xfrm>
              <a:off x="639720" y="-208080"/>
              <a:ext cx="81694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000080" y="142920"/>
              <a:ext cx="7772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Bookman Old Style"/>
                </a:rPr>
                <a:t>Толковый словарь русского языка.</a:t>
              </a:r>
              <a:br>
                <a:rPr sz="3600"/>
              </a:br>
              <a:r>
                <a:rPr b="1" lang="en-US" sz="2900" spc="-1" strike="noStrike">
                  <a:solidFill>
                    <a:srgbClr val="0f6fc6"/>
                  </a:solidFill>
                  <a:latin typeface="Bookman Old Style"/>
                </a:rPr>
                <a:t>Его задача – давать толкование, объяснение значения слова.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26708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Клип 6" descr="257950.jpg"/>
          <p:cNvPicPr/>
          <p:nvPr/>
        </p:nvPicPr>
        <p:blipFill>
          <a:blip r:embed="rId3"/>
          <a:stretch/>
        </p:blipFill>
        <p:spPr>
          <a:xfrm>
            <a:off x="285840" y="1981080"/>
            <a:ext cx="3903480" cy="4876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7" descr="1847566.jpg"/>
          <p:cNvPicPr/>
          <p:nvPr/>
        </p:nvPicPr>
        <p:blipFill>
          <a:blip r:embed="rId4"/>
          <a:stretch/>
        </p:blipFill>
        <p:spPr>
          <a:xfrm>
            <a:off x="4500720" y="2000160"/>
            <a:ext cx="40719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ШКОЛЬНЫЙ ТОЛКОВЫЙ СЛОВАРЬ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Объяснить любое слово 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может нам словарь толковы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560" y="1981080"/>
            <a:ext cx="54291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олковый словарь – тип словаря, в котором объясняется, растолковывается значение слова. Это настоящая кладовая языковых богатств, и читать их – одно удовольствие. Причем польза от этого чтения очень большая: вы узнаете значение слов, которые слышали или встречали в книге, а порой и вообще они могут явиться для вас открытие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11640" cy="4392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Заголовок 4"/>
          <p:cNvGrpSpPr/>
          <p:nvPr/>
        </p:nvGrpSpPr>
        <p:grpSpPr>
          <a:xfrm>
            <a:off x="347760" y="262080"/>
            <a:ext cx="8905680" cy="2292120"/>
            <a:chOff x="347760" y="262080"/>
            <a:chExt cx="8905680" cy="2292120"/>
          </a:xfrm>
        </p:grpSpPr>
        <p:pic>
          <p:nvPicPr>
            <p:cNvPr id="305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347760" y="262080"/>
              <a:ext cx="890568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4617b"/>
                  </a:solidFill>
                  <a:latin typeface="Calibri"/>
                </a:rPr>
                <a:t>Однозначные и многозначные слова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кач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и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пециальное здание с насосами для подачи 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лаз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а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Специалист, занимающийся подводными работами в водонепроницаемом костюме и со специальным снаряжением.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ильная, хорошо плавающая собака, используемая для спасения утопающ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3:30:40Z</dcterms:created>
  <dc:creator>User</dc:creator>
  <dc:description/>
  <dc:language>en-US</dc:language>
  <cp:lastModifiedBy>Мама</cp:lastModifiedBy>
  <dcterms:modified xsi:type="dcterms:W3CDTF">2012-07-24T13:05:14Z</dcterms:modified>
  <cp:revision>120</cp:revision>
  <dc:subject/>
  <dc:title>Русской речи государь по прозванию Словарь.</dc:title>
</cp:coreProperties>
</file>