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2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29.png" ContentType="image/png"/>
  <Override PartName="/ppt/media/image32.png" ContentType="image/png"/>
  <Override PartName="/ppt/media/image35.png" ContentType="image/png"/>
  <Override PartName="/ppt/media/image5.jpeg" ContentType="image/jpeg"/>
  <Override PartName="/ppt/media/image4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7AFE-21E4-46DF-91B0-A3F55B251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3EE2-73DD-4012-98B2-4810C168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6D7A-921A-44FD-A79D-7F58CA59B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5F7A-2A44-49CE-AAED-390F44F1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D2FD-35F8-4302-A87C-A57655046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BAC9-FAF3-4B8E-9E68-5888FE6F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9695-4056-4D51-9511-6E55C218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478A-52B2-4085-8BEC-AEF7C0B3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27BE-7FD0-45D2-8A06-9713E38E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1AA1-B0E0-4A55-92D4-87AA6B46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4BC5-764C-49F9-AEB2-5EA34640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564A-EA92-494C-A908-2DD2958B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5E84-7390-4CC3-A61A-5AF36F59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4A8E-07D5-4AE7-BD31-2BA8D1B8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88DC-BD43-4D64-9B2D-5A03C936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75A5-C2C6-439C-9643-EEFA70795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9401-306A-4B0A-A963-840713227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6C63-9454-4BAF-AABB-E81D855E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156A-88BB-4F51-98EF-6D58CF5C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BDF5-4D19-4F7C-8EB0-25933958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0504-A84E-40A1-9D0D-BCC78D51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0D97-460C-493E-A12B-074E9828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576E-0D32-4A79-8CB5-4E1EA537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2261-7BC9-4FF3-9948-CF23A446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F572-FE6C-41B0-B2DC-B1885E1FB6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5576-ECA9-4AFF-B652-210C8F80FCB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40.png"/><Relationship Id="rId11" Type="http://schemas.openxmlformats.org/officeDocument/2006/relationships/image" Target="../media/image41.png"/><Relationship Id="rId12" Type="http://schemas.openxmlformats.org/officeDocument/2006/relationships/image" Target="../media/image4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26920" y="1989000"/>
            <a:ext cx="7483680" cy="15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1" lang="ru-RU" sz="4800" spc="-1" strike="noStrike">
                <a:solidFill>
                  <a:srgbClr val="ffffcc"/>
                </a:solidFill>
                <a:latin typeface="Tahoma"/>
              </a:rPr>
              <a:t>Фракталы: наука и искусство </a:t>
            </a: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XXI</a:t>
            </a:r>
            <a:r>
              <a:rPr b="1" lang="ru-RU" sz="4800" spc="-1" strike="noStrike">
                <a:solidFill>
                  <a:srgbClr val="ffffcc"/>
                </a:solidFill>
                <a:latin typeface="Tahoma"/>
              </a:rPr>
              <a:t> века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»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3419640" y="6308640"/>
            <a:ext cx="2376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лжский, 2006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84360" y="33300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правление образования административного городского округа – город Волжский Волгоград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униципальное образовательное учре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редняя общеобразовательная школа № 14 «Зеленый шум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995640" y="4292640"/>
            <a:ext cx="47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втор Боржес А.-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уководитель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Лопатина И.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Звезда Коха (из квадрата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2408040" cy="251964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3780000" y="2276640"/>
            <a:ext cx="2423880" cy="259236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3"/>
          <a:stretch/>
        </p:blipFill>
        <p:spPr>
          <a:xfrm>
            <a:off x="7236000" y="3213000"/>
            <a:ext cx="1296720" cy="108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37" name=""/>
          <p:cNvSpPr/>
          <p:nvPr/>
        </p:nvSpPr>
        <p:spPr>
          <a:xfrm>
            <a:off x="2843280" y="3141720"/>
            <a:ext cx="863640" cy="100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300720" y="3213000"/>
            <a:ext cx="64764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Звезда Коха (из шестиугольника и окружности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1042920" y="2565360"/>
            <a:ext cx="2543400" cy="281952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5148360" y="2492280"/>
            <a:ext cx="289548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Фрактал Вацлава Серпинского («Ковер Серпинского»)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108000" y="2852640"/>
            <a:ext cx="1819080" cy="175284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2771640" y="2781360"/>
            <a:ext cx="1689120" cy="18000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3"/>
          <a:stretch/>
        </p:blipFill>
        <p:spPr>
          <a:xfrm>
            <a:off x="5364000" y="2708280"/>
            <a:ext cx="1686240" cy="187632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4"/>
          <a:stretch/>
        </p:blipFill>
        <p:spPr>
          <a:xfrm>
            <a:off x="7956720" y="3284640"/>
            <a:ext cx="1046160" cy="871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47" name=""/>
          <p:cNvSpPr/>
          <p:nvPr/>
        </p:nvSpPr>
        <p:spPr>
          <a:xfrm>
            <a:off x="1979640" y="3213000"/>
            <a:ext cx="720720" cy="93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572000" y="3213000"/>
            <a:ext cx="720720" cy="93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093080" y="3213000"/>
            <a:ext cx="720720" cy="93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Фрактал Вацлава Серпинского («Салфетка Серпинского»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3562200" cy="31572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4140360" y="3141360"/>
            <a:ext cx="43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лучается из треугольника последовательным вырезанием серединных правильных треуголь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Фрактальная кривая Д. Пеано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108000" y="1557360"/>
            <a:ext cx="1563480" cy="165564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2340000" y="1557360"/>
            <a:ext cx="1635120" cy="172872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3"/>
          <a:stretch/>
        </p:blipFill>
        <p:spPr>
          <a:xfrm>
            <a:off x="4643280" y="1628640"/>
            <a:ext cx="1584360" cy="155736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4"/>
          <a:stretch/>
        </p:blipFill>
        <p:spPr>
          <a:xfrm>
            <a:off x="6948360" y="1628640"/>
            <a:ext cx="1505160" cy="158436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5"/>
          <a:stretch/>
        </p:blipFill>
        <p:spPr>
          <a:xfrm>
            <a:off x="826920" y="4076640"/>
            <a:ext cx="1638360" cy="172872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6"/>
          <a:stretch/>
        </p:blipFill>
        <p:spPr>
          <a:xfrm>
            <a:off x="3419640" y="4076640"/>
            <a:ext cx="1591920" cy="165744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7"/>
          <a:stretch/>
        </p:blipFill>
        <p:spPr>
          <a:xfrm>
            <a:off x="6156360" y="4508640"/>
            <a:ext cx="1081080" cy="901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1" name=""/>
          <p:cNvSpPr/>
          <p:nvPr/>
        </p:nvSpPr>
        <p:spPr>
          <a:xfrm>
            <a:off x="1763640" y="1989000"/>
            <a:ext cx="50328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067280" y="1916280"/>
            <a:ext cx="503280" cy="93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300720" y="1989000"/>
            <a:ext cx="50328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280" y="4437000"/>
            <a:ext cx="50328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627280" y="4508640"/>
            <a:ext cx="503280" cy="93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532720" y="1989000"/>
            <a:ext cx="503280" cy="93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076720" y="4508640"/>
            <a:ext cx="503280" cy="93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Кривая дракона” Э. Хейуэея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971640" cy="105732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1763640" y="1484280"/>
            <a:ext cx="1324080" cy="109548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3"/>
          <a:stretch/>
        </p:blipFill>
        <p:spPr>
          <a:xfrm>
            <a:off x="3708360" y="1484280"/>
            <a:ext cx="1924200" cy="110484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4"/>
          <a:stretch/>
        </p:blipFill>
        <p:spPr>
          <a:xfrm>
            <a:off x="6300720" y="1413000"/>
            <a:ext cx="1038240" cy="128592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5"/>
          <a:stretch/>
        </p:blipFill>
        <p:spPr>
          <a:xfrm>
            <a:off x="7956720" y="1557360"/>
            <a:ext cx="865080" cy="115092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6"/>
          <a:stretch/>
        </p:blipFill>
        <p:spPr>
          <a:xfrm>
            <a:off x="900000" y="3213000"/>
            <a:ext cx="1381320" cy="132408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7"/>
          <a:stretch/>
        </p:blipFill>
        <p:spPr>
          <a:xfrm>
            <a:off x="2987640" y="3213000"/>
            <a:ext cx="1171440" cy="140040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8"/>
          <a:stretch/>
        </p:blipFill>
        <p:spPr>
          <a:xfrm>
            <a:off x="4788000" y="3284640"/>
            <a:ext cx="1695240" cy="138096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9"/>
          <a:stretch/>
        </p:blipFill>
        <p:spPr>
          <a:xfrm>
            <a:off x="7164360" y="3357720"/>
            <a:ext cx="1360440" cy="136836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10"/>
          <a:stretch/>
        </p:blipFill>
        <p:spPr>
          <a:xfrm>
            <a:off x="755640" y="4797360"/>
            <a:ext cx="1544760" cy="1909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11"/>
          <a:stretch/>
        </p:blipFill>
        <p:spPr>
          <a:xfrm>
            <a:off x="2987640" y="4869000"/>
            <a:ext cx="1278000" cy="1779480"/>
          </a:xfrm>
          <a:prstGeom prst="rect">
            <a:avLst/>
          </a:prstGeom>
          <a:ln w="0">
            <a:noFill/>
          </a:ln>
        </p:spPr>
      </p:pic>
      <p:pic>
        <p:nvPicPr>
          <p:cNvPr id="480" name="34" descr=""/>
          <p:cNvPicPr/>
          <p:nvPr/>
        </p:nvPicPr>
        <p:blipFill>
          <a:blip r:embed="rId12"/>
          <a:srcRect l="0" t="0" r="0" b="2664"/>
          <a:stretch/>
        </p:blipFill>
        <p:spPr>
          <a:xfrm>
            <a:off x="4932360" y="5084640"/>
            <a:ext cx="1171440" cy="151128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13"/>
          <a:stretch/>
        </p:blipFill>
        <p:spPr>
          <a:xfrm>
            <a:off x="6877080" y="5300640"/>
            <a:ext cx="1297080" cy="108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82" name=""/>
          <p:cNvSpPr/>
          <p:nvPr/>
        </p:nvSpPr>
        <p:spPr>
          <a:xfrm>
            <a:off x="1187280" y="1557360"/>
            <a:ext cx="50328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340000" y="3429000"/>
            <a:ext cx="50328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920" y="3429000"/>
            <a:ext cx="50328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380360" y="1700280"/>
            <a:ext cx="50328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724360" y="1628640"/>
            <a:ext cx="50328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132000" y="1557360"/>
            <a:ext cx="50328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854920" y="1773360"/>
            <a:ext cx="289080" cy="93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156360" y="5373720"/>
            <a:ext cx="50328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356000" y="5373720"/>
            <a:ext cx="50328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604360" y="3645000"/>
            <a:ext cx="323640" cy="863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588000" y="3573360"/>
            <a:ext cx="50328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211640" y="3500280"/>
            <a:ext cx="50328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79280" y="5300640"/>
            <a:ext cx="50328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40000" y="5373720"/>
            <a:ext cx="50328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писок литератур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"/>
          <p:cNvSpPr/>
          <p:nvPr/>
        </p:nvSpPr>
        <p:spPr>
          <a:xfrm>
            <a:off x="250920" y="897840"/>
            <a:ext cx="8569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Азевич А.И. Фракталы: геометрия и искусство М.: Мир, 1995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Бондаренко В.А., Дольников В.Л. Фрактальное сжатие изображений // Автоматика и телемеханика. – 1994. – № 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Витолин Д.П. Применение фракталов в машинной графике //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puterworld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– Россия. – 1995. – № 1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Волошинов А.В. Математика и искусство – М.: Просвещение, 200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Вишик М.И. Фрактальная размерность множеств. Соросовский образовательный журнал. № 1, 1998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Жиков В.И. Фракталы. Соросовский образовательный журнал. № 12, 199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 Кроновер Р.М., Фракталы и хаос в динамических системах. Основы теор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. Мандельброт Б. Фрактальная геометрия прир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7. Морозов А.Д., Введение в теорию фрактал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. Пайттен Х.Щ., Рихтер П.Х. Красота фракталов. Пер. с англ. – М.: Мир, 199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9. С. Пейперт Переворот в сознании: дети, компьютеры и плодотворные идеи. – М.: Педагогика, 1989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. Федер Е. Фракталы. Пер. с англ. – М.: Мир, 199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1. Шабаршин А.А. Введение во фракталы. – Екатеринбург, 1998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2. Шредер М., Фракталы, хаос, степенные зако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-158760" y="548640"/>
            <a:ext cx="960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геометрии, используемо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для описания природных процессов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6920" y="2997360"/>
            <a:ext cx="3529080" cy="1944360"/>
          </a:xfrm>
          <a:prstGeom prst="rightArrowCallout">
            <a:avLst>
              <a:gd name="adj1" fmla="val 25002"/>
              <a:gd name="adj2" fmla="val 25000"/>
              <a:gd name="adj3" fmla="val 30251"/>
              <a:gd name="adj4" fmla="val 66667"/>
            </a:avLst>
          </a:prstGeom>
          <a:solidFill>
            <a:srgbClr val="ffffff">
              <a:alpha val="84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5c6c"/>
                </a:solidFill>
                <a:latin typeface="Tahoma"/>
              </a:rPr>
              <a:t>Классическ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5c6c"/>
                </a:solidFill>
                <a:latin typeface="Tahoma"/>
              </a:rPr>
              <a:t>геомет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572000" y="3573360"/>
            <a:ext cx="4321080" cy="792360"/>
          </a:xfrm>
          <a:prstGeom prst="rect">
            <a:avLst/>
          </a:prstGeom>
          <a:solidFill>
            <a:srgbClr val="ffffff">
              <a:alpha val="84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5c6c"/>
                </a:solidFill>
                <a:latin typeface="Tahoma"/>
              </a:rPr>
              <a:t>Фрактальная геометрия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Фрактальные структуры в природе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2303640" cy="23036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5796000" y="2492280"/>
            <a:ext cx="2608200" cy="367344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1258920" y="4005360"/>
            <a:ext cx="331164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2556000" y="135180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Типы фрактало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274080" y="3141000"/>
            <a:ext cx="22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Геометрическ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ракталы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4120" y="3068640"/>
            <a:ext cx="22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лгебраическ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ракта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404880" y="3068640"/>
            <a:ext cx="21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тохастическ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ракта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1763640" y="2133720"/>
            <a:ext cx="19447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500720" y="2133720"/>
            <a:ext cx="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292720" y="2133720"/>
            <a:ext cx="187164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50920" y="414972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403" name="ctchsbi003" descr=""/>
          <p:cNvPicPr/>
          <p:nvPr/>
        </p:nvPicPr>
        <p:blipFill>
          <a:blip r:embed="rId2"/>
          <a:stretch/>
        </p:blipFill>
        <p:spPr>
          <a:xfrm>
            <a:off x="3419640" y="4149720"/>
            <a:ext cx="2089080" cy="89064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6588000" y="4076640"/>
            <a:ext cx="1994040" cy="216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Алгебраические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фракталы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3968640" cy="4554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07" name=""/>
          <p:cNvSpPr/>
          <p:nvPr/>
        </p:nvSpPr>
        <p:spPr>
          <a:xfrm>
            <a:off x="4572000" y="2781360"/>
            <a:ext cx="388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амая крупная группа фракталов. Получают их с помощью нелинейных процессов в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-мерных пространствах. Наиболее изучены двумерные процессы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Стохастические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фракталы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9" name="ctchsbi003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3166920" cy="1349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611280" y="40766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бразуются в случае случайной перемены в итерационном процессе параметров фрактала. Двумерные стохастические фракталы используются при моделировании рельефа местности и поверхности мор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Геометрические фракталы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"/>
          <p:cNvSpPr/>
          <p:nvPr/>
        </p:nvSpPr>
        <p:spPr>
          <a:xfrm>
            <a:off x="468360" y="2288160"/>
            <a:ext cx="8136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). Звезда Кох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). Фрактал Вацлава Серпинского («Ковер Серпинского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). Фрактальная кривая Д.Пеан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). “Кривая дракона” Э. Хейуэе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Звезда Коха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(из треугольников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1695600" cy="1857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3059280" y="1844640"/>
            <a:ext cx="1693800" cy="1871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5867280" y="1844640"/>
            <a:ext cx="1792440" cy="1871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1187280" y="4292640"/>
            <a:ext cx="1716120" cy="1944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18" name="" descr=""/>
          <p:cNvPicPr/>
          <p:nvPr/>
        </p:nvPicPr>
        <p:blipFill>
          <a:blip r:embed="rId5"/>
          <a:stretch/>
        </p:blipFill>
        <p:spPr>
          <a:xfrm>
            <a:off x="3924360" y="4292640"/>
            <a:ext cx="1711440" cy="1871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19" name="" descr=""/>
          <p:cNvPicPr/>
          <p:nvPr/>
        </p:nvPicPr>
        <p:blipFill>
          <a:blip r:embed="rId6"/>
          <a:stretch/>
        </p:blipFill>
        <p:spPr>
          <a:xfrm>
            <a:off x="6804000" y="4724280"/>
            <a:ext cx="1297080" cy="108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20" name=""/>
          <p:cNvSpPr/>
          <p:nvPr/>
        </p:nvSpPr>
        <p:spPr>
          <a:xfrm>
            <a:off x="2195640" y="2421000"/>
            <a:ext cx="720720" cy="79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2421000"/>
            <a:ext cx="720720" cy="79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885080" y="2421000"/>
            <a:ext cx="720720" cy="79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50920" y="4869000"/>
            <a:ext cx="720720" cy="79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59280" y="4869000"/>
            <a:ext cx="720720" cy="79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796000" y="4941720"/>
            <a:ext cx="720720" cy="792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Звезда Коха (из квадрата)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1752480" cy="19717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2700360" y="2781360"/>
            <a:ext cx="1866960" cy="194472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3"/>
          <a:stretch/>
        </p:blipFill>
        <p:spPr>
          <a:xfrm>
            <a:off x="5580000" y="2708280"/>
            <a:ext cx="1922400" cy="20160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2050920" y="3284640"/>
            <a:ext cx="505080" cy="79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643280" y="3357720"/>
            <a:ext cx="792360" cy="792000"/>
          </a:xfrm>
          <a:prstGeom prst="rightArrow">
            <a:avLst>
              <a:gd name="adj1" fmla="val 50000"/>
              <a:gd name="adj2" fmla="val 25011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667640" y="3284640"/>
            <a:ext cx="719280" cy="86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1T12:10:32Z</dcterms:created>
  <dc:creator>Nautilus</dc:creator>
  <dc:description/>
  <dc:language>en-US</dc:language>
  <cp:lastModifiedBy>Nautilus</cp:lastModifiedBy>
  <dcterms:modified xsi:type="dcterms:W3CDTF">2006-05-31T19:34:04Z</dcterms:modified>
  <cp:revision>7</cp:revision>
  <dc:subject/>
  <dc:title>«Геометрия в архитектуре»</dc:title>
</cp:coreProperties>
</file>