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0B-7181-4453-B932-7042C3B2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2EB-3C47-4F59-A3BF-E099B56B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599-565E-4C9D-B5AE-B4A3060A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DA6-E870-4338-9F29-79175190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4A786-FCFD-4E39-9002-B39E3EBA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66561-C04F-4D39-A004-F25B6CAB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79B6-F8CA-4A54-AB15-1267A5A3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347F6-1C8C-4873-B7C9-DF567CCD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FF926-4D56-4607-834F-F770B00D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8EA5-3BBC-41DD-B897-0C72AF3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1653C-1843-4D8D-A1AC-2F02D4C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DD5-C6E7-4DBF-8277-3C35FEF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A0999-3DFC-424D-A098-2859FD7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33DF0-AF16-4FDF-9EE0-E9FEC9E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ED6BF-B549-40C2-8418-582A6495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DC815-058B-486E-AAA0-731D91CA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166A-9298-4321-9E4D-1F541C35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82C-F239-4C3A-8C70-CF50E7EF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CEF-C297-42D7-BE9D-8E84B77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12-19A7-4705-BEEC-E478726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DD6-8E07-4BD5-B784-D897B6F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A6B-6B25-4AB9-BC9B-B964753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E8E-D588-42A7-8214-29F3242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97B-580B-4826-992B-EFA89D2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1724-9D84-49A2-BF0E-FB2692927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54E-CF3A-4A5D-B904-AFF052AA23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DSC01823"/>
          <p:cNvPicPr/>
          <p:nvPr/>
        </p:nvPicPr>
        <p:blipFill>
          <a:blip r:embed="rId1"/>
          <a:stretch/>
        </p:blipFill>
        <p:spPr>
          <a:xfrm>
            <a:off x="3132000" y="4994280"/>
            <a:ext cx="1965600" cy="1479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571680" y="157320"/>
            <a:ext cx="82627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80047"/>
                </a:solidFill>
                <a:latin typeface="Tahoma"/>
                <a:ea typeface="Times New Roman"/>
              </a:rPr>
              <a:t>Профессия: «Повар, кондитер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Срок обуч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5a00"/>
                </a:solidFill>
                <a:latin typeface="Calibri"/>
                <a:ea typeface="Times New Roman"/>
              </a:rPr>
              <a:t>2,5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года с получением среднего (полного) общего образования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чального профессионального образования</a:t>
            </a:r>
            <a:r>
              <a:rPr b="0" lang="ru-RU" sz="1400" spc="-1" strike="noStrike">
                <a:solidFill>
                  <a:srgbClr val="005a00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ем на базе основного общего образо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Наименование профессий, согласно общероссийскому классификатору профессии рабочих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должностей служащих и тарифных разрядов включа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Повар 3-4 разря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3deb3d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eb3d"/>
                </a:solidFill>
                <a:latin typeface="Tahoma"/>
                <a:ea typeface="Times New Roman"/>
              </a:rPr>
              <a:t>Кондитер 3-4 разря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Область профессиональной деятельности выпускников</a:t>
            </a:r>
            <a:r>
              <a:rPr b="0" lang="ru-RU" sz="1400" spc="-1" strike="noStrike">
                <a:solidFill>
                  <a:srgbClr val="000073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приготовление широкого ассортимента простых и основных кулинарных блюд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5a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  <a:ea typeface="Times New Roman"/>
              </a:rPr>
              <a:t>основных хлебобулочных и кондитерских изделий с учетом потребностей различных категорий потребител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           </a:t>
            </a:r>
            <a:r>
              <a:rPr b="0" i="1" lang="ru-RU" sz="1400" spc="-1" strike="noStrike">
                <a:solidFill>
                  <a:srgbClr val="008080"/>
                </a:solidFill>
                <a:latin typeface="Tahoma"/>
                <a:ea typeface="Times New Roman"/>
              </a:rPr>
              <a:t>Ведут профессиональную подготовк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подаватель и мастер п/о II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Красовская Ирина Федоровна</a:t>
            </a:r>
            <a:r>
              <a:rPr b="0" lang="ru-RU" sz="1400" spc="-1" strike="noStrike">
                <a:solidFill>
                  <a:srgbClr val="0000ff"/>
                </a:solidFill>
                <a:latin typeface="Tw Cen MT Condensed Extra Bold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1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- </a:t>
            </a: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Шетёмина Елена Петро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пециальное, стаж работы — 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а, мастер второй категории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ahoma"/>
                <a:ea typeface="Times New Roman"/>
              </a:rPr>
              <a:t>Воробьева Анастасия Николаевна</a:t>
            </a:r>
            <a:r>
              <a:rPr b="0" lang="ru-RU" sz="1400" spc="-1" strike="noStrike">
                <a:solidFill>
                  <a:srgbClr val="c00000"/>
                </a:solidFill>
                <a:latin typeface="Tw Cen MT Condensed Extra Bold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образование среднее профессионально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выпускница ОГОУ НПО ПУ №12, стаж работы -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5 лет</a:t>
            </a:r>
            <a:r>
              <a:rPr b="0" lang="ru-RU" sz="1400" spc="-1" strike="noStrike">
                <a:solidFill>
                  <a:srgbClr val="ffffff"/>
                </a:solidFill>
                <a:latin typeface="Tw Cen MT Condensed Extra Bold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442040" y="1698480"/>
            <a:ext cx="25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42040" y="31568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466160" y="47034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Monotype Corsiva"/>
              </a:rPr>
              <a:t>Повар, кондитер 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5280" y="1700280"/>
            <a:ext cx="59767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Это одна из самых нужных, и важных профессий в мире. Ведь ни один человек не обходится без пищи ни д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А для того, чтобы  красиво приготовить вкусную и качественную  пищу , необходимы знания и навыки. Эти знания вы можете приобрести в нашем профессиональном училищ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                     № </a:t>
            </a: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Monotype Corsiva"/>
              </a:rPr>
              <a:t>Профессия «повар, кондитер</a:t>
            </a:r>
            <a:r>
              <a:rPr b="0" lang="ru-RU" sz="6000" spc="-1" strike="noStrike">
                <a:solidFill>
                  <a:srgbClr val="cc3300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00360" y="1628640"/>
            <a:ext cx="4174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от вам повар – кулин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Все готовит вкусн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Его блюда просто д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Monotype Corsiva"/>
              </a:rPr>
              <a:t>А торты - искусст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DSC02099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551664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24000" y="-5755320"/>
            <a:ext cx="198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Monotype Corsiva"/>
              </a:rPr>
              <a:t>Старая русская пословица гласит: « Добрый повар стоит доктора». Действительно, повару, как и врачу, нельзя быть равнодушным. Ведь от того, как накормить человека, зависит и его здоровье, и настроение. Это такая профессия, которая требует постоянного поиска, творческой фантазии, потому что надо приятно удивлять посетителя каждый раз, когда он заходит в столовую, кафе, рестора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215"/>
          <p:cNvPicPr/>
          <p:nvPr/>
        </p:nvPicPr>
        <p:blipFill>
          <a:blip r:embed="rId1"/>
          <a:stretch/>
        </p:blipFill>
        <p:spPr>
          <a:xfrm>
            <a:off x="250920" y="1413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684360" y="-5532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249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Monotype Corsiva"/>
              </a:rPr>
              <a:t>Многие учащиеся кулинарных  училищ на вопрос, почему они выбрали профессию повара, отвечают так: «Люблю готовить», «Хочу придумать новые, никому не известные блюда». А опытные повара говорят: «Работа у нас такая – доставлять людям радость. А иначе зачем идти в повара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DSC01117"/>
          <p:cNvPicPr/>
          <p:nvPr/>
        </p:nvPicPr>
        <p:blipFill>
          <a:blip r:embed="rId1"/>
          <a:stretch/>
        </p:blipFill>
        <p:spPr>
          <a:xfrm>
            <a:off x="179280" y="1268280"/>
            <a:ext cx="47530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49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449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612720" y="-5163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720" y="404640"/>
            <a:ext cx="43876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99ff66"/>
                </a:solidFill>
                <a:latin typeface="Monotype Corsiva"/>
              </a:rPr>
              <a:t>Кулинарное искусство приобретается человеком в течении долгих лет учебы и практики. Не каждый способен стать хорошим поваром, но стремиться к  этому должны все, воспитывая в себе любовь к творчеству поиск нового и желание доставить людям радость. Талант повара в том, и заключается, что бы установить свои «тайные»; неведомые для окружающих отношения к продук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DSC01504"/>
          <p:cNvPicPr/>
          <p:nvPr/>
        </p:nvPicPr>
        <p:blipFill>
          <a:blip r:embed="rId1"/>
          <a:stretch/>
        </p:blipFill>
        <p:spPr>
          <a:xfrm>
            <a:off x="395280" y="1484280"/>
            <a:ext cx="4392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1:23:33Z</dcterms:created>
  <dc:creator>USER</dc:creator>
  <dc:description/>
  <dc:language>en-US</dc:language>
  <cp:lastModifiedBy>ZooM</cp:lastModifiedBy>
  <dcterms:modified xsi:type="dcterms:W3CDTF">2013-11-07T18:19:15Z</dcterms:modified>
  <cp:revision>26</cp:revision>
  <dc:subject/>
  <dc:title>Профессия «повар, кондитер»</dc:title>
</cp:coreProperties>
</file>