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1FB-ED48-4F4C-80A4-3EF5DE14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854-471B-4484-A831-879DEEC5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3D7-CDEE-4C18-A9A0-F0DA1FCE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92D-326B-47BE-ADB7-0685DD20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81C4-8DF4-4DA4-820D-B4489883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95AE1-9250-46FC-874F-74E24D8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9AB6-7119-4D1E-A795-B26D721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0A8C9-7410-4CE0-8376-55FAD34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B912B-5BA2-4475-B72F-C0D6D09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361C-9438-4446-9BC1-D2DCF7A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9F18-E195-4935-B5C5-6CB0960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35D-E571-4AA1-B7A7-ED040B4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69B85-0965-4E87-9D2D-3FD09C1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D457-B91B-4F56-B9B3-36BCD13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94D3-2B0E-4CE4-81D1-DF99EE1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B3C2-428D-4CEB-ABBB-B86386F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7B29D-748D-4FB1-B7C2-EB8712D0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849-EBA4-45DC-908C-5A080D02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AED-C3DD-4738-8C04-FF85F25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12C-9A93-46C3-8466-44010E8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C07-F6B7-4C06-A1AC-1242C627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4D6-CB31-4CD7-845E-8B2B7864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999-2F4E-4105-BFDF-68DB291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B6D-CEF4-4A8F-810C-34798A5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3A4-92A0-40E8-A38C-6D2EE4BCB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DF9-B545-4E55-98E3-36EDBE8294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DSC01823"/>
          <p:cNvPicPr/>
          <p:nvPr/>
        </p:nvPicPr>
        <p:blipFill>
          <a:blip r:embed="rId1"/>
          <a:stretch/>
        </p:blipFill>
        <p:spPr>
          <a:xfrm>
            <a:off x="3132000" y="4994280"/>
            <a:ext cx="1965600" cy="1479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571680" y="157320"/>
            <a:ext cx="82627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80047"/>
                </a:solidFill>
                <a:latin typeface="Tahoma"/>
                <a:ea typeface="Times New Roman"/>
              </a:rPr>
              <a:t>Профессия: «Повар, кондитер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Срок обуч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5a00"/>
                </a:solidFill>
                <a:latin typeface="Calibri"/>
                <a:ea typeface="Times New Roman"/>
              </a:rPr>
              <a:t>2,5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года с получением среднего (полного) общего образования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чального профессионального образования</a:t>
            </a:r>
            <a:r>
              <a:rPr b="0" lang="ru-RU" sz="1400" spc="-1" strike="noStrike">
                <a:solidFill>
                  <a:srgbClr val="005a00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ем на базе основного общего образо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именование профессий, согласно общероссийскому классификатору профессии рабочих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должностей служащих и тарифных разрядов включа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Повар 3-4 разря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Кондитер 3-4 разря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Область профессиональной деятельности выпускников</a:t>
            </a:r>
            <a:r>
              <a:rPr b="0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готовление широкого ассортимента простых и основных кулинарных блюд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основных хлебобулочных и кондитерских изделий с учетом потребностей различных категорий потребител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           </a:t>
            </a: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Ведут профессиональную подготовк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подаватель и мастер п/о II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Красовская Ирина Федоровна</a:t>
            </a:r>
            <a:r>
              <a:rPr b="0" lang="ru-RU" sz="1400" spc="-1" strike="noStrike">
                <a:solidFill>
                  <a:srgbClr val="0000ff"/>
                </a:solidFill>
                <a:latin typeface="Tw Cen MT Condensed Extra Bold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1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-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Шетёмина Елена Петро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а, мастер второй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Воробьева Анастасия Николае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реднее профессионально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выпускница ОГОУ НПО ПУ №12, стаж работы -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5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42040" y="1698480"/>
            <a:ext cx="25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42040" y="31568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466160" y="4703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Monotype Corsiva"/>
              </a:rPr>
              <a:t>Повар, кондитер 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5280" y="1700280"/>
            <a:ext cx="59767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Это одна из самых нужных, и важных профессий в мире. Ведь ни один человек не обходится без пищи ни д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А для того, чтобы  красиво приготовить вкусную и качественную  пищу , необходимы знания и навыки. Эти знания вы можете приобрести в нашем профессиональном училищ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                     №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Monotype Corsiva"/>
              </a:rPr>
              <a:t>Профессия «повар, кондитер</a:t>
            </a:r>
            <a:r>
              <a:rPr b="0" lang="ru-RU" sz="6000" spc="-1" strike="noStrike">
                <a:solidFill>
                  <a:srgbClr val="cc3300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00360" y="1628640"/>
            <a:ext cx="4174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от вам повар – кулин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се готовит вкусн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Его блюда просто д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А торты - искусст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DSC02099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551664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24000" y="-5755320"/>
            <a:ext cx="198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Monotype Corsiva"/>
              </a:rPr>
              <a:t>Старая русская пословица гласит: « Добрый повар стоит доктора». Действительно, повару, как и врачу, нельзя быть равнодушным. Ведь от того, как накормить человека, зависит и его здоровье, и настроение. Это такая профессия, которая требует постоянного поиска, творческой фантазии, потому что надо приятно удивлять посетителя каждый раз, когда он заходит в столовую, кафе, рестора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215"/>
          <p:cNvPicPr/>
          <p:nvPr/>
        </p:nvPicPr>
        <p:blipFill>
          <a:blip r:embed="rId1"/>
          <a:stretch/>
        </p:blipFill>
        <p:spPr>
          <a:xfrm>
            <a:off x="250920" y="1413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684360" y="-5532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249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Monotype Corsiva"/>
              </a:rPr>
              <a:t>Многие учащиеся кулинарных  училищ на вопрос, почему они выбрали профессию повара, отвечают так: «Люблю готовить», «Хочу придумать новые, никому не известные блюда». А опытные повара говорят: «Работа у нас такая – доставлять людям радость. А иначе зачем идти в повара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DSC01117"/>
          <p:cNvPicPr/>
          <p:nvPr/>
        </p:nvPicPr>
        <p:blipFill>
          <a:blip r:embed="rId1"/>
          <a:stretch/>
        </p:blipFill>
        <p:spPr>
          <a:xfrm>
            <a:off x="179280" y="1268280"/>
            <a:ext cx="47530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49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449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612720" y="-5163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720" y="404640"/>
            <a:ext cx="43876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99ff66"/>
                </a:solidFill>
                <a:latin typeface="Monotype Corsiva"/>
              </a:rPr>
              <a:t>Кулинарное искусство приобретается человеком в течении долгих лет учебы и практики. Не каждый способен стать хорошим поваром, но стремиться к  этому должны все, воспитывая в себе любовь к творчеству поиск нового и желание доставить людям радость. Талант повара в том, и заключается, что бы установить свои «тайные»; неведомые для окружающих отношения к продук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DSC01504"/>
          <p:cNvPicPr/>
          <p:nvPr/>
        </p:nvPicPr>
        <p:blipFill>
          <a:blip r:embed="rId1"/>
          <a:stretch/>
        </p:blipFill>
        <p:spPr>
          <a:xfrm>
            <a:off x="395280" y="1484280"/>
            <a:ext cx="4392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1:23:33Z</dcterms:created>
  <dc:creator>USER</dc:creator>
  <dc:description/>
  <dc:language>en-US</dc:language>
  <cp:lastModifiedBy>ZooM</cp:lastModifiedBy>
  <dcterms:modified xsi:type="dcterms:W3CDTF">2013-11-07T18:19:15Z</dcterms:modified>
  <cp:revision>26</cp:revision>
  <dc:subject/>
  <dc:title>Профессия «повар, кондитер»</dc:title>
</cp:coreProperties>
</file>