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A71-3515-4E51-90F5-D0683BFC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32B-C6CD-4DB9-ADB8-7DDBB5B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C0A-C292-4084-942F-7DB78A8C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1AE-9DD1-4490-8A2D-A97AA32E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A48B6-4954-43FC-A1C5-6F40977D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A2C8D-E490-4EA8-BFB7-388E946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DB61F-27C1-4EBF-960C-43AD0B53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5BFA5-82AF-46E4-A9F1-E803CDD6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3DCE-4707-407E-BACC-CAFD5A08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A7DDA-5ED5-43F7-832D-C5C882B8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2436C-6DB4-4874-B19A-4E72A57D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BFA-152D-4CAF-AC92-FB32D2FF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ADF23-C2C3-49E9-9EB8-BF7A65E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C9E9E-4B8B-4777-B0A0-3465370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263F-0421-4F89-AA27-68F4482F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F699D-EA85-4CC1-8608-D823D532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3EE41-B8A1-4D5A-9BFE-3DFFCC8A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AB9-E36B-4BE9-B1E0-41C108D4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8D3-B243-4CFF-9C31-B1A00134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056-C0C1-48CE-AA0F-C97C7C4C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937-C259-46FB-829E-F5AD673C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9DA-E121-4B6B-8549-17DC7B2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B08-95CC-42F4-9AB0-27F6917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DA4-AF01-4A3B-B272-BF542A77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C756-E053-4126-B79D-0FFD1F384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B2E0-ADC7-4919-9A8E-2B73F8F1EF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DSC01823"/>
          <p:cNvPicPr/>
          <p:nvPr/>
        </p:nvPicPr>
        <p:blipFill>
          <a:blip r:embed="rId1"/>
          <a:stretch/>
        </p:blipFill>
        <p:spPr>
          <a:xfrm>
            <a:off x="3132000" y="4994280"/>
            <a:ext cx="1965600" cy="1479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571680" y="157320"/>
            <a:ext cx="82627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80047"/>
                </a:solidFill>
                <a:latin typeface="Tahoma"/>
                <a:ea typeface="Times New Roman"/>
              </a:rPr>
              <a:t>Профессия: «Повар, кондитер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Срок обуч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5a00"/>
                </a:solidFill>
                <a:latin typeface="Calibri"/>
                <a:ea typeface="Times New Roman"/>
              </a:rPr>
              <a:t>2,5</a:t>
            </a: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 года с получением среднего (полного) общего образования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начального профессионального образования</a:t>
            </a:r>
            <a:r>
              <a:rPr b="0" lang="ru-RU" sz="1400" spc="-1" strike="noStrike">
                <a:solidFill>
                  <a:srgbClr val="005a00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Прием на базе основного общего образов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Наименование профессий, согласно общероссийскому классификатору профессии рабочих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должностей служащих и тарифных разрядов включае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3deb3d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eb3d"/>
                </a:solidFill>
                <a:latin typeface="Tahoma"/>
                <a:ea typeface="Times New Roman"/>
              </a:rPr>
              <a:t>Повар 3-4 разря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3deb3d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eb3d"/>
                </a:solidFill>
                <a:latin typeface="Tahoma"/>
                <a:ea typeface="Times New Roman"/>
              </a:rPr>
              <a:t>Кондитер 3-4 разря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73"/>
                </a:solidFill>
                <a:latin typeface="Tahoma"/>
                <a:ea typeface="Times New Roman"/>
              </a:rPr>
              <a:t>Область профессиональной деятельности выпускников</a:t>
            </a:r>
            <a:r>
              <a:rPr b="0" lang="ru-RU" sz="1400" spc="-1" strike="noStrike">
                <a:solidFill>
                  <a:srgbClr val="000073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5a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приготовление широкого ассортимента простых и основных кулинарных блюд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5a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основных хлебобулочных и кондитерских изделий с учетом потребностей различных категорий потребител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           </a:t>
            </a: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Ведут профессиональную подготовк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подаватель и мастер п/о II категории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Красовская Ирина Федоровна</a:t>
            </a:r>
            <a:r>
              <a:rPr b="0" lang="ru-RU" sz="1400" spc="-1" strike="noStrike">
                <a:solidFill>
                  <a:srgbClr val="0000ff"/>
                </a:solidFill>
                <a:latin typeface="Tw Cen MT Condensed Extra Bold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пециальное, стаж работы — 1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лет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- </a:t>
            </a: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Шетёмина Елена Петровна</a:t>
            </a:r>
            <a:r>
              <a:rPr b="0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пециальное, стаж работы — 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года, мастер второй категории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Воробьева Анастасия Николаевна</a:t>
            </a:r>
            <a:r>
              <a:rPr b="0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реднее профессиональное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выпускница ОГОУ НПО ПУ №12, стаж работы -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5 лет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442040" y="1698480"/>
            <a:ext cx="25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442040" y="31568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466160" y="4703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Monotype Corsiva"/>
              </a:rPr>
              <a:t>Повар, кондитер 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5280" y="1700280"/>
            <a:ext cx="597672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Это одна из самых нужных, и важных профессий в мире. Ведь ни один человек не обходится без пищи ни д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А для того, чтобы  красиво приготовить вкусную и качественную  пищу , необходимы знания и навыки. Эти знания вы можете приобрести в нашем профессиональном училищ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                     №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1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Monotype Corsiva"/>
              </a:rPr>
              <a:t>Профессия «повар, кондитер</a:t>
            </a:r>
            <a:r>
              <a:rPr b="0" lang="ru-RU" sz="6000" spc="-1" strike="noStrike">
                <a:solidFill>
                  <a:srgbClr val="cc3300"/>
                </a:solidFill>
                <a:latin typeface="Monotype Corsiv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00360" y="1628640"/>
            <a:ext cx="4174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Вот вам повар – кулин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Все готовит вкусно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Его блюда просто д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А торты - искусст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DSC02099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551664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24000" y="-5755320"/>
            <a:ext cx="198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46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Monotype Corsiva"/>
              </a:rPr>
              <a:t>Старая русская пословица гласит: « Добрый повар стоит доктора». Действительно, повару, как и врачу, нельзя быть равнодушным. Ведь от того, как накормить человека, зависит и его здоровье, и настроение. Это такая профессия, которая требует постоянного поиска, творческой фантазии, потому что надо приятно удивлять посетителя каждый раз, когда он заходит в столовую, кафе, рестора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DSC02215"/>
          <p:cNvPicPr/>
          <p:nvPr/>
        </p:nvPicPr>
        <p:blipFill>
          <a:blip r:embed="rId1"/>
          <a:stretch/>
        </p:blipFill>
        <p:spPr>
          <a:xfrm>
            <a:off x="250920" y="141300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684360" y="-5532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249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Monotype Corsiva"/>
              </a:rPr>
              <a:t>Многие учащиеся кулинарных  училищ на вопрос, почему они выбрали профессию повара, отвечают так: «Люблю готовить», «Хочу придумать новые, никому не известные блюда». А опытные повара говорят: «Работа у нас такая – доставлять людям радость. А иначе зачем идти в повара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DSC01117"/>
          <p:cNvPicPr/>
          <p:nvPr/>
        </p:nvPicPr>
        <p:blipFill>
          <a:blip r:embed="rId1"/>
          <a:stretch/>
        </p:blipFill>
        <p:spPr>
          <a:xfrm>
            <a:off x="179280" y="1268280"/>
            <a:ext cx="475308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49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449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612720" y="-51638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720" y="404640"/>
            <a:ext cx="43876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99ff66"/>
                </a:solidFill>
                <a:latin typeface="Monotype Corsiva"/>
              </a:rPr>
              <a:t>Кулинарное искусство приобретается человеком в течении долгих лет учебы и практики. Не каждый способен стать хорошим поваром, но стремиться к  этому должны все, воспитывая в себе любовь к творчеству поиск нового и желание доставить людям радость. Талант повара в том, и заключается, что бы установить свои «тайные»; неведомые для окружающих отношения к продук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DSC01504"/>
          <p:cNvPicPr/>
          <p:nvPr/>
        </p:nvPicPr>
        <p:blipFill>
          <a:blip r:embed="rId1"/>
          <a:stretch/>
        </p:blipFill>
        <p:spPr>
          <a:xfrm>
            <a:off x="395280" y="1484280"/>
            <a:ext cx="43927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1:23:33Z</dcterms:created>
  <dc:creator>USER</dc:creator>
  <dc:description/>
  <dc:language>en-US</dc:language>
  <cp:lastModifiedBy>ZooM</cp:lastModifiedBy>
  <dcterms:modified xsi:type="dcterms:W3CDTF">2013-11-07T18:19:15Z</dcterms:modified>
  <cp:revision>26</cp:revision>
  <dc:subject/>
  <dc:title>Профессия «повар, кондитер»</dc:title>
</cp:coreProperties>
</file>