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249-1C6E-4FD7-85BC-374976D3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643-1974-4495-B970-7BAF1FD3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C43-3C8D-4EBB-BC05-C97B98C0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288-00EF-4A44-A19F-D3E77736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CDBC-A441-435C-A9C1-3BBE6813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459D-6554-409D-AA01-EE833953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15FC-939E-46F6-B237-0EC8A256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D3F7-76B3-4B13-AA8D-6FA5015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9881-9EAE-45EE-B895-1D61420A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B196-B0F3-4EE4-B962-B7AAC13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2B6-662A-45CA-B2E6-335384C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703-E7E1-4E0A-83B4-796ED7D1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99E-F76B-48CB-A88F-7CB79D5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7974-58E9-4343-A5F8-6307958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8AA5-71CA-45B7-B7BA-710C514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30B-45A7-4A3D-8609-D92228D3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5C4-678D-4FA9-A93C-F4F25068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DA6-01F1-4B76-A425-31E65593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34B-9F0B-494F-9F00-9A791A9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C71-EFB4-4AE6-B6D1-F5817F4A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B25-75EF-4C2F-8C5F-ADF4713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B12-22E2-49D4-9962-A74761C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E8C-E4F5-4322-94C0-DB332F0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934-D12C-4090-83E8-0B9CD0B4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38D-64CC-487E-A67C-C5102308D0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3042-6D5E-4103-B860-48AC5CF8C5B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дготовка учащихся 9 класса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к государственной итоговой аттестации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 русскому языку (виды деятельности, цели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33360" y="457200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ыполнила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олстова Е.В., учитель русского языка и литературы МОУ СОШ №6 г. Аткарска Саратовской обла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ид деятельнос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Посещение библиотеки, методического кабинета, использование Интернет - ресур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учение нормативно – правовых актов, регламентирующих проведение государственной (итоговой) аттестации учащихся 9 класса по русскому язык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Отбор учебно – методической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Знакомство с нормативными правовыми акт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3886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роведение консультаций по русскому языку в 9 классе (34 ч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Анализ результатов аттестации прошлых лет по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Знакомство учащихся с нормами оценивания выпускной работы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3618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одготовка учащихся 9 класса к ГИА по русскому языку 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Выявление заданий, требующих дополнительной подготовки учащих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Повышение уровня подготовки учеников к выпускной рабо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Изменение поурочного планирования, выделение резерва времени как во время проведения урока, так и во время обобщающего повтор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и проведение открытого урока русского языка на тему: «Способы сжатого изложения содержания текста. Тезисы. Конспек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2880" y="609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Закрепление знаний учащихся по наиболее сложным тема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учащихся к выполнению части 1 экзаменационной работ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Подготовка доклада: «Способы и приемы сжатого изложения содержания текста при подготовке к государственной итоговой аттестации по русскому языку в 9 классе». Выступление с докладом на заседании школьного методического объеди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0" y="4568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Углубленное изучение данной те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3733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осещение заседаний районного методического объединения учителей русского языка и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ая работа с учащими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19360" y="30492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риобретение педагогического опыта, получение новой информации по интересующей тем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ый контроль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Внедрение в практику преподавания предмета современных технологий, направленных на подготовку к тестированию (тесты в электронном виде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дбор тренировочного материала для учащихся в электронном вид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мультимедийные презентации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67080" y="304560"/>
            <a:ext cx="399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Подготовка учащихся к выполнению 2 части экзаменационной работы ( А1-А6 - тестовые задания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вышение интереса учащихся к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дение репетиционного экзамена по русскому языку в 9 классе в школе (4 экзамен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дение репетиционного экзамена (МОУ СОШ № 1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Анализ итогов репетиционного экзамена. Подготовка материала, направленного на коррекцию знаний учащих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600" y="-360"/>
            <a:ext cx="3618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Повторение и закрепление наиболее сложных тем курса «Русский язык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роведение консультаций к экзамену (2 ч.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Анализ результатов государственной итоговой аттестации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288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овторение и закрепление наиболее сложных тем курса «Русский язык». Инструктирование учащихся о правилах поведения на экзамен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Выявление качества знаний учащихся, % соответств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2:27Z</dcterms:created>
  <dc:creator>ЛЕХА</dc:creator>
  <dc:description/>
  <dc:language>en-US</dc:language>
  <cp:lastModifiedBy>ЛЕХА</cp:lastModifiedBy>
  <dcterms:modified xsi:type="dcterms:W3CDTF">2011-05-29T16:37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