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985-D7DD-434B-90F2-4BC7B13A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821-F05C-4AED-A281-6711ABEB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704-E253-4086-926B-54E767DB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472-1099-4B39-B214-DCC42092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ECC6-8CD4-4CEB-A87A-C8EEC41D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27AC-DB7F-492B-90F4-B70BC284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B8FF-E013-49FE-B25A-481C9174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5A89-B3AD-40F9-9084-C3A50204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C5F1-4CB6-4CD0-B6BD-B272F795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3400-24E6-4B73-81BD-AA9E7EB2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8074-EA85-46B3-96B5-E6590D5E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454-2F9E-4E6F-863D-9671BB12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0856-049A-402A-8974-116D91A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748E-B663-4F84-ABA5-051139A1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5303-3F8C-4393-AA0B-D5C7A63A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3043-E46D-4484-B3DE-E96288EA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BA4F-9877-49A4-BDFD-388423CE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F6B-7E33-4805-BD7B-48423097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70C-9543-4664-B28D-D4AD2350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5E7-96CE-4DED-A300-BA493BCF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0AE-33B3-4037-8800-82DE45D7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163-9B40-4CD1-AD3E-2541720F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DBC-D69F-4E9D-B580-F99F1D5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02C-3D89-46ED-ADF0-CCBA559D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822F-7533-4A54-8829-009D7288272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B41-8A5C-4A1A-A891-BB04629A664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Подготовка учащихся 9 класса</a:t>
            </a:r>
            <a:br>
              <a:rPr sz="3600"/>
            </a:b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к государственной итоговой аттестации</a:t>
            </a:r>
            <a:br>
              <a:rPr sz="3600"/>
            </a:b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по русскому языку (виды деятельности, цели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133360" y="4572000"/>
            <a:ext cx="564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Выполнила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Толстова Е.В., учитель русского языка и литературы МОУ СОШ №6 г. Аткарска Саратовской област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4419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Вид деятельност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 Посещение библиотеки, методического кабинета, использование Интернет - ресурсо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зучение нормативно – правовых актов, регламентирующих проведение государственной (итоговой) аттестации учащихся 9 класса по русскому язык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4572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. Отбор учебно – методической литерату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. Знакомство с нормативными правовыми акт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3886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Проведение консультаций по русскому языку в 9 классе (34 ч.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 Анализ результатов аттестации прошлых лет по предме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 Знакомство учащихся с нормами оценивания выпускной работы по русскому языку в 9 класс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3618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3. Подготовка учащихся 9 класса к ГИА по русскому языку 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. Выявление заданий, требующих дополнительной подготовки учащих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5. Повышение уровня подготовки учеников к выпускной работ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 Изменение поурочного планирования, выделение резерва времени как во время проведения урока, так и во время обобщающего повторен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. Подготовка и проведение открытого урока русского языка на тему: «Способы сжатого изложения содержания текста. Тезисы. Конспек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2880" y="6091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. Закрепление знаний учащихся по наиболее сложным темам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7. Подготовка учащихся к выполнению части 1 экзаменационной работ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8. Подготовка доклада: «Способы и приемы сжатого изложения содержания текста при подготовке к государственной итоговой аттестации по русскому языку в 9 классе». Выступление с докладом на заседании школьного методического объедин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0" y="456840"/>
            <a:ext cx="3618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8. Углубленное изучение данной те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3733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9. Посещение заседаний районного методического объединения учителей русского языка и литерату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0. Индивидуальная работа с учащими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19360" y="30492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9. Приобретение педагогического опыта, получение новой информации по интересующей тем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0. Индивидуальный контроль уровня подготовки учащихся к экзаме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038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. Внедрение в практику преподавания предмета современных технологий, направленных на подготовку к тестированию (тесты в электронном виде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2. Подбор тренировочного материала для учащихся в электронном виде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мультимедийные презентации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67080" y="304560"/>
            <a:ext cx="3998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. Подготовка учащихся к выполнению 2 части экзаменационной работы ( А1-А6 - тестовые задания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2. Повышение интереса учащихся к предме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3. Проведение репетиционного экзамена по русскому языку в 9 классе в школе (4 экзамен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4. Проведение репетиционного экзамена (МОУ СОШ № 1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5. Анализ итогов репетиционного экзамена. Подготовка материала, направленного на коррекцию знаний учащихс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00600" y="-360"/>
            <a:ext cx="3618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3. Проверка уровня подготовки учащихся к экзаме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4. Проверка уровня подготовки учащихся к экзаме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5. Повторение и закрепление наиболее сложных тем курса «Русский язык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6. Проведение консультаций к экзамену (2 ч.)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7. Анализ результатов государственной итоговой аттестации по русскому языку в 9 класс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2880" y="3808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6. Повторение и закрепление наиболее сложных тем курса «Русский язык». Инструктирование учащихся о правилах поведения на экзамен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7. Выявление качества знаний учащихся, % соответстви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6:52:27Z</dcterms:created>
  <dc:creator>ЛЕХА</dc:creator>
  <dc:description/>
  <dc:language>en-US</dc:language>
  <cp:lastModifiedBy>ЛЕХА</cp:lastModifiedBy>
  <dcterms:modified xsi:type="dcterms:W3CDTF">2011-05-29T16:37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