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90A-4BEE-44F3-AA26-14CBB748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1BF-B7E1-48CD-AC40-1C77399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F78-C866-4B78-AC8D-D57194A3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A33-BB3F-45A2-9089-F299B26D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501D-7CAF-4A69-92CB-138DD86D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971A-FA4A-4C88-A259-0B2ED399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EE63-84AC-4E08-A80E-F16C302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779F-28A9-4495-858F-4EE022E4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23B-AC6B-419D-9FCF-1E0BCD5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8A04-DDD2-4725-BDD1-25206E9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785-D2E0-48D0-B623-90082F6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3F3-9C76-4187-96BC-B2BF170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083-20D3-4EDD-A603-0C58301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2AA-9F08-4388-83F7-1B2817A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06A-1107-4F91-8BEE-FCA7FF1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345F-D0C0-4FB5-B5A0-E91054CD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6145-EB12-4777-9699-87CCA078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FB4-42E2-4E71-9CC4-171CDF0D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7C2-1465-42DA-BDB9-B6EBADA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D4B-0B6E-4A0E-BCEC-AC7FF9F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262-AF2B-4AD6-A5A6-DE192B6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C9A-35CD-4C56-96F2-DE39B37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BA6-F6F6-41BD-8D1C-B68770E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CF0-C5AE-48C9-AD62-112CBD7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C15-3F17-49D7-A8E0-D61ECAF891A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981-EF26-483E-8D26-3B12450DAA9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дготовка учащихся 9 класса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к государственной итоговой аттестации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 русскому языку (виды деятельности, цели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33360" y="457200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ыполнила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олстова Е.В., учитель русского языка и литературы МОУ СОШ №6 г. Аткарска Саратовской обла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ид деятельнос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Посещение библиотеки, методического кабинета, использование Интернет - ресур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учение нормативно – правовых актов, регламентирующих проведение государственной (итоговой) аттестации учащихся 9 класса по русскому язык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Отбор учебно – методической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Знакомство с нормативными правовыми акт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3886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роведение консультаций по русскому языку в 9 классе (34 ч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Анализ результатов аттестации прошлых лет по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Знакомство учащихся с нормами оценивания выпускной работы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3618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одготовка учащихся 9 класса к ГИА по русскому языку 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Выявление заданий, требующих дополнительной подготовки учащих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Повышение уровня подготовки учеников к выпускной рабо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Изменение поурочного планирования, выделение резерва времени как во время проведения урока, так и во время обобщающего повтор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и проведение открытого урока русского языка на тему: «Способы сжатого изложения содержания текста. Тезисы. Конспек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2880" y="609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Закрепление знаний учащихся по наиболее сложным тема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учащихся к выполнению части 1 экзаменационной работ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Подготовка доклада: «Способы и приемы сжатого изложения содержания текста при подготовке к государственной итоговой аттестации по русскому языку в 9 классе». Выступление с докладом на заседании школьного методического объеди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0" y="4568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Углубленное изучение данной те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3733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осещение заседаний районного методического объединения учителей русского языка и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ая работа с учащими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19360" y="30492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риобретение педагогического опыта, получение новой информации по интересующей тем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ый контроль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Внедрение в практику преподавания предмета современных технологий, направленных на подготовку к тестированию (тесты в электронном виде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дбор тренировочного материала для учащихся в электронном вид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мультимедийные презентации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67080" y="304560"/>
            <a:ext cx="399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Подготовка учащихся к выполнению 2 части экзаменационной работы ( А1-А6 - тестовые задания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вышение интереса учащихся к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дение репетиционного экзамена по русскому языку в 9 классе в школе (4 экзамен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дение репетиционного экзамена (МОУ СОШ № 1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Анализ итогов репетиционного экзамена. Подготовка материала, направленного на коррекцию знаний учащих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600" y="-360"/>
            <a:ext cx="3618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Повторение и закрепление наиболее сложных тем курса «Русский язык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роведение консультаций к экзамену (2 ч.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Анализ результатов государственной итоговой аттестации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288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овторение и закрепление наиболее сложных тем курса «Русский язык». Инструктирование учащихся о правилах поведения на экзамен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Выявление качества знаний учащихся, % соответств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2:27Z</dcterms:created>
  <dc:creator>ЛЕХА</dc:creator>
  <dc:description/>
  <dc:language>en-US</dc:language>
  <cp:lastModifiedBy>ЛЕХА</cp:lastModifiedBy>
  <dcterms:modified xsi:type="dcterms:W3CDTF">2011-05-29T16:37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