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9C3-E408-4DEE-8C75-70E4C386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7D1-7922-4913-9F54-0807BB3E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1E3-C55E-4AF1-9858-AFE80F79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145-760E-4870-B707-24FF2BC2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A3E3-00FF-40D7-8186-11DD04B0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16F1-0F1F-4722-8DE6-E74D175C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CD33-9A6B-46DC-AE7A-811828F1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5E40-A5BA-42EA-B592-AD1E1DB3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98D6-FEEA-4A41-ADA1-725EC4C2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D364-FD5C-403C-904C-1890DC56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CFA8-A034-4556-BBD5-9BE5F10D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5B9-AB9B-47D6-8157-982C3546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6208-2404-4487-A113-0A67B1AD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673C-A114-4925-A39F-EC27CB97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5545-922C-42DD-BE4F-A85C259E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4E6A-C415-4639-8E18-2F9BD010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38D7-DC9E-40AC-8A70-3DFB3EE7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2B4-B8C4-483D-8C88-C02E01AB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C5C-7498-44D9-81C0-D3666EAA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6A8-86BA-4223-9F49-416B94B7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397-6E2A-49C5-B057-122B4337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6CA-AA91-4BE1-B063-2F8964A2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AF0-955C-4CF2-8577-E7DAAB40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FE3-8B76-4144-BE72-70CAAB30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401F-4D17-416B-A095-3B976CDA437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5A85-680D-42F8-938C-FCFD3EE0E30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Урок  физической культуры на тему: Партерная гимнастика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ля учащихся 9 класса Учитель Оборнева Е.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photo"/>
          <p:cNvPicPr/>
          <p:nvPr/>
        </p:nvPicPr>
        <p:blipFill>
          <a:blip r:embed="rId1"/>
          <a:stretch/>
        </p:blipFill>
        <p:spPr>
          <a:xfrm>
            <a:off x="250920" y="4888080"/>
            <a:ext cx="2520720" cy="1765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Лечебная гимнастика"/>
          <p:cNvPicPr/>
          <p:nvPr/>
        </p:nvPicPr>
        <p:blipFill>
          <a:blip r:embed="rId2"/>
          <a:stretch/>
        </p:blipFill>
        <p:spPr>
          <a:xfrm>
            <a:off x="6443640" y="5013360"/>
            <a:ext cx="24494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6 упр. И.п. — упор лежа сзади на согнутых ногах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4 — 4 шага руками и ногами вперед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4 шага руками и ногами назад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прыжки на месте, отталкиваясь только ногами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опускание и поднимание таза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4 — поворот на 360° через упор лежа в и.п. направо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то же в другую сторону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I упр. И.п. — сед, согнув ноги, руки внизу слегка согнуты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— махом правой ноги и рук вперед лечь на спину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 — И.п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 - 4 — то же, но мах левой ногой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повторить счеты 1 - 4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4 — 4 "шага" вперед на ягодицах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то же назад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8 упр. — И.п. — лежа на спине, правую ногу вперед (вертикально), руки за голову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поднимание и опускание верхней части туловища — 30°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то же, но с движением рук вперед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то же с поочередным касанием рук носка правой ноги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то же с касанием головой колен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9 упр. И.п. — упор сидя на предплечьях, правая нога вперед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— опустить ногу влево (не нарушая плоскости)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 — наклониться к правой ноге, касаясь правой рукой правой стопы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 — мягко вернуть руку в и.п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 — вернуть ногу в и.п. (не нарушая плоскости)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повторить счеты 1 - 4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то же, но с другой ноги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омашнее задание: выполнять комплекс партерной гимнастик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Мы постоянно совершаем массу движений: ходим, бегаем, наклоняемся, что-то поднимаем и переносим с места на место, приседаем, тянемся за чем-то, управляем автомобилем, и прочее. Но все эти движения не прибавляют нам здоровья - они узконаправленны и однообразны, утомляют конкретные группы мышц, со временем ослабляя их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photo"/>
          <p:cNvPicPr/>
          <p:nvPr/>
        </p:nvPicPr>
        <p:blipFill>
          <a:blip r:embed="rId1"/>
          <a:stretch/>
        </p:blipFill>
        <p:spPr>
          <a:xfrm>
            <a:off x="3132000" y="4941720"/>
            <a:ext cx="2857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133720"/>
            <a:ext cx="82818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Это есть "гиподинамия", т.е. "малоподвижность": отсутствие регулярных, грамотных физических нагрузок, укрепляющих организм в целом, поддерживающих работоспособность и хорошее самочувствие, лёгкость в теле и достаточную подвижность суставов, эластичность связок и мышечный тонус. 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Партеная гимнастика"/>
          <p:cNvPicPr/>
          <p:nvPr/>
        </p:nvPicPr>
        <p:blipFill>
          <a:blip r:embed="rId1"/>
          <a:stretch/>
        </p:blipFill>
        <p:spPr>
          <a:xfrm>
            <a:off x="5508720" y="5300640"/>
            <a:ext cx="21906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Цель партерной гимнастики: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работка различных мышечных групп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лучшение трофики межпозвонковых структур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величение подвижности суставов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тимуляция нормальной работы дыхательной и сердечно-сосудистой сист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photo"/>
          <p:cNvPicPr/>
          <p:nvPr/>
        </p:nvPicPr>
        <p:blipFill>
          <a:blip r:embed="rId1"/>
          <a:stretch/>
        </p:blipFill>
        <p:spPr>
          <a:xfrm>
            <a:off x="4859280" y="5516640"/>
            <a:ext cx="2627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Что дает партерная гимнастик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Тренировка укрепляет вестибулярный аппарат, - развивает силу и ловкость, гибкость и координацию, улучшает осанку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ВАЖНО!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Все упражнения выполняются в положении лежа и сидя, без вертикальной нагрузки на позвоночник и суставы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упр. И.п. — лежа на спине, согнув ноги, руки за голову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— приподнимая плечи на 30°, руки вперед – вправо (потянуться)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 — И.п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 - 4 — то же влево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повторить счет 1 - 4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надавливая ладонями на затылок, пружинные движения головой вперед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 упр. И.п. — лежа на спине, руки вверх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 — сед, согнув правую с захватом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 — не отпуская захват, лечь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 - 7 — повторить счеты 1 - 2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8 — И.п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 - 8 — то же другой ногой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 упр. То же двумя ногами в группировке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V упр. И.п. — упор сидя, согнув ноги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— опускаясь на предплечья, выпрямить ноги вперед-вверх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 — разгибаясь, лечь на правый бок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 — принять положение счета 1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 — И.п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то же в другую сторону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поочередное выпрямление ног вперед - кверху на каждый счет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 упр. И.п. — упор сидя на предплечьях, согнув ноги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 — опуская ноги вправо коснуться левым коленом пола (руки стараемся не отрывать)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 — И.п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 - 4 — то же влево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 - 8 — повторить счет 1 - 4. И.п. — то же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 — выпрямляя ноги и слегка приподнимая их, поворот на правое бедро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 — И.п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 — то же в другую сторону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 — И.п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 - 8 — повторить счет 1 - 4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7:41:42Z</dcterms:created>
  <dc:creator>User</dc:creator>
  <dc:description/>
  <dc:language>en-US</dc:language>
  <cp:lastModifiedBy>User</cp:lastModifiedBy>
  <dcterms:modified xsi:type="dcterms:W3CDTF">2012-01-29T15:07:56Z</dcterms:modified>
  <cp:revision>3</cp:revision>
  <dc:subject/>
  <dc:title>Урок  физической культуры на тему: Партерная гимнастика.</dc:title>
</cp:coreProperties>
</file>