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2767-59D0-4107-963A-65253D87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F4B-8596-43B8-A495-B7F7BCCD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A4C-7169-4E39-944A-F6D3E164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ADDB-92E6-4846-99F2-89D3407B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A4C6-B5D1-4BB0-ACF6-03B6416F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D5AD-0F3C-48AF-9B63-FEDB8A1F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14A7-ACDE-4408-94DB-8357D322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419B-11EF-40F3-8B0F-45F3E513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545F-BCBA-471B-9CAD-1149938F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F6F7-280A-4552-817B-8DC5D844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E40E-5A9A-47ED-811C-6231FA7B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3ED-07F8-493B-9C84-847F9E79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49F0-F334-4FB5-828F-55CE004E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427A-C888-4D4E-9D09-706F2632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D9FA-21E6-4BE0-95A6-FAA19E92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4BC5-7859-4DF9-8801-00242A53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B4E7-060F-428B-B459-3E0AB6F0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8B7-647F-446D-B79B-B296F99D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CFF-7DA8-4021-A332-1887B5F4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551-FA0B-4016-89DB-C2B29838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C286-6DEA-434D-8B2E-8A79B726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F71-7D28-4CC5-83DA-04C18D3E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4CB-D9DC-4E01-9721-CD2F31A0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E009-DC7A-46A0-B310-425AA57D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2091-015D-4816-A56E-C9795AF1BA0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4922-9CF3-47A6-9E39-2621BECB5B9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Урок  физической культуры на тему: Партерная гимнастика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Для учащихся 9 класса Учитель Оборнева Е.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photo"/>
          <p:cNvPicPr/>
          <p:nvPr/>
        </p:nvPicPr>
        <p:blipFill>
          <a:blip r:embed="rId1"/>
          <a:stretch/>
        </p:blipFill>
        <p:spPr>
          <a:xfrm>
            <a:off x="250920" y="4888080"/>
            <a:ext cx="2520720" cy="1765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Лечебная гимнастика"/>
          <p:cNvPicPr/>
          <p:nvPr/>
        </p:nvPicPr>
        <p:blipFill>
          <a:blip r:embed="rId2"/>
          <a:stretch/>
        </p:blipFill>
        <p:spPr>
          <a:xfrm>
            <a:off x="6443640" y="5013360"/>
            <a:ext cx="24494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6 упр. И.п. — упор лежа сзади на согнутых ногах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4 — 4 шага руками и ногами вперед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4 шага руками и ногами назад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.п. — то же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прыжки на месте, отталкиваясь только ногами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.п. — то же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опускание и поднимание таза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.п. — то же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4 — поворот на 360° через упор лежа в и.п. направо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то же в другую сторону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II упр. И.п. — сед, согнув ноги, руки внизу слегка согнуты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— махом правой ноги и рук вперед лечь на спину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 — И.п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 - 4 — то же, но мах левой ногой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повторить счеты 1 - 4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.п. — то же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4 — 4 "шага" вперед на ягодицах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то же назад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8 упр. — И.п. — лежа на спине, правую ногу вперед (вертикально), руки за голову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поднимание и опускание верхней части туловища — 30°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то же, но с движением рук вперед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то же с поочередным касанием рук носка правой ноги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то же с касанием головой колен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9 упр. И.п. — упор сидя на предплечьях, правая нога вперед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— опустить ногу влево (не нарушая плоскости)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 — наклониться к правой ноге, касаясь правой рукой правой стопы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 — мягко вернуть руку в и.п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 — вернуть ногу в и.п. (не нарушая плоскости)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повторить счеты 1 - 4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то же, но с другой ноги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омашнее задание: выполнять комплекс партерной гимнастик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Мы постоянно совершаем массу движений: ходим, бегаем, наклоняемся, что-то поднимаем и переносим с места на место, приседаем, тянемся за чем-то, управляем автомобилем, и прочее. Но все эти движения не прибавляют нам здоровья - они узконаправленны и однообразны, утомляют конкретные группы мышц, со временем ослабляя их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photo"/>
          <p:cNvPicPr/>
          <p:nvPr/>
        </p:nvPicPr>
        <p:blipFill>
          <a:blip r:embed="rId1"/>
          <a:stretch/>
        </p:blipFill>
        <p:spPr>
          <a:xfrm>
            <a:off x="3132000" y="4941720"/>
            <a:ext cx="2857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133720"/>
            <a:ext cx="82818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Это есть "гиподинамия", т.е. "малоподвижность": отсутствие регулярных, грамотных физических нагрузок, укрепляющих организм в целом, поддерживающих работоспособность и хорошее самочувствие, лёгкость в теле и достаточную подвижность суставов, эластичность связок и мышечный тонус. 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Партеная гимнастика"/>
          <p:cNvPicPr/>
          <p:nvPr/>
        </p:nvPicPr>
        <p:blipFill>
          <a:blip r:embed="rId1"/>
          <a:stretch/>
        </p:blipFill>
        <p:spPr>
          <a:xfrm>
            <a:off x="5508720" y="5300640"/>
            <a:ext cx="21906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Цель партерной гимнастики: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работка различных мышечных групп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улучшение трофики межпозвонковых структур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увеличение подвижности суставов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тимуляция нормальной работы дыхательной и сердечно-сосудистой систе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photo"/>
          <p:cNvPicPr/>
          <p:nvPr/>
        </p:nvPicPr>
        <p:blipFill>
          <a:blip r:embed="rId1"/>
          <a:stretch/>
        </p:blipFill>
        <p:spPr>
          <a:xfrm>
            <a:off x="4859280" y="5516640"/>
            <a:ext cx="26272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Что дает партерная гимнастик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Тренировка укрепляет вестибулярный аппарат, - развивает силу и ловкость, гибкость и координацию, улучшает осанку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ВАЖНО!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Все упражнения выполняются в положении лежа и сидя, без вертикальной нагрузки на позвоночник и суставы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упр. И.п. — лежа на спине, согнув ноги, руки за голову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— приподнимая плечи на 30°, руки вперед – вправо (потянуться)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 — И.п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 - 4 — то же влево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повторить счет 1 - 4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надавливая ладонями на затылок, пружинные движения головой вперед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 упр. И.п. — лежа на спине, руки вверх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 — сед, согнув правую с захватом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 — не отпуская захват, лечь,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 - 7 — повторить счеты 1 - 2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8 — И.п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 - 8 — то же другой ногой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 упр. То же двумя ногами в группировке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V упр. И.п. — упор сидя, согнув ноги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— опускаясь на предплечья, выпрямить ноги вперед-вверх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 — разгибаясь, лечь на правый бок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 — принять положение счета 1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 — И.п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5 - 8 — то же в другую сторону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.п. — то же,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 - 8 — поочередное выпрямление ног вперед - кверху на каждый счет.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омплекс партерной гимнастики для мышц брюшного прес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 упр. И.п. — упор сидя на предплечьях, согнув ноги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 — опуская ноги вправо коснуться левым коленом пола (руки стараемся не отрывать)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 — И.п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 - 4 — то же влево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 - 8 — повторить счет 1 - 4. И.п. — то же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 — выпрямляя ноги и слегка приподнимая их, поворот на правое бедро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 — И.п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3 — то же в другую сторону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4 — И.п.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5 - 8 — повторить счет 1 - 4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7:41:42Z</dcterms:created>
  <dc:creator>User</dc:creator>
  <dc:description/>
  <dc:language>en-US</dc:language>
  <cp:lastModifiedBy>User</cp:lastModifiedBy>
  <dcterms:modified xsi:type="dcterms:W3CDTF">2012-01-29T15:07:56Z</dcterms:modified>
  <cp:revision>3</cp:revision>
  <dc:subject/>
  <dc:title>Урок  физической культуры на тему: Партерная гимнастика.</dc:title>
</cp:coreProperties>
</file>