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1B5-B7AB-4E1F-A5E4-86D97298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68B3-7D6B-490B-BE11-F96610E2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10C3-BAC8-4919-B2FC-1FE30676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7EE-EDD6-4EDE-9FF2-46801B37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5650-1902-4FDC-9911-EF541771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B0F9-066A-43FA-AB93-A2940187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5743-1DD2-4FB2-8143-317995AD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32D6-680B-4884-9541-A618512B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7DD1-D903-48DB-8C29-92C2F0FF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67D5-5C02-46D9-97B4-35AD9038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3547-0182-4680-A0EE-7CDDB1A7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59E-B724-4CE2-B234-F19CB8E7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B40A-DA97-4B5D-B8DE-55332DEC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9676-F949-4929-99A0-4C4F6CDD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86CF-60A5-437F-9920-A58AAB1C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8957-55A5-44DA-B2C0-47D12A65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BEA3-E8AD-4FA6-97ED-5A6FB835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322-287E-42E5-A5E0-262178D1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A8E-7528-464E-940B-470B1CDA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AC1-DE32-4C3F-A2DD-C96BD9FE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524-EEAA-466F-B6FD-1ECD0E53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7811-8A8C-4B5B-ACBB-6A9067D9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9CD3-DE44-4C83-81BE-128EE4DF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79C5-E06F-4157-9238-E866EC1B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8B07-1A89-452F-8EEB-0865B22D4F0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30F4-ECDA-43FA-97A2-9AD2572B50C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Урок  физической культуры на тему: Партерная гимнастика.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Для учащихся 9 класса Учитель Оборнева Е.А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photo"/>
          <p:cNvPicPr/>
          <p:nvPr/>
        </p:nvPicPr>
        <p:blipFill>
          <a:blip r:embed="rId1"/>
          <a:stretch/>
        </p:blipFill>
        <p:spPr>
          <a:xfrm>
            <a:off x="250920" y="4888080"/>
            <a:ext cx="2520720" cy="1765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Лечебная гимнастика"/>
          <p:cNvPicPr/>
          <p:nvPr/>
        </p:nvPicPr>
        <p:blipFill>
          <a:blip r:embed="rId2"/>
          <a:stretch/>
        </p:blipFill>
        <p:spPr>
          <a:xfrm>
            <a:off x="6443640" y="5013360"/>
            <a:ext cx="244944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6 упр. И.п. — упор лежа сзади на согнутых ногах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4 — 4 шага руками и ногами вперед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 - 8 — 4 шага руками и ногами назад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.п. — то же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прыжки на месте, отталкиваясь только ногами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.п. — то же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опускание и поднимание таза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.п. — то же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4 — поворот на 360° через упор лежа в и.п. направо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 - 8 — то же в другую сторону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II упр. И.п. — сед, согнув ноги, руки внизу слегка согнуты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— махом правой ноги и рук вперед лечь на спину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 — И.п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 - 4 — то же, но мах левой ногой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 - 8 — повторить счеты 1 - 4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.п. — то же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4 — 4 "шага" вперед на ягодицах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 - 8 — то же назад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8 упр. — И.п. — лежа на спине, правую ногу вперед (вертикально), руки за голову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поднимание и опускание верхней части туловища — 30°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то же, но с движением рук вперед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то же с поочередным касанием рук носка правой ноги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то же с касанием головой колен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9 упр. И.п. — упор сидя на предплечьях, правая нога вперед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— опустить ногу влево (не нарушая плоскости)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 — наклониться к правой ноге, касаясь правой рукой правой стопы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 — мягко вернуть руку в и.п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4 — вернуть ногу в и.п. (не нарушая плоскости)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 - 8 — повторить счеты 1 - 4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то же, но с другой ноги.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Домашнее задание: выполнять комплекс партерной гимнастик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Мы постоянно совершаем массу движений: ходим, бегаем, наклоняемся, что-то поднимаем и переносим с места на место, приседаем, тянемся за чем-то, управляем автомобилем, и прочее. Но все эти движения не прибавляют нам здоровья - они узконаправленны и однообразны, утомляют конкретные группы мышц, со временем ослабляя их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photo"/>
          <p:cNvPicPr/>
          <p:nvPr/>
        </p:nvPicPr>
        <p:blipFill>
          <a:blip r:embed="rId1"/>
          <a:stretch/>
        </p:blipFill>
        <p:spPr>
          <a:xfrm>
            <a:off x="3132000" y="4941720"/>
            <a:ext cx="2857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133720"/>
            <a:ext cx="82818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Это есть "гиподинамия", т.е. "малоподвижность": отсутствие регулярных, грамотных физических нагрузок, укрепляющих организм в целом, поддерживающих работоспособность и хорошее самочувствие, лёгкость в теле и достаточную подвижность суставов, эластичность связок и мышечный тонус. 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Партеная гимнастика"/>
          <p:cNvPicPr/>
          <p:nvPr/>
        </p:nvPicPr>
        <p:blipFill>
          <a:blip r:embed="rId1"/>
          <a:stretch/>
        </p:blipFill>
        <p:spPr>
          <a:xfrm>
            <a:off x="5508720" y="5300640"/>
            <a:ext cx="21906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Цель партерной гимнастики: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оработка различных мышечных групп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улучшение трофики межпозвонковых структур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увеличение подвижности суставов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тимуляция нормальной работы дыхательной и сердечно-сосудистой систе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photo"/>
          <p:cNvPicPr/>
          <p:nvPr/>
        </p:nvPicPr>
        <p:blipFill>
          <a:blip r:embed="rId1"/>
          <a:stretch/>
        </p:blipFill>
        <p:spPr>
          <a:xfrm>
            <a:off x="4859280" y="5516640"/>
            <a:ext cx="26272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Что дает партерная гимнастик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Тренировка укрепляет вестибулярный аппарат, - развивает силу и ловкость, гибкость и координацию, улучшает осанку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ВАЖНО!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Все упражнения выполняются в положении лежа и сидя, без вертикальной нагрузки на позвоночник и суставы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упр. И.п. — лежа на спине, согнув ноги, руки за голову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— приподнимая плечи на 30°, руки вперед – вправо (потянуться)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 — И.п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 - 4 — то же влево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 - 8 — повторить счет 1 - 4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надавливая ладонями на затылок, пружинные движения головой вперед.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 упр. И.п. — лежа на спине, руки вверх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 — сед, согнув правую с захватом,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 — не отпуская захват, лечь,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 - 7 — повторить счеты 1 - 2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8 — И.п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 - 8 — то же другой ногой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 упр. То же двумя ногами в группировке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V упр. И.п. — упор сидя, согнув ноги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— опускаясь на предплечья, выпрямить ноги вперед-вверх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 — разгибаясь, лечь на правый бок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 — принять положение счета 1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4 — И.п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 - 8 — то же в другую сторону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.п. — то же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поочередное выпрямление ног вперед - кверху на каждый счет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5 упр. И.п. — упор сидя на предплечьях, согнув ноги,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 — опуская ноги вправо коснуться левым коленом пола (руки стараемся не отрывать),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 — И.п.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 - 4 — то же влево,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5 - 8 — повторить счет 1 - 4. И.п. — то же,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 — выпрямляя ноги и слегка приподнимая их, поворот на правое бедро.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 — И.п.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 — то же в другую сторону.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4 — И.п.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5 - 8 — повторить счет 1 - 4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7:41:42Z</dcterms:created>
  <dc:creator>User</dc:creator>
  <dc:description/>
  <dc:language>en-US</dc:language>
  <cp:lastModifiedBy>User</cp:lastModifiedBy>
  <dcterms:modified xsi:type="dcterms:W3CDTF">2012-01-29T15:07:56Z</dcterms:modified>
  <cp:revision>3</cp:revision>
  <dc:subject/>
  <dc:title>Урок  физической культуры на тему: Партерная гимнастика.</dc:title>
</cp:coreProperties>
</file>