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3.png" ContentType="image/png"/>
  <Override PartName="/ppt/media/image20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66C-C548-4F78-BE52-42820780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B00-7544-417B-AA95-230C8EA8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C4B-286D-43F2-8D98-64663D30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ABA-0E5A-408D-8999-A661BD0C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2E29-291F-4E09-8905-F153F653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6027-9700-470E-9E31-350F2C71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8768-60C5-4F19-A549-4B914E98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8BA3-C15F-48EF-BFC0-F4F3E109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06F1-9808-401B-AA6C-230D25F7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2B2B-4D81-46AC-9BA0-BD6F8D78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9577-6985-49D7-8609-CBB756F8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3E6-6129-4AD7-978B-3775F5C5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369B-1B5D-4D92-BC9C-EF2F5A86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1E3F-3962-470F-8595-069BC3C5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A209-E731-4A96-B656-7F8DBF2F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EDB3-1FF3-4679-B09A-84805805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FD31-6B1F-4B13-9407-5FC12361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31C29-2546-4C54-BA3C-A53500DE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386E-11EA-4E8A-AB68-0858851F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D4CA-9D09-4F27-82D5-B4BCC81D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63F0-ECC2-4CE3-9154-CD2C3CA9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4FEC-51E4-4928-83A8-57572F82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920-B9AD-4F71-9B6B-5A3BE8FB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BA78-E652-4333-865B-BCD74608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C2DD1-D1B5-49C1-98A8-7040D8F0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8A0B-5243-4EF8-8FA6-702A5B1C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4F855-E38E-4D4F-BA2F-CEC3D18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994F-F8BB-420C-BA3C-1FE14EA8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F768-259F-4154-B07B-CA4E97CE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7A4D-97B8-4D53-8855-9D6A5412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85FE2-401A-4B12-B7C1-6D719226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DF75-5921-47F3-9E8E-6471B441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2929-0886-461E-99FC-9448E9DD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452-67CE-4992-8B03-99A843C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95411-6730-48D7-8116-E3853ADC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AB5B4-9849-4E92-927C-0B91C05C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6E28-A8DA-44E1-B1B4-8199E53B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4421-8E07-4C2D-99D2-8C4E2B15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2F14-1CED-440B-A5A7-4103293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B466-9EEE-4715-AADD-0B084643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770A-3475-4994-9B9F-BF405DEC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2A92-BFB3-4D69-82E4-FA82CE56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30158-42FD-4B84-9E06-D50B5C8D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7BBA5-5E0C-4159-9931-7E95FE0C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60E-B2F1-42E2-94C3-50431B90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89B4-2BEF-4139-9C87-9FBA49DE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73852-3489-4C67-A315-984700DE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86065-9EBC-428D-9E4A-F4DA0872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BDD89-CF48-4CA3-8FDA-BEF065B4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F5B0D-7661-4E0D-9DD8-F6F29A04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0FE25-7BFE-491E-A575-14E5F0D4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14E50-5EE9-4D89-AAAF-17D26DB6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8C08-0EF6-4685-AC99-34500711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E34E-AB8B-4A62-8B99-BB301FB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98479-1A89-4F73-A8E7-DFA17378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016-5C51-41C3-8ADB-AFDCB89C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0381-007B-4437-88D9-DDF976F1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8AF1A-5C31-4ABA-925E-7A5D9947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458FA-9863-4124-A169-D4B564D6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AA9BA-9EF1-4E6D-A8E7-8FCD8DFB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8799B-0764-48FF-9C44-B2999D2E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EE566-E268-40C1-AC0D-D2DD4AB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4EFA5-3DC2-4368-A777-7334D972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C7396-B98A-44C9-BBFC-DD33FCC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A4889-8B02-4845-A441-6AD5291F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D48D7-1D37-44F4-BDA9-409F87C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237-CD68-405F-9C0F-876A29A1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DE16B-C01D-4431-8170-A1811F64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27AAE-2705-4EB9-A3A5-784CE757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A3524-B7C5-43DC-9C59-CE0076F5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39E-1649-4086-A609-5C9A233D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8A2-FF19-4C09-A9B2-98460F8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EEA2-5287-4114-899B-BAF6C58B8D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3C07-80E9-47F5-9012-C640DBA9AEB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8E4F-D31E-4CB5-A7B5-A2FD29CBFC5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3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A35D-EDE7-41AB-9352-4126F82934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B231-567F-4C76-B5E0-F3DA93A8CE1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79A9-E261-4728-B679-BDF672266C1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lympic_flag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7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talisman.sochi2014.com/finalists/36329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talisman.sochi2014.com/finalists/36326/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33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talisman.sochi2014.com/finalists/36331/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69/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talisman.sochi2014.com/finalists/36330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6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talisman.sochi2014.com/finalists/36335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34/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talisman.sochi2014.com/finalists/36332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8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2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100;&#1096;&#1072;&#1103;_&#1083;&#1077;&#1076;&#1086;&#1074;&#1072;&#1103;_&#1072;&#1088;&#1077;&#1085;&#1072;_(&#1057;&#1086;&#1095;&#1080;)" TargetMode="External"/><Relationship Id="rId2" Type="http://schemas.openxmlformats.org/officeDocument/2006/relationships/hyperlink" Target="http://ru.wikipedia.org/wiki/&#1052;&#1072;&#1083;&#1072;&#1103;_&#1083;&#1077;&#1076;&#1086;&#1074;&#1072;&#1103;_&#1072;&#1088;&#1077;&#1085;&#1072;_(&#1057;&#1086;&#1095;&#1080;)" TargetMode="External"/><Relationship Id="rId3" Type="http://schemas.openxmlformats.org/officeDocument/2006/relationships/hyperlink" Target="http://ru.wikipedia.org/wiki/&#1050;&#1086;&#1085;&#1100;&#1082;&#1086;&#1073;&#1077;&#1078;&#1085;&#1099;&#1081;_&#1094;&#1077;&#1085;&#1090;&#1088;_(&#1057;&#1086;&#1095;&#1080;)" TargetMode="External"/><Relationship Id="rId4" Type="http://schemas.openxmlformats.org/officeDocument/2006/relationships/hyperlink" Target="http://ru.wikipedia.org/wiki/&#1051;&#1077;&#1076;&#1086;&#1074;&#1099;&#1081;_&#1076;&#1074;&#1086;&#1088;&#1077;&#1094;_&#1089;&#1087;&#1086;&#1088;&#1090;&#1072;_(&#1057;&#1086;&#1095;&#1080;)" TargetMode="External"/><Relationship Id="rId5" Type="http://schemas.openxmlformats.org/officeDocument/2006/relationships/hyperlink" Target="http://ru.wikipedia.org/wiki/&#1040;&#1088;&#1077;&#1085;&#1072;_&#1076;&#1083;&#1103;_&#1082;&#1105;&#1088;&#1083;&#1080;&#1085;&#1075;&#1072;_(&#1057;&#1086;&#1095;&#1080;)" TargetMode="External"/><Relationship Id="rId6" Type="http://schemas.openxmlformats.org/officeDocument/2006/relationships/hyperlink" Target="http://ru.wikipedia.org/wiki/&#1054;&#1083;&#1080;&#1084;&#1087;&#1080;&#1081;&#1089;&#1082;&#1080;&#1081;_&#1089;&#1090;&#1072;&#1076;&#1080;&#1086;&#1085;_(&#1057;&#1086;&#1095;&#1080;)" TargetMode="External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86;&#1088;&#1090;" TargetMode="External"/><Relationship Id="rId2" Type="http://schemas.openxmlformats.org/officeDocument/2006/relationships/hyperlink" Target="http://ru.wikipedia.org/wiki/&#1057;&#1086;&#1088;&#1077;&#1074;&#1085;&#1086;&#1074;&#1072;&#1085;&#1080;&#1077;" TargetMode="External"/><Relationship Id="rId3" Type="http://schemas.openxmlformats.org/officeDocument/2006/relationships/hyperlink" Target="http://ru.wikipedia.org/wiki/&#1044;&#1088;&#1077;&#1074;&#1085;&#1103;&#1103;_&#1043;&#1088;&#1077;&#1094;&#1080;&#1103;" TargetMode="External"/><Relationship Id="rId4" Type="http://schemas.openxmlformats.org/officeDocument/2006/relationships/hyperlink" Target="http://ru.wikipedia.org/wiki/XIX_&#1074;&#1077;&#1082;" TargetMode="External"/><Relationship Id="rId5" Type="http://schemas.openxmlformats.org/officeDocument/2006/relationships/hyperlink" Target="http://ru.wikipedia.org/wiki/&#1050;&#1091;&#1073;&#1077;&#1088;&#1090;&#1077;&#1085;,_&#1055;&#1100;&#1077;&#1088;_&#1076;&#1077;" TargetMode="External"/><Relationship Id="rId6" Type="http://schemas.openxmlformats.org/officeDocument/2006/relationships/hyperlink" Target="http://ru.wikipedia.org/wiki/&#1060;&#1072;&#1081;&#1083;:Baron_Pierre_de_Coubertin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c-os.ru/common/upload/BLA_11.05.2010_b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c-os.ru/common/upload/BLA_11.05.2010_2_b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ssport.ru/upload/iblock/78d/kkc1_850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alliance.ru/userfile/sochi_figure_skating1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s74.ru/images/Kerling.0-03-12.gif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ore.archplatforma.ru/imgs/newsimgs/2010/07/1006_SOCHI_STAIR_ENTANCE_FINAL1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1;&#1080;&#1072;&#1090;&#1083;&#1086;&#1085;_&#1085;&#1072;_&#1079;&#1080;&#1084;&#1085;&#1080;&#1093;_&#1054;&#1083;&#1080;&#1084;&#1087;&#1080;&#1081;&#1089;&#1082;&#1080;&#1093;_&#1080;&#1075;&#1088;&#1072;&#1093;_2014&amp;action=edit&amp;redlink=1" TargetMode="External"/><Relationship Id="rId2" Type="http://schemas.openxmlformats.org/officeDocument/2006/relationships/hyperlink" Target="http://ru.wikipedia.org/w/index.php?title=&#1041;&#1086;&#1073;&#1089;&#1083;&#1077;&#1081;_&#1085;&#1072;_&#1079;&#1080;&#1084;&#1085;&#1080;&#1093;_&#1054;&#1083;&#1080;&#1084;&#1087;&#1080;&#1081;&#1089;&#1082;&#1080;&#1093;_&#1080;&#1075;&#1088;&#1072;&#1093;_2014&amp;action=edit&amp;redlink=1" TargetMode="External"/><Relationship Id="rId3" Type="http://schemas.openxmlformats.org/officeDocument/2006/relationships/hyperlink" Target="http://ru.wikipedia.org/w/index.php?title=&#1043;&#1086;&#1088;&#1085;&#1086;&#1083;&#1099;&#1078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4" Type="http://schemas.openxmlformats.org/officeDocument/2006/relationships/hyperlink" Target="http://ru.wikipedia.org/w/index.php?title=&#1050;&#1105;&#1088;&#1083;&#1080;&#1085;&#1075;_&#1085;&#1072;_&#1079;&#1080;&#1084;&#1085;&#1080;&#1093;_&#1054;&#1083;&#1080;&#1084;&#1087;&#1080;&#1081;&#1089;&#1082;&#1080;&#1093;_&#1080;&#1075;&#1088;&#1072;&#1093;_2014&amp;action=edit&amp;redlink=1" TargetMode="External"/><Relationship Id="rId5" Type="http://schemas.openxmlformats.org/officeDocument/2006/relationships/hyperlink" Target="http://ru.wikipedia.org/w/index.php?title=&#1050;&#1086;&#1085;&#1100;&#1082;&#1086;&#1073;&#1077;&#1078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6" Type="http://schemas.openxmlformats.org/officeDocument/2006/relationships/hyperlink" Target="http://ru.wikipedia.org/w/index.php?title=&#1051;&#1099;&#1078;&#1085;&#1086;&#1077;_&#1076;&#1074;&#1086;&#1077;&#1073;&#1086;&#1088;&#1100;&#1077;_&#1085;&#1072;_&#1079;&#1080;&#1084;&#1085;&#1080;&#1093;_&#1054;&#1083;&#1080;&#1084;&#1087;&#1080;&#1081;&#1089;&#1082;&#1080;&#1093;_&#1080;&#1075;&#1088;&#1072;&#1093;_2014&amp;action=edit&amp;redlink=1" TargetMode="External"/><Relationship Id="rId7" Type="http://schemas.openxmlformats.org/officeDocument/2006/relationships/hyperlink" Target="http://ru.wikipedia.org/w/index.php?title=&#1051;&#1099;&#1078;&#1085;&#1099;&#1077;_&#1075;&#1086;&#1085;&#1082;&#1080;_&#1085;&#1072;_&#1079;&#1080;&#1084;&#1085;&#1080;&#1093;_&#1054;&#1083;&#1080;&#1084;&#1087;&#1080;&#1081;&#1089;&#1082;&#1080;&#1093;_&#1080;&#1075;&#1088;&#1072;&#1093;_2014&amp;action=edit&amp;redlink=1" TargetMode="External"/><Relationship Id="rId8" Type="http://schemas.openxmlformats.org/officeDocument/2006/relationships/hyperlink" Target="http://ru.wikipedia.org/w/index.php?title=&#1055;&#1088;&#1099;&#1078;&#1082;&#1080;_&#1089;_&#1090;&#1088;&#1072;&#1084;&#1087;&#1083;&#1080;&#1085;&#1072;_&#1085;&#1072;_&#1079;&#1080;&#1084;&#1085;&#1080;&#1093;_&#1054;&#1083;&#1080;&#1084;&#1087;&#1080;&#1081;&#1089;&#1082;&#1080;&#1093;_&#1080;&#1075;&#1088;&#1072;&#1093;_2014&amp;action=edit&amp;redlink=1" TargetMode="External"/><Relationship Id="rId9" Type="http://schemas.openxmlformats.org/officeDocument/2006/relationships/hyperlink" Target="http://ru.wikipedia.org/w/index.php?title=&#1057;&#1072;&#1085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74;&#1086;&#1083;" TargetMode="External"/><Relationship Id="rId2" Type="http://schemas.openxmlformats.org/officeDocument/2006/relationships/hyperlink" Target="http://ru.wikipedia.org/wiki/&#1060;&#1072;&#1081;&#1083;:Olympic_flag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lympic_flag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45;&#1074;&#1088;&#1086;&#1087;&#1072;" TargetMode="External"/><Relationship Id="rId4" Type="http://schemas.openxmlformats.org/officeDocument/2006/relationships/hyperlink" Target="http://ru.wikipedia.org/wiki/&#1040;&#1092;&#1088;&#1080;&#1082;&#1072;" TargetMode="External"/><Relationship Id="rId5" Type="http://schemas.openxmlformats.org/officeDocument/2006/relationships/hyperlink" Target="http://ru.wikipedia.org/wiki/&#1040;&#1084;&#1077;&#1088;&#1080;&#1082;&#1072;" TargetMode="External"/><Relationship Id="rId6" Type="http://schemas.openxmlformats.org/officeDocument/2006/relationships/hyperlink" Target="http://ru.wikipedia.org/wiki/&#1040;&#1079;&#1080;&#1103;" TargetMode="External"/><Relationship Id="rId7" Type="http://schemas.openxmlformats.org/officeDocument/2006/relationships/hyperlink" Target="http://ru.wikipedia.org/wiki/&#1040;&#1074;&#1089;&#1090;&#1088;&#1072;&#1083;&#1080;&#1103;" TargetMode="External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1920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0;&#1084;&#1085;&#1080;&#1077;_&#1054;&#1083;&#1080;&#1084;&#1087;&#1080;&#1081;&#1089;&#1082;&#1080;&#1077;_&#1080;&#1075;&#1088;&#1099;" TargetMode="External"/><Relationship Id="rId2" Type="http://schemas.openxmlformats.org/officeDocument/2006/relationships/hyperlink" Target="http://ru.wikipedia.org/wiki/7_&#1092;&#1077;&#1074;&#1088;&#1072;&#1083;&#1103;" TargetMode="External"/><Relationship Id="rId3" Type="http://schemas.openxmlformats.org/officeDocument/2006/relationships/hyperlink" Target="http://ru.wikipedia.org/wiki/23_&#1092;&#1077;&#1074;&#1088;&#1072;&#1083;&#1103;" TargetMode="External"/><Relationship Id="rId4" Type="http://schemas.openxmlformats.org/officeDocument/2006/relationships/hyperlink" Target="http://ru.wikipedia.org/wiki/2014_&#1075;&#1086;&#1076;" TargetMode="External"/><Relationship Id="rId5" Type="http://schemas.openxmlformats.org/officeDocument/2006/relationships/hyperlink" Target="http://ru.wikipedia.org/wiki/&#1051;&#1077;&#1090;&#1085;&#1080;&#1077;_&#1054;&#1083;&#1080;&#1084;&#1087;&#1080;&#1081;&#1089;&#1082;&#1080;&#1077;_&#1080;&#1075;&#1088;&#1099;_1980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3" descr="http://upload.wikimedia.org/wikipedia/commons/thumb/a/a7/Olympic_flag.svg/250px-Olympic_flag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1881360" y="5357880"/>
            <a:ext cx="593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Олимпийский у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311400" y="0"/>
            <a:ext cx="849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Игры 201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настоящее и будущее Со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к вы думаете, какой талисман Зимних Олимпийских игр в Соч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берет народ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39640" y="3213000"/>
            <a:ext cx="828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вно за три года до открытия зимней Олимпиады в Сочи, 7 февраля 2011 года, в эфире Первого канала прошла телевизионная презентация талисманов грядущих Игр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едущий Иван Ургант подвел итоги первого тура конкурса, в ходе которого экспертное жюри рассмотрело более 24 тысяч работ и определилось с шорт-листом самых удачных идей, на каждую из которых отсняты 30-секундные анимированные видеооткрытк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Талисман Сочи-2014 выберут 26 февраля в прямом эфире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Талисман будущей зимней Олимпиады в Сочи будут выбирать всем миром. На 26 февраля 2011 года запланировано народное голосование за лучший символ Сочи-2014 по телефону и посредством sms, результаты которого будут объявлены в прямом эфире Первого канала. 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Десять изображений, которые претендуют на звание талисмана Олимпийских игр 2014 года, были представлены в понедельник, 7 февраля 2011 года. 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Символом предстоящих игр в Сочи могут стать белый или бурый медведи, "Зайка", леопард со сноубордом, снегирь, дельфин на лыжах, "Солнышко", "Огненный мальчик", "Снежинка", Дед Мороз или "Матрешки", больше похожие на снеговиков.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С изображениями всех финалистов можно ознакомиться на официальном сайте талисмана Сочи-2014. 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Бурый или Белый медведь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8" name="Picture 3" descr="Бурый медвед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444680"/>
            <a:ext cx="3743280" cy="5133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Белый медведь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6040" y="1700280"/>
            <a:ext cx="3948120" cy="4753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Дед Мороз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360" y="-7994520"/>
            <a:ext cx="895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Снегирь или Солнышко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Picture 10" descr="Снегир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844640"/>
            <a:ext cx="4240080" cy="3384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Солнышко">
            <a:hlinkClick r:id="rId3"/>
          </p:cNvPr>
          <p:cNvPicPr/>
          <p:nvPr/>
        </p:nvPicPr>
        <p:blipFill>
          <a:blip r:embed="rId4"/>
          <a:srcRect l="0" t="0" r="0" b="16086"/>
          <a:stretch/>
        </p:blipFill>
        <p:spPr>
          <a:xfrm>
            <a:off x="4197240" y="3068640"/>
            <a:ext cx="4946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йка или Снежинка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Picture 9" descr="Снежи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484280"/>
            <a:ext cx="3833640" cy="5162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Зайка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1557360"/>
            <a:ext cx="302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Дед Мороз или Дельфин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8" name="Picture 14" descr="Дед Мороз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2592360" cy="463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Дельфин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97160" y="1700280"/>
            <a:ext cx="46054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Матрешки или Огненный мальчик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1" name="Picture 11" descr="Матреш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203720" cy="4752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Огненный мальчи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380960"/>
            <a:ext cx="37432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Леопард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4" name="Picture 4" descr="Леопард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743120"/>
            <a:ext cx="4319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С </a:t>
            </a:r>
            <a:r>
              <a:rPr b="0" lang="ru-RU" sz="6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1932</a:t>
            </a: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 город-организатор строит 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«олимпийскую деревню»</a:t>
            </a: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 — комплекс жилых помещений для участников игр.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624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лимпийский парк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чи будет расположен на побережье Чёрного моря в Имеретинской низменности. Ни одно из спортивных сооружений ещё до конца не построено. Все проектные работы по олимпийским объектам планируется завершить в начале сентября 2007 года, чтобы уже в конце года начать их строительство. Строительство предполагается завершить в 2013 году.</a:t>
            </a:r>
            <a:br>
              <a:rPr sz="24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Большая ледовая арен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Малая ледовая арен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Конькобежный центр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Ледовый дворец спорт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Арена для кёрлинг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Олимпийский стадион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80000" y="33336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лимпи́йские и́гры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 — крупнейшие международные комплексны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спортивные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соревнования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, которые проводятся каждые четыре года. Традиция, существовавшая в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Древней Греции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, была возрождена в конц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XIX века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 французским общественным деятелем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Пьером де Кубертеном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3" name="Рисунок 4" descr="http://upload.wikimedia.org/wikipedia/commons/thumb/e/ef/Baron_Pierre_de_Coubertin.jpg/200px-Baron_Pierre_de_Couberti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476280"/>
            <a:ext cx="2952720" cy="4753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"/>
          <p:cNvSpPr/>
          <p:nvPr/>
        </p:nvSpPr>
        <p:spPr>
          <a:xfrm>
            <a:off x="684360" y="5589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рон Пьер де Куб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Картинка 7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55680"/>
            <a:ext cx="8642160" cy="52689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85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Большая ледовая арена в Сочи построена для игры в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хоккей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, рассчитана на 12000 зрителе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Картинка 6 из 12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49480"/>
            <a:ext cx="8642160" cy="5527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Малая ледовая арена — хоккей, 7000 зрителей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нькобежный центр — конькобежный спорт, 8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2" name="Picture 2" descr="Картинка 10 из 3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16280"/>
            <a:ext cx="88743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Картинка 1 из 108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8713800" cy="62121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Ледовый дворец спорта — фигурное катание, шорт-трек, 12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Картинка 4 из 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2560" y="260280"/>
            <a:ext cx="7291440" cy="5832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63640" y="475920"/>
            <a:ext cx="6764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ена для кёрлинга — кёрлинг, 3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79280" y="117360"/>
            <a:ext cx="1656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ёрлинг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англ.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curling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от англо-шотл. curr) — 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 («дома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лимпийский стадион, 40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9" name="Picture 2" descr="Картинка 18 из 10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87868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755640" y="189000"/>
          <a:ext cx="7667640" cy="790560"/>
        </p:xfrm>
        <a:graphic>
          <a:graphicData uri="http://schemas.openxmlformats.org/drawingml/2006/table">
            <a:tbl>
              <a:tblPr/>
              <a:tblGrid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  <a:gridCol w="766800"/>
                <a:gridCol w="766800"/>
                <a:gridCol w="766800"/>
              </a:tblGrid>
              <a:tr h="790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я откры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валификация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налы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казательные выступ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333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я закры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79280" y="981000"/>
          <a:ext cx="8712360" cy="5870520"/>
        </p:xfrm>
        <a:graphic>
          <a:graphicData uri="http://schemas.openxmlformats.org/drawingml/2006/table">
            <a:tbl>
              <a:tblPr/>
              <a:tblGrid>
                <a:gridCol w="1079640"/>
                <a:gridCol w="347760"/>
                <a:gridCol w="401400"/>
                <a:gridCol w="401760"/>
                <a:gridCol w="401760"/>
                <a:gridCol w="403200"/>
                <a:gridCol w="401400"/>
                <a:gridCol w="401760"/>
                <a:gridCol w="403200"/>
                <a:gridCol w="401760"/>
                <a:gridCol w="401400"/>
                <a:gridCol w="403200"/>
                <a:gridCol w="401760"/>
                <a:gridCol w="401760"/>
                <a:gridCol w="403200"/>
                <a:gridCol w="401760"/>
                <a:gridCol w="401400"/>
                <a:gridCol w="401760"/>
                <a:gridCol w="852480"/>
              </a:tblGrid>
              <a:tr h="24120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5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3333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Биатл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2"/>
                        </a:rPr>
                        <a:t>Бобс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3"/>
                        </a:rPr>
                        <a:t>Горнолыж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4"/>
                        </a:rPr>
                        <a:t>Кёрл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5"/>
                        </a:rPr>
                        <a:t>Конькобеж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6"/>
                        </a:rPr>
                        <a:t>Лыжное двоебор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7"/>
                        </a:rPr>
                        <a:t>Лыжные го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8"/>
                        </a:rPr>
                        <a:t>Прыжки с трамп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9"/>
                        </a:rPr>
                        <a:t>Сан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Скелет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Сноуборд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Фигурное ка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Фристай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Хокк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Шорт-тр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2" name="Рисунок 33" descr="Olympic rings.svg"/>
          <p:cNvPicPr/>
          <p:nvPr/>
        </p:nvPicPr>
        <p:blipFill>
          <a:blip r:embed="rId10"/>
          <a:stretch/>
        </p:blipFill>
        <p:spPr>
          <a:xfrm>
            <a:off x="0" y="0"/>
            <a:ext cx="200160" cy="954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4" descr="Biathlon pictogram.svg"/>
          <p:cNvPicPr/>
          <p:nvPr/>
        </p:nvPicPr>
        <p:blipFill>
          <a:blip r:embed="rId11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5" descr="Bobsleigh pictogram.svg"/>
          <p:cNvPicPr/>
          <p:nvPr/>
        </p:nvPicPr>
        <p:blipFill>
          <a:blip r:embed="rId1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6" descr="Alpine skiing pictogram.svg"/>
          <p:cNvPicPr/>
          <p:nvPr/>
        </p:nvPicPr>
        <p:blipFill>
          <a:blip r:embed="rId13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7" descr="Curling pictogram.svg"/>
          <p:cNvPicPr/>
          <p:nvPr/>
        </p:nvPicPr>
        <p:blipFill>
          <a:blip r:embed="rId14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8" descr="Speed skating pictogram.svg"/>
          <p:cNvPicPr/>
          <p:nvPr/>
        </p:nvPicPr>
        <p:blipFill>
          <a:blip r:embed="rId15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9" descr="Nordic combined pictogram.svg"/>
          <p:cNvPicPr/>
          <p:nvPr/>
        </p:nvPicPr>
        <p:blipFill>
          <a:blip r:embed="rId16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0" descr="Cross country skiing pictogram.svg"/>
          <p:cNvPicPr/>
          <p:nvPr/>
        </p:nvPicPr>
        <p:blipFill>
          <a:blip r:embed="rId17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1" descr="Ski jumping pictogram.svg"/>
          <p:cNvPicPr/>
          <p:nvPr/>
        </p:nvPicPr>
        <p:blipFill>
          <a:blip r:embed="rId18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42" descr="Luge pictogram.svg"/>
          <p:cNvPicPr/>
          <p:nvPr/>
        </p:nvPicPr>
        <p:blipFill>
          <a:blip r:embed="rId19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43" descr="Skeleton pictogram.svg"/>
          <p:cNvPicPr/>
          <p:nvPr/>
        </p:nvPicPr>
        <p:blipFill>
          <a:blip r:embed="rId20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4" descr="Snowboarding pictogram.svg"/>
          <p:cNvPicPr/>
          <p:nvPr/>
        </p:nvPicPr>
        <p:blipFill>
          <a:blip r:embed="rId21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45" descr="Figure skating pictogram.svg"/>
          <p:cNvPicPr/>
          <p:nvPr/>
        </p:nvPicPr>
        <p:blipFill>
          <a:blip r:embed="rId2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6" descr="Freestyle skiing pictogram.svg"/>
          <p:cNvPicPr/>
          <p:nvPr/>
        </p:nvPicPr>
        <p:blipFill>
          <a:blip r:embed="rId23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7" descr="Ice hockey pictogram.svg"/>
          <p:cNvPicPr/>
          <p:nvPr/>
        </p:nvPicPr>
        <p:blipFill>
          <a:blip r:embed="rId24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48" descr="Short track speed skating pictogram.svg"/>
          <p:cNvPicPr/>
          <p:nvPr/>
        </p:nvPicPr>
        <p:blipFill>
          <a:blip r:embed="rId25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9"/>
          <p:cNvSpPr/>
          <p:nvPr/>
        </p:nvSpPr>
        <p:spPr>
          <a:xfrm>
            <a:off x="4481640" y="2887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2" name="Рисунок 2" descr="http://upload.wikimedia.org/wikipedia/commons/thumb/a/a7/Olympic_flag.svg/250px-Olympic_flag.svg.png"/>
          <p:cNvPicPr/>
          <p:nvPr/>
        </p:nvPicPr>
        <p:blipFill>
          <a:blip r:embed="rId1"/>
          <a:stretch/>
        </p:blipFill>
        <p:spPr>
          <a:xfrm>
            <a:off x="5364000" y="189000"/>
            <a:ext cx="341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Символ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лимпийских игр — пять скреплённых колец, символизирующих объединение пяти частей света в олимпийском движен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6" name="Рисунок 2" descr="http://upload.wikimedia.org/wikipedia/commons/thumb/a/a7/Olympic_flag.svg/250px-Olympic_flag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33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2" descr="http://upload.wikimedia.org/wikipedia/commons/thumb/a/a7/Olympic_flag.svg/250px-Olympic_flag.svg.png">
            <a:hlinkClick r:id="rId1"/>
          </p:cNvPr>
          <p:cNvPicPr/>
          <p:nvPr/>
        </p:nvPicPr>
        <p:blipFill>
          <a:blip r:embed="rId2"/>
          <a:srcRect l="12744" t="22856" r="13726" b="25730"/>
          <a:stretch/>
        </p:blipFill>
        <p:spPr>
          <a:xfrm>
            <a:off x="179280" y="189000"/>
            <a:ext cx="8569440" cy="4032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4221000"/>
            <a:ext cx="8459640" cy="229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Цвет колец в верхнем ряду — голубо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Европы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чёр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Африк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крас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Америк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в нижнем ряду — жёлт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Ази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зелё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7"/>
              </a:rPr>
              <a:t>Австрали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2507040" y="29289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795240" y="128592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Евро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3660120" y="1143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6516360" y="11430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Аме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4865760" y="278604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Эмблема</a:t>
            </a: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олимпийские кольца.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Девиз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</a:t>
            </a:r>
            <a:r>
              <a:rPr b="1" i="1" lang="ru-RU" sz="4800" spc="-1" strike="noStrike">
                <a:solidFill>
                  <a:srgbClr val="696464"/>
                </a:solidFill>
                <a:latin typeface="Calibri"/>
              </a:rPr>
              <a:t>Citius, Altius, Fortius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 (</a:t>
            </a:r>
            <a:r>
              <a:rPr b="0" lang="ru-RU" sz="4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лат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. «быстрее, выше, сильнее»).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Флаг</a:t>
            </a: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белое полотнище с олимпийскими кольцами, с </a:t>
            </a:r>
            <a:r>
              <a:rPr b="0" lang="ru-RU" sz="48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1920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 поднимается на всех Играх.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-1986480" y="857160"/>
            <a:ext cx="129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Зимние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Олимпийские иг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20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6310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Зимние Олимпийские игры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2014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— международное спортивное мероприятие, которое пройдёт с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7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по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23 февраля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2014 года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толица Олимпиады, Сочи (Россия), была выбрана в городе Гватемала, столице Гватемалы 4 июля 2007 года.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 России Олимпийские Игры пройдут во второй раз (до этого в Москве проходили XXII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Летние Олимпийские игры 1980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), и впервые — зимние игры.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227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оготип города-кандидата Сочи на проведение Зимних Олимпийских игр 2014 год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95280" y="1700280"/>
          <a:ext cx="2592360" cy="48243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48243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df0024"/>
                      </a:solidFill>
                    </a:lnL>
                    <a:lnR w="5760">
                      <a:solidFill>
                        <a:srgbClr val="df0024"/>
                      </a:solidFill>
                    </a:lnR>
                    <a:lnT w="5760">
                      <a:solidFill>
                        <a:srgbClr val="df0024"/>
                      </a:solidFill>
                    </a:lnT>
                    <a:lnB w="5760">
                      <a:solidFill>
                        <a:srgbClr val="df002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9" name="Рисунок 144" descr="http://olimpigr.narod.ru/2014_Sochi/image/logo_1.jpg"/>
          <p:cNvPicPr/>
          <p:nvPr/>
        </p:nvPicPr>
        <p:blipFill>
          <a:blip r:embed="rId1"/>
          <a:stretch/>
        </p:blipFill>
        <p:spPr>
          <a:xfrm>
            <a:off x="971640" y="1844640"/>
            <a:ext cx="1514520" cy="45147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"/>
          <p:cNvSpPr/>
          <p:nvPr/>
        </p:nvSpPr>
        <p:spPr>
          <a:xfrm>
            <a:off x="3348000" y="1266480"/>
            <a:ext cx="57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28 октября 2005 года Международный олимпийский комитет (МОК) официально одобрил использование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Звезды Сочи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символа заявочной кампании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Сочи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2014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в качестве логотипа Сочи как города-претендента на право проведения зимних Олимпийских игр 2014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Олимпийская эмблема Сочи — звезда из белых и голубых линий на фоне синего неба и горных вершин. Весь логотип выдержан в цветах российского флага. Синий — цвет моря и неба, белый — снег, красный — цвет победы. Олимпийские кольца пяти цветов также символичны для Сочи: синее небо, большую часть года светит желтое солнце, рядом — Черное море, город находится в зеленой от растительности местности и соседствует с Красной Поля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Эмблема Зимних Олимпийских игр 2014 года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2" name="Рисунок 2" descr="http://olimpigr.narod.ru/2014_Sochi/image/sochi_2014_002.jpg"/>
          <p:cNvPicPr/>
          <p:nvPr/>
        </p:nvPicPr>
        <p:blipFill>
          <a:blip r:embed="rId1"/>
          <a:stretch/>
        </p:blipFill>
        <p:spPr>
          <a:xfrm>
            <a:off x="539640" y="4005360"/>
            <a:ext cx="4743720" cy="20955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3"/>
          <p:cNvSpPr/>
          <p:nvPr/>
        </p:nvSpPr>
        <p:spPr>
          <a:xfrm>
            <a:off x="3419640" y="1413000"/>
            <a:ext cx="53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декабря 2009 года в Москве представлена эмблем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ервых в истории России зимних Олимпийских игр "Сочи-2014"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mbria"/>
              </a:rPr>
              <a:t>Девиз сочинских Игр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- Gateway to the Future (Ворота в будущ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1:48:48Z</dcterms:created>
  <dc:creator>Владелец</dc:creator>
  <dc:description/>
  <dc:language>en-US</dc:language>
  <cp:lastModifiedBy>ZooM</cp:lastModifiedBy>
  <dcterms:modified xsi:type="dcterms:W3CDTF">2013-12-03T20:38:11Z</dcterms:modified>
  <cp:revision>20</cp:revision>
  <dc:subject/>
  <dc:title>Слайд 1</dc:title>
</cp:coreProperties>
</file>