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3.png" ContentType="image/png"/>
  <Override PartName="/ppt/media/image20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38.png" ContentType="image/png"/>
  <Override PartName="/ppt/media/image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45B-93D7-4B53-B707-99F0864A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44B-1DAA-41B3-A93E-4B18C1D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93E-691E-4408-8DE5-1F3BDE61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681-E03E-4D84-9B97-15A01E60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4F56-BCA1-4113-A4CC-F2D8DCAD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B159-84B2-40E9-AF9C-437FE72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88C-EBDA-4545-A01F-2C6B4F2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04DE-C114-467B-9540-CE1B4AA1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A799-DF7A-46BF-99FC-C4264C0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23E-752A-4A2C-8623-90035A9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AC63-5FA9-48F1-B93B-AF9C433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92B-7A15-4359-9F51-8ECE2BC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7997-4929-4E9B-B7DD-9AE1D21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64F-B2DF-4928-9BEE-32A1216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670F-62F9-4219-9B22-02F9ABC2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E43B-9361-439F-A00D-DB4179E9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0B58-D9F3-4B25-9F9C-FAE0D9DE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701A-9BD4-45A4-BCDA-8B280F27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5FCA-9BF0-4CC9-909A-659864A3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3453-490A-4BA7-802B-B547FAB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EAA0-F15B-4BF8-9076-27D37C8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02E3-F0CC-4C46-8669-74DB1B19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538-871B-4212-9130-D2343AFF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7A39-B395-4192-B454-A31F95D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24AB-CC77-4FC9-AC9D-F838D1F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4F26-ECAB-4AFB-9D18-D908B8B0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B01F-6F5B-4B1D-8528-3C70010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8313-B791-4F0E-BA88-E2DD0688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B321-8975-414E-BEA7-B29606E1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748D-A57F-4823-A2D1-DB139BB5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5685F-16E9-428B-9A2A-10573F89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1BAC-BFFC-4486-BCFD-7D293EB7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231F9-FDEA-47AE-B789-90A4275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EF9-EAD5-44BD-90C2-8D0C0180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F6B0-B621-4B0C-875E-B9D5CD1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66B4-0A7A-4022-9510-F4B74E10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4BB4-0F6E-4964-9FB9-1CAEFDD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2931-0E89-4C07-8836-40D2253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8F04-01FD-4A65-9802-A4CB441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324C-6CA7-4A04-A56F-476154F8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BDEA-C898-4943-B66D-3C7A67E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8916-DE5D-44FE-A624-1FB42091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57DA1-2E30-41CC-B173-0907586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C898-E40D-49F8-B100-5B4BAD6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16B-24DD-4CA0-A2D3-C69A081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50D2-9CA8-4E79-8F69-D1C7FA6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8F4C-68FE-42BD-BF50-7C55735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29DEC-7F8A-4836-9714-6182E93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DA12-4523-4CCE-997C-8F6AD4AF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EF78E-C5B0-4B71-84E8-7100F12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2988-42F9-4952-85B3-BF7C248C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74B0-8D66-4C26-B66D-3D01154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A446-529C-4EFE-97A0-E70CB34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6C4C-11CB-4769-A1E8-63F6FB09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ED4D-898E-489C-9F27-B9FAFDBA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4DF-880A-4AFD-9826-BD2FC70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B582-6FBD-45CC-879F-CA5C6ABB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C8357-2E52-4C23-811A-0CE232D2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1A1F-C076-4842-B313-331AE3B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B350E-0C0F-4A2C-802B-5C0E3EA9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004F-6659-474B-9D74-54623336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9F1F-0FF0-4B46-8263-10F9C1A9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2535-C048-485C-AFAA-5922463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EA0C-F779-4146-B7A0-3B5F026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15CB2-94FD-4515-B716-9E5E7734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1990F-2F0E-4E40-87BD-7FB58FE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7FC-B003-4697-90AF-F2F847C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1281D-B329-4E0D-8F6A-9F6677B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CA4D-3778-4CCF-B2CB-4063EC68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2864-C7A3-42C3-A634-B1921E16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F25-997F-4B2A-8350-904EFAF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68F-5289-4BB5-A2B7-34DA591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01B-DBC6-481D-B8AC-58C8F84BF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E10-32BB-4271-B4E9-72260357893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B3A-ADBC-4C75-8912-9840A11134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2D3-8351-4CC4-A62F-D004EE30386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19D-303E-4A2A-8576-55B36F90FC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D3E-9D15-40AF-9DE8-0B319E9A76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7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talisman.sochi2014.com/finalists/36329/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talisman.sochi2014.com/finalists/36326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3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talisman.sochi2014.com/finalists/36331/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69/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talisman.sochi2014.com/finalists/36330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6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talisman.sochi2014.com/finalists/36335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34/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talisman.sochi2014.com/finalists/36332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isman.sochi2014.com/finalists/36328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2" TargetMode="Externa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100;&#1096;&#1072;&#1103;_&#1083;&#1077;&#1076;&#1086;&#1074;&#1072;&#1103;_&#1072;&#1088;&#1077;&#1085;&#1072;_(&#1057;&#1086;&#1095;&#1080;)" TargetMode="External"/><Relationship Id="rId2" Type="http://schemas.openxmlformats.org/officeDocument/2006/relationships/hyperlink" Target="http://ru.wikipedia.org/wiki/&#1052;&#1072;&#1083;&#1072;&#1103;_&#1083;&#1077;&#1076;&#1086;&#1074;&#1072;&#1103;_&#1072;&#1088;&#1077;&#1085;&#1072;_(&#1057;&#1086;&#1095;&#1080;)" TargetMode="External"/><Relationship Id="rId3" Type="http://schemas.openxmlformats.org/officeDocument/2006/relationships/hyperlink" Target="http://ru.wikipedia.org/wiki/&#1050;&#1086;&#1085;&#1100;&#1082;&#1086;&#1073;&#1077;&#1078;&#1085;&#1099;&#1081;_&#1094;&#1077;&#1085;&#1090;&#1088;_(&#1057;&#1086;&#1095;&#1080;)" TargetMode="External"/><Relationship Id="rId4" Type="http://schemas.openxmlformats.org/officeDocument/2006/relationships/hyperlink" Target="http://ru.wikipedia.org/wiki/&#1051;&#1077;&#1076;&#1086;&#1074;&#1099;&#1081;_&#1076;&#1074;&#1086;&#1088;&#1077;&#1094;_&#1089;&#1087;&#1086;&#1088;&#1090;&#1072;_(&#1057;&#1086;&#1095;&#1080;)" TargetMode="External"/><Relationship Id="rId5" Type="http://schemas.openxmlformats.org/officeDocument/2006/relationships/hyperlink" Target="http://ru.wikipedia.org/wiki/&#1040;&#1088;&#1077;&#1085;&#1072;_&#1076;&#1083;&#1103;_&#1082;&#1105;&#1088;&#1083;&#1080;&#1085;&#1075;&#1072;_(&#1057;&#1086;&#1095;&#1080;)" TargetMode="External"/><Relationship Id="rId6" Type="http://schemas.openxmlformats.org/officeDocument/2006/relationships/hyperlink" Target="http://ru.wikipedia.org/wiki/&#1054;&#1083;&#1080;&#1084;&#1087;&#1080;&#1081;&#1089;&#1082;&#1080;&#1081;_&#1089;&#1090;&#1072;&#1076;&#1080;&#1086;&#1085;_(&#1057;&#1086;&#1095;&#1080;)" TargetMode="Externa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7;&#1086;&#1088;&#1090;" TargetMode="External"/><Relationship Id="rId2" Type="http://schemas.openxmlformats.org/officeDocument/2006/relationships/hyperlink" Target="http://ru.wikipedia.org/wiki/&#1057;&#1086;&#1088;&#1077;&#1074;&#1085;&#1086;&#1074;&#1072;&#1085;&#1080;&#1077;" TargetMode="External"/><Relationship Id="rId3" Type="http://schemas.openxmlformats.org/officeDocument/2006/relationships/hyperlink" Target="http://ru.wikipedia.org/wiki/&#1044;&#1088;&#1077;&#1074;&#1085;&#1103;&#1103;_&#1043;&#1088;&#1077;&#1094;&#1080;&#1103;" TargetMode="External"/><Relationship Id="rId4" Type="http://schemas.openxmlformats.org/officeDocument/2006/relationships/hyperlink" Target="http://ru.wikipedia.org/wiki/XIX_&#1074;&#1077;&#1082;" TargetMode="External"/><Relationship Id="rId5" Type="http://schemas.openxmlformats.org/officeDocument/2006/relationships/hyperlink" Target="http://ru.wikipedia.org/wiki/&#1050;&#1091;&#1073;&#1077;&#1088;&#1090;&#1077;&#1085;,_&#1055;&#1100;&#1077;&#1088;_&#1076;&#1077;" TargetMode="External"/><Relationship Id="rId6" Type="http://schemas.openxmlformats.org/officeDocument/2006/relationships/hyperlink" Target="http://ru.wikipedia.org/wiki/&#1060;&#1072;&#1081;&#1083;:Baron_Pierre_de_Coubertin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b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c-os.ru/common/upload/BLA_11.05.2010_2_b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ssport.ru/upload/iblock/78d/kkc1_850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alliance.ru/userfile/sochi_figure_skating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s74.ru/images/Kerling.0-03-12.gif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re.archplatforma.ru/imgs/newsimgs/2010/07/1006_SOCHI_STAIR_ENTANCE_FINAL1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0;&#1072;&#1090;&#1083;&#1086;&#1085;_&#1085;&#1072;_&#1079;&#1080;&#1084;&#1085;&#1080;&#1093;_&#1054;&#1083;&#1080;&#1084;&#1087;&#1080;&#1081;&#1089;&#1082;&#1080;&#1093;_&#1080;&#1075;&#1088;&#1072;&#1093;_2014&amp;action=edit&amp;redlink=1" TargetMode="External"/><Relationship Id="rId2" Type="http://schemas.openxmlformats.org/officeDocument/2006/relationships/hyperlink" Target="http://ru.wikipedia.org/w/index.php?title=&#1041;&#1086;&#1073;&#1089;&#1083;&#1077;&#1081;_&#1085;&#1072;_&#1079;&#1080;&#1084;&#1085;&#1080;&#1093;_&#1054;&#1083;&#1080;&#1084;&#1087;&#1080;&#1081;&#1089;&#1082;&#1080;&#1093;_&#1080;&#1075;&#1088;&#1072;&#1093;_2014&amp;action=edit&amp;redlink=1" TargetMode="External"/><Relationship Id="rId3" Type="http://schemas.openxmlformats.org/officeDocument/2006/relationships/hyperlink" Target="http://ru.wikipedia.org/w/index.php?title=&#1043;&#1086;&#1088;&#1085;&#1086;&#1083;&#1099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4" Type="http://schemas.openxmlformats.org/officeDocument/2006/relationships/hyperlink" Target="http://ru.wikipedia.org/w/index.php?title=&#1050;&#1105;&#1088;&#1083;&#1080;&#1085;&#1075;_&#1085;&#1072;_&#1079;&#1080;&#1084;&#1085;&#1080;&#1093;_&#1054;&#1083;&#1080;&#1084;&#1087;&#1080;&#1081;&#1089;&#1082;&#1080;&#1093;_&#1080;&#1075;&#1088;&#1072;&#1093;_2014&amp;action=edit&amp;redlink=1" TargetMode="External"/><Relationship Id="rId5" Type="http://schemas.openxmlformats.org/officeDocument/2006/relationships/hyperlink" Target="http://ru.wikipedia.org/w/index.php?title=&#1050;&#1086;&#1085;&#1100;&#1082;&#1086;&#1073;&#1077;&#1078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6" Type="http://schemas.openxmlformats.org/officeDocument/2006/relationships/hyperlink" Target="http://ru.wikipedia.org/w/index.php?title=&#1051;&#1099;&#1078;&#1085;&#1086;&#1077;_&#1076;&#1074;&#1086;&#1077;&#1073;&#1086;&#1088;&#1100;&#1077;_&#1085;&#1072;_&#1079;&#1080;&#1084;&#1085;&#1080;&#1093;_&#1054;&#1083;&#1080;&#1084;&#1087;&#1080;&#1081;&#1089;&#1082;&#1080;&#1093;_&#1080;&#1075;&#1088;&#1072;&#1093;_2014&amp;action=edit&amp;redlink=1" TargetMode="External"/><Relationship Id="rId7" Type="http://schemas.openxmlformats.org/officeDocument/2006/relationships/hyperlink" Target="http://ru.wikipedia.org/w/index.php?title=&#1051;&#1099;&#1078;&#1085;&#1099;&#1077;_&#1075;&#1086;&#1085;&#1082;&#1080;_&#1085;&#1072;_&#1079;&#1080;&#1084;&#1085;&#1080;&#1093;_&#1054;&#1083;&#1080;&#1084;&#1087;&#1080;&#1081;&#1089;&#1082;&#1080;&#1093;_&#1080;&#1075;&#1088;&#1072;&#1093;_2014&amp;action=edit&amp;redlink=1" TargetMode="External"/><Relationship Id="rId8" Type="http://schemas.openxmlformats.org/officeDocument/2006/relationships/hyperlink" Target="http://ru.wikipedia.org/w/index.php?title=&#1055;&#1088;&#1099;&#1078;&#1082;&#1080;_&#1089;_&#1090;&#1088;&#1072;&#1084;&#1087;&#1083;&#1080;&#1085;&#1072;_&#1085;&#1072;_&#1079;&#1080;&#1084;&#1085;&#1080;&#1093;_&#1054;&#1083;&#1080;&#1084;&#1087;&#1080;&#1081;&#1089;&#1082;&#1080;&#1093;_&#1080;&#1075;&#1088;&#1072;&#1093;_2014&amp;action=edit&amp;redlink=1" TargetMode="External"/><Relationship Id="rId9" Type="http://schemas.openxmlformats.org/officeDocument/2006/relationships/hyperlink" Target="http://ru.wikipedia.org/w/index.php?title=&#1057;&#1072;&#1085;&#1085;&#1099;&#1081;_&#1089;&#1087;&#1086;&#1088;&#1090;_&#1085;&#1072;_&#1079;&#1080;&#1084;&#1085;&#1080;&#1093;_&#1054;&#1083;&#1080;&#1084;&#1087;&#1080;&#1081;&#1089;&#1082;&#1080;&#1093;_&#1080;&#1075;&#1088;&#1072;&#1093;_2014&amp;action=edit&amp;redlink=1" TargetMode="External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74;&#1086;&#1083;" TargetMode="External"/><Relationship Id="rId2" Type="http://schemas.openxmlformats.org/officeDocument/2006/relationships/hyperlink" Target="http://ru.wikipedia.org/wiki/&#1060;&#1072;&#1081;&#1083;:Olympic_flag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Olympic_flag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92;&#1088;&#1080;&#1082;&#1072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0;&#1079;&#1080;&#1103;" TargetMode="External"/><Relationship Id="rId7" Type="http://schemas.openxmlformats.org/officeDocument/2006/relationships/hyperlink" Target="http://ru.wikipedia.org/wiki/&#1040;&#1074;&#1089;&#1090;&#1088;&#1072;&#1083;&#1080;&#1103;" TargetMode="External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920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0;&#1084;&#1085;&#1080;&#1077;_&#1054;&#1083;&#1080;&#1084;&#1087;&#1080;&#1081;&#1089;&#1082;&#1080;&#1077;_&#1080;&#1075;&#1088;&#1099;" TargetMode="External"/><Relationship Id="rId2" Type="http://schemas.openxmlformats.org/officeDocument/2006/relationships/hyperlink" Target="http://ru.wikipedia.org/wiki/7_&#1092;&#1077;&#1074;&#1088;&#1072;&#1083;&#1103;" TargetMode="External"/><Relationship Id="rId3" Type="http://schemas.openxmlformats.org/officeDocument/2006/relationships/hyperlink" Target="http://ru.wikipedia.org/wiki/23_&#1092;&#1077;&#1074;&#1088;&#1072;&#1083;&#1103;" TargetMode="External"/><Relationship Id="rId4" Type="http://schemas.openxmlformats.org/officeDocument/2006/relationships/hyperlink" Target="http://ru.wikipedia.org/wiki/2014_&#1075;&#1086;&#1076;" TargetMode="External"/><Relationship Id="rId5" Type="http://schemas.openxmlformats.org/officeDocument/2006/relationships/hyperlink" Target="http://ru.wikipedia.org/wiki/&#1051;&#1077;&#1090;&#1085;&#1080;&#1077;_&#1054;&#1083;&#1080;&#1084;&#1087;&#1080;&#1081;&#1089;&#1082;&#1080;&#1077;_&#1080;&#1075;&#1088;&#1099;_1980" TargetMode="Externa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3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1881360" y="5357880"/>
            <a:ext cx="593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Олимпийский 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311400" y="0"/>
            <a:ext cx="849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Игры 201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настоящее и будущее Со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ак вы думаете, какой талисман Зимних Олимпийских игр в Соч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берет народ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39640" y="3213000"/>
            <a:ext cx="82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вно за три года до открытия зимней Олимпиады в Сочи, 7 февраля 2011 года, в эфире Первого канала прошла телевизионная презентация талисманов грядущих Игр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едущий Иван Ургант подвел итоги первого тура конкурса, в ходе которого экспертное жюри рассмотрело более 24 тысяч работ и определилось с шорт-листом самых удачных идей, на каждую из которых отсняты 30-секундные анимированные видеооткрытк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Талисман Сочи-2014 выберут 26 февраля в прямом эфире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Талисман будущей зимней Олимпиады в Сочи будут выбирать всем миром. На 26 февраля 2011 года запланировано народное голосование за лучший символ Сочи-2014 по телефону и посредством sms, результаты которого будут объявлены в прямом эфире Первого канал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Десять изображений, которые претендуют на звание талисмана Олимпийских игр 2014 года, были представлены в понедельник, 7 февраля 2011 года. 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имволом предстоящих игр в Сочи могут стать белый или бурый медведи, "Зайка", леопард со сноубордом, снегирь, дельфин на лыжах, "Солнышко", "Огненный мальчик", "Снежинка", Дед Мороз или "Матрешки", больше похожие на снеговиков.</a:t>
            </a:r>
            <a:br>
              <a:rPr sz="2200"/>
            </a:br>
            <a:r>
              <a:rPr b="0" lang="ru-RU" sz="2200" spc="-1" strike="noStrike">
                <a:solidFill>
                  <a:srgbClr val="696464"/>
                </a:solidFill>
                <a:latin typeface="Calibri"/>
              </a:rPr>
              <a:t>С изображениями всех финалистов можно ознакомиться на официальном сайте талисмана Сочи-2014.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Бурый или Белый медведь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8" name="Picture 3" descr="Бурый медвед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444680"/>
            <a:ext cx="3743280" cy="5133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Белый медве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6040" y="1700280"/>
            <a:ext cx="3948120" cy="4753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Дед Мороз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360" y="-7994520"/>
            <a:ext cx="895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Снегирь или Солнышко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Picture 10" descr="Снегир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844640"/>
            <a:ext cx="42400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Солнышко">
            <a:hlinkClick r:id="rId3"/>
          </p:cNvPr>
          <p:cNvPicPr/>
          <p:nvPr/>
        </p:nvPicPr>
        <p:blipFill>
          <a:blip r:embed="rId4"/>
          <a:srcRect l="0" t="0" r="0" b="16086"/>
          <a:stretch/>
        </p:blipFill>
        <p:spPr>
          <a:xfrm>
            <a:off x="4197240" y="3068640"/>
            <a:ext cx="4946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йка или Снежинка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Picture 9" descr="Снежин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484280"/>
            <a:ext cx="3833640" cy="516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Зайка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1557360"/>
            <a:ext cx="302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Дед Мороз или Дельфин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8" name="Picture 14" descr="Дед Мороз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700280"/>
            <a:ext cx="2592360" cy="46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Дельфин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97160" y="1700280"/>
            <a:ext cx="46054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Матрешки или Огненный мальчик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1" name="Picture 11" descr="Матреш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916280"/>
            <a:ext cx="4203720" cy="4752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Огненный мальчик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380960"/>
            <a:ext cx="37432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алисман Олимпиады-2014 Леопард?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14" name="Picture 4" descr="Леопар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743120"/>
            <a:ext cx="43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С </a:t>
            </a:r>
            <a:r>
              <a:rPr b="0" lang="ru-RU" sz="6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1932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 город-организатор строит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«олимпийскую деревню»</a:t>
            </a:r>
            <a:r>
              <a:rPr b="0" lang="ru-RU" sz="6000" spc="-1" strike="noStrike">
                <a:solidFill>
                  <a:srgbClr val="ff0066"/>
                </a:solidFill>
                <a:latin typeface="Calibri"/>
              </a:rPr>
              <a:t> — комплекс жилых помещений для участников игр.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624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лимпийский парк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чи будет расположен на побережье Чёрного моря в Имеретинской низменности. Ни одно из спортивных сооружений ещё до конца не построено. Все проектные работы по олимпийским объектам планируется завершить в начале сентября 2007 года, чтобы уже в конце года начать их строительство. Строительство предполагается завершить в 2013 году.</a:t>
            </a:r>
            <a:br>
              <a:rPr sz="24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Больш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Малая ледовая арен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Конькобежный центр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Ледовый дворец спорт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рена для кёрлинга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 </a:t>
            </a:r>
            <a:br>
              <a:rPr sz="2800"/>
            </a:br>
            <a:r>
              <a:rPr b="0" lang="ru-RU" sz="28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Олимпийский стадион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780000" y="33336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Олимпи́йские и́гры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 — крупнейшие международные комплексны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портивные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соревнования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которые проводятся каждые четыре года. Традиция, существовавшая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Древней Греции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, была возрождена в конц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XIX века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 французским общественным деятеле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Пьером де Кубертеном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3" name="Рисунок 4" descr="http://upload.wikimedia.org/wikipedia/commons/thumb/e/ef/Baron_Pierre_de_Coubertin.jpg/200px-Baron_Pierre_de_Coubertin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476280"/>
            <a:ext cx="2952720" cy="4753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"/>
          <p:cNvSpPr/>
          <p:nvPr/>
        </p:nvSpPr>
        <p:spPr>
          <a:xfrm>
            <a:off x="684360" y="5589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рон Пьер де Куб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Картинка 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55680"/>
            <a:ext cx="8642160" cy="52689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859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Большая ледовая арена в Сочи построена для игры в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хоккей</a:t>
            </a: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, рассчитана на 12000 зрителе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Картинка 6 из 1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149480"/>
            <a:ext cx="8642160" cy="5527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Малая ледовая арена — хоккей, 7000 зрителей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онькобежный центр — конькобежный спорт, 8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2" name="Picture 2" descr="Картинка 10 из 3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16280"/>
            <a:ext cx="88743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Картинка 1 из 108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8713800" cy="62121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Ледовый дворец спорта — фигурное катание, шорт-трек, 12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Картинка 4 из 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2560" y="260280"/>
            <a:ext cx="7291440" cy="5832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6764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ена для кёрлинга — кёрлинг, 3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79280" y="117360"/>
            <a:ext cx="1656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ёрлинг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(англ.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curling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, от англо-шотл. curr) — 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 («дом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лимпийский стадион, 40000 зрителей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9" name="Picture 2" descr="Картинка 18 из 1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87868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755640" y="189000"/>
          <a:ext cx="7667640" cy="790560"/>
        </p:xfrm>
        <a:graphic>
          <a:graphicData uri="http://schemas.openxmlformats.org/drawingml/2006/table">
            <a:tbl>
              <a:tblPr/>
              <a:tblGrid>
                <a:gridCol w="766800"/>
                <a:gridCol w="766800"/>
                <a:gridCol w="766800"/>
                <a:gridCol w="766800"/>
                <a:gridCol w="766800"/>
                <a:gridCol w="766440"/>
                <a:gridCol w="766800"/>
                <a:gridCol w="766800"/>
                <a:gridCol w="766800"/>
                <a:gridCol w="766800"/>
              </a:tblGrid>
              <a:tr h="7905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от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валификация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налы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казательные выступ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 ●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я закрыт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179280" y="981000"/>
          <a:ext cx="8712360" cy="5870520"/>
        </p:xfrm>
        <a:graphic>
          <a:graphicData uri="http://schemas.openxmlformats.org/drawingml/2006/table">
            <a:tbl>
              <a:tblPr/>
              <a:tblGrid>
                <a:gridCol w="1079640"/>
                <a:gridCol w="347760"/>
                <a:gridCol w="401400"/>
                <a:gridCol w="401760"/>
                <a:gridCol w="401760"/>
                <a:gridCol w="403200"/>
                <a:gridCol w="401400"/>
                <a:gridCol w="401760"/>
                <a:gridCol w="403200"/>
                <a:gridCol w="401760"/>
                <a:gridCol w="401400"/>
                <a:gridCol w="403200"/>
                <a:gridCol w="401760"/>
                <a:gridCol w="401760"/>
                <a:gridCol w="403200"/>
                <a:gridCol w="401760"/>
                <a:gridCol w="401400"/>
                <a:gridCol w="401760"/>
                <a:gridCol w="852480"/>
              </a:tblGrid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5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ремо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3333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1"/>
                        </a:rPr>
                        <a:t>Биатл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2"/>
                        </a:rPr>
                        <a:t>Бобс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3"/>
                        </a:rPr>
                        <a:t>Горнолы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4"/>
                        </a:rPr>
                        <a:t>Кёрл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5"/>
                        </a:rPr>
                        <a:t>Конькобеж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6"/>
                        </a:rPr>
                        <a:t>Лыжное двоебор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7"/>
                        </a:rPr>
                        <a:t>Лыжные го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8"/>
                        </a:rPr>
                        <a:t>Прыжки с трампл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9900"/>
                          </a:solidFill>
                          <a:uFillTx/>
                          <a:latin typeface="Calibri"/>
                          <a:ea typeface="Calibri"/>
                          <a:hlinkClick r:id="rId9"/>
                        </a:rPr>
                        <a:t>Санный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келет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Сноуборд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игурное кат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Фристай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Хокк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120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cc2200"/>
                          </a:solidFill>
                          <a:uFillTx/>
                          <a:latin typeface="Calibri"/>
                          <a:ea typeface="Calibri"/>
                        </a:rPr>
                        <a:t>Шорт-тр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5400" anchor="ctr">
                      <a:noAutofit/>
                    </a:bodyPr>
                    <a:p>
                      <a:pPr algn="ctr">
                        <a:lnSpc>
                          <a:spcPts val="1500"/>
                        </a:lnSpc>
                        <a:spcBef>
                          <a:spcPts val="726"/>
                        </a:spcBef>
                        <a:spcAft>
                          <a:spcPts val="7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2" name="Рисунок 33" descr="Olympic rings.svg"/>
          <p:cNvPicPr/>
          <p:nvPr/>
        </p:nvPicPr>
        <p:blipFill>
          <a:blip r:embed="rId10"/>
          <a:stretch/>
        </p:blipFill>
        <p:spPr>
          <a:xfrm>
            <a:off x="0" y="0"/>
            <a:ext cx="200160" cy="954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4" descr="Biathlon pictogram.svg"/>
          <p:cNvPicPr/>
          <p:nvPr/>
        </p:nvPicPr>
        <p:blipFill>
          <a:blip r:embed="rId1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5" descr="Bobsleigh pictogram.svg"/>
          <p:cNvPicPr/>
          <p:nvPr/>
        </p:nvPicPr>
        <p:blipFill>
          <a:blip r:embed="rId1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6" descr="Alpine skiing pictogram.svg"/>
          <p:cNvPicPr/>
          <p:nvPr/>
        </p:nvPicPr>
        <p:blipFill>
          <a:blip r:embed="rId1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7" descr="Curling pictogram.svg"/>
          <p:cNvPicPr/>
          <p:nvPr/>
        </p:nvPicPr>
        <p:blipFill>
          <a:blip r:embed="rId1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8" descr="Speed skating pictogram.svg"/>
          <p:cNvPicPr/>
          <p:nvPr/>
        </p:nvPicPr>
        <p:blipFill>
          <a:blip r:embed="rId1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9" descr="Nordic combined pictogram.svg"/>
          <p:cNvPicPr/>
          <p:nvPr/>
        </p:nvPicPr>
        <p:blipFill>
          <a:blip r:embed="rId16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0" descr="Cross country skiing pictogram.svg"/>
          <p:cNvPicPr/>
          <p:nvPr/>
        </p:nvPicPr>
        <p:blipFill>
          <a:blip r:embed="rId17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1" descr="Ski jumping pictogram.svg"/>
          <p:cNvPicPr/>
          <p:nvPr/>
        </p:nvPicPr>
        <p:blipFill>
          <a:blip r:embed="rId18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2" descr="Luge pictogram.svg"/>
          <p:cNvPicPr/>
          <p:nvPr/>
        </p:nvPicPr>
        <p:blipFill>
          <a:blip r:embed="rId19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43" descr="Skeleton pictogram.svg"/>
          <p:cNvPicPr/>
          <p:nvPr/>
        </p:nvPicPr>
        <p:blipFill>
          <a:blip r:embed="rId20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4" descr="Snowboarding pictogram.svg"/>
          <p:cNvPicPr/>
          <p:nvPr/>
        </p:nvPicPr>
        <p:blipFill>
          <a:blip r:embed="rId21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45" descr="Figure skating pictogram.svg"/>
          <p:cNvPicPr/>
          <p:nvPr/>
        </p:nvPicPr>
        <p:blipFill>
          <a:blip r:embed="rId2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6" descr="Freestyle skiing pictogram.svg"/>
          <p:cNvPicPr/>
          <p:nvPr/>
        </p:nvPicPr>
        <p:blipFill>
          <a:blip r:embed="rId23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7" descr="Ice hockey pictogram.svg"/>
          <p:cNvPicPr/>
          <p:nvPr/>
        </p:nvPicPr>
        <p:blipFill>
          <a:blip r:embed="rId24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8" descr="Short track speed skating pictogram.svg"/>
          <p:cNvPicPr/>
          <p:nvPr/>
        </p:nvPicPr>
        <p:blipFill>
          <a:blip r:embed="rId25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9"/>
          <p:cNvSpPr/>
          <p:nvPr/>
        </p:nvSpPr>
        <p:spPr>
          <a:xfrm>
            <a:off x="4481640" y="2887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2" name="Рисунок 2" descr="http://upload.wikimedia.org/wikipedia/commons/thumb/a/a7/Olympic_flag.svg/250px-Olympic_flag.svg.png"/>
          <p:cNvPicPr/>
          <p:nvPr/>
        </p:nvPicPr>
        <p:blipFill>
          <a:blip r:embed="rId1"/>
          <a:stretch/>
        </p:blipFill>
        <p:spPr>
          <a:xfrm>
            <a:off x="5364000" y="189000"/>
            <a:ext cx="3419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033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Символ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лимпийских игр — пять скреплённых колец, символизирующих объединение пяти частей света в олимпийском движени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6" name="Рисунок 2" descr="http://upload.wikimedia.org/wikipedia/commons/thumb/a/a7/Olympic_flag.svg/250px-Olympic_flag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33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2" descr="http://upload.wikimedia.org/wikipedia/commons/thumb/a/a7/Olympic_flag.svg/250px-Olympic_flag.svg.png">
            <a:hlinkClick r:id="rId1"/>
          </p:cNvPr>
          <p:cNvPicPr/>
          <p:nvPr/>
        </p:nvPicPr>
        <p:blipFill>
          <a:blip r:embed="rId2"/>
          <a:srcRect l="12744" t="22856" r="13726" b="25730"/>
          <a:stretch/>
        </p:blipFill>
        <p:spPr>
          <a:xfrm>
            <a:off x="179280" y="189000"/>
            <a:ext cx="8569440" cy="4032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4221000"/>
            <a:ext cx="8459640" cy="229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Цвет колец в верхнем ряду — голубо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Европы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чёр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Аф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крас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Америк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в нижнем ряду — жёлт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Аз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, зелёный для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Австралии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2507040" y="2928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0"/>
          <p:cNvSpPr/>
          <p:nvPr/>
        </p:nvSpPr>
        <p:spPr>
          <a:xfrm>
            <a:off x="795240" y="12859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Евро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3660120" y="114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2"/>
          <p:cNvSpPr/>
          <p:nvPr/>
        </p:nvSpPr>
        <p:spPr>
          <a:xfrm>
            <a:off x="6516360" y="11430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Ам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4865760" y="27860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590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Эмблема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олимпийские кольца.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Девиз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</a:t>
            </a:r>
            <a:r>
              <a:rPr b="1" i="1" lang="ru-RU" sz="4800" spc="-1" strike="noStrike">
                <a:solidFill>
                  <a:srgbClr val="696464"/>
                </a:solidFill>
                <a:latin typeface="Calibri"/>
              </a:rPr>
              <a:t>Citius, Altius, Fortius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лат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. «быстрее, выше, сильнее»).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Флаг</a:t>
            </a:r>
            <a:r>
              <a:rPr b="0" lang="ru-RU" sz="4800" spc="-1" strike="noStrike">
                <a:solidFill>
                  <a:srgbClr val="696464"/>
                </a:solidFill>
                <a:latin typeface="Calibri"/>
              </a:rPr>
              <a:t> 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— белое полотнище с олимпийскими кольцами, с </a:t>
            </a:r>
            <a:r>
              <a:rPr b="0" lang="ru-RU" sz="48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1920</a:t>
            </a:r>
            <a:r>
              <a:rPr b="0" i="1" lang="ru-RU" sz="4800" spc="-1" strike="noStrike">
                <a:solidFill>
                  <a:srgbClr val="696464"/>
                </a:solidFill>
                <a:latin typeface="Calibri"/>
              </a:rPr>
              <a:t> поднимается на всех Играх.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-1986480" y="857160"/>
            <a:ext cx="129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Зимние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Олимпийские иг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20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6310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Зимние Олимпийские игры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2014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— международное спортивное мероприятие, которое пройдёт с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7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по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23 февраля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2014 года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олица Олимпиады, Сочи (Россия), была выбрана в городе Гватемала, столице Гватемалы 4 июля 2007 года. 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 России Олимпийские Игры пройдут во второй раз (до этого в Москве проходили XXII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Летние Олимпийские игры 1980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), и впервые — зимние игры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227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оготип города-кандидата Сочи на проведение Зимних Олимпийских игр 2014 год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5280" y="1700280"/>
          <a:ext cx="2592360" cy="482436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48243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df0024"/>
                      </a:solidFill>
                    </a:lnL>
                    <a:lnR w="5760">
                      <a:solidFill>
                        <a:srgbClr val="df0024"/>
                      </a:solidFill>
                    </a:lnR>
                    <a:lnT w="5760">
                      <a:solidFill>
                        <a:srgbClr val="df0024"/>
                      </a:solidFill>
                    </a:lnT>
                    <a:lnB w="5760">
                      <a:solidFill>
                        <a:srgbClr val="df002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Рисунок 144" descr="http://olimpigr.narod.ru/2014_Sochi/image/logo_1.jpg"/>
          <p:cNvPicPr/>
          <p:nvPr/>
        </p:nvPicPr>
        <p:blipFill>
          <a:blip r:embed="rId1"/>
          <a:stretch/>
        </p:blipFill>
        <p:spPr>
          <a:xfrm>
            <a:off x="971640" y="1844640"/>
            <a:ext cx="1514520" cy="45147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"/>
          <p:cNvSpPr/>
          <p:nvPr/>
        </p:nvSpPr>
        <p:spPr>
          <a:xfrm>
            <a:off x="3348000" y="1266480"/>
            <a:ext cx="57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8 октября 2005 года Международный олимпийский комитет (МОК) официально одобрил использование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Звезды 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символа заявочной кампании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Сочи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2014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качестве логотипа Сочи как города-претендента на право проведения зимних Олимпийских игр 2014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Олимпийская эмблема Сочи — звезда из белых и голубых линий на фоне синего неба и горных вершин. Весь логотип выдержан в цветах российского флага. Синий — цвет моря и неба, белый — снег, красный — цвет победы. Олимпийские кольца пяти цветов также символичны для Сочи: синее небо, большую часть года светит желтое солнце, рядом — Черное море, город находится в зеленой от растительности местности и соседствует с Красной Поля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мблема Зимних Олимпийских игр 2014 года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2" name="Рисунок 2" descr="http://olimpigr.narod.ru/2014_Sochi/image/sochi_2014_002.jpg"/>
          <p:cNvPicPr/>
          <p:nvPr/>
        </p:nvPicPr>
        <p:blipFill>
          <a:blip r:embed="rId1"/>
          <a:stretch/>
        </p:blipFill>
        <p:spPr>
          <a:xfrm>
            <a:off x="539640" y="4005360"/>
            <a:ext cx="4743720" cy="20955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3"/>
          <p:cNvSpPr/>
          <p:nvPr/>
        </p:nvSpPr>
        <p:spPr>
          <a:xfrm>
            <a:off x="3419640" y="1413000"/>
            <a:ext cx="53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 декабря 2009 года в Москве представлена эмбл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ервых в истории России зимних Олимпийских игр "Сочи-2014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mbria"/>
              </a:rPr>
              <a:t>Девиз сочинских Игр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- Gateway to the Future (Ворота в будуще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1:48:48Z</dcterms:created>
  <dc:creator>Владелец</dc:creator>
  <dc:description/>
  <dc:language>en-US</dc:language>
  <cp:lastModifiedBy>ZooM</cp:lastModifiedBy>
  <dcterms:modified xsi:type="dcterms:W3CDTF">2013-12-03T20:38:11Z</dcterms:modified>
  <cp:revision>20</cp:revision>
  <dc:subject/>
  <dc:title>Слайд 1</dc:title>
</cp:coreProperties>
</file>