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gif" ContentType="image/gif"/>
  <Override PartName="/ppt/media/image6.jpeg" ContentType="image/jpeg"/>
  <Override PartName="/ppt/media/image5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3CAE-BD68-4D02-A091-07CE1DCE4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9EB7-5685-4E41-8E3D-0FBDCBED7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07BD-8ADF-453D-BA80-6FD59B8F4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19CE-ED30-416F-BF03-F3F84FEA0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2CAEB-3905-44EE-AB12-DFD933747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5620A-CF77-490F-8D44-E6B49CF5B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73388-781E-4655-9088-3334C23D9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6435D-C6CE-4F91-820C-C0BAE131D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26AEA-5CED-4CB5-B6D9-1B419344B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8C298-F8DE-4FA2-AD64-292956295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F86BE-E6C5-4E9A-AEFB-AE6778B4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603D-AB50-4A0E-B081-4DBF00FF4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9BC84-BFDC-453D-9AD0-6DE731A9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7485F-6A8C-4FAF-B697-A51F56CD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ADB06-9E35-4585-847E-B8E6EDDB1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0A3E3-24F7-43EF-9FEF-A7E366C29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68D20-4B21-49AE-A278-18C90C0E8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4B08-D158-4530-9275-0B69ED5E1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CF89-A286-4C85-AD24-02C2875A4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DB42-AA59-4506-BEDA-AA3367B59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7647-CF48-4478-B9E2-3DB886216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DBF8-9228-48E4-AB7F-76388397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0F89-9106-4468-9C18-9931829C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FDEA-AA74-4F67-86C4-C6B2C9D9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5697B-043C-4324-92B9-91FFFD89D5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40DB5-4FC7-4711-B614-67947CE096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5219280" y="2492280"/>
            <a:ext cx="374508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Лобанова Татьяна Александровна, учитель физической культур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МОУ «Егорьевская средняя общеобразовательная школ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336600"/>
                </a:solidFill>
                <a:latin typeface="Arial"/>
              </a:rPr>
              <a:t>Новоегорьевское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187280" y="404640"/>
            <a:ext cx="6769440" cy="82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05256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Ы ИДЕМ В ПОХОД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05256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79280" y="1427040"/>
            <a:ext cx="4983120" cy="4776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rcRect l="37653" t="4207" r="45069" b="57379"/>
          <a:stretch/>
        </p:blipFill>
        <p:spPr>
          <a:xfrm>
            <a:off x="179280" y="1125360"/>
            <a:ext cx="2521080" cy="46087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700360" y="476280"/>
            <a:ext cx="6443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не допускать потертости ног , о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возникновении потертостей сообщить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руководителю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о малейших признаках заболеваний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немедленно сообщить руководителю;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484360" y="213372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00360" y="3141720"/>
            <a:ext cx="6443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купаться в указанном  месте в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присутствии руководител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не нырять с мостиков, лодок,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обрыв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не купаться в сумерках и ночн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время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411280" y="1413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rcRect l="14656" t="52865" r="68323" b="8213"/>
          <a:stretch/>
        </p:blipFill>
        <p:spPr>
          <a:xfrm>
            <a:off x="250920" y="1197000"/>
            <a:ext cx="2592360" cy="45831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843280" y="5084640"/>
            <a:ext cx="630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дежурные должны иметь рукавицы,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головной убор и одежду, полностью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закрывающую тело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43280" y="549360"/>
            <a:ext cx="63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не переносит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тяжелых бревен и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камней по одному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не залезать на деревья без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разрешения руководителя;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843280" y="2708280"/>
            <a:ext cx="6300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не оставлять в лесу горящих спичек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не бросать, костров без присмотр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аккуратно обращаться с огнем и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кипятко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4920" y="1628640"/>
            <a:ext cx="5545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00"/>
                </a:solidFill>
                <a:latin typeface="Times New Roman"/>
              </a:rPr>
              <a:t>Сворачивая лагерь, тщательно уберите территорию , сожгите в костре мусор и отходы, а</a:t>
            </a:r>
            <a:br>
              <a:rPr sz="4400"/>
            </a:br>
            <a:r>
              <a:rPr b="1" lang="en-US" sz="4400" spc="-1" strike="noStrike">
                <a:solidFill>
                  <a:srgbClr val="336600"/>
                </a:solidFill>
                <a:latin typeface="Times New Roman"/>
              </a:rPr>
              <a:t> банки, бутылки закопайте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rcRect l="79164" t="4899" r="3872" b="57355"/>
          <a:stretch/>
        </p:blipFill>
        <p:spPr>
          <a:xfrm>
            <a:off x="5940360" y="1628640"/>
            <a:ext cx="2952720" cy="50403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539640" y="333360"/>
            <a:ext cx="8001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ЕРЕЖНОЕ ОТНОШЕНИЕ К ПРИРОДЕ 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cc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ЛГ КАЖДОГО ТУРИС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cc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укрепление здоровья и закаливание организм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содействие   воспитанию  волевых качеств, смелости, наблюдательности, сообразительности, самостоятельн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содействие развитию физических качест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знакомство с природными богатствами, историческим прошлым, с достижениями в области промышленности, сельского хозяйства, науки и культу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835280" y="549360"/>
            <a:ext cx="590544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НАЧЕНИЕ ТУРИЗМ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33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809640" cy="93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364000" y="1628640"/>
            <a:ext cx="3048120" cy="12956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95280" y="155700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общефизическа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подготовк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специальная физическая подготовк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закаливание организма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знакомство с особенностями местности будущего путешеств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инструктаж по технике безопас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rcRect l="17535" t="47496" r="65022" b="14062"/>
          <a:stretch/>
        </p:blipFill>
        <p:spPr>
          <a:xfrm>
            <a:off x="6012000" y="1341360"/>
            <a:ext cx="2990880" cy="5113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1197000"/>
            <a:ext cx="619272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imes New Roman"/>
              </a:rPr>
              <a:t>спальный мешок или одеяло, надувной матрас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imes New Roman"/>
              </a:rPr>
              <a:t>полотенце, зубная паста, щетка, мыло, туалетная бумага, средство от комар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imes New Roman"/>
              </a:rPr>
              <a:t>нижнее белье, спортивный костюм, куртка, свитер, шапочка, футболка, шорты, носки, сменная обувь, накидка от дожд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imes New Roman"/>
              </a:rPr>
              <a:t>кружка, ложка, чашка, нож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42920" y="333360"/>
            <a:ext cx="669600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ИЧНОЕ СНАРЯЖЕН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33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5084640"/>
            <a:ext cx="4032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ПАЛАТКА,  АПТЕЧКА,     </a:t>
            </a:r>
            <a:br>
              <a:rPr sz="1800"/>
            </a:b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   КОСТРОВОЙ НАБОР, ЛОПАТА,     </a:t>
            </a:r>
            <a:br>
              <a:rPr sz="1800"/>
            </a:b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   ТОПОР, ВЕРЕВКА, ФОНАРИК, </a:t>
            </a:r>
            <a:br>
              <a:rPr sz="1800"/>
            </a:b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   РУКАВИЦЫ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rcRect l="38647" t="47910" r="44126" b="14128"/>
          <a:stretch/>
        </p:blipFill>
        <p:spPr>
          <a:xfrm>
            <a:off x="6372360" y="1268280"/>
            <a:ext cx="2228760" cy="3600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rcRect l="38278" t="5952" r="45011" b="56138"/>
          <a:stretch/>
        </p:blipFill>
        <p:spPr>
          <a:xfrm>
            <a:off x="468360" y="1268280"/>
            <a:ext cx="2203560" cy="3600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3419640" y="1268280"/>
            <a:ext cx="2232000" cy="3600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1116000" y="189000"/>
            <a:ext cx="6913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РУППОВОЕ СНАРЯЖЕН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33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" name=""/>
          <p:cNvSpPr/>
          <p:nvPr/>
        </p:nvSpPr>
        <p:spPr>
          <a:xfrm>
            <a:off x="5076720" y="5229360"/>
            <a:ext cx="38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ПРОДУКТЫ ПИТАНИЯ,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ФЛЯГИ ДЛЯ ВОДЫ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ПОСУДА ДЛЯ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ПРИГОТОВЛЕНИЯ ПИЩ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rcRect l="16684" t="6441" r="65660" b="55115"/>
          <a:stretch/>
        </p:blipFill>
        <p:spPr>
          <a:xfrm>
            <a:off x="179280" y="1628640"/>
            <a:ext cx="3175200" cy="51231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2195640" y="404640"/>
            <a:ext cx="432108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БОР МЕСТА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33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"/>
          <p:cNvSpPr/>
          <p:nvPr/>
        </p:nvSpPr>
        <p:spPr>
          <a:xfrm>
            <a:off x="3348000" y="1773360"/>
            <a:ext cx="5796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безопасность места ( дороги,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затопление низин, высокие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сухие деревья, камнепады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обеспеченность дровами 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водо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комфорт существова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(защищенность от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ветра, костра, освеще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палаток солнцем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rcRect l="36837" t="53957" r="46010" b="7490"/>
          <a:stretch/>
        </p:blipFill>
        <p:spPr>
          <a:xfrm>
            <a:off x="5796000" y="1557360"/>
            <a:ext cx="2963880" cy="48974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1187280" y="404640"/>
            <a:ext cx="6337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РГАНИЗАЦИЯ ЛАГЕР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33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2133720"/>
            <a:ext cx="5545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расчистка места для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палаток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расчистка места дл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костра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установка палаток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сбор дро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5445000"/>
            <a:ext cx="390996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rcRect l="80378" t="53611" r="2613" b="8009"/>
          <a:stretch/>
        </p:blipFill>
        <p:spPr>
          <a:xfrm>
            <a:off x="900000" y="1268280"/>
            <a:ext cx="3073680" cy="5329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rcRect l="80532" t="4652" r="1967" b="57354"/>
          <a:stretch/>
        </p:blipFill>
        <p:spPr>
          <a:xfrm>
            <a:off x="5148360" y="1268280"/>
            <a:ext cx="2952720" cy="52563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1692360" y="260280"/>
            <a:ext cx="5688000" cy="64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СПОРЯДОК ДН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33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55640" y="5229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rcRect l="60034" t="5538" r="23333" b="56643"/>
          <a:stretch/>
        </p:blipFill>
        <p:spPr>
          <a:xfrm>
            <a:off x="179280" y="1484280"/>
            <a:ext cx="2592360" cy="46101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700360" y="1483920"/>
            <a:ext cx="61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точно и немедленно выполня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все распоряжения руководителя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00360" y="2349360"/>
            <a:ext cx="644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не ходит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за территорию лагеря без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разрешения руководителя;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00360" y="3429000"/>
            <a:ext cx="63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не допускать переохлаждения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сильного перегрева организм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71640" y="4437000"/>
            <a:ext cx="655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немедленно сообщать руководител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о  замеченной опасн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не   зажигать свечи и спички в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палатк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42920" y="404640"/>
            <a:ext cx="7129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ХНИКА БЕЗОПАСНОСТ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33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1T16:05:24Z</dcterms:created>
  <dc:creator>Пользователь</dc:creator>
  <dc:description/>
  <dc:language>en-US</dc:language>
  <cp:lastModifiedBy>КарМаН</cp:lastModifiedBy>
  <dcterms:modified xsi:type="dcterms:W3CDTF">2011-03-12T06:39:05Z</dcterms:modified>
  <cp:revision>14</cp:revision>
  <dc:subject/>
  <dc:title>Слайд 1</dc:title>
</cp:coreProperties>
</file>