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135-9AA2-4746-95C4-D04EF0AB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F14-4DE1-4D5C-B12D-25FF3288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68E-D380-4F5F-BFD7-409C9E01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193-BDED-4B34-A108-749EC348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E6C2-18D9-440C-8C95-4F4734E6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163F-59E0-4255-8691-B910E6B6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6156-72C6-49C3-BFC0-28A0B982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AE5B-DD5B-4C37-BE77-854E9452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D508-3846-487D-A44A-9F018073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1E13-3CC8-423B-BB4C-37E0888A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CF77-69A0-4FE1-8DD6-C2B2AC0E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441-5644-4E11-A39E-12463205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2378-98E0-4935-8CEC-A4252B4A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38AD-C5E3-4A8E-9690-A0B5697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67EB-C452-47CF-8314-FB759CBF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4B26-08CC-471F-82CC-0EDD46CE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91D0-1D13-46D1-8BA1-63101D27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589-EBDC-4A56-9975-9B676E53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5F4-7309-4FEC-BAF7-F754E8D8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E72-D2F4-448F-8F6A-21AC3DEC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A14-A87B-4F23-8429-8C07B5DD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9E0-D4B9-45E1-A81B-9843FA0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3DB-68F1-40BB-BB38-46354E7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372-065E-46D1-96CE-B38A7DF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BB45-0AD5-4F5A-BFA7-4503065B0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9BE3-7E64-459A-BCE0-8708AC545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19280" y="2492280"/>
            <a:ext cx="3745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Лобанова Татьяна Александровна, учитель физической культу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МОУ «Егорьевская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336600"/>
                </a:solidFill>
                <a:latin typeface="Arial"/>
              </a:rPr>
              <a:t>Новоегорьевско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404640"/>
            <a:ext cx="676944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0525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Ы ИДЕМ В ПОХО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0525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427040"/>
            <a:ext cx="4983120" cy="477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37653" t="4207" r="45069" b="57379"/>
          <a:stretch/>
        </p:blipFill>
        <p:spPr>
          <a:xfrm>
            <a:off x="179280" y="1125360"/>
            <a:ext cx="2521080" cy="460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00360" y="476280"/>
            <a:ext cx="64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допускать потертости ног , 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озникновении потертостей сообщит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уководи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 малейших признаках заболеван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медленно сообщить руководителю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1337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141720"/>
            <a:ext cx="64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упаться в указанном  месте 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присутствии руковод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нырять с мостиков, лодок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брыв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купаться в сумерках и ноч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рем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14656" t="52865" r="68323" b="8213"/>
          <a:stretch/>
        </p:blipFill>
        <p:spPr>
          <a:xfrm>
            <a:off x="250920" y="1197000"/>
            <a:ext cx="2592360" cy="458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43280" y="5084640"/>
            <a:ext cx="63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дежурные должны иметь рукавицы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головной убор и одежду, полностью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крывающую тело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549360"/>
            <a:ext cx="63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перенос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яжелых бревен и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амней по одно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залезать на деревья без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азрешения руководителя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2708280"/>
            <a:ext cx="63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оставлять в лесу горящих спич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бросать, костров без присмот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аккуратно обращаться с огнем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кипятк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554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Сворачивая лагерь, тщательно уберите территорию , сожгите в костре мусор и отходы, а</a:t>
            </a: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Times New Roman"/>
              </a:rPr>
              <a:t> банки, бутылки закопайт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79164" t="4899" r="3872" b="57355"/>
          <a:stretch/>
        </p:blipFill>
        <p:spPr>
          <a:xfrm>
            <a:off x="5940360" y="1628640"/>
            <a:ext cx="2952720" cy="504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39640" y="333360"/>
            <a:ext cx="8001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ЕЖНОЕ ОТНОШЕНИЕ К ПРИРОДЕ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Г КАЖДОГО ТУРИС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укрепление здоровья и закаливание организ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действие   воспитанию  волевых качеств, смелости, наблюдательности, сообразительности, самосто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действие развитию физических качест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знакомство с природными богатствами, историческим прошлым, с достижениями в области промышленности, сельского хозяйства, науки и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835280" y="549360"/>
            <a:ext cx="5905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ТУРИЗ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0964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04812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общефиз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подготов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специальная физическая подготов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закаливание организм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знакомство с особенностями местности будущего путешеств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инструктаж по технике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7535" t="47496" r="65022" b="14062"/>
          <a:stretch/>
        </p:blipFill>
        <p:spPr>
          <a:xfrm>
            <a:off x="6012000" y="1341360"/>
            <a:ext cx="2990880" cy="511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97000"/>
            <a:ext cx="619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спальный мешок или одеяло, надувной матра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полотенце, зубная паста, щетка, мыло, туалетная бумага, средство от комар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нижнее белье, спортивный костюм, куртка, свитер, шапочка, футболка, шорты, носки, сменная обувь, накидка от дожд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кружка, ложка, чашка, но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333360"/>
            <a:ext cx="66960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Е СНАРЯЖ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403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АЛАТКА,  АПТЕЧКА,    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КОСТРОВОЙ НАБОР, ЛОПАТА,    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ТОПОР, ВЕРЕВКА, ФОНАРИК, </a:t>
            </a:r>
            <a:br>
              <a:rPr sz="1800"/>
            </a:b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 РУКАВИЦЫ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38647" t="47910" r="44126" b="14128"/>
          <a:stretch/>
        </p:blipFill>
        <p:spPr>
          <a:xfrm>
            <a:off x="6372360" y="1268280"/>
            <a:ext cx="2228760" cy="360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38278" t="5952" r="45011" b="56138"/>
          <a:stretch/>
        </p:blipFill>
        <p:spPr>
          <a:xfrm>
            <a:off x="468360" y="1268280"/>
            <a:ext cx="2203560" cy="360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19640" y="1268280"/>
            <a:ext cx="2232000" cy="360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116000" y="189000"/>
            <a:ext cx="691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УППОВОЕ СНАРЯЖ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22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ДУКТЫ ПИТАНИЯ,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ФЛЯГИ ДЛЯ ВОДЫ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СУДА ДЛ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ГОТОВЛЕНИЯ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16684" t="6441" r="65660" b="55115"/>
          <a:stretch/>
        </p:blipFill>
        <p:spPr>
          <a:xfrm>
            <a:off x="179280" y="1628640"/>
            <a:ext cx="3175200" cy="512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195640" y="404640"/>
            <a:ext cx="4321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ОР МЕСТ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773360"/>
            <a:ext cx="57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езопасность места ( дороги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затопление низин, высоки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ухие деревья, камнепад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беспеченность дровами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од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комфорт существ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защищенность о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етра, костра, освещ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алаток солнце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36837" t="53957" r="46010" b="7490"/>
          <a:stretch/>
        </p:blipFill>
        <p:spPr>
          <a:xfrm>
            <a:off x="5796000" y="1557360"/>
            <a:ext cx="2963880" cy="4897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87280" y="40464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ЛАГЕР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13372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счистка места для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палат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расчистка места дл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костр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установка палат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сбор др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45000"/>
            <a:ext cx="3909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80378" t="53611" r="2613" b="8009"/>
          <a:stretch/>
        </p:blipFill>
        <p:spPr>
          <a:xfrm>
            <a:off x="900000" y="1268280"/>
            <a:ext cx="3073680" cy="5329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80532" t="4652" r="1967" b="57354"/>
          <a:stretch/>
        </p:blipFill>
        <p:spPr>
          <a:xfrm>
            <a:off x="5148360" y="1268280"/>
            <a:ext cx="2952720" cy="5256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692360" y="260280"/>
            <a:ext cx="568800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ОРЯДОК Д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60034" t="5538" r="23333" b="56643"/>
          <a:stretch/>
        </p:blipFill>
        <p:spPr>
          <a:xfrm>
            <a:off x="179280" y="1484280"/>
            <a:ext cx="2592360" cy="461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700360" y="1483920"/>
            <a:ext cx="61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очно и немедленно выпол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все распоряжения руководител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2349360"/>
            <a:ext cx="64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ход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 территорию лагеря без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разрешения руководителя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3429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допускать переохлажд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сильного перегрева орган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437000"/>
            <a:ext cx="65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медленно сообщать руководите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о  замеченной 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не   зажигать свечи и спички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пала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2920" y="40464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05:24Z</dcterms:created>
  <dc:creator>Пользователь</dc:creator>
  <dc:description/>
  <dc:language>en-US</dc:language>
  <cp:lastModifiedBy>КарМаН</cp:lastModifiedBy>
  <dcterms:modified xsi:type="dcterms:W3CDTF">2011-03-12T06:39:05Z</dcterms:modified>
  <cp:revision>14</cp:revision>
  <dc:subject/>
  <dc:title>Слайд 1</dc:title>
</cp:coreProperties>
</file>