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885-6A71-4AFA-92AD-7DBD9F67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428-070A-4E28-877D-8E05DB1C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158-F135-4A67-8D5C-8A8AAE64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ACD-E841-4F1E-BBC2-0CC57131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6989-5F24-4F4D-BF3A-A093EF7F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7258-26DE-4C26-A1E7-F802EDF8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5D18-90E2-44AA-A004-BBDA6C3D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2810-DDCE-4080-8235-2A9D9653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370-8418-4BDB-8146-1A0DDDC2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24D0-CC53-4DF0-B396-C88D2D2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FD0A-9204-4544-97AB-7717F9C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B2C-8C6E-4BB8-99A1-96DC943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98E-1CFA-4087-A2AF-8BDBCFB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D563-7768-4DBE-ADEA-6F76A8D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EC33-02A3-46F2-939A-50EE2EB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C1C7-B49E-433D-AFDC-E64DCD41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0836-32C8-488A-9DA0-C61A805A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92F-3EBE-47F8-83CB-5317FF62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91C-7D85-4AA2-84CD-39109E6E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BDB-EF84-4EBB-8768-E5498714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998-191E-499D-8254-8A5B5E4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624-EB64-42BD-BE35-600F0664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5C1-0480-40C5-B49F-A501F084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7DD-B59F-45A3-9DA9-4646E1B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FEE-C183-452A-8AFF-52C01B5E2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E722-BE23-41ED-BC5B-678FB31D4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19280" y="2492280"/>
            <a:ext cx="3745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Лобанова Татьяна Александровна, учитель физической культу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ОУ «Егорьевская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Новоегорьевско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404640"/>
            <a:ext cx="676944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0525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 ИДЕМ В ПОХО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0525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427040"/>
            <a:ext cx="4983120" cy="477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37653" t="4207" r="45069" b="57379"/>
          <a:stretch/>
        </p:blipFill>
        <p:spPr>
          <a:xfrm>
            <a:off x="179280" y="1125360"/>
            <a:ext cx="2521080" cy="460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476280"/>
            <a:ext cx="64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отертости ног , 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озникновении потертостей сообщит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уководи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малейших признаках заболеван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ить руководителю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133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64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упаться в указанном  месте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рисутствии руковод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нырять с мостиков, лодок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брыв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купаться в сумерках и но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рем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14656" t="52865" r="68323" b="8213"/>
          <a:stretch/>
        </p:blipFill>
        <p:spPr>
          <a:xfrm>
            <a:off x="250920" y="1197000"/>
            <a:ext cx="2592360" cy="458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3280" y="508464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дежурные должны иметь рукавицы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головной убор и одежду, полностью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крывающую тел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549360"/>
            <a:ext cx="63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перенос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яжелых бревен и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амней по одн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залезать на деревья без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708280"/>
            <a:ext cx="63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оставлять в лесу горящих спич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бросать, костров без присмо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аккуратно обращаться с огнем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ипя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554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Сворачивая лагерь, тщательно уберите территорию , сожгите в костре мусор и отходы, а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 банки, бутылки закопайт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79164" t="4899" r="3872" b="57355"/>
          <a:stretch/>
        </p:blipFill>
        <p:spPr>
          <a:xfrm>
            <a:off x="5940360" y="1628640"/>
            <a:ext cx="2952720" cy="504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9640" y="333360"/>
            <a:ext cx="8001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ЖНОЕ ОТНОШЕНИЕ К ПРИРОДЕ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Г КАЖДОГО ТУРИС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укрепление здоровья и закаливание организ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  воспитанию  волевых качеств, смелости, наблюдательности, сообразительности, самосто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развитию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знакомство с природными богатствами, историческим прошлым, с достижениями в области промышленности, сельского хозяйства, науки и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35280" y="549360"/>
            <a:ext cx="5905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ТУРИЗ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0964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4812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бщефиз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пециальная физическая 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акаливание организм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накомство с особенностями местности будущего путеше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инструктаж по технике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7535" t="47496" r="65022" b="14062"/>
          <a:stretch/>
        </p:blipFill>
        <p:spPr>
          <a:xfrm>
            <a:off x="6012000" y="1341360"/>
            <a:ext cx="2990880" cy="511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97000"/>
            <a:ext cx="619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спальный мешок или одеяло, надувной матр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полотенце, зубная паста, щетка, мыло, туалетная бумага, средство от комар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нижнее белье, спортивный костюм, куртка, свитер, шапочка, футболка, шорты, носки, сменная обувь, накидка от дожд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кружка, ложка, чашка, н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33360"/>
            <a:ext cx="6696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403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АЛАТКА,  АПТЕЧК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КОСТРОВОЙ НАБОР, ЛОПАТ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ТОПОР, ВЕРЕВКА, ФОНАРИК,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РУКАВИЦЫ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8647" t="47910" r="44126" b="14128"/>
          <a:stretch/>
        </p:blipFill>
        <p:spPr>
          <a:xfrm>
            <a:off x="6372360" y="1268280"/>
            <a:ext cx="2228760" cy="360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8278" t="5952" r="45011" b="56138"/>
          <a:stretch/>
        </p:blipFill>
        <p:spPr>
          <a:xfrm>
            <a:off x="468360" y="1268280"/>
            <a:ext cx="220356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19640" y="1268280"/>
            <a:ext cx="223200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16000" y="189000"/>
            <a:ext cx="69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УППОВ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22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ДУКТЫ ПИТАНИЯ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ФЛЯГИ ДЛЯ ВОДЫ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СУДА ДЛ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ГОТОВЛЕНИЯ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6684" t="6441" r="65660" b="55115"/>
          <a:stretch/>
        </p:blipFill>
        <p:spPr>
          <a:xfrm>
            <a:off x="179280" y="1628640"/>
            <a:ext cx="3175200" cy="512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195640" y="404640"/>
            <a:ext cx="4321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 МЕСТ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773360"/>
            <a:ext cx="57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езопасность места ( дорог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топление низин, высо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ухие деревья, камнепад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беспеченность дрова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омфорт существ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защищенность о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етра, костра, освещ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латок солнце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36837" t="53957" r="46010" b="7490"/>
          <a:stretch/>
        </p:blipFill>
        <p:spPr>
          <a:xfrm>
            <a:off x="5796000" y="1557360"/>
            <a:ext cx="2963880" cy="489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87280" y="404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ЛАГЕР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13372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костр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установка 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бор др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45000"/>
            <a:ext cx="3909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80378" t="53611" r="2613" b="8009"/>
          <a:stretch/>
        </p:blipFill>
        <p:spPr>
          <a:xfrm>
            <a:off x="900000" y="1268280"/>
            <a:ext cx="3073680" cy="532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80532" t="4652" r="1967" b="57354"/>
          <a:stretch/>
        </p:blipFill>
        <p:spPr>
          <a:xfrm>
            <a:off x="5148360" y="1268280"/>
            <a:ext cx="2952720" cy="5256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692360" y="260280"/>
            <a:ext cx="568800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ОРЯДОК Д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60034" t="5538" r="23333" b="56643"/>
          <a:stretch/>
        </p:blipFill>
        <p:spPr>
          <a:xfrm>
            <a:off x="179280" y="1484280"/>
            <a:ext cx="25923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00360" y="1483920"/>
            <a:ext cx="61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очно и немедленно вы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се распоряжения руководител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349360"/>
            <a:ext cx="64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ход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 территорию лагеря без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429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ереохлажд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сильного перегрева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43700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ать руководит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 замеченной 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  зажигать свечи и спички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ала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05:24Z</dcterms:created>
  <dc:creator>Пользователь</dc:creator>
  <dc:description/>
  <dc:language>en-US</dc:language>
  <cp:lastModifiedBy>КарМаН</cp:lastModifiedBy>
  <dcterms:modified xsi:type="dcterms:W3CDTF">2011-03-12T06:39:05Z</dcterms:modified>
  <cp:revision>14</cp:revision>
  <dc:subject/>
  <dc:title>Слайд 1</dc:title>
</cp:coreProperties>
</file>