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gif" ContentType="image/gif"/>
  <Override PartName="/ppt/media/image3.gif" ContentType="image/gif"/>
  <Override PartName="/ppt/media/image7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6C04-57A4-4D9B-B364-DF64117FC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3053-3752-4539-BBDA-085388928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E14D-1651-474D-BF2A-76F5FE75E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0765-A162-439B-9942-56786961C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D582-636D-47C8-9F21-85FB58E65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E09A-E16B-4535-9454-83067D9E4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B0F5-1E77-469A-A6EA-DB4C1B5B9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7115-B940-404D-A980-C7C44645E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624D-29F2-4EB4-93F7-AA4613DC1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7948-2758-4CA9-836F-18EC79A0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9602-800E-4272-978F-071FE027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BE60-D5C5-4812-B6BB-1F62E096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90BD6-E12E-4097-8746-890AB3956D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835280" y="620640"/>
            <a:ext cx="46800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13502" dir="6993903" blurRad="0" rotWithShape="0">
                    <a:srgbClr val="ffffff">
                      <a:alpha val="50000"/>
                    </a:srgbClr>
                  </a:outerShdw>
                </a:effectLst>
                <a:latin typeface="Arial"/>
              </a:rPr>
              <a:t>Создание проект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13502" dir="6993903" blurRad="0" rotWithShape="0">
                  <a:srgbClr val="ffff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332000" y="2492280"/>
            <a:ext cx="597528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"Анимированная открытка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ветерану"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908000" y="4653000"/>
            <a:ext cx="4391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13502" dir="6993903" blurRad="0" rotWithShape="0">
                    <a:srgbClr val="ffffff">
                      <a:alpha val="50000"/>
                    </a:srgbClr>
                  </a:outerShdw>
                </a:effectLst>
                <a:latin typeface="Arial"/>
              </a:rPr>
              <a:t>в среде ЛогоМир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13502" dir="6993903" blurRad="0" rotWithShape="0">
                  <a:srgbClr val="ffff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03280" cy="1386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67280" y="3789360"/>
            <a:ext cx="619200" cy="1143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195640" y="189000"/>
            <a:ext cx="66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ОУ «Разуменская средняя общеобразовательная школа № 2 Белгородского района Белгородской област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6084720" y="5373720"/>
            <a:ext cx="30592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учитель математики и информати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Хасанова Л.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9ad15"/>
                                      </p:to>
                                    </p:animClr>
                                    <p:animClr clrSpc="rgb">
                                      <p:cBhvr>
                                        <p:cTn id="9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9ad15"/>
                                      </p:to>
                                    </p:animClr>
                                    <p:set>
                                      <p:cBhvr>
                                        <p:cTn id="10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Написать с помощью команд черепашк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9 мая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дготовиться к защите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брать на стр.   129      тему нового проек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03280" cy="13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816120" indent="-45720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ие знания помогали вам на урок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16120" indent="-45720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то нового узнали  вы на урок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Как оцениваете свою работу на уроке?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Заголовок 1"/>
          <p:cNvSpPr/>
          <p:nvPr/>
        </p:nvSpPr>
        <p:spPr>
          <a:xfrm>
            <a:off x="395280" y="620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Цели урока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1700280"/>
            <a:ext cx="7488000" cy="38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рименить  в комплексе  знания и способы действий   при создании  анимации для проект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«Открытка ветерану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03280" cy="13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03280" cy="1386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Актуализация зна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684360" y="1916280"/>
            <a:ext cx="48243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3141720"/>
            <a:ext cx="48243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лв6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684360" y="2492280"/>
            <a:ext cx="48243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. сотри графи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3716280"/>
            <a:ext cx="48243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4. нов_цвет 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4284720" y="4437000"/>
            <a:ext cx="43927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0. новый курс 9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4319640" y="3716280"/>
            <a:ext cx="48243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9. повтори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4319640" y="2565360"/>
            <a:ext cx="48243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7. новая_форма 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4319640" y="1916280"/>
            <a:ext cx="48243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6. вп 20 шаг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4437000"/>
            <a:ext cx="48243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5. нов_размер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4356000" y="3141720"/>
            <a:ext cx="5004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8. нов_размер пера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1042920" y="5157720"/>
            <a:ext cx="7489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8e824"/>
                </a:solidFill>
                <a:latin typeface="Arial"/>
                <a:ea typeface="Arial"/>
              </a:rPr>
              <a:t>194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500" autoRev="1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36,-24,-24)"/>
                                      </p:to>
                                    </p:set>
                                    <p:set>
                                      <p:cBhvr>
                                        <p:cTn id="30" dur="500" autoRev="1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36,-24,-24)"/>
                                      </p:to>
                                    </p:set>
                                    <p:set>
                                      <p:cBhvr>
                                        <p:cTn id="31" dur="500" autoRev="1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500" autoRev="1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36,-24,-24)"/>
                                      </p:to>
                                    </p:set>
                                    <p:set>
                                      <p:cBhvr>
                                        <p:cTn id="48" dur="500" autoRev="1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36,-24,-24)"/>
                                      </p:to>
                                    </p:set>
                                    <p:set>
                                      <p:cBhvr>
                                        <p:cTn id="49" dur="500" autoRev="1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500" autoRev="1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36,-24,-24)"/>
                                      </p:to>
                                    </p:set>
                                    <p:set>
                                      <p:cBhvr>
                                        <p:cTn id="58" dur="500" autoRev="1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36,-24,-24)"/>
                                      </p:to>
                                    </p:set>
                                    <p:set>
                                      <p:cBhvr>
                                        <p:cTn id="59" dur="500" autoRev="1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5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36,-24,-24)"/>
                                      </p:to>
                                    </p:set>
                                    <p:set>
                                      <p:cBhvr>
                                        <p:cTn id="80" dur="5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36,-24,-24)"/>
                                      </p:to>
                                    </p:set>
                                    <p:set>
                                      <p:cBhvr>
                                        <p:cTn id="81" dur="5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Актуализация зна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126828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п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3348000" y="184464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вп 14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2349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пр 9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29242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вп 7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3348000" y="350028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пр 13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3348000" y="407664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вп 3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3203640" y="465300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лв 9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/>
          <p:nvPr/>
        </p:nvSpPr>
        <p:spPr>
          <a:xfrm>
            <a:off x="3348000" y="522936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вп 3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/>
          <p:nvPr/>
        </p:nvSpPr>
        <p:spPr>
          <a:xfrm>
            <a:off x="3348000" y="57340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пр 13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/>
          <p:nvPr/>
        </p:nvSpPr>
        <p:spPr>
          <a:xfrm>
            <a:off x="3348000" y="621648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вп 7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03280" cy="1386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124000" y="83664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Выполните последовательность команд на листе бумаг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7667640" y="2781360"/>
            <a:ext cx="1008000" cy="2087640"/>
          </a:xfrm>
          <a:prstGeom prst="rect">
            <a:avLst/>
          </a:prstGeom>
          <a:gradFill rotWithShape="0">
            <a:gsLst>
              <a:gs pos="0">
                <a:srgbClr val="f9ad15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Актуализация зна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/>
          <p:nvPr/>
        </p:nvSpPr>
        <p:spPr>
          <a:xfrm>
            <a:off x="611280" y="1628640"/>
            <a:ext cx="85327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а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Каким будет номер  цвета черепашк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e824"/>
                </a:solidFill>
                <a:latin typeface="Arial"/>
                <a:ea typeface="Arial"/>
              </a:rPr>
              <a:t>нов_цвет 3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e824"/>
                </a:solidFill>
                <a:latin typeface="Arial"/>
                <a:ea typeface="Arial"/>
              </a:rPr>
              <a:t>повтори 4 [нов_цвет цвет - 6]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/>
          <p:nvPr/>
        </p:nvSpPr>
        <p:spPr>
          <a:xfrm>
            <a:off x="7812000" y="2637000"/>
            <a:ext cx="6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8e824"/>
                </a:solidFill>
                <a:latin typeface="Arial"/>
                <a:ea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/>
          <p:nvPr/>
        </p:nvSpPr>
        <p:spPr>
          <a:xfrm>
            <a:off x="7812000" y="3933720"/>
            <a:ext cx="6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8e824"/>
                </a:solidFill>
                <a:latin typeface="Arial"/>
                <a:ea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611280" y="3789360"/>
            <a:ext cx="691344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б) Каким будет размер  черепаш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24"/>
                </a:solidFill>
                <a:latin typeface="Arial"/>
                <a:ea typeface="Arial"/>
              </a:rPr>
              <a:t>нов_размер 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24"/>
                </a:solidFill>
                <a:latin typeface="Arial"/>
                <a:ea typeface="Arial"/>
              </a:rPr>
              <a:t>повтори 4  [нов_размер размер / 2]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03280" cy="13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Физкультминутка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97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Весело шагает по полю отряд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Ветер развивает волосы ребят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Команда «направо 180» был отдан приказ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А следом «налево 90», «вольно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Назад прогнулись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К соседу повернулись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Друг другу улыбнулис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И за парты вновь вернулись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ервичная проверка изученного материала</a:t>
            </a:r>
            <a:br>
              <a:rPr sz="54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ткрыть программу ЛогоМиры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ыбрать инструмент  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писать 9 мая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ыбрать меню  изменить размер и цвет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ткрыть контекстное меню (щелкнуть правой кнопкой мышки), выбрать команду </a:t>
            </a:r>
            <a:r>
              <a:rPr b="0" lang="en-US" sz="2800" spc="-1" strike="noStrike">
                <a:solidFill>
                  <a:srgbClr val="e8e824"/>
                </a:solidFill>
                <a:latin typeface="Arial"/>
              </a:rPr>
              <a:t>прозрачны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ткрыть контекстное меню, выбрать команду </a:t>
            </a:r>
            <a:r>
              <a:rPr b="0" lang="en-US" sz="2800" spc="-1" strike="noStrike">
                <a:solidFill>
                  <a:srgbClr val="e8e824"/>
                </a:solidFill>
                <a:latin typeface="Arial"/>
              </a:rPr>
              <a:t>непрозрачны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ткрыть контекстное меню, выбрать команду </a:t>
            </a:r>
            <a:r>
              <a:rPr b="0" lang="en-US" sz="2800" spc="-1" strike="noStrike">
                <a:solidFill>
                  <a:srgbClr val="e8e824"/>
                </a:solidFill>
                <a:latin typeface="Arial"/>
              </a:rPr>
              <a:t>невидимы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обавить черепашку, в правилах написать  </a:t>
            </a:r>
            <a:r>
              <a:rPr b="0" lang="en-US" sz="2800" spc="-1" strike="noStrike">
                <a:solidFill>
                  <a:srgbClr val="e8e824"/>
                </a:solidFill>
                <a:latin typeface="Arial"/>
              </a:rPr>
              <a:t>спрячь_текст жди 5 покажи_текст жди 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643280" y="2060640"/>
            <a:ext cx="228600" cy="342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403280" cy="13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5760" y="836280"/>
            <a:ext cx="886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расная пятиконечная звезда —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символ,  воинская эмблема,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нак принадлежности к Красной арм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203640" y="2781360"/>
            <a:ext cx="2411280" cy="22017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692360" y="333360"/>
            <a:ext cx="66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Медаль «Золотая Звезд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Рисунок 1" descr=""/>
          <p:cNvPicPr/>
          <p:nvPr/>
        </p:nvPicPr>
        <p:blipFill>
          <a:blip r:embed="rId3"/>
          <a:srcRect l="25245" t="0" r="25188" b="0"/>
          <a:stretch/>
        </p:blipFill>
        <p:spPr>
          <a:xfrm>
            <a:off x="6145200" y="3429000"/>
            <a:ext cx="2444760" cy="316872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6" descr=""/>
          <p:cNvPicPr/>
          <p:nvPr/>
        </p:nvPicPr>
        <p:blipFill>
          <a:blip r:embed="rId4"/>
          <a:stretch/>
        </p:blipFill>
        <p:spPr>
          <a:xfrm>
            <a:off x="1258920" y="3429000"/>
            <a:ext cx="1905120" cy="3095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39640" y="2276640"/>
            <a:ext cx="338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8e824"/>
                </a:solidFill>
                <a:latin typeface="Arial"/>
                <a:ea typeface="Arial"/>
              </a:rPr>
              <a:t>Герой Советского Сою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5651640" y="2349360"/>
            <a:ext cx="320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8e824"/>
                </a:solidFill>
                <a:latin typeface="Arial"/>
                <a:ea typeface="Arial"/>
              </a:rPr>
              <a:t>Герой Российской Федер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Стихотвор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51672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8532720" y="6237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804000" y="5805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403280" cy="1386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050920" y="1341360"/>
            <a:ext cx="5329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Это гиблое дело – война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несла много жизней 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Так давайте же вспомним дн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Великой Отечественной Войн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Колышется пламя и тучи дыма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огибшие и всеминутно взрывы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 дети, матери – все плачут над землей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Что лижет варварский огонь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Не сможет выстоять иной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Лишь русский воин терпит страх и бол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разиться он и, помоляся Богу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Дальше пуститься в опасную дорог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 через годы, в 45 счастливом году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Вспомнит он лишения, боль и бед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В День Победы, счастливой победы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Вспомнят наши отцы и деды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Что кровоточат до сих пор их раны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пасибо Вам за все, спасибо, Ветераны!!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11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4" dur="303198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16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9" dur="122653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2T08:48:16Z</dcterms:created>
  <dc:creator>BLACK</dc:creator>
  <dc:description/>
  <dc:language>en-US</dc:language>
  <cp:lastModifiedBy>альберт</cp:lastModifiedBy>
  <dcterms:modified xsi:type="dcterms:W3CDTF">2010-08-03T13:32:42Z</dcterms:modified>
  <cp:revision>20</cp:revision>
  <dc:subject/>
  <dc:title>Слайд 1</dc:title>
</cp:coreProperties>
</file>