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EAB-4C82-462F-9CEE-7A5D049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77F-1E82-4635-A19A-71B3457C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E97-A1C7-40F6-B5A6-95169FA7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DAB-08CF-47E8-956E-C1168D19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69A-A2AC-4650-90D5-CFF5BC8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83E-C3DA-46C3-9ECA-1BCDF2AF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110-C132-40C3-A75B-471B2EB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C59-4134-4809-8BAB-8621118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241-992D-4FB2-B3E2-9B7683B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B9C-B296-4C5C-B95E-4B61752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BEE-09F3-4195-9E78-C356860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A6F-0E51-442F-B7BD-6922392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C26-E551-4478-B9A4-BC13C1A45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620640"/>
            <a:ext cx="468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13502" dir="6993903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оздание проек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13502" dir="6993903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492280"/>
            <a:ext cx="597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Анимированная открыт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етерану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4653000"/>
            <a:ext cx="439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13502" dir="6993903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среде ЛогоМ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13502" dir="6993903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3789360"/>
            <a:ext cx="6192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95640" y="189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У «Разуменская средняя общеобразовательная школа № 2 Белгородского района Белгород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5373720"/>
            <a:ext cx="305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математики и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Хасанова Л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ad15"/>
                                      </p:to>
                                    </p:animClr>
                                    <p:animClr clrSpc="rgb">
                                      <p:cBhvr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9ad15"/>
                                      </p:to>
                                    </p:animClr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писать с помощью команд черепа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9 м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защит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рать на стр.   129      тему нов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16120" indent="-457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знания помогали вам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457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ового узнали  вы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Как оцениваете свою работу на уроке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95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00280"/>
            <a:ext cx="74880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менить  в комплексе  знания и способы действий   при создании  анимации для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«Открытка ветеран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9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14172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в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92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сотри граф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7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. нов_цвет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437000"/>
            <a:ext cx="439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. новый курс 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37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. повтори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319640" y="256536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. новая_форма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319640" y="19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. вп 20 ша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43700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. нов_размер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3141720"/>
            <a:ext cx="500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8. нов_размер пер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157720"/>
            <a:ext cx="74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194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1268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184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1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350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1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0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465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лв 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5734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1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2400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ыполните последовательность команд на листе бума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67640" y="2781360"/>
            <a:ext cx="1008000" cy="2087640"/>
          </a:xfrm>
          <a:prstGeom prst="rect">
            <a:avLst/>
          </a:prstGeom>
          <a:gradFill rotWithShape="0">
            <a:gsLst>
              <a:gs pos="0">
                <a:srgbClr val="f9ad15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628640"/>
            <a:ext cx="853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им будет номер  цвета черепа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824"/>
                </a:solidFill>
                <a:latin typeface="Arial"/>
                <a:ea typeface="Arial"/>
              </a:rPr>
              <a:t>нов_цвет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824"/>
                </a:solidFill>
                <a:latin typeface="Arial"/>
                <a:ea typeface="Arial"/>
              </a:rPr>
              <a:t>повтори 4 [нов_цвет цвет - 6]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812000" y="2637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812000" y="393372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789360"/>
            <a:ext cx="691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) Каким будет размер  череп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24"/>
                </a:solidFill>
                <a:latin typeface="Arial"/>
                <a:ea typeface="Arial"/>
              </a:rPr>
              <a:t>нов_размер 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24"/>
                </a:solidFill>
                <a:latin typeface="Arial"/>
                <a:ea typeface="Arial"/>
              </a:rPr>
              <a:t>повтори 4  [нов_размер размер / 2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97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есело шагает по полю отряд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етер развивает волосы ребя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оманда «направо 180» был отдан приказ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следом «налево 90», «вольн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зад прогнулись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 соседу повернулис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руг другу улыбнули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за парты вновь вернулис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вичная проверка изученного материала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программу ЛогоМи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рать инструмент  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исать 9 мая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рать меню  изменить размер и ц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 (щелкнуть правой кнопкой мышки)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прозрач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непрозрач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невидим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авить черепашку, в правилах написать 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спрячь_текст жди 5 покажи_текст жди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2286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5760" y="83628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сная пятиконечная звезда —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имвол,  воинская эмблема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 принадлежности к Красной арм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411280" cy="220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33336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Медаль «Золотая Звез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3"/>
          <a:srcRect l="25245" t="0" r="25188" b="0"/>
          <a:stretch/>
        </p:blipFill>
        <p:spPr>
          <a:xfrm>
            <a:off x="6145200" y="3429000"/>
            <a:ext cx="244476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1905120" cy="309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27664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24"/>
                </a:solidFill>
                <a:latin typeface="Arial"/>
                <a:ea typeface="Arial"/>
              </a:rPr>
              <a:t>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2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24"/>
                </a:solidFill>
                <a:latin typeface="Arial"/>
                <a:ea typeface="Arial"/>
              </a:rPr>
              <a:t>Герой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тихот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0400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1341360"/>
            <a:ext cx="532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о гиблое дело – войн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несла много жизней 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к давайте же вспомним д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ликой Отечественной Вой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ышется пламя и тучи дым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гибшие и всеминутно взрыв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дети, матери – все плачут над земл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то лижет варварский ого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сможет выстоять ин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шь русский воин терпит страх и бо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разиться он и, помоляся Бог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льше пуститься в опасную дор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через годы, в 45 счастливом год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помнит он лишения, боль и бе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День Победы, счастливой поб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помнят наши отцы и д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то кровоточат до сих пор их ран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асибо Вам за все, спасибо, Ветераны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0319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2265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8:48:16Z</dcterms:created>
  <dc:creator>BLACK</dc:creator>
  <dc:description/>
  <dc:language>en-US</dc:language>
  <cp:lastModifiedBy>альберт</cp:lastModifiedBy>
  <dcterms:modified xsi:type="dcterms:W3CDTF">2010-08-03T13:32:42Z</dcterms:modified>
  <cp:revision>20</cp:revision>
  <dc:subject/>
  <dc:title>Слайд 1</dc:title>
</cp:coreProperties>
</file>