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61C-53FB-4082-86AB-B2FB07A7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AB9-3952-4D66-9A95-6A600CFF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481-D393-4669-83F6-34520A46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D7D-0F00-45A7-81A7-6FF88AE0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1AD-63CD-4F53-8F46-36A64E3E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44D-7BF6-45C4-9102-A2702C0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DD2-99CD-4378-AF2C-7DE54DC7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0B0-0EC6-45B3-AB5B-255A548F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51C-CC9A-4C52-B6EA-F22F4B86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BA8-EEC1-4996-B54A-ACB6BD4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C80-8413-4F4A-A313-8425B17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8A0-8539-4259-9A84-0E8665B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42E-439D-4C59-B518-93B259B69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620640"/>
            <a:ext cx="468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13502" dir="6993903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Создание проек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13502" dir="6993903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492280"/>
            <a:ext cx="5975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Анимированная открыт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ветерану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4653000"/>
            <a:ext cx="4391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13502" dir="6993903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в среде ЛогоМ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13502" dir="6993903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67280" y="3789360"/>
            <a:ext cx="61920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95640" y="189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У «Разуменская средняя общеобразовательная школа № 2 Белгородского района Белгород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5373720"/>
            <a:ext cx="305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математики и инфор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Хасанова Л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ad15"/>
                                      </p:to>
                                    </p:animClr>
                                    <p:animClr clrSpc="rgb">
                                      <p:cBhvr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9ad15"/>
                                      </p:to>
                                    </p:animClr>
                                    <p:set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аписать с помощью команд черепа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9 ма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защите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рать на стр.   129      тему нового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16120" indent="-457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знания помогали вам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16120" indent="-45720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нового узнали  вы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Как оцениваете свою работу на уроке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39528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700280"/>
            <a:ext cx="74880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менить  в комплексе  знания и способы действий   при создании  анимации для проек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«Открытка ветеран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9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314172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в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92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 сотри граф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7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. нов_цвет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4437000"/>
            <a:ext cx="439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. новый курс 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37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. повтори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4319640" y="256536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7. новая_форма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319640" y="191628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. вп 20 ша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437000"/>
            <a:ext cx="4824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. нов_размер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3141720"/>
            <a:ext cx="500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8. нов_размер пера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5157720"/>
            <a:ext cx="748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194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49" dur="5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36,-24,-24)"/>
                                      </p:to>
                                    </p:se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1268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348000" y="184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1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350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1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0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465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лв 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522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348000" y="5734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пр 1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вп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2400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ыполните последовательность команд на листе бумаг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67640" y="2781360"/>
            <a:ext cx="1008000" cy="2087640"/>
          </a:xfrm>
          <a:prstGeom prst="rect">
            <a:avLst/>
          </a:prstGeom>
          <a:gradFill rotWithShape="0">
            <a:gsLst>
              <a:gs pos="0">
                <a:srgbClr val="f9ad15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628640"/>
            <a:ext cx="8532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а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ким будет номер  цвета черепаш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824"/>
                </a:solidFill>
                <a:latin typeface="Arial"/>
                <a:ea typeface="Arial"/>
              </a:rPr>
              <a:t>нов_цвет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e824"/>
                </a:solidFill>
                <a:latin typeface="Arial"/>
                <a:ea typeface="Arial"/>
              </a:rPr>
              <a:t>повтори 4 [нов_цвет цвет - 6]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812000" y="2637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812000" y="393372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e824"/>
                </a:solidFill>
                <a:latin typeface="Arial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3789360"/>
            <a:ext cx="6913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) Каким будет размер  черепа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24"/>
                </a:solidFill>
                <a:latin typeface="Arial"/>
                <a:ea typeface="Arial"/>
              </a:rPr>
              <a:t>нов_размер 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24"/>
                </a:solidFill>
                <a:latin typeface="Arial"/>
                <a:ea typeface="Arial"/>
              </a:rPr>
              <a:t>повтори 4  [нов_размер размер / 2]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Физкультминут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97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есело шагает по полю отряд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етер развивает волосы ребя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оманда «направо 180» был отдан приказ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следом «налево 90», «вольн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азад прогнулись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 соседу повернулись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руг другу улыбнули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за парты вновь вернулис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рвичная проверка изученного материала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программу ЛогоМи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рать инструмент  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исать 9 мая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рать меню  изменить размер и цв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 (щелкнуть правой кнопкой мышки)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прозрач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непрозрачн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крыть контекстное меню, выбрать команду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невидимы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авить черепашку, в правилах написать  </a:t>
            </a:r>
            <a:r>
              <a:rPr b="0" lang="en-US" sz="2800" spc="-1" strike="noStrike">
                <a:solidFill>
                  <a:srgbClr val="e8e824"/>
                </a:solidFill>
                <a:latin typeface="Arial"/>
              </a:rPr>
              <a:t>спрячь_текст жди 5 покажи_текст жди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228600" cy="34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5760" y="83628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сная пятиконечная звезда —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имвол,  воинская эмблема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 принадлежности к Красной арм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411280" cy="2201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33336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Медаль «Золотая Звез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3"/>
          <a:srcRect l="25245" t="0" r="25188" b="0"/>
          <a:stretch/>
        </p:blipFill>
        <p:spPr>
          <a:xfrm>
            <a:off x="6145200" y="3429000"/>
            <a:ext cx="2444760" cy="3168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4"/>
          <a:stretch/>
        </p:blipFill>
        <p:spPr>
          <a:xfrm>
            <a:off x="1258920" y="3429000"/>
            <a:ext cx="1905120" cy="309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27664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24"/>
                </a:solidFill>
                <a:latin typeface="Arial"/>
                <a:ea typeface="Arial"/>
              </a:rPr>
              <a:t>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2349360"/>
            <a:ext cx="32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e824"/>
                </a:solidFill>
                <a:latin typeface="Arial"/>
                <a:ea typeface="Arial"/>
              </a:rPr>
              <a:t>Герой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тихотв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16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0400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0328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1341360"/>
            <a:ext cx="532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то гиблое дело – войн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несла много жизней 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к давайте же вспомним д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ликой Отечественной Вой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ышется пламя и тучи дым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гибшие и всеминутно взрыв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дети, матери – все плачут над земл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то лижет варварский ого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сможет выстоять ин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шь русский воин терпит страх и бо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разиться он и, помоляся Бог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льше пуститься в опасную дор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 через годы, в 45 счастливом год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помнит он лишения, боль и бе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День Победы, счастливой поб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помнят наши отцы и дед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то кровоточат до сих пор их ран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пасибо Вам за все, спасибо, Ветераны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0319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2265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08:48:16Z</dcterms:created>
  <dc:creator>BLACK</dc:creator>
  <dc:description/>
  <dc:language>en-US</dc:language>
  <cp:lastModifiedBy>альберт</cp:lastModifiedBy>
  <dcterms:modified xsi:type="dcterms:W3CDTF">2010-08-03T13:32:42Z</dcterms:modified>
  <cp:revision>20</cp:revision>
  <dc:subject/>
  <dc:title>Слайд 1</dc:title>
</cp:coreProperties>
</file>