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3E9-0BE1-4A14-9DE2-8FE18761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CCF-D30C-41A7-8E60-130D5FD3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2E7-C071-4E11-BAB4-F4AE74C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662-6B5E-42A5-AAD9-9C3D0C3B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8854-6A3A-4755-9EB6-EB60CA83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17F5-95D0-4A91-8A00-ECC50A5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959B-5DD5-47C1-BC80-0CB71E33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CD31-0459-4103-8029-F11216A7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4CF-E6FE-4F24-BE3E-4710A9C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C0DF-96DB-4F3E-8FE5-A114825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88B0-4B82-458D-AC84-3071E67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2E4-080B-4C83-9D1D-7B845BA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3624-C2DD-46BE-97B6-13985C0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C7E-20EF-4712-994D-C214D38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FAB-46F8-4619-B7EF-8358DA82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5B7D-38FE-4EC3-AFC2-46104F5B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87EE-5808-431C-A066-D6A5DAF1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869-B05F-411A-8273-7C71212C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06B-58EF-427B-A446-28C9FBE1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5AF-2E1B-408A-90C0-7E1D39C1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5D9-6B38-4C9F-8995-BD83CB6C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468-D749-40EA-A5FE-7B2D7C89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C20-B4F0-4F03-9E6E-9EFBFC18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6B6-115F-4377-A402-A3A97C9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5002F6-7E46-43A9-9EE8-03C3052C8E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8EEACB-96F9-481A-B1D5-2983B57D16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68320" y="1588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ЛОВА Любовь Владимировн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АЯ КОРРЕКЦИЯ ВНУШЕННЫХ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сква –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1200" y="691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рахов у родителей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ни страха у родителей в трех группах риска и в норме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1640" y="3141720"/>
          <a:ext cx="7772400" cy="31572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880"/>
                <a:gridCol w="1110960"/>
                <a:gridCol w="1109880"/>
              </a:tblGrid>
              <a:tr h="112104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ыту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полная сем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«Пожилые»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Единственный реб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971640" y="3141720"/>
            <a:ext cx="64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35772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57720"/>
            <a:ext cx="107928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21000"/>
            <a:ext cx="777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141720"/>
            <a:ext cx="1440" cy="31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3141720"/>
            <a:ext cx="1800" cy="31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95008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36D-9136-4B94-979A-8074D71EB1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ич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4544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ский опросник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выраженные страх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мер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96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ивот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81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чинения физического ущер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9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циальных санкц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71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азочных персонаж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3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раженности стра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1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3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со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5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FCC-90DE-4124-8491-8F0504EB5D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 двух груп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группа – дошкольники с внушенными страх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группа – дошкольники с не внушенными стр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2852640"/>
          <a:ext cx="62661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6266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835280" y="4869000"/>
            <a:ext cx="468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-  «медицинские страхи»; 2 - причинение физического ущерба; 3 - страхи смерти; 4 - страхи животных;  5 - страхи сказочных персонажей;  6 - страхи, связанные со сном, темнотой; 7 -социально-опосредованные страхи; 8 - пространственные страхи;  9 -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57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Д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AB3-F647-4246-9BEB-05D4EA1C29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оставление выраженности страхов и тревож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47640" y="2421000"/>
          <a:ext cx="6048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048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260000" y="1844640"/>
            <a:ext cx="65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и тревожности у дошкольников, 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AAF-461C-44E4-A5E5-FC2BEFD697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игровой 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чинение историй (например, сказка по кругу; моделирование конфликтной ситуации и объективирование вариантов ее раз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 истории на задан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флексивный анализ,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рессивное (пантомимическое, психогимнастическое) упраж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C8B-E4EE-44F9-88AA-18E630D95B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арт-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тельный наст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зогрев» (пальчиковая гимнастика, дыхательные, графические упражн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ощущений, эмоций (упражнения с песко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работа (рисунок, подел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, обсу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тив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ение (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112-B30C-4AF2-B0D7-A6EEF08B51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игров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4000" y="2060640"/>
          <a:ext cx="864072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407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1ED-8576-42C0-80DB-309601EFE1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арт-терапевтическ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2060640"/>
          <a:ext cx="849600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496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55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756-E132-488C-BE29-F46399A64A51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важные опреде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базовая эмоциональная реакция человека, возникающая в результате опредмечивания тревожности под влиянием действительной, воображаемой или внушенной опасности, угрозы его биологическому или социальному существ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выражение и результат конкретизации (опредмечивания)  неопределенной угрозы (на полюсе объекта) и неопределенной тревоги (на полюсе субъек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шенный страх – результат усвоения чужого опыта под влиянием суггес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E45-AFD9-4C2C-9E8D-18C81066F6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ерархическая трехуровневая типология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61760" y="2144520"/>
            <a:ext cx="5629320" cy="2923920"/>
            <a:chOff x="1661760" y="2144520"/>
            <a:chExt cx="5629320" cy="2923920"/>
          </a:xfrm>
        </p:grpSpPr>
        <p:sp>
          <p:nvSpPr>
            <p:cNvPr id="101" name=""/>
            <p:cNvSpPr/>
            <p:nvPr/>
          </p:nvSpPr>
          <p:spPr>
            <a:xfrm flipV="1">
              <a:off x="3568680" y="2144160"/>
              <a:ext cx="1857960" cy="973080"/>
            </a:xfrm>
            <a:custGeom>
              <a:avLst/>
              <a:gdLst>
                <a:gd name="textAreaLeft" fmla="*/ 666720 w 1857960"/>
                <a:gd name="textAreaRight" fmla="*/ 1191240 w 1857960"/>
                <a:gd name="textAreaTop" fmla="*/ 349200 h 973080"/>
                <a:gd name="textAreaBottom" fmla="*/ 62388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РЕДМЕТНЫЕ 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637720" y="3120480"/>
              <a:ext cx="3717360" cy="974520"/>
            </a:xfrm>
            <a:custGeom>
              <a:avLst/>
              <a:gdLst>
                <a:gd name="textAreaLeft" fmla="*/ 817200 w 3717360"/>
                <a:gd name="textAreaRight" fmla="*/ 2900160 w 3717360"/>
                <a:gd name="textAreaTop" fmla="*/ 214200 h 974520"/>
                <a:gd name="textAreaBottom" fmla="*/ 760320 h 9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141999" dir="1590005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ЭКЗИСТЕНЦИАЛЬ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707840" y="4094640"/>
              <a:ext cx="5578200" cy="973080"/>
            </a:xfrm>
            <a:custGeom>
              <a:avLst/>
              <a:gdLst>
                <a:gd name="textAreaLeft" fmla="*/ 968400 w 5578200"/>
                <a:gd name="textAreaRight" fmla="*/ 4609800 w 5578200"/>
                <a:gd name="textAreaTop" fmla="*/ 168840 h 973080"/>
                <a:gd name="textAreaBottom" fmla="*/ 80424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РЕВО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496320" y="313524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640960" y="4098960"/>
              <a:ext cx="36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661760" y="5062680"/>
              <a:ext cx="562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7760" y="3135240"/>
              <a:ext cx="18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6600" y="2171880"/>
              <a:ext cx="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76600" y="27637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1840" y="2492280"/>
              <a:ext cx="94248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3640" y="2565360"/>
              <a:ext cx="111996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НЕ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784400" y="2637000"/>
              <a:ext cx="88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668240" y="2214360"/>
              <a:ext cx="2731680" cy="28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3274560" y="263700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EB8-524E-43A3-B9AD-EF5F3EC866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озникновения внушенных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13120" y="2239920"/>
            <a:ext cx="1811520" cy="3382920"/>
            <a:chOff x="3813120" y="2239920"/>
            <a:chExt cx="1811520" cy="3382920"/>
          </a:xfrm>
        </p:grpSpPr>
        <p:sp>
          <p:nvSpPr>
            <p:cNvPr id="117" name=""/>
            <p:cNvSpPr/>
            <p:nvPr/>
          </p:nvSpPr>
          <p:spPr>
            <a:xfrm>
              <a:off x="4319640" y="4311720"/>
              <a:ext cx="0" cy="4125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3120" y="4726080"/>
              <a:ext cx="1011240" cy="826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319640" y="3066840"/>
              <a:ext cx="0" cy="4158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3120" y="2239920"/>
              <a:ext cx="1011240" cy="82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ЗРОСЛ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3120" y="3483000"/>
              <a:ext cx="1011240" cy="826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РЕТ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УГИ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06920" y="2786040"/>
              <a:ext cx="88884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вышенная тревож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4680" y="4051440"/>
              <a:ext cx="93996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трога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под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глад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6920" y="5234040"/>
              <a:ext cx="795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17840" y="30970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84720" y="4365720"/>
            <a:ext cx="1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E39-AD97-4CDA-8C72-F753FE4A1F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етерминанты и следствия внушенных страх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63640" y="2239920"/>
            <a:ext cx="5751720" cy="3730320"/>
            <a:chOff x="1763640" y="2239920"/>
            <a:chExt cx="5751720" cy="3730320"/>
          </a:xfrm>
        </p:grpSpPr>
        <p:sp>
          <p:nvSpPr>
            <p:cNvPr id="130" name=""/>
            <p:cNvSpPr/>
            <p:nvPr/>
          </p:nvSpPr>
          <p:spPr>
            <a:xfrm>
              <a:off x="1763640" y="2239920"/>
              <a:ext cx="5713560" cy="80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тренние (тревожность) и внешние (внушени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етерминанты внушенных страх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0400" y="2999880"/>
              <a:ext cx="0" cy="23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0400" y="3413880"/>
              <a:ext cx="0" cy="27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0400" y="3945960"/>
              <a:ext cx="0" cy="22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0400" y="5160960"/>
              <a:ext cx="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3142800"/>
              <a:ext cx="571356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3640" y="3675960"/>
              <a:ext cx="571356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аниженная самооценка, повышенная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3640" y="4215240"/>
              <a:ext cx="5751720" cy="100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уверенность в себе, проявляющаяся на когнитивном, эмоционально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отивационно-волевом и поведенческом уровн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5430960"/>
              <a:ext cx="57517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циально-психологическая дезадапт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218-F343-4B4B-A6C0-93C37DE2CF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заимодействия родителя, ребенка и психолог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35520" y="1870200"/>
            <a:ext cx="1720440" cy="3401640"/>
            <a:chOff x="3935520" y="1870200"/>
            <a:chExt cx="1720440" cy="3401640"/>
          </a:xfrm>
        </p:grpSpPr>
        <p:sp>
          <p:nvSpPr>
            <p:cNvPr id="141" name=""/>
            <p:cNvSpPr/>
            <p:nvPr/>
          </p:nvSpPr>
          <p:spPr>
            <a:xfrm>
              <a:off x="4391280" y="3982680"/>
              <a:ext cx="0" cy="4204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5520" y="4404960"/>
              <a:ext cx="911880" cy="843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391280" y="2713320"/>
              <a:ext cx="0" cy="4240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35520" y="1870200"/>
              <a:ext cx="911880" cy="84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35520" y="3137400"/>
              <a:ext cx="911880" cy="843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70840" y="2513160"/>
              <a:ext cx="800640" cy="19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4720" y="3640680"/>
              <a:ext cx="847080" cy="3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4720" y="5008320"/>
              <a:ext cx="11012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тр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91280" y="274500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85160" y="3961440"/>
              <a:ext cx="0" cy="4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56D-8CDF-4DF6-B82E-D5608CA9E1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сновные характеристики суггестии и контрсуггест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3280" y="1844640"/>
          <a:ext cx="8461440" cy="4524480"/>
        </p:xfrm>
        <a:graphic>
          <a:graphicData uri="http://schemas.openxmlformats.org/drawingml/2006/table">
            <a:tbl>
              <a:tblPr/>
              <a:tblGrid>
                <a:gridCol w="4233960"/>
                <a:gridCol w="4227480"/>
              </a:tblGrid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а в значимого другог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познание, самопоним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итарный стиль общ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о-демократический стиль общ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подчин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и саморегуляция психических состояний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е деятельности и повед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самораскры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, регуляция повед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поведения, разумность восприят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ающиеся и скрыт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е директивные инструкции, сильные невербальные стимулы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е и личностное содерж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верх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бок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еренно-агрессивная позиция контролирующего Родител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я принимающего Взрослого психотерапевт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ные, повелительные интонации взрослого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, свобод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сознательное принятие и прочное усвоение ребенком содержания, внушаемого взрослы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е принятие ребенком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ритическое усвоение внушенного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восприятие, осмысление актуальной ситуа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заражение (контагиозность)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 экспресс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диация эмоционального фона, настро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сть  эмоционального фон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шенны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тренни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знательность, не критичность восприя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и критичность восприят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24000" y="3284640"/>
            <a:ext cx="864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941720"/>
            <a:ext cx="864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844640"/>
            <a:ext cx="180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онтрсуггестивные особенности игровой и арт-терапевтической коррекци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3280" y="1844640"/>
          <a:ext cx="8461440" cy="4646520"/>
        </p:xfrm>
        <a:graphic>
          <a:graphicData uri="http://schemas.openxmlformats.org/drawingml/2006/table">
            <a:tbl>
              <a:tblPr/>
              <a:tblGrid>
                <a:gridCol w="3997440"/>
                <a:gridCol w="4464000"/>
              </a:tblGrid>
              <a:tr h="24444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-терапевтическ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6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к авторитарному стилю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берально-демократический стиль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, контрол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я психических состояний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ция поведения;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нательность поведения, разумность воспри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ее возбуждение с последующим внутренним возбуждением, активная двигательная часть, переходящая в отреагирование (катарсис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ая внутренняя мыслительная работа с внешней пассивной или расслабляющей, т.е. внутреннее напряжение сменяется внешним торможением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слово, речь суггестор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развитие внутренних переживаний, самораскрытие, самопринятие, самоуправл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ая деятельност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работа с сохранением индивидуального характера их деятельност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психического состояния, основанного на инструкции и выполнении зада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ю психических состояний (концентрация внимания на образе страха в процессе рисования, приемы релаксации и расслабления); наведение, индук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ивный характер, модель научения и воспроизвед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ирективный характер; модель самоопределения и самоприн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овертированна, публична, разыгрывание сюжета, вербализа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ровертированна; менее публичн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ация поведения на сенсомоторн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выражение посредством художественной экспрессии, индивидуально-личностное самопозн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средственное участие взрослого в проигрывании определенных эпизодов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ребенка и психолога опосредуются изобразительной деятельностью и отражают процесс художественной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генная ситуация, воссоздающая травмирующие собы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своих внутренних конфликтов в символической форме, постепенное осознание и вербализация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ние страха на физическ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знание страха, его источника и поним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е зараж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ость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эмоционального и двигательного напряж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самовыражение и самопознание, «инсайт-ориентация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59500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781360"/>
            <a:ext cx="8425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805360"/>
            <a:ext cx="849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844640"/>
            <a:ext cx="144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158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родител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20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осник «Опасения и страхи взрослых» (А.И. Захар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2000" y="3213000"/>
          <a:ext cx="66960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13000"/>
                    <a:ext cx="6696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340000" y="5229360"/>
            <a:ext cx="3527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– «медицинские»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– страхи, причинения физического ущер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– страх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– опасения по поводу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 – социально-опосредованные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 –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728-6B17-47A0-AE8F-0A6D78AA56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47:31Z</dcterms:created>
  <dc:creator>Андрей</dc:creator>
  <dc:description/>
  <dc:language>en-US</dc:language>
  <cp:lastModifiedBy>Андрей</cp:lastModifiedBy>
  <dcterms:modified xsi:type="dcterms:W3CDTF">2011-11-23T10:13:06Z</dcterms:modified>
  <cp:revision>68</cp:revision>
  <dc:subject/>
  <dc:title>ОРЛОВА Любовь Владимировна   СОПОСТАВЛЕНИЕ ИГРОВОЙ И АРТ-ТЕРАПЕВТИЧЕСКОЙ РАБОТЫ СО СТРАХАМИ  (НА МАТЕРИАЛЕ ДЕТЕЙ-ДОШКОЛЬНИКОВ)</dc:title>
</cp:coreProperties>
</file>