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AC0-AF93-491C-AF70-E791A8F6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C02-684A-4EF8-A6CB-5489681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156-C688-4125-B58B-A7978BBA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C72-0BBA-4C8A-9B20-C9BFE5AC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DDED-AEDF-4294-892D-33A7A7C2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133F-B2F8-4957-9975-977DB2D6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1881-CCBC-402B-8E45-4DA822D4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5286-A376-452C-932C-B3644D62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8903-CE48-4BB8-A6C5-2156CA7F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9DEE-15B8-4FF5-B599-2EFCB099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72CF-AC97-434B-8C3C-7E29972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EB8-E4AB-4FF7-9345-87847B40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29AA-D1B3-4BC4-BC9B-4EE6253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60BC-33CD-4395-8173-D878A15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77F7-46A1-4B86-AAAC-82EAAE0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A6B0-17A5-47F7-AE86-D49EDE76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26D9-933E-484A-AB1F-0FEE3A45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863-8C94-468A-B41F-7252DC6D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5C8-353D-429B-9ECB-ECD9FAC5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C79-2ADA-44DB-88B5-97B1F69A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618-1BEF-4FA9-A970-E498492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DC6-945B-4482-A74B-60135ECC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887-E6BF-4D64-BD45-2238B67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FB2-3602-4A8F-B66D-F48BDEB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F9AECB-A451-4330-815D-9ABD395A808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525C9F-51AD-4B9C-9A15-83E2A0A762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68320" y="1588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ЛОВА Любовь Владимировн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ВАЯ КОРРЕКЦИЯ ВНУШЕННЫХ ДЕТСКИХ СТР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сква –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1200" y="691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рахов у родителей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42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вни страха у родителей в трех группах риска и в норме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71640" y="3141720"/>
          <a:ext cx="7772400" cy="315720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880"/>
                <a:gridCol w="1110960"/>
                <a:gridCol w="1109880"/>
              </a:tblGrid>
              <a:tr h="112104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ыту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еполная сем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«Пожилые» р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Единственный реб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971640" y="3141720"/>
            <a:ext cx="64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357720"/>
            <a:ext cx="777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357720"/>
            <a:ext cx="107928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21000"/>
            <a:ext cx="7777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141720"/>
            <a:ext cx="1440" cy="31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3141720"/>
            <a:ext cx="1800" cy="31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5950080"/>
            <a:ext cx="777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54D-DB60-4AEC-B31A-A4C52809DE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ич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4544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дошколь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ский опросник детских стр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выраженные страх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мер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96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живот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81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чинения физического ущерб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9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циальных санкц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71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азочных персонаж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3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раженности страх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1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34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со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5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06A-64EB-40C3-A890-9122C54020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дошкольников двух групп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группа – дошкольники с внушенными страх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 группа – дошкольники с не внушенными страх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26920" y="2852640"/>
          <a:ext cx="62661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62661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835280" y="4869000"/>
            <a:ext cx="468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-  «медицинские страхи»; 2 - причинение физического ущерба; 3 - страхи смерти; 4 - страхи животных;  5 - страхи сказочных персонажей;  6 - страхи, связанные со сном, темнотой; 7 -социально-опосредованные страхи; 8 - пространственные страхи;  9 - проективные, временные стра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57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Диагностика страхов у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381-AB7B-4FC4-B338-EC49EA3B3C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оставление выраженности страхов и тревож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47640" y="2421000"/>
          <a:ext cx="604872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04872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260000" y="1844640"/>
            <a:ext cx="65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и тревожности у дошкольников, 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52A-4758-42A5-B771-0EF78256CF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 коррекционных занятий с использованием упражнений игровой терап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чинение историй (например, сказка по кругу; моделирование конфликтной ситуации и объективирование вариантов ее разреш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аматизация истории на задан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флексивный анализ, об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рессивное (пантомимическое, психогимнастическое) упраж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F16-FF17-45C6-B042-022A7C7BE58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 коррекционных занятий с использованием упражнений арт-терап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тельный наст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Разогрев» (пальчиковая гимнастика, дыхательные, графические упражне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изация ощущений, эмоций (упражнения с песком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работа (рисунок, подел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аматизация, обсу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ктив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ение (рефле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7C0-5D50-43C9-9ACF-38ECAF5669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ика снижения страхов у дошкольников с внушенными страхами и не внушенными страхами с помощью игровой корр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4000" y="2060640"/>
          <a:ext cx="8640720" cy="41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64072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65D-2E27-46E7-A6F8-29EF0C31EA1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ика снижения страхов у дошкольников с внушенными страхами и не внушенными страхами с помощью арт-терапевтической корр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2060640"/>
          <a:ext cx="849600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496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5564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60B-1DE9-4986-9A32-94F285C9322B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важные определ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 – базовая эмоциональная реакция человека, возникающая в результате опредмечивания тревожности под влиянием действительной, воображаемой или внушенной опасности, угрозы его биологическому или социальному существ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 – выражение и результат конкретизации (опредмечивания)  неопределенной угрозы (на полюсе объекта) и неопределенной тревоги (на полюсе субъек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ушенный страх – результат усвоения чужого опыта под влиянием суггес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1EB-BBB1-4736-A713-DD54C5CFE9F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ерархическая трехуровневая типология стр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61760" y="2144520"/>
            <a:ext cx="5629320" cy="2923920"/>
            <a:chOff x="1661760" y="2144520"/>
            <a:chExt cx="5629320" cy="2923920"/>
          </a:xfrm>
        </p:grpSpPr>
        <p:sp>
          <p:nvSpPr>
            <p:cNvPr id="101" name=""/>
            <p:cNvSpPr/>
            <p:nvPr/>
          </p:nvSpPr>
          <p:spPr>
            <a:xfrm flipV="1">
              <a:off x="3568680" y="2144160"/>
              <a:ext cx="1857960" cy="973080"/>
            </a:xfrm>
            <a:custGeom>
              <a:avLst/>
              <a:gdLst>
                <a:gd name="textAreaLeft" fmla="*/ 666720 w 1857960"/>
                <a:gd name="textAreaRight" fmla="*/ 1191240 w 1857960"/>
                <a:gd name="textAreaTop" fmla="*/ 349200 h 973080"/>
                <a:gd name="textAreaBottom" fmla="*/ 62388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РЕДМЕТНЫЕ 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637720" y="3120480"/>
              <a:ext cx="3717360" cy="974520"/>
            </a:xfrm>
            <a:custGeom>
              <a:avLst/>
              <a:gdLst>
                <a:gd name="textAreaLeft" fmla="*/ 817200 w 3717360"/>
                <a:gd name="textAreaRight" fmla="*/ 2900160 w 3717360"/>
                <a:gd name="textAreaTop" fmla="*/ 214200 h 974520"/>
                <a:gd name="textAreaBottom" fmla="*/ 760320 h 9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141999" dir="1590005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ЭКЗИСТЕНЦИАЛЬ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707840" y="4094640"/>
              <a:ext cx="5578200" cy="973080"/>
            </a:xfrm>
            <a:custGeom>
              <a:avLst/>
              <a:gdLst>
                <a:gd name="textAreaLeft" fmla="*/ 968400 w 5578200"/>
                <a:gd name="textAreaRight" fmla="*/ 4609800 w 5578200"/>
                <a:gd name="textAreaTop" fmla="*/ 168840 h 973080"/>
                <a:gd name="textAreaBottom" fmla="*/ 80424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ТРЕВОГ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496320" y="313524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640960" y="4098960"/>
              <a:ext cx="36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661760" y="5062680"/>
              <a:ext cx="562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7760" y="3135240"/>
              <a:ext cx="18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76600" y="2171880"/>
              <a:ext cx="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76600" y="27637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1840" y="2492280"/>
              <a:ext cx="94248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АДЕКВАТ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3640" y="2565360"/>
              <a:ext cx="1119960" cy="33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НЕАДЕКВАТ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784400" y="2637000"/>
              <a:ext cx="88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668240" y="2214360"/>
              <a:ext cx="2731680" cy="28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3274560" y="2637000"/>
            <a:ext cx="793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8AB-9297-4A0F-B94A-4D5674F3B4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хема возникновения внушенных стр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13120" y="2239920"/>
            <a:ext cx="1811520" cy="3382920"/>
            <a:chOff x="3813120" y="2239920"/>
            <a:chExt cx="1811520" cy="3382920"/>
          </a:xfrm>
        </p:grpSpPr>
        <p:sp>
          <p:nvSpPr>
            <p:cNvPr id="117" name=""/>
            <p:cNvSpPr/>
            <p:nvPr/>
          </p:nvSpPr>
          <p:spPr>
            <a:xfrm>
              <a:off x="4319640" y="4311720"/>
              <a:ext cx="0" cy="41256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13120" y="4726080"/>
              <a:ext cx="1011240" cy="826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РЕБЕНО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319640" y="3066840"/>
              <a:ext cx="0" cy="4158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3120" y="2239920"/>
              <a:ext cx="1011240" cy="82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ЗРОСЛ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13120" y="3483000"/>
              <a:ext cx="1011240" cy="826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ЗАПРЕТ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ЗАПУГИВА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06920" y="2786040"/>
              <a:ext cx="88884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овышенная тревож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4680" y="4051440"/>
              <a:ext cx="93996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трога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под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глад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06920" y="5234040"/>
              <a:ext cx="795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нуш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17840" y="309708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284720" y="4365720"/>
            <a:ext cx="14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F7E-6918-469A-9E18-577ED5D573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етерминанты и следствия внушенных страх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63640" y="2239920"/>
            <a:ext cx="5751720" cy="3730320"/>
            <a:chOff x="1763640" y="2239920"/>
            <a:chExt cx="5751720" cy="3730320"/>
          </a:xfrm>
        </p:grpSpPr>
        <p:sp>
          <p:nvSpPr>
            <p:cNvPr id="130" name=""/>
            <p:cNvSpPr/>
            <p:nvPr/>
          </p:nvSpPr>
          <p:spPr>
            <a:xfrm>
              <a:off x="1763640" y="2239920"/>
              <a:ext cx="5713560" cy="80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нутренние (тревожность) и внешние (внушени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етерминанты внушенных страх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40400" y="2999880"/>
              <a:ext cx="0" cy="23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0400" y="3413880"/>
              <a:ext cx="0" cy="27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0400" y="3945960"/>
              <a:ext cx="0" cy="22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0400" y="5160960"/>
              <a:ext cx="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3640" y="3142800"/>
              <a:ext cx="5713560" cy="2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нушенный стр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63640" y="3675960"/>
              <a:ext cx="571356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аниженная самооценка, повышенная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3640" y="4215240"/>
              <a:ext cx="5751720" cy="100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еуверенность в себе, проявляющаяся на когнитивном, эмоционально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отивационно-волевом и поведенческом уровн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3640" y="5430960"/>
              <a:ext cx="5751720" cy="53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циально-психологическая дезадапт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C4D-1818-4FE7-94AD-367EA346AD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хема в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заимодействия родителя, ребенка и психолог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35520" y="1870200"/>
            <a:ext cx="1720440" cy="3401640"/>
            <a:chOff x="3935520" y="1870200"/>
            <a:chExt cx="1720440" cy="3401640"/>
          </a:xfrm>
        </p:grpSpPr>
        <p:sp>
          <p:nvSpPr>
            <p:cNvPr id="141" name=""/>
            <p:cNvSpPr/>
            <p:nvPr/>
          </p:nvSpPr>
          <p:spPr>
            <a:xfrm>
              <a:off x="4391280" y="3982680"/>
              <a:ext cx="0" cy="42048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35520" y="4404960"/>
              <a:ext cx="911880" cy="843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СИХОЛО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391280" y="2713320"/>
              <a:ext cx="0" cy="42408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35520" y="1870200"/>
              <a:ext cx="911880" cy="843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35520" y="3137400"/>
              <a:ext cx="911880" cy="843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БЕНО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70840" y="2513160"/>
              <a:ext cx="800640" cy="19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уггес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4720" y="3640680"/>
              <a:ext cx="847080" cy="36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нушенный стра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4720" y="5008320"/>
              <a:ext cx="110124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нтрсуггес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91280" y="2745000"/>
              <a:ext cx="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385160" y="3961440"/>
              <a:ext cx="0" cy="43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85D-8536-4139-BF8A-010991C73E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Основные характеристики суггестии и контрсуггест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3280" y="1844640"/>
          <a:ext cx="8461440" cy="4524480"/>
        </p:xfrm>
        <a:graphic>
          <a:graphicData uri="http://schemas.openxmlformats.org/drawingml/2006/table">
            <a:tbl>
              <a:tblPr/>
              <a:tblGrid>
                <a:gridCol w="4233960"/>
                <a:gridCol w="4227480"/>
              </a:tblGrid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ГГЕС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СУГГЕС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а в значимого другого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познание, самопонимание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итарный стиль общ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о-демократический стиль общ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подчин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и саморегуляция психических состояний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е деятельности и повед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самораскрыт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, регуляция повед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сть поведения, разумность восприят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кающиеся и скрытые транзак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ллельные транзак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е директивные инструкции, сильные невербальные стимулы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ое и личностное содержание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стройка сверху»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стройка сбоку»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уверенно-агрессивная позиция контролирующего Родител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ия принимающего Взрослого психотерапевт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ные, повелительные интонации взрослого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сть, свобод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сознательное принятие и прочное усвоение ребенком содержания, внушаемого взрослы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е принятие ребенком содержа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ритическое усвоение внушенного содержа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е восприятие, осмысление актуальной ситуа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заражение (контагиозность)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сть экспресс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диация эмоционального фона, настро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сть  эмоционального фон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тимулирует раскрытие индивидуальности ребенк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ует раскрытие индивидуальности ребенк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внушенных установок и состоя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внутренних установок и состоя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знательность, не критичность восприят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сть и критичность восприят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24000" y="3284640"/>
            <a:ext cx="864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941720"/>
            <a:ext cx="864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2205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501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844640"/>
            <a:ext cx="1800" cy="453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онтрсуггестивные особенности игровой и арт-терапевтической коррекци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3280" y="1844640"/>
          <a:ext cx="8461440" cy="4646520"/>
        </p:xfrm>
        <a:graphic>
          <a:graphicData uri="http://schemas.openxmlformats.org/drawingml/2006/table">
            <a:tbl>
              <a:tblPr/>
              <a:tblGrid>
                <a:gridCol w="3997440"/>
                <a:gridCol w="4464000"/>
              </a:tblGrid>
              <a:tr h="24444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корр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-терапевтическая корр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68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я к авторитарному стилю общ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берально-демократический стиль общ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, контроль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контроль и саморегуляция психических состояний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ция поведения;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нательность поведения, разумность восприя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ее возбуждение с последующим внутренним возбуждением, активная двигательная часть, переходящая в отреагирование (катарсис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ая внутренняя мыслительная работа с внешней пассивной или расслабляющей, т.е. внутреннее напряжение сменяется внешним торможением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о – слово, речь суггестор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о – развитие внутренних переживаний, самораскрытие, самопринятие, самоуправле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ая деятельность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ая работа с сохранением индивидуального характера их деятельност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жение психического состояния, основанного на инструкции и выполнении зада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контроль и саморегуляцию психических состояний (концентрация внимания на образе страха в процессе рисования, приемы релаксации и расслабления); наведение, индукц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ивный характер, модель научения и воспроизвед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ирективный характер; модель самоопределения и самоприня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тровертированна, публична, разыгрывание сюжета, вербализац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ровертированна; менее публичн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ация поведения на сенсомоторном уровн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выражение посредством художественной экспрессии, индивидуально-личностное самопозна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средственное участие взрослого в проигрывании определенных эпизодов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ребенка и психолога опосредуются изобразительной деятельностью и отражают процесс художественной экспресси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ссогенная ситуация, воссоздающая травмирующие собы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жение своих внутренних конфликтов в символической форме, постепенное осознание и вербализация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доление страха на физическом уровн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знание страха, его источника и понима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ональное зараже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ость экспресси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эмоционального и двигательного напряж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ое самовыражение и самопознание, «инсайт-ориентация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08000" y="2205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3357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59500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781360"/>
            <a:ext cx="8425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5805360"/>
            <a:ext cx="849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1844640"/>
            <a:ext cx="1440" cy="46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158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родител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200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осник «Опасения и страхи взрослых» (А.И. Захаро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32000" y="3213000"/>
          <a:ext cx="66960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213000"/>
                    <a:ext cx="66960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340000" y="5229360"/>
            <a:ext cx="3527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– «медицинские» страх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– страхи, причинения физического ущер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– страх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– опасения по поводу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 – социально-опосредованные страх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 – проективные, временные стра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6A5-37E9-49F5-97A5-F6ACA71617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47:31Z</dcterms:created>
  <dc:creator>Андрей</dc:creator>
  <dc:description/>
  <dc:language>en-US</dc:language>
  <cp:lastModifiedBy>Андрей</cp:lastModifiedBy>
  <dcterms:modified xsi:type="dcterms:W3CDTF">2011-11-23T10:13:06Z</dcterms:modified>
  <cp:revision>68</cp:revision>
  <dc:subject/>
  <dc:title>ОРЛОВА Любовь Владимировна   СОПОСТАВЛЕНИЕ ИГРОВОЙ И АРТ-ТЕРАПЕВТИЧЕСКОЙ РАБОТЫ СО СТРАХАМИ  (НА МАТЕРИАЛЕ ДЕТЕЙ-ДОШКОЛЬНИКОВ)</dc:title>
</cp:coreProperties>
</file>