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6A0-E765-42DD-861C-8CBD2DAB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0B0-BED2-4D69-BD58-17BE9558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2F3-B3A3-4D02-BAF2-DD4E1EEA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CDD-A7B0-4410-9A1E-96A7478B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29B6-AAD2-4B2F-93AB-931D824E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542-0D2B-43BB-8032-B842DA9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0A4F-BE4C-4A73-854C-10CC474E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58D5-3C7B-4865-8C7D-42007276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A3DD-E4B6-4DC9-9A93-5A0AB55E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514D-2F2A-4209-B42B-B4E8043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52A6-A3D0-439E-80C9-5EE5F3B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9FC-6D77-477B-9229-13E67BE7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51DC-25C3-4B23-A7DD-2F9B077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01F7-BF10-4E36-87B3-785F1C34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8E07-9F03-495D-B6D9-1F82B014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709B-4BBF-4808-ADF5-28D03C48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066A-77A3-452F-B603-FC779491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D0E-36FA-4476-8682-8EA940F5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9EF-02BE-48BD-BFF8-23A50BC0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6D3-F250-4D4F-BC8E-47C9D80B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160-5B4D-4354-AFCB-291BE88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8EF-AF9A-4F0A-A706-CF5EDD00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E6C-184C-4186-B746-F5A8D687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23E-2B16-4ABA-8B20-F980A406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6A66E-8921-4524-B1A3-EDF61B72B26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BFBBA5-9282-4F95-8E07-6B9F08CA9A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68320" y="15886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ЛОВА Любовь Владимировн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ОВАЯ КОРРЕКЦИЯ ВНУШЕННЫХ ДЕТСКИХ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сква –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1200" y="691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рахов у родителей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42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вни страха у родителей в трех группах риска и в норме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71640" y="3141720"/>
          <a:ext cx="7772400" cy="315720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880"/>
                <a:gridCol w="1110960"/>
                <a:gridCol w="1109880"/>
              </a:tblGrid>
              <a:tr h="112104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ытуем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полная сем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«Пожилые» р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Единственный реб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971640" y="3141720"/>
            <a:ext cx="64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357720"/>
            <a:ext cx="77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357720"/>
            <a:ext cx="1079280" cy="86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21000"/>
            <a:ext cx="7777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35640" y="3141720"/>
            <a:ext cx="1440" cy="31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3141720"/>
            <a:ext cx="1800" cy="31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5950080"/>
            <a:ext cx="7777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B89-4862-489F-8040-337DA3A8F5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ич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4544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дошколь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ский опросник детских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выраженные страх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мер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96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ивот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81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чинения физического ущерб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9%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оциальных санкц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71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казочных персонаж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3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раженности страх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из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1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редн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34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сокий уровен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65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C95-DB6F-4E46-B0E2-609150E441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9214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дошкольников двух групп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группа – дошкольники с внушенными страх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группа – дошкольники с не внушенными стра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26920" y="2852640"/>
          <a:ext cx="62661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62661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835280" y="4869000"/>
            <a:ext cx="468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-  «медицинские страхи»; 2 - причинение физического ущерба; 3 - страхи смерти; 4 - страхи животных;  5 - страхи сказочных персонажей;  6 - страхи, связанные со сном, темнотой; 7 -социально-опосредованные страхи; 8 - пространственные страхи;  9 - проективные, временные стра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57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Диагностика страхов у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5C9-595D-4D1D-97AE-155BB8EA3C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поставление выраженности страхов и тревож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47640" y="2421000"/>
          <a:ext cx="604872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421000"/>
                    <a:ext cx="604872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260000" y="1844640"/>
            <a:ext cx="65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и тревожности у дошкольников, 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3E9-E23B-4158-9968-C3405E5910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 коррекционных занятий с использованием упражнений игровой терап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чинение историй (например, сказка по кругу; моделирование конфликтной ситуации и объективирование вариантов ее разреш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аматизация истории на задан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флексивный анализ, об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рессивное (пантомимическое, психогимнастическое) упраж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D8E-BE1B-4F9D-A2E3-1BBA2385547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 коррекционных занятий с использованием упражнений арт-терап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тельный наст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азогрев» (пальчиковая гимнастика, дыхательные, графические упражн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ация ощущений, эмоций (упражнения с песко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ая работа (рисунок, подел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аматизация, обсу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лектив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ение (рефлекс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BEE-63AD-4B57-A3CE-F07296F808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7588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ика снижения страхов у дошкольников с внушенными страхами и не внушенными страхами с помощью игровой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4000" y="2060640"/>
          <a:ext cx="8640720" cy="416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6407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C89-7756-4AB9-9784-BBBEA11FA64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330033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намика снижения страхов у дошкольников с внушенными страхами и не внушенными страхами с помощью арт-терапевтической корр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24000" y="2060640"/>
          <a:ext cx="849600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0640"/>
                    <a:ext cx="8496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75564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ная 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8B3-7E66-48B6-AE92-8A7D437DC49B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важные определ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 – базовая эмоциональная реакция человека, возникающая в результате опредмечивания тревожности под влиянием действительной, воображаемой или внушенной опасности, угрозы его биологическому или социальному существ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 – выражение и результат конкретизации (опредмечивания)  неопределенной угрозы (на полюсе объекта) и неопределенной тревоги (на полюсе субъек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шенный страх – результат усвоения чужого опыта под влиянием суггес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318-09BD-4BF8-A3FC-B5759E12DC8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ерархическая трехуровневая типология ст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61760" y="2144520"/>
            <a:ext cx="5629320" cy="2923920"/>
            <a:chOff x="1661760" y="2144520"/>
            <a:chExt cx="5629320" cy="2923920"/>
          </a:xfrm>
        </p:grpSpPr>
        <p:sp>
          <p:nvSpPr>
            <p:cNvPr id="101" name=""/>
            <p:cNvSpPr/>
            <p:nvPr/>
          </p:nvSpPr>
          <p:spPr>
            <a:xfrm flipV="1">
              <a:off x="3568680" y="2144160"/>
              <a:ext cx="1857960" cy="973080"/>
            </a:xfrm>
            <a:custGeom>
              <a:avLst/>
              <a:gdLst>
                <a:gd name="textAreaLeft" fmla="*/ 666720 w 1857960"/>
                <a:gd name="textAreaRight" fmla="*/ 1191240 w 1857960"/>
                <a:gd name="textAreaTop" fmla="*/ 349200 h 973080"/>
                <a:gd name="textAreaBottom" fmla="*/ 62388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РЕДМЕТНЫЕ 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637720" y="3120480"/>
              <a:ext cx="3717360" cy="974520"/>
            </a:xfrm>
            <a:custGeom>
              <a:avLst/>
              <a:gdLst>
                <a:gd name="textAreaLeft" fmla="*/ 817200 w 3717360"/>
                <a:gd name="textAreaRight" fmla="*/ 2900160 w 3717360"/>
                <a:gd name="textAreaTop" fmla="*/ 214200 h 974520"/>
                <a:gd name="textAreaBottom" fmla="*/ 760320 h 9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990033"/>
              </a:solidFill>
              <a:miter/>
            </a:ln>
            <a:effectLst>
              <a:outerShdw dist="141999" dir="1590005" blurRad="0" rotWithShape="0">
                <a:srgbClr val="99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ЭКЗИСТЕНЦИАЛЬ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707840" y="4094640"/>
              <a:ext cx="5578200" cy="973080"/>
            </a:xfrm>
            <a:custGeom>
              <a:avLst/>
              <a:gdLst>
                <a:gd name="textAreaLeft" fmla="*/ 968400 w 5578200"/>
                <a:gd name="textAreaRight" fmla="*/ 4609800 w 5578200"/>
                <a:gd name="textAreaTop" fmla="*/ 168840 h 973080"/>
                <a:gd name="textAreaBottom" fmla="*/ 804240 h 9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6520" rIns="56520" tIns="28080" bIns="28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РЕВОГ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496320" y="3135240"/>
              <a:ext cx="195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640960" y="4098960"/>
              <a:ext cx="36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661760" y="5062680"/>
              <a:ext cx="562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97760" y="3135240"/>
              <a:ext cx="18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6600" y="2171880"/>
              <a:ext cx="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76600" y="276372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21840" y="2492280"/>
              <a:ext cx="94248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АДЕКВАТ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3640" y="2565360"/>
              <a:ext cx="111996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НЕАДЕКВАТ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784400" y="2637000"/>
              <a:ext cx="88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668240" y="2214360"/>
              <a:ext cx="2731680" cy="28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3274560" y="2637000"/>
            <a:ext cx="793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EA1-9740-4E8C-8D1B-0F77B2E3C5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 возникновения внушенных стр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13120" y="2239920"/>
            <a:ext cx="1811520" cy="3382920"/>
            <a:chOff x="3813120" y="2239920"/>
            <a:chExt cx="1811520" cy="3382920"/>
          </a:xfrm>
        </p:grpSpPr>
        <p:sp>
          <p:nvSpPr>
            <p:cNvPr id="117" name=""/>
            <p:cNvSpPr/>
            <p:nvPr/>
          </p:nvSpPr>
          <p:spPr>
            <a:xfrm>
              <a:off x="4319640" y="4311720"/>
              <a:ext cx="0" cy="41256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13120" y="4726080"/>
              <a:ext cx="1011240" cy="826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РЕБЕНО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319640" y="3066840"/>
              <a:ext cx="0" cy="4158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3120" y="2239920"/>
              <a:ext cx="1011240" cy="82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ЗРОСЛ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13120" y="3483000"/>
              <a:ext cx="1011240" cy="826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720" rIns="5472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ЗАПРЕТ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Times New Roman"/>
                </a:rPr>
                <a:t>ЗАПУГИВА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06920" y="2786040"/>
              <a:ext cx="88884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вышенная тревожнос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4680" y="4051440"/>
              <a:ext cx="93996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трога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под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е глад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06920" y="5234040"/>
              <a:ext cx="79524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нуш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трах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17840" y="3097080"/>
              <a:ext cx="0" cy="36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284720" y="4365720"/>
            <a:ext cx="1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2AE-44FB-4E8E-9AAA-07CF79823E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етерминанты и следствия внушенных страхов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63640" y="2239920"/>
            <a:ext cx="5751720" cy="3730320"/>
            <a:chOff x="1763640" y="2239920"/>
            <a:chExt cx="5751720" cy="3730320"/>
          </a:xfrm>
        </p:grpSpPr>
        <p:sp>
          <p:nvSpPr>
            <p:cNvPr id="130" name=""/>
            <p:cNvSpPr/>
            <p:nvPr/>
          </p:nvSpPr>
          <p:spPr>
            <a:xfrm>
              <a:off x="1763640" y="2239920"/>
              <a:ext cx="5713560" cy="80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нутренние (тревожность) и внешние (внушени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етерминанты внушенных страх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0400" y="2999880"/>
              <a:ext cx="0" cy="23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40400" y="3413880"/>
              <a:ext cx="0" cy="27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0400" y="3945960"/>
              <a:ext cx="0" cy="22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0400" y="5160960"/>
              <a:ext cx="0" cy="230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63640" y="3142800"/>
              <a:ext cx="5713560" cy="26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нушенный стр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3640" y="3675960"/>
              <a:ext cx="5713560" cy="34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аниженная самооценка, повышенная самокри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3640" y="4215240"/>
              <a:ext cx="5751720" cy="100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уверенность в себе, проявляющаяся на когнитивном, эмоционально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отивационно-волевом и поведенческом уровн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3640" y="5430960"/>
              <a:ext cx="5751720" cy="53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циально-психологическая дезадапт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F13-7CB3-4C51-8D64-EC2349A953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хема в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заимодействия родителя, ребенка и психолог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35520" y="1870200"/>
            <a:ext cx="1720440" cy="3401640"/>
            <a:chOff x="3935520" y="1870200"/>
            <a:chExt cx="1720440" cy="3401640"/>
          </a:xfrm>
        </p:grpSpPr>
        <p:sp>
          <p:nvSpPr>
            <p:cNvPr id="141" name=""/>
            <p:cNvSpPr/>
            <p:nvPr/>
          </p:nvSpPr>
          <p:spPr>
            <a:xfrm>
              <a:off x="4391280" y="3982680"/>
              <a:ext cx="0" cy="42048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35520" y="4404960"/>
              <a:ext cx="911880" cy="843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СИХОЛО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391280" y="2713320"/>
              <a:ext cx="0" cy="42408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35520" y="1870200"/>
              <a:ext cx="911880" cy="843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35520" y="3137400"/>
              <a:ext cx="911880" cy="843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8680" rIns="5868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БЕНО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70840" y="2513160"/>
              <a:ext cx="800640" cy="19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уггес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4720" y="3640680"/>
              <a:ext cx="847080" cy="36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Внушенный стра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54720" y="5008320"/>
              <a:ext cx="110124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нтрсуггес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91280" y="2745000"/>
              <a:ext cx="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85160" y="3961440"/>
              <a:ext cx="0" cy="43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7A7-502F-46D2-BBD0-D32CC256D1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Основные характеристики суггестии и контрсуггестии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03280" y="1844640"/>
          <a:ext cx="8461440" cy="4524480"/>
        </p:xfrm>
        <a:graphic>
          <a:graphicData uri="http://schemas.openxmlformats.org/drawingml/2006/table">
            <a:tbl>
              <a:tblPr/>
              <a:tblGrid>
                <a:gridCol w="4233960"/>
                <a:gridCol w="4227480"/>
              </a:tblGrid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ГГЕ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СУГГЕС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а в значимого другог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познание, самопонима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итарный стиль общ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берально-демократический стиль общ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подчин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 и саморегуляция психических состояний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ие деятельности и повед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самораскрыт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, регуляция повед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сть поведения, разумность восприят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ающиеся и скрытые транзак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ллельные транзак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е директивные инструкции, сильные невербальные стимулы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льное и личностное содержа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стройка сверху»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истройка сбоку»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уверенно-агрессивная позиция контролирующего Родител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ия принимающего Взрослого психотерапевт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ные, повелительные интонации взрослого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, свобод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сознательное принятие и прочное усвоение ребенком содержания, внушаемого взрослы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е принятие ребенком содержа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ритическое усвоение внушенного содержа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ое восприятие, осмысление актуальной ситуац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ое заражение (контагиозность)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сть экспрессии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диация эмоционального фона, настроен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ойчивость  эмоционального фон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тимулирует раскрытие индивидуальности ребен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ирует раскрытие индивидуальности ребен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внушенных установок и состоя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внутренних установок и состоя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знательность, не критичность восприятия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сть и критичность восприят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24000" y="3284640"/>
            <a:ext cx="864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941720"/>
            <a:ext cx="8640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220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844640"/>
            <a:ext cx="1800" cy="453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онтрсуггестивные особенности игровой и арт-терапевтической коррекци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3280" y="1844640"/>
          <a:ext cx="8461440" cy="4646520"/>
        </p:xfrm>
        <a:graphic>
          <a:graphicData uri="http://schemas.openxmlformats.org/drawingml/2006/table">
            <a:tbl>
              <a:tblPr/>
              <a:tblGrid>
                <a:gridCol w="3997440"/>
                <a:gridCol w="4464000"/>
              </a:tblGrid>
              <a:tr h="244440"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корр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32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-терапевтическая корр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68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денция к авторитарному стилю общ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берально-демократический стиль общ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, контрол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нтроль и саморегуляция психических состояний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ция поведения;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нательность поведения, разумность восприя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ее возбуждение с последующим внутренним возбуждением, активная двигательная часть, переходящая в отреагирование (катарсис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ая внутренняя мыслительная работа с внешней пассивной или расслабляющей, т.е. внутреннее напряжение сменяется внешним торможением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о – слово, речь суггестор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о – развитие внутренних переживаний, самораскрытие, самопринятие, самоуправл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лективная деятельность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работа с сохранением индивидуального характера их деятельност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психического состояния, основанного на инструкции и выполнении зада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нтроль и саморегуляцию психических состояний (концентрация внимания на образе страха в процессе рисования, приемы релаксации и расслабления); наведение, индукц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ивный характер, модель научения и воспроизвед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ирективный характер; модель самоопределения и самоприня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ровертированна, публична, разыгрывание сюжета, вербализац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ровертированна; менее публична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нстрация поведения на сенсомоторном уровн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выражение посредством художественной экспрессии, индивидуально-личностное самопозна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средственное участие взрослого в проигрывании определенных эпизодов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шения ребенка и психолога опосредуются изобразительной деятельностью и отражают процесс художественной экспресси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ссогенная ситуация, воссоздающая травмирующие событ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жение своих внутренних конфликтов в символической форме, постепенное осознание и вербализация;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доление страха на физическом уровн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знание страха, его источника и понима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ональное заражение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ость экспрессии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эмоционального и двигательного напряжения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25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61"/>
                        </a:spcBef>
                        <a:buClr>
                          <a:srgbClr val="000000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самовыражение и самопознание, «инсайт-ориентация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08000" y="220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00" y="3357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59500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781360"/>
            <a:ext cx="8425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5805360"/>
            <a:ext cx="8496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1844640"/>
            <a:ext cx="144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158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агностика страхов у родител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200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аженность страхов у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осник «Опасения и страхи взрослых» (А.И. Захаро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2000" y="3213000"/>
          <a:ext cx="66960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213000"/>
                    <a:ext cx="66960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340000" y="5229360"/>
            <a:ext cx="3527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– «медицинские» страх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– страхи, причинения физического ущер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– страх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– опасения по поводу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 – социально-опосредованные страх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 – проективные, временные стра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A7A-A332-45F1-97F4-EA92C867D1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47:31Z</dcterms:created>
  <dc:creator>Андрей</dc:creator>
  <dc:description/>
  <dc:language>en-US</dc:language>
  <cp:lastModifiedBy>Андрей</cp:lastModifiedBy>
  <dcterms:modified xsi:type="dcterms:W3CDTF">2011-11-23T10:13:06Z</dcterms:modified>
  <cp:revision>68</cp:revision>
  <dc:subject/>
  <dc:title>ОРЛОВА Любовь Владимировна   СОПОСТАВЛЕНИЕ ИГРОВОЙ И АРТ-ТЕРАПЕВТИЧЕСКОЙ РАБОТЫ СО СТРАХАМИ  (НА МАТЕРИАЛЕ ДЕТЕЙ-ДОШКОЛЬНИКОВ)</dc:title>
</cp:coreProperties>
</file>