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71E-1CC8-46D9-A874-F805763C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0D0-24C7-4316-9ADB-616F8A0D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29D-C5B7-4126-B4D5-1FC93056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C7B-AE8F-4B95-85A3-8683D741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FBD-FCEB-4156-8DEE-5F00683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B2B-9126-45FB-A5BF-B8684252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EA0-9C5D-408D-964D-7F4219DE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03E-8300-461B-98D3-00AACCF4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88B-0995-4BF2-B321-C2F3573A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8B4-8532-4545-A556-609026B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E69-8E8C-428B-83D9-8B96C09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F7D-140C-4710-8D29-F7EB277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C86-C406-4D3B-919C-31B32E9E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нциклопедия Аванта+ «Личная безопасность», 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традь по ПДД, 1-4 класс. Издательство «Просвещение»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чные рисунк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КарМаН</cp:lastModifiedBy>
  <dcterms:modified xsi:type="dcterms:W3CDTF">2012-03-02T12:18:47Z</dcterms:modified>
  <cp:revision>13</cp:revision>
  <dc:subject/>
  <dc:title>Слайд 1</dc:title>
</cp:coreProperties>
</file>