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A61-1D69-43E3-AB4B-61D79513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3AC-5C9C-4C63-A9ED-4642505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672-83BE-4044-B6EC-2B5FC832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30D-BAF7-4FE5-B2A4-F5125B2C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E96-7DE2-491F-ACD9-49371F0A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017-CA7F-4B16-8DDF-C175ECE6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69D-1E09-4058-9437-A91B10D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2D9-2EE3-4FE6-A27A-73234AFA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15C-55A3-4D84-82B2-F5D684CC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731-B6D5-4FFD-98BE-7CFCFE02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C58-8894-41B5-A877-221D21C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CDB-3F2E-49C7-A061-FC75D27A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6BD0-501B-42E6-A99C-F10F9146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авила перевозки пассажиров на транспортных средств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ования ПДД к перевозке пассажиров на транспорт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безопасного поведения пассажиров в Д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32"/>
          <p:cNvSpPr/>
          <p:nvPr/>
        </p:nvSpPr>
        <p:spPr>
          <a:xfrm>
            <a:off x="3059280" y="3213000"/>
            <a:ext cx="3097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возка пассажиров на транспортных средств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19640" y="3357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правила перевозки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IMAGE0006"/>
          <p:cNvPicPr/>
          <p:nvPr/>
        </p:nvPicPr>
        <p:blipFill>
          <a:blip r:embed="rId1">
            <a:lum bright="6000"/>
          </a:blip>
          <a:srcRect l="52" t="0" r="0" b="0"/>
          <a:stretch/>
        </p:blipFill>
        <p:spPr>
          <a:xfrm>
            <a:off x="6588000" y="4724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IMAGE0003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11280" y="5013360"/>
            <a:ext cx="20160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AGE0004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72360" y="1700280"/>
            <a:ext cx="2016000" cy="97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IMAGE000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55640" y="1413000"/>
            <a:ext cx="1871640" cy="1230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IMAGE0002"/>
          <p:cNvPicPr/>
          <p:nvPr/>
        </p:nvPicPr>
        <p:blipFill>
          <a:blip r:embed="rId5"/>
          <a:stretch/>
        </p:blipFill>
        <p:spPr>
          <a:xfrm>
            <a:off x="3564000" y="981000"/>
            <a:ext cx="1944720" cy="8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6"/>
          <a:stretch/>
        </p:blipFill>
        <p:spPr>
          <a:xfrm>
            <a:off x="3708360" y="5300640"/>
            <a:ext cx="1800360" cy="1268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250920" y="83664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десь пассажиром может быть лицо старше 12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3492360" y="2205000"/>
            <a:ext cx="215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следует проводить посадку и высадку пассажи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948360" y="83664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мни безопасности оправдывают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6372360" y="3357720"/>
            <a:ext cx="244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знавательный знак «Перевозка детей» обязателен в данном случ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3276720" y="422100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ссажиров не должно быть сверх мест, предназначенных для их перево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24000" y="3645000"/>
            <a:ext cx="237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узове грузового автомобиля перевозка детей запрещена в любом слу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1042920" y="1557360"/>
            <a:ext cx="28908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H="1">
            <a:off x="1547640" y="4581360"/>
            <a:ext cx="43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7451640" y="1341360"/>
            <a:ext cx="0" cy="287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 flipH="1" flipV="1">
            <a:off x="4211280" y="1916280"/>
            <a:ext cx="431640" cy="28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284720" y="5084640"/>
            <a:ext cx="14292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7596360" y="4221000"/>
            <a:ext cx="144360" cy="503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ДЕНИЕ ПАССАЖИРОВ ПРИ НЕИЗБЕЖНОСТИ ДОРОЖНО - ТРАНСПОРТНОГО ПРОИС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341360"/>
          <a:ext cx="8424720" cy="5237280"/>
        </p:xfrm>
        <a:graphic>
          <a:graphicData uri="http://schemas.openxmlformats.org/drawingml/2006/table">
            <a:tbl>
              <a:tblPr/>
              <a:tblGrid>
                <a:gridCol w="1522440"/>
                <a:gridCol w="1501560"/>
                <a:gridCol w="503280"/>
                <a:gridCol w="489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Д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пассаж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защ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б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упереться в переднюю пане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ереться плечом в спинку переднего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овое столкнов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одок прижать к груди, а руками защитить голов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ами схватиться за переднее си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ий у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о обхватить затылок руками.              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кользнуть вниз, уперевшись головой в спинку си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киды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нее си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кладет голову на колени другому, а тот накрывает собой перво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10"/>
          <p:cNvSpPr/>
          <p:nvPr/>
        </p:nvSpPr>
        <p:spPr>
          <a:xfrm>
            <a:off x="-5505840" y="90360"/>
            <a:ext cx="2015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урок будет интересен учителям, активно применяющим в своей работе технологии КСО, различные методы мотивации и стимулирования деятельности учащихся. Урок показывает, каким образом можно реализовать интерактивные методы и приемы обучения в рамках предмета ОБ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Энциклопедия Аванта+ «Личная безопасность», 200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традь по ПДД, 1-4 класс. Издательство «Просвещение»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Личные рисунк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2"/>
          <p:cNvSpPr/>
          <p:nvPr/>
        </p:nvSpPr>
        <p:spPr>
          <a:xfrm>
            <a:off x="5796000" y="4724280"/>
            <a:ext cx="302400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ТЕР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68360" y="1989000"/>
            <a:ext cx="151272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аж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156360" y="1197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79640" y="1773360"/>
            <a:ext cx="302436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цо, кроме водителя, находящееся в транспортном средстве, а также лицо, которое входит или выходит из транспортного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2124000" y="213372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5076720" y="220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4797360"/>
            <a:ext cx="16570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867280" y="4724280"/>
            <a:ext cx="28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ройство, предназначенное для перевозки по дорогам  людей, грузов или оборудования, установленного на 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2454480" cy="1514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9"/>
          <p:cNvSpPr/>
          <p:nvPr/>
        </p:nvSpPr>
        <p:spPr>
          <a:xfrm>
            <a:off x="529272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2340000" y="522936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2305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27280" y="620640"/>
            <a:ext cx="2449800" cy="93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анспортное средство, приводимое в движение мускульной силой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95280" y="2708280"/>
            <a:ext cx="1584360" cy="64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372360" y="2349360"/>
            <a:ext cx="2303280" cy="12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08908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372360" y="234936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вухколесное механическое транспортное средство с боковым прицепом или без не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449440" cy="1530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250920" y="4941720"/>
            <a:ext cx="1944720" cy="938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рож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ше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5796000" y="4508640"/>
            <a:ext cx="2952720" cy="172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5796000" y="4581360"/>
            <a:ext cx="30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ытие, возникшее в процессе движения по дороге транспортного средства и с его участием, при котором погибли или ранены люди, а также повреждены сами транспортные сре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9" descr="Мерседес-Бенц"/>
          <p:cNvPicPr/>
          <p:nvPr/>
        </p:nvPicPr>
        <p:blipFill>
          <a:blip r:embed="rId3"/>
          <a:stretch/>
        </p:blipFill>
        <p:spPr>
          <a:xfrm>
            <a:off x="3059280" y="4508640"/>
            <a:ext cx="2233440" cy="169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0"/>
          <p:cNvSpPr/>
          <p:nvPr/>
        </p:nvSpPr>
        <p:spPr>
          <a:xfrm>
            <a:off x="212400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5435640" y="98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5651640" y="285264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2195640" y="292428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5364000" y="5229360"/>
            <a:ext cx="360360" cy="287280"/>
          </a:xfrm>
          <a:prstGeom prst="rightArrow">
            <a:avLst>
              <a:gd name="adj1" fmla="val 50000"/>
              <a:gd name="adj2" fmla="val 313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2411280" y="530064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4"/>
          <p:cNvSpPr/>
          <p:nvPr/>
        </p:nvSpPr>
        <p:spPr>
          <a:xfrm>
            <a:off x="4140360" y="4292640"/>
            <a:ext cx="485640" cy="718920"/>
          </a:xfrm>
          <a:prstGeom prst="upArrow">
            <a:avLst>
              <a:gd name="adj1" fmla="val 50000"/>
              <a:gd name="adj2" fmla="val 370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11280" y="5229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иться в автомобиль и выходить из него можно только со стороны проезжей части или обочины и обязательно после его полной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AGE0002"/>
          <p:cNvPicPr/>
          <p:nvPr/>
        </p:nvPicPr>
        <p:blipFill>
          <a:blip r:embed="rId1"/>
          <a:stretch/>
        </p:blipFill>
        <p:spPr>
          <a:xfrm>
            <a:off x="1476360" y="836640"/>
            <a:ext cx="6191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4211640" y="4581360"/>
            <a:ext cx="485640" cy="4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03280" y="189000"/>
            <a:ext cx="6048360" cy="4319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826920" y="5157720"/>
            <a:ext cx="7777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мотоцикле тем, кому еще нет 12 лет разрешено ехать только в коляске, и лишь после 12 лет – на заднем сидении за водителем. Причем пассажиров не должно быть сверх мест, предназначенных для их перевозки. В любом случае – наденьте на голову мотош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"/>
          <p:cNvSpPr/>
          <p:nvPr/>
        </p:nvSpPr>
        <p:spPr>
          <a:xfrm>
            <a:off x="2195640" y="1197000"/>
            <a:ext cx="48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380360" y="4941720"/>
            <a:ext cx="485640" cy="400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4360" y="1844640"/>
            <a:ext cx="3671640" cy="234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16360" y="2060640"/>
            <a:ext cx="3529080" cy="267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826920" y="333360"/>
            <a:ext cx="749016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 12 – летнего возраста в легковом автомобиле ваше место на заднем си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1258920" y="5661000"/>
            <a:ext cx="741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ишь с 12 лет можно располагаться рядом с водителем, но при этом обязательно пристегнуться ремнем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ОНОЛОГИЯ ПОСЛЕДСТВИЙ ДТП ДЛЯ ВОДИТЕЛЯ И ПАССАЖИ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263600"/>
          <a:ext cx="7920000" cy="4546800"/>
        </p:xfrm>
        <a:graphic>
          <a:graphicData uri="http://schemas.openxmlformats.org/drawingml/2006/table">
            <a:tbl>
              <a:tblPr/>
              <a:tblGrid>
                <a:gridCol w="2521080"/>
                <a:gridCol w="5398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ОТ МОМЕНТА СТОЛ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26 секу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авливается бампер до линии передних си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ассажиры со скоростью 80 км/ч продолжают движение в са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39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вместе с передним сидением передвигается вперед на 15 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44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н грудной клеткой ломает р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50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 всех пассажиров начинает действовать сила, в 80 раз превышающая их собственный в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68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с силой в 9 тонн ударяется о приборный щит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092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одитель и сидящий рядом пассажир врезаются головами в переднее ветровое стекло и получают смертельные повреждения чере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висший на руле водитель отбрасывается назад, он уже мер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11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мобиль начинает откатываться наз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устя 0, 113 секун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идящий за рулем водитель сталкивается с пассажиром сзади, нанося ему смертельные пов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ЕЕ ЧЕМ ЗА 0,2 СЕКУНДЫ ВСЕ О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836640"/>
          <a:ext cx="8229600" cy="476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движения автомобиля при столкнов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вмы, аналогичные падению с выс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 м (одно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 (семиэтажное здани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ределение элементов оборудования автомобиля по частоте причиняемых ими травм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496800" y="1643040"/>
          <a:ext cx="404820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43040"/>
                    <a:ext cx="404820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4653000" y="1687680"/>
          <a:ext cx="4025880" cy="47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3000" y="1687680"/>
                    <a:ext cx="402588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AutoShape 6"/>
          <p:cNvSpPr/>
          <p:nvPr/>
        </p:nvSpPr>
        <p:spPr>
          <a:xfrm>
            <a:off x="4140360" y="177336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15:51Z</dcterms:created>
  <dc:creator>Елисеева Анна Анатольевна</dc:creator>
  <dc:description/>
  <dc:language>en-US</dc:language>
  <cp:lastModifiedBy>КарМаН</cp:lastModifiedBy>
  <dcterms:modified xsi:type="dcterms:W3CDTF">2012-03-02T12:18:47Z</dcterms:modified>
  <cp:revision>13</cp:revision>
  <dc:subject/>
  <dc:title>Слайд 1</dc:title>
</cp:coreProperties>
</file>