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F3E-9F50-4F67-91BE-4A445A86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22E-01EB-4062-AD97-BF86C015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6ED4-719C-4B04-B610-AEAA2817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F11B-F889-47A9-8AEF-F8CDEA4E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C39C-5D5D-4AEF-B43B-AF04E37F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050A-1A26-48B6-A518-D0787A89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1E2-6071-42F5-9ABB-1ABCC529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9ED-57AA-4711-8AC1-4859EFAE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5CC-DAE8-49BC-B2C3-04A66B9E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E274-B18B-4810-97AD-9166B581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88B-8BD7-44DE-8183-DB20A912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091-A0C6-475B-BD73-FDD23A9C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A3EC-DA40-4C27-BE2E-196BDF9F9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авила перевозки пассажиров на транспортных средства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бования ПДД к перевозке пассажиров на транспортных средст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а безопасного поведения пассажиров в ДТ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32"/>
          <p:cNvSpPr/>
          <p:nvPr/>
        </p:nvSpPr>
        <p:spPr>
          <a:xfrm>
            <a:off x="3059280" y="3213000"/>
            <a:ext cx="3097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возка пассажиров на транспортных средств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419640" y="335772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новные правила перевозки пассажи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IMAGE0006"/>
          <p:cNvPicPr/>
          <p:nvPr/>
        </p:nvPicPr>
        <p:blipFill>
          <a:blip r:embed="rId1">
            <a:lum bright="6000"/>
          </a:blip>
          <a:srcRect l="52" t="0" r="0" b="0"/>
          <a:stretch/>
        </p:blipFill>
        <p:spPr>
          <a:xfrm>
            <a:off x="6588000" y="4724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IMAGE000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11280" y="5013360"/>
            <a:ext cx="201600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IMAGE0004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372360" y="1700280"/>
            <a:ext cx="2016000" cy="977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IMAGE0005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55640" y="1413000"/>
            <a:ext cx="1871640" cy="1230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IMAGE0002"/>
          <p:cNvPicPr/>
          <p:nvPr/>
        </p:nvPicPr>
        <p:blipFill>
          <a:blip r:embed="rId5"/>
          <a:stretch/>
        </p:blipFill>
        <p:spPr>
          <a:xfrm>
            <a:off x="3564000" y="981000"/>
            <a:ext cx="1944720" cy="85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"/>
          <p:cNvPicPr/>
          <p:nvPr/>
        </p:nvPicPr>
        <p:blipFill>
          <a:blip r:embed="rId6"/>
          <a:stretch/>
        </p:blipFill>
        <p:spPr>
          <a:xfrm>
            <a:off x="3708360" y="5300640"/>
            <a:ext cx="1800360" cy="1268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9"/>
          <p:cNvSpPr/>
          <p:nvPr/>
        </p:nvSpPr>
        <p:spPr>
          <a:xfrm>
            <a:off x="250920" y="83664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десь пассажиром может быть лицо старше 12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3492360" y="2205000"/>
            <a:ext cx="215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следует проводить посадку и высадку пассажи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6948360" y="83664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мни безопасности оправдывают с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6372360" y="3357720"/>
            <a:ext cx="244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ознавательный знак «Перевозка детей» обязателен в данном случа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3276720" y="4221000"/>
            <a:ext cx="266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ассажиров не должно быть сверх мест, предназначенных для их перевоз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24000" y="3645000"/>
            <a:ext cx="237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кузове грузового автомобиля перевозка детей запрещена в любом случа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1042920" y="1557360"/>
            <a:ext cx="28908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7"/>
          <p:cNvSpPr/>
          <p:nvPr/>
        </p:nvSpPr>
        <p:spPr>
          <a:xfrm flipH="1">
            <a:off x="1547640" y="4581360"/>
            <a:ext cx="43200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7451640" y="1341360"/>
            <a:ext cx="0" cy="287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 flipH="1" flipV="1">
            <a:off x="4211280" y="1916280"/>
            <a:ext cx="431640" cy="2887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>
            <a:off x="4284720" y="5084640"/>
            <a:ext cx="14292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1"/>
          <p:cNvSpPr/>
          <p:nvPr/>
        </p:nvSpPr>
        <p:spPr>
          <a:xfrm>
            <a:off x="7596360" y="4221000"/>
            <a:ext cx="14436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ПАССАЖИРОВ ПРИ НЕИЗБЕЖНОСТИ ДОРОЖНО - ТРАНСПОРТНОГО ПРОИСШЕ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1341360"/>
          <a:ext cx="8424720" cy="5237280"/>
        </p:xfrm>
        <a:graphic>
          <a:graphicData uri="http://schemas.openxmlformats.org/drawingml/2006/table">
            <a:tbl>
              <a:tblPr/>
              <a:tblGrid>
                <a:gridCol w="1522440"/>
                <a:gridCol w="1501560"/>
                <a:gridCol w="503280"/>
                <a:gridCol w="48974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ДТ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 пассаж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 защ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бовое столкнов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ами упереться в переднюю панел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ереться плечом в спинку переднего си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овое столкнов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бородок прижать к груди, а руками защитить голов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ами схватиться за переднее сид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ий у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о обхватить затылок руками.              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кользнуть вниз, уперевшись головой в спинку си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о обхватить затылок руками.              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кользнуть вниз, уперевшись головой в спинку си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окиды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кладет голову на колени другому, а тот накрывает собой перво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кладет голову на колени другому, а тот накрывает собой перво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110"/>
          <p:cNvSpPr/>
          <p:nvPr/>
        </p:nvSpPr>
        <p:spPr>
          <a:xfrm>
            <a:off x="-5505840" y="90360"/>
            <a:ext cx="2015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й урок будет интересен учителям, активно применяющим в своей работе технологии КСО, различные методы мотивации и стимулирования деятельности учащихся. Урок показывает, каким образом можно реализовать интерактивные методы и приемы обучения в рамках предмета ОБ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ллюст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Энциклопедия Аванта+ «Личная безопасность», 200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Тетрадь по ПДД, 1-4 класс. Издательство «Просвещение», 201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Личные рисунки ав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2"/>
          <p:cNvSpPr/>
          <p:nvPr/>
        </p:nvSpPr>
        <p:spPr>
          <a:xfrm>
            <a:off x="5796000" y="4724280"/>
            <a:ext cx="302400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ЫЕ ТЕРМ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68360" y="1989000"/>
            <a:ext cx="151272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ссаж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156360" y="1197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79640" y="1773360"/>
            <a:ext cx="302436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цо, кроме водителя, находящееся в транспортном средстве, а также лицо, которое входит или выходит из транспортного сре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2124000" y="213372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5076720" y="2205000"/>
            <a:ext cx="432000" cy="289080"/>
          </a:xfrm>
          <a:prstGeom prst="rightArrow">
            <a:avLst>
              <a:gd name="adj1" fmla="val 50000"/>
              <a:gd name="adj2" fmla="val 373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611280" y="4797360"/>
            <a:ext cx="165708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нспор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5867280" y="4724280"/>
            <a:ext cx="288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тройство, предназначенное для перевозки по дорогам  людей, грузов или оборудования, установленного на н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1"/>
          <a:stretch/>
        </p:blipFill>
        <p:spPr>
          <a:xfrm>
            <a:off x="2771640" y="4508640"/>
            <a:ext cx="2454480" cy="15141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9"/>
          <p:cNvSpPr/>
          <p:nvPr/>
        </p:nvSpPr>
        <p:spPr>
          <a:xfrm>
            <a:off x="5292720" y="522936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2340000" y="522936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1" descr=""/>
          <p:cNvPicPr/>
          <p:nvPr/>
        </p:nvPicPr>
        <p:blipFill>
          <a:blip r:embed="rId2"/>
          <a:stretch/>
        </p:blipFill>
        <p:spPr>
          <a:xfrm>
            <a:off x="2700360" y="1700280"/>
            <a:ext cx="23050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95280" y="692280"/>
            <a:ext cx="158436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лоси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227280" y="620640"/>
            <a:ext cx="2449800" cy="93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анспортное средство, приводимое в движение мускульной силой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95280" y="2708280"/>
            <a:ext cx="1584360" cy="64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то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372360" y="2349360"/>
            <a:ext cx="230328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1"/>
          <a:stretch/>
        </p:blipFill>
        <p:spPr>
          <a:xfrm>
            <a:off x="2987640" y="404640"/>
            <a:ext cx="2089080" cy="1420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3"/>
          <p:cNvSpPr/>
          <p:nvPr/>
        </p:nvSpPr>
        <p:spPr>
          <a:xfrm>
            <a:off x="6372360" y="2349360"/>
            <a:ext cx="237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вухколесное механическое транспортное средство с боковым прицепом или без н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2916360" y="2349360"/>
            <a:ext cx="2449440" cy="1530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5"/>
          <p:cNvSpPr/>
          <p:nvPr/>
        </p:nvSpPr>
        <p:spPr>
          <a:xfrm>
            <a:off x="250920" y="4941720"/>
            <a:ext cx="1944720" cy="938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ож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сше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5796000" y="4508640"/>
            <a:ext cx="2952720" cy="172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5796000" y="4581360"/>
            <a:ext cx="3024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бытие, возникшее в процессе движения по дороге транспортного средства и с его участием, при котором погибли или ранены люди, а также повреждены сами транспортные сре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9" descr="Мерседес-Бенц"/>
          <p:cNvPicPr/>
          <p:nvPr/>
        </p:nvPicPr>
        <p:blipFill>
          <a:blip r:embed="rId3"/>
          <a:stretch/>
        </p:blipFill>
        <p:spPr>
          <a:xfrm>
            <a:off x="3059280" y="4508640"/>
            <a:ext cx="2233440" cy="16920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20"/>
          <p:cNvSpPr/>
          <p:nvPr/>
        </p:nvSpPr>
        <p:spPr>
          <a:xfrm>
            <a:off x="2124000" y="98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1"/>
          <p:cNvSpPr/>
          <p:nvPr/>
        </p:nvSpPr>
        <p:spPr>
          <a:xfrm>
            <a:off x="5435640" y="98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2"/>
          <p:cNvSpPr/>
          <p:nvPr/>
        </p:nvSpPr>
        <p:spPr>
          <a:xfrm>
            <a:off x="5651640" y="285264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3"/>
          <p:cNvSpPr/>
          <p:nvPr/>
        </p:nvSpPr>
        <p:spPr>
          <a:xfrm>
            <a:off x="2195640" y="292428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4"/>
          <p:cNvSpPr/>
          <p:nvPr/>
        </p:nvSpPr>
        <p:spPr>
          <a:xfrm>
            <a:off x="5364000" y="522936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5"/>
          <p:cNvSpPr/>
          <p:nvPr/>
        </p:nvSpPr>
        <p:spPr>
          <a:xfrm>
            <a:off x="2411280" y="530064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4"/>
          <p:cNvSpPr/>
          <p:nvPr/>
        </p:nvSpPr>
        <p:spPr>
          <a:xfrm>
            <a:off x="4140360" y="4292640"/>
            <a:ext cx="485640" cy="718920"/>
          </a:xfrm>
          <a:prstGeom prst="upArrow">
            <a:avLst>
              <a:gd name="adj1" fmla="val 50000"/>
              <a:gd name="adj2" fmla="val 3700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11280" y="52293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диться в автомобиль и выходить из него можно только со стороны проезжей части или обочины и обязательно после его полной остан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AGE0002"/>
          <p:cNvPicPr/>
          <p:nvPr/>
        </p:nvPicPr>
        <p:blipFill>
          <a:blip r:embed="rId1"/>
          <a:stretch/>
        </p:blipFill>
        <p:spPr>
          <a:xfrm>
            <a:off x="1476360" y="836640"/>
            <a:ext cx="6191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4"/>
          <p:cNvSpPr/>
          <p:nvPr/>
        </p:nvSpPr>
        <p:spPr>
          <a:xfrm>
            <a:off x="4211640" y="4581360"/>
            <a:ext cx="485640" cy="4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403280" y="189000"/>
            <a:ext cx="6048360" cy="4319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826920" y="5157720"/>
            <a:ext cx="7777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мотоцикле тем, кому еще нет 12 лет разрешено ехать только в коляске, и лишь после 12 лет – на заднем сидении за водителем. Причем пассажиров не должно быть сверх мест, предназначенных для их перевозки. В любом случае – наденьте на голову мотош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4"/>
          <p:cNvSpPr/>
          <p:nvPr/>
        </p:nvSpPr>
        <p:spPr>
          <a:xfrm>
            <a:off x="2195640" y="1197000"/>
            <a:ext cx="485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7380360" y="4941720"/>
            <a:ext cx="485640" cy="400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84360" y="1844640"/>
            <a:ext cx="3671640" cy="2343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716360" y="2060640"/>
            <a:ext cx="3529080" cy="26794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9"/>
          <p:cNvSpPr/>
          <p:nvPr/>
        </p:nvSpPr>
        <p:spPr>
          <a:xfrm>
            <a:off x="826920" y="333360"/>
            <a:ext cx="749016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 12 – летнего возраста в легковом автомобиле ваше место на заднем сид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1258920" y="5661000"/>
            <a:ext cx="7416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лишь с 12 лет можно располагаться рядом с водителем, но при этом обязательно пристегнуться ремнем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РОНОЛОГИЯ ПОСЛЕДСТВИЙ ДТП ДЛЯ ВОДИТЕЛЯ И ПАССАЖИ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263600"/>
          <a:ext cx="7920000" cy="4546800"/>
        </p:xfrm>
        <a:graphic>
          <a:graphicData uri="http://schemas.openxmlformats.org/drawingml/2006/table">
            <a:tbl>
              <a:tblPr/>
              <a:tblGrid>
                <a:gridCol w="2521080"/>
                <a:gridCol w="5398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ОТ МОМЕНТА СТОЛКНОВ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26 секу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давливается бампер до линии передних си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ассажиры со скоростью 80 км/ч продолжают движение в сало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39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вместе с передним сидением передвигается вперед на 15 с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44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н грудной клеткой ломает ру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50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 всех пассажиров начинает действовать сила, в 80 раз превышающая их собственный ве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68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с силой в 9 тонн ударяется о приборный щито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92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и сидящий рядом пассажир врезаются головами в переднее ветровое стекло и получают смертельные повреждения чере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1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висший на руле водитель отбрасывается назад, он уже мер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11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втомобиль начинает откатываться наз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 113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идящий за рулем водитель сталкивается с пассажиром сзади, нанося ему смертельные пов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ЕЕ ЧЕМ ЗА 0,2 СЕКУНДЫ ВСЕ ОКОНЧ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68360" y="836640"/>
          <a:ext cx="8229600" cy="476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движения автомобиля при столкновен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вмы, аналогичные падению с выс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м (одноэтажное здани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 (семиэтажное здани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пределение элементов оборудования автомобиля по частоте причиняемых ими травм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496800" y="1643040"/>
          <a:ext cx="404820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643040"/>
                    <a:ext cx="404820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5"/>
          <p:cNvGraphicFramePr/>
          <p:nvPr/>
        </p:nvGraphicFramePr>
        <p:xfrm>
          <a:off x="4653000" y="1687680"/>
          <a:ext cx="4025880" cy="47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3000" y="1687680"/>
                    <a:ext cx="402588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AutoShape 6"/>
          <p:cNvSpPr/>
          <p:nvPr/>
        </p:nvSpPr>
        <p:spPr>
          <a:xfrm>
            <a:off x="4140360" y="1773360"/>
            <a:ext cx="1368360" cy="504720"/>
          </a:xfrm>
          <a:prstGeom prst="leftRightArrow">
            <a:avLst>
              <a:gd name="adj1" fmla="val 50000"/>
              <a:gd name="adj2" fmla="val 5397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1:15:51Z</dcterms:created>
  <dc:creator>Елисеева Анна Анатольевна</dc:creator>
  <dc:description/>
  <dc:language>en-US</dc:language>
  <cp:lastModifiedBy>КарМаН</cp:lastModifiedBy>
  <dcterms:modified xsi:type="dcterms:W3CDTF">2012-03-02T12:18:47Z</dcterms:modified>
  <cp:revision>13</cp:revision>
  <dc:subject/>
  <dc:title>Слайд 1</dc:title>
</cp:coreProperties>
</file>