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5567-5CE8-4D74-AFE6-26C9DFCB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68B1-1E91-4EED-BD27-78F96247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BC0D-C857-434F-97B6-6D4CCE84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A867-C755-4910-85B4-5BC3BD56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E164-487F-4EFC-AAA5-BE0B3F77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3E85-0905-4C00-8DB9-4725C296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A459-650E-4288-996B-72A7F9C8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6918-8295-47E3-A292-DDC22D98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9D04-4201-4FF0-AFC1-5287A52C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AE4C-D282-4E68-9714-4743B5DA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C74A-A076-4A0A-8494-45D2C319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63DD-8D01-4F67-BC18-9034326B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B010-E3AA-40DD-BADC-BD91974C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94DF-0F5B-4297-8E9F-9AF78593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78CD-4CFA-488B-9AE2-97D47C37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1593-305F-4B49-84B5-6740B9FF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FB0A-F851-4CC5-BEF1-B00BA155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AE60-1254-45BE-BA4D-6987B51D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68B3-1FA3-4ECD-B80C-C3543BE7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AD9-9E41-4646-8556-E5B567DD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C8CB-979C-4965-B0D9-B9392ED9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7C4D-BCD0-4DC8-96F0-DE1A200D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6BD4-C54E-4332-9BF2-77447427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A3ED-856B-4378-9ACD-8BCD7F69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C707-C435-4FE0-B6D1-0663972F7EE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3ABA-1FCD-4777-A761-2CC32EB82C6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ФОРТЕПИАН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493740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В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XIX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веке сложились два основных вида фортепиано: горизонтальный – рояль с корпусов в форме крыла и вертикальный пианино (в переводе с итальянского маленькое пиано)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Рояль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– концертный инструмент. Благодаря мощному звуку его можно использовать в больших помещениях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91080" cy="4172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ОЯЛ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Фортепиано – клавишно-струнный инструмент, в котором клавиша приводит в движение молоточек, ударяющий по соответствующей струне.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Первые упоминания о подобных инструментах относятся к временам Древней Греции.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636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В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XII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веке возник клавикорд – деревянный ящик сначала с одной, а потом с несколькими клавиатурами. Почти одновременно с клавикордом появился клавесин, в нем звук извлекался не ударом, а щипком: клавиша приводила в движение упругие язычки, которые зацепляли струну.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2577960" cy="3716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256360" y="2349360"/>
            <a:ext cx="3887640" cy="4508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14760" cy="39337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ЛАВЕСИ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3640" y="27810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В 1711 году в итальянском городе Падуе клавесинный мастер Бартоломео Кристофори изобрел совершенно новый инструмент. Звук в нем извлекался деревянными молоточками с обитыми упругим материалом головками. Теперь исполнитель мог играть громче или тише, отсюда и название инструмента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фортепиано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forte –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громко,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piano –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тихо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541840" y="3576600"/>
            <a:ext cx="3602160" cy="3281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08360" cy="3708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2936880" cy="24955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ИАНИН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81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Очень важной деталью фортепиано является войлочная подушечка-глушитель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демпфер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), отскакивающая от струн в момент, когда по ним ударял молоточек. Если бы демпфер не от ходил от струн, звук был бы глухим и коротким. А если бы глушителя вовсе не было, струны колебались бы гораздо дольше, чем нужно, и вместо музыки слышался бы сплошной гул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04:21:08Z</dcterms:created>
  <dc:creator>Admin</dc:creator>
  <dc:description/>
  <dc:language>en-US</dc:language>
  <cp:lastModifiedBy>Admin</cp:lastModifiedBy>
  <dcterms:modified xsi:type="dcterms:W3CDTF">2010-09-27T05:01:24Z</dcterms:modified>
  <cp:revision>2</cp:revision>
  <dc:subject/>
  <dc:title>ФОРТЕПИАНО</dc:title>
</cp:coreProperties>
</file>