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EE51-0B1D-41B0-83DA-DD7C3E26E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C044-21AB-4B99-AD02-97F336514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FB79-ABC7-4904-B651-53D4308E1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A77D-7136-428A-8C14-5D5F0775E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0ADD1-5156-413C-A065-92D803DEA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230B9-6D4F-4860-8E06-7C4121DAC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F5A66-22CD-43B4-8913-AF2228343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E20BF-6E3B-44AC-9EED-375F9D803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7A8DA-FDC3-4720-8907-9DE2A7962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4F768-4196-4CF2-80C5-2E49F3992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57295-7EFC-4337-810B-48CF7232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16FC-80D9-4A91-8589-D22DBFE99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821F0-D541-4EF2-8C12-314EAE29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B905E-C1A4-4179-888F-3B2A5B56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132DB-703A-4916-A2C1-03CCCD087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6B1D2-EE5A-456D-BA20-B563C416A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03E62-2F5D-41CE-AC79-6D7E12A20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59D1-F95A-404A-9FC6-B9065D0CF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0D20-649A-4B58-86EE-BBCD06A20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269B-EEE3-4973-B933-CEE8A470C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F233-1584-4295-B2F5-798D7B516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65A9-E9EA-4114-8B75-78E04AB2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2D9D-D24F-4F29-B981-F29B4C46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59D4-4E27-40FE-B99C-8E332ED8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AC6BF-9447-472E-83C3-338F657CC050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A734D-EBAA-453F-B30F-2B67B7AD1150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ФОРТЕПИАНО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908000" y="1700280"/>
            <a:ext cx="4937400" cy="49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9280" y="26366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В 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XIX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веке сложились два основных вида фортепиано: горизонтальный – рояль с корпусов в форме крыла и вертикальный пианино (в переводе с итальянского маленькое пиано).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Рояль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– концертный инструмент. Благодаря мощному звуку его можно использовать в больших помещениях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91080" cy="4172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4572000" y="228600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РОЯЛЬ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24206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Фортепиано – клавишно-струнный инструмент, в котором клавиша приводит в движение молоточек, ударяющий по соответствующей струне.</a:t>
            </a:r>
            <a:br>
              <a:rPr sz="36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Первые упоминания о подобных инструментах относятся к временам Древней Греции.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26366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В 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XII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веке возник клавикорд – деревянный ящик сначала с одной, а потом с несколькими клавиатурами. Почти одновременно с клавикордом появился клавесин, в нем звук извлекался не ударом, а щипком: клавиша приводила в движение упругие язычки, которые зацепляли струну.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700360" y="1413000"/>
            <a:ext cx="2577960" cy="37162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5256360" y="2349360"/>
            <a:ext cx="3887640" cy="45086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714760" cy="393372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КЛАВЕСИН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3640" y="27810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В 1711 году в итальянском городе Падуе клавесинный мастер Бартоломео Кристофори изобрел совершенно новый инструмент. Звук в нем извлекался деревянными молоточками с обитыми упругим материалом головками. Теперь исполнитель мог играть громче или тише, отсюда и название инструмента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фортепиано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(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forte – 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громко, 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piano – 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тихо)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5541840" y="3576600"/>
            <a:ext cx="3602160" cy="32814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708360" cy="37083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987640" y="2492280"/>
            <a:ext cx="2936880" cy="249552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ПИАНИНО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27810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Очень важной деталью фортепиано является войлочная подушечка-глушитель (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демпфер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), отскакивающая от струн в момент, когда по ним ударял молоточек. Если бы демпфер не от ходил от струн, звук был бы глухим и коротким. А если бы глушителя вовсе не было, струны колебались бы гораздо дольше, чем нужно, и вместо музыки слышался бы сплошной гул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04:21:08Z</dcterms:created>
  <dc:creator>Admin</dc:creator>
  <dc:description/>
  <dc:language>en-US</dc:language>
  <cp:lastModifiedBy>Admin</cp:lastModifiedBy>
  <dcterms:modified xsi:type="dcterms:W3CDTF">2010-09-27T05:01:24Z</dcterms:modified>
  <cp:revision>2</cp:revision>
  <dc:subject/>
  <dc:title>ФОРТЕПИАНО</dc:title>
</cp:coreProperties>
</file>