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4F9-B33D-42D8-816F-A164E5BE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858-79DB-4687-A77E-CC94C5C3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935-9372-4F75-9FE3-3529F133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4DE-B481-46EA-A339-4B78E199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C5BA-B175-4B75-B6A3-356624F9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47A1-3337-48DD-88EB-02080D0D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A636-95DD-4615-BA59-2DA9819D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B965-4FE9-4DF1-B6CE-4E51E489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F40E-2908-4D13-9089-F8C3B8F0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7F23-81BA-4852-AEDE-9ADDA5E0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6C86-14A1-4226-B63C-B8EE16B8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DD1-52C5-4196-9FE0-A077DFB0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76EB-F76A-41E7-A541-99DFD699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E5A7-CCB2-4BD9-B0ED-A73B2334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1EA4-F9A6-4693-8C44-611FD949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93FA-9138-4659-984E-4208DA52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17B5-28C6-42FA-9396-95417D53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B0E-D5F5-4403-9185-A2277C9D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AD8-DA51-4260-ABCE-5BBC8475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B2B-B592-4A19-95A3-E0B3ABAE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53E-911E-4825-A473-2366E42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1A6-50E4-4866-991B-0484995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6FF-FE7F-44A8-8133-66FAD8A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6EF-5348-4391-A81E-DFE0CCB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7AE8-D2B3-4558-9ACF-1DA623E2FB1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008C-AC7D-4732-97E6-2C5E816A00D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РТЕПИАН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9374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X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еке сложились два основных вида фортепиано: горизонтальный – рояль с корпусов в форме крыла и вертикальный пианино (в переводе с итальянского маленькое пиано)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ояль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– концертный инструмент. Благодаря мощному звуку его можно использовать в больших помещениях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1080" cy="4172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ОЯ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Фортепиано – клавишно-струнный инструмент, в котором клавиша приводит в движение молоточек, ударяющий по соответствующей струне.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ервые упоминания о подобных инструментах относятся к временам Древней Греции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XII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веке возник клавикорд – деревянный ящик сначала с одной, а потом с несколькими клавиатурами. Почти одновременно с клавикордом появился клавесин, в нем звук извлекался не ударом, а щипком: клавиша приводила в движение упругие язычки, которые зацепляли струну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2577960" cy="3716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256360" y="2349360"/>
            <a:ext cx="3887640" cy="4508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14760" cy="3933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ЛАВЕСИ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3640" y="27810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1711 году в итальянском городе Падуе клавесинный мастер Бартоломео Кристофори изобрел совершенно новый инструмент. Звук в нем извлекался деревянными молоточками с обитыми упругим материалом головками. Теперь исполнитель мог играть громче или тише, отсюда и название инструмент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ортепиано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forte –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громко,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piano –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ихо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41840" y="3576600"/>
            <a:ext cx="3602160" cy="3281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08360" cy="3708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2936880" cy="2495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ИАНИН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Очень важной деталью фортепиано является войлочная подушечка-глушитель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мпфер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), отскакивающая от струн в момент, когда по ним ударял молоточек. Если бы демпфер не от ходил от струн, звук был бы глухим и коротким. А если бы глушителя вовсе не было, струны колебались бы гораздо дольше, чем нужно, и вместо музыки слышался бы сплошной гу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4:21:08Z</dcterms:created>
  <dc:creator>Admin</dc:creator>
  <dc:description/>
  <dc:language>en-US</dc:language>
  <cp:lastModifiedBy>Admin</cp:lastModifiedBy>
  <dcterms:modified xsi:type="dcterms:W3CDTF">2010-09-27T05:01:24Z</dcterms:modified>
  <cp:revision>2</cp:revision>
  <dc:subject/>
  <dc:title>ФОРТЕПИАНО</dc:title>
</cp:coreProperties>
</file>