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D07-199B-4A44-8AA6-61A73991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BAD-2685-46FB-B43C-5B99BEF1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154-0C53-4E94-99F6-DFD1CAF3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A11-83AC-42F4-BE3B-9F5D04B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14DB-DF17-4DAA-B5A2-ACF614FA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D08-DE13-4975-A113-29FD8BFD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2E9E-D845-435C-918C-E4FD080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62B1-6713-45E9-B92F-7C73B343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6F34-16C7-4802-A481-21AFAAD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2CE2-000C-492C-AD8D-E58F44F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E5B-30EA-4EA6-BB9A-A5547FF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0A5-1694-467E-BA7E-04557529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5922-C353-430B-B006-B886C9C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C62-7D9C-42AB-BF54-D8EECE6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82F-0F18-4030-873C-391296E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4A49-74B6-4AD9-B811-4AA9EFDA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7E6-CE46-4AD6-91D9-6ACFB109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018-DF65-450B-BB15-429D054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A0B-F07A-4A48-A26D-7D805AD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8C3-ACDA-44CF-99FA-30CC5F5D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AFF-E5AA-4596-97CF-2ECCFB03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1B2-66B3-40FA-8FB0-CD575395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39E-EAE8-4E7D-B7E3-0A2DD44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CA4-A3DD-40F8-805D-0E046A5C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BA36-E602-4D9C-B651-5F5A9991B9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ffc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a58"/>
                  </a:gs>
                  <a:gs pos="100000">
                    <a:srgbClr val="ffcc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82F-984F-47C4-9358-EA9A0DE63EA1}" type="slidenum"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 Black"/>
              </a:rPr>
              <a:t>Как сохранить здоровье ребенка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740320" y="3357720"/>
            <a:ext cx="5918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Хорошее здоровье, ощущение полноты,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неистощимости физических сил –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ажнейшим источником жизнерадостного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ировосприятия, оптимизма, готовности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преодолеть любые трудност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Больной, хилый, предрасположенны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к заболеваниям ребенок –   источник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многочисленных невзгод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ff99"/>
                </a:solidFill>
                <a:latin typeface="Verdana"/>
              </a:rPr>
              <a:t>В.А. Сухомлинский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5"/>
          <p:cNvSpPr/>
          <p:nvPr/>
        </p:nvSpPr>
        <p:spPr>
          <a:xfrm>
            <a:off x="2340000" y="260280"/>
            <a:ext cx="5113440" cy="459720"/>
          </a:xfrm>
          <a:prstGeom prst="rect">
            <a:avLst/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Verdana"/>
              </a:rPr>
              <a:t>Причины «антиздоровья»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79280" y="907920"/>
            <a:ext cx="3600720" cy="642600"/>
          </a:xfrm>
          <a:prstGeom prst="rect">
            <a:avLst/>
          </a:prstGeom>
          <a:solidFill>
            <a:srgbClr val="ffccff">
              <a:alpha val="7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Низкая двигательная активность учащихся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900000" y="1700280"/>
            <a:ext cx="3456000" cy="642600"/>
          </a:xfrm>
          <a:prstGeom prst="rect">
            <a:avLst/>
          </a:prstGeom>
          <a:solidFill>
            <a:srgbClr val="ffccff">
              <a:alpha val="59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егативное отношение  к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урокам физкультур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547640" y="2421000"/>
            <a:ext cx="3672000" cy="642600"/>
          </a:xfrm>
          <a:prstGeom prst="rect">
            <a:avLst/>
          </a:prstGeom>
          <a:solidFill>
            <a:srgbClr val="ffccff">
              <a:alpha val="58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Verdana"/>
              </a:rPr>
              <a:t>Игнорирование занятие спортом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4" name="Text Box 36"/>
          <p:cNvSpPr/>
          <p:nvPr/>
        </p:nvSpPr>
        <p:spPr>
          <a:xfrm>
            <a:off x="2195640" y="3141720"/>
            <a:ext cx="3960720" cy="642600"/>
          </a:xfrm>
          <a:prstGeom prst="rect">
            <a:avLst/>
          </a:prstGeom>
          <a:solidFill>
            <a:srgbClr val="ffccff">
              <a:alpha val="52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ерегруженность домашними заданиями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5" name="Text Box 37"/>
          <p:cNvSpPr/>
          <p:nvPr/>
        </p:nvSpPr>
        <p:spPr>
          <a:xfrm>
            <a:off x="4140360" y="4292640"/>
            <a:ext cx="3960720" cy="642600"/>
          </a:xfrm>
          <a:prstGeom prst="rect">
            <a:avLst/>
          </a:prstGeom>
          <a:solidFill>
            <a:srgbClr val="ffccff">
              <a:alpha val="53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Компьютер, телевизор, сотовые телефоны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Text Box 38"/>
          <p:cNvSpPr/>
          <p:nvPr/>
        </p:nvSpPr>
        <p:spPr>
          <a:xfrm>
            <a:off x="3203640" y="3860640"/>
            <a:ext cx="3743280" cy="368280"/>
          </a:xfrm>
          <a:prstGeom prst="rect">
            <a:avLst/>
          </a:prstGeom>
          <a:solidFill>
            <a:srgbClr val="ffccff">
              <a:alpha val="51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Verdana"/>
              </a:rPr>
              <a:t>Неполноценное питание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4859280" y="5013360"/>
            <a:ext cx="3960720" cy="642600"/>
          </a:xfrm>
          <a:prstGeom prst="rect">
            <a:avLst/>
          </a:prstGeom>
          <a:solidFill>
            <a:srgbClr val="ffccff">
              <a:alpha val="57000"/>
            </a:srgbClr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33"/>
                </a:solidFill>
                <a:latin typeface="Verdana"/>
              </a:rPr>
              <a:t>Неэффективная диспансеризация детей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8" name="Line 41"/>
          <p:cNvSpPr/>
          <p:nvPr/>
        </p:nvSpPr>
        <p:spPr>
          <a:xfrm flipH="1">
            <a:off x="1402920" y="476280"/>
            <a:ext cx="865080" cy="431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451640" y="476280"/>
            <a:ext cx="792360" cy="360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0" name="Line 43"/>
          <p:cNvSpPr/>
          <p:nvPr/>
        </p:nvSpPr>
        <p:spPr>
          <a:xfrm>
            <a:off x="4067280" y="76500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Line 44"/>
          <p:cNvSpPr/>
          <p:nvPr/>
        </p:nvSpPr>
        <p:spPr>
          <a:xfrm>
            <a:off x="4716360" y="765000"/>
            <a:ext cx="0" cy="158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2" name="Line 46"/>
          <p:cNvSpPr/>
          <p:nvPr/>
        </p:nvSpPr>
        <p:spPr>
          <a:xfrm>
            <a:off x="6084720" y="765000"/>
            <a:ext cx="287640" cy="3024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3" name="Line 45"/>
          <p:cNvSpPr/>
          <p:nvPr/>
        </p:nvSpPr>
        <p:spPr>
          <a:xfrm>
            <a:off x="5435640" y="765000"/>
            <a:ext cx="0" cy="2376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Line 47"/>
          <p:cNvSpPr/>
          <p:nvPr/>
        </p:nvSpPr>
        <p:spPr>
          <a:xfrm>
            <a:off x="6588000" y="765000"/>
            <a:ext cx="863640" cy="3456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7164360" y="765000"/>
            <a:ext cx="1440000" cy="4104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Text Box 33"/>
          <p:cNvSpPr/>
          <p:nvPr/>
        </p:nvSpPr>
        <p:spPr>
          <a:xfrm>
            <a:off x="5580000" y="907920"/>
            <a:ext cx="3384720" cy="1608480"/>
          </a:xfrm>
          <a:prstGeom prst="rect">
            <a:avLst/>
          </a:prstGeom>
          <a:solidFill>
            <a:srgbClr val="ffccff"/>
          </a:solidFill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редные привычки (курение, токсикомания, алкоголь, наркотики, переедания)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ризнаки слабого физического здоровья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ервные потряс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трессы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Головные боли, боли в животе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Плохое настроение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Шум в ушах, повышение  кровяного давлен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онливость, раздражительность, злость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-360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Апатия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в результате чего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уход «в себя»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нежелание трудиться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-  отсутствие желания учиться (большое  количество плохих оценок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Факты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445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Минимальная норма количества шагов за день для человека-10000 шагов. Современный человек с натяжкой делает половину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12-13 ЛЕТ ПОВЫШАЕТЬСЯ ДАВЛЕНИЕ ДО 130/80 ММ.Р.СТ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Если родители имепют избыточный вес  - 60-80% детей имеют его тож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Школьник должен делать ежедневно 23-30 000 шаг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Дети разведенных родителей  чаща болеют гипертони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51% детей вообще не бывают на улице по возвращению из школы; 73% школьников не делают перерывов между приготовлениями уроков.30-40% детей имеют избыточный вес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Verdana"/>
              </a:rPr>
              <a:t>Частота пульса на 20 % выше  у людей, не занимающихся спортом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то делать для укрепления здоровья детей?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одителям предлагается следить за своим здоровьем, за своей физической формо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надо заставлять заниматься сортом и физкультурой по принуждению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вести в образ жизни полезные привычки; зарядку, вечерние пешие прогулки, активный отдых во время каникул, выходные дни на природе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Изыскивать средства на платные кружки и секции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е жалеть средств на приобретение спортивного инвентаря дома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Отказаться от курения и застольных праздников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Радуйтесь успехам в спорте своего ребенка и его друзей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а самом видном  месте в доме помещайте награды за спортивные достижения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оддерживайте своего ребенка в случае неудач, закаляйте его волю и характер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сего опрошенных 43 человека: 20 человек -5 класс,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23 человека-6 класс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опросы анкеты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анимаешься ли ты спортом? Каким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ты хотел бы занимат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равятся ли тебе уроки физкультуры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 ты считаешь, что может причинить вред твоему здоровью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Занимаешься ли ты спортом? Каким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</a:t>
            </a: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да» - 18 человек, «нет» -26 человек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аким видом спорта занимаешься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Хоккей- 7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Гимнастика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Лыжи -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амбо –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Футбол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Каким видом спорта ты хотел бы заниматься?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Лыжи -12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лавание -1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Баскет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олейбол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Теннис – 8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рельба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оньки – 2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Гимнастика – 1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Никаким – 6 человек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Нравятся ли тебе уроки физкультуры?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07760" y="907560"/>
            <a:ext cx="84358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«да» -40 человек , «нет» - 3 человека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5280" y="206064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5280" y="1773360"/>
            <a:ext cx="81374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Verdana"/>
              </a:rPr>
              <a:t>Каким образом дома ты стараешься укреплять здоровье?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Катаюсь на лыжах -16чел.; гуляю на свежем воздухе – 26 чел.; чищу зубы, умываюсь – 12 чел.;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Чищу снег -1 чел.; хожу за водой -1 чел.; танцую - чел.; закаляюсь в ванной -1 чел.; отжимаюсь, пью  лекарства -1 чел.;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поднимаю гантели -1 чел.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Зимние холода - 3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урение -2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Вино – 1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Наркотики -5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ухарики, чипсы, жевательная резинка - 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ыль - 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мпьютер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ть холодную воду – 2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отовый телефон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Пища с консервантами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Кока – кола – 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99"/>
                </a:solidFill>
                <a:latin typeface="Verdana"/>
              </a:rPr>
              <a:t>Сидеть дома -1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 ты считаешь, что может причинить вред твоему здоровью?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3130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Цель собрания -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953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укреплять здоровье</a:t>
            </a:r>
            <a:br>
              <a:rPr sz="4000"/>
            </a:br>
            <a:r>
              <a:rPr b="1" lang="ru-RU" sz="4000" spc="-1" strike="noStrike">
                <a:solidFill>
                  <a:srgbClr val="00ff99"/>
                </a:solidFill>
                <a:latin typeface="Verdana"/>
              </a:rPr>
              <a:t>ребенка в семье и школе.</a:t>
            </a:r>
            <a:endParaRPr b="0" lang="en-US" sz="40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Выявить основные причины губительного воздействия на здоровье учащихс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Показать огромное значение занятия физкультурой и спортом при переходе ребенка на среднюю ступень обучения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планировать совместную деятельность родителей и учащихся по формированию здорового образа жизн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Отношение семьи и ребенка к физкультур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Спортивные кружки и секции в школе,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ff99"/>
                </a:solidFill>
                <a:latin typeface="Verdana"/>
              </a:rPr>
              <a:t>степень эффективности.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Питание учащихся в школе.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Режим дня ребенка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Verdana"/>
              </a:rPr>
              <a:t>Двигательная активность учащихся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7:01:26Z</dcterms:created>
  <dc:creator>Hi</dc:creator>
  <dc:description/>
  <dc:language>en-US</dc:language>
  <cp:lastModifiedBy>ZooM</cp:lastModifiedBy>
  <dcterms:modified xsi:type="dcterms:W3CDTF">2013-12-03T20:53:25Z</dcterms:modified>
  <cp:revision>7</cp:revision>
  <dc:subject/>
  <dc:title>Как сохранить здоровье ребенка?</dc:title>
</cp:coreProperties>
</file>