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9F5-7338-488F-B744-0C53F63A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3D2-8DE0-4C1E-A0C2-55E170DE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25B4-B488-4D43-9C15-60865399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0C6-8610-42DC-BC56-961ED914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AD1C-72B1-4747-A992-7F2150A4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D26E-8CC3-48E4-B5A0-CAB40689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9D9A-76BA-435E-94BE-991EB2CB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A2E6-B492-44D4-9986-EBAE3788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096C-90EC-4ADF-901E-C12BD75D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F9BB-EAC5-4285-8CB2-6BCBC2A4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E0ED-81F3-49CE-B5D9-C5509BBF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80A-F69D-4B53-9D6D-23D5FD97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133E-6E9C-4AE6-B9DD-D3676EB8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11FD-62F0-4F42-9200-C537D49A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A77B-5FB8-4F89-9D1D-96AF087E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1E99-FBF8-4B0B-8478-7660AB42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8242-46E1-414E-A726-7BD9024C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020-91E2-435B-B4D2-3B46096B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21C-2C06-4EEE-A9C6-7F906098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905-15F8-4C1A-A334-7F7A38BD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C83-4F92-4ABE-84B0-20A23DAF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13B-E83A-4AA2-A004-9802BAB9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BA7-6BBC-48BE-824F-E48C3F89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792-D953-40DA-A14B-B8059FD2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5000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F871-8E14-4356-97C8-FF41A9E921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5000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DF38-B90F-48AF-8368-05552137B678}" type="slidenum">
              <a:rPr b="0" lang="ru-RU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Как сохранить здоровье ребенка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740320" y="3357720"/>
            <a:ext cx="5918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Хорошее здоровье, ощущение полноты,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неистощимости физических сил –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важнейшим источником жизнерадостного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мировосприятия, оптимизма, готовности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преодолеть любые трудности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Больной, хилый, предрасположенный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к заболеваниям ребенок –   источник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многочисленных невзгод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                                  </a:t>
            </a: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В.А. Сухомлинский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5"/>
          <p:cNvSpPr/>
          <p:nvPr/>
        </p:nvSpPr>
        <p:spPr>
          <a:xfrm>
            <a:off x="2340000" y="260280"/>
            <a:ext cx="5113440" cy="459720"/>
          </a:xfrm>
          <a:prstGeom prst="rect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Verdana"/>
              </a:rPr>
              <a:t>Причины «антиздоровья»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179280" y="907920"/>
            <a:ext cx="3600720" cy="642600"/>
          </a:xfrm>
          <a:prstGeom prst="rect">
            <a:avLst/>
          </a:prstGeom>
          <a:solidFill>
            <a:srgbClr val="ffccff">
              <a:alpha val="72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Низкая двигательная активность учащихся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900000" y="1700280"/>
            <a:ext cx="3456000" cy="642600"/>
          </a:xfrm>
          <a:prstGeom prst="rect">
            <a:avLst/>
          </a:prstGeom>
          <a:solidFill>
            <a:srgbClr val="ffccff">
              <a:alpha val="59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Негативное отношение  к</a:t>
            </a: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урокам физкультуры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1547640" y="2421000"/>
            <a:ext cx="3672000" cy="642600"/>
          </a:xfrm>
          <a:prstGeom prst="rect">
            <a:avLst/>
          </a:prstGeom>
          <a:solidFill>
            <a:srgbClr val="ffccff">
              <a:alpha val="58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Игнорирование занятие спортом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2195640" y="3141720"/>
            <a:ext cx="3960720" cy="642600"/>
          </a:xfrm>
          <a:prstGeom prst="rect">
            <a:avLst/>
          </a:prstGeom>
          <a:solidFill>
            <a:srgbClr val="ffccff">
              <a:alpha val="52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ерегруженность домашними заданиями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5" name="Text Box 37"/>
          <p:cNvSpPr/>
          <p:nvPr/>
        </p:nvSpPr>
        <p:spPr>
          <a:xfrm>
            <a:off x="4140360" y="4292640"/>
            <a:ext cx="3960720" cy="642600"/>
          </a:xfrm>
          <a:prstGeom prst="rect">
            <a:avLst/>
          </a:prstGeom>
          <a:solidFill>
            <a:srgbClr val="ffccff">
              <a:alpha val="53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Компьютер, телевизор, сотовые телефоны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Text Box 38"/>
          <p:cNvSpPr/>
          <p:nvPr/>
        </p:nvSpPr>
        <p:spPr>
          <a:xfrm>
            <a:off x="3203640" y="3860640"/>
            <a:ext cx="3743280" cy="368280"/>
          </a:xfrm>
          <a:prstGeom prst="rect">
            <a:avLst/>
          </a:prstGeom>
          <a:solidFill>
            <a:srgbClr val="ffccff">
              <a:alpha val="51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ff"/>
                </a:solidFill>
                <a:latin typeface="Verdana"/>
              </a:rPr>
              <a:t>Неполноценное питание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7" name="Text Box 40"/>
          <p:cNvSpPr/>
          <p:nvPr/>
        </p:nvSpPr>
        <p:spPr>
          <a:xfrm>
            <a:off x="4859280" y="5013360"/>
            <a:ext cx="3960720" cy="642600"/>
          </a:xfrm>
          <a:prstGeom prst="rect">
            <a:avLst/>
          </a:prstGeom>
          <a:solidFill>
            <a:srgbClr val="ffccff">
              <a:alpha val="57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Verdana"/>
              </a:rPr>
              <a:t>Неэффективная диспансеризация детей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8" name="Line 41"/>
          <p:cNvSpPr/>
          <p:nvPr/>
        </p:nvSpPr>
        <p:spPr>
          <a:xfrm flipH="1">
            <a:off x="1402920" y="476280"/>
            <a:ext cx="865080" cy="431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9" name="Line 42"/>
          <p:cNvSpPr/>
          <p:nvPr/>
        </p:nvSpPr>
        <p:spPr>
          <a:xfrm>
            <a:off x="7451640" y="476280"/>
            <a:ext cx="792360" cy="360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0" name="Line 43"/>
          <p:cNvSpPr/>
          <p:nvPr/>
        </p:nvSpPr>
        <p:spPr>
          <a:xfrm>
            <a:off x="4067280" y="765000"/>
            <a:ext cx="0" cy="863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Line 44"/>
          <p:cNvSpPr/>
          <p:nvPr/>
        </p:nvSpPr>
        <p:spPr>
          <a:xfrm>
            <a:off x="4716360" y="765000"/>
            <a:ext cx="0" cy="158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2" name="Line 46"/>
          <p:cNvSpPr/>
          <p:nvPr/>
        </p:nvSpPr>
        <p:spPr>
          <a:xfrm>
            <a:off x="6084720" y="765000"/>
            <a:ext cx="287640" cy="302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3" name="Line 45"/>
          <p:cNvSpPr/>
          <p:nvPr/>
        </p:nvSpPr>
        <p:spPr>
          <a:xfrm>
            <a:off x="5435640" y="765000"/>
            <a:ext cx="0" cy="2376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6588000" y="765000"/>
            <a:ext cx="863640" cy="3456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Line 48"/>
          <p:cNvSpPr/>
          <p:nvPr/>
        </p:nvSpPr>
        <p:spPr>
          <a:xfrm>
            <a:off x="7164360" y="765000"/>
            <a:ext cx="1440000" cy="4104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Text Box 33"/>
          <p:cNvSpPr/>
          <p:nvPr/>
        </p:nvSpPr>
        <p:spPr>
          <a:xfrm>
            <a:off x="5580000" y="907920"/>
            <a:ext cx="3384720" cy="1608480"/>
          </a:xfrm>
          <a:prstGeom prst="rect">
            <a:avLst/>
          </a:prstGeom>
          <a:solidFill>
            <a:srgbClr val="ffcc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Вредные привычки (курение, токсикомания, алкоголь, наркотики, переедания)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Признаки слабого физического здоровья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ервные потрясения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трессы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Головные боли, боли в животе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Плохое настроение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Шум в ушах, повышение  кровяного давления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онливость, раздражительность, злость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Апатия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в результате чего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- уход «в себя»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-  нежелание трудиться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-  отсутствие желания учиться (большое  количество плохих оценок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Факты.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445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Минимальная норма количества шагов за день для человека-10000 шагов. Современный человек с натяжкой делает половину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12-13 ЛЕТ ПОВЫШАЕТЬСЯ ДАВЛЕНИЕ ДО 130/80 ММ.Р.СТ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Если родители имепют избыточный вес  - 60-80% детей имеют его тоже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Школьник должен делать ежедневно 23-30 000 шагов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Дети разведенных родителей  чаща болеют гипертонией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51% детей вообще не бывают на улице по возвращению из школы; 73% школьников не делают перерывов между приготовлениями уроков.30-40% детей имеют избыточный вес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Частота пульса на 20 % выше  у людей, не занимающихся спортом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то делать для укрепления здоровья детей?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Родителям предлагается следить за своим здоровьем, за своей физической формой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е надо заставлять заниматься сортом и физкультурой по принуждению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вести в образ жизни полезные привычки; зарядку, вечерние пешие прогулки, активный отдых во время каникул, выходные дни на природе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Изыскивать средства на платные кружки и секции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е жалеть средств на приобретение спортивного инвентаря дома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Отказаться от курения и застольных праздников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Радуйтесь успехам в спорте своего ребенка и его друзей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а самом видном  месте в доме помещайте награды за спортивные достижения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оддерживайте своего ребенка в случае неудач, закаляйте его волю и характер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Всего опрошенных 43 человека: 20 человек -5 класс,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23 человека-6 класс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Вопросы анкеты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Занимаешься ли ты спортом? Каким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аким видом спорта ты хотел бы заниматься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Нравятся ли тебе уроки физкультуры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аким образом дома ты стараешься укреплять здоровье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ак ты считаешь, что может причинить вред твоему здоровью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Занимаешься ли ты спортом? Каким?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«</a:t>
            </a: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да» - 18 человек, «нет» -26 человек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аким видом спорта занимаешься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Хоккей- 7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Гимнастика -5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Лыжи -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Самбо – 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Футбол - 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Каким видом спорта ты хотел бы заниматься?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Лыжи -12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Плавание -11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Баскетбол – 6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Волейбол – 6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Теннис – 8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Стрельба – 2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Коньки – 2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Гимнастика – 1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Никаким – 6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Нравятся ли тебе уроки физкультуры?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07760" y="90756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«да» -40 человек , «нет» - 3 человека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95280" y="2060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95280" y="1773360"/>
            <a:ext cx="813744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Каким образом дома ты стараешься укреплять здоровье?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Катаюсь на лыжах -16чел.; гуляю на свежем воздухе – 26 чел.; чищу зубы, умываюсь – 12 чел.;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Чищу снег -1 чел.; хожу за водой -1 чел.; танцую - чел.; закаляюсь в ванной -1 чел.; отжимаюсь, пью  лекарства -1 чел.;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 поднимаю гантели -1 чел.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Зимние холода - 3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урение -2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Вино – 12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Наркотики -5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Сухарики, чипсы, жевательная резинка - 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Пыль - 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омпьютер 2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Пить холодную воду – 2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Сотовый телефон – 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Пища с консервантами – 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ока – кола – 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Сидеть дома -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ак ты считаешь, что может причинить вред твоему здоровью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3130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Цель собрания - 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99640" y="2205000"/>
            <a:ext cx="7953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Verdana"/>
              </a:rPr>
              <a:t>укреплять здоровье</a:t>
            </a:r>
            <a:br>
              <a:rPr sz="4000"/>
            </a:br>
            <a:r>
              <a:rPr b="1" lang="ru-RU" sz="4000" spc="-1" strike="noStrike">
                <a:solidFill>
                  <a:srgbClr val="00ff99"/>
                </a:solidFill>
                <a:latin typeface="Verdana"/>
              </a:rPr>
              <a:t>ребенка в семье и школе.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Выявить основные причины губительного воздействия на здоровье учащихся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Показать огромное значение занятия физкультурой и спортом при переходе ребенка на среднюю ступень обучения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Спланировать совместную деятельность родителей и учащихся по формированию здорового образа жизни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Вопросы для обсуждения: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Отношение семьи и ребенка к физкультуре.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Спортивные кружки и секции в школе,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степень эффективности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Питание учащихся в школе.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Режим дня ребенка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Двигательная активность учащихся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7:01:26Z</dcterms:created>
  <dc:creator>Hi</dc:creator>
  <dc:description/>
  <dc:language>en-US</dc:language>
  <cp:lastModifiedBy>ZooM</cp:lastModifiedBy>
  <dcterms:modified xsi:type="dcterms:W3CDTF">2013-12-03T20:53:25Z</dcterms:modified>
  <cp:revision>7</cp:revision>
  <dc:subject/>
  <dc:title>Как сохранить здоровье ребенка?</dc:title>
</cp:coreProperties>
</file>