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79A-7FEE-4273-B99A-FD09A56C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368-95F9-45E3-A29E-F17FBD15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216-FF5C-4D84-A69E-90E7BCAD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EAA-9D98-43DD-B486-6F502D24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E741-3EEC-498E-88AC-89E9A00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3555-F286-4F66-B0EE-FB6680BA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19BD-DF1C-44A1-AF5B-EAD4B9A0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5EB8-DDDA-4C1E-AD7A-75479B59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46E4-C9FD-4315-85F3-AB1B5CCF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3059-485C-4755-B48A-1BC30C6A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0EA9-1E11-467D-9E5A-64DC3A5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D80-DC42-4B6C-BA29-7715DD8C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67CB-AF4E-4FC8-99F0-E5198CF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7142-5336-42D7-B342-B6C55B1A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CA86-714A-425B-86D2-1E73855C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51CB-065A-4F8D-9665-1EA17264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1971-B2BC-4D59-BDAA-4FCD764C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54D-91AF-4328-A07D-FDCB9111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B74-C10F-4C35-B2B6-C8577EB4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020-6148-4836-BD7A-3FDA470C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807-D113-4084-9B0F-5E8D3685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669-3C61-4890-9495-DF51AAD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1B4-CD3E-4947-B050-60A6D6B0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AE5-D7A1-484B-9A1F-6111796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1C57-F4FE-4C3A-A2D8-09C6F5B4A2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861E-AE69-433F-818B-AC7F9F8D0ED3}" type="slidenum"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Как сохранить здоровье ребенка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740320" y="3357720"/>
            <a:ext cx="5918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Хорошее здоровье, ощущение полноты,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неистощимости физических сил –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важнейшим источником жизнерадостного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мировосприятия, оптимизма, готовности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преодолеть любые трудности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Больной, хилый, предрасположенный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к заболеваниям ребенок –   источник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многочисленных невзгод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                                  </a:t>
            </a: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В.А. Сухомлинский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5"/>
          <p:cNvSpPr/>
          <p:nvPr/>
        </p:nvSpPr>
        <p:spPr>
          <a:xfrm>
            <a:off x="2340000" y="260280"/>
            <a:ext cx="5113440" cy="459720"/>
          </a:xfrm>
          <a:prstGeom prst="rect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Verdana"/>
              </a:rPr>
              <a:t>Причины «антиздоровья»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179280" y="907920"/>
            <a:ext cx="3600720" cy="642600"/>
          </a:xfrm>
          <a:prstGeom prst="rect">
            <a:avLst/>
          </a:prstGeom>
          <a:solidFill>
            <a:srgbClr val="ffccff">
              <a:alpha val="72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Низкая двигательная активность учащихся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900000" y="1700280"/>
            <a:ext cx="3456000" cy="642600"/>
          </a:xfrm>
          <a:prstGeom prst="rect">
            <a:avLst/>
          </a:prstGeom>
          <a:solidFill>
            <a:srgbClr val="ffccff">
              <a:alpha val="59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Негативное отношение  к</a:t>
            </a: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урокам физкультуры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547640" y="2421000"/>
            <a:ext cx="3672000" cy="642600"/>
          </a:xfrm>
          <a:prstGeom prst="rect">
            <a:avLst/>
          </a:prstGeom>
          <a:solidFill>
            <a:srgbClr val="ffccff">
              <a:alpha val="58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Игнорирование занятие спортом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2195640" y="3141720"/>
            <a:ext cx="3960720" cy="642600"/>
          </a:xfrm>
          <a:prstGeom prst="rect">
            <a:avLst/>
          </a:prstGeom>
          <a:solidFill>
            <a:srgbClr val="ffccff">
              <a:alpha val="52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ерегруженность домашними заданиями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4140360" y="4292640"/>
            <a:ext cx="3960720" cy="642600"/>
          </a:xfrm>
          <a:prstGeom prst="rect">
            <a:avLst/>
          </a:prstGeom>
          <a:solidFill>
            <a:srgbClr val="ffccff">
              <a:alpha val="53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Компьютер, телевизор, сотовые телефоны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3203640" y="3860640"/>
            <a:ext cx="3743280" cy="368280"/>
          </a:xfrm>
          <a:prstGeom prst="rect">
            <a:avLst/>
          </a:prstGeom>
          <a:solidFill>
            <a:srgbClr val="ffccff">
              <a:alpha val="51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ff"/>
                </a:solidFill>
                <a:latin typeface="Verdana"/>
              </a:rPr>
              <a:t>Неполноценное питание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7" name="Text Box 40"/>
          <p:cNvSpPr/>
          <p:nvPr/>
        </p:nvSpPr>
        <p:spPr>
          <a:xfrm>
            <a:off x="4859280" y="5013360"/>
            <a:ext cx="3960720" cy="642600"/>
          </a:xfrm>
          <a:prstGeom prst="rect">
            <a:avLst/>
          </a:prstGeom>
          <a:solidFill>
            <a:srgbClr val="ffccff">
              <a:alpha val="57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Verdana"/>
              </a:rPr>
              <a:t>Неэффективная диспансеризация детей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8" name="Line 41"/>
          <p:cNvSpPr/>
          <p:nvPr/>
        </p:nvSpPr>
        <p:spPr>
          <a:xfrm flipH="1">
            <a:off x="1402920" y="476280"/>
            <a:ext cx="865080" cy="431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9" name="Line 42"/>
          <p:cNvSpPr/>
          <p:nvPr/>
        </p:nvSpPr>
        <p:spPr>
          <a:xfrm>
            <a:off x="7451640" y="476280"/>
            <a:ext cx="79236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0" name="Line 43"/>
          <p:cNvSpPr/>
          <p:nvPr/>
        </p:nvSpPr>
        <p:spPr>
          <a:xfrm>
            <a:off x="4067280" y="765000"/>
            <a:ext cx="0" cy="863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Line 44"/>
          <p:cNvSpPr/>
          <p:nvPr/>
        </p:nvSpPr>
        <p:spPr>
          <a:xfrm>
            <a:off x="4716360" y="765000"/>
            <a:ext cx="0" cy="158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2" name="Line 46"/>
          <p:cNvSpPr/>
          <p:nvPr/>
        </p:nvSpPr>
        <p:spPr>
          <a:xfrm>
            <a:off x="6084720" y="765000"/>
            <a:ext cx="287640" cy="302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3" name="Line 45"/>
          <p:cNvSpPr/>
          <p:nvPr/>
        </p:nvSpPr>
        <p:spPr>
          <a:xfrm>
            <a:off x="5435640" y="765000"/>
            <a:ext cx="0" cy="2376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6588000" y="765000"/>
            <a:ext cx="863640" cy="3456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7164360" y="765000"/>
            <a:ext cx="1440000" cy="4104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5580000" y="907920"/>
            <a:ext cx="3384720" cy="1608480"/>
          </a:xfrm>
          <a:prstGeom prst="rect">
            <a:avLst/>
          </a:prstGeom>
          <a:solidFill>
            <a:srgbClr val="ffcc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Вредные привычки (курение, токсикомания, алкоголь, наркотики, переедания)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Признаки слабого физического здоровья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ервные потрясен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трессы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Головные боли, боли в животе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Плохое настроение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Шум в ушах, повышение  кровяного давлен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онливость, раздражительность, злость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Апат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в результате чего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- уход «в себя»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-  нежелание трудиться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-  отсутствие желания учиться (большое  количество плохих оценок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Факты.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445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Минимальная норма количества шагов за день для человека-10000 шагов. Современный человек с натяжкой делает половину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12-13 ЛЕТ ПОВЫШАЕТЬСЯ ДАВЛЕНИЕ ДО 130/80 ММ.Р.СТ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Если родители имепют избыточный вес  - 60-80% детей имеют его тоже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Школьник должен делать ежедневно 23-30 000 шагов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Дети разведенных родителей  чаща болеют гипертонией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51% детей вообще не бывают на улице по возвращению из школы; 73% школьников не делают перерывов между приготовлениями уроков.30-40% детей имеют избыточный вес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Частота пульса на 20 % выше  у людей, не занимающихся спортом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то делать для укрепления здоровья детей?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Родителям предлагается следить за своим здоровьем, за своей физической формой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е надо заставлять заниматься сортом и физкультурой по принуждению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вести в образ жизни полезные привычки; зарядку, вечерние пешие прогулки, активный отдых во время каникул, выходные дни на природе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Изыскивать средства на платные кружки и секции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е жалеть средств на приобретение спортивного инвентаря дома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Отказаться от курения и застольных праздников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Радуйтесь успехам в спорте своего ребенка и его друзей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а самом видном  месте в доме помещайте награды за спортивные достижения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оддерживайте своего ребенка в случае неудач, закаляйте его волю и характер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Всего опрошенных 43 человека: 20 человек -5 класс,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23 человека-6 класс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Вопросы анкеты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Занимаешься ли ты спортом? Каким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им видом спорта ты хотел бы заниматься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Нравятся ли тебе уроки физкультуры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им образом дома ты стараешься укреплять здоровье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 ты считаешь, что может причинить вред твоему здоровью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Занимаешься ли ты спортом? Каким?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«</a:t>
            </a: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да» - 18 человек, «нет» -26 человек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им видом спорта занимаешься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Хоккей- 7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Гимнастика -5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Лыжи -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амбо – 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Футбол - 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Каким видом спорта ты хотел бы заниматься?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Лыжи -12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Плавание -11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Баскетбол – 6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Волейбол – 6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Теннис – 8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Стрельба – 2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Коньки – 2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Гимнастика – 1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Никаким – 6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равятся ли тебе уроки физкультуры?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07760" y="90756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«да» -40 человек , «нет» - 3 человека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95280" y="2060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95280" y="1773360"/>
            <a:ext cx="81374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Каким образом дома ты стараешься укреплять здоровье?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Катаюсь на лыжах -16чел.; гуляю на свежем воздухе – 26 чел.; чищу зубы, умываюсь – 12 чел.;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Чищу снег -1 чел.; хожу за водой -1 чел.; танцую - чел.; закаляюсь в ванной -1 чел.; отжимаюсь, пью  лекарства -1 чел.;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 поднимаю гантели -1 чел.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Зимние холода - 3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урение -2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Вино – 1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Наркотики -5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ухарики, чипсы, жевательная резинка - 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Пыль - 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омпьютер 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Пить холодную воду – 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отовый телефон – 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Пища с консервантами – 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ока – кола – 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идеть дома -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ак ты считаешь, что может причинить вред твоему здоровью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3130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Цель собрания -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99640" y="2205000"/>
            <a:ext cx="7953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Verdana"/>
              </a:rPr>
              <a:t>укреплять здоровье</a:t>
            </a:r>
            <a:br>
              <a:rPr sz="4000"/>
            </a:br>
            <a:r>
              <a:rPr b="1" lang="ru-RU" sz="4000" spc="-1" strike="noStrike">
                <a:solidFill>
                  <a:srgbClr val="00ff99"/>
                </a:solidFill>
                <a:latin typeface="Verdana"/>
              </a:rPr>
              <a:t>ребенка в семье и школе.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Выявить основные причины губительного воздействия на здоровье учащихся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Показать огромное значение занятия физкультурой и спортом при переходе ребенка на среднюю ступень обучения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Спланировать совместную деятельность родителей и учащихся по формированию здорового образа жизни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Вопросы для обсуждения: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Отношение семьи и ребенка к физкультуре.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Спортивные кружки и секции в школе,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степень эффективности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Питание учащихся в школе.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Режим дня ребенка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Двигательная активность учащихся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7:01:26Z</dcterms:created>
  <dc:creator>Hi</dc:creator>
  <dc:description/>
  <dc:language>en-US</dc:language>
  <cp:lastModifiedBy>ZooM</cp:lastModifiedBy>
  <dcterms:modified xsi:type="dcterms:W3CDTF">2013-12-03T20:53:25Z</dcterms:modified>
  <cp:revision>7</cp:revision>
  <dc:subject/>
  <dc:title>Как сохранить здоровье ребенка?</dc:title>
</cp:coreProperties>
</file>