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399E-F355-4103-B01B-A9A35E7FFD5C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6BF9-3A6B-445B-9487-C93BA9F1D749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8FCD-D033-42D4-8CFB-DAA841EB099F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73D6-309F-405C-8179-0C024072C873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829D-EE71-4DF0-9FA3-527234D4E51E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B045-8A9D-4B1D-938D-2187F1ACFC56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E3FE-D086-44C1-904B-CFB4E93025F9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5584-3CC0-4FE7-83EF-B7A2512E15E3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ABE1-CE8A-4096-A424-756288A452CF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E3F8-88FB-4349-87D8-4C34DC28AFA7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88C1-9657-4784-A8C2-8406490B052B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7E74-0F83-448D-B1D4-D96B36E347FA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99A7-817A-4303-B239-9651C3E2C70A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0B16-6295-47C5-9C95-95FB2F4FE5F6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135C-FF44-4C60-9509-87969A8CDF74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652-F33A-4A75-B1E1-4C7237A8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318-33BE-4456-9D59-BEAF55E7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F28-44C4-4B1E-ADE5-74F5B0D7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63B-5E60-493B-87A8-304DC192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73CA-421A-461A-8AE2-E5BEA13D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C685-764D-4F39-8B19-79E0D142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44AA-A04E-4C52-A42D-6DE25F3E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CA21-B0EF-4083-8798-CDAC56B6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269C-A850-4663-9C87-BF9D983B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40C7-8840-4C26-A520-9B766371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CE84-9D89-458E-8F2C-4AC09B49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6AB-7900-4804-8106-C64E87F4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91A8-797E-4332-AD0C-29D08CF4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200C-E1D1-4E89-8C1B-BDADF8EE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EF21-2C08-415D-8B8C-73EEE2DB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45C4-A1C1-40C7-B2CC-BB3F5D91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1493-16AD-4715-896A-1566FDA7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4CCA8-1126-4E6D-B51D-6D9AF5B0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03BF6-B00F-4B4C-A2D0-F93799E8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E05C7-389B-4482-94DA-98022283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A501B-6FAD-4F19-97C8-97FCEFA8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FF269-C7F1-47EA-AF28-D2695409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C70-0D9F-4985-99E7-577C53D9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AE38A-C0DE-4347-AFD9-66CC956B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DA894-1A1E-4049-A8FE-619F214D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A270-06F1-415A-BA71-CABA0DA3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AE875-37F5-437A-B426-EF2B0D84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976A0-C1D5-4681-BB21-6167BB69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64FF2-451F-4ED2-8690-ECC4EE29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C27B5-B045-4516-974A-358078CE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5D45A-1F20-45C0-9535-6A275571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A826F-1815-4C2B-B2F3-04A5EB2E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853DA-BFE1-4BDF-8C02-0BB9BBA4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1C0C-0167-49B4-8C51-20C5E199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D4B05-8A25-4EB2-AF37-E3253FAA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B081B-7419-4CAC-B125-FEFB7792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8A76F-546A-4D61-A95B-C2563FAF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D15DB-FFD7-4EED-9751-12CB3CDE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77842-8E01-497F-BE99-6FA06DF0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77F66-A5B2-4A6E-AC61-84EFC954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253CF-2BE1-4DCB-984C-CBB5DB63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3FE53-F83C-495D-8F9A-FF01C5B0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4ECE0-9D07-45C2-AE84-C59241C7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834-AFCE-42E9-A167-27ACA932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5E8-C4C3-4B85-92C6-5A5CDE17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5A5-FDC9-4F3B-AB67-F81F6437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445-545E-4D3D-A5F4-93DA86BF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B80-CCEF-4BE2-B07C-46A05093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uolivapaa piirto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uolivapaa piirto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9F58-6496-4AD8-90D3-55B9B7C9204F}" type="slidenum">
              <a:rPr b="0" lang="fi-FI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Ryhmä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Puolivapaa piirto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Puolivapaa piirto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Puolivapaa piirto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Puolivapaa piirto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uolivapaa piirto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uolivapaa piirto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Ryhmä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Puolivapaa piirto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Puolivapaa piirto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Puolivapaa piirto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Puolivapaa piirto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980C-9AC2-4F1F-83CD-0BD94DFFEEB0}" type="slidenum">
              <a:rPr b="0" lang="fi-FI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uolivapaa piirto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uolivapaa piirto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yhmä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Puolivapaa piirto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Puolivapaa piirto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Puolivapaa piirto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Puolivapaa piirto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672D-36FD-460D-ABC3-922CB972A00B}" type="slidenum">
              <a:rPr b="0" lang="fi-FI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uolivapaa piirto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uolivapaa piirto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Ryhmä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Puolivapaa piirto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Puolivapaa piirto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Puolivapaa piirto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Puolivapaa piirto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Yhdestä kulmasta leikattu ja pyöristetty suorakulmi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uorakulmainen kolmi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uolivapaa piirto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uolivapaa piirto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C9DC-A0AF-45EB-808B-43FC28244B26}" type="slidenum">
              <a:rPr b="0" lang="fi-FI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uorakulmio 3"/>
          <p:cNvSpPr/>
          <p:nvPr/>
        </p:nvSpPr>
        <p:spPr>
          <a:xfrm>
            <a:off x="1071720" y="11430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2060"/>
                </a:solidFill>
                <a:latin typeface="Calibri"/>
              </a:rPr>
              <a:t>”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Родная семья – каждому ребен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беспечение прав ребенка жить и воспитываться в семье</a:t>
            </a:r>
            <a:r>
              <a:rPr b="1" lang="fi-FI" sz="1800" spc="-1" strike="noStrike">
                <a:solidFill>
                  <a:srgbClr val="00206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kstikehys 4"/>
          <p:cNvSpPr/>
          <p:nvPr/>
        </p:nvSpPr>
        <p:spPr>
          <a:xfrm>
            <a:off x="2937600" y="64296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Международная конфе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kstikehys 8"/>
          <p:cNvSpPr/>
          <p:nvPr/>
        </p:nvSpPr>
        <p:spPr>
          <a:xfrm>
            <a:off x="3221280" y="1785960"/>
            <a:ext cx="236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Москва, Са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екабрь 2-4 2008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kstikehys 9"/>
          <p:cNvSpPr/>
          <p:nvPr/>
        </p:nvSpPr>
        <p:spPr>
          <a:xfrm>
            <a:off x="642960" y="321480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печение детей вне родной семь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емейные формы) – сравнительный анализ законодательства, политика и практика в России, Финляндии, Шве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ц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kstikehys 11"/>
          <p:cNvSpPr/>
          <p:nvPr/>
        </p:nvSpPr>
        <p:spPr>
          <a:xfrm>
            <a:off x="1594440" y="5357880"/>
            <a:ext cx="576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Мартти Кемппайн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Руководитель проекта, Центральный Союз защиты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ице-президент ФИ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2876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Швеция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иологические родители являются опекунами/попечителями своих дет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1199"/>
              </a:spcAft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случа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если ребенок находится три года в одной и той же приемной семье, социаль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й комитет обязан оценить, с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щ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ствует ли основание подать заявление на передачу опекунства приемным родителям (Закон о социальном обслуживании глава 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8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cc009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alibri"/>
                <a:ea typeface="Arial"/>
              </a:rPr>
              <a:t>Финлянди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635040" indent="-273240">
              <a:lnSpc>
                <a:spcPct val="100000"/>
              </a:lnSpc>
              <a:spcBef>
                <a:spcPts val="451"/>
              </a:spcBef>
              <a:buClr>
                <a:srgbClr val="cc009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иологические родители являются опекун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/попечителями своих дет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635040" indent="-273240">
              <a:lnSpc>
                <a:spcPct val="100000"/>
              </a:lnSpc>
              <a:spcBef>
                <a:spcPts val="451"/>
              </a:spcBef>
              <a:buClr>
                <a:srgbClr val="cc009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случае долгосрочного попечения, социальный комитет может оценить возможность передачи опекунства (подготовительные работы закона о защите детей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28800" y="785880"/>
            <a:ext cx="38289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сыновлени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95280" y="1628640"/>
            <a:ext cx="844704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2401"/>
              </a:spcAft>
              <a:tabLst>
                <a:tab algn="l" pos="0"/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e2d700"/>
              </a:buClr>
              <a:buSzPct val="115000"/>
              <a:buFont typeface="Wingdings" charset="2"/>
              <a:buChar char=""/>
              <a:tabLst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риоритетная форма устройства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Constantia"/>
              </a:rPr>
              <a:t>Да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e2d700"/>
              </a:buClr>
              <a:buSzPct val="115000"/>
              <a:buFont typeface="Wingdings" charset="2"/>
              <a:buChar char=""/>
              <a:tabLst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Требования к кандидатам на усыновление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fi-FI" sz="1800" spc="-1" strike="noStrike">
                <a:solidFill>
                  <a:srgbClr val="7030a0"/>
                </a:solidFill>
                <a:latin typeface="Constantia"/>
              </a:rPr>
              <a:t>- ” -</a:t>
            </a:r>
            <a:r>
              <a:rPr b="1" lang="fi-FI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fi-FI" sz="1800" spc="-1" strike="noStrike">
                <a:solidFill>
                  <a:srgbClr val="7030a0"/>
                </a:solidFill>
                <a:latin typeface="Constantia"/>
              </a:rPr>
              <a:t> - ”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e2d700"/>
              </a:buClr>
              <a:buSzPct val="115000"/>
              <a:buFont typeface="Wingdings" charset="2"/>
              <a:buChar char=""/>
              <a:tabLst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тмена усыновления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Constantia"/>
              </a:rPr>
              <a:t>Да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e2d700"/>
              </a:buClr>
              <a:buSzPct val="115000"/>
              <a:buFont typeface="Wingdings" charset="2"/>
              <a:buChar char=""/>
              <a:tabLst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Тайна усыновления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Constantia"/>
              </a:rPr>
              <a:t>Да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2d700"/>
              </a:buClr>
              <a:buSzPct val="115000"/>
              <a:buFont typeface="Wingdings" charset="2"/>
              <a:buChar char=""/>
              <a:tabLst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бязательная подготов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33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кандидатов на усыновление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Нет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ff00"/>
                </a:solidFill>
                <a:latin typeface="Constant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339480">
              <a:lnSpc>
                <a:spcPct val="100000"/>
              </a:lnSpc>
              <a:spcAft>
                <a:spcPts val="1500"/>
              </a:spcAft>
              <a:buClr>
                <a:srgbClr val="e2d700"/>
              </a:buClr>
              <a:buSzPct val="115000"/>
              <a:buFont typeface="Wingdings" charset="2"/>
              <a:buChar char=""/>
              <a:tabLst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ередача детей на международное усын.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Constantia"/>
              </a:rPr>
              <a:t>Да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kstikehys 4"/>
          <p:cNvSpPr/>
          <p:nvPr/>
        </p:nvSpPr>
        <p:spPr>
          <a:xfrm>
            <a:off x="2271600" y="6581880"/>
            <a:ext cx="41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Constantia"/>
              </a:rPr>
              <a:t>Venäjän lastensuojelun uudistuksen tukeminen -ha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3dflags_swe0001-0004a"/>
          <p:cNvPicPr/>
          <p:nvPr/>
        </p:nvPicPr>
        <p:blipFill>
          <a:blip r:embed="rId1"/>
          <a:stretch/>
        </p:blipFill>
        <p:spPr>
          <a:xfrm>
            <a:off x="7072200" y="1857240"/>
            <a:ext cx="343080" cy="257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3dflags_rus0001-0004a"/>
          <p:cNvPicPr/>
          <p:nvPr/>
        </p:nvPicPr>
        <p:blipFill>
          <a:blip r:embed="rId2"/>
          <a:stretch/>
        </p:blipFill>
        <p:spPr>
          <a:xfrm>
            <a:off x="5715000" y="1857240"/>
            <a:ext cx="343080" cy="2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3dflags_fin0001-0004a"/>
          <p:cNvPicPr/>
          <p:nvPr/>
        </p:nvPicPr>
        <p:blipFill>
          <a:blip r:embed="rId3"/>
          <a:stretch/>
        </p:blipFill>
        <p:spPr>
          <a:xfrm>
            <a:off x="7643880" y="1857240"/>
            <a:ext cx="342720" cy="2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9900"/>
                </a:solidFill>
                <a:latin typeface="Comic Sans MS"/>
              </a:rPr>
              <a:t>Подготовка /обучение замещающих родителей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Росс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настоящее время норма законодательства распространяется, в основном, на все категории замещающих родителей / воспитател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ктик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Швеци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дготовка/обучение не обязательны, но в действительности большинство замещающих семей получают обучени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  <a:ea typeface="Arial"/>
              </a:rPr>
              <a:t>Финлянди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cc00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униципалитет, отвечающий за организацию семейного попечения, отвечает за необходимую подготовку, супервизорство и обуч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5520" y="928440"/>
            <a:ext cx="368604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План попече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14240" y="1857240"/>
            <a:ext cx="7786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Arial"/>
              </a:rPr>
              <a:t>Россия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Aft>
                <a:spcPts val="601"/>
              </a:spcAft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Федеральном законодательстве отсутству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Aft>
                <a:spcPts val="1199"/>
              </a:spcAft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т.ч. в законодательстве субъектов о патронатном воспитан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206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Швеция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Aft>
                <a:spcPts val="601"/>
              </a:spcAft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лан по попечению составляется для ребенка, нуждающегося в помещении вне родной семь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Aft>
                <a:spcPts val="1199"/>
              </a:spcAft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сполнительный план (план по уходу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cc009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99"/>
                </a:solidFill>
                <a:latin typeface="Calibri"/>
                <a:ea typeface="Arial"/>
              </a:rPr>
              <a:t>Финляндия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Aft>
                <a:spcPts val="601"/>
              </a:spcAft>
              <a:buClr>
                <a:srgbClr val="cc00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План по поечению + план по уходу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buClr>
                <a:srgbClr val="cc00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Составляется план (1) для ребенка, (2) для родителей, (3) для последующего попечения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714240" y="785880"/>
            <a:ext cx="82296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Перспективы развития работы по защите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42960" y="1500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овышение эффективности работы по сокращению количества детей-сирот и детей, оставшихся без попечения родителей за счет увеличения количества семейных форм их устройства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642960" y="2643120"/>
            <a:ext cx="7429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. сохранение ребенку биологической семьи согласно происхожд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642960" y="314316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21d113"/>
              </a:buClr>
              <a:buSzPct val="95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илактическая работа по защите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uorakulmio 7"/>
          <p:cNvSpPr/>
          <p:nvPr/>
        </p:nvSpPr>
        <p:spPr>
          <a:xfrm>
            <a:off x="714240" y="3571920"/>
            <a:ext cx="84297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Материальное обеспечение семей с детьми, предупреждение детской бе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Раннее выявление проблем, потребностей в психосоциальной поддержке и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Раннее вмешательство, ранняя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Обеспечение ресурсов и доступности амбулаторных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оддержка семьи, развитие работы с семь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</a:t>
            </a:r>
            <a:r>
              <a:rPr b="0" lang="ru-RU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Сокращение количества детей на попечении вне родной семь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aidallinen nuoli oikealle 8"/>
          <p:cNvSpPr/>
          <p:nvPr/>
        </p:nvSpPr>
        <p:spPr>
          <a:xfrm>
            <a:off x="428760" y="6357960"/>
            <a:ext cx="571320" cy="214200"/>
          </a:xfrm>
          <a:custGeom>
            <a:avLst/>
            <a:gdLst/>
            <a:ahLst/>
            <a:rect l="l" t="t" r="r" b="b"/>
            <a:pathLst>
              <a:path w="571500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464344" y="53578"/>
                </a:lnTo>
                <a:lnTo>
                  <a:pt x="464344" y="0"/>
                </a:lnTo>
                <a:lnTo>
                  <a:pt x="571500" y="107156"/>
                </a:lnTo>
                <a:lnTo>
                  <a:pt x="464344" y="214312"/>
                </a:lnTo>
                <a:lnTo>
                  <a:pt x="464344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40e"/>
                </a:solidFill>
                <a:latin typeface="Comic Sans MS"/>
              </a:rPr>
              <a:t>Основные формы семейного попечения</a:t>
            </a:r>
            <a:br>
              <a:rPr sz="2800"/>
            </a:br>
            <a:r>
              <a:rPr b="0" lang="ru-RU" sz="2800" spc="-1" strike="noStrike">
                <a:solidFill>
                  <a:srgbClr val="66340e"/>
                </a:solidFill>
                <a:latin typeface="Comic Sans MS"/>
                <a:ea typeface="Arial"/>
              </a:rPr>
              <a:t>&amp; приоритеты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00040" y="185724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осси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 (1):  семейные формы устройст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усыновление/удочерение, опека/попечительство, приемная семья, патронатное воспитание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 (2):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ыновлени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06480" indent="-2462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оритет : 2а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мьи граждан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б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дственники дет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Приорите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3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имущественное право родственников быть опекунами или попечителям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kstikehys 4"/>
          <p:cNvSpPr/>
          <p:nvPr/>
        </p:nvSpPr>
        <p:spPr>
          <a:xfrm>
            <a:off x="395280" y="1000080"/>
            <a:ext cx="87487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2006 г. общее количество выявленных и устроенных детей (вкл. детей, которые были выявлени раньше, но передались в семью в отчетном году) – 159 53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них передали в семью 76 %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чреждение – 24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kstikehys 5"/>
          <p:cNvSpPr/>
          <p:nvPr/>
        </p:nvSpPr>
        <p:spPr>
          <a:xfrm>
            <a:off x="571680" y="2571840"/>
            <a:ext cx="428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оены в сем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ка/попечитель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78,7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емная семья – 13,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ыновление – 7,9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00040" y="42840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Швеци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ые виды семейного попеч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емная семь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familjehe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– для долгосрочного попеч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ежурная семь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jourhe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– для кратковременного попеч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Suorakulmio 5"/>
          <p:cNvSpPr/>
          <p:nvPr/>
        </p:nvSpPr>
        <p:spPr>
          <a:xfrm>
            <a:off x="785880" y="27147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ды приемной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kstikehys 7"/>
          <p:cNvSpPr/>
          <p:nvPr/>
        </p:nvSpPr>
        <p:spPr>
          <a:xfrm>
            <a:off x="785880" y="3214800"/>
            <a:ext cx="702612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SzPct val="8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Чужая семья» – незнакомые для ребенка лю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2060"/>
              </a:buClr>
              <a:buSzPct val="8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ья из социальной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2060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ья родстве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ья других близ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репленное семейное по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uorakulmio 5"/>
          <p:cNvSpPr/>
          <p:nvPr/>
        </p:nvSpPr>
        <p:spPr>
          <a:xfrm>
            <a:off x="500040" y="1357200"/>
            <a:ext cx="785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ребенок помещается на попечение вне родной семьи, в первую очередь следует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ценить:  кто из родственников или других близких лиц может принять ребенка к себ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kstikehys 6"/>
          <p:cNvSpPr/>
          <p:nvPr/>
        </p:nvSpPr>
        <p:spPr>
          <a:xfrm>
            <a:off x="500040" y="2714760"/>
            <a:ext cx="828684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2007 году 15 100 детей нах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с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печении вне родной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них, 73,3 % проживали в приемных семьях и 23,2 % в учрежд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00040" y="7138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Финлянди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емная семья (семейный дом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фессиональный семейный д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uorakulmio 6"/>
          <p:cNvSpPr/>
          <p:nvPr/>
        </p:nvSpPr>
        <p:spPr>
          <a:xfrm>
            <a:off x="500040" y="2000160"/>
            <a:ext cx="842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о помещения ребенка вне родной семьи необходимо выяснить у родителя, у которого ребенок, в основном, не прожив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родственников и близких ребенку лиц, возможность принятия ребенка к себе или иначе участвовать в поддерживани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uorakulmio 7"/>
          <p:cNvSpPr/>
          <p:nvPr/>
        </p:nvSpPr>
        <p:spPr>
          <a:xfrm>
            <a:off x="571680" y="3643200"/>
            <a:ext cx="75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олитика и практи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омещение маленьких детей в сем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5-20 % из детей, находящихся в семейном попечении, проживает у родстве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kstikehys 8"/>
          <p:cNvSpPr/>
          <p:nvPr/>
        </p:nvSpPr>
        <p:spPr>
          <a:xfrm>
            <a:off x="250920" y="550080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2007 году 16 000 детей находилис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печении вне родной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них, 34 % проживали в приемных семьях, 50 % в учрежден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5 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руги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3880" y="714240"/>
            <a:ext cx="74012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40e"/>
                </a:solidFill>
                <a:latin typeface="Comic Sans MS"/>
              </a:rPr>
              <a:t>Количество детей в замещающих семьях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680" y="1785600"/>
            <a:ext cx="7643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ка и попечительство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емная семья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щее число детей в приемной семье, включая родных и усыновленных, не должно превышать, как правило, 8 человек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тронатная семья: 1-3 дете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ейная воспитательная группа: 1-3 дете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Швец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рматив/указание о максимальном количестве детей в приемной семье отсутствуе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buClr>
                <a:srgbClr val="cc00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uorakulmio 3"/>
          <p:cNvSpPr/>
          <p:nvPr/>
        </p:nvSpPr>
        <p:spPr>
          <a:xfrm>
            <a:off x="500040" y="785880"/>
            <a:ext cx="8072640" cy="21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Aft>
                <a:spcPts val="601"/>
              </a:spcAft>
              <a:buClr>
                <a:srgbClr val="cc00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Финлянд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353880">
              <a:lnSpc>
                <a:spcPct val="100000"/>
              </a:lnSpc>
              <a:spcAft>
                <a:spcPts val="601"/>
              </a:spcAft>
              <a:buClr>
                <a:srgbClr val="cc00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более 4 детей, включая собственных детей дошкольного возраста воспита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их лиц, нуждающихся в особом уходе или з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353880">
              <a:lnSpc>
                <a:spcPct val="100000"/>
              </a:lnSpc>
              <a:buClr>
                <a:srgbClr val="cc0099"/>
              </a:buClr>
              <a:buSzPct val="8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ключение: более 4 детей, если они братья, сестры или члены одной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uorakulmio 4"/>
          <p:cNvSpPr/>
          <p:nvPr/>
        </p:nvSpPr>
        <p:spPr>
          <a:xfrm>
            <a:off x="500040" y="3000240"/>
            <a:ext cx="8286840" cy="1694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3880" indent="-353880">
              <a:lnSpc>
                <a:spcPct val="100000"/>
              </a:lnSpc>
              <a:spcAft>
                <a:spcPts val="601"/>
              </a:spcAft>
              <a:buClr>
                <a:srgbClr val="cc0099"/>
              </a:buClr>
              <a:buSzPct val="85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более 7 детей, если за уход, воспитан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заботу отвеч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 не менее двух человек, проживающих в до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3538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, один из них должен иметь специальное образование и достаточный опыт по уходу и воспитанию детей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- п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ю, опыт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чным качествам подходит к данной рабо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40e"/>
                </a:solidFill>
                <a:latin typeface="Comic Sans MS"/>
              </a:rPr>
              <a:t>Правовой статус родителей ребенк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8400" y="1356840"/>
            <a:ext cx="87152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Arial"/>
              </a:rPr>
              <a:t>Россия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45880">
              <a:lnSpc>
                <a:spcPct val="90000"/>
              </a:lnSpc>
              <a:spcAft>
                <a:spcPts val="1199"/>
              </a:spcAft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Опека/попечительство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Calibri"/>
              </a:rPr>
              <a:t>родители ребенка или лица, их заменяющие, утрачивают свои права и обязанности по представительству и защите прав и законных интересов ребенка с момента возникновения прав и обязанностей опекуна или попечителя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45880">
              <a:lnSpc>
                <a:spcPct val="90000"/>
              </a:lnSpc>
              <a:spcAft>
                <a:spcPts val="1199"/>
              </a:spcAft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риемная семья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Calibri"/>
              </a:rPr>
              <a:t>Приемные родители по отношению к принятому на воспитание ребенку или детям осуществляют права и исполняют обязанности опекуна или попечителя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buClr>
                <a:srgbClr val="ff00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атронатное воспитание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45880">
              <a:lnSpc>
                <a:spcPct val="90000"/>
              </a:lnSpc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а и обязанности по защите прав ребенка разграничены между патронатным воспитателем и органом опеки и попечительства (или его уполномоченным учреждением) (</a:t>
            </a:r>
            <a:r>
              <a:rPr b="0" lang="ru-RU" sz="1800" spc="-1" strike="noStrike">
                <a:solidFill>
                  <a:srgbClr val="072428"/>
                </a:solidFill>
                <a:latin typeface="Calibri"/>
              </a:rPr>
              <a:t>http://www.usynovite.ru/adoption/patronag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45880">
              <a:lnSpc>
                <a:spcPct val="90000"/>
              </a:lnSpc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хранение обязанностей опекуна (попечителя) в отношении ребенка у органа опеки и попечительства (Закон Пермской области о патронате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45880">
              <a:lnSpc>
                <a:spcPct val="90000"/>
              </a:lnSpc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граничение прав и обязанност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о защите законных интересов ребенка между родителями (законными представителями) ребенка, уполномоченной службой по патронату, патронатным воспитателем (Закон Краснодарского края о патронате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9:18:48Z</dcterms:created>
  <dc:creator>Kemppmar</dc:creator>
  <dc:description/>
  <dc:language>en-US</dc:language>
  <cp:lastModifiedBy>ZooM</cp:lastModifiedBy>
  <dcterms:modified xsi:type="dcterms:W3CDTF">2013-11-07T13:42:59Z</dcterms:modified>
  <cp:revision>295</cp:revision>
  <dc:subject/>
  <dc:title>Dia 1</dc:title>
</cp:coreProperties>
</file>