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AE99-121B-468F-BB79-5E2191A4C28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46F-D121-47A0-897D-2B99BC1E55A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A9C-D08D-4F28-8A84-B1854BF613E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A291-601F-4F7F-92A8-E06D0E4531D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F0A2-CF34-4E2B-A959-FC65E59AC2E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CFE5-863E-49D4-AE1F-955A4A7F1F9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2C6-8ED6-4543-92D2-A1D1078164F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8D1A-DE7F-4813-9D57-5DDB4278D1A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33C8-25FC-4E16-97B9-BB1D8B88070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D694-6E40-49B9-A793-70EB5A9D035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B73E-90D7-4966-94B6-7DE71EC8835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42AC-760C-4796-B745-4A729D21DBB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D1F-6284-4131-9403-898A809DC13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2665-5A29-4337-ABEF-88AF411B034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A18A-6D23-4A12-81A0-1D8BB5D74D9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CBF-DE01-407D-A36B-FBBEF079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E22-91DE-41B4-9A26-EB50C0A2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110-7BC4-4A79-A6BD-827BB6B1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966-BF3C-4EE8-92CD-19728405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AD2D-A5B8-4F06-9464-5B81F84E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B665-9858-49C6-9324-F01D2AAD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6DEC-959E-4845-88AD-FE5673BA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287F-5A4F-42CF-BB25-412ACA79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5171-870A-445B-85F3-624496CE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F30C-DA52-4476-9EE8-9D77E53C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FDBB-A021-473A-AC04-886299E3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AC5-A20F-4073-886B-549BA633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D255-00C4-43E1-B6CD-2E53A9DE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160-9F1A-4C80-B510-59F3B427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65D-0B20-4CD4-ADA5-FCF2CF4B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FF52-38C4-4DE2-AE85-20C4C6DE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08C7-7FC0-4AB8-BA53-0DBA01EF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C170-148D-4507-86E5-A70A3FAA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ADC4-6214-44C7-831B-E0F2DE27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1322F-E116-453A-9206-0DA27049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0204-EFD9-4126-9291-E5041709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EC66-26D9-41E1-8AFF-29DEE8BB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FBC-0171-4AA4-9E47-E588E659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D5E7-9B41-450D-9DC1-00D13F42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B568-978B-4510-8306-95A8A82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902A-A5C9-418A-90D9-FF1367C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EBBD-8D6E-4634-8156-EA629144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7A0C-746A-413C-92E5-406AB9F6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CD32-C5C1-4770-93E8-1DE80C3C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6100-631C-4DFB-99FC-78855161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5B482-EBFC-4E4E-B30E-FD3C116A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9A103-5CBA-42CA-BADB-57697B83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412A1-80A2-40D4-AAED-5F22A1BB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A47-2B17-49BB-9C3E-5509D689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20608-B520-44DE-961A-6EF3705B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FC05-A789-4C83-91BE-03DC684C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66B6-D3BE-45F1-AEB2-2FB1D689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C4D7-6F6C-46E4-987D-50E6B53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3187-3A1A-487F-9E07-E97EDAB6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D12E-A3FB-4C3D-A4AD-0E1BDFA7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0D57-6234-477C-A839-69A5D17B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F8AC-70FE-4A9C-97FF-E2608085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2E72-D8F8-4F59-804B-4EDDAC19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665-DD63-4EC0-9825-7ED9914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4A5-549E-4BB9-B2B0-888CA796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535-528F-48F8-85B4-103035E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29B-1D2B-4EAE-83F1-682BBA9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0C0-AFFF-45D1-8954-41AAF504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297C-19D1-4F09-A792-D6C861ACA826}" type="slidenum"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B805-56AF-4325-ACC7-1A29E1C286A5}" type="slidenum"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1229-D036-4D18-B9CC-75847EB161A7}" type="slidenum">
              <a:rPr b="0" lang="fi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uolivapaa piirt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uolivapaa piirt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yhmä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Puolivapaa piirto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Puolivapaa piirto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Puolivapaa piirt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Puolivapaa piirto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Yhdestä kulmasta leikattu ja pyöristetty suorakulmi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orakulmainen kolmi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uolivapaa piirto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uolivapaa piirto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DEEE-2018-4A48-A204-9ED6BD12770B}" type="slidenum">
              <a:rPr b="0" lang="fi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uorakulmio 3"/>
          <p:cNvSpPr/>
          <p:nvPr/>
        </p:nvSpPr>
        <p:spPr>
          <a:xfrm>
            <a:off x="1071720" y="1143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2060"/>
                </a:solidFill>
                <a:latin typeface="Calibri"/>
              </a:rPr>
              <a:t>”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одная семья – каждому ребе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беспечение прав ребенка жить и воспитываться в семье</a:t>
            </a:r>
            <a:r>
              <a:rPr b="1" lang="fi-FI" sz="1800" spc="-1" strike="noStrike">
                <a:solidFill>
                  <a:srgbClr val="00206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kstikehys 4"/>
          <p:cNvSpPr/>
          <p:nvPr/>
        </p:nvSpPr>
        <p:spPr>
          <a:xfrm>
            <a:off x="2937600" y="64296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еждународ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kstikehys 8"/>
          <p:cNvSpPr/>
          <p:nvPr/>
        </p:nvSpPr>
        <p:spPr>
          <a:xfrm>
            <a:off x="3221280" y="1785960"/>
            <a:ext cx="23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осква, Са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кабрь 2-4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kstikehys 9"/>
          <p:cNvSpPr/>
          <p:nvPr/>
        </p:nvSpPr>
        <p:spPr>
          <a:xfrm>
            <a:off x="642960" y="32148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печение детей вне родной семь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емейные формы) – сравнительный анализ законодательства, политика и практика в России, Финляндии, Шве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ц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kstikehys 11"/>
          <p:cNvSpPr/>
          <p:nvPr/>
        </p:nvSpPr>
        <p:spPr>
          <a:xfrm>
            <a:off x="1594440" y="5357880"/>
            <a:ext cx="576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артти Кемппайн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Руководитель проекта, Центральный Союз защиты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ице-президент ФИ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Швеци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ологические родители являются опекунами/попечителями своих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луча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если ребенок находится три года в одной и той же приемной семье, социаль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й комитет обязан оценить, с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щ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ствует ли основание подать заявление на передачу опекунства приемным родителям (Закон о социальном обслуживании глава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8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alibri"/>
                <a:ea typeface="Arial"/>
              </a:rPr>
              <a:t>Финлянд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635040" indent="-273240">
              <a:lnSpc>
                <a:spcPct val="100000"/>
              </a:lnSpc>
              <a:spcBef>
                <a:spcPts val="451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ологические родители являются опекун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/попечителями своих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635040" indent="-273240">
              <a:lnSpc>
                <a:spcPct val="100000"/>
              </a:lnSpc>
              <a:spcBef>
                <a:spcPts val="451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лучае долгосрочного попечения, социальный комитет может оценить возможность передачи опекунства (подготовительные работы закона о защите детей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28800" y="785880"/>
            <a:ext cx="3828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сыновлени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5280" y="1628640"/>
            <a:ext cx="844704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2401"/>
              </a:spcAft>
              <a:tabLst>
                <a:tab algn="l" pos="0"/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иоритетная форма устройств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ребования к кандидатам на усыновлени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fi-FI" sz="1800" spc="-1" strike="noStrike">
                <a:solidFill>
                  <a:srgbClr val="7030a0"/>
                </a:solidFill>
                <a:latin typeface="Constantia"/>
              </a:rPr>
              <a:t>- ” -</a:t>
            </a:r>
            <a:r>
              <a:rPr b="1" lang="fi-FI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fi-FI" sz="1800" spc="-1" strike="noStrike">
                <a:solidFill>
                  <a:srgbClr val="7030a0"/>
                </a:solidFill>
                <a:latin typeface="Constantia"/>
              </a:rPr>
              <a:t> - ”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тмена усыновлени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айна усыновлени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бязательная подгото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3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ндидатов на усыновлен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ff00"/>
                </a:solidFill>
                <a:latin typeface="Constant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39480">
              <a:lnSpc>
                <a:spcPct val="100000"/>
              </a:lnSpc>
              <a:spcAft>
                <a:spcPts val="1500"/>
              </a:spcAft>
              <a:buClr>
                <a:srgbClr val="e2d700"/>
              </a:buClr>
              <a:buSzPct val="115000"/>
              <a:buFont typeface="Wingdings" charset="2"/>
              <a:buChar char=""/>
              <a:tabLst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ередача детей на международное усын.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Constantia"/>
              </a:rPr>
              <a:t>Да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5384880"/>
                <a:tab algn="ctr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kstikehys 4"/>
          <p:cNvSpPr/>
          <p:nvPr/>
        </p:nvSpPr>
        <p:spPr>
          <a:xfrm>
            <a:off x="2271600" y="658188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Constantia"/>
              </a:rPr>
              <a:t>Venäjän lastensuojelun uudistuksen tukeminen -ha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3dflags_swe0001-0004a"/>
          <p:cNvPicPr/>
          <p:nvPr/>
        </p:nvPicPr>
        <p:blipFill>
          <a:blip r:embed="rId1"/>
          <a:stretch/>
        </p:blipFill>
        <p:spPr>
          <a:xfrm>
            <a:off x="7072200" y="1857240"/>
            <a:ext cx="343080" cy="257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3dflags_rus0001-0004a"/>
          <p:cNvPicPr/>
          <p:nvPr/>
        </p:nvPicPr>
        <p:blipFill>
          <a:blip r:embed="rId2"/>
          <a:stretch/>
        </p:blipFill>
        <p:spPr>
          <a:xfrm>
            <a:off x="5715000" y="1857240"/>
            <a:ext cx="343080" cy="2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3dflags_fin0001-0004a"/>
          <p:cNvPicPr/>
          <p:nvPr/>
        </p:nvPicPr>
        <p:blipFill>
          <a:blip r:embed="rId3"/>
          <a:stretch/>
        </p:blipFill>
        <p:spPr>
          <a:xfrm>
            <a:off x="7643880" y="1857240"/>
            <a:ext cx="342720" cy="2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9900"/>
                </a:solidFill>
                <a:latin typeface="Comic Sans MS"/>
              </a:rPr>
              <a:t>Подготовка /обучение замещающих родителей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Росс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норма законодательства распространяется, в основном, на все категории замещающих родителей / воспитате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кти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Швец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дготовка/обучение не обязательны, но в действительности большинство замещающих семей получают обуче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  <a:ea typeface="Arial"/>
              </a:rPr>
              <a:t>Финлянд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униципалитет, отвечающий за организацию семейного попечения, отвечает за необходимую подготовку, супервизорство и обуч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5520" y="928440"/>
            <a:ext cx="368604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План попече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4240" y="1857240"/>
            <a:ext cx="7786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Arial"/>
              </a:rPr>
              <a:t>Росс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601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Федеральном законодательстве отсутству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т.ч. в законодательстве субъектов о патронатном воспита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Швец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601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лан по попечению составляется для ребенка, нуждающегося в помещении вне родной семь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1199"/>
              </a:spcAft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сполнительный план (план по уходу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cc009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99"/>
                </a:solidFill>
                <a:latin typeface="Calibri"/>
                <a:ea typeface="Arial"/>
              </a:rPr>
              <a:t>Финлянд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Aft>
                <a:spcPts val="601"/>
              </a:spcAft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План по поечению + план по уходу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Составляется план (1) для ребенка, (2) для родителей, (3) для последующего попечения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14240" y="785880"/>
            <a:ext cx="8229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Перспективы развития работы по защит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2960" y="1500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вышение эффективности работы по сокращению количества детей-сирот и детей, оставшихся без попечения родителей за счет увеличения количества семейных форм их устройства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42960" y="2643120"/>
            <a:ext cx="7429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. сохранение ребенку биологической семьи согласно происхож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642960" y="314316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21d113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илактическая работа по защит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uorakulmio 7"/>
          <p:cNvSpPr/>
          <p:nvPr/>
        </p:nvSpPr>
        <p:spPr>
          <a:xfrm>
            <a:off x="714240" y="3571920"/>
            <a:ext cx="84297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атериальное обеспечение семей с детьми, предупреждение детской бе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Раннее выявление проблем, потребностей в психосоциальной поддержке и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Раннее вмешательство, ранняя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беспечение ресурсов и доступности амбулаторн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ддержка семьи, развитие работы с семь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</a:t>
            </a:r>
            <a:r>
              <a:rPr b="0" lang="ru-RU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Сокращение количества детей на попечении вне родной семь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Aft>
                <a:spcPts val="1001"/>
              </a:spcAft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aidallinen nuoli oikealle 8"/>
          <p:cNvSpPr/>
          <p:nvPr/>
        </p:nvSpPr>
        <p:spPr>
          <a:xfrm>
            <a:off x="428760" y="6357960"/>
            <a:ext cx="571320" cy="214200"/>
          </a:xfrm>
          <a:custGeom>
            <a:avLst/>
            <a:gdLst/>
            <a:ahLst/>
            <a:rect l="l" t="t" r="r" b="b"/>
            <a:pathLst>
              <a:path w="571500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464344" y="53578"/>
                </a:lnTo>
                <a:lnTo>
                  <a:pt x="464344" y="0"/>
                </a:lnTo>
                <a:lnTo>
                  <a:pt x="571500" y="107156"/>
                </a:lnTo>
                <a:lnTo>
                  <a:pt x="464344" y="214312"/>
                </a:lnTo>
                <a:lnTo>
                  <a:pt x="464344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40e"/>
                </a:solidFill>
                <a:latin typeface="Comic Sans MS"/>
              </a:rPr>
              <a:t>Основные формы семейного попечения</a:t>
            </a:r>
            <a:br>
              <a:rPr sz="2800"/>
            </a:br>
            <a:r>
              <a:rPr b="0" lang="ru-RU" sz="2800" spc="-1" strike="noStrike">
                <a:solidFill>
                  <a:srgbClr val="66340e"/>
                </a:solidFill>
                <a:latin typeface="Comic Sans MS"/>
                <a:ea typeface="Arial"/>
              </a:rPr>
              <a:t>&amp; приоритет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00040" y="185724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осс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 (1):  семейные формы устрой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усыновление/удочерение, опека/попечительство, приемная семья, патронатное воспитание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 (2):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ыновле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2462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оритет : 2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ьи граждан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б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дственники де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Приорите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3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енное право родственников быть опекунами или попечителя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kstikehys 4"/>
          <p:cNvSpPr/>
          <p:nvPr/>
        </p:nvSpPr>
        <p:spPr>
          <a:xfrm>
            <a:off x="395280" y="1000080"/>
            <a:ext cx="8748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06 г. общее количество выявленных и устроенных детей (вкл. детей, которые были выявлени раньше, но передались в семью в отчетном году) – 159 53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их передали в семью 76 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реждение – 24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kstikehys 5"/>
          <p:cNvSpPr/>
          <p:nvPr/>
        </p:nvSpPr>
        <p:spPr>
          <a:xfrm>
            <a:off x="571680" y="2571840"/>
            <a:ext cx="42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ены в сем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ка/попечитель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78,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ная семья – 13,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ыновление – 7,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42840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Швец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виды семейного попеч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емная семь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familjehe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– для долгосрочного попеч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ежурная семь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jourhe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– для кратковременного попеч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uorakulmio 5"/>
          <p:cNvSpPr/>
          <p:nvPr/>
        </p:nvSpPr>
        <p:spPr>
          <a:xfrm>
            <a:off x="785880" y="2714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приемной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kstikehys 7"/>
          <p:cNvSpPr/>
          <p:nvPr/>
        </p:nvSpPr>
        <p:spPr>
          <a:xfrm>
            <a:off x="785880" y="3214800"/>
            <a:ext cx="70261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8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Чужая семья» – незнакомые для ребенка лю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2060"/>
              </a:buClr>
              <a:buSzPct val="8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 из социальной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2060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 родстве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я других близ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репленное семейное по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uorakulmio 5"/>
          <p:cNvSpPr/>
          <p:nvPr/>
        </p:nvSpPr>
        <p:spPr>
          <a:xfrm>
            <a:off x="500040" y="135720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ребенок помещается на попечение вне родной семьи, в первую очередь следует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ценить:  кто из родственников или других близких лиц может принять ребенка к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kstikehys 6"/>
          <p:cNvSpPr/>
          <p:nvPr/>
        </p:nvSpPr>
        <p:spPr>
          <a:xfrm>
            <a:off x="500040" y="2714760"/>
            <a:ext cx="82868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07 году 15 100 детей нах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с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печении вне родной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их, 73,3 % проживали в приемных семьях и 23,2 % в учрежд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004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Финлянд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ная семья (семейный до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фессиональный семейный д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uorakulmio 6"/>
          <p:cNvSpPr/>
          <p:nvPr/>
        </p:nvSpPr>
        <p:spPr>
          <a:xfrm>
            <a:off x="500040" y="2000160"/>
            <a:ext cx="842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о помещения ребенка вне родной семьи необходимо выяснить у родителя, у которого ребенок, в основном, не прожив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одственников и близких ребенку лиц, возможность принятия ребенка к себе или иначе участвовать в поддерживан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uorakulmio 7"/>
          <p:cNvSpPr/>
          <p:nvPr/>
        </p:nvSpPr>
        <p:spPr>
          <a:xfrm>
            <a:off x="571680" y="364320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литика и практи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мещение маленьких детей в сем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5-20 % из детей, находящихся в семейном попечении, проживает у родстве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kstikehys 8"/>
          <p:cNvSpPr/>
          <p:nvPr/>
        </p:nvSpPr>
        <p:spPr>
          <a:xfrm>
            <a:off x="250920" y="55008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07 году 16 000 детей находилис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печении вне родной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их, 34 % проживали в приемных семьях, 50 % в учрежде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руги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401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40e"/>
                </a:solidFill>
                <a:latin typeface="Comic Sans MS"/>
              </a:rPr>
              <a:t>Количество детей в замещающих семьях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785600"/>
            <a:ext cx="7643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ка и попечительство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ная семь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щее число детей в приемной семье, включая родных и усыновленных, не должно превышать, как правило, 8 человек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тронатная семья: 1-3 дет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йная воспитательная группа: 1-3 дете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Швец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рматив/указание о максимальном количестве детей в приемной семье отсутству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6400" indent="-245880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uorakulmio 3"/>
          <p:cNvSpPr/>
          <p:nvPr/>
        </p:nvSpPr>
        <p:spPr>
          <a:xfrm>
            <a:off x="500040" y="785880"/>
            <a:ext cx="8072640" cy="21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Aft>
                <a:spcPts val="601"/>
              </a:spcAft>
              <a:buClr>
                <a:srgbClr val="cc00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alibri"/>
              </a:rPr>
              <a:t>Финлянд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53880">
              <a:lnSpc>
                <a:spcPct val="100000"/>
              </a:lnSpc>
              <a:spcAft>
                <a:spcPts val="601"/>
              </a:spcAft>
              <a:buClr>
                <a:srgbClr val="cc00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более 4 детей, включая собственных детей дошкольного возраста воспита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х лиц, нуждающихся в особом уходе или з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53880">
              <a:lnSpc>
                <a:spcPct val="100000"/>
              </a:lnSpc>
              <a:buClr>
                <a:srgbClr val="cc0099"/>
              </a:buClr>
              <a:buSzPct val="8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ение: более 4 детей, если они братья, сестры или члены одной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uorakulmio 4"/>
          <p:cNvSpPr/>
          <p:nvPr/>
        </p:nvSpPr>
        <p:spPr>
          <a:xfrm>
            <a:off x="500040" y="3000240"/>
            <a:ext cx="8286840" cy="1694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3880" indent="-353880">
              <a:lnSpc>
                <a:spcPct val="100000"/>
              </a:lnSpc>
              <a:spcAft>
                <a:spcPts val="601"/>
              </a:spcAft>
              <a:buClr>
                <a:srgbClr val="cc0099"/>
              </a:buClr>
              <a:buSzPct val="85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более 7 детей, если за уход, воспита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заботу отвеч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 не менее двух человек, проживающих в до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3538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, один из них должен иметь специальное образование и достаточный опыт по уходу и воспитанию дете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- п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ю, опыт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чным качествам подходит к данной рабо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40e"/>
                </a:solidFill>
                <a:latin typeface="Comic Sans MS"/>
              </a:rPr>
              <a:t>Правовой статус родителей ребен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400" y="1356840"/>
            <a:ext cx="87152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Arial"/>
              </a:rPr>
              <a:t>Росси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пека/попечительство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родители ребенка или лица, их заменяющие, утрачивают свои права и обязанности по представительству и защите прав и законных интересов ребенка с момента возникновения прав и обязанностей опекуна или попечителя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иемная семья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Приемные родители по отношению к принятому на воспитание ребенку или детям осуществляют права и исполняют обязанности опекуна или попечителя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buClr>
                <a:srgbClr val="ff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атронатное воспитани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а и обязанности по защите прав ребенка разграничены между патронатным воспитателем и органом опеки и попечительства (или его уполномоченным учреждением) (</a:t>
            </a:r>
            <a:r>
              <a:rPr b="0" lang="ru-RU" sz="1800" spc="-1" strike="noStrike">
                <a:solidFill>
                  <a:srgbClr val="072428"/>
                </a:solidFill>
                <a:latin typeface="Calibri"/>
              </a:rPr>
              <a:t>http://www.usynovite.ru/adoption/patronag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 обязанностей опекуна (попечителя) в отношении ребенка у органа опеки и попечительства (Закон Пермской области о патронат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45880">
              <a:lnSpc>
                <a:spcPct val="90000"/>
              </a:lnSpc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граничение прав и обязаннос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 защите законных интересов ребенка между родителями (законными представителями) ребенка, уполномоченной службой по патронату, патронатным воспитателем (Закон Краснодарского края о патронат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9:18:48Z</dcterms:created>
  <dc:creator>Kemppmar</dc:creator>
  <dc:description/>
  <dc:language>en-US</dc:language>
  <cp:lastModifiedBy>ZooM</cp:lastModifiedBy>
  <dcterms:modified xsi:type="dcterms:W3CDTF">2013-11-07T13:42:59Z</dcterms:modified>
  <cp:revision>295</cp:revision>
  <dc:subject/>
  <dc:title>Dia 1</dc:title>
</cp:coreProperties>
</file>