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B692-03EE-4131-A745-AB1AFC25FB3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7119-8F29-4C22-ADB9-B4425545E0C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F59D-2109-4045-B2DA-82FFC62AF5F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F409-40AD-43F2-8F89-A5DD120480C6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ACC1-4AEA-46BD-97A9-F1A8114B9269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AC2F-5831-46A5-A905-839F6EDA7CA8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7817-88C7-4676-9498-15A207346F1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D4A7-9172-4714-A3F4-60160DAD3B0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1AC4-8B3A-4D97-AA5C-BA428151C8C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B367-A6E2-4FD1-9D9B-DF0FA3047B7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506D-01DF-4ACE-80D6-77B970DBDD1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3E58-0380-4AA3-B4B3-B1FCFA5D446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48C8-CB96-45B9-A542-EF9D8D0C25E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B771-1FA4-40D9-997E-7C9E06753BC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9827-E625-43E0-8064-8F9C45742C9E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288-0855-491F-A59B-D9AAB5DD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1B5-DAEC-4D25-816A-147893D5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C70-CD8A-4AC8-926E-007E0470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9BE-6E17-4524-8499-9A6C9C0E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3C12-9ADC-4D51-BBB7-7E49C72D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8DB2-4B01-487A-BDEF-5FC3094A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6130-DFFB-4278-AC20-5CEFA049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CC73-D20A-445A-883B-308AC9F0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334C-C52D-42C3-A214-D6680009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6835-43F8-412E-B2E2-DABCC3D8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6CBF-EF51-406F-B05B-A9E99A2A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2DB-AFDA-408B-9D7E-98C5569E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1F04-A63C-41E5-8969-75757447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EB12-0481-4F92-9E0F-705EA6DC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9BBB-C0B1-41BA-BA8A-70C0FB0E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B9D6-8582-4A91-8668-C8EFF00B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A981-91FA-4406-BA6D-1BC6BAA2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E2856-28C7-4FD6-B149-9F783114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0F7BE-8D6C-47C9-B796-C74628F7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AC609-37B0-4BC7-BF2B-9EC5975E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BFFA2-2222-4825-B095-EA74E5BA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2408E-0691-4F4B-AA08-CFABD9A6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EE8-D3FF-45A4-9389-8022C033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AB160-0481-40B3-B9E0-DF330B2E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DE42-B556-4621-9181-3618223E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F3FAD-E153-4FF1-974E-1E8A1395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46F8E-8CEF-49C5-87FF-1F5DEE3B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F5FC8-C4A7-461E-B5C3-83B0A6F6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0BFC-8AD1-4CC1-8311-4250CEEC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F93C2-98A3-45E6-8205-113418BE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38FC2-8ED0-4A10-BE42-B241ADFB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9A1F3-2A20-4614-B96D-8828F6DF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B9CC9-B918-43B7-B33F-47BCB740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3B2-F529-472C-A587-7A6E8689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D515C-577E-4300-900F-353E6677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DD40-F59E-4655-9DF0-4A1723E7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93CFC-73C8-41D2-BA9F-84B0C275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4A805-33AE-46D8-AA39-5E7EE3CE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B3E7C-E78E-46BE-A4F0-2C95735E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8B39D-3979-425F-A2F2-C9D5D94D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941A8-2D7B-436F-9478-744359A5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F34DB-239E-4A6C-9522-E4202A6D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85793-10A2-44AC-BE40-163B77C8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41C-BDC1-4858-88CE-D579DE5E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CDF-AFB5-4976-9969-21325559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07E-CA48-43C0-9648-D559F110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207-1605-468A-865B-1278ECB2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4D3-1321-4C9D-A162-A62C2E46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uolivapaa piirto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uolivapaa piirto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A7EF-B92B-4325-B0D4-B3C328A99940}" type="slidenum">
              <a:rPr b="0" lang="fi-FI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Ryhmä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Puolivapaa piirto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Puolivapaa piirto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Puolivapaa piirto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Puolivapaa piirto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uolivapaa piirto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olivapaa piirto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Ryhmä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Puolivapaa piirto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Puolivapaa piirto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Puolivapaa piirto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Puolivapaa piirto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4D44-B2F0-4162-8571-473533AD4E4E}" type="slidenum">
              <a:rPr b="0" lang="fi-FI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uolivapaa piirto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uolivapaa piirto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yhmä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Puolivapaa piirto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Puolivapaa piirto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Puolivapaa piirto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Puolivapaa piirto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9057-EAE9-4421-A0B8-E39775D1C7F5}" type="slidenum">
              <a:rPr b="0" lang="fi-FI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uolivapaa piirto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uolivapaa piirto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Ryhmä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Puolivapaa piirto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Puolivapaa piirto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Puolivapaa piirto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Puolivapaa piirto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Yhdestä kulmasta leikattu ja pyöristetty suorakulmi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uorakulmainen kolmi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uolivapaa piirto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uolivapaa piirto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1603-FAFC-4122-9637-44FDE6525950}" type="slidenum">
              <a:rPr b="0" lang="fi-FI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uorakulmio 3"/>
          <p:cNvSpPr/>
          <p:nvPr/>
        </p:nvSpPr>
        <p:spPr>
          <a:xfrm>
            <a:off x="1071720" y="1143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2060"/>
                </a:solidFill>
                <a:latin typeface="Calibri"/>
              </a:rPr>
              <a:t>”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Родная семья – каждому ребе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беспечение прав ребенка жить и воспитываться в семье</a:t>
            </a:r>
            <a:r>
              <a:rPr b="1" lang="fi-FI" sz="1800" spc="-1" strike="noStrike">
                <a:solidFill>
                  <a:srgbClr val="00206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kstikehys 4"/>
          <p:cNvSpPr/>
          <p:nvPr/>
        </p:nvSpPr>
        <p:spPr>
          <a:xfrm>
            <a:off x="2937600" y="64296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еждународная конфе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kstikehys 8"/>
          <p:cNvSpPr/>
          <p:nvPr/>
        </p:nvSpPr>
        <p:spPr>
          <a:xfrm>
            <a:off x="3221280" y="1785960"/>
            <a:ext cx="236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осква, Са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екабрь 2-4 200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kstikehys 9"/>
          <p:cNvSpPr/>
          <p:nvPr/>
        </p:nvSpPr>
        <p:spPr>
          <a:xfrm>
            <a:off x="642960" y="321480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печение детей вне родной семь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емейные формы) – сравнительный анализ законодательства, политика и практика в России, Финляндии, Шве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ц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kstikehys 11"/>
          <p:cNvSpPr/>
          <p:nvPr/>
        </p:nvSpPr>
        <p:spPr>
          <a:xfrm>
            <a:off x="1594440" y="5357880"/>
            <a:ext cx="576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артти Кемппайн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Руководитель проекта, Центральный Союз защиты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ице-президент ФИ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2876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Швеция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ологические родители являются опекунами/попечителями своих дет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случа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если ребенок находится три года в одной и той же приемной семье, социаль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й комитет обязан оценить, с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щ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ствует ли основание подать заявление на передачу опекунства приемным родителям (Закон о социальном обслуживании глава 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8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cc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alibri"/>
                <a:ea typeface="Arial"/>
              </a:rPr>
              <a:t>Финлянди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635040" indent="-273240">
              <a:lnSpc>
                <a:spcPct val="100000"/>
              </a:lnSpc>
              <a:spcBef>
                <a:spcPts val="451"/>
              </a:spcBef>
              <a:buClr>
                <a:srgbClr val="cc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ологические родители являются опекун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/попечителями своих дет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635040" indent="-273240">
              <a:lnSpc>
                <a:spcPct val="100000"/>
              </a:lnSpc>
              <a:spcBef>
                <a:spcPts val="451"/>
              </a:spcBef>
              <a:buClr>
                <a:srgbClr val="cc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случае долгосрочного попечения, социальный комитет может оценить возможность передачи опекунства (подготовительные работы закона о защите детей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28800" y="785880"/>
            <a:ext cx="38289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сыновлени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5280" y="1628640"/>
            <a:ext cx="844704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2401"/>
              </a:spcAft>
              <a:tabLst>
                <a:tab algn="l" pos="0"/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риоритетная форма устройства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Constantia"/>
              </a:rPr>
              <a:t>Да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Требования к кандидатам на усыновлени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fi-FI" sz="1800" spc="-1" strike="noStrike">
                <a:solidFill>
                  <a:srgbClr val="7030a0"/>
                </a:solidFill>
                <a:latin typeface="Constantia"/>
              </a:rPr>
              <a:t>- ” -</a:t>
            </a:r>
            <a:r>
              <a:rPr b="1" lang="fi-FI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fi-FI" sz="1800" spc="-1" strike="noStrike">
                <a:solidFill>
                  <a:srgbClr val="7030a0"/>
                </a:solidFill>
                <a:latin typeface="Constantia"/>
              </a:rPr>
              <a:t> - ”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тмена усыновления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Constantia"/>
              </a:rPr>
              <a:t>Да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Тайна усыновления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Constantia"/>
              </a:rPr>
              <a:t>Да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бязательная подготов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33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кандидатов на усыновление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Нет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ff00"/>
                </a:solidFill>
                <a:latin typeface="Constant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339480">
              <a:lnSpc>
                <a:spcPct val="100000"/>
              </a:lnSpc>
              <a:spcAft>
                <a:spcPts val="1500"/>
              </a:spcAft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ередача детей на международное усын.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Constantia"/>
              </a:rPr>
              <a:t>Да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kstikehys 4"/>
          <p:cNvSpPr/>
          <p:nvPr/>
        </p:nvSpPr>
        <p:spPr>
          <a:xfrm>
            <a:off x="2271600" y="6581880"/>
            <a:ext cx="41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Constantia"/>
              </a:rPr>
              <a:t>Venäjän lastensuojelun uudistuksen tukeminen -ha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3dflags_swe0001-0004a"/>
          <p:cNvPicPr/>
          <p:nvPr/>
        </p:nvPicPr>
        <p:blipFill>
          <a:blip r:embed="rId1"/>
          <a:stretch/>
        </p:blipFill>
        <p:spPr>
          <a:xfrm>
            <a:off x="7072200" y="1857240"/>
            <a:ext cx="343080" cy="257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3dflags_rus0001-0004a"/>
          <p:cNvPicPr/>
          <p:nvPr/>
        </p:nvPicPr>
        <p:blipFill>
          <a:blip r:embed="rId2"/>
          <a:stretch/>
        </p:blipFill>
        <p:spPr>
          <a:xfrm>
            <a:off x="5715000" y="1857240"/>
            <a:ext cx="343080" cy="2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3dflags_fin0001-0004a"/>
          <p:cNvPicPr/>
          <p:nvPr/>
        </p:nvPicPr>
        <p:blipFill>
          <a:blip r:embed="rId3"/>
          <a:stretch/>
        </p:blipFill>
        <p:spPr>
          <a:xfrm>
            <a:off x="7643880" y="1857240"/>
            <a:ext cx="342720" cy="2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9900"/>
                </a:solidFill>
                <a:latin typeface="Comic Sans MS"/>
              </a:rPr>
              <a:t>Подготовка /обучение замещающих родителей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Росс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настоящее время норма законодательства распространяется, в основном, на все категории замещающих родителей / воспитател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кти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Швец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дготовка/обучение не обязательны, но в действительности большинство замещающих семей получают обучен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  <a:ea typeface="Arial"/>
              </a:rPr>
              <a:t>Финлянд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униципалитет, отвечающий за организацию семейного попечения, отвечает за необходимую подготовку, супервизорство и обуч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5520" y="928440"/>
            <a:ext cx="368604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План попече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14240" y="1857240"/>
            <a:ext cx="7786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Arial"/>
              </a:rPr>
              <a:t>Россия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Aft>
                <a:spcPts val="601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Федеральном законодательстве отсутству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т.ч. в законодательстве субъектов о патронатном воспитан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2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Швеция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Aft>
                <a:spcPts val="601"/>
              </a:spcAft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лан по попечению составляется для ребенка, нуждающегося в помещении вне родной семь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Aft>
                <a:spcPts val="1199"/>
              </a:spcAft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сполнительный план (план по уходу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cc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99"/>
                </a:solidFill>
                <a:latin typeface="Calibri"/>
                <a:ea typeface="Arial"/>
              </a:rPr>
              <a:t>Финляндия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Aft>
                <a:spcPts val="601"/>
              </a:spcAft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План по поечению + план по уходу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Составляется план (1) для ребенка, (2) для родителей, (3) для последующего попечения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714240" y="785880"/>
            <a:ext cx="82296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Перспективы развития работы по защите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42960" y="1500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овышение эффективности работы по сокращению количества детей-сирот и детей, оставшихся без попечения родителей за счет увеличения количества семейных форм их устройства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642960" y="2643120"/>
            <a:ext cx="7429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. сохранение ребенку биологической семьи согласно происхожд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642960" y="314316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21d113"/>
              </a:buClr>
              <a:buSzPct val="9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илактическая работа по защите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uorakulmio 7"/>
          <p:cNvSpPr/>
          <p:nvPr/>
        </p:nvSpPr>
        <p:spPr>
          <a:xfrm>
            <a:off x="714240" y="3571920"/>
            <a:ext cx="84297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Материальное обеспечение семей с детьми, предупреждение детской бе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Раннее выявление проблем, потребностей в психосоциальной поддержке и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Раннее вмешательство, ранняя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беспечение ресурсов и доступности амбулаторных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оддержка семьи, развитие работы с семь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</a:t>
            </a:r>
            <a:r>
              <a:rPr b="0" lang="ru-RU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Сокращение количества детей на попечении вне родной семь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aidallinen nuoli oikealle 8"/>
          <p:cNvSpPr/>
          <p:nvPr/>
        </p:nvSpPr>
        <p:spPr>
          <a:xfrm>
            <a:off x="428760" y="6357960"/>
            <a:ext cx="571320" cy="214200"/>
          </a:xfrm>
          <a:custGeom>
            <a:avLst/>
            <a:gdLst/>
            <a:ahLst/>
            <a:rect l="l" t="t" r="r" b="b"/>
            <a:pathLst>
              <a:path w="571500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464344" y="53578"/>
                </a:lnTo>
                <a:lnTo>
                  <a:pt x="464344" y="0"/>
                </a:lnTo>
                <a:lnTo>
                  <a:pt x="571500" y="107156"/>
                </a:lnTo>
                <a:lnTo>
                  <a:pt x="464344" y="214312"/>
                </a:lnTo>
                <a:lnTo>
                  <a:pt x="464344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40e"/>
                </a:solidFill>
                <a:latin typeface="Comic Sans MS"/>
              </a:rPr>
              <a:t>Основные формы семейного попечения</a:t>
            </a:r>
            <a:br>
              <a:rPr sz="2800"/>
            </a:br>
            <a:r>
              <a:rPr b="0" lang="ru-RU" sz="2800" spc="-1" strike="noStrike">
                <a:solidFill>
                  <a:srgbClr val="66340e"/>
                </a:solidFill>
                <a:latin typeface="Comic Sans MS"/>
                <a:ea typeface="Arial"/>
              </a:rPr>
              <a:t>&amp; приоритеты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00040" y="185724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осс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 (1):  семейные формы устройст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усыновление/удочерение, опека/попечительство, приемная семья, патронатное воспитание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 (2):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ыновлен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2462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оритет : 2а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мьи граждан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б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дственники дет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Приорите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3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имущественное право родственников быть опекунами или попечителям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kstikehys 4"/>
          <p:cNvSpPr/>
          <p:nvPr/>
        </p:nvSpPr>
        <p:spPr>
          <a:xfrm>
            <a:off x="395280" y="1000080"/>
            <a:ext cx="87487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2006 г. общее количество выявленных и устроенных детей (вкл. детей, которые были выявлени раньше, но передались в семью в отчетном году) – 159 53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них передали в семью 76 %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чреждение – 24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kstikehys 5"/>
          <p:cNvSpPr/>
          <p:nvPr/>
        </p:nvSpPr>
        <p:spPr>
          <a:xfrm>
            <a:off x="571680" y="2571840"/>
            <a:ext cx="428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оены в сем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ка/попечитель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78,7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ная семья – 13,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ыновление – 7,9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00040" y="42840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Швец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виды семейного попеч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емная семь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familjehe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– для долгосрочного попеч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ежурная семь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jourhe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– для кратковременного попеч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uorakulmio 5"/>
          <p:cNvSpPr/>
          <p:nvPr/>
        </p:nvSpPr>
        <p:spPr>
          <a:xfrm>
            <a:off x="785880" y="27147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ы приемной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kstikehys 7"/>
          <p:cNvSpPr/>
          <p:nvPr/>
        </p:nvSpPr>
        <p:spPr>
          <a:xfrm>
            <a:off x="785880" y="3214800"/>
            <a:ext cx="70261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8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Чужая семья» – незнакомые для ребенка лю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2060"/>
              </a:buClr>
              <a:buSzPct val="8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ья из социальной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2060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ья родстве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ья других близ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репленное семейное по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uorakulmio 5"/>
          <p:cNvSpPr/>
          <p:nvPr/>
        </p:nvSpPr>
        <p:spPr>
          <a:xfrm>
            <a:off x="500040" y="1357200"/>
            <a:ext cx="785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ребенок помещается на попечение вне родной семьи, в первую очередь следует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ценить:  кто из родственников или других близких лиц может принять ребенка к с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kstikehys 6"/>
          <p:cNvSpPr/>
          <p:nvPr/>
        </p:nvSpPr>
        <p:spPr>
          <a:xfrm>
            <a:off x="500040" y="2714760"/>
            <a:ext cx="828684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2007 году 15 100 детей нах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с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печении вне родной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них, 73,3 % проживали в приемных семьях и 23,2 % в учрежд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00040" y="713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Финлянд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ная семья (семейный дом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фессиональный семейный д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uorakulmio 6"/>
          <p:cNvSpPr/>
          <p:nvPr/>
        </p:nvSpPr>
        <p:spPr>
          <a:xfrm>
            <a:off x="500040" y="2000160"/>
            <a:ext cx="842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о помещения ребенка вне родной семьи необходимо выяснить у родителя, у которого ребенок, в основном, не прожив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одственников и близких ребенку лиц, возможность принятия ребенка к себе или иначе участвовать в поддерживан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uorakulmio 7"/>
          <p:cNvSpPr/>
          <p:nvPr/>
        </p:nvSpPr>
        <p:spPr>
          <a:xfrm>
            <a:off x="571680" y="3643200"/>
            <a:ext cx="75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олитика и практи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омещение маленьких детей в сем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5-20 % из детей, находящихся в семейном попечении, проживает у родстве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kstikehys 8"/>
          <p:cNvSpPr/>
          <p:nvPr/>
        </p:nvSpPr>
        <p:spPr>
          <a:xfrm>
            <a:off x="250920" y="55008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2007 году 16 000 детей находилис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печении вне родной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них, 34 % проживали в приемных семьях, 50 % в учрежден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 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руги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3880" y="714240"/>
            <a:ext cx="74012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40e"/>
                </a:solidFill>
                <a:latin typeface="Comic Sans MS"/>
              </a:rPr>
              <a:t>Количество детей в замещающих семьях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785600"/>
            <a:ext cx="7643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ка и попечительство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ная семья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щее число детей в приемной семье, включая родных и усыновленных, не должно превышать, как правило, 8 человек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тронатная семья: 1-3 дете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ейная воспитательная группа: 1-3 дете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Швец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рматив/указание о максимальном количестве детей в приемной семье отсутствуе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uorakulmio 3"/>
          <p:cNvSpPr/>
          <p:nvPr/>
        </p:nvSpPr>
        <p:spPr>
          <a:xfrm>
            <a:off x="500040" y="785880"/>
            <a:ext cx="8072640" cy="21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Aft>
                <a:spcPts val="601"/>
              </a:spcAft>
              <a:buClr>
                <a:srgbClr val="cc00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Финлянд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353880">
              <a:lnSpc>
                <a:spcPct val="100000"/>
              </a:lnSpc>
              <a:spcAft>
                <a:spcPts val="601"/>
              </a:spcAft>
              <a:buClr>
                <a:srgbClr val="cc00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более 4 детей, включая собственных детей дошкольного возраста воспита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х лиц, нуждающихся в особом уходе или з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353880">
              <a:lnSpc>
                <a:spcPct val="100000"/>
              </a:lnSpc>
              <a:buClr>
                <a:srgbClr val="cc0099"/>
              </a:buClr>
              <a:buSzPct val="8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лючение: более 4 детей, если они братья, сестры или члены одной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uorakulmio 4"/>
          <p:cNvSpPr/>
          <p:nvPr/>
        </p:nvSpPr>
        <p:spPr>
          <a:xfrm>
            <a:off x="500040" y="3000240"/>
            <a:ext cx="8286840" cy="1694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3880" indent="-353880">
              <a:lnSpc>
                <a:spcPct val="100000"/>
              </a:lnSpc>
              <a:spcAft>
                <a:spcPts val="601"/>
              </a:spcAft>
              <a:buClr>
                <a:srgbClr val="cc0099"/>
              </a:buClr>
              <a:buSzPct val="85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более 7 детей, если за уход, воспитан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заботу отвеч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 не менее двух человек, проживающих в до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3538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, один из них должен иметь специальное образование и достаточный опыт по уходу и воспитанию детей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- п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ю, опыт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чным качествам подходит к данной рабо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40e"/>
                </a:solidFill>
                <a:latin typeface="Comic Sans MS"/>
              </a:rPr>
              <a:t>Правовой статус родителей ребенк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400" y="1356840"/>
            <a:ext cx="87152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Arial"/>
              </a:rPr>
              <a:t>Россия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4588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Опека/попечительство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Calibri"/>
              </a:rPr>
              <a:t>родители ребенка или лица, их заменяющие, утрачивают свои права и обязанности по представительству и защите прав и законных интересов ребенка с момента возникновения прав и обязанностей опекуна или попечителя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4588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иемная семья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Calibri"/>
              </a:rPr>
              <a:t>Приемные родители по отношению к принятому на воспитание ребенку или детям осуществляют права и исполняют обязанности опекуна или попечителя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buClr>
                <a:srgbClr val="ff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атронатное воспитание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45880">
              <a:lnSpc>
                <a:spcPct val="9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а и обязанности по защите прав ребенка разграничены между патронатным воспитателем и органом опеки и попечительства (или его уполномоченным учреждением) (</a:t>
            </a:r>
            <a:r>
              <a:rPr b="0" lang="ru-RU" sz="1800" spc="-1" strike="noStrike">
                <a:solidFill>
                  <a:srgbClr val="072428"/>
                </a:solidFill>
                <a:latin typeface="Calibri"/>
              </a:rPr>
              <a:t>http://www.usynovite.ru/adoption/patronag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45880">
              <a:lnSpc>
                <a:spcPct val="9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хранение обязанностей опекуна (попечителя) в отношении ребенка у органа опеки и попечительства (Закон Пермской области о патронате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45880">
              <a:lnSpc>
                <a:spcPct val="9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граничение прав и обязаннос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 защите законных интересов ребенка между родителями (законными представителями) ребенка, уполномоченной службой по патронату, патронатным воспитателем (Закон Краснодарского края о патронате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9:18:48Z</dcterms:created>
  <dc:creator>Kemppmar</dc:creator>
  <dc:description/>
  <dc:language>en-US</dc:language>
  <cp:lastModifiedBy>ZooM</cp:lastModifiedBy>
  <dcterms:modified xsi:type="dcterms:W3CDTF">2013-11-07T13:42:59Z</dcterms:modified>
  <cp:revision>295</cp:revision>
  <dc:subject/>
  <dc:title>Dia 1</dc:title>
</cp:coreProperties>
</file>