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75D-3F44-451A-8AF1-007FA35F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6D0-CEBD-48D5-9659-40B64758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519-0A42-4141-9F8F-20FC235A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C12-EE89-4AC3-9616-3AD2C9FC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3BC-C9F6-47DF-A2AD-62FDE4CB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9F0-21EB-4522-AC95-ADBE07BD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E58-30E8-44C4-B5FD-8AC9EA3D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2F9-6C06-49FB-8FAA-1A2DB2C4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0BA-EFAF-4E2E-B7E9-5BBC1963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BE8-4F0D-46DC-9BB0-8C7B9A85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68C-984C-4B14-9DFB-7FDD3C3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390-7D8A-4D94-814C-AE52CC9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415C-460B-406B-B867-18F116082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Что такое </a:t>
            </a:r>
            <a:br>
              <a:rPr sz="4400"/>
            </a:br>
            <a:r>
              <a:rPr b="1" i="1" lang="en-US" sz="4400" spc="-1" strike="noStrike">
                <a:solidFill>
                  <a:srgbClr val="00b0f0"/>
                </a:solidFill>
                <a:latin typeface="Courier New"/>
              </a:rPr>
              <a:t>геометр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shapes.gif"/>
          <p:cNvPicPr/>
          <p:nvPr/>
        </p:nvPicPr>
        <p:blipFill>
          <a:blip r:embed="rId1"/>
          <a:stretch/>
        </p:blipFill>
        <p:spPr>
          <a:xfrm>
            <a:off x="1214280" y="1828800"/>
            <a:ext cx="6786720" cy="477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871524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acc6"/>
                </a:solidFill>
                <a:latin typeface="Calibri"/>
              </a:rPr>
              <a:t>Геометрия- одна из наиболее древних нау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Plimpton-322.jpg"/>
          <p:cNvPicPr/>
          <p:nvPr/>
        </p:nvPicPr>
        <p:blipFill>
          <a:blip r:embed="rId1"/>
          <a:stretch/>
        </p:blipFill>
        <p:spPr>
          <a:xfrm>
            <a:off x="3357720" y="1214280"/>
            <a:ext cx="3754440" cy="2621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геометрические факты были найдены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авилонских клинописных таблицах и египетских папирус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ысячелетие до н.э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7" descr="papirus_rind.jpg"/>
          <p:cNvPicPr/>
          <p:nvPr/>
        </p:nvPicPr>
        <p:blipFill>
          <a:blip r:embed="rId2"/>
          <a:stretch/>
        </p:blipFill>
        <p:spPr>
          <a:xfrm>
            <a:off x="4143240" y="3857760"/>
            <a:ext cx="4738680" cy="2589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16637.jpg"/>
          <p:cNvPicPr/>
          <p:nvPr/>
        </p:nvPicPr>
        <p:blipFill>
          <a:blip r:embed="rId1"/>
          <a:stretch/>
        </p:blipFill>
        <p:spPr>
          <a:xfrm>
            <a:off x="500040" y="357120"/>
            <a:ext cx="8190000" cy="6176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Название науки «ГЕОМЕТРИЯ» древнегреческого происхо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642840"/>
            <a:ext cx="375768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e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змеря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acc6"/>
                </a:solidFill>
                <a:latin typeface="Calibri"/>
              </a:rPr>
              <a:t>Как же появлялись и развивались геометрические зн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вязано это было с практической деятельностью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08b.jpg"/>
          <p:cNvPicPr/>
          <p:nvPr/>
        </p:nvPicPr>
        <p:blipFill>
          <a:blip r:embed="rId1"/>
          <a:stretch/>
        </p:blipFill>
        <p:spPr>
          <a:xfrm>
            <a:off x="1571760" y="3000240"/>
            <a:ext cx="7215120" cy="290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Например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РАПЕ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pezio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толик»), от которого произошло также слово  ТРАП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ИНИЯ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u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- лен, льняная ни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trapeze.png"/>
          <p:cNvPicPr/>
          <p:nvPr/>
        </p:nvPicPr>
        <p:blipFill>
          <a:blip r:embed="rId1"/>
          <a:stretch/>
        </p:blipFill>
        <p:spPr>
          <a:xfrm>
            <a:off x="5929200" y="1785960"/>
            <a:ext cx="2781360" cy="1638360"/>
          </a:xfrm>
          <a:prstGeom prst="rect">
            <a:avLst/>
          </a:prstGeom>
          <a:ln w="0">
            <a:noFill/>
          </a:ln>
        </p:spPr>
      </p:pic>
      <p:sp>
        <p:nvSpPr>
          <p:cNvPr id="57" name="Полилиния 4"/>
          <p:cNvSpPr/>
          <p:nvPr/>
        </p:nvSpPr>
        <p:spPr>
          <a:xfrm>
            <a:off x="5781600" y="3616200"/>
            <a:ext cx="3103560" cy="27180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Какие же потребности людей способствовали приобретению и накоплению геометрических сведен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9680" y="3357720"/>
            <a:ext cx="81867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Сооружение жилищ, храмов, желание украсить одежду, рисовать картины многое друг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5373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53735"/>
                </a:solidFill>
                <a:latin typeface="Calibri"/>
              </a:rPr>
              <a:t>Новые сведения и факты добывались опытным путем и данная наука не являлась точной наукой.</a:t>
            </a:r>
            <a:br>
              <a:rPr sz="2900"/>
            </a:br>
            <a:r>
              <a:rPr b="1" lang="en-US" sz="29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400" y="1714680"/>
            <a:ext cx="8258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VI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веке до н.э. древнегреческий ученый Фалес начал получать новые геометрические сведения с помощью доказатель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III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 веке до н.э. греческий ученый Евклид написал сочинение «Начала» и почти 2000 лет геометрия изучалась по этой кни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6" descr="thal_pic.gif"/>
          <p:cNvPicPr/>
          <p:nvPr/>
        </p:nvPicPr>
        <p:blipFill>
          <a:blip r:embed="rId1"/>
          <a:stretch/>
        </p:blipFill>
        <p:spPr>
          <a:xfrm>
            <a:off x="500040" y="1357200"/>
            <a:ext cx="3720960" cy="451980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7" descr="PhotoHandler.ashx.jpeg"/>
          <p:cNvPicPr/>
          <p:nvPr/>
        </p:nvPicPr>
        <p:blipFill>
          <a:blip r:embed="rId2"/>
          <a:stretch/>
        </p:blipFill>
        <p:spPr>
          <a:xfrm>
            <a:off x="4643280" y="2000160"/>
            <a:ext cx="4038840" cy="449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7T10:02:05Z</dcterms:created>
  <dc:creator>Шумилова</dc:creator>
  <dc:description/>
  <dc:language>en-US</dc:language>
  <cp:lastModifiedBy>Шумилова</cp:lastModifiedBy>
  <dcterms:modified xsi:type="dcterms:W3CDTF">2012-09-07T11:09:19Z</dcterms:modified>
  <cp:revision>9</cp:revision>
  <dc:subject/>
  <dc:title>Что такое  геометрия?</dc:title>
</cp:coreProperties>
</file>