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6A3-D877-49A7-945D-B8D74E7C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6B2-2391-4DDC-ADFD-1589B9B3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E14-785A-42AA-8FBE-4CB9DAB0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335-F691-47E6-B29A-DED944B2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B3BC-E9F3-4211-B243-55ED0F67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D9D-BB2D-4AE6-8C2E-BBA57769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5F7-E1A0-4EB6-9AE0-E0EB0DF3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A23-085A-4915-AF57-A18C037E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3C5-821F-477E-921A-39742EF7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D6E-AC83-4126-B654-A22EAF46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47A9-59A2-4E7F-B7EE-12AD43D9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B81-CA5C-4C63-AA49-B115FD2C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2111-1599-4DD5-A82B-4A2C69787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Что такое </a:t>
            </a:r>
            <a:br>
              <a:rPr sz="4400"/>
            </a:br>
            <a:r>
              <a:rPr b="1" i="1" lang="en-US" sz="4400" spc="-1" strike="noStrike">
                <a:solidFill>
                  <a:srgbClr val="00b0f0"/>
                </a:solidFill>
                <a:latin typeface="Courier New"/>
              </a:rPr>
              <a:t>геометр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shapes.gif"/>
          <p:cNvPicPr/>
          <p:nvPr/>
        </p:nvPicPr>
        <p:blipFill>
          <a:blip r:embed="rId1"/>
          <a:stretch/>
        </p:blipFill>
        <p:spPr>
          <a:xfrm>
            <a:off x="1214280" y="1828800"/>
            <a:ext cx="6786720" cy="477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00" y="571680"/>
            <a:ext cx="871524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Calibri"/>
              </a:rPr>
              <a:t>Геометрия- одна из наиболее древних нау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6" descr="Plimpton-322.jpg"/>
          <p:cNvPicPr/>
          <p:nvPr/>
        </p:nvPicPr>
        <p:blipFill>
          <a:blip r:embed="rId1"/>
          <a:stretch/>
        </p:blipFill>
        <p:spPr>
          <a:xfrm>
            <a:off x="3357720" y="1214280"/>
            <a:ext cx="3754440" cy="2621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е геометрические факты были найдены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Вавилонских клинописных таблицах и египетских папирус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ысячелетие до н.э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7" descr="papirus_rind.jpg"/>
          <p:cNvPicPr/>
          <p:nvPr/>
        </p:nvPicPr>
        <p:blipFill>
          <a:blip r:embed="rId2"/>
          <a:stretch/>
        </p:blipFill>
        <p:spPr>
          <a:xfrm>
            <a:off x="4143240" y="3857760"/>
            <a:ext cx="4738680" cy="25891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16637.jpg"/>
          <p:cNvPicPr/>
          <p:nvPr/>
        </p:nvPicPr>
        <p:blipFill>
          <a:blip r:embed="rId1"/>
          <a:stretch/>
        </p:blipFill>
        <p:spPr>
          <a:xfrm>
            <a:off x="500040" y="357120"/>
            <a:ext cx="8190000" cy="6176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Название науки «ГЕОМЕТРИЯ» древнегреческого происхожд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3642840"/>
            <a:ext cx="375768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 -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емл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re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измеря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acc6"/>
                </a:solidFill>
                <a:latin typeface="Calibri"/>
              </a:rPr>
              <a:t>Как же появлялись и развивались геометрические зна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Связано это было с практической деятельностью люд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08b.jpg"/>
          <p:cNvPicPr/>
          <p:nvPr/>
        </p:nvPicPr>
        <p:blipFill>
          <a:blip r:embed="rId1"/>
          <a:stretch/>
        </p:blipFill>
        <p:spPr>
          <a:xfrm>
            <a:off x="1571760" y="3000240"/>
            <a:ext cx="7215120" cy="290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Например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55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РАПЕЦ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pezio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толик»), от которого произошло также слово  ТРАП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ЛИНИЯ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u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- лен, льняная нит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trapeze.png"/>
          <p:cNvPicPr/>
          <p:nvPr/>
        </p:nvPicPr>
        <p:blipFill>
          <a:blip r:embed="rId1"/>
          <a:stretch/>
        </p:blipFill>
        <p:spPr>
          <a:xfrm>
            <a:off x="5929200" y="1785960"/>
            <a:ext cx="2781360" cy="1638360"/>
          </a:xfrm>
          <a:prstGeom prst="rect">
            <a:avLst/>
          </a:prstGeom>
          <a:ln w="0">
            <a:noFill/>
          </a:ln>
        </p:spPr>
      </p:pic>
      <p:sp>
        <p:nvSpPr>
          <p:cNvPr id="57" name="Полилиния 4"/>
          <p:cNvSpPr/>
          <p:nvPr/>
        </p:nvSpPr>
        <p:spPr>
          <a:xfrm>
            <a:off x="5781600" y="3616200"/>
            <a:ext cx="3103560" cy="27180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Какие же потребности людей способствовали приобретению и накоплению геометрических сведени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99680" y="3357720"/>
            <a:ext cx="81867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Сооружение жилищ, храмов, желание украсить одежду, рисовать картины многое друг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95373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53735"/>
                </a:solidFill>
                <a:latin typeface="Calibri"/>
              </a:rPr>
              <a:t>Новые сведения и факты добывались опытным путем и данная наука не являлась точной наукой.</a:t>
            </a:r>
            <a:br>
              <a:rPr sz="2900"/>
            </a:br>
            <a:r>
              <a:rPr b="1" lang="en-US" sz="2900" spc="-1" strike="noStrike">
                <a:solidFill>
                  <a:srgbClr val="953735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400" y="1714680"/>
            <a:ext cx="82580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В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VI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веке до н.э. древнегреческий ученый Фалес начал получать новые геометрические сведения с помощью доказатель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В </a:t>
            </a: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III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 веке до н.э. греческий ученый Евклид написал сочинение «Начала» и почти 2000 лет геометрия изучалась по этой кни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6" descr="thal_pic.gif"/>
          <p:cNvPicPr/>
          <p:nvPr/>
        </p:nvPicPr>
        <p:blipFill>
          <a:blip r:embed="rId1"/>
          <a:stretch/>
        </p:blipFill>
        <p:spPr>
          <a:xfrm>
            <a:off x="500040" y="1357200"/>
            <a:ext cx="3720960" cy="451980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7" descr="PhotoHandler.ashx.jpeg"/>
          <p:cNvPicPr/>
          <p:nvPr/>
        </p:nvPicPr>
        <p:blipFill>
          <a:blip r:embed="rId2"/>
          <a:stretch/>
        </p:blipFill>
        <p:spPr>
          <a:xfrm>
            <a:off x="4643280" y="2000160"/>
            <a:ext cx="4038840" cy="449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10:02:05Z</dcterms:created>
  <dc:creator>Шумилова</dc:creator>
  <dc:description/>
  <dc:language>en-US</dc:language>
  <cp:lastModifiedBy>Шумилова</cp:lastModifiedBy>
  <dcterms:modified xsi:type="dcterms:W3CDTF">2012-09-07T11:09:19Z</dcterms:modified>
  <cp:revision>9</cp:revision>
  <dc:subject/>
  <dc:title>Что такое  геометрия?</dc:title>
</cp:coreProperties>
</file>