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BF6C-3EDA-4C38-9505-DFC4B851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B8D5-EBFF-47EA-8504-06B8A72C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6D31-E603-43E1-99FB-69333C77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50C-6275-4443-BEA4-DAC5DF67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16A1-F227-4A93-8454-A64DD930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3878-0178-4ECA-BDC6-D657DB97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D2A9-C138-44C4-B1B8-C8042288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B11-1B7C-47F9-9380-C4CD42B3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721-4CBA-4FDB-8571-F50CDCEA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275-4B9E-430B-A647-CFF9A03B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052B-463E-41F9-847E-C540302D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BE7D-A127-42A9-846E-A853A0A5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F05D-9A91-4E4C-82E5-63A7DC8CEA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2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2282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МОУ «СОШ №172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.АРХАРА Аму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447920" y="1523880"/>
            <a:ext cx="670536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БУТЕРБРОД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438280" y="4038480"/>
            <a:ext cx="6400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Урок технологии. 5 класс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Учитель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РЯБИНИНА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Оксана Альбертовн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6" descr="15728"/>
          <p:cNvPicPr/>
          <p:nvPr/>
        </p:nvPicPr>
        <p:blipFill>
          <a:blip r:embed="rId1"/>
          <a:stretch/>
        </p:blipFill>
        <p:spPr>
          <a:xfrm>
            <a:off x="8077320" y="228600"/>
            <a:ext cx="84744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24502"/>
          <p:cNvPicPr/>
          <p:nvPr/>
        </p:nvPicPr>
        <p:blipFill>
          <a:blip r:embed="rId2"/>
          <a:stretch/>
        </p:blipFill>
        <p:spPr>
          <a:xfrm>
            <a:off x="533520" y="5425920"/>
            <a:ext cx="1218960" cy="974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24691"/>
          <p:cNvPicPr/>
          <p:nvPr/>
        </p:nvPicPr>
        <p:blipFill>
          <a:blip r:embed="rId3"/>
          <a:stretch/>
        </p:blipFill>
        <p:spPr>
          <a:xfrm>
            <a:off x="380880" y="304920"/>
            <a:ext cx="1005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2362320" y="304920"/>
            <a:ext cx="4952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БУТЕРБРОДЫ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533520" y="2057400"/>
            <a:ext cx="342900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ОЛОДН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4800600" y="2133720"/>
            <a:ext cx="39625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ОРЯЧИ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228600" y="4114800"/>
            <a:ext cx="32767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КРЫТ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5029200" y="4343400"/>
            <a:ext cx="38862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КРЫТ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5257800" y="3200400"/>
            <a:ext cx="36576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КУСОЧН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AutoShape 18"/>
          <p:cNvSpPr/>
          <p:nvPr/>
        </p:nvSpPr>
        <p:spPr>
          <a:xfrm rot="6216600">
            <a:off x="480600" y="332100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AutoShape 19"/>
          <p:cNvSpPr/>
          <p:nvPr/>
        </p:nvSpPr>
        <p:spPr>
          <a:xfrm rot="3208800">
            <a:off x="5676480" y="1560600"/>
            <a:ext cx="914400" cy="304920"/>
          </a:xfrm>
          <a:custGeom>
            <a:avLst/>
            <a:gdLst>
              <a:gd name="textAreaLeft" fmla="*/ 1141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AutoShape 21"/>
          <p:cNvSpPr/>
          <p:nvPr/>
        </p:nvSpPr>
        <p:spPr>
          <a:xfrm rot="7561200">
            <a:off x="2380680" y="1528200"/>
            <a:ext cx="838080" cy="304920"/>
          </a:xfrm>
          <a:custGeom>
            <a:avLst/>
            <a:gdLst>
              <a:gd name="textAreaLeft" fmla="*/ 104760 w 838080"/>
              <a:gd name="textAreaRight" fmla="*/ 733320 w 8380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AutoShape 22"/>
          <p:cNvSpPr/>
          <p:nvPr/>
        </p:nvSpPr>
        <p:spPr>
          <a:xfrm rot="1975200">
            <a:off x="2161800" y="3765600"/>
            <a:ext cx="3124080" cy="380880"/>
          </a:xfrm>
          <a:custGeom>
            <a:avLst/>
            <a:gdLst>
              <a:gd name="textAreaLeft" fmla="*/ 390240 w 3124080"/>
              <a:gd name="textAreaRight" fmla="*/ 2733840 w 31240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AutoShape 23"/>
          <p:cNvSpPr/>
          <p:nvPr/>
        </p:nvSpPr>
        <p:spPr>
          <a:xfrm rot="961200">
            <a:off x="3276360" y="3276720"/>
            <a:ext cx="2057400" cy="4078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101880 h 407880"/>
              <a:gd name="textAreaBottom" fmla="*/ 306000 h 407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24" descr="24514"/>
          <p:cNvPicPr/>
          <p:nvPr/>
        </p:nvPicPr>
        <p:blipFill>
          <a:blip r:embed="rId1"/>
          <a:stretch/>
        </p:blipFill>
        <p:spPr>
          <a:xfrm>
            <a:off x="7467480" y="4191120"/>
            <a:ext cx="145728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25"/>
          <p:cNvSpPr/>
          <p:nvPr/>
        </p:nvSpPr>
        <p:spPr>
          <a:xfrm rot="7240200">
            <a:off x="876240" y="5114520"/>
            <a:ext cx="533520" cy="380880"/>
          </a:xfrm>
          <a:custGeom>
            <a:avLst/>
            <a:gdLst>
              <a:gd name="textAreaLeft" fmla="*/ 66600 w 533520"/>
              <a:gd name="textAreaRight" fmla="*/ 466920 w 5335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AutoShape 26"/>
          <p:cNvSpPr/>
          <p:nvPr/>
        </p:nvSpPr>
        <p:spPr>
          <a:xfrm rot="2019000">
            <a:off x="2971440" y="5333760"/>
            <a:ext cx="1447920" cy="38088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4419720" y="5638680"/>
            <a:ext cx="27432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ЛОЖН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28"/>
          <p:cNvSpPr/>
          <p:nvPr/>
        </p:nvSpPr>
        <p:spPr>
          <a:xfrm>
            <a:off x="304920" y="5638680"/>
            <a:ext cx="25146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СТЫ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29" descr="24508"/>
          <p:cNvPicPr/>
          <p:nvPr/>
        </p:nvPicPr>
        <p:blipFill>
          <a:blip r:embed="rId2"/>
          <a:stretch/>
        </p:blipFill>
        <p:spPr>
          <a:xfrm>
            <a:off x="2362320" y="4267080"/>
            <a:ext cx="1019160" cy="743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24502"/>
          <p:cNvPicPr/>
          <p:nvPr/>
        </p:nvPicPr>
        <p:blipFill>
          <a:blip r:embed="rId3"/>
          <a:stretch/>
        </p:blipFill>
        <p:spPr>
          <a:xfrm>
            <a:off x="2971800" y="22096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24519"/>
          <p:cNvPicPr/>
          <p:nvPr/>
        </p:nvPicPr>
        <p:blipFill>
          <a:blip r:embed="rId4"/>
          <a:stretch/>
        </p:blipFill>
        <p:spPr>
          <a:xfrm>
            <a:off x="7772400" y="3184560"/>
            <a:ext cx="1066680" cy="85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24520"/>
          <p:cNvPicPr/>
          <p:nvPr/>
        </p:nvPicPr>
        <p:blipFill>
          <a:blip r:embed="rId5"/>
          <a:stretch/>
        </p:blipFill>
        <p:spPr>
          <a:xfrm>
            <a:off x="7238880" y="19051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4" descr="24505"/>
          <p:cNvPicPr/>
          <p:nvPr/>
        </p:nvPicPr>
        <p:blipFill>
          <a:blip r:embed="rId6"/>
          <a:stretch/>
        </p:blipFill>
        <p:spPr>
          <a:xfrm>
            <a:off x="6248520" y="5410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5" descr="24523"/>
          <p:cNvPicPr/>
          <p:nvPr/>
        </p:nvPicPr>
        <p:blipFill>
          <a:blip r:embed="rId7"/>
          <a:stretch/>
        </p:blipFill>
        <p:spPr>
          <a:xfrm>
            <a:off x="2133720" y="5410080"/>
            <a:ext cx="5713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6" descr="24531"/>
          <p:cNvPicPr/>
          <p:nvPr/>
        </p:nvPicPr>
        <p:blipFill>
          <a:blip r:embed="rId8"/>
          <a:stretch/>
        </p:blipFill>
        <p:spPr>
          <a:xfrm>
            <a:off x="7086600" y="5638680"/>
            <a:ext cx="12193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33920" y="274320"/>
            <a:ext cx="495288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Правила</a:t>
            </a:r>
            <a:br>
              <a:rPr sz="5400"/>
            </a:b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 безопасной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Comic Sans MS"/>
              </a:rPr>
              <a:t>С режущими инструмен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5722"/>
          <p:cNvPicPr/>
          <p:nvPr/>
        </p:nvPicPr>
        <p:blipFill>
          <a:blip r:embed="rId1"/>
          <a:stretch/>
        </p:blipFill>
        <p:spPr>
          <a:xfrm>
            <a:off x="838080" y="762120"/>
            <a:ext cx="1785960" cy="2057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24468"/>
          <p:cNvPicPr/>
          <p:nvPr/>
        </p:nvPicPr>
        <p:blipFill>
          <a:blip r:embed="rId2"/>
          <a:stretch/>
        </p:blipFill>
        <p:spPr>
          <a:xfrm>
            <a:off x="1447920" y="3048120"/>
            <a:ext cx="2128680" cy="1784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24476"/>
          <p:cNvPicPr/>
          <p:nvPr/>
        </p:nvPicPr>
        <p:blipFill>
          <a:blip r:embed="rId3"/>
          <a:stretch/>
        </p:blipFill>
        <p:spPr>
          <a:xfrm>
            <a:off x="19080" y="5029200"/>
            <a:ext cx="9124920" cy="14367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3429000" y="3200400"/>
            <a:ext cx="57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Comic Sans MS"/>
              </a:rPr>
              <a:t>С электронагревательными приборами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Бутерброд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Бутерброды готовят на пшеничном и ржаном хлебе с различными продук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На ржаном хлебе готовят бутерброды с жирными продуктами и с продуктами, имеющими резко выраженный запах и вкус, например, с сельд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Хлеб нарезают ломтиками толщиной 1-1,5 см и массой 30-40 г и на него укладывают различные продукты так, чтобы они закрывали весь ломтик хл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24531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47712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Открытые </a:t>
            </a:r>
            <a:br>
              <a:rPr sz="5400"/>
            </a:br>
            <a:r>
              <a:rPr b="1" lang="ru-RU" sz="5400" spc="-1" strike="noStrike">
                <a:solidFill>
                  <a:srgbClr val="ff5050"/>
                </a:solidFill>
                <a:latin typeface="Comic Sans MS"/>
              </a:rPr>
              <a:t>бутербр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Открытые бутерброды смазывают тонким слоем масла и укладывают на него проду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Бутерброд можно украсить зеленью петрушки, кружочком сваренного вкрутую яйца, ломтиками огурца, помидора, лимона или апельс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24508"/>
          <p:cNvPicPr/>
          <p:nvPr/>
        </p:nvPicPr>
        <p:blipFill>
          <a:blip r:embed="rId1"/>
          <a:stretch/>
        </p:blipFill>
        <p:spPr>
          <a:xfrm>
            <a:off x="6248520" y="762120"/>
            <a:ext cx="200952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Закрытые бутерб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24514"/>
          <p:cNvPicPr/>
          <p:nvPr/>
        </p:nvPicPr>
        <p:blipFill>
          <a:blip r:embed="rId1"/>
          <a:stretch/>
        </p:blipFill>
        <p:spPr>
          <a:xfrm>
            <a:off x="6477120" y="4343400"/>
            <a:ext cx="2143080" cy="1568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Закрытые бутерброды готовят на мелкоштучных булочках                (массой до 40 г) или              помещают продукт между              двумя кусками хлеба толщиной 0,5 см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Закусочные бутерб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Закусочные бутерброды (канапе) готовят на кусках обжаренного хлеба толщиной 0,5 см и шириной 5-6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Форма куска хлеба может быть разной – прямоугольной, квадратной, треугольной или фигур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Украшают сливочным маслом или майонезом, выпущенным из кондитерского ме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24519"/>
          <p:cNvPicPr/>
          <p:nvPr/>
        </p:nvPicPr>
        <p:blipFill>
          <a:blip r:embed="rId1"/>
          <a:stretch/>
        </p:blipFill>
        <p:spPr>
          <a:xfrm>
            <a:off x="6934320" y="5045040"/>
            <a:ext cx="179064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ВНИМ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Все виды бутербродов готовят непосредственно перед подачей к стол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Готовые бутерброды хранят не более 30-4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Все продукты и полуфабрикаты должны быть абсолютно свеж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Обработка сырых и вареных продуктов должна проводиться отд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46"/>
          <p:cNvPicPr/>
          <p:nvPr/>
        </p:nvPicPr>
        <p:blipFill>
          <a:blip r:embed="rId1"/>
          <a:stretch/>
        </p:blipFill>
        <p:spPr>
          <a:xfrm rot="1138800">
            <a:off x="6629040" y="3808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246"/>
          <p:cNvPicPr/>
          <p:nvPr/>
        </p:nvPicPr>
        <p:blipFill>
          <a:blip r:embed="rId2"/>
          <a:stretch/>
        </p:blipFill>
        <p:spPr>
          <a:xfrm rot="19940400">
            <a:off x="1676520" y="38052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2498"/>
          <p:cNvPicPr/>
          <p:nvPr/>
        </p:nvPicPr>
        <p:blipFill>
          <a:blip r:embed="rId3"/>
          <a:stretch/>
        </p:blipFill>
        <p:spPr>
          <a:xfrm>
            <a:off x="7772400" y="5611680"/>
            <a:ext cx="105732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Сандвич (закрытый бутерброд)   назван так в честь англичанина   сэра Сэндвича.               Любитель карточных игр,            он не мог оторваться от карт     даже для того, чтобы поужинать,    и приносил ужин с собой:          два ломтя хлеба,          намазанные маслом  и    соединенные между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666520" y="2743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050"/>
                </a:solidFill>
                <a:latin typeface="Comic Sans MS"/>
              </a:rPr>
              <a:t>ВНИМАНИЕ</a:t>
            </a:r>
            <a:r>
              <a:rPr b="0" lang="ru-RU" sz="4400" spc="-1" strike="noStrike">
                <a:solidFill>
                  <a:srgbClr val="ff505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246"/>
          <p:cNvPicPr/>
          <p:nvPr/>
        </p:nvPicPr>
        <p:blipFill>
          <a:blip r:embed="rId1"/>
          <a:stretch/>
        </p:blipFill>
        <p:spPr>
          <a:xfrm rot="19940400">
            <a:off x="1676520" y="38052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246"/>
          <p:cNvPicPr/>
          <p:nvPr/>
        </p:nvPicPr>
        <p:blipFill>
          <a:blip r:embed="rId2"/>
          <a:stretch/>
        </p:blipFill>
        <p:spPr>
          <a:xfrm rot="2596200">
            <a:off x="7086240" y="38088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14975"/>
          <p:cNvPicPr/>
          <p:nvPr/>
        </p:nvPicPr>
        <p:blipFill>
          <a:blip r:embed="rId3"/>
          <a:stretch/>
        </p:blipFill>
        <p:spPr>
          <a:xfrm>
            <a:off x="380880" y="4495680"/>
            <a:ext cx="16923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9:21:09Z</dcterms:created>
  <dc:creator>Admin</dc:creator>
  <dc:description/>
  <dc:language>en-US</dc:language>
  <cp:lastModifiedBy>Admin</cp:lastModifiedBy>
  <dcterms:modified xsi:type="dcterms:W3CDTF">2013-02-04T22:09:12Z</dcterms:modified>
  <cp:revision>36</cp:revision>
  <dc:subject/>
  <dc:title>Слайд 1</dc:title>
</cp:coreProperties>
</file>