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C1ABA-F777-48B1-BB2F-066C7F5F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68AA-A188-4EF0-8835-4A0AA12E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4DDEB-0904-44B3-8FA8-D0D171F2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ADA2F-3B65-47BF-8CA7-078EE024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3463-F549-42EE-8161-743C0AA6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C399-BFE1-4411-8975-EB21E4AA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9EA4-56C5-4AA3-B8C1-91B3DE68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88E3-CDE5-4296-869E-3E98C856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CAC9-4CB8-451D-95A2-425831D0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3E43-AFEE-4CF2-8941-7C0FD150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6C35-1A10-4343-8196-96EE8A6D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0E385-DE2D-4618-9974-CB83E91B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7FE5-D304-4F42-89B1-61E4F489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F31C-2029-472C-A6D3-A47A958F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5C66-6ECE-4924-8B65-F7755DA5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E808-81AA-4795-A810-C12FC0D3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A6F6-5458-4ED1-8131-4C26A68B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71B7-BCA8-4144-88A2-AEEAC4C4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A57CC-4881-45F7-BB9A-309F02E2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AD6BC-E63D-48C9-B9E2-35EF06FC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49B21-6BAE-4F30-AC1E-4C293544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91329-5D8F-4014-8B8B-F7BE0F36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547CE-82BD-4522-8F32-7AFB137D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5DE81-6AE1-4EDE-AD58-192201CA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8347-C654-4E46-9464-06B4494E260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DB6B-9159-4606-9E30-15F47D3FC6E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104000" cy="14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Жесты судьи «Баскетбол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2232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бьюбю"/>
          <p:cNvPicPr/>
          <p:nvPr/>
        </p:nvPicPr>
        <p:blipFill>
          <a:blip r:embed="rId1"/>
          <a:stretch/>
        </p:blipFill>
        <p:spPr>
          <a:xfrm>
            <a:off x="3132000" y="2060640"/>
            <a:ext cx="1295640" cy="1800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9" name="Picture 7" descr="митчитмт"/>
          <p:cNvPicPr/>
          <p:nvPr/>
        </p:nvPicPr>
        <p:blipFill>
          <a:blip r:embed="rId2"/>
          <a:stretch/>
        </p:blipFill>
        <p:spPr>
          <a:xfrm>
            <a:off x="4932360" y="2060640"/>
            <a:ext cx="1224000" cy="1800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0" name="Picture 8" descr="тимтмитим"/>
          <p:cNvPicPr/>
          <p:nvPr/>
        </p:nvPicPr>
        <p:blipFill>
          <a:blip r:embed="rId3"/>
          <a:stretch/>
        </p:blipFill>
        <p:spPr>
          <a:xfrm>
            <a:off x="6877080" y="2060640"/>
            <a:ext cx="1224000" cy="1800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1" name="Picture 9" descr="тьбтб"/>
          <p:cNvPicPr/>
          <p:nvPr/>
        </p:nvPicPr>
        <p:blipFill>
          <a:blip r:embed="rId4"/>
          <a:stretch/>
        </p:blipFill>
        <p:spPr>
          <a:xfrm>
            <a:off x="324000" y="1628640"/>
            <a:ext cx="2376360" cy="2808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2" name="Rectangle 10"/>
          <p:cNvSpPr/>
          <p:nvPr/>
        </p:nvSpPr>
        <p:spPr>
          <a:xfrm>
            <a:off x="755640" y="4287240"/>
            <a:ext cx="777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Игра в баскетбо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В баскетбол играют две (2) команды, в каждой из которых по пять (5) игроков. Цель каждой команды состоит в том, чтобы забросить мяч в корзину соперников и помешать другой команде забросить его в корзин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Игрой управляют судьи, судьи-секретари и комиссар (если присутствуе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62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867280" y="1267920"/>
            <a:ext cx="309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За мяч, заброшенный со штрафного броска, засчитывается одно очко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За мяч, заброшенный с игры, из 2-х очковой зоны засчитывается два очка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За мяч, заброшенный из 3-х очковой зоны, засчитывается три очк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количество штрафных бросков"/>
          <p:cNvPicPr/>
          <p:nvPr/>
        </p:nvPicPr>
        <p:blipFill>
          <a:blip r:embed="rId1"/>
          <a:stretch/>
        </p:blipFill>
        <p:spPr>
          <a:xfrm>
            <a:off x="468360" y="260280"/>
            <a:ext cx="5616360" cy="5905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итмт"/>
          <p:cNvPicPr/>
          <p:nvPr/>
        </p:nvPicPr>
        <p:blipFill>
          <a:blip r:embed="rId2"/>
          <a:stretch/>
        </p:blipFill>
        <p:spPr>
          <a:xfrm>
            <a:off x="4211640" y="3789360"/>
            <a:ext cx="1297080" cy="215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АБОТУ ВЫПОЛНИЛА: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ФИЗКУЛЬТУРЫ МОУСО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ЭДЕЛЬВЕЙ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.НАХОД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ЛУБЕВА ЛЮДМИЛА МИХАЙЛ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65960"/>
            <a:ext cx="41734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508720" y="549000"/>
            <a:ext cx="3456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рзины: соперников/собстве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рзина, которую команда атакует, называется корзиной соперников, а корзина, которую команда защищает, называется собственной корзиной команд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3x"/>
          <p:cNvPicPr/>
          <p:nvPr/>
        </p:nvPicPr>
        <p:blipFill>
          <a:blip r:embed="rId1"/>
          <a:stretch/>
        </p:blipFill>
        <p:spPr>
          <a:xfrm>
            <a:off x="468360" y="260280"/>
            <a:ext cx="4895640" cy="6193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пьрпьм"/>
          <p:cNvPicPr/>
          <p:nvPr/>
        </p:nvPicPr>
        <p:blipFill>
          <a:blip r:embed="rId2"/>
          <a:stretch/>
        </p:blipFill>
        <p:spPr>
          <a:xfrm>
            <a:off x="1908000" y="2852640"/>
            <a:ext cx="1295640" cy="172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454640" y="1599840"/>
            <a:ext cx="90936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игровая площадка"/>
          <p:cNvPicPr/>
          <p:nvPr/>
        </p:nvPicPr>
        <p:blipFill>
          <a:blip r:embed="rId1"/>
          <a:stretch/>
        </p:blipFill>
        <p:spPr>
          <a:xfrm>
            <a:off x="428760" y="142920"/>
            <a:ext cx="4968720" cy="6119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6084720" y="2513880"/>
            <a:ext cx="28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обедитель иг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обедителем становится команда, которая по окончании игрового времени набрала большее количество оч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7" descr="6565"/>
          <p:cNvPicPr/>
          <p:nvPr/>
        </p:nvPicPr>
        <p:blipFill>
          <a:blip r:embed="rId2"/>
          <a:stretch/>
        </p:blipFill>
        <p:spPr>
          <a:xfrm>
            <a:off x="1428840" y="2428920"/>
            <a:ext cx="2232000" cy="142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ограничивающая линия"/>
          <p:cNvPicPr/>
          <p:nvPr/>
        </p:nvPicPr>
        <p:blipFill>
          <a:blip r:embed="rId1"/>
          <a:stretch/>
        </p:blipFill>
        <p:spPr>
          <a:xfrm>
            <a:off x="500040" y="357120"/>
            <a:ext cx="4824360" cy="5761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580000" y="691920"/>
            <a:ext cx="32385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гровая баскетбольная площадка должна представлять собой плоскую прямоугольную твердую поверхность без каких-либо препятствий. Размеры должны быть 28 метров в длину и 15 метров ширину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6767"/>
          <p:cNvPicPr/>
          <p:nvPr/>
        </p:nvPicPr>
        <p:blipFill>
          <a:blip r:embed="rId2"/>
          <a:stretch/>
        </p:blipFill>
        <p:spPr>
          <a:xfrm>
            <a:off x="3348000" y="2492280"/>
            <a:ext cx="1079640" cy="136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97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580000" y="2565360"/>
            <a:ext cx="338472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аскетбольные щиты с корзиной должны быть изготовлены из соответствующего прозрачного материала или выкрашены в белый цвет. Размеры баскетбольных щитов должны быть: 1,80 м по горизонтали и 1,05 м по вертикал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защитывание попадание"/>
          <p:cNvPicPr/>
          <p:nvPr/>
        </p:nvPicPr>
        <p:blipFill>
          <a:blip r:embed="rId1"/>
          <a:stretch/>
        </p:blipFill>
        <p:spPr>
          <a:xfrm>
            <a:off x="250920" y="260280"/>
            <a:ext cx="5257800" cy="612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бтьбть"/>
          <p:cNvPicPr/>
          <p:nvPr/>
        </p:nvPicPr>
        <p:blipFill>
          <a:blip r:embed="rId2"/>
          <a:stretch/>
        </p:blipFill>
        <p:spPr>
          <a:xfrm>
            <a:off x="6084720" y="189000"/>
            <a:ext cx="2448000" cy="223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3355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27280" y="2420640"/>
            <a:ext cx="2737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5" descr="виды нарушений"/>
          <p:cNvPicPr/>
          <p:nvPr/>
        </p:nvPicPr>
        <p:blipFill>
          <a:blip r:embed="rId1"/>
          <a:stretch/>
        </p:blipFill>
        <p:spPr>
          <a:xfrm>
            <a:off x="324000" y="189000"/>
            <a:ext cx="5545080" cy="6408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67687"/>
          <p:cNvPicPr/>
          <p:nvPr/>
        </p:nvPicPr>
        <p:blipFill>
          <a:blip r:embed="rId2"/>
          <a:stretch/>
        </p:blipFill>
        <p:spPr>
          <a:xfrm>
            <a:off x="6227640" y="4626000"/>
            <a:ext cx="1944720" cy="1898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8"/>
          <p:cNvSpPr/>
          <p:nvPr/>
        </p:nvSpPr>
        <p:spPr>
          <a:xfrm>
            <a:off x="6156360" y="1052640"/>
            <a:ext cx="230328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 баскетболе мячом играют только руками. Бежать с мячом, преднамеренно бить по нему ногой, блокировать любой частью ноги или бить по нему кулаком является нарушением.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4465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867280" y="1557360"/>
            <a:ext cx="2881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ол - это несоблюдение правил, вследствие персонального контакта с соперником и/или неспортивного поведения. 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показ нарушений секретарскому столику"/>
          <p:cNvPicPr/>
          <p:nvPr/>
        </p:nvPicPr>
        <p:blipFill>
          <a:blip r:embed="rId1"/>
          <a:stretch/>
        </p:blipFill>
        <p:spPr>
          <a:xfrm>
            <a:off x="611280" y="189000"/>
            <a:ext cx="5329080" cy="604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5256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372360" y="836640"/>
            <a:ext cx="2519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ждый раз, когда игрок получает контроль над живым мячом на площадке, попытка броска по корзине должна быть реализована его командой в течение двадцати четыре секунд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тип фола"/>
          <p:cNvPicPr/>
          <p:nvPr/>
        </p:nvPicPr>
        <p:blipFill>
          <a:blip r:embed="rId1"/>
          <a:stretch/>
        </p:blipFill>
        <p:spPr>
          <a:xfrm>
            <a:off x="539640" y="333360"/>
            <a:ext cx="5543640" cy="5975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338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7280" y="1125360"/>
            <a:ext cx="2592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правилам баскетбола игра состоит из четырех периодов по десять минут с перерывами по две минуты. Продолжительность перерыва между половинами игры – пятнадцать минут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проведение штрафных бросков"/>
          <p:cNvPicPr/>
          <p:nvPr/>
        </p:nvPicPr>
        <p:blipFill>
          <a:blip r:embed="rId1"/>
          <a:stretch/>
        </p:blipFill>
        <p:spPr>
          <a:xfrm>
            <a:off x="468360" y="260280"/>
            <a:ext cx="5543640" cy="5977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01:30:55Z</dcterms:created>
  <dc:creator>User</dc:creator>
  <dc:description/>
  <dc:language>en-US</dc:language>
  <cp:lastModifiedBy>user</cp:lastModifiedBy>
  <dcterms:modified xsi:type="dcterms:W3CDTF">2011-06-08T04:48:36Z</dcterms:modified>
  <cp:revision>19</cp:revision>
  <dc:subject/>
  <dc:title>                Баскетбол </dc:title>
</cp:coreProperties>
</file>