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642E-6C97-4946-BD66-167B0EAA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4776-1B1E-4967-919B-BC5576AC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A71E-41FD-4569-B984-403B9D14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6B6E-79EB-4C1E-A539-2FE595FD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60A4-6138-484B-B708-33150A0B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ECAC-829A-45D8-B09C-26C25E80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E4A1-9FB2-4DB7-90A6-85674385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0566-102F-4258-BB54-18937810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23EA-C723-4663-9E5C-334AE3B5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8EA-B753-48CE-AFFB-5F383636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149F-7E25-4215-8779-190D931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371EF-DC23-4330-BED2-5524F8DB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BE34-99CA-4AF0-83DD-61A5B92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EADF-5DD9-4422-B0BC-464B5BE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7C5D-D748-46A8-9EDF-2AB2DD8C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4425-0C74-450A-A950-7FB3D91E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99ED-A5BE-428E-8EB7-0FC9D549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0627-D701-4E4A-8821-B257268A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16071-32C3-42F5-BB26-ADE9B11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D43B-2DF8-4E37-9206-B9BFEE46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DCE8-C87D-4B3C-BE59-20C54987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9943-6CD6-4CB0-B061-463E3538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A904-E505-47EC-9B5E-8C7D025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E1DDD-C113-4537-B7E3-7932F402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B483-E258-42EA-9493-C7B32A7852B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AE2B-F5E0-461F-BFF2-D07463B6CB9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104000" cy="14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Жесты судьи «Баскетбол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2232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бьюбю"/>
          <p:cNvPicPr/>
          <p:nvPr/>
        </p:nvPicPr>
        <p:blipFill>
          <a:blip r:embed="rId1"/>
          <a:stretch/>
        </p:blipFill>
        <p:spPr>
          <a:xfrm>
            <a:off x="3132000" y="2060640"/>
            <a:ext cx="129564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9" name="Picture 7" descr="митчитмт"/>
          <p:cNvPicPr/>
          <p:nvPr/>
        </p:nvPicPr>
        <p:blipFill>
          <a:blip r:embed="rId2"/>
          <a:stretch/>
        </p:blipFill>
        <p:spPr>
          <a:xfrm>
            <a:off x="4932360" y="2060640"/>
            <a:ext cx="122400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0" name="Picture 8" descr="тимтмитим"/>
          <p:cNvPicPr/>
          <p:nvPr/>
        </p:nvPicPr>
        <p:blipFill>
          <a:blip r:embed="rId3"/>
          <a:stretch/>
        </p:blipFill>
        <p:spPr>
          <a:xfrm>
            <a:off x="6877080" y="2060640"/>
            <a:ext cx="1224000" cy="180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1" name="Picture 9" descr="тьбтб"/>
          <p:cNvPicPr/>
          <p:nvPr/>
        </p:nvPicPr>
        <p:blipFill>
          <a:blip r:embed="rId4"/>
          <a:stretch/>
        </p:blipFill>
        <p:spPr>
          <a:xfrm>
            <a:off x="324000" y="1628640"/>
            <a:ext cx="2376360" cy="2808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Rectangle 10"/>
          <p:cNvSpPr/>
          <p:nvPr/>
        </p:nvSpPr>
        <p:spPr>
          <a:xfrm>
            <a:off x="755640" y="4287240"/>
            <a:ext cx="77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Игра в баскетбо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В баскетбол играют две (2) команды, в каждой из которых по пять (5) игроков. Цель каждой команды состоит в том, чтобы забросить мяч в корзину соперников и помешать другой команде забросить его в корзи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Игрой управляют судьи, судьи-секретари и комиссар (если присутствует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62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867280" y="1267920"/>
            <a:ext cx="309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со штрафного броска, засчитывается одно очко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с игры, из 2-х очковой зоны засчитывается два очк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- За мяч, заброшенный из 3-х очковой зоны, засчитывается три очк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количество штрафных бросков"/>
          <p:cNvPicPr/>
          <p:nvPr/>
        </p:nvPicPr>
        <p:blipFill>
          <a:blip r:embed="rId1"/>
          <a:stretch/>
        </p:blipFill>
        <p:spPr>
          <a:xfrm>
            <a:off x="468360" y="260280"/>
            <a:ext cx="5616360" cy="5905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итмт"/>
          <p:cNvPicPr/>
          <p:nvPr/>
        </p:nvPicPr>
        <p:blipFill>
          <a:blip r:embed="rId2"/>
          <a:stretch/>
        </p:blipFill>
        <p:spPr>
          <a:xfrm>
            <a:off x="4211640" y="3789360"/>
            <a:ext cx="1297080" cy="215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АБОТУ ВЫПОЛНИЛА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ФИЗКУЛЬТУРЫ МОУСО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ЭДЕЛЬВЕЙС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.НАХОД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ЛУБЕВА ЛЮДМИЛА МИХАЙЛ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65960"/>
            <a:ext cx="4173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508720" y="549000"/>
            <a:ext cx="3456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рзины: соперников/собствен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рзина, которую команда атакует, называется корзиной соперников, а корзина, которую команда защищает, называется собственной корзиной команд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3x"/>
          <p:cNvPicPr/>
          <p:nvPr/>
        </p:nvPicPr>
        <p:blipFill>
          <a:blip r:embed="rId1"/>
          <a:stretch/>
        </p:blipFill>
        <p:spPr>
          <a:xfrm>
            <a:off x="468360" y="260280"/>
            <a:ext cx="4895640" cy="619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пьрпьм"/>
          <p:cNvPicPr/>
          <p:nvPr/>
        </p:nvPicPr>
        <p:blipFill>
          <a:blip r:embed="rId2"/>
          <a:stretch/>
        </p:blipFill>
        <p:spPr>
          <a:xfrm>
            <a:off x="1908000" y="2852640"/>
            <a:ext cx="1295640" cy="172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454640" y="1599840"/>
            <a:ext cx="9093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игровая площадка"/>
          <p:cNvPicPr/>
          <p:nvPr/>
        </p:nvPicPr>
        <p:blipFill>
          <a:blip r:embed="rId1"/>
          <a:stretch/>
        </p:blipFill>
        <p:spPr>
          <a:xfrm>
            <a:off x="428760" y="142920"/>
            <a:ext cx="4968720" cy="6119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6084720" y="2513880"/>
            <a:ext cx="28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бедитель иг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бедителем становится команда, которая по окончании игрового времени набрала большее количество оч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7" descr="6565"/>
          <p:cNvPicPr/>
          <p:nvPr/>
        </p:nvPicPr>
        <p:blipFill>
          <a:blip r:embed="rId2"/>
          <a:stretch/>
        </p:blipFill>
        <p:spPr>
          <a:xfrm>
            <a:off x="1428840" y="2428920"/>
            <a:ext cx="2232000" cy="142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ограничивающая линия"/>
          <p:cNvPicPr/>
          <p:nvPr/>
        </p:nvPicPr>
        <p:blipFill>
          <a:blip r:embed="rId1"/>
          <a:stretch/>
        </p:blipFill>
        <p:spPr>
          <a:xfrm>
            <a:off x="500040" y="357120"/>
            <a:ext cx="4824360" cy="5761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580000" y="691920"/>
            <a:ext cx="32385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гровая баскетбольная площадка должна представлять собой плоскую прямоугольную твердую поверхность без каких-либо препятствий. Размеры должны быть 28 метров в длину и 15 метров ширину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6767"/>
          <p:cNvPicPr/>
          <p:nvPr/>
        </p:nvPicPr>
        <p:blipFill>
          <a:blip r:embed="rId2"/>
          <a:stretch/>
        </p:blipFill>
        <p:spPr>
          <a:xfrm>
            <a:off x="3348000" y="2492280"/>
            <a:ext cx="1079640" cy="136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978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580000" y="2565360"/>
            <a:ext cx="338472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аскетбольные щиты с корзиной должны быть изготовлены из соответствующего прозрачного материала или выкрашены в белый цвет. Размеры баскетбольных щитов должны быть: 1,80 м по горизонтали и 1,05 м по вертикал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защитывание попадание"/>
          <p:cNvPicPr/>
          <p:nvPr/>
        </p:nvPicPr>
        <p:blipFill>
          <a:blip r:embed="rId1"/>
          <a:stretch/>
        </p:blipFill>
        <p:spPr>
          <a:xfrm>
            <a:off x="250920" y="260280"/>
            <a:ext cx="5257800" cy="612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бтьбть"/>
          <p:cNvPicPr/>
          <p:nvPr/>
        </p:nvPicPr>
        <p:blipFill>
          <a:blip r:embed="rId2"/>
          <a:stretch/>
        </p:blipFill>
        <p:spPr>
          <a:xfrm>
            <a:off x="6084720" y="189000"/>
            <a:ext cx="244800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3355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27280" y="2420640"/>
            <a:ext cx="273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виды нарушений"/>
          <p:cNvPicPr/>
          <p:nvPr/>
        </p:nvPicPr>
        <p:blipFill>
          <a:blip r:embed="rId1"/>
          <a:stretch/>
        </p:blipFill>
        <p:spPr>
          <a:xfrm>
            <a:off x="324000" y="189000"/>
            <a:ext cx="5545080" cy="6408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67687"/>
          <p:cNvPicPr/>
          <p:nvPr/>
        </p:nvPicPr>
        <p:blipFill>
          <a:blip r:embed="rId2"/>
          <a:stretch/>
        </p:blipFill>
        <p:spPr>
          <a:xfrm>
            <a:off x="6227640" y="462600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156360" y="1052640"/>
            <a:ext cx="230328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баскетболе мячом играют только руками. Бежать с мячом, преднамеренно бить по нему ногой, блокировать любой частью ноги или бить по нему кулаком является нарушением.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4465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67280" y="1557360"/>
            <a:ext cx="288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ол - это несоблюдение правил, вследствие персонального контакта с соперником и/или неспортивного поведения. 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показ нарушений секретарскому столику"/>
          <p:cNvPicPr/>
          <p:nvPr/>
        </p:nvPicPr>
        <p:blipFill>
          <a:blip r:embed="rId1"/>
          <a:stretch/>
        </p:blipFill>
        <p:spPr>
          <a:xfrm>
            <a:off x="611280" y="189000"/>
            <a:ext cx="5329080" cy="604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525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72360" y="836640"/>
            <a:ext cx="2519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ждый раз, когда игрок получает контроль над живым мячом на площадке, попытка броска по корзине должна быть реализована его командой в течение двадцати четыре секунд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тип фола"/>
          <p:cNvPicPr/>
          <p:nvPr/>
        </p:nvPicPr>
        <p:blipFill>
          <a:blip r:embed="rId1"/>
          <a:stretch/>
        </p:blipFill>
        <p:spPr>
          <a:xfrm>
            <a:off x="539640" y="333360"/>
            <a:ext cx="5543640" cy="597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338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7280" y="1125360"/>
            <a:ext cx="259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 правилам баскетбола игра состоит из четырех периодов по десять минут с перерывами по две минуты. Продолжительность перерыва между половинами игры – пятнадцать минут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проведение штрафных бросков"/>
          <p:cNvPicPr/>
          <p:nvPr/>
        </p:nvPicPr>
        <p:blipFill>
          <a:blip r:embed="rId1"/>
          <a:stretch/>
        </p:blipFill>
        <p:spPr>
          <a:xfrm>
            <a:off x="468360" y="260280"/>
            <a:ext cx="5543640" cy="5977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1:30:55Z</dcterms:created>
  <dc:creator>User</dc:creator>
  <dc:description/>
  <dc:language>en-US</dc:language>
  <cp:lastModifiedBy>user</cp:lastModifiedBy>
  <dcterms:modified xsi:type="dcterms:W3CDTF">2011-06-08T04:48:36Z</dcterms:modified>
  <cp:revision>19</cp:revision>
  <dc:subject/>
  <dc:title>                Баскетбол </dc:title>
</cp:coreProperties>
</file>