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136C-3A88-46CF-B7D3-1B697291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3F75-824E-47FA-805E-4B951DC4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BB4D-B27B-400B-850B-39DB276B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12AA-88E5-4471-A4C2-382A588C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03C-471C-455A-ACD5-D22C05BF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F55-B379-4C5B-941C-44086C6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E7F4-1FC7-4611-9097-E9B04F10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F216-7705-4BD5-8F5F-DDBBDD6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B702-825F-4387-80CC-38ED3E22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013F-A0D3-490F-A5B6-0CA951F1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9CB4-1BF5-4A8C-B1FA-64F82B9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2F33-9FC6-456D-971A-937F76EB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48A-70A5-4AB0-9C49-08B6D396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381-5277-4E3C-97FA-2F547FC1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8089-17E7-485E-845A-7C3C61E0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9DAA-2FB2-4B22-B702-44C2AC77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30E6-BD9E-4C46-8F97-9C8E798C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916D-DD5D-43BD-980F-751381D1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DD90-139F-484D-9EDC-CB130C0E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9D58-860A-4FCA-A875-6A9FCE5D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78C5-30C6-4222-A6D9-611E8C77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DF3C-7C10-48CE-A72C-D4B81F5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8297-AA7D-4C23-AECB-46F1AAE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F247-224C-441C-8EEE-D2B55BB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2778-53BF-4D05-BEFC-35AF7C85595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422-E11C-4A2E-8E2A-A994CE07129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104000" cy="14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Жесты судьи «Баскетбол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232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бьюбю"/>
          <p:cNvPicPr/>
          <p:nvPr/>
        </p:nvPicPr>
        <p:blipFill>
          <a:blip r:embed="rId1"/>
          <a:stretch/>
        </p:blipFill>
        <p:spPr>
          <a:xfrm>
            <a:off x="3132000" y="2060640"/>
            <a:ext cx="129564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9" name="Picture 7" descr="митчитмт"/>
          <p:cNvPicPr/>
          <p:nvPr/>
        </p:nvPicPr>
        <p:blipFill>
          <a:blip r:embed="rId2"/>
          <a:stretch/>
        </p:blipFill>
        <p:spPr>
          <a:xfrm>
            <a:off x="4932360" y="2060640"/>
            <a:ext cx="122400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Picture 8" descr="тимтмитим"/>
          <p:cNvPicPr/>
          <p:nvPr/>
        </p:nvPicPr>
        <p:blipFill>
          <a:blip r:embed="rId3"/>
          <a:stretch/>
        </p:blipFill>
        <p:spPr>
          <a:xfrm>
            <a:off x="6877080" y="2060640"/>
            <a:ext cx="122400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1" name="Picture 9" descr="тьбтб"/>
          <p:cNvPicPr/>
          <p:nvPr/>
        </p:nvPicPr>
        <p:blipFill>
          <a:blip r:embed="rId4"/>
          <a:stretch/>
        </p:blipFill>
        <p:spPr>
          <a:xfrm>
            <a:off x="324000" y="1628640"/>
            <a:ext cx="2376360" cy="280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Rectangle 10"/>
          <p:cNvSpPr/>
          <p:nvPr/>
        </p:nvSpPr>
        <p:spPr>
          <a:xfrm>
            <a:off x="755640" y="428724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Игра в баскетбо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 баскетбол играют две (2) команды, в каждой из которых по пять (5) игроков. Цель каждой команды состоит в том, чтобы забросить мяч в корзину соперников и помешать другой команде забросить его в корзи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Игрой управляют судьи, судьи-секретари и комиссар (если присутству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62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867280" y="1267920"/>
            <a:ext cx="309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со штрафного броска, засчитывается одно очко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с игры, из 2-х очковой зоны засчитывается два очк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из 3-х очковой зоны, засчитывается три очк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количество штрафных бросков"/>
          <p:cNvPicPr/>
          <p:nvPr/>
        </p:nvPicPr>
        <p:blipFill>
          <a:blip r:embed="rId1"/>
          <a:stretch/>
        </p:blipFill>
        <p:spPr>
          <a:xfrm>
            <a:off x="468360" y="260280"/>
            <a:ext cx="5616360" cy="590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итмт"/>
          <p:cNvPicPr/>
          <p:nvPr/>
        </p:nvPicPr>
        <p:blipFill>
          <a:blip r:embed="rId2"/>
          <a:stretch/>
        </p:blipFill>
        <p:spPr>
          <a:xfrm>
            <a:off x="4211640" y="3789360"/>
            <a:ext cx="1297080" cy="215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БОТУ ВЫПОЛНИЛА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ФИЗКУЛЬТУРЫ МОУСО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ЭДЕЛЬВЕЙ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НАХО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УБЕВА ЛЮДМИЛА МИХАЙЛ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65960"/>
            <a:ext cx="4173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508720" y="549000"/>
            <a:ext cx="345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рзины: соперников/собств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зина, которую команда атакует, называется корзиной соперников, а корзина, которую команда защищает, называется собственной корзиной коман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3x"/>
          <p:cNvPicPr/>
          <p:nvPr/>
        </p:nvPicPr>
        <p:blipFill>
          <a:blip r:embed="rId1"/>
          <a:stretch/>
        </p:blipFill>
        <p:spPr>
          <a:xfrm>
            <a:off x="468360" y="260280"/>
            <a:ext cx="4895640" cy="619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пьрпьм"/>
          <p:cNvPicPr/>
          <p:nvPr/>
        </p:nvPicPr>
        <p:blipFill>
          <a:blip r:embed="rId2"/>
          <a:stretch/>
        </p:blipFill>
        <p:spPr>
          <a:xfrm>
            <a:off x="1908000" y="2852640"/>
            <a:ext cx="1295640" cy="172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454640" y="1599840"/>
            <a:ext cx="9093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игровая площадка"/>
          <p:cNvPicPr/>
          <p:nvPr/>
        </p:nvPicPr>
        <p:blipFill>
          <a:blip r:embed="rId1"/>
          <a:stretch/>
        </p:blipFill>
        <p:spPr>
          <a:xfrm>
            <a:off x="428760" y="142920"/>
            <a:ext cx="4968720" cy="6119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084720" y="2513880"/>
            <a:ext cx="28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бедитель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бедителем становится команда, которая по окончании игрового времени набрала большее количество оч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6565"/>
          <p:cNvPicPr/>
          <p:nvPr/>
        </p:nvPicPr>
        <p:blipFill>
          <a:blip r:embed="rId2"/>
          <a:stretch/>
        </p:blipFill>
        <p:spPr>
          <a:xfrm>
            <a:off x="1428840" y="2428920"/>
            <a:ext cx="2232000" cy="142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ограничивающая линия"/>
          <p:cNvPicPr/>
          <p:nvPr/>
        </p:nvPicPr>
        <p:blipFill>
          <a:blip r:embed="rId1"/>
          <a:stretch/>
        </p:blipFill>
        <p:spPr>
          <a:xfrm>
            <a:off x="500040" y="357120"/>
            <a:ext cx="4824360" cy="5761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580000" y="691920"/>
            <a:ext cx="32385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гровая баскетбольная площадка должна представлять собой плоскую прямоугольную твердую поверхность без каких-либо препятствий. Размеры должны быть 28 метров в длину и 15 метров ширину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6767"/>
          <p:cNvPicPr/>
          <p:nvPr/>
        </p:nvPicPr>
        <p:blipFill>
          <a:blip r:embed="rId2"/>
          <a:stretch/>
        </p:blipFill>
        <p:spPr>
          <a:xfrm>
            <a:off x="3348000" y="2492280"/>
            <a:ext cx="1079640" cy="136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97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80000" y="2565360"/>
            <a:ext cx="338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аскетбольные щиты с корзиной должны быть изготовлены из соответствующего прозрачного материала или выкрашены в белый цвет. Размеры баскетбольных щитов должны быть: 1,80 м по горизонтали и 1,05 м по вертикал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защитывание попадание"/>
          <p:cNvPicPr/>
          <p:nvPr/>
        </p:nvPicPr>
        <p:blipFill>
          <a:blip r:embed="rId1"/>
          <a:stretch/>
        </p:blipFill>
        <p:spPr>
          <a:xfrm>
            <a:off x="250920" y="260280"/>
            <a:ext cx="5257800" cy="612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бтьбть"/>
          <p:cNvPicPr/>
          <p:nvPr/>
        </p:nvPicPr>
        <p:blipFill>
          <a:blip r:embed="rId2"/>
          <a:stretch/>
        </p:blipFill>
        <p:spPr>
          <a:xfrm>
            <a:off x="6084720" y="189000"/>
            <a:ext cx="244800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335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27280" y="2420640"/>
            <a:ext cx="273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виды нарушений"/>
          <p:cNvPicPr/>
          <p:nvPr/>
        </p:nvPicPr>
        <p:blipFill>
          <a:blip r:embed="rId1"/>
          <a:stretch/>
        </p:blipFill>
        <p:spPr>
          <a:xfrm>
            <a:off x="324000" y="189000"/>
            <a:ext cx="5545080" cy="640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67687"/>
          <p:cNvPicPr/>
          <p:nvPr/>
        </p:nvPicPr>
        <p:blipFill>
          <a:blip r:embed="rId2"/>
          <a:stretch/>
        </p:blipFill>
        <p:spPr>
          <a:xfrm>
            <a:off x="6227640" y="462600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156360" y="1052640"/>
            <a:ext cx="230328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баскетболе мячом играют только руками. Бежать с мячом, преднамеренно бить по нему ногой, блокировать любой частью ноги или бить по нему кулаком является нарушением.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4465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67280" y="1557360"/>
            <a:ext cx="288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л - это несоблюдение правил, вследствие персонального контакта с соперником и/или неспортивного поведения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показ нарушений секретарскому столику"/>
          <p:cNvPicPr/>
          <p:nvPr/>
        </p:nvPicPr>
        <p:blipFill>
          <a:blip r:embed="rId1"/>
          <a:stretch/>
        </p:blipFill>
        <p:spPr>
          <a:xfrm>
            <a:off x="611280" y="189000"/>
            <a:ext cx="5329080" cy="604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72360" y="836640"/>
            <a:ext cx="2519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ждый раз, когда игрок получает контроль над живым мячом на площадке, попытка броска по корзине должна быть реализована его командой в течение двадцати четыре секунд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тип фола"/>
          <p:cNvPicPr/>
          <p:nvPr/>
        </p:nvPicPr>
        <p:blipFill>
          <a:blip r:embed="rId1"/>
          <a:stretch/>
        </p:blipFill>
        <p:spPr>
          <a:xfrm>
            <a:off x="539640" y="333360"/>
            <a:ext cx="5543640" cy="597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33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7280" y="1125360"/>
            <a:ext cx="259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правилам баскетбола игра состоит из четырех периодов по десять минут с перерывами по две минуты. Продолжительность перерыва между половинами игры – пятнадцать минут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проведение штрафных бросков"/>
          <p:cNvPicPr/>
          <p:nvPr/>
        </p:nvPicPr>
        <p:blipFill>
          <a:blip r:embed="rId1"/>
          <a:stretch/>
        </p:blipFill>
        <p:spPr>
          <a:xfrm>
            <a:off x="468360" y="260280"/>
            <a:ext cx="5543640" cy="59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1:30:55Z</dcterms:created>
  <dc:creator>User</dc:creator>
  <dc:description/>
  <dc:language>en-US</dc:language>
  <cp:lastModifiedBy>user</cp:lastModifiedBy>
  <dcterms:modified xsi:type="dcterms:W3CDTF">2011-06-08T04:48:36Z</dcterms:modified>
  <cp:revision>19</cp:revision>
  <dc:subject/>
  <dc:title>                Баскетбол </dc:title>
</cp:coreProperties>
</file>