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F80-F249-409A-8793-2E2F6DB5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E09-DA98-4E5C-8B5D-F948DBC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47E-A179-4071-BED1-327E796B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83C-AFA6-4498-975F-352741C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946-D1CB-4DE2-9B4D-39746D9B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58CB-B2D7-4E76-B121-550305C7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3DE8-AA7A-4E93-8C6D-868E0B8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FB34-A512-4012-BF8E-C04D34A6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9438-9D61-4349-AD86-0B3B8D8E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B5DF-B2CB-4D4E-8F4C-FFC7BD9A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0B35-7AA8-4EE5-920D-84F9FC8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760-1D1A-4CCA-8DF9-C509D9C5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4356-6A2A-4BF1-9F5F-94ADB733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7298-A429-47B5-BF21-D9CB3A3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2C5A-DE36-415D-92C4-9B03260B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1F1-0726-40B5-9651-520830AA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0648-D0D8-4DC5-A018-CBEED912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2FD-127C-408A-8139-D1BDAEAF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F37-9ACC-4662-AA83-5A7BF35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B4C-41B4-456E-AB5D-E8DEAFB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46F-9F1A-4A7B-BAE2-59F1EF68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57D-5455-439A-92AD-DAEEA5E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687-52C5-4B80-8632-D6F738B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4DA-8CA6-43D8-B5F0-AC88A4D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A1D2-EA6F-4CB1-A1E2-0DEA0E9F918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2A6B-0C88-4B68-8A15-68F771AD65C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Александр Аркадьевич Галич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4752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ценарист, автор текстов пес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октября 1918 г-15 декабря 1977 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968920" cy="35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Стихи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927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сня о Остро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есть на свете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растет на берегу забудь-тра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будь о гордости, забудь про горест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будь о подлости! Забудь про хворости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с похмелья не болит гол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сколько есть вина, пей всё без просыпу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после по морю ходи, как по суху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четыре не всегда дважды д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читай хоть дослепу — одна испарин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шь то, что по сердцу, лишь то и правиль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неправда не бывает пра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совесть — надобность, а не солдатчин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правда нажита, а не назначена 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я придумал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03640" y="907560"/>
            <a:ext cx="39276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в путь собирался всегда налегке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в путь собирался всегда налегк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ез долгих прощальных торжеств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маршальский жезл не таскал в рюкзак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 кой он мне, маршальский жезл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был рядовым и умру рядов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сей щедрой земли рядовой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светом дарила меня даровы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ила водой дар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 старости лет молоко на губах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 тьмы гробовой - ряд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аршалы пусть обсуждают в шта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оенный бюджет год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ускай заседают за круглым стол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селенской охоты псар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удрость их вся заключается в то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два - это меньше, чем тр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сам не люблю старичков-ворчун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все-таки истово рад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я не изведал бесчестья чин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низости барских награ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Земля под ногами и посох в рук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оржественней всяких божеств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аршальский жезл у меня в рюкзаке -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вирель, а не маршальский жез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2800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16115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Детство. Семья.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19 октября 1918 г. в Екатеринославе (ныне Днепропетровск) в еврейской интеллигентной семье. Отец — Арон Самойлович, экономист, мать — Фанни Борисовна Векслер, работала в консерватории. В 1920-м году семья Галича переехала в Севастополь, откуда в принципе открывался уже путь в эмиграцию. Но покинуть Росссию родители Галича отказались. Вместо Европы в 1923-м году они переехали в Москву, где поселились в доме Веневитинв в Кривоколенном переулке. В этом доме когда-то Пушкин впервые читал свою трагедию «Борис Годун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4080" y="380520"/>
            <a:ext cx="54817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Юношество.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окончания девятого класса десятилетки Александр поступает сразу в два ВУЗа - Литературный институт и оперно-драматическую студию К. С. Станиславского, на драматическое отделение. Из Литературного института скоро уходит (учиться в двух вузах сразу сложно), однако через три года отчисляется (по собственному желанию, обидевшись на одного из преподавателей) и из сту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чинает работать в только что открывшейся студии под руководством А.Арбуз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чалом войны в армию не попадает – врачи обнаруживают врожденную болезнь сердца. Александр в составе геологической партии отправляется на ю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розном работает несколько месяцев в Театре народной героики и революционной сатиры, но вскоре уезжает в Чирчик (под Ташкентом), где начинает работать (как актер, драматург, поэт и композитор) в передвижном театре под руководством В.Плучека и А.Арбузова. Ездят по стране, выступают на фрон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Театр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розном работает несколько месяцев в Театре народной героики и революционной сатиры, но вскоре уезжает в Чирчик (под Ташкентом), где начинает работать (как актер, драматург, поэт и композитор) в передвижном театре под руководством В.Плучека и А.Арбузова. Ездят по стране, выступают на фронт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же в театре встречает будущую жену - Валентину. У них появляется дочь Алена. В 1944 году Валентина уезжает с дочерью на работу в Иркутский театр. Александр остается в Москве. В 1945 году он знакомится со своей второй будущей женой – Ангели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театра, где он работал, уходит один из руководителей – режиссер В.Плучек, вскоре театр закрыв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Пьес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е пьесы - "Походный марш", "Вас вызывает Таймыр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началу 50-х работы А.Галича для театра пользуются успехом у зрителей и идут во многих театрах стр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55 году Галича принимают в Союз писателей СССР, а спустя три года в Союз кинематографис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56 году Театр-студия МХАТа готовит к постановке пьесу Галича "Матросская тишина". На генеральной репетиции чиновнице из министерства культуры, высказавшейся о «фальшивости» пьесы, Галич, не сдержавшись заявил: «Дура!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ктакль не выш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лич продолжает работать над многочисленными театральными постановками, пишет сценарии для кинофильмов, в частности для фильмов "На семи ветрах" – реж. С. Ростоцкий, "Дайте жалобную книгу" - реж. Э. Рязанов, "Государственный преступник" - реж. Н. Розанцев (за эту работу Галич был удостоен премии КГ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62 году у него случается первый инфар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Песни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начала 60-х Галич начинает заниматься сочинением песен, которые распространяются на магнитофонных пленках и быстро становятся популярными - "Леночка", "Старательский вальсок", "У лошади была грудная жаба", "Тонечка", "Красный треугольник", "Аве Мария", "Караганда", "Ночной дозор", "Памяти Пастернака" и друг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которые из песен посвящены недавнему сталинскому прошлому, некоторые - послесталинскому настоящем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«официальных» работах Галича, созданных в это же время для театра и кино «политические» оценки отсутству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марте 1968 года Галич выступает на фестивале песенной поэзии "Бард-68"в новосибирском академгородке. Галич исполняет несколько песен, в том числе "Промолчи" ("Промолчи - попадешь в палачи") и "Памяти Пастернака", после которой весь зал поднимается со своих мест и аплодирует авто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августе 1968 года (после ввода советских войск в Чехословакию) он пишет «Петербургский романс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здательстве «Посев» (за рубежом) выходит сборник его стих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Союз писателей СССР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71 г. Галич был исключён из Союза писателей СССР, членом которого он был с 1955 г. (этому посвящена песня «От беды моей пустяковой»), а в 1972 г. — из Союза кинематографистов, в котором состоял с 1958 г. Фактически после этого он был доведён до состояния нищенства (он — привыкший к достатку и комфорту). Его не принимали на работу, и он был лишён возможности заработать себе на хлеб. Первое время Галич продавал редкие книги из своей обширной библиотеки, потом стал подрабатывать «литературным негром»-подправлять чужие сценарии. Но денег всё равно не хватало, тем более, что кормить приходилось не только себя и жену, но и матерей обоих, и семью своего внебрачного сына Гриши, рождённого в 1967-м году. В 1972-м году, после третьего инфаркта, Галичу дают вторую группу инвалидности и пенсию в 54 рубля в месяц. Ему настойчиво предлагают уехать, но Галич всё время отказывается сделать это доброволь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Эммиграция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26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74 Галич был вынужден эмигрировать; 22 октября 1974 года постановлением Главлита по согласованию с ЦК КПСС все его ранее изданные произведения были запрещены в СССР. Первым его пристанищем за рубежом стала Норвегия, затем он переехал в Мюнхен, где некоторое время работал на радиостанции «Свобода». Потом Галич поселился в Париж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миграции Галич написал несколько песен, пьесу "Блошиный рынок", участвовал в съемках фильма "Беженцы XX века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Гибель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 декабря 1977 года Александр Галич умер в Париж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рть его по официальной версии произошла в результате несчастного случая – подключая антенну в гнездо телевизора, Галич задел провода высокого напряжения внутри телевизора и от удара током упал, задев ногами батарею и замкнув электрическую це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жена в это время отсутствовала, вернувшись домой она вызвала скорую помощь, но приехавшие полицейские сделать уже ничего не мог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мнению некоторых друзей Галича его смерть произошла не в результате несчастного случая, а была подстрое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сни и стихи Александра Галича вернулись на родину только в годы перестрой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лич похоронен в пригороде Парижа на Кладбище Сент-   Женевьев-де-Бу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55:56Z</dcterms:created>
  <dc:creator>User</dc:creator>
  <dc:description/>
  <dc:language>en-US</dc:language>
  <cp:lastModifiedBy>User</cp:lastModifiedBy>
  <dcterms:modified xsi:type="dcterms:W3CDTF">2009-05-12T15:19:27Z</dcterms:modified>
  <cp:revision>2</cp:revision>
  <dc:subject/>
  <dc:title>Александр Аркадьевич Галич</dc:title>
</cp:coreProperties>
</file>