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D174-238F-4AD3-88D8-A279E6BFB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61AD-E615-400A-B218-BF7A9B84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C9A4-72D4-48B3-B8C1-0A4072199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D13F-B36D-4B33-B3B3-B75E802F2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0A35-F943-4DF7-8E4E-2C9FABA6D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A860-3AFB-4F99-95A9-F8133B90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2458-1319-407B-B958-D95A3DA2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3583-A768-451E-82D5-F498EFC8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EBDB-8A82-4B85-9071-296669C6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7507-4F13-4FEC-827A-D9DA2299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D196-3B7A-45DF-BBEA-C692D469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3725-8DB9-48E2-845D-F639BA91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16B8-69A1-4535-A02D-1551C53B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51A4-420A-4A2C-BB4D-6FCA4E0A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EBFA-439F-4B4C-BECB-5963C645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7AB3-F0EC-4A81-AE6B-7D206B5FE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6AD1-2A93-4416-A5D4-2CBC94499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C235-F62D-4131-B795-EFBC359E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AAB2-2D9D-477E-AF71-ABB025F2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D977-F6E0-407C-9B4D-0D2738DD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4876-4A4D-44B7-98AE-ACE744CE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F0DD-FC6D-4BF1-8DB7-5C1C77A2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5879-9C02-4E1A-83C7-D62DC934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54A1-179B-4BA2-9C16-9B4BE22B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4b00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b0096"/>
                </a:gs>
                <a:gs pos="100000">
                  <a:srgbClr val="66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4b00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0E3A-3250-48C0-AA2A-0AA08C6E9BC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4b009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850ba"/>
                </a:gs>
                <a:gs pos="50000">
                  <a:srgbClr val="00ccff"/>
                </a:gs>
                <a:gs pos="100000">
                  <a:srgbClr val="7850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7850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850ba"/>
                </a:gs>
                <a:gs pos="100000">
                  <a:srgbClr val="66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4b00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E9D2-32F6-4BBB-8819-0D0BD0A42EB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Александр Аркадьевич Галич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11280" y="2707920"/>
            <a:ext cx="475272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ценарист, автор текстов песе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 октября 1918 г-15 декабря 1977 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867280" y="1916280"/>
            <a:ext cx="2968920" cy="35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Стихи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3927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сня о Остро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оворят, что есть на свете острова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де растет на берегу забудь-трава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будь о гордости, забудь про горести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будь о подлости! Забудь про хворости!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т какие есть на свете острова!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оворят, что где-то есть острова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де с похмелья не болит голова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 сколько есть вина, пей всё без просыпу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 после по морю ходи, как по суху!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т какие есть на свете острова!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оворят, что где-то есть острова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де четыре не всегда дважды два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читай хоть дослепу — одна испарина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ишь то, что по сердцу, лишь то и правильно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т какие есть на свете острова!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оворят, что где-то есть острова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де неправда не бывает права!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де совесть — надобность, а не солдатчина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де правда нажита, а не назначена !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т какие я придумал острова!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03640" y="907560"/>
            <a:ext cx="39276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Я в путь собирался всегда налегке..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Я в путь собирался всегда налегке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Без долгих прощальных торжеств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И маршальский жезл не таскал в рюкзаке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На кой он мне, маршальский жезл!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Я был рядовым и умру рядовым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Всей щедрой земли рядовой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Что светом дарила меня даровым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Поила водой даровой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До старости лет молоко на губах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До тьмы гробовой - рядовой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А маршалы пусть обсуждают в штабах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Военный бюджет годовой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Пускай заседают за круглым столом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Вселенской охоты псари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А мудрость их вся заключается в том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Что два - это меньше, чем тр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Я сам не люблю старичков-ворчунов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И все-таки истово рад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Что я не изведал бесчестья чинов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И низости барских наград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Земля под ногами и посох в рук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Торжественней всяких божеств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А маршальский жезл у меня в рюкзаке -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Свирель, а не маршальский жезл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02800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2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2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2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2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2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2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3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3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3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3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3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3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3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3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30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0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30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30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30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0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30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0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30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30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30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30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30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0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30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4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565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8" dur="161154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Детство. Семья.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одился 19 октября 1918 г. в Екатеринославе (ныне Днепропетровск) в еврейской интеллигентной семье. Отец — Арон Самойлович, экономист, мать — Фанни Борисовна Векслер, работала в консерватории. В 1920-м году семья Галича переехала в Севастополь, откуда в принципе открывался уже путь в эмиграцию. Но покинуть Росссию родители Галича отказались. Вместо Европы в 1923-м году они переехали в Москву, где поселились в доме Веневитинв в Кривоколенном переулке. В этом доме когда-то Пушкин впервые читал свою трагедию «Борис Годунов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4080" y="380520"/>
            <a:ext cx="54817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Юношество.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280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ле окончания девятого класса десятилетки Александр поступает сразу в два ВУЗа - Литературный институт и оперно-драматическую студию К. С. Станиславского, на драматическое отделение. Из Литературного института скоро уходит (учиться в двух вузах сразу сложно), однако через три года отчисляется (по собственному желанию, обидевшись на одного из преподавателей) и из студ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чинает работать в только что открывшейся студии под руководством А.Арбузов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началом войны в армию не попадает – врачи обнаруживают врожденную болезнь сердца. Александр в составе геологической партии отправляется на ю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Грозном работает несколько месяцев в Театре народной героики и революционной сатиры, но вскоре уезжает в Чирчик (под Ташкентом), где начинает работать (как актер, драматург, поэт и композитор) в передвижном театре под руководством В.Плучека и А.Арбузова. Ездят по стране, выступают на фронта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Театр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Грозном работает несколько месяцев в Театре народной героики и революционной сатиры, но вскоре уезжает в Чирчик (под Ташкентом), где начинает работать (как актер, драматург, поэт и композитор) в передвижном театре под руководством В.Плучека и А.Арбузова. Ездят по стране, выступают на фронта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ам же в театре встречает будущую жену - Валентину. У них появляется дочь Алена. В 1944 году Валентина уезжает с дочерью на работу в Иркутский театр. Александр остается в Москве. В 1945 году он знакомится со своей второй будущей женой – Ангелин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 театра, где он работал, уходит один из руководителей – режиссер В.Плучек, вскоре театр закрывает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Пьеса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вые пьесы - "Походный марш", "Вас вызывает Таймыр"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 началу 50-х работы А.Галича для театра пользуются успехом у зрителей и идут во многих театрах стра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1955 году Галича принимают в Союз писателей СССР, а спустя три года в Союз кинематографист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1956 году Театр-студия МХАТа готовит к постановке пьесу Галича "Матросская тишина". На генеральной репетиции чиновнице из министерства культуры, высказавшейся о «фальшивости» пьесы, Галич, не сдержавшись заявил: «Дура!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пектакль не выше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алич продолжает работать над многочисленными театральными постановками, пишет сценарии для кинофильмов, в частности для фильмов "На семи ветрах" – реж. С. Ростоцкий, "Дайте жалобную книгу" - реж. Э. Рязанов, "Государственный преступник" - реж. Н. Розанцев (за эту работу Галич был удостоен премии КГБ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1962 году у него случается первый инфарк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Песни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5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 начала 60-х Галич начинает заниматься сочинением песен, которые распространяются на магнитофонных пленках и быстро становятся популярными - "Леночка", "Старательский вальсок", "У лошади была грудная жаба", "Тонечка", "Красный треугольник", "Аве Мария", "Караганда", "Ночной дозор", "Памяти Пастернака" и друг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которые из песен посвящены недавнему сталинскому прошлому, некоторые - послесталинскому настоящему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«официальных» работах Галича, созданных в это же время для театра и кино «политические» оценки отсутствую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марте 1968 года Галич выступает на фестивале песенной поэзии "Бард-68"в новосибирском академгородке. Галич исполняет несколько песен, в том числе "Промолчи" ("Промолчи - попадешь в палачи") и "Памяти Пастернака", после которой весь зал поднимается со своих мест и аплодирует автор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августе 1968 года (после ввода советских войск в Чехословакию) он пишет «Петербургский романс»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издательстве «Посев» (за рубежом) выходит сборник его стих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Союз писателей СССР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39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1971 г. Галич был исключён из Союза писателей СССР, членом которого он был с 1955 г. (этому посвящена песня «От беды моей пустяковой»), а в 1972 г. — из Союза кинематографистов, в котором состоял с 1958 г. Фактически после этого он был доведён до состояния нищенства (он — привыкший к достатку и комфорту). Его не принимали на работу, и он был лишён возможности заработать себе на хлеб. Первое время Галич продавал редкие книги из своей обширной библиотеки, потом стал подрабатывать «литературным негром»-подправлять чужие сценарии. Но денег всё равно не хватало, тем более, что кормить приходилось не только себя и жену, но и матерей обоих, и семью своего внебрачного сына Гриши, рождённого в 1967-м году. В 1972-м году, после третьего инфаркта, Галичу дают вторую группу инвалидности и пенсию в 54 рубля в месяц. Ему настойчиво предлагают уехать, но Галич всё время отказывается сделать это добровольн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d7df"/>
                </a:solidFill>
                <a:latin typeface="Tahoma"/>
              </a:rPr>
              <a:t>Эммиграция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26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1974 Галич был вынужден эмигрировать; 22 октября 1974 года постановлением Главлита по согласованию с ЦК КПСС все его ранее изданные произведения были запрещены в СССР. Первым его пристанищем за рубежом стала Норвегия, затем он переехал в Мюнхен, где некоторое время работал на радиостанции «Свобода». Потом Галич поселился в Париж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эмиграции Галич написал несколько песен, пьесу "Блошиный рынок", участвовал в съемках фильма "Беженцы XX века"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Гибель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5 декабря 1977 года Александр Галич умер в Париж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мерть его по официальной версии произошла в результате несчастного случая – подключая антенну в гнездо телевизора, Галич задел провода высокого напряжения внутри телевизора и от удара током упал, задев ногами батарею и замкнув электрическую цепь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го жена в это время отсутствовала, вернувшись домой она вызвала скорую помощь, но приехавшие полицейские сделать уже ничего не могл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 мнению некоторых друзей Галича его смерть произошла не в результате несчастного случая, а была подстроен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сни и стихи Александра Галича вернулись на родину только в годы перестрой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алич похоронен в пригороде Парижа на Кладбище Сент-   Женевьев-де-Бу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768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" dur="768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7" dur="76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9" dur="76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2:55:56Z</dcterms:created>
  <dc:creator>User</dc:creator>
  <dc:description/>
  <dc:language>en-US</dc:language>
  <cp:lastModifiedBy>User</cp:lastModifiedBy>
  <dcterms:modified xsi:type="dcterms:W3CDTF">2009-05-12T15:19:27Z</dcterms:modified>
  <cp:revision>2</cp:revision>
  <dc:subject/>
  <dc:title>Александр Аркадьевич Галич</dc:title>
</cp:coreProperties>
</file>