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012-3BC1-43A4-9031-B1C546D8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9C7-4178-4F3C-BCFF-4C7EC0BF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7F1-24D0-4205-B48F-25008EF3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F1F-866E-454A-8006-4E3542DB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47AA-F80E-4D3A-B9E2-41B0D8FB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56DF-6BBE-4719-9C3F-2A648053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5010-8DC0-41ED-BDC2-5F71E80E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00FC-BEE6-4D41-9775-9F0DFBE5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6773-3974-4DE6-9F6D-ADD95138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2796-4AD9-4340-BA09-2CE7672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6B46-89BA-49FC-BCBA-88AC9043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C2E-5DEE-4AAD-9AAA-A523467F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41A9-40A5-4576-A365-C98FE04F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1285-BDF7-4A81-8878-55F653A5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8F09-ECDE-4B99-8AAC-B83B3F0F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61EA-4B89-41CC-B022-843AA445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7DF4-C4A2-4F38-8C20-46837CEE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813-FDF8-443D-BEDB-73C8A6BF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CBF-BE98-490D-903B-3BB8182D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155-8FD7-4F30-B801-638FB695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897-022F-47DF-8C96-17D0DCD3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0E5-EE47-43AF-A0BF-B46BBD00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F9F-7901-4602-B84B-069916D7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9F4-BA5B-41EF-B61C-0AEF8192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9782975b876176144842b490277ebaa1-hcl0i"/>
          <p:cNvPicPr/>
          <p:nvPr/>
        </p:nvPicPr>
        <p:blipFill>
          <a:blip r:embed="rId2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68BB-47AB-4E8F-A3F0-E590E81C34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1105-7BDF-4A7D-937E-B2A1743B42D9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469880"/>
          </a:xfrm>
          <a:prstGeom prst="rect">
            <a:avLst/>
          </a:prstGeom>
          <a:solidFill>
            <a:srgbClr val="ffffff">
              <a:alpha val="70000"/>
            </a:srgbClr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ятельность как способ существования людей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ма: Деятельность людей и её многообразие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аким группам потребностей относятся данные высказывания?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Аристотель: «Все люди от природы стремятся к знанию»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Г.Белль: «Сон прекрасен тем, что уравнивает человека и животное»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Ю.Нагибин: «Если определить его главную устремленность – он всегда кому-то помогал…Помогать было его призванием»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ДЕЯТЕЛЬНОСТИ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Calibri"/>
              </a:rPr>
              <a:t>Практическая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деятельность  направлена на преобразование реальных объектов природы и общества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Calibri"/>
              </a:rPr>
              <a:t>Духовная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деятельность направлена на изменение сознания людей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95280" y="5300640"/>
            <a:ext cx="874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ушительная деятельность          Созидатель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лассификация  видов деятельности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9280" y="1473120"/>
          <a:ext cx="8785440" cy="5384880"/>
        </p:xfrm>
        <a:graphic>
          <a:graphicData uri="http://schemas.openxmlformats.org/drawingml/2006/table">
            <a:tbl>
              <a:tblPr/>
              <a:tblGrid>
                <a:gridCol w="4383360"/>
                <a:gridCol w="440208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ритерии для класс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тношение человека к окружающему ми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- Практ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- Духо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сторически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Прогрессивная – Регресс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озидательная - Разруши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оциальные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Законная – Незако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Моральная - Амор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оциальные формы объединения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оллек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Масс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пособы существ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днообразная, монотонная, шабло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нновационная, изобретательская, твор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феры общественной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Экономическая, политическая, социальная, духо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Этапы становления  и развития личности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гра – учение – труд - 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ворческая деятельность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Какие ассоциации возникают у вас при слове «ТВОРЧЕСТВО»?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это деятельность, порождающая нечто качественное новое, никогда ранее не существовавшее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Источником деятельности может быть воображение фантазия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верь себя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  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1) В чем заключается социальная сущность деятельности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2) Какова структура деятельности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3) Что такое субъект и объект деятельности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4) Как связаны между собой цель, средства и результат деятельности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5) Каковы мотивы деятельности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6) Как соотносятся потребности и интересы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7) В чем особенности творческой деятельности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дготовиться к тесту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очитать параграф 17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очитать источник на стр. 178, ответить на вопросы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конкретизировать понятие «деятельность»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как специфически человеческую форму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взаимодействия с окружающим миром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лан 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Сущность и структура деятельности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требности и интересы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Многообразие видов деятельности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Творческая деятельность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авните два определения: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еятельность — форм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уществования человеческого общест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проявление активности субъекта, выражающейся в целесообразном изменении окружающего мира, а также в преобразовании человеком самого себя».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«Деятельность— форма </a:t>
            </a:r>
            <a:r>
              <a:rPr b="0" i="1" lang="ru-RU" sz="2800" spc="-1" strike="noStrike">
                <a:solidFill>
                  <a:srgbClr val="663300"/>
                </a:solidFill>
                <a:latin typeface="Calibri"/>
              </a:rPr>
              <a:t>психической активности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субъекта, заключающаяся в мотивационном достижении сознательно поставленной цели познания или преобразования объекта».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1844640"/>
            <a:ext cx="266364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общества -результат деятельност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76720" y="1773360"/>
            <a:ext cx="5543280" cy="1167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ность – это проявление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 – это человек, проявивший себя в какой-либо обще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4149720"/>
            <a:ext cx="2808360" cy="7038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ведение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348000" y="4292640"/>
            <a:ext cx="1944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тлич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724360" y="4292640"/>
            <a:ext cx="28814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ведени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24000" y="4941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нкт - приспособ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580000" y="486900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умная деятельность – преобра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сообразуется с цел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щность и структура деятельности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1280" y="206064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ъект деятельнос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т, кто осуществляет 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932360" y="191628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то, на что она направл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84360" y="3716280"/>
            <a:ext cx="316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человек, группа людей, организация, государственный орг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859280" y="342900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быть природные материалы, различные предметы, сферы или области жизни люд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4284720" y="1844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Цель      Средства достижения       Результат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692360" y="54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147636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79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2565360"/>
            <a:ext cx="244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осознанный образ предвосхищаемого результата, на достижение которого направлена деятель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059280" y="249228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редст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это предметы труда, орудия труда,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867280" y="2492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зульт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это итог, продукт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95280" y="522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ятельность состоит из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2400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3640" y="609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98764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284720" y="6021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>
            <a:off x="755280" y="5661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212400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3276720" y="566100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284720" y="5589720"/>
            <a:ext cx="3585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ТРЕБНОСТИ И ИНТЕРЕСЫ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Как вы думаете, что побуждает человека к деятельности? Для чего?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Calibri"/>
              </a:rPr>
              <a:t>Прочитайте притчу: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alibri"/>
              </a:rPr>
              <a:t>«Старательный дровосек честно собирал хворость, ему хорошо платили и хвалили за трудолюбие. Только одно от него скрывали: хворост шёл на костры инквизиции, где сжигали людей.»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Calibri"/>
              </a:rPr>
              <a:t>О чем притча?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Calibri"/>
              </a:rPr>
              <a:t>Человек всегда должен осмысливать свои поступки, предвидеть их последствия, знать, что получится в результате – добро или зло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движет человеческой деятельностью?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Мотив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- побудительная причина, повод к какому-либо действию.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Потребность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 — это переживаемая и осознаваемая человеком нужда в том, что необходимо для поддержания его организма и развития личности.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(</a:t>
            </a: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Биологические потребности, Социальные потребности,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Идеальные потребности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)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5280" y="6093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ждения                                                     Интер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3:15:28Z</dcterms:created>
  <dc:creator>Admin</dc:creator>
  <dc:description/>
  <dc:language>en-US</dc:language>
  <cp:lastModifiedBy>COMP</cp:lastModifiedBy>
  <dcterms:modified xsi:type="dcterms:W3CDTF">2011-10-11T15:18:18Z</dcterms:modified>
  <cp:revision>22</cp:revision>
  <dc:subject/>
  <dc:title>Деятельность как способ существования людей</dc:title>
</cp:coreProperties>
</file>