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736-3C5B-4D8E-B5BA-FC04BC1F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2CF-ECC3-46B6-A93E-5275C54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1C5-BC56-4CAE-B480-6FB8BB7C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B89-2FE1-43D4-944B-D5183386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B238-D13C-4558-8FDC-141C28B4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1E2-97A2-4DEF-A52B-E62480B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1784-283B-46A9-B4F1-A8E3CCF5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6F5E-4417-4DA3-BF93-4B24F60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34EB-3507-4F5F-9F03-2CE517B7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5A7E-B7E0-4299-942B-441D52E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8490-2DE3-4778-AADE-8DE623A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FCE-F323-4D4B-A862-CBA7457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0B3E-D5B7-4B40-B1FA-4A392A6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CDF3-31ED-4D04-8C9D-80FF8D0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8C26-13D9-48F4-9AAC-4A7E4B68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22E-99D9-4AB4-86E9-89146B34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E962-F197-4B94-BF90-63EAFFB2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DC6-357E-4022-8BD5-13C06811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58B-D706-4018-9BE1-192E495E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029-1306-4BB9-9C1B-D2326B3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1C4-5FB9-425F-A301-00C0D63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AB0-42D4-49CE-846C-C2B66C5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B4F-51B5-4D9F-B523-AA2FA15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441-4CF4-4C0F-B437-6AA92F2D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9782975b876176144842b490277ebaa1-hcl0i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A30-BB55-41BF-8386-3A201E5EBF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0E2-AFF4-4E20-9021-E5548F3778F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solidFill>
            <a:srgbClr val="ffffff">
              <a:alpha val="70000"/>
            </a:srgbClr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ятельность как способ существования людей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ма: Деятельность людей и её многообразие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аким группам потребностей относятся данные высказывания?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Аристотель: «Все люди от природы стремятся к знанию»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Г.Белль: «Сон прекрасен тем, что уравнивает человека и животное»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Ю.Нагибин: «Если определить его главную устремленность – он всегда кому-то помогал…Помогать было его призванием»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ДЕЯТЕЛЬНОСТИ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alibri"/>
              </a:rPr>
              <a:t>Практическая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деятельность  направлена на преобразование реальных объектов природы и общества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alibri"/>
              </a:rPr>
              <a:t>Духовная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деятельность направлена на изменение сознания людей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280" y="5300640"/>
            <a:ext cx="874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ушительная деятельность          Созидатель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лассификация  видов деятельност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1473120"/>
          <a:ext cx="8785440" cy="5384880"/>
        </p:xfrm>
        <a:graphic>
          <a:graphicData uri="http://schemas.openxmlformats.org/drawingml/2006/table">
            <a:tbl>
              <a:tblPr/>
              <a:tblGrid>
                <a:gridCol w="4383360"/>
                <a:gridCol w="440208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ритерии для класс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тношение человека к окружающему ми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- Практ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- Дух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стор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Прогрессивная – Регресс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зидательная - Разруш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циальные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Законная – Незак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Моральная - Амо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циальные формы объединения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оллек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Масс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пособы сущ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днообразная, монотонная, шабл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нновационная, изобретательская, твор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феры общественной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Экономическая, политическая, социальная, дух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Этапы становления  и развития личности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гра – учение – труд - 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ая деятельность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ие ассоциации возникают у вас при слове «ТВОРЧЕСТВО»?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это деятельность, порождающая нечто качественное новое, никогда ранее не существовавшее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Источником деятельности может быть воображение фантазия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1) В чем заключается социальная сущность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2) Какова структура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3) Что такое субъект и объект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4) Как связаны между собой цель, средства и результат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5) Каковы мотивы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6) Как соотносятся потребности и интересы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7) В чем особенности творческой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дготовиться к тесту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читать параграф 17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читать источник на стр. 178, ответить на вопросы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онкретизировать понятие «деятельность»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ак специфически человеческую форму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взаимодействия с окружающим миром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н 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ущность и структура деятельности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требности и интересы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Многообразие видов деятельности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Творческая деятельность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 два определения: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ятельность — форм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уществования человеческого общест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проявление активности субъекта, выражающейся в целесообразном изменении окружающего мира, а также в преобразовании человеком самого себя».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«Деятельность— форма </a:t>
            </a: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психической активности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субъекта, заключающаяся в мотивационном достижении сознательно поставленной цели познания или преобразования объекта».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1844640"/>
            <a:ext cx="266364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общества -результат деятель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76720" y="1773360"/>
            <a:ext cx="5543280" cy="1167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ь – это проявление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 – это человек, проявивший себя в какой-либо обще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4149720"/>
            <a:ext cx="2808360" cy="7038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едение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348000" y="4292640"/>
            <a:ext cx="1944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тлич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724360" y="4292640"/>
            <a:ext cx="28814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едени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4941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нкт - приспосо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580000" y="486900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умная деятельность – пре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сообразуется с цел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щность и структура деятельности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1280" y="206064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ъект деятель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т, кто осуществляет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932360" y="191628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то, на что она направл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84360" y="3716280"/>
            <a:ext cx="31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человек, группа людей, организация, государственный орг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859280" y="342900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быть природные материалы, различные предметы, сферы или области жизни люд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4284720" y="1844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Цель      Средства достижения       Результат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692360" y="54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147636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79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2565360"/>
            <a:ext cx="24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осознанный образ предвосхищаемого результата, на достижение которого направлена деятель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59280" y="2492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то предметы труда, орудия труда,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867280" y="2492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это итог, продукт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95280" y="522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ятельность состоит из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2400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364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98764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284720" y="6021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755280" y="5661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212400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3276720" y="566100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284720" y="5589720"/>
            <a:ext cx="358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ТРЕБНОСТИ И ИНТЕРЕСЫ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Как вы думаете, что побуждает человека к деятельности? Для чего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Calibri"/>
              </a:rPr>
              <a:t>Прочитайте притчу: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«Старательный дровосек честно собирал хворость, ему хорошо платили и хвалили за трудолюбие. Только одно от него скрывали: хворост шёл на костры инквизиции, где сжигали людей.»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О чем притча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Calibri"/>
              </a:rPr>
              <a:t>Человек всегда должен осмысливать свои поступки, предвидеть их последствия, знать, что получится в результате – добро или зло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вижет человеческой деятельностью?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Мотив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- побудительная причина, повод к какому-либо действию.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отребность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 — это переживаемая и осознаваемая человеком нужда в том, что необходимо для поддержания его организма и развития личности.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Биологические потребности, Социальные потребности,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Идеальные потребности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5280" y="6093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ждения                                                     Интер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3:15:28Z</dcterms:created>
  <dc:creator>Admin</dc:creator>
  <dc:description/>
  <dc:language>en-US</dc:language>
  <cp:lastModifiedBy>COMP</cp:lastModifiedBy>
  <dcterms:modified xsi:type="dcterms:W3CDTF">2011-10-11T15:18:18Z</dcterms:modified>
  <cp:revision>22</cp:revision>
  <dc:subject/>
  <dc:title>Деятельность как способ существования людей</dc:title>
</cp:coreProperties>
</file>