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B24-C333-4EF4-890A-1E44158B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FF7-6B73-41E1-9E36-AD572A0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2A8-DD8D-435F-A06F-020B25C4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AF3-1304-40B7-BE3C-D865EFF2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150-1B41-4ABE-96F2-981674D1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7BC9-04E6-4238-8B3A-BC40A24D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E90-3691-4EA9-A3B1-583FE3A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E7B5-EBF5-4DF8-A6D7-0178217F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15C-60AA-42B4-98DD-FAD39776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7AC3-2336-43DC-90D0-AD70C43A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95E4-E8E4-4D4B-99CA-67E0EF5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7D4-5173-484F-97D2-0B9007A3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A4A-BB12-4F84-8829-DB6CDBB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F99-3F27-4A8E-8EF8-514CE7E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8D38-0B82-4D4D-B435-9EEA394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8F7-C7F7-40B1-8553-D302187A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9A23-E467-450D-9981-EA7FAED0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1B6-2B2E-45F8-A815-84ECB56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972-388E-45B0-ADCB-BF42A40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998-F212-493D-9AB5-BCA54F1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90C-2D06-464C-AE6B-0A3AE352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B56-7A20-47BD-98E6-B63648F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589-9021-406A-9A2D-E83230D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4AF-9A24-4890-A814-1FAC47C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9782975b876176144842b490277ebaa1-hcl0i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11A-272E-47A6-B1A6-4F3E3261C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6DA6-0579-4E41-BE15-5DA40998885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solidFill>
            <a:srgbClr val="ffffff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 как способ существования людей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ма: Деятельность людей и её многообразие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аким группам потребностей относятся данные высказывания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Аристотель: «Все люди от природы стремятся к знанию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Г.Белль: «Сон прекрасен тем, что уравнивает человека и животное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Ю.Нагибин: «Если определить его главную устремленность – он всегда кому-то помогал…Помогать было его призванием»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Практическ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 направлена на преобразование реальных объектов природы и общества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Духовн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направлена на изменение сознания людей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5300640"/>
            <a:ext cx="874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ушительная деятельность          Созидатель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лассификация  видов деятельност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473120"/>
          <a:ext cx="8785440" cy="5384880"/>
        </p:xfrm>
        <a:graphic>
          <a:graphicData uri="http://schemas.openxmlformats.org/drawingml/2006/table">
            <a:tbl>
              <a:tblPr/>
              <a:tblGrid>
                <a:gridCol w="4383360"/>
                <a:gridCol w="440208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ритерии для класс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тношение человека к окружающему ми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Практ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стор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Прогрессивная – Регресс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зидательная - Разруш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аконная – Незак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оральная - Амо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формы объединения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оллек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асс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пособы сущ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днообразная, монотонная, шабл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новационная, изобретательская, твор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феры общественной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кономическая, политическая, социальная,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тапы становления  и развития личности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гра – учение – труд - 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ая 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ие ассоциации возникают у вас при слове «ТВОРЧЕСТВО»?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то деятельность, порождающая нечто качественное новое, никогда ранее не существовавшее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Источником деятельности может быть воображение фантазия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1) В чем заключается социальная сущность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2) Какова структура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3) Что такое субъект и объект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4) Как связаны между собой цель, средства и результат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5) Каковы мотивы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6) Как соотносятся потребности и интересы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7) В чем особенности творческой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дготовиться к тесту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параграф 17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источник на стр. 178, ответить на вопросы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онкретизировать понятие «деятельность»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ак специфически человеческую форму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взаимодействия с окружающим миром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н 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ущность и структура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требности и интересы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Многообразие видов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Творческая деятельность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 два определения: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ятельность — форм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уществования человеческого общест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проявление активности субъекта, выражающейся в целесообразном изменении окружающего мира, а также в преобразовании человеком самого себя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«Деятельность— форма </a:t>
            </a: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психической активности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субъекта, заключающаяся в мотивационном достижении сознательно поставленной цели познания или преобразования объекта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844640"/>
            <a:ext cx="266364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общества -результат 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76720" y="1773360"/>
            <a:ext cx="5543280" cy="1167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ь – это проявление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 – это человек, проявивший себя в какой-либо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4149720"/>
            <a:ext cx="2808360" cy="7038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348000" y="4292640"/>
            <a:ext cx="1944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тлич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724360" y="4292640"/>
            <a:ext cx="28814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49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нкт - приспос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580000" y="486900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мная деятельность – пре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сообразуется с це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щность и структура деятельности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1280" y="206064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ъект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т, кто осуществляет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932360" y="19162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то, на что она направл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84360" y="3716280"/>
            <a:ext cx="31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человек, группа людей, организация, государственный орг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859280" y="342900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быть природные материалы, различные предметы, сферы или области жизни лю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284720" y="184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Цель      Средства достижения       Результат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692360" y="54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147636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79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256536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сознанный образ предвосхищаемого результата, на достижение которого направлена 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59280" y="2492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то предметы труда, орудия труда,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867280" y="2492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итог, продукт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95280" y="522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ятельность состоит из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2400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364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98764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284720" y="602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755280" y="566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212400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3276720" y="566100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284720" y="5589720"/>
            <a:ext cx="358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ТРЕБНОСТИ И ИНТЕРЕСЫ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Как вы думаете, что побуждает человека к деятельности? Для чего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Calibri"/>
              </a:rPr>
              <a:t>Прочитайте притчу: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«Старательный дровосек честно собирал хворость, ему хорошо платили и хвалили за трудолюбие. Только одно от него скрывали: хворост шёл на костры инквизиции, где сжигали людей.»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О чем притча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alibri"/>
              </a:rPr>
              <a:t>Человек всегда должен осмысливать свои поступки, предвидеть их последствия, знать, что получится в результате – добро или зло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вижет человеческой деятельностью?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- побудительная причина, повод к какому-либо действию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отребность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 — это переживаемая и осознаваемая человеком нужда в том, что необходимо для поддержания его организма и развития личности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Биологические потребности, Социальные потребности,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Идеальные потребности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6093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ждения                                                     Интер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3:15:28Z</dcterms:created>
  <dc:creator>Admin</dc:creator>
  <dc:description/>
  <dc:language>en-US</dc:language>
  <cp:lastModifiedBy>COMP</cp:lastModifiedBy>
  <dcterms:modified xsi:type="dcterms:W3CDTF">2011-10-11T15:18:18Z</dcterms:modified>
  <cp:revision>22</cp:revision>
  <dc:subject/>
  <dc:title>Деятельность как способ существования людей</dc:title>
</cp:coreProperties>
</file>