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45B443-2CB2-48DB-95EA-FE709E3D2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D5D005-1BD0-4982-ADFE-FBB0A8A0E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9F60B2-C7A3-41AD-9DE6-EBEF041CA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BC9207-7863-44E6-9E60-056C0E48E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0DBE0-D936-41E4-93A3-7CDB80870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21D53-FED5-41F1-B90A-051EA74C1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2B1B8-F8D4-498C-BAF7-AB64C07AF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6C5D4-E78C-4E7C-B4F5-12E7DF5EF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4F83C-FEC8-404D-AC30-1224274C1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94F67-F74C-4149-B608-86C8103E0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D97DC-6B1E-442B-B9A0-85ED175DD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222D86-49C2-49D6-AF16-C8FEB2659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F781F-DC88-4251-8864-F61F43E1C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A52C3-A923-4092-AAF8-911F01DCB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D44AD-0656-4127-BECA-2E66626F6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02259-EBA6-48E6-8470-0CE0FD7AC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7BF53-9008-4F34-9B74-12E042A45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04B8A-E9CA-4B84-9184-B6CAEAA10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86EA5C-B0FA-491B-BD1B-E51CA2B01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AB926-9B6D-4FE3-B836-B75972D0C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A28684-B77E-4E71-BFE5-B954CDB32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998BA-7C47-4C33-A5D1-95A1F926E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6D3C1-193E-4E61-B0B9-9135E9F9A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03EDAA-8256-48F3-97F9-427684E81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7E276-DB41-4F1B-8AF1-2BCF4C15866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E087B-45A0-4F29-81BD-C6E82FDB242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09680" y="228240"/>
            <a:ext cx="6934320" cy="396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Times New Roman"/>
              </a:rPr>
              <a:t>Здоровье школьников – залог успешного обучения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0" y="4419360"/>
            <a:ext cx="91440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Основные направления работы школ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Зам. директора по УВР Морозова Т. 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0" descr=""/>
          <p:cNvPicPr/>
          <p:nvPr/>
        </p:nvPicPr>
        <p:blipFill>
          <a:blip r:embed="rId1"/>
          <a:stretch/>
        </p:blipFill>
        <p:spPr>
          <a:xfrm>
            <a:off x="533520" y="4191120"/>
            <a:ext cx="2590560" cy="219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e6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AutoShape 4"/>
          <p:cNvSpPr/>
          <p:nvPr/>
        </p:nvSpPr>
        <p:spPr>
          <a:xfrm>
            <a:off x="304920" y="762120"/>
            <a:ext cx="8839080" cy="1371600"/>
          </a:xfrm>
          <a:custGeom>
            <a:avLst/>
            <a:gdLst>
              <a:gd name="textAreaLeft" fmla="*/ 1345680 w 8839080"/>
              <a:gd name="textAreaRight" fmla="*/ 7493400 w 8839080"/>
              <a:gd name="textAreaTop" fmla="*/ 79560 h 1371600"/>
              <a:gd name="textAreaBottom" fmla="*/ 111600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4025"/>
                </a:moveTo>
                <a:arcTo wR="21600" hR="20153" stAng="-7304956" swAng="604277"/>
                <a:lnTo>
                  <a:pt x="3289" y="1258"/>
                </a:lnTo>
                <a:arcTo wR="21600" hR="20153" stAng="-6700680" swAng="2601359"/>
                <a:lnTo>
                  <a:pt x="18311" y="2583"/>
                </a:lnTo>
                <a:arcTo wR="21600" hR="20153" stAng="-4099320" swAng="604277"/>
                <a:lnTo>
                  <a:pt x="18900" y="11583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079387"/>
                <a:lnTo>
                  <a:pt x="15611" y="18081"/>
                </a:lnTo>
                <a:arcTo wR="21600" hR="20153" stAng="-4574431" swAng="-1651138"/>
                <a:lnTo>
                  <a:pt x="5989" y="19406"/>
                </a:lnTo>
                <a:arcTo wR="21600" hR="20153" stAng="-6225569" swAng="-1079387"/>
                <a:lnTo>
                  <a:pt x="2700" y="11583"/>
                </a:lnTo>
                <a:close/>
              </a:path>
              <a:path fill="none" w="21600" h="21600">
                <a:moveTo>
                  <a:pt x="5989" y="18081"/>
                </a:moveTo>
                <a:arcTo wR="21600" hR="20153" stAng="-6225569" swAng="-475111"/>
                <a:lnTo>
                  <a:pt x="5989" y="19406"/>
                </a:lnTo>
              </a:path>
              <a:path fill="none" w="21600" h="21600">
                <a:moveTo>
                  <a:pt x="15611" y="18081"/>
                </a:moveTo>
                <a:arcTo wR="21600" hR="20153" stAng="-4574431" swAng="475111"/>
                <a:lnTo>
                  <a:pt x="15611" y="19406"/>
                </a:lnTo>
              </a:path>
              <a:path fill="none" w="21600" h="21600">
                <a:moveTo>
                  <a:pt x="3289" y="2583"/>
                </a:moveTo>
                <a:lnTo>
                  <a:pt x="3289" y="18833"/>
                </a:lnTo>
              </a:path>
              <a:path fill="none" w="21600" h="21600">
                <a:moveTo>
                  <a:pt x="18311" y="2583"/>
                </a:moveTo>
                <a:lnTo>
                  <a:pt x="18311" y="18833"/>
                </a:lnTo>
              </a:path>
            </a:pathLst>
          </a:custGeom>
          <a:solidFill>
            <a:srgbClr val="afafff"/>
          </a:solidFill>
          <a:ln cap="rnd" w="9360">
            <a:solidFill>
              <a:srgbClr val="abab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Основные направления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7"/>
          <p:cNvSpPr/>
          <p:nvPr/>
        </p:nvSpPr>
        <p:spPr>
          <a:xfrm>
            <a:off x="228600" y="3505320"/>
            <a:ext cx="2743200" cy="1676160"/>
          </a:xfrm>
          <a:prstGeom prst="foldedCorner">
            <a:avLst>
              <a:gd name="adj" fmla="val 12500"/>
            </a:avLst>
          </a:prstGeom>
          <a:solidFill>
            <a:srgbClr val="afafff"/>
          </a:solidFill>
          <a:ln w="6480">
            <a:solidFill>
              <a:srgbClr val="aba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Сохран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укрепл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физического здоровь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дет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9"/>
          <p:cNvSpPr/>
          <p:nvPr/>
        </p:nvSpPr>
        <p:spPr>
          <a:xfrm>
            <a:off x="4419720" y="1905120"/>
            <a:ext cx="0" cy="3429000"/>
          </a:xfrm>
          <a:prstGeom prst="line">
            <a:avLst/>
          </a:prstGeom>
          <a:ln w="38160">
            <a:solidFill>
              <a:srgbClr val="d6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10"/>
          <p:cNvSpPr/>
          <p:nvPr/>
        </p:nvSpPr>
        <p:spPr>
          <a:xfrm>
            <a:off x="2819520" y="5486400"/>
            <a:ext cx="3352680" cy="1219320"/>
          </a:xfrm>
          <a:prstGeom prst="foldedCorner">
            <a:avLst>
              <a:gd name="adj" fmla="val 12500"/>
            </a:avLst>
          </a:prstGeom>
          <a:solidFill>
            <a:srgbClr val="afafff"/>
          </a:solidFill>
          <a:ln w="9360">
            <a:solidFill>
              <a:srgbClr val="aba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Сохранение психическ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здоровья дет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12"/>
          <p:cNvSpPr/>
          <p:nvPr/>
        </p:nvSpPr>
        <p:spPr>
          <a:xfrm>
            <a:off x="5486400" y="3505320"/>
            <a:ext cx="3657600" cy="1523880"/>
          </a:xfrm>
          <a:prstGeom prst="foldedCorner">
            <a:avLst>
              <a:gd name="adj" fmla="val 12500"/>
            </a:avLst>
          </a:prstGeom>
          <a:solidFill>
            <a:srgbClr val="afafff"/>
          </a:solidFill>
          <a:ln w="9360">
            <a:solidFill>
              <a:srgbClr val="aba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Создание благоприятн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социально – психологическ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атмосфе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3"/>
          <p:cNvSpPr/>
          <p:nvPr/>
        </p:nvSpPr>
        <p:spPr>
          <a:xfrm flipH="1">
            <a:off x="1828440" y="1905120"/>
            <a:ext cx="2590920" cy="1447560"/>
          </a:xfrm>
          <a:prstGeom prst="line">
            <a:avLst/>
          </a:prstGeom>
          <a:ln w="38160">
            <a:solidFill>
              <a:srgbClr val="d6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4"/>
          <p:cNvSpPr/>
          <p:nvPr/>
        </p:nvSpPr>
        <p:spPr>
          <a:xfrm>
            <a:off x="4419720" y="1905120"/>
            <a:ext cx="2971800" cy="1523880"/>
          </a:xfrm>
          <a:prstGeom prst="line">
            <a:avLst/>
          </a:prstGeom>
          <a:ln w="38160">
            <a:solidFill>
              <a:srgbClr val="d6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e6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60000"/>
                </a:solidFill>
                <a:latin typeface="Times New Roman"/>
              </a:rPr>
              <a:t>Сохранение и укрепление физического здоровья дет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imes New Roman"/>
              </a:rPr>
              <a:t>работа со школьным врачо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imes New Roman"/>
              </a:rPr>
              <a:t>уроки физической культур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imes New Roman"/>
              </a:rPr>
              <a:t>уроки здоровь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imes New Roman"/>
              </a:rPr>
              <a:t>динамическая пауз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imes New Roman"/>
              </a:rPr>
              <a:t>физкультминутки на урока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imes New Roman"/>
              </a:rPr>
              <a:t>дни здоровь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imes New Roman"/>
              </a:rPr>
              <a:t>ПМП консилиум, совместная работа с ПМПК г.о. Колом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39625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6" descr=""/>
          <p:cNvPicPr/>
          <p:nvPr/>
        </p:nvPicPr>
        <p:blipFill>
          <a:blip r:embed="rId1"/>
          <a:stretch/>
        </p:blipFill>
        <p:spPr>
          <a:xfrm>
            <a:off x="4572000" y="2438280"/>
            <a:ext cx="4038480" cy="36576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"/>
          <p:cNvPicPr/>
          <p:nvPr/>
        </p:nvPicPr>
        <p:blipFill>
          <a:blip r:embed="rId2"/>
          <a:stretch/>
        </p:blipFill>
        <p:spPr>
          <a:xfrm>
            <a:off x="395280" y="609480"/>
            <a:ext cx="41004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e6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60000"/>
                </a:solidFill>
                <a:latin typeface="Times New Roman"/>
              </a:rPr>
              <a:t>Сохранение психического здоровья дет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90720" y="2514240"/>
            <a:ext cx="73152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работа со школьным психолого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музыкально-ритмические перемен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упражнения на релаксацию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создание ситуации успех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доброжелательная атмосфера коллекти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3962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7" descr=""/>
          <p:cNvPicPr/>
          <p:nvPr/>
        </p:nvPicPr>
        <p:blipFill>
          <a:blip r:embed="rId1"/>
          <a:stretch/>
        </p:blipFill>
        <p:spPr>
          <a:xfrm>
            <a:off x="4343400" y="2822400"/>
            <a:ext cx="4572000" cy="34261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"/>
          <p:cNvPicPr/>
          <p:nvPr/>
        </p:nvPicPr>
        <p:blipFill>
          <a:blip r:embed="rId2"/>
          <a:stretch/>
        </p:blipFill>
        <p:spPr>
          <a:xfrm>
            <a:off x="304920" y="609480"/>
            <a:ext cx="39621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e6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861048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60000"/>
                </a:solidFill>
                <a:latin typeface="Arial"/>
              </a:rPr>
              <a:t>       </a:t>
            </a:r>
            <a:r>
              <a:rPr b="0" lang="ru-RU" sz="3600" spc="-1" strike="noStrike">
                <a:solidFill>
                  <a:srgbClr val="d60000"/>
                </a:solidFill>
                <a:latin typeface="Times New Roman"/>
              </a:rPr>
              <a:t>Создание благоприятной социально-       психологической атмосфер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принцип вариативно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личностно-ориентированный подход к каждом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коррекционная направленность учебно-воспитательного процесс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мотивационное обучени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дополнительное образовани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система работы с родителям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методы социально-психологической поддержки и контрол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3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"/>
          <p:cNvPicPr/>
          <p:nvPr/>
        </p:nvPicPr>
        <p:blipFill>
          <a:blip r:embed="rId1"/>
          <a:stretch/>
        </p:blipFill>
        <p:spPr>
          <a:xfrm>
            <a:off x="611280" y="549360"/>
            <a:ext cx="8137440" cy="57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улагина Е.И.</cp:lastModifiedBy>
  <dcterms:modified xsi:type="dcterms:W3CDTF">2014-02-24T13:14:19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