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F96D-0AA0-44FE-876C-41346BB3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1ACC-D8DE-4FF5-A88F-AD9E67F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6157-736E-4F2A-B644-D9B00EB6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4709-9479-427F-9891-545C2346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859-A5CA-4B46-A1D9-77E1926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6AEA-0101-4CBC-888E-3FFA595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32C-6F5D-44B9-B5AE-62D90687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F35C-F46A-429A-AC58-3437F4AD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503-4F94-4599-B9CC-76BC649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0ED7-A6C4-419C-9F0E-027F680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2FE-2D1B-441E-BE4B-9CFE435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DF77-7FBA-4865-8C31-0E03A82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773-1CAB-4990-9065-7E32F0F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85E2-1543-4CA7-ACA5-E31CDAB8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CB56-4C8B-4785-B633-27BA8F3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5BC8-565F-4778-A047-77E1B096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8512-BA84-4D68-B9DE-D3268E99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B64F-136B-4C2C-8964-961DE51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9D70-38DC-4A2B-8833-17CA6EA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6E95-CF89-430A-945C-68B70942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802A-E442-46A3-8083-92D3741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7848-752C-421B-B39A-977CDFF1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83EB-8B5B-4A7A-9D3A-3429C84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E3EC-18AC-49EC-9E4F-3FD9849F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7AA0-38CD-46DB-AD27-69C9EF3150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9CE5-2508-4D44-A395-12067C6509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Здоровье школьников – залог успешного обуч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м. директора по УВР Морозова Т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59056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304920" y="762120"/>
            <a:ext cx="8839080" cy="1371600"/>
          </a:xfrm>
          <a:custGeom>
            <a:avLst/>
            <a:gdLst>
              <a:gd name="textAreaLeft" fmla="*/ 1345680 w 8839080"/>
              <a:gd name="textAreaRight" fmla="*/ 7493400 w 8839080"/>
              <a:gd name="textAreaTop" fmla="*/ 79560 h 1371600"/>
              <a:gd name="textAreaBottom" fmla="*/ 1116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4025"/>
                </a:moveTo>
                <a:arcTo wR="21600" hR="20153" stAng="-7304956" swAng="604277"/>
                <a:lnTo>
                  <a:pt x="3289" y="1258"/>
                </a:lnTo>
                <a:arcTo wR="21600" hR="20153" stAng="-6700680" swAng="2601359"/>
                <a:lnTo>
                  <a:pt x="18311" y="2583"/>
                </a:lnTo>
                <a:arcTo wR="21600" hR="20153" stAng="-4099320" swAng="604277"/>
                <a:lnTo>
                  <a:pt x="18900" y="1158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79387"/>
                <a:lnTo>
                  <a:pt x="15611" y="18081"/>
                </a:lnTo>
                <a:arcTo wR="21600" hR="20153" stAng="-4574431" swAng="-1651138"/>
                <a:lnTo>
                  <a:pt x="5989" y="19406"/>
                </a:lnTo>
                <a:arcTo wR="21600" hR="20153" stAng="-6225569" swAng="-1079387"/>
                <a:lnTo>
                  <a:pt x="2700" y="11583"/>
                </a:lnTo>
                <a:close/>
              </a:path>
              <a:path fill="none" w="21600" h="21600">
                <a:moveTo>
                  <a:pt x="5989" y="18081"/>
                </a:moveTo>
                <a:arcTo wR="21600" hR="20153" stAng="-6225569" swAng="-475111"/>
                <a:lnTo>
                  <a:pt x="5989" y="19406"/>
                </a:lnTo>
              </a:path>
              <a:path fill="none" w="21600" h="21600">
                <a:moveTo>
                  <a:pt x="15611" y="18081"/>
                </a:moveTo>
                <a:arcTo wR="21600" hR="20153" stAng="-4574431" swAng="475111"/>
                <a:lnTo>
                  <a:pt x="15611" y="19406"/>
                </a:lnTo>
              </a:path>
              <a:path fill="none" w="21600" h="21600">
                <a:moveTo>
                  <a:pt x="3289" y="2583"/>
                </a:moveTo>
                <a:lnTo>
                  <a:pt x="3289" y="18833"/>
                </a:lnTo>
              </a:path>
              <a:path fill="none" w="21600" h="21600">
                <a:moveTo>
                  <a:pt x="18311" y="2583"/>
                </a:moveTo>
                <a:lnTo>
                  <a:pt x="18311" y="18833"/>
                </a:lnTo>
              </a:path>
            </a:pathLst>
          </a:custGeom>
          <a:solidFill>
            <a:srgbClr val="afafff"/>
          </a:solidFill>
          <a:ln cap="rnd" w="9360">
            <a:solidFill>
              <a:srgbClr val="abab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28600" y="3505320"/>
            <a:ext cx="2743200" cy="167616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648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физического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419720" y="1905120"/>
            <a:ext cx="0" cy="342900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819520" y="5486400"/>
            <a:ext cx="3352680" cy="121932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 псих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доровь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5486400" y="3505320"/>
            <a:ext cx="3657600" cy="152388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здание благоприя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циально – псих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1828440" y="1905120"/>
            <a:ext cx="2590920" cy="144756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419720" y="1905120"/>
            <a:ext cx="2971800" cy="152388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и укрепление физ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работа со школьным вра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физической куль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инамическая пау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физкультминутки на у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н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МП консилиум, совместная работа с ПМПК г.о. Колом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395280" y="609480"/>
            <a:ext cx="41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псих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абота со школьным психоло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узыкально-ритмические перем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пражнения на релакс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здание ситуации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брожелательная атмосфера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343400" y="2822400"/>
            <a:ext cx="4572000" cy="342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d60000"/>
                </a:solidFill>
                <a:latin typeface="Times New Roman"/>
              </a:rPr>
              <a:t>Создание благоприятной социально-       психологической атмо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ринцип вариатив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ичностно-ориентированный подход к кажд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оррекционная направленность учебно-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отивационное обу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полните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истема работы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етоды социально-психологической поддержки и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лагина Е.И.</cp:lastModifiedBy>
  <dcterms:modified xsi:type="dcterms:W3CDTF">2014-02-24T13:14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