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EA2B-844C-466C-9E11-33D465A1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D46A-9BD6-42A7-A1CC-3326A87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CC86-A87D-4836-AD9C-E4086184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53B4-956C-44B0-94B9-1960CE40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848D-2E48-4547-93BB-25D1D56C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24FB-2E84-473F-BE2A-DB16924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526-04C4-45C2-B29A-D566FE91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2580-6A96-489A-933D-2B9697A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B150-7680-43C9-BAC2-FE621E17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420-F9F8-4BD1-84A6-A219796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369A-6725-41FE-9170-7FE1EC2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785C-C8F2-4BE8-B921-36A41EE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9D5A-22FD-4A6E-A5B8-A6253903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BBC6-4531-4F93-86EF-1F39E2B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F8FF-5324-4CF3-960A-168F073F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D473-E0C4-4BCD-80CE-0112B0A2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D508-8623-423B-BDF7-34402C24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02C3-BEE8-45FF-8D5D-227EF5A6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5EBB-A875-4672-813B-9FF3E9A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35AE9-0160-497F-8FF8-9A6F85C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818E-A833-4162-A8A0-2461088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B836-6F29-4B2F-885A-606C6D03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8A32-63D3-46FF-9F7D-0F76C0C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FF0C-40DE-4357-AC0C-099FD54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B07-5063-4E12-8B4F-A8D6674AC9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58C-70F8-400A-A3A3-ABE32740D9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Здоровье школьников – залог успешного обуч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м. директора по УВР Морозова Т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59056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304920" y="762120"/>
            <a:ext cx="8839080" cy="1371600"/>
          </a:xfrm>
          <a:custGeom>
            <a:avLst/>
            <a:gdLst>
              <a:gd name="textAreaLeft" fmla="*/ 1345680 w 8839080"/>
              <a:gd name="textAreaRight" fmla="*/ 7493400 w 8839080"/>
              <a:gd name="textAreaTop" fmla="*/ 79560 h 1371600"/>
              <a:gd name="textAreaBottom" fmla="*/ 1116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4025"/>
                </a:moveTo>
                <a:arcTo wR="21600" hR="20153" stAng="-7304956" swAng="604277"/>
                <a:lnTo>
                  <a:pt x="3289" y="1258"/>
                </a:lnTo>
                <a:arcTo wR="21600" hR="20153" stAng="-6700680" swAng="2601359"/>
                <a:lnTo>
                  <a:pt x="18311" y="2583"/>
                </a:lnTo>
                <a:arcTo wR="21600" hR="20153" stAng="-4099320" swAng="604277"/>
                <a:lnTo>
                  <a:pt x="18900" y="1158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79387"/>
                <a:lnTo>
                  <a:pt x="15611" y="18081"/>
                </a:lnTo>
                <a:arcTo wR="21600" hR="20153" stAng="-4574431" swAng="-1651138"/>
                <a:lnTo>
                  <a:pt x="5989" y="19406"/>
                </a:lnTo>
                <a:arcTo wR="21600" hR="20153" stAng="-6225569" swAng="-1079387"/>
                <a:lnTo>
                  <a:pt x="2700" y="11583"/>
                </a:lnTo>
                <a:close/>
              </a:path>
              <a:path fill="none" w="21600" h="21600">
                <a:moveTo>
                  <a:pt x="5989" y="18081"/>
                </a:moveTo>
                <a:arcTo wR="21600" hR="20153" stAng="-6225569" swAng="-475111"/>
                <a:lnTo>
                  <a:pt x="5989" y="19406"/>
                </a:lnTo>
              </a:path>
              <a:path fill="none" w="21600" h="21600">
                <a:moveTo>
                  <a:pt x="15611" y="18081"/>
                </a:moveTo>
                <a:arcTo wR="21600" hR="20153" stAng="-4574431" swAng="475111"/>
                <a:lnTo>
                  <a:pt x="15611" y="19406"/>
                </a:lnTo>
              </a:path>
              <a:path fill="none" w="21600" h="21600">
                <a:moveTo>
                  <a:pt x="3289" y="2583"/>
                </a:moveTo>
                <a:lnTo>
                  <a:pt x="3289" y="18833"/>
                </a:lnTo>
              </a:path>
              <a:path fill="none" w="21600" h="21600">
                <a:moveTo>
                  <a:pt x="18311" y="2583"/>
                </a:moveTo>
                <a:lnTo>
                  <a:pt x="18311" y="18833"/>
                </a:lnTo>
              </a:path>
            </a:pathLst>
          </a:custGeom>
          <a:solidFill>
            <a:srgbClr val="afafff"/>
          </a:solidFill>
          <a:ln cap="rnd" w="9360">
            <a:solidFill>
              <a:srgbClr val="abab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28600" y="3505320"/>
            <a:ext cx="2743200" cy="167616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648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физического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419720" y="1905120"/>
            <a:ext cx="0" cy="342900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819520" y="5486400"/>
            <a:ext cx="3352680" cy="121932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 псих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доровь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5486400" y="3505320"/>
            <a:ext cx="3657600" cy="152388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здание благоприя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циально – псих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1828440" y="1905120"/>
            <a:ext cx="2590920" cy="144756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419720" y="1905120"/>
            <a:ext cx="2971800" cy="152388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и укрепление физ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работа со школьным вра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физической куль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инамическая пау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физкультминутки на у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н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МП консилиум, совместная работа с ПМПК г.о. Колом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395280" y="609480"/>
            <a:ext cx="41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псих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абота со школьным психоло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узыкально-ритмические перем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пражнения на релакс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здание ситуации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брожелательная атмосфера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343400" y="2822400"/>
            <a:ext cx="4572000" cy="342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d60000"/>
                </a:solidFill>
                <a:latin typeface="Times New Roman"/>
              </a:rPr>
              <a:t>Создание благоприятной социально-       психологической атмо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ринцип вариатив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ичностно-ориентированный подход к кажд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оррекционная направленность учебно-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отивационное обу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полните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истема работы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етоды социально-психологической поддержки и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лагина Е.И.</cp:lastModifiedBy>
  <dcterms:modified xsi:type="dcterms:W3CDTF">2014-02-24T13:14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