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png" ContentType="image/png"/>
  <Override PartName="/ppt/media/image33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32.jpeg" ContentType="image/jpeg"/>
  <Override PartName="/ppt/media/image35.jpeg" ContentType="image/jpeg"/>
  <Override PartName="/ppt/media/image42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10.jpeg" ContentType="image/jpeg"/>
  <Override PartName="/ppt/media/image54.wmf" ContentType="image/x-wmf"/>
  <Override PartName="/ppt/media/image7.jpeg" ContentType="image/jpeg"/>
  <Override PartName="/ppt/media/image28.png" ContentType="image/pn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7.jpeg" ContentType="image/jpeg"/>
  <Override PartName="/ppt/media/image46.jpeg" ContentType="image/jpeg"/>
  <Override PartName="/ppt/media/image51.jpeg" ContentType="image/jpeg"/>
  <Override PartName="/ppt/media/image13.jpeg" ContentType="image/jpeg"/>
  <Override PartName="/ppt/media/image31.jpeg" ContentType="image/jpeg"/>
  <Override PartName="/ppt/media/image53.jpeg" ContentType="image/jpeg"/>
  <Override PartName="/ppt/media/image30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media/image48.png" ContentType="image/png"/>
  <Override PartName="/ppt/media/image9.jpeg" ContentType="image/jpeg"/>
  <Override PartName="/ppt/media/image29.jpeg" ContentType="image/jpeg"/>
  <Override PartName="/ppt/media/image52.jpeg" ContentType="image/jpeg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CCE-AD9B-418A-8778-896B6DA3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266-D2AA-4C0C-B2F5-CFEB12DD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69F-DDD8-434B-8517-9CB62BE1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756-1E6E-4BE8-BE28-18696EE7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62E-A7CD-4011-B787-95B6ABB1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C8E9-FEA9-4756-91F6-5B22A4C6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EA9-C452-4F9F-82BE-E1AB1547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BA1-7C1A-40F4-BC6E-A66C44FB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5A6-FDBE-4D87-8F2E-496AACB8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56C-E7E1-4FC1-AE69-838C8B61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F7F-1B2A-46F8-86DA-12ED5177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AD2-C997-4106-A042-0BA857D0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b0dc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FFB1-7FFA-46CA-9BF6-6986B7447F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ltai.fio.ru/projects/others/gubaidullina/_private/ssilki/mendeleev/table/se.htm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webelements.narod.ru/elements/Co.htm" TargetMode="External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ebelements.narod.ru/elements/Cm.htm" TargetMode="External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12"/>
          <p:cNvSpPr txBox="1"/>
          <p:nvPr/>
        </p:nvSpPr>
        <p:spPr>
          <a:xfrm>
            <a:off x="826920" y="692280"/>
            <a:ext cx="76327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32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Georgia"/>
              </a:rPr>
              <a:t>Знаки химических элементов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Georgia"/>
              <a:ea typeface="Georgia"/>
            </a:endParaRPr>
          </a:p>
        </p:txBody>
      </p:sp>
      <p:sp>
        <p:nvSpPr>
          <p:cNvPr id="43" name="WordArt 0"/>
          <p:cNvSpPr txBox="1"/>
          <p:nvPr/>
        </p:nvSpPr>
        <p:spPr>
          <a:xfrm>
            <a:off x="1403280" y="256536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4" name="WordArt 1"/>
          <p:cNvSpPr txBox="1"/>
          <p:nvPr/>
        </p:nvSpPr>
        <p:spPr>
          <a:xfrm>
            <a:off x="1908000" y="494172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5" name="WordArt 2"/>
          <p:cNvSpPr txBox="1"/>
          <p:nvPr/>
        </p:nvSpPr>
        <p:spPr>
          <a:xfrm>
            <a:off x="3564000" y="227664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F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5219640" y="256536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5724360" y="465300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7020000" y="242100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C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49" name="Picture 13" descr="Картинка 122 из 152"/>
          <p:cNvPicPr/>
          <p:nvPr/>
        </p:nvPicPr>
        <p:blipFill>
          <a:blip r:embed="rId1"/>
          <a:stretch/>
        </p:blipFill>
        <p:spPr>
          <a:xfrm>
            <a:off x="0" y="4797360"/>
            <a:ext cx="1143000" cy="1905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7" descr=""/>
          <p:cNvPicPr/>
          <p:nvPr/>
        </p:nvPicPr>
        <p:blipFill>
          <a:blip r:embed="rId1"/>
          <a:stretch/>
        </p:blipFill>
        <p:spPr>
          <a:xfrm>
            <a:off x="0" y="0"/>
            <a:ext cx="2573280" cy="2852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8"/>
          <p:cNvSpPr/>
          <p:nvPr/>
        </p:nvSpPr>
        <p:spPr>
          <a:xfrm>
            <a:off x="0" y="11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479840" y="112680"/>
          <a:ext cx="208080" cy="2205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2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59"/>
          <p:cNvSpPr/>
          <p:nvPr/>
        </p:nvSpPr>
        <p:spPr>
          <a:xfrm>
            <a:off x="1800" y="23158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611280" y="1916280"/>
            <a:ext cx="806616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бед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е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л большой скромностью и необычайной жаждой знаний. Он не занимал никакой важной университетской должности, был простым учителем математики и физики в школе и коллед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тон открыл газовые законы физики, а в химии — закон кратных отношений,  составил самую первую таблицу относительных атомных масс и создал первую систему химических знаков для простых и сложных веществ, для того времени весьма прогрессивну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9"/>
          <p:cNvSpPr/>
          <p:nvPr/>
        </p:nvSpPr>
        <p:spPr>
          <a:xfrm>
            <a:off x="1800" y="595332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3"/>
          <p:cNvSpPr txBox="1"/>
          <p:nvPr/>
        </p:nvSpPr>
        <p:spPr>
          <a:xfrm>
            <a:off x="3780000" y="549360"/>
            <a:ext cx="3724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ЖОН ДАЛЬТОН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(1766 - 1844)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1371600" y="380880"/>
          <a:ext cx="66294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66294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2"/>
          <p:cNvGraphicFramePr/>
          <p:nvPr/>
        </p:nvGraphicFramePr>
        <p:xfrm>
          <a:off x="2209680" y="380880"/>
          <a:ext cx="50292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80880"/>
                    <a:ext cx="50292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Й.Я. Берцелиу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редложению шведского химика Берцелиуса в начале 19 века в качестве символов были приняты в большинстве случаев начальные буквы латинских названий химических элем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Берцелиус"/>
          <p:cNvPicPr/>
          <p:nvPr/>
        </p:nvPicPr>
        <p:blipFill>
          <a:blip r:embed="rId1"/>
          <a:stretch/>
        </p:blipFill>
        <p:spPr>
          <a:xfrm>
            <a:off x="7493040" y="0"/>
            <a:ext cx="165096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4427640" y="3213000"/>
          <a:ext cx="4386240" cy="3311640"/>
        </p:xfrm>
        <a:graphic>
          <a:graphicData uri="http://schemas.openxmlformats.org/drawingml/2006/table">
            <a:tbl>
              <a:tblPr/>
              <a:tblGrid>
                <a:gridCol w="1461960"/>
                <a:gridCol w="1461960"/>
                <a:gridCol w="146232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ское 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гент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ле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сф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и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и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7640" y="620280"/>
            <a:ext cx="88470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ределенный вид атомов называют </a:t>
            </a:r>
            <a:r>
              <a:rPr b="0" lang="ru-RU" sz="4400" spc="-1" strike="noStrike">
                <a:solidFill>
                  <a:srgbClr val="ff66ff"/>
                </a:solidFill>
                <a:latin typeface="Times New Roman"/>
              </a:rPr>
              <a:t>химическим элементо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 настоящее время известно более110 видов атомов, то есть более110 химических элемент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5"/>
          <p:cNvSpPr/>
          <p:nvPr/>
        </p:nvSpPr>
        <p:spPr>
          <a:xfrm>
            <a:off x="0" y="4508640"/>
            <a:ext cx="212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ческие объ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2193120" y="4508640"/>
            <a:ext cx="245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трономичес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4568760" y="443700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шние сво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вид элем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7091640" y="436572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м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1039680" y="836640"/>
            <a:ext cx="25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ующ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еди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3492360" y="1052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фоло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5725440" y="11253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WordArt 25"/>
          <p:cNvSpPr txBox="1"/>
          <p:nvPr/>
        </p:nvSpPr>
        <p:spPr>
          <a:xfrm>
            <a:off x="826920" y="2276640"/>
            <a:ext cx="741708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имческие элемен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1547640" y="16286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7"/>
          <p:cNvSpPr/>
          <p:nvPr/>
        </p:nvSpPr>
        <p:spPr>
          <a:xfrm>
            <a:off x="3995640" y="16286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28"/>
          <p:cNvSpPr/>
          <p:nvPr/>
        </p:nvSpPr>
        <p:spPr>
          <a:xfrm>
            <a:off x="6227640" y="16286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9"/>
          <p:cNvSpPr/>
          <p:nvPr/>
        </p:nvSpPr>
        <p:spPr>
          <a:xfrm>
            <a:off x="1042920" y="3500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0"/>
          <p:cNvSpPr/>
          <p:nvPr/>
        </p:nvSpPr>
        <p:spPr>
          <a:xfrm>
            <a:off x="3348000" y="3573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31"/>
          <p:cNvSpPr/>
          <p:nvPr/>
        </p:nvSpPr>
        <p:spPr>
          <a:xfrm>
            <a:off x="5435640" y="3573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32"/>
          <p:cNvSpPr/>
          <p:nvPr/>
        </p:nvSpPr>
        <p:spPr>
          <a:xfrm>
            <a:off x="7524720" y="3500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5"/>
          <p:cNvSpPr txBox="1"/>
          <p:nvPr/>
        </p:nvSpPr>
        <p:spPr>
          <a:xfrm>
            <a:off x="468360" y="333360"/>
            <a:ext cx="792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еографические объек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54" name="Picture 6" descr="is[1]"/>
          <p:cNvPicPr/>
          <p:nvPr/>
        </p:nvPicPr>
        <p:blipFill>
          <a:blip r:embed="rId3"/>
          <a:stretch/>
        </p:blipFill>
        <p:spPr>
          <a:xfrm>
            <a:off x="684360" y="1628640"/>
            <a:ext cx="2265120" cy="2232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752400" y="386064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ма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от лат.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m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9" descr="is[2]"/>
          <p:cNvPicPr/>
          <p:nvPr/>
        </p:nvPicPr>
        <p:blipFill>
          <a:blip r:embed="rId4"/>
          <a:stretch/>
        </p:blipFill>
        <p:spPr>
          <a:xfrm>
            <a:off x="3492360" y="1700280"/>
            <a:ext cx="2087640" cy="20890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3612240" y="3927600"/>
            <a:ext cx="252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в честь Польши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721440" y="4935600"/>
            <a:ext cx="817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ллий ( от лат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lia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ия ) Рутений (от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theni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Росс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468360" y="333360"/>
            <a:ext cx="8207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строномические объект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0" name="Picture 6" descr="is?iqMg4vjYQleWjpLJ9KKJPVUoPZ48qgAOdmWbV0TGKs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84280"/>
            <a:ext cx="2305080" cy="1836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2699280" y="3452760"/>
            <a:ext cx="36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от греч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ne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на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82200" y="4821120"/>
            <a:ext cx="58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туний (в честь планеты Нептун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лий ( от греч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os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нц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утоний ( в честь планеты Плутон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3" descr="is[2]"/>
          <p:cNvPicPr/>
          <p:nvPr/>
        </p:nvPicPr>
        <p:blipFill>
          <a:blip r:embed="rId3"/>
          <a:stretch/>
        </p:blipFill>
        <p:spPr>
          <a:xfrm>
            <a:off x="5580000" y="1557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is[1]"/>
          <p:cNvPicPr/>
          <p:nvPr/>
        </p:nvPicPr>
        <p:blipFill>
          <a:blip r:embed="rId4"/>
          <a:stretch/>
        </p:blipFill>
        <p:spPr>
          <a:xfrm>
            <a:off x="3492360" y="1628640"/>
            <a:ext cx="1552680" cy="1729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539640" y="333360"/>
            <a:ext cx="792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ешние свойства и вид элемента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5" descr="is[4]"/>
          <p:cNvPicPr/>
          <p:nvPr/>
        </p:nvPicPr>
        <p:blipFill>
          <a:blip r:embed="rId1"/>
          <a:stretch/>
        </p:blipFill>
        <p:spPr>
          <a:xfrm>
            <a:off x="611280" y="1628640"/>
            <a:ext cx="2263680" cy="2521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463680" y="4221000"/>
            <a:ext cx="34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греч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hos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ен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is[2]"/>
          <p:cNvPicPr/>
          <p:nvPr/>
        </p:nvPicPr>
        <p:blipFill>
          <a:blip r:embed="rId2"/>
          <a:stretch/>
        </p:blipFill>
        <p:spPr>
          <a:xfrm>
            <a:off x="4265640" y="1628640"/>
            <a:ext cx="2457360" cy="2737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4188240" y="4503600"/>
            <a:ext cx="358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р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от греч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ys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яжелы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684360" y="0"/>
            <a:ext cx="799128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войства элемента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1" name="Picture 5" descr="is[20]"/>
          <p:cNvPicPr/>
          <p:nvPr/>
        </p:nvPicPr>
        <p:blipFill>
          <a:blip r:embed="rId3"/>
          <a:stretch/>
        </p:blipFill>
        <p:spPr>
          <a:xfrm>
            <a:off x="539640" y="1557360"/>
            <a:ext cx="2237040" cy="244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539640" y="414972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ебр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лат. название о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entum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лый, бел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is[14]"/>
          <p:cNvPicPr/>
          <p:nvPr/>
        </p:nvPicPr>
        <p:blipFill>
          <a:blip r:embed="rId4"/>
          <a:stretch/>
        </p:blipFill>
        <p:spPr>
          <a:xfrm>
            <a:off x="3780000" y="162864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3424680" y="4365720"/>
            <a:ext cx="57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езо ( лат. название от греко-латинск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r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быть тверд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1187280" y="5661000"/>
            <a:ext cx="726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ород ( лат. название от греч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y genes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ождающий воду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евнегреческие мудрецы первыми сказали слово «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эле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, и произошло это за пять веков до нашей эр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468360" y="90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Times New Roman"/>
              </a:rPr>
              <a:t>Как вас теперь называть, господа элементы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5"/>
          <p:cNvSpPr txBox="1"/>
          <p:nvPr/>
        </p:nvSpPr>
        <p:spPr>
          <a:xfrm>
            <a:off x="539640" y="333360"/>
            <a:ext cx="792000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ответствующие соединения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Picture 6" descr="is[22]"/>
          <p:cNvPicPr/>
          <p:nvPr/>
        </p:nvPicPr>
        <p:blipFill>
          <a:blip r:embed="rId3"/>
          <a:stretch/>
        </p:blipFill>
        <p:spPr>
          <a:xfrm>
            <a:off x="2556000" y="1773360"/>
            <a:ext cx="2376360" cy="18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is[21]"/>
          <p:cNvPicPr/>
          <p:nvPr/>
        </p:nvPicPr>
        <p:blipFill>
          <a:blip r:embed="rId4"/>
          <a:stretch/>
        </p:blipFill>
        <p:spPr>
          <a:xfrm>
            <a:off x="468360" y="1700280"/>
            <a:ext cx="1811160" cy="2016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437400" y="3782880"/>
            <a:ext cx="85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зот ( лат. название от греч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tron genes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ующий селитру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9" descr="is[25]"/>
          <p:cNvPicPr/>
          <p:nvPr/>
        </p:nvPicPr>
        <p:blipFill>
          <a:blip r:embed="rId5"/>
          <a:stretch/>
        </p:blipFill>
        <p:spPr>
          <a:xfrm>
            <a:off x="2771640" y="4149720"/>
            <a:ext cx="1625760" cy="1511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is[24]"/>
          <p:cNvPicPr/>
          <p:nvPr/>
        </p:nvPicPr>
        <p:blipFill>
          <a:blip r:embed="rId6"/>
          <a:stretch/>
        </p:blipFill>
        <p:spPr>
          <a:xfrm>
            <a:off x="611280" y="4221000"/>
            <a:ext cx="1800000" cy="14479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1"/>
          <p:cNvSpPr/>
          <p:nvPr/>
        </p:nvSpPr>
        <p:spPr>
          <a:xfrm>
            <a:off x="603360" y="5734080"/>
            <a:ext cx="45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юминий ( лат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umen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васцы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>
            <a:off x="539640" y="333360"/>
            <a:ext cx="792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Мифолог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184" name="Picture 6" descr="is[32]"/>
          <p:cNvPicPr/>
          <p:nvPr/>
        </p:nvPicPr>
        <p:blipFill>
          <a:blip r:embed="rId1"/>
          <a:stretch/>
        </p:blipFill>
        <p:spPr>
          <a:xfrm>
            <a:off x="468360" y="1628640"/>
            <a:ext cx="2200320" cy="244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530280" y="4235400"/>
            <a:ext cx="73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анадий ( в честь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nadis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скандинавская богиня красоты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is?aNo3sMqZkn5Vk1py_O8f69iHs2vK4D2cXMDpv88L5Q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869000"/>
            <a:ext cx="1631880" cy="1657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2233800" y="5805360"/>
            <a:ext cx="39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бальт ( от нем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Kobold-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ром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8920" y="3860640"/>
            <a:ext cx="4032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нделевий 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№ 101 – в че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И. Менделе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468360" y="260280"/>
            <a:ext cx="7991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ены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0" name="Picture 6" descr="is?kyOm3OLwq6uw13nbt508EWm2BwBmMFTnAtEObRG9XP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84280"/>
            <a:ext cx="2158920" cy="2016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7"/>
          <p:cNvSpPr/>
          <p:nvPr/>
        </p:nvSpPr>
        <p:spPr>
          <a:xfrm>
            <a:off x="2895480" y="1571760"/>
            <a:ext cx="39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юрий ( в честь французских химиков Пьера (1859-1906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 Марии (1867-1934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Менделеев"/>
          <p:cNvPicPr/>
          <p:nvPr/>
        </p:nvPicPr>
        <p:blipFill>
          <a:blip r:embed="rId3"/>
          <a:stretch/>
        </p:blipFill>
        <p:spPr>
          <a:xfrm>
            <a:off x="3635280" y="4292640"/>
            <a:ext cx="2009880" cy="2409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Портрет Кюри Пьера"/>
          <p:cNvPicPr/>
          <p:nvPr/>
        </p:nvPicPr>
        <p:blipFill>
          <a:blip r:embed="rId4"/>
          <a:stretch/>
        </p:blipFill>
        <p:spPr>
          <a:xfrm>
            <a:off x="7332840" y="1484280"/>
            <a:ext cx="1441440" cy="1728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Портрет Кюри Марии"/>
          <p:cNvPicPr/>
          <p:nvPr/>
        </p:nvPicPr>
        <p:blipFill>
          <a:blip r:embed="rId5"/>
          <a:stretch/>
        </p:blipFill>
        <p:spPr>
          <a:xfrm>
            <a:off x="7164360" y="3500280"/>
            <a:ext cx="180036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лементы, названные в честь город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5" descr="Копенгаген"/>
          <p:cNvPicPr/>
          <p:nvPr/>
        </p:nvPicPr>
        <p:blipFill>
          <a:blip r:embed="rId1"/>
          <a:stretch/>
        </p:blipFill>
        <p:spPr>
          <a:xfrm>
            <a:off x="0" y="3606840"/>
            <a:ext cx="4500720" cy="32511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468360" y="2349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ф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№ 72 – в честь Копенгаг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5724360" y="2133720"/>
            <a:ext cx="28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рклий 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№ 97 – в честь города в 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8" descr="Беркли"/>
          <p:cNvPicPr/>
          <p:nvPr/>
        </p:nvPicPr>
        <p:blipFill>
          <a:blip r:embed="rId2"/>
          <a:stretch/>
        </p:blipFill>
        <p:spPr>
          <a:xfrm>
            <a:off x="4859280" y="3643200"/>
            <a:ext cx="4284720" cy="321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02920" y="1267920"/>
            <a:ext cx="676908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Целые группы элементов имеют общее название, отражающее их свойства : щелочные металлы, галогены, и ,в качестве третьей группы 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“благородные”, или инертные газы. Они называются так, потому что почти химически инертны, характеризуются благородным химическим поведением по аналогии с благородными металлами — золотом, платино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4" descr="Poster2"/>
          <p:cNvPicPr/>
          <p:nvPr/>
        </p:nvPicPr>
        <p:blipFill>
          <a:blip r:embed="rId1"/>
          <a:stretch/>
        </p:blipFill>
        <p:spPr>
          <a:xfrm>
            <a:off x="0" y="0"/>
            <a:ext cx="11125080" cy="727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" descr="MYNET047"/>
          <p:cNvPicPr/>
          <p:nvPr/>
        </p:nvPicPr>
        <p:blipFill>
          <a:blip r:embed="rId1"/>
          <a:stretch/>
        </p:blipFill>
        <p:spPr>
          <a:xfrm>
            <a:off x="2340000" y="1557360"/>
            <a:ext cx="5227560" cy="504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да, «элементами» у древних греков считались земля, вода, воздух и огонь, а вовсе н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железо,кислород, водород, азо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другие элементы теперешних химик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" descr="Рисунок1"/>
          <p:cNvPicPr/>
          <p:nvPr/>
        </p:nvPicPr>
        <p:blipFill>
          <a:blip r:embed="rId1"/>
          <a:stretch/>
        </p:blipFill>
        <p:spPr>
          <a:xfrm>
            <a:off x="2124000" y="2492280"/>
            <a:ext cx="4897440" cy="4021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59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редние века ученые знали уже десять химических элементов – сем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алл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олото, серебро, медь, железо, олово, свинец, и рту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и тр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металл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ру, углерод, и сурьм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ие химических элементов алхими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1295640" cy="99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7451640" y="3429000"/>
            <a:ext cx="1008000" cy="100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4356000" y="5300640"/>
            <a:ext cx="692280" cy="79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4284720" y="3357720"/>
            <a:ext cx="909720" cy="1079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555640" y="4365720"/>
            <a:ext cx="115236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7526880" y="45813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ЕБР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32520" y="45813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ИНЕ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806520" y="61657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ЛО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178880" y="62373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ЛОТ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49800" y="623736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ТУ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5"/>
          <a:srcRect l="57999" t="0" r="0" b="0"/>
          <a:stretch/>
        </p:blipFill>
        <p:spPr>
          <a:xfrm>
            <a:off x="6804000" y="5229360"/>
            <a:ext cx="911160" cy="93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6"/>
          <a:srcRect l="0" t="0" r="62293" b="0"/>
          <a:stretch/>
        </p:blipFill>
        <p:spPr>
          <a:xfrm>
            <a:off x="1547640" y="5157720"/>
            <a:ext cx="938520" cy="1079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4358160" y="45086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древности и средние века были известны только 7 метал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C:\Documents and Settings\Саша\Мои документы\картинки по химии\неорганическая химия, практикум\металлы\золото\золото 3.jpg"/>
          <p:cNvPicPr/>
          <p:nvPr/>
        </p:nvPicPr>
        <p:blipFill>
          <a:blip r:embed="rId1"/>
          <a:stretch/>
        </p:blipFill>
        <p:spPr>
          <a:xfrm>
            <a:off x="285840" y="1714680"/>
            <a:ext cx="2001600" cy="19285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285840" y="3786120"/>
            <a:ext cx="192888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олот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C:\Documents and Settings\Саша\Мои документы\картинки по химии\неорганическая химия, практикум\металлы\ртуть.jpg"/>
          <p:cNvPicPr/>
          <p:nvPr/>
        </p:nvPicPr>
        <p:blipFill>
          <a:blip r:embed="rId2"/>
          <a:stretch/>
        </p:blipFill>
        <p:spPr>
          <a:xfrm>
            <a:off x="3000240" y="1714680"/>
            <a:ext cx="2500560" cy="1876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3357720" y="3714840"/>
            <a:ext cx="1785960" cy="500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ту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C:\Documents and Settings\Саша\Мои документы\картинки по химии\неорганическая химия, практикум\металлы\медь и соединения\медь.jpg"/>
          <p:cNvPicPr/>
          <p:nvPr/>
        </p:nvPicPr>
        <p:blipFill>
          <a:blip r:embed="rId3"/>
          <a:stretch/>
        </p:blipFill>
        <p:spPr>
          <a:xfrm>
            <a:off x="5929200" y="1643040"/>
            <a:ext cx="2570400" cy="19288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9"/>
          <p:cNvSpPr/>
          <p:nvPr/>
        </p:nvSpPr>
        <p:spPr>
          <a:xfrm>
            <a:off x="6143760" y="3714840"/>
            <a:ext cx="2071440" cy="500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Documents and Settings\Саша\Мои документы\картинки по химии\неорганическая химия, практикум\металлы\железо и соединения\железо в природе.jpg"/>
          <p:cNvPicPr/>
          <p:nvPr/>
        </p:nvPicPr>
        <p:blipFill>
          <a:blip r:embed="rId4"/>
          <a:stretch/>
        </p:blipFill>
        <p:spPr>
          <a:xfrm>
            <a:off x="0" y="4500720"/>
            <a:ext cx="2357280" cy="17683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1"/>
          <p:cNvSpPr/>
          <p:nvPr/>
        </p:nvSpPr>
        <p:spPr>
          <a:xfrm>
            <a:off x="0" y="6500880"/>
            <a:ext cx="2286000" cy="3571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елез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C:\Documents and Settings\Саша\Мои документы\картинки по химии\неорганическая химия, практикум\металлы\нахождение благородных металлов в природе.jpg"/>
          <p:cNvPicPr/>
          <p:nvPr/>
        </p:nvPicPr>
        <p:blipFill>
          <a:blip r:embed="rId5"/>
          <a:srcRect l="46849" t="45479" r="26859" b="16064"/>
          <a:stretch/>
        </p:blipFill>
        <p:spPr>
          <a:xfrm>
            <a:off x="2928960" y="4357800"/>
            <a:ext cx="1428840" cy="19429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3"/>
          <p:cNvSpPr/>
          <p:nvPr/>
        </p:nvSpPr>
        <p:spPr>
          <a:xfrm>
            <a:off x="2928960" y="6429240"/>
            <a:ext cx="150012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ребр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C:\Documents and Settings\Саша\Мои документы\картинки по химии\неорганическая химия, практикум\металлы\олово.jpg"/>
          <p:cNvPicPr/>
          <p:nvPr/>
        </p:nvPicPr>
        <p:blipFill>
          <a:blip r:embed="rId6"/>
          <a:stretch/>
        </p:blipFill>
        <p:spPr>
          <a:xfrm>
            <a:off x="4643280" y="4500720"/>
            <a:ext cx="2106720" cy="15811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5"/>
          <p:cNvSpPr/>
          <p:nvPr/>
        </p:nvSpPr>
        <p:spPr>
          <a:xfrm>
            <a:off x="5000760" y="6429240"/>
            <a:ext cx="150012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ло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C:\Documents and Settings\Саша\Мои документы\картинки по химии\неорганическая химия, практикум\металлы\цинк.jpg"/>
          <p:cNvPicPr/>
          <p:nvPr/>
        </p:nvPicPr>
        <p:blipFill>
          <a:blip r:embed="rId7"/>
          <a:stretch/>
        </p:blipFill>
        <p:spPr>
          <a:xfrm>
            <a:off x="7072200" y="4500720"/>
            <a:ext cx="2071800" cy="15555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7286760" y="6429240"/>
            <a:ext cx="157140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ине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 неметал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091511180307"/>
          <p:cNvPicPr/>
          <p:nvPr/>
        </p:nvPicPr>
        <p:blipFill>
          <a:blip r:embed="rId1"/>
          <a:stretch/>
        </p:blipFill>
        <p:spPr>
          <a:xfrm>
            <a:off x="539640" y="162864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Activated_Carbon"/>
          <p:cNvPicPr/>
          <p:nvPr/>
        </p:nvPicPr>
        <p:blipFill>
          <a:blip r:embed="rId2"/>
          <a:stretch/>
        </p:blipFill>
        <p:spPr>
          <a:xfrm>
            <a:off x="6877080" y="170028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Картинка 12 из 133366"/>
          <p:cNvPicPr/>
          <p:nvPr/>
        </p:nvPicPr>
        <p:blipFill>
          <a:blip r:embed="rId3"/>
          <a:stretch/>
        </p:blipFill>
        <p:spPr>
          <a:xfrm>
            <a:off x="4067280" y="1700280"/>
            <a:ext cx="2641320" cy="1981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1024200" y="37116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7" descr="Картинка 6 из 10361"/>
          <p:cNvPicPr/>
          <p:nvPr/>
        </p:nvPicPr>
        <p:blipFill>
          <a:blip r:embed="rId4"/>
          <a:stretch/>
        </p:blipFill>
        <p:spPr>
          <a:xfrm>
            <a:off x="3203640" y="4149720"/>
            <a:ext cx="1913040" cy="19810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5"/>
          <p:cNvSpPr/>
          <p:nvPr/>
        </p:nvSpPr>
        <p:spPr>
          <a:xfrm>
            <a:off x="539640" y="3716280"/>
            <a:ext cx="192888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3132000" y="6165720"/>
            <a:ext cx="192888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урь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5651640" y="3789360"/>
            <a:ext cx="192852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глер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химики считали, что химические элементы связаны со звездами и планетами, и присваивали им астрологические симв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784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олото называлось Солнцем, а обозначалось кружком с точко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ь – Венерой, символом этого металла служило «венерино зеркальце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железо – Марсом; как и полагается богу войны, обозначение этого металла включало щит и копь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4"/>
          <p:cNvSpPr/>
          <p:nvPr/>
        </p:nvSpPr>
        <p:spPr>
          <a:xfrm>
            <a:off x="2484360" y="3284640"/>
            <a:ext cx="50328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"/>
          <p:cNvSpPr/>
          <p:nvPr/>
        </p:nvSpPr>
        <p:spPr>
          <a:xfrm>
            <a:off x="3276720" y="3213000"/>
            <a:ext cx="5745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"/>
          <p:cNvSpPr/>
          <p:nvPr/>
        </p:nvSpPr>
        <p:spPr>
          <a:xfrm>
            <a:off x="3348000" y="3284640"/>
            <a:ext cx="863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8"/>
          <p:cNvSpPr/>
          <p:nvPr/>
        </p:nvSpPr>
        <p:spPr>
          <a:xfrm>
            <a:off x="1763640" y="4292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1908000" y="4076640"/>
            <a:ext cx="1151280" cy="86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1"/>
          <p:cNvSpPr/>
          <p:nvPr/>
        </p:nvSpPr>
        <p:spPr>
          <a:xfrm>
            <a:off x="1476360" y="3789360"/>
            <a:ext cx="1079640" cy="50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3348000" y="3357720"/>
            <a:ext cx="792360" cy="71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5"/>
          <p:cNvSpPr/>
          <p:nvPr/>
        </p:nvSpPr>
        <p:spPr>
          <a:xfrm>
            <a:off x="3419640" y="3500280"/>
            <a:ext cx="431640" cy="649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6"/>
          <p:cNvSpPr/>
          <p:nvPr/>
        </p:nvSpPr>
        <p:spPr>
          <a:xfrm>
            <a:off x="3492360" y="3429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2987640" y="3213000"/>
            <a:ext cx="936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4716360" y="4076640"/>
            <a:ext cx="863640" cy="1079280"/>
            <a:chOff x="4716360" y="4076640"/>
            <a:chExt cx="863640" cy="1079280"/>
          </a:xfrm>
        </p:grpSpPr>
        <p:sp>
          <p:nvSpPr>
            <p:cNvPr id="105" name="Oval 20"/>
            <p:cNvSpPr/>
            <p:nvPr/>
          </p:nvSpPr>
          <p:spPr>
            <a:xfrm>
              <a:off x="4716360" y="4076640"/>
              <a:ext cx="863640" cy="575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1"/>
            <p:cNvSpPr/>
            <p:nvPr/>
          </p:nvSpPr>
          <p:spPr>
            <a:xfrm>
              <a:off x="5148360" y="4652280"/>
              <a:ext cx="0" cy="50364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2"/>
            <p:cNvSpPr/>
            <p:nvPr/>
          </p:nvSpPr>
          <p:spPr>
            <a:xfrm>
              <a:off x="4932360" y="4868280"/>
              <a:ext cx="4316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23"/>
          <p:cNvGrpSpPr/>
          <p:nvPr/>
        </p:nvGrpSpPr>
        <p:grpSpPr>
          <a:xfrm>
            <a:off x="7451640" y="5084640"/>
            <a:ext cx="1223640" cy="720720"/>
            <a:chOff x="7451640" y="5084640"/>
            <a:chExt cx="1223640" cy="720720"/>
          </a:xfrm>
        </p:grpSpPr>
        <p:sp>
          <p:nvSpPr>
            <p:cNvPr id="109" name="Oval 24"/>
            <p:cNvSpPr/>
            <p:nvPr/>
          </p:nvSpPr>
          <p:spPr>
            <a:xfrm>
              <a:off x="7451640" y="5084640"/>
              <a:ext cx="837360" cy="720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5"/>
            <p:cNvSpPr/>
            <p:nvPr/>
          </p:nvSpPr>
          <p:spPr>
            <a:xfrm flipV="1">
              <a:off x="8289000" y="5148720"/>
              <a:ext cx="386280" cy="1929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Oval 0"/>
          <p:cNvSpPr/>
          <p:nvPr/>
        </p:nvSpPr>
        <p:spPr>
          <a:xfrm>
            <a:off x="1763640" y="2421000"/>
            <a:ext cx="86364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"/>
          <p:cNvSpPr/>
          <p:nvPr/>
        </p:nvSpPr>
        <p:spPr>
          <a:xfrm>
            <a:off x="2124000" y="2781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редневековые символы элементов.mp3" descr=""/>
          <p:cNvPicPr/>
          <p:nvPr/>
        </p:nvPicPr>
        <p:blipFill>
          <a:blip r:embed="rId1"/>
          <a:stretch/>
        </p:blipFill>
        <p:spPr>
          <a:xfrm>
            <a:off x="6012000" y="270828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89000"/>
            <a:ext cx="823248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химики очень долго обходились без химических формул. В употреблении были странные значки, причем почти каждый химик пользовался своей собственной системой обозначений вещест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Средневековые символы элементов"/>
          <p:cNvPicPr/>
          <p:nvPr/>
        </p:nvPicPr>
        <p:blipFill>
          <a:blip r:embed="rId2"/>
          <a:stretch/>
        </p:blipFill>
        <p:spPr>
          <a:xfrm>
            <a:off x="2050920" y="1916280"/>
            <a:ext cx="4986360" cy="4708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5226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993080" cy="184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еке укоренилась система обозначений элементов (которых в то время стало известно уже три десятка) в виде геометрических фигур – кружков, полуокружностей, треугольников, квадра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ород         азот              кислород           с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0" descr=""/>
          <p:cNvPicPr/>
          <p:nvPr/>
        </p:nvPicPr>
        <p:blipFill>
          <a:blip r:embed="rId1"/>
          <a:stretch/>
        </p:blipFill>
        <p:spPr>
          <a:xfrm>
            <a:off x="3214800" y="2930400"/>
            <a:ext cx="1293840" cy="1254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5364000" y="2637000"/>
            <a:ext cx="1341720" cy="143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3"/>
          <a:stretch/>
        </p:blipFill>
        <p:spPr>
          <a:xfrm>
            <a:off x="1116000" y="2637000"/>
            <a:ext cx="1230480" cy="136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4"/>
          <a:stretch/>
        </p:blipFill>
        <p:spPr>
          <a:xfrm>
            <a:off x="7236000" y="2565360"/>
            <a:ext cx="1288800" cy="13683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0"/>
          <p:cNvSpPr/>
          <p:nvPr/>
        </p:nvSpPr>
        <p:spPr>
          <a:xfrm>
            <a:off x="755640" y="4221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способ изображения символов элемен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умал английский ученый, физик и химик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он Дальто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20T04:34:53Z</dcterms:modified>
  <cp:revision>9</cp:revision>
  <dc:subject/>
  <dc:title>PowerPoint Presentation</dc:title>
</cp:coreProperties>
</file>