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4.png" ContentType="image/png"/>
  <Override PartName="/ppt/media/image2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6.png" ContentType="image/png"/>
  <Override PartName="/ppt/media/image11.png" ContentType="image/png"/>
  <Override PartName="/ppt/media/image48.png" ContentType="image/png"/>
  <Override PartName="/ppt/media/image19.jpeg" ContentType="image/jpeg"/>
  <Override PartName="/ppt/media/image4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0B3-A9CF-4D23-88F1-B2C6E4AE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54F-0EA2-4B3E-835D-D2617F9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038-4D4A-4CD9-9636-60289D17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5CE-6B8F-4860-BBF3-4905C4F5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72D-6746-4594-B264-CD150AB0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D6-A675-4EB0-80C1-2D1BDAED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72F-196C-4257-950B-6A0A6ABB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0EE-7F8A-4526-BB34-294B256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93EB-F3B1-413E-A696-82C2C85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40A-FFB3-403A-B2A4-34B00FC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2DE-8A60-401A-85DF-5A02AC2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B65-F6AE-4603-BA7C-E4A7DAB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5EC-6424-46AF-94AB-843F61CF5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2.jpeg"/><Relationship Id="rId11" Type="http://schemas.openxmlformats.org/officeDocument/2006/relationships/hyperlink" Target="http://schools.techno.ru/sch758/2003/esenin/avgysta.htm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schools.techno.ru/sch758/2003/esenin/kaw.htm" TargetMode="External"/><Relationship Id="rId14" Type="http://schemas.openxmlformats.org/officeDocument/2006/relationships/image" Target="../media/image8.jpe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library.tver.ru/~galsh/img/b-004b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library.tver.ru/~galsh/img/b-004b.jpg" TargetMode="External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2" descr="raih"/>
          <p:cNvPicPr/>
          <p:nvPr/>
        </p:nvPicPr>
        <p:blipFill>
          <a:blip r:embed="rId2"/>
          <a:stretch/>
        </p:blipFill>
        <p:spPr>
          <a:xfrm>
            <a:off x="5003640" y="1736640"/>
            <a:ext cx="3897360" cy="471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0605-12b"/>
          <p:cNvPicPr/>
          <p:nvPr/>
        </p:nvPicPr>
        <p:blipFill>
          <a:blip r:embed="rId3"/>
          <a:stretch/>
        </p:blipFill>
        <p:spPr>
          <a:xfrm>
            <a:off x="0" y="1676520"/>
            <a:ext cx="4778280" cy="4778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539640" y="1871640"/>
            <a:ext cx="8064720" cy="35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Он искал в этих женщинах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ЧАСТЬ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4" name="Group 33"/>
          <p:cNvGrpSpPr/>
          <p:nvPr/>
        </p:nvGrpSpPr>
        <p:grpSpPr>
          <a:xfrm>
            <a:off x="0" y="0"/>
            <a:ext cx="9144000" cy="1803240"/>
            <a:chOff x="0" y="0"/>
            <a:chExt cx="9144000" cy="1803240"/>
          </a:xfrm>
        </p:grpSpPr>
        <p:grpSp>
          <p:nvGrpSpPr>
            <p:cNvPr id="45" name="Group 15"/>
            <p:cNvGrpSpPr/>
            <p:nvPr/>
          </p:nvGrpSpPr>
          <p:grpSpPr>
            <a:xfrm>
              <a:off x="0" y="0"/>
              <a:ext cx="9144000" cy="1803240"/>
              <a:chOff x="0" y="0"/>
              <a:chExt cx="9144000" cy="1803240"/>
            </a:xfrm>
          </p:grpSpPr>
          <p:pic>
            <p:nvPicPr>
              <p:cNvPr id="46" name="Picture 5" descr="top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9144000" cy="178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2" descr="calina"/>
              <p:cNvPicPr/>
              <p:nvPr/>
            </p:nvPicPr>
            <p:blipFill>
              <a:blip r:embed="rId9"/>
              <a:stretch/>
            </p:blipFill>
            <p:spPr>
              <a:xfrm>
                <a:off x="2627280" y="0"/>
                <a:ext cx="831960" cy="180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4" descr="raih"/>
              <p:cNvPicPr/>
              <p:nvPr/>
            </p:nvPicPr>
            <p:blipFill>
              <a:blip r:embed="rId10"/>
              <a:stretch/>
            </p:blipFill>
            <p:spPr>
              <a:xfrm>
                <a:off x="1258920" y="0"/>
                <a:ext cx="1380960" cy="1803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9" name="Picture 21" descr="Августа Миклашевская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5867280" y="0"/>
              <a:ext cx="121788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3" descr="Лидия Кашина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804000" y="0"/>
              <a:ext cx="120492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ROMANS_Esenin_(sp_128)_9618.mp3" descr=""/>
          <p:cNvPicPr/>
          <p:nvPr/>
        </p:nvPicPr>
        <p:blipFill>
          <a:blip r:embed="rId15"/>
          <a:stretch/>
        </p:blipFill>
        <p:spPr>
          <a:xfrm>
            <a:off x="8820000" y="614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h"/>
          <p:cNvPicPr/>
          <p:nvPr/>
        </p:nvPicPr>
        <p:blipFill>
          <a:blip r:embed="rId2"/>
          <a:stretch/>
        </p:blipFill>
        <p:spPr>
          <a:xfrm>
            <a:off x="0" y="260280"/>
            <a:ext cx="4199040" cy="5877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64000" y="333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Шаганэ Нерсесовна Тальян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24360" y="1341360"/>
            <a:ext cx="5219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комая поэта, учительница русского языка и литературы, армянка по национа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одилась в 190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Есениным познакомилась во время его пребывания в Батуми в зимние месяцы 1924-25 г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ё звучное восточное имя Есенин ввёл в несколько стихотворений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Персидские мотив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0605-12b"/>
          <p:cNvPicPr/>
          <p:nvPr/>
        </p:nvPicPr>
        <p:blipFill>
          <a:blip r:embed="rId1"/>
          <a:stretch/>
        </p:blipFill>
        <p:spPr>
          <a:xfrm>
            <a:off x="1476360" y="0"/>
            <a:ext cx="7667640" cy="680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user posted image"/>
          <p:cNvPicPr/>
          <p:nvPr/>
        </p:nvPicPr>
        <p:blipFill>
          <a:blip r:embed="rId2"/>
          <a:stretch/>
        </p:blipFill>
        <p:spPr>
          <a:xfrm>
            <a:off x="250920" y="2924280"/>
            <a:ext cx="2624040" cy="3673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246560" y="2060640"/>
            <a:ext cx="48974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Я готов рассказать тебе пол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о кудрям ты моим догадай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орогая, шуги, улыбай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е буди только память во м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о волнистую рожь при луне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Там, на севере, девушка тож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а тебя она страшно похо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ожет, думает обо м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0000"/>
                </a:solidFill>
                <a:latin typeface="Times New Roman"/>
              </a:rPr>
              <a:t>1924 г.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33336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 волнистую рожь при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Шаганэ ты моя, Шаганэ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то луна там огромней в сто 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бы ни был красив Шир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н не лучше рязанских раздол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тому, что я с севера, что ли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готов рассказать тебе пол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Эти волосы взял я у р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Если хочешь, на палец вяжи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Я нисколько не чувствую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0605-12b"/>
          <p:cNvPicPr/>
          <p:nvPr/>
        </p:nvPicPr>
        <p:blipFill>
          <a:blip r:embed="rId1"/>
          <a:stretch/>
        </p:blipFill>
        <p:spPr>
          <a:xfrm>
            <a:off x="250920" y="981000"/>
            <a:ext cx="450036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3492360" y="60213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дежда Вольп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50920" y="1197000"/>
            <a:ext cx="4572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на занимала особое место в жизни Есенина. Помните последние строчки из «Шаганэ...»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Там на севере девушка тоже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 тебя она страшно похожа.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думает обо мне…»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то как раз о не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4805280" y="0"/>
            <a:ext cx="433872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lek-volpin"/>
          <p:cNvPicPr/>
          <p:nvPr/>
        </p:nvPicPr>
        <p:blipFill>
          <a:blip r:embed="rId2"/>
          <a:stretch/>
        </p:blipFill>
        <p:spPr>
          <a:xfrm>
            <a:off x="0" y="0"/>
            <a:ext cx="5629320" cy="385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11280" y="465300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й у меня сын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аха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друг Вольпин)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ты в детском возрасте, точный твой портрет.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сенин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и должно быть - эта женщина очень меня любила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867280" y="260280"/>
            <a:ext cx="3025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х сын, Александр Сергеевич Есенин, родился 12 мая 1924 года в Ленинграде. Отцу и сыну не суждено было встретиться. Мать не хотела показывать ребенка Есенину. Хотя он постоянно спрашивал о нем у знакомы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364000" y="0"/>
            <a:ext cx="345780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Москву Есенин приехал простодушным, весёлым парнем, ему было всего семнадцать лет. Он знал для чего ехал, цель у него была одна, стать самым известным в России поэтом. Спустя год Московской жизни он влюбля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Анну Романовну Изряднову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которая работает вместе с ним корректором в типографии. Живут гражданским браком. А ещё через год, у них рождается сын Юрий. (который впоследствии был убит за обвинение в покушение на тов. Сталина). Но гражданский брак с Анной с первых дней показался ему ошибкой. В этот момент его больше заботила карьера. Он оставляет семью и уезжает искать счастья в Петро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9280" y="63388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РОМАНОВНА ИЗРЯД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el1-620-"/>
          <p:cNvPicPr/>
          <p:nvPr/>
        </p:nvPicPr>
        <p:blipFill>
          <a:blip r:embed="rId2"/>
          <a:stretch/>
        </p:blipFill>
        <p:spPr>
          <a:xfrm>
            <a:off x="0" y="0"/>
            <a:ext cx="480204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5" descr="57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6720" y="620640"/>
            <a:ext cx="4067280" cy="511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674f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508720" y="333360"/>
            <a:ext cx="33480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В 1917 ГОДУ Есенин влюбляется в красивейшую, нежную, образованную женщи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</a:rPr>
              <a:t>Зинаиду Рай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Чувства переполняют его, он женится не раздумы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 Зинаидой Райх они проживут три года, и она родит ему двух детей Татьяну и Констант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Но Сергей наверно один из тех ветреных людей, про которых говорят "рубаха парень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ие люди не созданы для семейной жизни. Конечно же он не был добропорядочным семьянином. А вряд ли найдётся женщина, которая сможет долго терпеть такого му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Райх хватило на три года, после чего они расстал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67640" y="577440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инаида Николаевна Рай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635280" y="692280"/>
            <a:ext cx="504036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последствии, когда Райх вышла замуж за известного режиссёра того времени Мейерхольда , Есенин написал и посвятил ей стихотворение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Письмо к Женщине",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где от части извинялся за своё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 говор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ам пора расстать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с измуч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я шальная жизн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вам пора за дело приним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 мой удел- Катиться дальше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Любимая! Я мучил в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 вас была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глазах усталы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Что я пред вами напо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ебя растрачивал в скандал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Зинаида Райх с детьми - Таней и Костей"/>
          <p:cNvPicPr/>
          <p:nvPr/>
        </p:nvPicPr>
        <p:blipFill>
          <a:blip r:embed="rId1"/>
          <a:stretch/>
        </p:blipFill>
        <p:spPr>
          <a:xfrm>
            <a:off x="395280" y="404640"/>
            <a:ext cx="3095640" cy="234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images%5b8%5d"/>
          <p:cNvPicPr/>
          <p:nvPr/>
        </p:nvPicPr>
        <p:blipFill>
          <a:blip r:embed="rId2"/>
          <a:stretch/>
        </p:blipFill>
        <p:spPr>
          <a:xfrm>
            <a:off x="539640" y="2924280"/>
            <a:ext cx="278136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4140360" y="404640"/>
            <a:ext cx="47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е разрыва с Райх, Есенин вел праздную жизнь: пил вино, скандалил в кабаках, легко относился к случайным связям, пока не встретил её, известную Американскую танцовщицу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йседору Дунк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50920" y="6093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УНКАН (Duncan) Айсед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Айседора Дункан"/>
          <p:cNvPicPr/>
          <p:nvPr/>
        </p:nvPicPr>
        <p:blipFill>
          <a:blip r:embed="rId1"/>
          <a:stretch/>
        </p:blipFill>
        <p:spPr>
          <a:xfrm>
            <a:off x="5867280" y="3718080"/>
            <a:ext cx="2225880" cy="24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aised"/>
          <p:cNvPicPr/>
          <p:nvPr/>
        </p:nvPicPr>
        <p:blipFill>
          <a:blip r:embed="rId2"/>
          <a:stretch/>
        </p:blipFill>
        <p:spPr>
          <a:xfrm>
            <a:off x="0" y="549360"/>
            <a:ext cx="40435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5724360" y="0"/>
            <a:ext cx="3168720" cy="69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в Москве открыла школу своего имени, учила детей тан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у хватило одного взгляда, чтобы влюб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ункан была старше его на 18 лет и не слова не знала по-рус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енин также не знал английского, как они общались остаётся загад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а и нужны ли слова когда две влюблённые души находят друг друга, достаточно взгля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трезок жизни с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Дункан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сенин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пожалуй, самое сумасбродное и скандально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esenin_dunkan"/>
          <p:cNvPicPr/>
          <p:nvPr/>
        </p:nvPicPr>
        <p:blipFill>
          <a:blip r:embed="rId1"/>
          <a:stretch/>
        </p:blipFill>
        <p:spPr>
          <a:xfrm>
            <a:off x="0" y="0"/>
            <a:ext cx="5738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42920" y="476280"/>
            <a:ext cx="70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не бы только смотреть н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идеть глаз злато-карий о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И чтоб, прошлое не люб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Ты уйти не смогла к другому</a:t>
            </a: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esenin"/>
          <p:cNvPicPr/>
          <p:nvPr/>
        </p:nvPicPr>
        <p:blipFill>
          <a:blip r:embed="rId1"/>
          <a:stretch/>
        </p:blipFill>
        <p:spPr>
          <a:xfrm>
            <a:off x="6084720" y="3213000"/>
            <a:ext cx="2649600" cy="3230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324000" y="3359160"/>
            <a:ext cx="5327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енно в первый год “любви” с Дункан Есенин написал знаменитое стихотвор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ыпь, гармоника. Скука... Скука..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армонист пальцы льет волн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н называет свою подругу даже “стервою” и посылает ее “к чертям”, но в конц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 вашей своре собачьей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ра поостыт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я, я плач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сти... Прост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6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4"/>
          <p:cNvGrpSpPr/>
          <p:nvPr/>
        </p:nvGrpSpPr>
        <p:grpSpPr>
          <a:xfrm>
            <a:off x="0" y="0"/>
            <a:ext cx="5254560" cy="6858000"/>
            <a:chOff x="0" y="0"/>
            <a:chExt cx="5254560" cy="6858000"/>
          </a:xfrm>
        </p:grpSpPr>
        <p:pic>
          <p:nvPicPr>
            <p:cNvPr id="53" name="Picture 1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6859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2"/>
            <a:stretch/>
          </p:blipFill>
          <p:spPr>
            <a:xfrm flipH="1">
              <a:off x="2627280" y="0"/>
              <a:ext cx="26272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11280" y="1125360"/>
            <a:ext cx="8281800" cy="71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Много женщин меня любил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Да и сам я любил не одну.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                </a:t>
            </a:r>
            <a:r>
              <a:rPr b="1" i="1" lang="ru-RU" sz="5400" spc="-1" strike="noStrike">
                <a:solidFill>
                  <a:srgbClr val="cc0000"/>
                </a:solidFill>
                <a:latin typeface="Monotype Corsiva"/>
              </a:rPr>
              <a:t>Сергей    Есен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0605-12b"/>
          <p:cNvPicPr/>
          <p:nvPr/>
        </p:nvPicPr>
        <p:blipFill>
          <a:blip r:embed="rId1"/>
          <a:stretch/>
        </p:blipFill>
        <p:spPr>
          <a:xfrm>
            <a:off x="0" y="1197000"/>
            <a:ext cx="4500720" cy="450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24000" y="1052640"/>
            <a:ext cx="403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е 1923 года произошла встреча Есенина с актрисой Московского Камер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ск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вгуста Миклашевская стала счастливой соперницей Дун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о несмотря  на страстную увлечённость молодым поэ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она смогла подчинить сердце  раз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            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ghen"/>
          <p:cNvPicPr/>
          <p:nvPr/>
        </p:nvPicPr>
        <p:blipFill>
          <a:blip r:embed="rId2"/>
          <a:stretch/>
        </p:blipFill>
        <p:spPr>
          <a:xfrm>
            <a:off x="4595760" y="0"/>
            <a:ext cx="4548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"/>
          <p:cNvSpPr/>
          <p:nvPr/>
        </p:nvSpPr>
        <p:spPr>
          <a:xfrm>
            <a:off x="6120" y="333360"/>
            <a:ext cx="42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вгуста Миклаш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0605-12b"/>
          <p:cNvPicPr/>
          <p:nvPr/>
        </p:nvPicPr>
        <p:blipFill>
          <a:blip r:embed="rId1"/>
          <a:stretch/>
        </p:blipFill>
        <p:spPr>
          <a:xfrm>
            <a:off x="3635280" y="1413000"/>
            <a:ext cx="5113440" cy="511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843280" y="476280"/>
            <a:ext cx="576108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Именно </a:t>
            </a: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Августе Миклашевской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Есенин посвятил 7 стихотворений из знаменитого цикла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«Любовь хулига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Заметался пожар голубой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Позабылись родимые дали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я весь как запущенный сад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Был на женщин и зелие падкий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Разонравилось пить и плясать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И терять свою жизнь без огляд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Я б навеки пошёл за тобой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Хоть в свои, хоть в чужие дали...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я запел про любовь,</a:t>
            </a:r>
            <a:br>
              <a:rPr sz="2000"/>
            </a:b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В первый раз отрекаюсь скандалит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192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vgysta"/>
          <p:cNvPicPr/>
          <p:nvPr/>
        </p:nvPicPr>
        <p:blipFill>
          <a:blip r:embed="rId2"/>
          <a:stretch/>
        </p:blipFill>
        <p:spPr>
          <a:xfrm>
            <a:off x="250920" y="1484280"/>
            <a:ext cx="321624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EseninB"/>
          <p:cNvPicPr/>
          <p:nvPr/>
        </p:nvPicPr>
        <p:blipFill>
          <a:blip r:embed="rId1"/>
          <a:stretch/>
        </p:blipFill>
        <p:spPr>
          <a:xfrm>
            <a:off x="0" y="0"/>
            <a:ext cx="54370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166920" y="39600"/>
            <a:ext cx="5977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клашевская оставила воспоминания о своих встречах с Сергеем Есени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ы такая ж простая, как в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Как сто тысяч других в России. Знаешь ты одинокий рассв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Знаешь холод осени си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-смешному я сердцем вли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по-глупому мысли заня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Твой иконный и строгий л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По часовням висел в ряза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Я на эти иконы плева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Чтил я грубость и крик в пове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А теперь вдруг растут слова Самых нежных и кротких пес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Palace Script MT"/>
              </a:rPr>
              <a:t>Не хочу я лететь в зенит, Слишком многое телу надо. Что ж так имя твое звенит, Словно августовская прохлада?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0605-12b"/>
          <p:cNvPicPr/>
          <p:nvPr/>
        </p:nvPicPr>
        <p:blipFill>
          <a:blip r:embed="rId1"/>
          <a:stretch/>
        </p:blipFill>
        <p:spPr>
          <a:xfrm>
            <a:off x="3059280" y="260280"/>
            <a:ext cx="6084720" cy="6085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067280" y="54936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Советской России ему было очень тяжело, а без России —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 возвращения четы Есениных — Дункан в Россию из Ам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рак их разва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правившись на гастроли в Крым, Айседора ждала там Сергея, который обещал вскоре приехать. Но вместо него пришла телеграмма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Palace Script MT"/>
              </a:rPr>
              <a:t>«Я люблю другую, женат, счастлив. Есени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й другой стала его поклон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foto1"/>
          <p:cNvPicPr/>
          <p:nvPr/>
        </p:nvPicPr>
        <p:blipFill>
          <a:blip r:embed="rId2"/>
          <a:stretch/>
        </p:blipFill>
        <p:spPr>
          <a:xfrm>
            <a:off x="395280" y="1268280"/>
            <a:ext cx="2273400" cy="508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288680" y="609300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Галина Бенислав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7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5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0" descr="19esenin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50920" y="0"/>
            <a:ext cx="6121440" cy="65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Декабрьским днем 1926 года на безлюдном Ваганьковском кладбище в Москве около скромной могилы Сергея Есенина стояла молодая женщ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Год назад в ленинградской гостинице “Англетер” оборвалась жизнь тридцатилетнего поэ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Женщина на похоронах не была. Сейчас она нервно курила папиросу за папирос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Потом достала листок бумаги и быстро набросала несколько стр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Самоубилась” здесь, хотя и знаю, что после этого еще больше собак будут вешать на Есенина. Но и ему, и мне это будет все равно. В этой могиле для меня все самое дорогое, поэтому напоследок наплевать на Сосновского и общественное мнение, которое у Сосновского на поводу”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екоторое время она стояла неподвижно, затем достала писто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ак закончилась жизнь 29-летней Галины Бениславской, беззаветно любившей поэта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89480" y="3170160"/>
          <a:ext cx="415800" cy="51768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32" descr="Есенин Сергей Александрович (1895-1925)"/>
          <p:cNvPicPr/>
          <p:nvPr/>
        </p:nvPicPr>
        <p:blipFill>
          <a:blip r:embed="rId2"/>
          <a:stretch/>
        </p:blipFill>
        <p:spPr>
          <a:xfrm>
            <a:off x="6732720" y="404640"/>
            <a:ext cx="1900080" cy="28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82-3"/>
          <p:cNvPicPr/>
          <p:nvPr/>
        </p:nvPicPr>
        <p:blipFill>
          <a:blip r:embed="rId3"/>
          <a:stretch/>
        </p:blipFill>
        <p:spPr>
          <a:xfrm>
            <a:off x="6300720" y="3429000"/>
            <a:ext cx="258444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605-12b"/>
          <p:cNvPicPr/>
          <p:nvPr/>
        </p:nvPicPr>
        <p:blipFill>
          <a:blip r:embed="rId1"/>
          <a:stretch/>
        </p:blipFill>
        <p:spPr>
          <a:xfrm>
            <a:off x="90000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476360" y="981000"/>
            <a:ext cx="67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ожет, поздно, может, слишком рано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о чем не думал много л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оходить я стал на Дон-Жуана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ак заправский ветреный поэ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души не потревожи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 ничто ее не бросит в дрожь, –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любил, уж тот любить не может,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то сгорел, того не подожж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0605-12b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85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people_47"/>
          <p:cNvPicPr/>
          <p:nvPr/>
        </p:nvPicPr>
        <p:blipFill>
          <a:blip r:embed="rId2"/>
          <a:stretch/>
        </p:blipFill>
        <p:spPr>
          <a:xfrm>
            <a:off x="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68360" y="33336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фья Андреевна Толс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932360" y="1052640"/>
            <a:ext cx="396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НАЧАЛЕ 1925 года поэт познакомился с внучкой Льва Толстого Софь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и большинство интеллигентных девиц того времени, она была влюблена в поэзию Есенина и немножко в сам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9-летний Сергей робел перед аристократизмом и невинностью Соф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4500720" y="333360"/>
            <a:ext cx="41749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днажды летом в липовой аллее в парке к ним подошла цыга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й, молодой, красивый, дай денежку, судьбу узнаеш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сенин рассмеялся и достал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—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вадьба у тебя скоро будет, кучерявый!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— рассмеялась цыга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июле 1925 года состоялась скромная свадь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нечка была готова, как и ее знаменитая бабушка, посвятить всю жизнь мужу и его твор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ofi"/>
          <p:cNvPicPr/>
          <p:nvPr/>
        </p:nvPicPr>
        <p:blipFill>
          <a:blip r:embed="rId2"/>
          <a:stretch/>
        </p:blipFill>
        <p:spPr>
          <a:xfrm>
            <a:off x="179280" y="260280"/>
            <a:ext cx="4316400" cy="6166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4284720" y="620640"/>
            <a:ext cx="45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было на удивление хорош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поэта появился дом, любящая жена, друг и помощ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ья занималась его здоровьем, готовила его стихи для собрания сочинений. И была абсолютно счас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Есенин, встретив приятеля, отвечал на вопрос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Как жизн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—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Готовлю собрание сочинений в трех томах и живу с нелюбимой женщин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енин продолжал жить жизнью, где всегда находилось место пьяным кутежам и любовным интрижкам с поклон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Есенин Сергей"/>
          <p:cNvPicPr/>
          <p:nvPr/>
        </p:nvPicPr>
        <p:blipFill>
          <a:blip r:embed="rId2"/>
          <a:stretch/>
        </p:blipFill>
        <p:spPr>
          <a:xfrm>
            <a:off x="0" y="333360"/>
            <a:ext cx="43689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ita-1922"/>
          <p:cNvPicPr/>
          <p:nvPr/>
        </p:nvPicPr>
        <p:blipFill>
          <a:blip r:embed="rId2"/>
          <a:stretch/>
        </p:blipFill>
        <p:spPr>
          <a:xfrm>
            <a:off x="0" y="0"/>
            <a:ext cx="57704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849840" y="0"/>
            <a:ext cx="5294160" cy="748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случилось? Что со мною сталос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я у других ко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Каждый день к себе теряю жа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е смиряясь с горечью изм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Я всегда хотел, чтоб сердце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Вилось в чувствах нежных и прост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Что ж ищу в очах я этих женщ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Легкодумных, лживых и пусты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На душе - лимонный свет зак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И все то же слышно сквозь тум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- За свободу в чувствах есть распла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 Antiqua"/>
              </a:rPr>
              <a:t>Принимай же вызов, Дон-Жуан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0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Сергей Есенин"/>
          <p:cNvPicPr/>
          <p:nvPr/>
        </p:nvPicPr>
        <p:blipFill>
          <a:blip r:embed="rId1"/>
          <a:stretch/>
        </p:blipFill>
        <p:spPr>
          <a:xfrm>
            <a:off x="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179280" y="620640"/>
            <a:ext cx="3961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ря в единственный образ Женщ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ергей Есенин искал ую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коя просила его ду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о судьба не пошла на уступки поэ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н с пылом, рвением и отвагой кидался в водовороты дружб, страстей, творчества, словно дразня судьбу и зная,  что век отпущен недолг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Esenin_2"/>
          <p:cNvPicPr/>
          <p:nvPr/>
        </p:nvPicPr>
        <p:blipFill>
          <a:blip r:embed="rId2"/>
          <a:stretch/>
        </p:blipFill>
        <p:spPr>
          <a:xfrm>
            <a:off x="42782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Щелкните здесь для получения большого изображе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0" y="0"/>
            <a:ext cx="5580000" cy="66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Женщин, любивших его, было много, а любви в его жизни было ма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ам Есенин объяснял это так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«Как бы ни клялся я кому-либо в безумной любви, как бы я ни уверял в том же сам себя, — все это, по существу, огромнейшая и роковая ошибка. Есть нечто, что я люблю выше всех женщин, выше любой женщины, и что я ни за какие ласки и ни за какую любовь не променя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66cc"/>
                </a:solidFill>
                <a:latin typeface="Arial"/>
              </a:rPr>
              <a:t>Это — искусство</a:t>
            </a:r>
            <a:r>
              <a:rPr b="1" i="1" lang="ru-RU" sz="2600" spc="-1" strike="noStrike">
                <a:solidFill>
                  <a:srgbClr val="ffff00"/>
                </a:solidFill>
                <a:latin typeface="Arial"/>
              </a:rPr>
              <a:t>…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5527800" y="0"/>
          <a:ext cx="36162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7800" y="0"/>
                    <a:ext cx="361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amera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nna"/>
          <p:cNvPicPr/>
          <p:nvPr/>
        </p:nvPicPr>
        <p:blipFill>
          <a:blip r:embed="rId2"/>
          <a:stretch/>
        </p:blipFill>
        <p:spPr>
          <a:xfrm>
            <a:off x="395280" y="404640"/>
            <a:ext cx="4113360" cy="4969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47640" y="5805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Анна Алексеевна Сардан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19120" y="5969160"/>
            <a:ext cx="38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932360" y="404640"/>
            <a:ext cx="396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родственница константиновского священника И.Я.Смир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илась в 1896 году в семье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нна Сардановская была одним из первых юношеских увлечений поэ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н посвятил ей в первой публикации стихотворение "За горами, за жёлтыми долами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403280" y="144360"/>
            <a:ext cx="633564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горами, за жёлтыми дол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ротянулась тропа дерев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ижу лес, и вечернее полым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обвитый крапивой плетен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ам с утра над церковными гл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олубеет небесный пес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И звенит придорожными травами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т озёр водяной ветерок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е за песни весны над равни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Дорога мне зелёная ширь –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любил я тоской журавлиною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а высокой горе монастырь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ждый вечер, как синь затуманитс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к повиснет заря на мосту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ы идешь, моя бедная странни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клониться любви и кресту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роток дух монастырского жителя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Жадно слушаешь ты ектенью,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Помолись перед ликом Спасителя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За погибшую душу мою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1916 г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5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6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На фото:&#13;&#10;А.Сардановская и М.Бальзамова (слева)"/>
          <p:cNvPicPr/>
          <p:nvPr/>
        </p:nvPicPr>
        <p:blipFill>
          <a:blip r:embed="rId2"/>
          <a:stretch/>
        </p:blipFill>
        <p:spPr>
          <a:xfrm>
            <a:off x="0" y="0"/>
            <a:ext cx="4618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5003640" y="62064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Мария Парменовна Бальзам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859280" y="177336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юности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одилась в 1896 году в с.Дединово Рязанской губернии в семье дья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ончила Рязанское женское епархиальное училище, работала учительницей в с.Калитинки Рязанской губер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естны 17 писем и 2 почтовые открытки Есенина, адресованные 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ей обращено одно из самых известных стихотворений поэта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"Не бродить, не мять в кустах багряных..."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55897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ия Парменовна Бальзамова и Анна Алексеевна Сардановска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. 1914—1915 гг.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0605-12b"/>
          <p:cNvPicPr/>
          <p:nvPr/>
        </p:nvPicPr>
        <p:blipFill>
          <a:blip r:embed="rId1"/>
          <a:stretch/>
        </p:blipFill>
        <p:spPr>
          <a:xfrm>
            <a:off x="1258920" y="5400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79280" y="47628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в куст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и не искать сл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 алым соком ягоды на коже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жная, красивая, был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а закат ты розовый похожа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, как снег, лучиста и светл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ерна глаз твоих осыпались, зав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мя тонкое растаяло, как звук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о остался в складках смятой шали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Запах меда от невинных рук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35640" y="333360"/>
            <a:ext cx="460836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 тихий час, когда заря на кры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ак котенок, моет лапкой рот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Говор кроткий о тебе я слышу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одяных поющих с ветром сот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Пусть порой мне шепчет синий вечер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Что была ты песня и мечта,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Всё ж, кто выдумал твой гибкий стаи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и плечи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К светлой тайне приложил уст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Не бродить, не мять к куста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багряных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Лебеды н не искать сле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Со снопом волос твоих овся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Отоснилась ты мне навсегда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708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19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0605-12b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450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kaw"/>
          <p:cNvPicPr/>
          <p:nvPr/>
        </p:nvPicPr>
        <p:blipFill>
          <a:blip r:embed="rId2"/>
          <a:stretch/>
        </p:blipFill>
        <p:spPr>
          <a:xfrm>
            <a:off x="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003640" y="18900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дия Ивановна Кашина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148360" y="1125360"/>
            <a:ext cx="381636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комая поэта, последняя константиновская помещица. Родилась 4 января 1886 года в Москве. С мая 1916 по сентябрь 1918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ергей Есенин бывал в её до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а стала одним из прототипов Анны Снегиной, к ней обращено стихотвор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"Не напрасно дули ветры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museum_03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780000" y="189000"/>
            <a:ext cx="5040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.И.Кашин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Зелёная причёс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Девическая грудь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тонкая берёзка,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загляделась в пруд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Что шепчет тебе ветер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 чём звенит пес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Иль хочешь в косы-ветви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ы лунный гребешок?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ткрой, открой мне тайну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их древесных дум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Я полюбил - печальный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Твой предосенний шум....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1918 г.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Лидия Ивановна Кашина. Фото"/>
          <p:cNvPicPr/>
          <p:nvPr/>
        </p:nvPicPr>
        <p:blipFill>
          <a:blip r:embed="rId2"/>
          <a:stretch/>
        </p:blipFill>
        <p:spPr>
          <a:xfrm>
            <a:off x="324000" y="1268280"/>
            <a:ext cx="2923920" cy="4305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2:31:19Z</dcterms:created>
  <dc:creator>User</dc:creator>
  <dc:description/>
  <dc:language>en-US</dc:language>
  <cp:lastModifiedBy>Коля</cp:lastModifiedBy>
  <dcterms:modified xsi:type="dcterms:W3CDTF">2013-04-27T18:22:29Z</dcterms:modified>
  <cp:revision>120</cp:revision>
  <dc:subject/>
  <dc:title>Слайд 1</dc:title>
</cp:coreProperties>
</file>