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20.png" ContentType="image/png"/>
  <Override PartName="/ppt/media/image4.png" ContentType="image/png"/>
  <Override PartName="/ppt/media/image29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10.png" ContentType="image/png"/>
  <Override PartName="/ppt/media/image47.png" ContentType="image/png"/>
  <Override PartName="/ppt/media/image35.jpeg" ContentType="image/jpeg"/>
  <Override PartName="/ppt/media/image46.png" ContentType="image/png"/>
  <Override PartName="/ppt/media/image11.png" ContentType="image/png"/>
  <Override PartName="/ppt/media/image48.png" ContentType="image/png"/>
  <Override PartName="/ppt/media/image19.jpeg" ContentType="image/jpeg"/>
  <Override PartName="/ppt/media/image42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3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36D-8BD7-4000-A47F-078913CA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238-BEE4-4FEA-A425-39255572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18A-7986-4CDF-8988-5521D733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F63E-C018-4985-90F7-327D7AF6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AD7-A450-4138-B627-60D8C6B7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D7B-4CEF-4177-88B4-2565CA76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7CE-31CD-4B94-B4E2-5427192F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39B-CBD7-48C5-9A2F-4B812092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DEA-2885-4FAB-9F9D-62E8FE14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697-6236-4F4A-9C8A-0165F383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92E-8C31-4035-935F-3788E324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36E-C7D0-46DB-80CC-CA0626AF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F398-01EC-4BB8-9652-09C3EDB50F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2.jpeg"/><Relationship Id="rId11" Type="http://schemas.openxmlformats.org/officeDocument/2006/relationships/hyperlink" Target="http://schools.techno.ru/sch758/2003/esenin/avgysta.htm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schools.techno.ru/sch758/2003/esenin/kaw.htm" TargetMode="External"/><Relationship Id="rId14" Type="http://schemas.openxmlformats.org/officeDocument/2006/relationships/image" Target="../media/image8.jpe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library.tver.ru/~galsh/img/b-004b.jpg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6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library.tver.ru/~galsh/img/b-004b.jpg" TargetMode="External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2" descr="raih"/>
          <p:cNvPicPr/>
          <p:nvPr/>
        </p:nvPicPr>
        <p:blipFill>
          <a:blip r:embed="rId2"/>
          <a:stretch/>
        </p:blipFill>
        <p:spPr>
          <a:xfrm>
            <a:off x="5003640" y="1736640"/>
            <a:ext cx="3897360" cy="4718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7" descr="0605-12b"/>
          <p:cNvPicPr/>
          <p:nvPr/>
        </p:nvPicPr>
        <p:blipFill>
          <a:blip r:embed="rId3"/>
          <a:stretch/>
        </p:blipFill>
        <p:spPr>
          <a:xfrm>
            <a:off x="0" y="1676520"/>
            <a:ext cx="4778280" cy="4778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539640" y="1871640"/>
            <a:ext cx="8064720" cy="35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Он искал в этих женщинах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ЧАСТЬ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4" name="Group 33"/>
          <p:cNvGrpSpPr/>
          <p:nvPr/>
        </p:nvGrpSpPr>
        <p:grpSpPr>
          <a:xfrm>
            <a:off x="0" y="0"/>
            <a:ext cx="9144000" cy="1803240"/>
            <a:chOff x="0" y="0"/>
            <a:chExt cx="9144000" cy="1803240"/>
          </a:xfrm>
        </p:grpSpPr>
        <p:grpSp>
          <p:nvGrpSpPr>
            <p:cNvPr id="45" name="Group 15"/>
            <p:cNvGrpSpPr/>
            <p:nvPr/>
          </p:nvGrpSpPr>
          <p:grpSpPr>
            <a:xfrm>
              <a:off x="0" y="0"/>
              <a:ext cx="9144000" cy="1803240"/>
              <a:chOff x="0" y="0"/>
              <a:chExt cx="9144000" cy="1803240"/>
            </a:xfrm>
          </p:grpSpPr>
          <p:pic>
            <p:nvPicPr>
              <p:cNvPr id="46" name="Picture 5" descr="top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9144000" cy="178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12" descr="calina"/>
              <p:cNvPicPr/>
              <p:nvPr/>
            </p:nvPicPr>
            <p:blipFill>
              <a:blip r:embed="rId9"/>
              <a:stretch/>
            </p:blipFill>
            <p:spPr>
              <a:xfrm>
                <a:off x="2627280" y="0"/>
                <a:ext cx="831960" cy="18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14" descr="raih"/>
              <p:cNvPicPr/>
              <p:nvPr/>
            </p:nvPicPr>
            <p:blipFill>
              <a:blip r:embed="rId10"/>
              <a:stretch/>
            </p:blipFill>
            <p:spPr>
              <a:xfrm>
                <a:off x="1258920" y="0"/>
                <a:ext cx="1380960" cy="1803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9" name="Picture 21" descr="Августа Миклашевская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5867280" y="0"/>
              <a:ext cx="121788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3" descr="Лидия Кашина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6804000" y="0"/>
              <a:ext cx="1204920" cy="180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ROMANS_Esenin_(sp_128)_9618.mp3" descr=""/>
          <p:cNvPicPr/>
          <p:nvPr/>
        </p:nvPicPr>
        <p:blipFill>
          <a:blip r:embed="rId15"/>
          <a:stretch/>
        </p:blipFill>
        <p:spPr>
          <a:xfrm>
            <a:off x="8820000" y="614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0605-12b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450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sh"/>
          <p:cNvPicPr/>
          <p:nvPr/>
        </p:nvPicPr>
        <p:blipFill>
          <a:blip r:embed="rId2"/>
          <a:stretch/>
        </p:blipFill>
        <p:spPr>
          <a:xfrm>
            <a:off x="0" y="260280"/>
            <a:ext cx="4199040" cy="5877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564000" y="333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Шаганэ Нерсесовна Тальян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924360" y="1341360"/>
            <a:ext cx="5219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комая поэта, учительница русского языка и литературы, армянка по национа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одилась в 1900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Есениным познакомилась во время его пребывания в Батуми в зимние месяцы 1924-25 г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ё звучное восточное имя Есенин ввёл в несколько стихотворений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"Персидские мотивы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0605-12b"/>
          <p:cNvPicPr/>
          <p:nvPr/>
        </p:nvPicPr>
        <p:blipFill>
          <a:blip r:embed="rId1"/>
          <a:stretch/>
        </p:blipFill>
        <p:spPr>
          <a:xfrm>
            <a:off x="1476360" y="0"/>
            <a:ext cx="7667640" cy="680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user posted image"/>
          <p:cNvPicPr/>
          <p:nvPr/>
        </p:nvPicPr>
        <p:blipFill>
          <a:blip r:embed="rId2"/>
          <a:stretch/>
        </p:blipFill>
        <p:spPr>
          <a:xfrm>
            <a:off x="250920" y="2924280"/>
            <a:ext cx="2624040" cy="3673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4246560" y="2060640"/>
            <a:ext cx="48974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Я готов рассказать тебе поле.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Про волнистую рожь при лу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По кудрям ты моим догадай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Дорогая, шуги, улыбай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Не буди только память во м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Про волнистую рожь при луне.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Шаганэ ты моя, Шага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Там, на севере, девушка тож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На тебя она страшно похож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Может, думает обо мн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Шаганэ ты моя, Шаганэ.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00"/>
                </a:solidFill>
                <a:latin typeface="Times New Roman"/>
              </a:rPr>
              <a:t>1924 г.</a:t>
            </a: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9280" y="333360"/>
            <a:ext cx="50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Шаганэ ты моя, Шаганэ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тому, что я с севера, что ли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Я готов рассказать тебе пол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ро волнистую рожь при лу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Шаганэ ты моя, Шаганэ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тому, что я с севера, что 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Что луна там огромней в сто р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ак бы ни был красив Шир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Он не лучше рязанских раздол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тому, что я с севера, что ли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Я готов рассказать тебе пол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Эти волосы взял я у р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Если хочешь, на палец вяжи –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Я нисколько не чувствую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2" descr="0605-12b"/>
          <p:cNvPicPr/>
          <p:nvPr/>
        </p:nvPicPr>
        <p:blipFill>
          <a:blip r:embed="rId1"/>
          <a:stretch/>
        </p:blipFill>
        <p:spPr>
          <a:xfrm>
            <a:off x="250920" y="981000"/>
            <a:ext cx="4500360" cy="4500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3492360" y="602136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Надежда Вольп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50920" y="1197000"/>
            <a:ext cx="45720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на занимала особое место в жизни Есенина. Помните последние строчки из «Шаганэ...»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«Там на севере девушка тоже. 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а тебя она страшно похожа. 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Может, думает обо мне…»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то как раз о не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805280" y="0"/>
            <a:ext cx="433872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0605-12b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450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alek-volpin"/>
          <p:cNvPicPr/>
          <p:nvPr/>
        </p:nvPicPr>
        <p:blipFill>
          <a:blip r:embed="rId2"/>
          <a:stretch/>
        </p:blipFill>
        <p:spPr>
          <a:xfrm>
            <a:off x="0" y="0"/>
            <a:ext cx="5629320" cy="3857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11280" y="465300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Есен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ой у меня сын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аха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(друг Вольпин)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ты в детском возрасте, точный твой портрет.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Есенин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и должно быть - эта женщина очень меня любила!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867280" y="260280"/>
            <a:ext cx="3025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х сын, Александр Сергеевич Есенин, родился 12 мая 1924 года в Ленинграде. Отцу и сыну не суждено было встретиться. Мать не хотела показывать ребенка Есенину. Хотя он постоянно спрашивал о нем у знакомы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4" descr="0605-12b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4500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5364000" y="0"/>
            <a:ext cx="34578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В Москву Есенин приехал простодушным, весёлым парнем, ему было всего семнадцать лет. Он знал для чего ехал, цель у него была одна, стать самым известным в России поэтом. Спустя год Московской жизни он влюбляет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Анну Романовну Изряднову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которая работает вместе с ним корректором в типографии. Живут гражданским браком. А ещё через год, у них рождается сын Юрий. (который впоследствии был убит за обвинение в покушение на тов. Сталина). Но гражданский брак с Анной с первых дней показался ему ошибкой. В этот момент его больше заботила карьера. Он оставляет семью и уезжает искать счастья в Петрогр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9280" y="63388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АННА РОМАНОВНА ИЗРЯД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el1-620-"/>
          <p:cNvPicPr/>
          <p:nvPr/>
        </p:nvPicPr>
        <p:blipFill>
          <a:blip r:embed="rId2"/>
          <a:stretch/>
        </p:blipFill>
        <p:spPr>
          <a:xfrm>
            <a:off x="0" y="0"/>
            <a:ext cx="4802040" cy="6165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5" descr="57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6720" y="620640"/>
            <a:ext cx="4067280" cy="511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a674f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1181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508720" y="333360"/>
            <a:ext cx="33480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В 1917 ГОДУ Есенин влюбляется в красивейшую, нежную, образованную женщин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Зинаиду Рай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Чувства переполняют его, он женится не раздумыв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 Зинаидой Райх они проживут три года, и она родит ему двух детей Татьяну и Констант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Но Сергей наверно один из тех ветреных людей, про которых говорят "рубаха парень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Такие люди не созданы для семейной жизни. Конечно же он не был добропорядочным семьянином. А вряд ли найдётся женщина, которая сможет долго терпеть такого му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Райх хватило на три года, после чего они расстали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67640" y="5774400"/>
            <a:ext cx="56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инаида Николаевна Рай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635280" y="692280"/>
            <a:ext cx="504036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последствии, когда Райх вышла замуж за известного режиссёра того времени Мейерхольда , Есенин написал и посвятил ей стихотворение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"Письмо к Женщине",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где от части извинялся за своё пове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ы говор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Нам пора расстат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Что вас измуч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я шальная жизн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Что вам пора за дело приним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 мой удел- Катиться дальше вни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Любимая! Я мучил в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 вас была то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глазах усталы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Что я пред вами напок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ебя растрачивал в скандал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Зинаида Райх с детьми - Таней и Костей"/>
          <p:cNvPicPr/>
          <p:nvPr/>
        </p:nvPicPr>
        <p:blipFill>
          <a:blip r:embed="rId1"/>
          <a:stretch/>
        </p:blipFill>
        <p:spPr>
          <a:xfrm>
            <a:off x="395280" y="404640"/>
            <a:ext cx="3095640" cy="2345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images%5b8%5d"/>
          <p:cNvPicPr/>
          <p:nvPr/>
        </p:nvPicPr>
        <p:blipFill>
          <a:blip r:embed="rId2"/>
          <a:stretch/>
        </p:blipFill>
        <p:spPr>
          <a:xfrm>
            <a:off x="539640" y="2924280"/>
            <a:ext cx="278136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4140360" y="404640"/>
            <a:ext cx="475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разрыва с Райх, Есенин вел праздную жизнь: пил вино, скандалил в кабаках, легко относился к случайным связям, пока не встретил её, известную Американскую танцовщицу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йседору Дунк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50920" y="6093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УНКАН (Duncan) Айсед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Айседора Дункан"/>
          <p:cNvPicPr/>
          <p:nvPr/>
        </p:nvPicPr>
        <p:blipFill>
          <a:blip r:embed="rId1"/>
          <a:stretch/>
        </p:blipFill>
        <p:spPr>
          <a:xfrm>
            <a:off x="5867280" y="3718080"/>
            <a:ext cx="2225880" cy="244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aised"/>
          <p:cNvPicPr/>
          <p:nvPr/>
        </p:nvPicPr>
        <p:blipFill>
          <a:blip r:embed="rId2"/>
          <a:stretch/>
        </p:blipFill>
        <p:spPr>
          <a:xfrm>
            <a:off x="0" y="549360"/>
            <a:ext cx="404352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5724360" y="0"/>
            <a:ext cx="3168720" cy="69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ункан в Москве открыла школу своего имени, учила детей танц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енину хватило одного взгляда, чтобы влюб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ункан была старше его на 18 лет и не слова не знала по-рус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енин также не знал английского, как они общались остаётся загад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а и нужны ли слова когда две влюблённые души находят друг друга, достаточно взгля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резок жизни с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Дункан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ля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Есенина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, пожалуй, самое сумасбродное и скандально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esenin_dunkan"/>
          <p:cNvPicPr/>
          <p:nvPr/>
        </p:nvPicPr>
        <p:blipFill>
          <a:blip r:embed="rId1"/>
          <a:stretch/>
        </p:blipFill>
        <p:spPr>
          <a:xfrm>
            <a:off x="0" y="0"/>
            <a:ext cx="5738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042920" y="476280"/>
            <a:ext cx="70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Мне бы только смотреть на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Видеть глаз злато-карий ом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И чтоб, прошлое не любя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Ты уйти не смогла к другому</a:t>
            </a:r>
            <a:r>
              <a:rPr b="0" i="1" lang="ru-RU" sz="32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esenin"/>
          <p:cNvPicPr/>
          <p:nvPr/>
        </p:nvPicPr>
        <p:blipFill>
          <a:blip r:embed="rId1"/>
          <a:stretch/>
        </p:blipFill>
        <p:spPr>
          <a:xfrm>
            <a:off x="6084720" y="3213000"/>
            <a:ext cx="2649600" cy="3230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324000" y="3359160"/>
            <a:ext cx="53276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менно в первый год “любви” с Дункан Есенин написал знаменитое стихотворе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Сыпь, гармоника. Скука... Скука..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Гармонист пальцы льет волной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н называет свою подругу даже “стервою” и посылает ее “к чертям”, но в конц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 вашей своре собачьей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ра поостыть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Дорогая, я плачу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рости... Прост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6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4"/>
          <p:cNvGrpSpPr/>
          <p:nvPr/>
        </p:nvGrpSpPr>
        <p:grpSpPr>
          <a:xfrm>
            <a:off x="0" y="0"/>
            <a:ext cx="5254560" cy="6858000"/>
            <a:chOff x="0" y="0"/>
            <a:chExt cx="5254560" cy="6858000"/>
          </a:xfrm>
        </p:grpSpPr>
        <p:pic>
          <p:nvPicPr>
            <p:cNvPr id="53" name="Picture 1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6859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2"/>
            <a:stretch/>
          </p:blipFill>
          <p:spPr>
            <a:xfrm flipH="1">
              <a:off x="2627280" y="0"/>
              <a:ext cx="262728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1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611280" y="1125360"/>
            <a:ext cx="8281800" cy="71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Monotype Corsiva"/>
              </a:rPr>
              <a:t>Много женщин меня любил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i="1" lang="ru-RU" sz="5400" spc="-1" strike="noStrike">
                <a:solidFill>
                  <a:srgbClr val="cc0000"/>
                </a:solidFill>
                <a:latin typeface="Monotype Corsiva"/>
              </a:rPr>
              <a:t>Да и сам я любил не одну..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Monotype Corsiva"/>
              </a:rPr>
              <a:t>                </a:t>
            </a:r>
            <a:r>
              <a:rPr b="1" i="1" lang="ru-RU" sz="5400" spc="-1" strike="noStrike">
                <a:solidFill>
                  <a:srgbClr val="cc0000"/>
                </a:solidFill>
                <a:latin typeface="Monotype Corsiva"/>
              </a:rPr>
              <a:t>Сергей    Есен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0605-12b"/>
          <p:cNvPicPr/>
          <p:nvPr/>
        </p:nvPicPr>
        <p:blipFill>
          <a:blip r:embed="rId1"/>
          <a:stretch/>
        </p:blipFill>
        <p:spPr>
          <a:xfrm>
            <a:off x="0" y="1197000"/>
            <a:ext cx="4500720" cy="4500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324000" y="1052640"/>
            <a:ext cx="403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В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вгусте 1923 года произошла встреча Есенина с актрисой Московского Камерного теа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ско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вгуста Миклашевская стала счастливой соперницей Дунк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Но несмотря  на страстную увлечённость молодым поэт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она смогла подчинить сердце  раз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             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   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    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ghen"/>
          <p:cNvPicPr/>
          <p:nvPr/>
        </p:nvPicPr>
        <p:blipFill>
          <a:blip r:embed="rId2"/>
          <a:stretch/>
        </p:blipFill>
        <p:spPr>
          <a:xfrm>
            <a:off x="4595760" y="0"/>
            <a:ext cx="45482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"/>
          <p:cNvSpPr/>
          <p:nvPr/>
        </p:nvSpPr>
        <p:spPr>
          <a:xfrm>
            <a:off x="6120" y="333360"/>
            <a:ext cx="42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Августа Миклашев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0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0605-12b"/>
          <p:cNvPicPr/>
          <p:nvPr/>
        </p:nvPicPr>
        <p:blipFill>
          <a:blip r:embed="rId1"/>
          <a:stretch/>
        </p:blipFill>
        <p:spPr>
          <a:xfrm>
            <a:off x="3635280" y="1413000"/>
            <a:ext cx="5113440" cy="5113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843280" y="476280"/>
            <a:ext cx="576108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Именно </a:t>
            </a: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Августе Миклашевской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Есенин посвятил 7 стихотворений из знаменитого цикла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«Любовь хулига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Заметался пожар голубой,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Позабылись родимые дали,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В первый раз я запел про любовь,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В первый раз отрекаюсь скандалить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Был я весь как запущенный сад,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Был на женщин и зелие падкий.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Разонравилось пить и плясать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И терять свою жизнь без оглядк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Я б навеки пошёл за тобой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Хоть в свои, хоть в чужие дали...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В первый раз я запел про любовь,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В первый раз отрекаюсь скандалит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192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vgysta"/>
          <p:cNvPicPr/>
          <p:nvPr/>
        </p:nvPicPr>
        <p:blipFill>
          <a:blip r:embed="rId2"/>
          <a:stretch/>
        </p:blipFill>
        <p:spPr>
          <a:xfrm>
            <a:off x="250920" y="1484280"/>
            <a:ext cx="321624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0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EseninB"/>
          <p:cNvPicPr/>
          <p:nvPr/>
        </p:nvPicPr>
        <p:blipFill>
          <a:blip r:embed="rId1"/>
          <a:stretch/>
        </p:blipFill>
        <p:spPr>
          <a:xfrm>
            <a:off x="0" y="0"/>
            <a:ext cx="54370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166920" y="39600"/>
            <a:ext cx="597708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иклашевская оставила воспоминания о своих встречах с Сергеем Есени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Ты такая ж простая, как вс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Как сто тысяч других в России. Знаешь ты одинокий рассв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Знаешь холод осени си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По-смешному я сердцем вли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Я по-глупому мысли заня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Твой иконный и строгий л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По часовням висел в рязан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Я на эти иконы плева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Чтил я грубость и крик в повес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А теперь вдруг растут слова Самых нежных и кротких пес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Не хочу я лететь в зенит, Слишком многое телу надо. Что ж так имя твое звенит, Словно августовская прохлада?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0605-12b"/>
          <p:cNvPicPr/>
          <p:nvPr/>
        </p:nvPicPr>
        <p:blipFill>
          <a:blip r:embed="rId1"/>
          <a:stretch/>
        </p:blipFill>
        <p:spPr>
          <a:xfrm>
            <a:off x="3059280" y="260280"/>
            <a:ext cx="6084720" cy="6085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4067280" y="549360"/>
            <a:ext cx="4572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Советской России ему было очень тяжело, а без России —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ле возвращения четы Есениных — Дункан в Россию из Амер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рак их развал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правившись на гастроли в Крым, Айседора ждала там Сергея, который обещал вскоре приехать. Но вместо него пришла телеграмм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«Я люблю другую, женат, счастлив. Есени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той другой стала его поклон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foto1"/>
          <p:cNvPicPr/>
          <p:nvPr/>
        </p:nvPicPr>
        <p:blipFill>
          <a:blip r:embed="rId2"/>
          <a:stretch/>
        </p:blipFill>
        <p:spPr>
          <a:xfrm>
            <a:off x="395280" y="1268280"/>
            <a:ext cx="2273400" cy="5085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4288680" y="609300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алина Бениславс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7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5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0" descr="19esenin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50920" y="0"/>
            <a:ext cx="6121440" cy="65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Декабрьским днем 1926 года на безлюдном Ваганьковском кладбище в Москве около скромной могилы Сергея Есенина стояла молодая женщ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Год назад в ленинградской гостинице “Англетер” оборвалась жизнь тридцатилетнего поэ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Женщина на похоронах не была. Сейчас она нервно курила папиросу за папирос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Потом достала листок бумаги и быстро набросала несколько стро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</a:rPr>
              <a:t>Самоубилась” здесь, хотя и знаю, что после этого еще больше собак будут вешать на Есенина. Но и ему, и мне это будет все равно. В этой могиле для меня все самое дорогое, поэтому напоследок наплевать на Сосновского и общественное мнение, которое у Сосновского на поводу”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екоторое время она стояла неподвижно, затем достала писто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ак закончилась жизнь 29-летней Галины Бениславской, беззаветно любившей поэта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389480" y="3170160"/>
          <a:ext cx="415800" cy="5176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389480" y="3170160"/>
          <a:ext cx="415800" cy="5176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32" descr="Есенин Сергей Александрович (1895-1925)"/>
          <p:cNvPicPr/>
          <p:nvPr/>
        </p:nvPicPr>
        <p:blipFill>
          <a:blip r:embed="rId2"/>
          <a:stretch/>
        </p:blipFill>
        <p:spPr>
          <a:xfrm>
            <a:off x="6732720" y="404640"/>
            <a:ext cx="1900080" cy="288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82-3"/>
          <p:cNvPicPr/>
          <p:nvPr/>
        </p:nvPicPr>
        <p:blipFill>
          <a:blip r:embed="rId3"/>
          <a:stretch/>
        </p:blipFill>
        <p:spPr>
          <a:xfrm>
            <a:off x="6300720" y="3429000"/>
            <a:ext cx="258444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0605-12b"/>
          <p:cNvPicPr/>
          <p:nvPr/>
        </p:nvPicPr>
        <p:blipFill>
          <a:blip r:embed="rId1"/>
          <a:stretch/>
        </p:blipFill>
        <p:spPr>
          <a:xfrm>
            <a:off x="900000" y="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476360" y="981000"/>
            <a:ext cx="676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Может, поздно, может, слишком рано,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 о чем не думал много лет,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Походить я стал на Дон-Жуана,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ак заправский ветреный поэ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 ничто души не потревожит,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 ничто ее не бросит в дрожь, –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то любил, уж тот любить не может,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то сгорел, того не подожжеш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0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0605-12b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859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people_47"/>
          <p:cNvPicPr/>
          <p:nvPr/>
        </p:nvPicPr>
        <p:blipFill>
          <a:blip r:embed="rId2"/>
          <a:stretch/>
        </p:blipFill>
        <p:spPr>
          <a:xfrm>
            <a:off x="0" y="0"/>
            <a:ext cx="499104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268360" y="333360"/>
            <a:ext cx="64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офья Андреевна Тол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932360" y="1052640"/>
            <a:ext cx="3960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НАЧАЛЕ 1925 года поэт познакомился с внучкой Льва Толстого Софь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и большинство интеллигентных девиц того времени, она была влюблена в поэзию Есенина и немножко в сам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9-летний Сергей робел перед аристократизмом и невинностью Соф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0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4500720" y="333360"/>
            <a:ext cx="41749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днажды летом в липовой аллее в парке к ним подошла цыга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—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Эй, молодой, красивый, дай денежку, судьбу узнаеш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сенин рассмеялся и достал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—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вадьба у тебя скоро будет, кучерявый!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— рассмеялась цыга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июле 1925 года состоялась скромная свадь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нечка была готова, как и ее знаменитая бабушка, посвятить всю жизнь мужу и его творче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sofi"/>
          <p:cNvPicPr/>
          <p:nvPr/>
        </p:nvPicPr>
        <p:blipFill>
          <a:blip r:embed="rId2"/>
          <a:stretch/>
        </p:blipFill>
        <p:spPr>
          <a:xfrm>
            <a:off x="179280" y="260280"/>
            <a:ext cx="4316400" cy="6166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4284720" y="620640"/>
            <a:ext cx="453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было на удивление хорош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поэта появился дом, любящая жена, друг и помощ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ья занималась его здоровьем, готовила его стихи для собрания сочинений. И была абсолютно счаст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Есенин, встретив приятеля, отвечал на вопрос: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«Как жизн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—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«Готовлю собрание сочинений в трех томах и живу с нелюбимой женщин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енин продолжал жить жизнью, где всегда находилось место пьяным кутежам и любовным интрижкам с поклон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Есенин Сергей"/>
          <p:cNvPicPr/>
          <p:nvPr/>
        </p:nvPicPr>
        <p:blipFill>
          <a:blip r:embed="rId2"/>
          <a:stretch/>
        </p:blipFill>
        <p:spPr>
          <a:xfrm>
            <a:off x="0" y="333360"/>
            <a:ext cx="43689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0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ita-1922"/>
          <p:cNvPicPr/>
          <p:nvPr/>
        </p:nvPicPr>
        <p:blipFill>
          <a:blip r:embed="rId2"/>
          <a:stretch/>
        </p:blipFill>
        <p:spPr>
          <a:xfrm>
            <a:off x="0" y="0"/>
            <a:ext cx="57704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3849840" y="0"/>
            <a:ext cx="5294160" cy="7484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Что случилось? Что со мною сталос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Каждый день я у других кол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Каждый день к себе теряю жал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Не смиряясь с горечью изм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Я всегда хотел, чтоб сердце мен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Вилось в чувствах нежных и прост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Что ж ищу в очах я этих женщин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Легкодумных, лживых и пусты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На душе - лимонный свет зака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И все то же слышно сквозь тум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- За свободу в чувствах есть распла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Принимай же вызов, Дон-Жуан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2" descr="Сергей Есенин"/>
          <p:cNvPicPr/>
          <p:nvPr/>
        </p:nvPicPr>
        <p:blipFill>
          <a:blip r:embed="rId1"/>
          <a:stretch/>
        </p:blipFill>
        <p:spPr>
          <a:xfrm>
            <a:off x="0" y="0"/>
            <a:ext cx="4772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179280" y="620640"/>
            <a:ext cx="39610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еря в единственный образ Женщ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ергей Есенин искал ую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окоя просила его ду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судьба не пошла на уступки поэ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н с пылом, рвением и отвагой кидался в водовороты дружб, страстей, творчества, словно дразня судьбу и зная,  что век отпущен недолг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Esenin_2"/>
          <p:cNvPicPr/>
          <p:nvPr/>
        </p:nvPicPr>
        <p:blipFill>
          <a:blip r:embed="rId2"/>
          <a:stretch/>
        </p:blipFill>
        <p:spPr>
          <a:xfrm>
            <a:off x="4278240" y="0"/>
            <a:ext cx="4865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8" descr="Щелкните здесь для получения большого изображе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0" y="0"/>
            <a:ext cx="5580000" cy="66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Женщин, любивших его, было много, а любви в его жизни было мал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ам Есенин объяснял это так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ffff00"/>
                </a:solidFill>
                <a:latin typeface="Arial"/>
              </a:rPr>
              <a:t>«Как бы ни клялся я кому-либо в безумной любви, как бы я ни уверял в том же сам себя, — все это, по существу, огромнейшая и роковая ошибка. Есть нечто, что я люблю выше всех женщин, выше любой женщины, и что я ни за какие ласки и ни за какую любовь не променя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ff66cc"/>
                </a:solidFill>
                <a:latin typeface="Arial"/>
              </a:rPr>
              <a:t>Это — искусство</a:t>
            </a:r>
            <a:r>
              <a:rPr b="1" i="1" lang="ru-RU" sz="2600" spc="-1" strike="noStrike">
                <a:solidFill>
                  <a:srgbClr val="ffff00"/>
                </a:solidFill>
                <a:latin typeface="Arial"/>
              </a:rPr>
              <a:t>…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9"/>
          <p:cNvGraphicFramePr/>
          <p:nvPr/>
        </p:nvGraphicFramePr>
        <p:xfrm>
          <a:off x="5527800" y="0"/>
          <a:ext cx="36162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27800" y="0"/>
                    <a:ext cx="361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0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Camera_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anna"/>
          <p:cNvPicPr/>
          <p:nvPr/>
        </p:nvPicPr>
        <p:blipFill>
          <a:blip r:embed="rId2"/>
          <a:stretch/>
        </p:blipFill>
        <p:spPr>
          <a:xfrm>
            <a:off x="395280" y="404640"/>
            <a:ext cx="4113360" cy="4969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547640" y="5805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Анна Алексеевна Сарданов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19120" y="5969160"/>
            <a:ext cx="383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932360" y="404640"/>
            <a:ext cx="3960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накомая поэта, родственница константиновского священника И.Я.Смирн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дилась в 1896 году в семье уч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кончила Рязанское женское епархиальное училищ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нна Сардановская была одним из первых юношеских увлечений поэ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н посвятил ей в первой публикации стихотворение "За горами, за жёлтыми долами..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3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1403280" y="144360"/>
            <a:ext cx="633564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За горами, за жёлтыми долами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ротянулась тропа деревень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Вижу лес, и вечернее полымя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И обвитый крапивой плетень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Там с утра над церковными главами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Голубеет небесный пес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И звенит придорожными травами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От озёр водяной ветерок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Не за песни весны над равни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Дорога мне зелёная ширь –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любил я тоской журавлиною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На высокой горе монастырь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аждый вечер, как синь затуманится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ак повиснет заря на мосту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Ты идешь, моя бедная странниц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клониться любви и кресту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роток дух монастырского жителя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Жадно слушаешь ты ектенью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молись перед ликом Спасителя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За погибшую душу мою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1916 г.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5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6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3" descr="0605-12b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450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На фото:&#13;&#10;А.Сардановская и М.Бальзамова (слева)"/>
          <p:cNvPicPr/>
          <p:nvPr/>
        </p:nvPicPr>
        <p:blipFill>
          <a:blip r:embed="rId2"/>
          <a:stretch/>
        </p:blipFill>
        <p:spPr>
          <a:xfrm>
            <a:off x="0" y="0"/>
            <a:ext cx="4618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5003640" y="620640"/>
            <a:ext cx="41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ария Парменовна Бальзам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859280" y="1773360"/>
            <a:ext cx="40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 юности поэ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одилась в 1896 году в с.Дединово Рязанской губернии в семье дьяк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ончила Рязанское женское епархиальное училище, работала учительницей в с.Калитинки Рязанской губер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вестны 17 писем и 2 почтовые открытки Есенина, адресованные 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 ней обращено одно из самых известных стихотворений поэта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"Не бродить, не мять в кустах багряных...".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5280" y="558972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рия Парменовна Бальзамова и Анна Алексеевна Сардановска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то. 1914—1915 гг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0605-12b"/>
          <p:cNvPicPr/>
          <p:nvPr/>
        </p:nvPicPr>
        <p:blipFill>
          <a:blip r:embed="rId1"/>
          <a:stretch/>
        </p:blipFill>
        <p:spPr>
          <a:xfrm>
            <a:off x="1258920" y="54000"/>
            <a:ext cx="6804000" cy="6804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179280" y="476280"/>
            <a:ext cx="475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Не бродить, не мять в куст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                                             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багряных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Лебеды и не искать сл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Со снопом волос твоих овсяных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Отоснилась ты мне навсегда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С алым соком ягоды на коже,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Нежная, красивая, была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На закат ты розовый похожа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И, как снег, лучиста и светла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Зерна глаз твоих осыпались, завя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Имя тонкое растаяло, как звук,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Но остался в складках смятой шали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Запах меда от невинных рук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35640" y="333360"/>
            <a:ext cx="460836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В тихий час, когда заря на крыш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Как котенок, моет лапкой рот,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Говор кроткий о тебе я слышу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Водяных поющих с ветром сот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Пусть порой мне шепчет синий вечер,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Что была ты песня и мечта,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Всё ж, кто выдумал твой гибкий стаи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                                                  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и плечи –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К светлой тайне приложил уста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Не бродить, не мять к куста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багряных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Лебеды н не искать следа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Со снопом волос твоих овся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Отоснилась ты мне навсегда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708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19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3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0605-12b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450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kaw"/>
          <p:cNvPicPr/>
          <p:nvPr/>
        </p:nvPicPr>
        <p:blipFill>
          <a:blip r:embed="rId2"/>
          <a:stretch/>
        </p:blipFill>
        <p:spPr>
          <a:xfrm>
            <a:off x="0" y="0"/>
            <a:ext cx="48402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003640" y="18900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Лидия Ивановна Кашина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148360" y="1125360"/>
            <a:ext cx="381636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накомая поэта, последняя константиновская помещица. Родилась 4 января 1886 года в Москве. С мая 1916 по сентябрь 1918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ергей Есенин бывал в её до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на стала одним из прототипов Анны Снегиной, к ней обращено стихотворени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"Не напрасно дули ветры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museum_03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3780000" y="189000"/>
            <a:ext cx="50400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.И.Кашин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Зелёная причёска,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Девическая грудь,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О тонкая берёзка,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Что загляделась в пруд?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Что шепчет тебе ветер?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О чём звенит песок?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Иль хочешь в косы-ветви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Ты лунный гребешок?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Открой, открой мне тайну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Твоих древесных дум.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Я полюбил - печальный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Твой предосенний шум....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1918 г.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Лидия Ивановна Кашина. Фото"/>
          <p:cNvPicPr/>
          <p:nvPr/>
        </p:nvPicPr>
        <p:blipFill>
          <a:blip r:embed="rId2"/>
          <a:stretch/>
        </p:blipFill>
        <p:spPr>
          <a:xfrm>
            <a:off x="324000" y="1268280"/>
            <a:ext cx="2923920" cy="4305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2:31:19Z</dcterms:created>
  <dc:creator>User</dc:creator>
  <dc:description/>
  <dc:language>en-US</dc:language>
  <cp:lastModifiedBy>Коля</cp:lastModifiedBy>
  <dcterms:modified xsi:type="dcterms:W3CDTF">2013-04-27T18:22:29Z</dcterms:modified>
  <cp:revision>120</cp:revision>
  <dc:subject/>
  <dc:title>Слайд 1</dc:title>
</cp:coreProperties>
</file>