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59E-B64B-4B23-A897-7095E53A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448-8A5F-45B6-A71A-726C3E8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AD4-E14D-4D7D-BE4B-A2E50422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C02-50AC-45E9-BA2C-9813D51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64E-4802-4228-AAB6-9346562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953-4564-41D5-972C-43DA2181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4C0-9DD8-41ED-9917-388DAC3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61E-5A35-4A14-94A7-12BE496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EAB-76CB-4A77-ABEA-D04E9D00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AF6E-7AD8-479E-9244-D509C8C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48BA-F6B3-480B-B364-309FC52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DEA-BBD1-4ED9-826B-234AB999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5F23-B0AC-4C9F-A439-1A2E713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1A11-B8E8-4FC5-9C0F-44D68A87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61AA-800B-4A79-9E14-17CFF8A1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524F-A6A7-4EBC-A409-39030503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DD49-E484-424F-9203-DADCA8D4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713-0975-4BC6-83A0-C2BC2EF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2FD-DCCC-45CD-AAEA-0D4AED3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4B7-C801-42DF-98CF-168D109B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751-F667-4D28-A399-2EDBFD55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4BA-E09A-49C2-BD58-28546A8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F77-3880-404D-B677-0A15A0BF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007-96CB-4753-9329-6EEADCA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3366"/>
                  </a:solidFill>
                  <a:latin typeface="Antiqua Chv Bold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4F4-29F6-493D-A742-01ABFDF996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66"/>
                </a:solidFill>
                <a:latin typeface="Antiqua Chv Bold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ntiqua Chv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C878-9CF0-446F-ABB4-B3BF23CC3B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мире веществ и реакц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Animals (10)"/>
          <p:cNvPicPr/>
          <p:nvPr/>
        </p:nvPicPr>
        <p:blipFill>
          <a:blip r:embed="rId1"/>
          <a:stretch/>
        </p:blipFill>
        <p:spPr>
          <a:xfrm>
            <a:off x="826920" y="4005360"/>
            <a:ext cx="2808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бнаружение лактозы в молок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яют с помощью реакции серебряного зеркала- лактоза имеет альдегидную группу. Готовить аммиачный  раствор оксида серебра из нитрата серебра и раствора аммиака. К нему добавить фильтрат, полученный при выделении казеина из молока. Выпадает осадок в виде зеркала. Значит- это лактоза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журнал.Химия для школьни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журнал.Химия в школ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Справочник по хим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учебник.Химия10 и 11.Рудзити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я и молок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Как  исследовать его   состав в домашних условиях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905120" y="2287440"/>
            <a:ext cx="5333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орошо  знакомое молоко.</a:t>
            </a: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Введе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 актуальность темы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б) новизна проблем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Состав молок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)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ческие вещ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) неорганические вещест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Определение активной кислотн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Определение термоустойчивост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 Определение фальсификации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 Выделение казеина из моло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.Приготовление казеинового кле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8 .Обнаружение лактозы в моло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Состав молока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органические,2.неорганическ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1.Бел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казеин, альбумины, глобулины, лактоферрины, белки оболочек жировых шариков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глевод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(лактоза-дисахарид ,немного глюкозы и галактозы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тамины(А, группа В, С, Е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Н,К,РР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ипиды (жиры, эфиры холестерина, фосфолипид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Ионы натрия, калия, кобальта, меди, цинка, кальция, магния, марганца, железа, хлориды, иодиды, карбонаты, растворенный углекислый газ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определение активной кислотн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ность- важнейший показатель, по которому определяют свежесть молока, а на молочных предприятиях- его годность к дальнейшей переработке. Цельное молоко имеет активную  кислотность 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домашних условиях ее определяют с помощью универсальной индикаторной бумаг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термоустойчивост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узнать, свернется молоко при кипячении? Проблема весьма актуальна. Есть много способов контроля термоустойчивости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Алкогольная проба-с помощью этилового спир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Кальциевая проба- с помощью 1%-го раствора хлорида каль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определение фальсификации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аскировка нарастания кислотности молока-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добавление вод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Для определения фальсификации молока нужно измерить его плотность ареометром. Плотность молока  чуть больше плотности воды и составляет 1027кг/м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ба на фальсификацию молока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одой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Для этого  к небольшому количеству молока добавляют7-8 капель раствора  бромтимолового синего. Если в молоко добавили соду,  то образуется от  светло-зеленого до темно-зеленого кольцевой сл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 выделение казеина из мол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лаборатории казеин из молока выделяют  с помощью 10%-ого раствора уксусной кислоты. При этом выпадают в осадок хлопья казеина, которого отделяют при помощи бумажного фильтра, а фильтрат используют для приготовления  казеинового кле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ыт-приготовление казеинового кле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я приготовления клея фильтрат, полученный при выделении казеина из молока, помещают в химический стакан и добавляют при перемешивании 5-10%-ый раствор аммиака, нагревают на водяной бане, охлаждают, добавляют воду до получения сиропообразной масс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6:10:06Z</dcterms:created>
  <dc:creator>Александра</dc:creator>
  <dc:description/>
  <dc:language>en-US</dc:language>
  <cp:lastModifiedBy>Шура</cp:lastModifiedBy>
  <dcterms:modified xsi:type="dcterms:W3CDTF">2012-01-01T20:47:57Z</dcterms:modified>
  <cp:revision>7</cp:revision>
  <dc:subject/>
  <dc:title>В мире веществ и реакций</dc:title>
</cp:coreProperties>
</file>