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728-41EF-4A30-94DC-8AD74C90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D3E-48CC-4EEA-980D-06C2F29B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5FF-35A6-4C8A-8647-7035E083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20D-5375-41B7-9203-3F57F337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FBAC-9636-46BF-9993-80A40B2C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113-9A13-4414-AF29-0E5DE379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9942-B2F7-46EE-9163-404B72EF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2830-9CA3-43F2-AB5A-D55B805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3A1B-4E87-48E0-808B-0F4414F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DF61-6570-4AA0-B8AE-39AC5A07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F298-8C69-4968-AF83-5FE4767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E21-54D6-4DC5-B166-9719B84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F15B-631C-48FE-B657-17BB1E3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6D12-2562-4EB4-8243-A025122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8EC3-BD17-4087-902B-B78AD422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294D-9C84-4742-BDCF-E556B7DE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4D09-9EFC-46C9-A7CF-0556D378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D46-5887-4ED0-8A72-CC393A7E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587-6274-424F-997F-155280B7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84E-AFB4-4F9A-A35E-C273DEB5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177-BE86-4A0E-9AD0-2F683E7E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26D-9CED-4E0D-85EA-642228F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842-0FB2-4047-832D-31139E70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0A8-03B3-4493-B06B-9315E57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3954-7B67-46C0-ADDE-D0231D484C0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7979-F37B-4483-A43D-46AE10A5D66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 мире веществ и реакц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4" descr="Animals (10)"/>
          <p:cNvPicPr/>
          <p:nvPr/>
        </p:nvPicPr>
        <p:blipFill>
          <a:blip r:embed="rId1"/>
          <a:stretch/>
        </p:blipFill>
        <p:spPr>
          <a:xfrm>
            <a:off x="826920" y="4005360"/>
            <a:ext cx="28083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 обнаружение лактозы в молок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яют с помощью реакции серебряного зеркала- лактоза имеет альдегидную группу. Готовить аммиачный  раствор оксида серебра из нитрата серебра и раствора аммиака. К нему добавить фильтрат, полученный при выделении казеина из молока. Выпадает осадок в виде зеркала. Значит- это лактоза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журнал.Химия для школьни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журнал.Химия в школ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Справочник по хим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.учебник.Химия10 и 11.Рудзити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имия и молок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Как  исследовать его   состав в домашних условиях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905120" y="2287440"/>
            <a:ext cx="5333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рошо  знакомое молоко.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Введен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 актуальность темы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б) новизна проблем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Состав молок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рганические вещ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) неорганические вещест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Определение активной кислотности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Определение термоустойчивости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 Определение фальсификации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 Выделение казеина из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7.Приготовление казеинового кле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8 .Обнаружение лактозы в молок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Состав молока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органические,2.неорганическ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1.Бел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казеин, альбумины, глобулины, лактоферрины, белки оболочек жировых шариков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Углевод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(лактоза-дисахарид ,немного глюкозы и галактозы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тамины(А, группа В, С, Е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Н,К,РР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ипиды (жиры, эфиры холестерина, фосфолипиды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Ионы натрия, калия, кобальта, меди, цинка, кальция, магния, марганца, железа, хлориды, иодиды, карбонаты, растворенный углекислый га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 определение активной кислотности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слотность- важнейший показатель, по которому определяют свежесть молока, а на молочных предприятиях- его годность к дальнейшей переработке. Цельное молоко имеет активную  кислотность 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домашних условиях ее определяют с помощью универсальной индикаторной бумаг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определение термоустойчивости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узнать, свернется молоко при кипячении? Проблема весьма актуальна. Есть много способов контроля термоустойчивости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Алкогольная проба-с помощью этилового спир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Кальциевая проба- с помощью 1%-го раствора хлорида каль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определение фальсификации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маскировка нарастания кислотности молока-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добавление вод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Для определения фальсификации молока нужно измерить его плотность ареометром. Плотность молока  чуть больше плотности воды и составляет 1027кг/м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ба на фальсификацию молока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одой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Для этого  к небольшому количеству молока добавляют7-8 капель раствора  бромтимолового синего. Если в молоко добавили соду,  то образуется от  светло-зеленого до темно-зеленого кольцевой сл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 выделение казеина из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лаборатории казеин из молока выделяют  с помощью 10%-ого раствора уксусной кислоты. При этом выпадают в осадок хлопья казеина, которого отделяют при помощи бумажного фильтра, а фильтрат используют для приготовления  казеинового кле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приготовление казеинового кле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приготовления клея фильтрат, полученный при выделении казеина из молока, помещают в химический стакан и добавляют при перемешивании 5-10%-ый раствор аммиака, нагревают на водяной бане, охлаждают, добавляют воду до получения сиропообразной масс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6:10:06Z</dcterms:created>
  <dc:creator>Александра</dc:creator>
  <dc:description/>
  <dc:language>en-US</dc:language>
  <cp:lastModifiedBy>Шура</cp:lastModifiedBy>
  <dcterms:modified xsi:type="dcterms:W3CDTF">2012-01-01T20:47:57Z</dcterms:modified>
  <cp:revision>7</cp:revision>
  <dc:subject/>
  <dc:title>В мире веществ и реакций</dc:title>
</cp:coreProperties>
</file>