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3E0-1A87-42C8-B085-E8992E80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312-87C2-4C42-9E88-4319231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0F0-8610-4652-9A66-CFBE5486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F5B-14AF-430B-8343-517F4AA0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3023-5024-4EF1-82AA-C3DC4220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C7B2-ECCB-4761-9F4D-9971774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D64E-474C-4452-8179-1E5DEC08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730C-74DD-4F8B-9B12-B083A33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DA77-097A-4D13-8FB9-0598D840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21AF-24C8-4DBD-9EEA-F4511F5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AEE-7E4B-4C63-94CD-BD12E32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3F6-E80D-4398-8664-D2B0B7F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322-8E22-483B-A0E3-B2A260D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72C6-5357-4B2A-8792-33543EE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330A-2624-4C83-B82C-A53345C2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731A-CE08-4AFB-8AA6-BA083ECE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EA9-A41A-4C34-B662-45E514F0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AD7-717A-4C6B-8673-31426DE8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2CD-4A86-43E9-8282-8363E538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A47-ED5C-4912-B8A9-BDAE90D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737-DEB5-4506-88A1-B6EB807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30D-E01C-47D8-BDAE-4E9DBFF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55E-E823-4CFF-B6BD-40784A9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C7A-3CD3-4313-B0F2-C02F25E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E510-AA72-4517-9C29-37D306EB2A8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8A3A-EC84-467D-8A5D-BE6C8DB0F40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мире веществ и реакц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Animals (10)"/>
          <p:cNvPicPr/>
          <p:nvPr/>
        </p:nvPicPr>
        <p:blipFill>
          <a:blip r:embed="rId1"/>
          <a:stretch/>
        </p:blipFill>
        <p:spPr>
          <a:xfrm>
            <a:off x="826920" y="4005360"/>
            <a:ext cx="2808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бнаружение лактозы в молок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яют с помощью реакции серебряного зеркала- лактоза имеет альдегидную группу. Готовить аммиачный  раствор оксида серебра из нитрата серебра и раствора аммиака. К нему добавить фильтрат, полученный при выделении казеина из молока. Выпадает осадок в виде зеркала. Значит- это лактоза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журнал.Химия для школьн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журнал.Химия в школ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Справочник по хим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учебник.Химия10 и 11.Рудзити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я и молок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Как  исследовать его   состав в домашних условия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905120" y="2287440"/>
            <a:ext cx="5333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рошо  знакомое молоко.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Введе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актуальность темы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) новизна проблем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Состав моло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ческие вещ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) неорганические вещест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Определение активной кислотн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Определение термоустойчив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 Определение фальсификаци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 Выделение казеина из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.Приготовление казеинового кле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8 .Обнаружение лактозы в моло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Состав молока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органические,2.неорганическ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1.Бел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казеин, альбумины, глобулины, лактоферрины, белки оболочек жировых шариков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глевод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(лактоза-дисахарид ,немного глюкозы и галактозы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тамины(А, группа В, С, Е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Н,К,РР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ипиды (жиры, эфиры холестерина, фосфолипид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Ионы натрия, калия, кобальта, меди, цинка, кальция, магния, марганца, железа, хлориды, иодиды, карбонаты, растворенный углекислый г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пределение активной кислотн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ность- важнейший показатель, по которому определяют свежесть молока, а на молочных предприятиях- его годность к дальнейшей переработке. Цельное молоко имеет активную  кислотность 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омашних условиях ее определяют с помощью универсальной индикаторной бумаг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термоустойчив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знать, свернется молоко при кипячении? Проблема весьма актуальна. Есть много способов контроля термоустойчивости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Алкогольная проба-с помощью этилового спи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Кальциевая проба- с помощью 1%-го раствора хлорида каль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фальсификаци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аскировка нарастания кислотности молока-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добавление вод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Для определения фальсификации молока нужно измерить его плотность ареометром. Плотность молока  чуть больше плотности воды и составляет 1027кг/м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а на фальсификацию молока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одой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ля этого  к небольшому количеству молока добавляют7-8 капель раствора  бромтимолового синего. Если в молоко добавили соду,  то образуется от  светло-зеленого до темно-зеленого кольцевой сл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выделение казеина из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лаборатории казеин из молока выделяют  с помощью 10%-ого раствора уксусной кислоты. При этом выпадают в осадок хлопья казеина, которого отделяют при помощи бумажного фильтра, а фильтрат используют для приготовления  казеинового кле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приготовление казеинового кле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иготовления клея фильтрат, полученный при выделении казеина из молока, помещают в химический стакан и добавляют при перемешивании 5-10%-ый раствор аммиака, нагревают на водяной бане, охлаждают, добавляют воду до получения сиропообразной масс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10:06Z</dcterms:created>
  <dc:creator>Александра</dc:creator>
  <dc:description/>
  <dc:language>en-US</dc:language>
  <cp:lastModifiedBy>Шура</cp:lastModifiedBy>
  <dcterms:modified xsi:type="dcterms:W3CDTF">2012-01-01T20:47:57Z</dcterms:modified>
  <cp:revision>7</cp:revision>
  <dc:subject/>
  <dc:title>В мире веществ и реакций</dc:title>
</cp:coreProperties>
</file>