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12BB-CF4B-4899-83CF-14256E43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6BEA-03A7-49C9-8CEA-7FD706B3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52DD-020A-4C40-9AE5-E62E3CB9E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0B4A-4A46-42BD-B3AE-38EC0ECC8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54A5-D249-4E8E-9D48-BE973D0F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81FD-2A8A-4182-A0E1-561FBBF8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AB1E-8855-4FA8-8183-B11156AB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D913-8CC2-4330-91D2-C4F9F75D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885D-5280-4425-8D39-CBE21985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5177-6D24-4AF0-BDCC-219466B7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478E-D301-4970-98B8-5B746A8E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D216-EDE7-451C-B221-9367F1D3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04C9-EE2C-4E35-91BD-42D030EB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1635-3DD6-4927-8BB2-ED25B7EB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8472-6242-4A0F-A9C2-E365FDAD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FE46-D898-4D10-BEB2-AAC8403D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D344-33DC-4E1F-82F4-E52C2169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6A3C2-730E-4441-9215-7EB09914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55416-B387-4342-A4FE-B921295F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373B3-6D52-49B0-9BEE-E096CC7C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87D2B-A5E2-46B9-87BF-BDFA6F9D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BF699-F5B2-4E45-AD00-CD17315E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FBB5-95E4-4382-BDB1-167A0043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248D6-35A0-4C8D-B565-C5921432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79E4F-73C9-41E2-85EE-1C15500D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DC86A-BEFD-4A96-897B-2BC67165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A491E-9578-492B-8B0C-4543B1F3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EB67A-65C9-47D9-AF55-21AA4E9C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65105-6ADB-4FB1-ACB0-E2523856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928D6-81C1-4B67-AF62-4D14639A4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47C89-541B-4D89-B7E4-F81E5CB03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D3188-7EEA-47F4-8BCA-684A5C30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70EEC-A9DB-4F15-AB10-527D1D9A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E959-2923-47A5-8E8D-76D2EBF4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20F70-0F47-40B5-9B83-3E89CBDB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13301-807D-4230-8EEA-5B6C99C5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66E19-E94A-4557-9FEC-3C91A883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4899A-1720-40C3-AA64-CDFAFBA7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B3304-CA4E-4D93-B31D-01EAE284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9DC76-70D4-4D36-92AF-B1B38F41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DA82A-3183-4BDD-A524-89F77917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298CE-EE11-4DCA-AA07-C33609AB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08910-3149-4E02-9C73-7E64F078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083A-93B6-43A4-8687-9469060C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EA92-CD24-418C-A530-1375EA55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6DA3-417B-4290-8EB0-840796CB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8615-4F1D-4310-9EA3-2BFCE8B8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DCF3-97FA-437A-935F-528ACAAC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CC62-EF11-4C45-8CCB-2E2CA513078C}" type="slidenum">
              <a:rPr b="1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58AE-9E23-4CEC-B949-DD1F54351D72}" type="slidenum">
              <a:rPr b="1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AFCC-FA04-494E-90EA-8C4BF33275B6}" type="slidenum">
              <a:rPr b="1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E4DE-FE63-4646-A7F8-E24C8FB4CF0D}" type="slidenum">
              <a:rPr b="1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dd9"/>
                </a:solidFill>
                <a:latin typeface="Calibri"/>
              </a:rPr>
              <a:t>Урок истории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Экскурсия в музей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Тема 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nstantia"/>
              </a:rPr>
              <a:t>«Традиционная кубанская одежда»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83763"/>
                </a:solidFill>
                <a:latin typeface="Calibri"/>
              </a:rPr>
              <a:t>Кубанская традиционная одежда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Picture 4" descr="саша машафото 006"/>
          <p:cNvPicPr/>
          <p:nvPr/>
        </p:nvPicPr>
        <p:blipFill>
          <a:blip r:embed="rId2"/>
          <a:stretch/>
        </p:blipFill>
        <p:spPr>
          <a:xfrm>
            <a:off x="122400" y="1639800"/>
            <a:ext cx="2876400" cy="4164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саша машафото 009"/>
          <p:cNvPicPr/>
          <p:nvPr/>
        </p:nvPicPr>
        <p:blipFill>
          <a:blip r:embed="rId3"/>
          <a:stretch/>
        </p:blipFill>
        <p:spPr>
          <a:xfrm>
            <a:off x="2987640" y="2060640"/>
            <a:ext cx="2828880" cy="40892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саша машафото 008"/>
          <p:cNvPicPr/>
          <p:nvPr/>
        </p:nvPicPr>
        <p:blipFill>
          <a:blip r:embed="rId4"/>
          <a:stretch/>
        </p:blipFill>
        <p:spPr>
          <a:xfrm>
            <a:off x="5867280" y="2565360"/>
            <a:ext cx="2614680" cy="3747960"/>
          </a:xfrm>
          <a:prstGeom prst="rect">
            <a:avLst/>
          </a:prstGeom>
          <a:ln w="0">
            <a:noFill/>
          </a:ln>
        </p:spPr>
      </p:pic>
      <p:sp>
        <p:nvSpPr>
          <p:cNvPr id="201" name="Управляющая кнопка: далее 5">
            <a:hlinkClick r:id="rId5" action="ppaction://hlinksldjump"/>
          </p:cNvPr>
          <p:cNvSpPr/>
          <p:nvPr/>
        </p:nvSpPr>
        <p:spPr>
          <a:xfrm>
            <a:off x="8001000" y="6072120"/>
            <a:ext cx="857160" cy="571680"/>
          </a:xfrm>
          <a:custGeom>
            <a:avLst/>
            <a:gdLst>
              <a:gd name="textAreaLeft" fmla="*/ 36720 w 857160"/>
              <a:gd name="textAreaRight" fmla="*/ 820440 w 8571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32380" h="21600">
                <a:moveTo>
                  <a:pt x="0" y="0"/>
                </a:moveTo>
                <a:lnTo>
                  <a:pt x="32380" y="0"/>
                </a:lnTo>
                <a:lnTo>
                  <a:pt x="32380" y="21600"/>
                </a:lnTo>
                <a:lnTo>
                  <a:pt x="0" y="21600"/>
                </a:lnTo>
                <a:close/>
              </a:path>
              <a:path fill="lightenLess" w="32380" h="21600">
                <a:moveTo>
                  <a:pt x="0" y="0"/>
                </a:moveTo>
                <a:lnTo>
                  <a:pt x="32380" y="0"/>
                </a:lnTo>
                <a:lnTo>
                  <a:pt x="30980" y="1400"/>
                </a:lnTo>
                <a:lnTo>
                  <a:pt x="1400" y="1400"/>
                </a:lnTo>
                <a:close/>
              </a:path>
              <a:path fill="darken" w="32380" h="21600">
                <a:moveTo>
                  <a:pt x="32380" y="0"/>
                </a:moveTo>
                <a:lnTo>
                  <a:pt x="32380" y="21600"/>
                </a:lnTo>
                <a:lnTo>
                  <a:pt x="30980" y="20200"/>
                </a:lnTo>
                <a:lnTo>
                  <a:pt x="30980" y="1400"/>
                </a:lnTo>
                <a:close/>
              </a:path>
              <a:path fill="darkenLess" w="32380" h="21600">
                <a:moveTo>
                  <a:pt x="32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0" y="20200"/>
                </a:lnTo>
                <a:close/>
              </a:path>
              <a:path fill="lighten" w="32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0" h="21600">
                <a:moveTo>
                  <a:pt x="9183" y="3794"/>
                </a:moveTo>
                <a:lnTo>
                  <a:pt x="23196" y="10800"/>
                </a:lnTo>
                <a:lnTo>
                  <a:pt x="918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Защищала от жары, холода, ветра, дождя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Помогала в тех или иных занятиях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Определяла положение человека в обществе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WordArt 4"/>
          <p:cNvSpPr txBox="1"/>
          <p:nvPr/>
        </p:nvSpPr>
        <p:spPr>
          <a:xfrm>
            <a:off x="684360" y="549360"/>
            <a:ext cx="7848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дежда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b5395"/>
                </a:solidFill>
                <a:latin typeface="Calibri"/>
              </a:rPr>
              <a:t>Мужской костюм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8" descr="саша машафото 006"/>
          <p:cNvPicPr/>
          <p:nvPr/>
        </p:nvPicPr>
        <p:blipFill>
          <a:blip r:embed="rId2"/>
          <a:stretch/>
        </p:blipFill>
        <p:spPr>
          <a:xfrm>
            <a:off x="2786040" y="1228680"/>
            <a:ext cx="3714840" cy="5587920"/>
          </a:xfrm>
          <a:prstGeom prst="rect">
            <a:avLst/>
          </a:prstGeom>
          <a:ln w="9360">
            <a:solidFill>
              <a:srgbClr val="0076a3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06" name="Line 10"/>
          <p:cNvSpPr/>
          <p:nvPr/>
        </p:nvSpPr>
        <p:spPr>
          <a:xfrm>
            <a:off x="1547640" y="1484280"/>
            <a:ext cx="2238480" cy="1158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2"/>
          <p:cNvSpPr/>
          <p:nvPr/>
        </p:nvSpPr>
        <p:spPr>
          <a:xfrm>
            <a:off x="2071800" y="2428920"/>
            <a:ext cx="1163520" cy="722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4"/>
          <p:cNvSpPr/>
          <p:nvPr/>
        </p:nvSpPr>
        <p:spPr>
          <a:xfrm flipV="1">
            <a:off x="2143080" y="3212640"/>
            <a:ext cx="1349280" cy="7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9"/>
          <p:cNvSpPr/>
          <p:nvPr/>
        </p:nvSpPr>
        <p:spPr>
          <a:xfrm flipV="1">
            <a:off x="2071800" y="3499920"/>
            <a:ext cx="1143000" cy="428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1"/>
          <p:cNvSpPr/>
          <p:nvPr/>
        </p:nvSpPr>
        <p:spPr>
          <a:xfrm flipV="1">
            <a:off x="1214280" y="4142880"/>
            <a:ext cx="2500560" cy="785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3"/>
          <p:cNvSpPr/>
          <p:nvPr/>
        </p:nvSpPr>
        <p:spPr>
          <a:xfrm flipV="1">
            <a:off x="1214280" y="4437000"/>
            <a:ext cx="3429000" cy="92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4"/>
          <p:cNvSpPr/>
          <p:nvPr/>
        </p:nvSpPr>
        <p:spPr>
          <a:xfrm flipH="1">
            <a:off x="1186920" y="112536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5"/>
          <p:cNvSpPr/>
          <p:nvPr/>
        </p:nvSpPr>
        <p:spPr>
          <a:xfrm flipH="1">
            <a:off x="1476000" y="206064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6"/>
          <p:cNvSpPr/>
          <p:nvPr/>
        </p:nvSpPr>
        <p:spPr>
          <a:xfrm flipH="1">
            <a:off x="1692360" y="270828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7"/>
          <p:cNvSpPr/>
          <p:nvPr/>
        </p:nvSpPr>
        <p:spPr>
          <a:xfrm flipH="1">
            <a:off x="1763280" y="3284640"/>
            <a:ext cx="716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8"/>
          <p:cNvSpPr/>
          <p:nvPr/>
        </p:nvSpPr>
        <p:spPr>
          <a:xfrm flipH="1">
            <a:off x="1116000" y="4941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0"/>
          <p:cNvSpPr/>
          <p:nvPr/>
        </p:nvSpPr>
        <p:spPr>
          <a:xfrm flipH="1">
            <a:off x="1763280" y="573408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Загнутый угол 22"/>
          <p:cNvSpPr/>
          <p:nvPr/>
        </p:nvSpPr>
        <p:spPr>
          <a:xfrm>
            <a:off x="0" y="1428840"/>
            <a:ext cx="2071800" cy="57132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nstantia"/>
              </a:rPr>
              <a:t>кубанк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Загнутый угол 23"/>
          <p:cNvSpPr/>
          <p:nvPr/>
        </p:nvSpPr>
        <p:spPr>
          <a:xfrm>
            <a:off x="0" y="2143080"/>
            <a:ext cx="2071800" cy="57168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nstantia"/>
              </a:rPr>
              <a:t>черкеск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Загнутый угол 24"/>
          <p:cNvSpPr/>
          <p:nvPr/>
        </p:nvSpPr>
        <p:spPr>
          <a:xfrm>
            <a:off x="0" y="2928960"/>
            <a:ext cx="2071800" cy="57132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nstantia"/>
              </a:rPr>
              <a:t>башлы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Загнутый угол 25"/>
          <p:cNvSpPr/>
          <p:nvPr/>
        </p:nvSpPr>
        <p:spPr>
          <a:xfrm>
            <a:off x="0" y="3714840"/>
            <a:ext cx="2071800" cy="57132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nstantia"/>
              </a:rPr>
              <a:t>газыр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Загнутый угол 26"/>
          <p:cNvSpPr/>
          <p:nvPr/>
        </p:nvSpPr>
        <p:spPr>
          <a:xfrm>
            <a:off x="0" y="4500720"/>
            <a:ext cx="2071800" cy="57132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nstantia"/>
              </a:rPr>
              <a:t>поя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Загнутый угол 27"/>
          <p:cNvSpPr/>
          <p:nvPr/>
        </p:nvSpPr>
        <p:spPr>
          <a:xfrm>
            <a:off x="0" y="5286240"/>
            <a:ext cx="2071800" cy="57168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nstantia"/>
              </a:rPr>
              <a:t>бурк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Загнутый угол 28"/>
          <p:cNvSpPr/>
          <p:nvPr/>
        </p:nvSpPr>
        <p:spPr>
          <a:xfrm>
            <a:off x="0" y="6072120"/>
            <a:ext cx="2071800" cy="57168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nstantia"/>
              </a:rPr>
              <a:t>сапог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ff"/>
                </a:solidFill>
                <a:latin typeface="Calibri"/>
              </a:rPr>
              <a:t>Женский костюм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6" name="Picture 4" descr="саша машафото 008"/>
          <p:cNvPicPr/>
          <p:nvPr/>
        </p:nvPicPr>
        <p:blipFill>
          <a:blip r:embed="rId2"/>
          <a:stretch/>
        </p:blipFill>
        <p:spPr>
          <a:xfrm>
            <a:off x="3112920" y="1935000"/>
            <a:ext cx="2918160" cy="4389480"/>
          </a:xfrm>
          <a:prstGeom prst="rect">
            <a:avLst/>
          </a:prstGeom>
          <a:ln w="0">
            <a:noFill/>
          </a:ln>
        </p:spPr>
      </p:pic>
      <p:sp>
        <p:nvSpPr>
          <p:cNvPr id="227" name="Line 6"/>
          <p:cNvSpPr/>
          <p:nvPr/>
        </p:nvSpPr>
        <p:spPr>
          <a:xfrm>
            <a:off x="2286000" y="3832200"/>
            <a:ext cx="185724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1258920" y="2349360"/>
            <a:ext cx="2955960" cy="100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"/>
          <p:cNvSpPr/>
          <p:nvPr/>
        </p:nvSpPr>
        <p:spPr>
          <a:xfrm>
            <a:off x="1116000" y="2781360"/>
            <a:ext cx="345600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Загнутый угол 7"/>
          <p:cNvSpPr/>
          <p:nvPr/>
        </p:nvSpPr>
        <p:spPr>
          <a:xfrm>
            <a:off x="0" y="1285920"/>
            <a:ext cx="2286000" cy="64296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Парочка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Загнутый угол 8"/>
          <p:cNvSpPr/>
          <p:nvPr/>
        </p:nvSpPr>
        <p:spPr>
          <a:xfrm>
            <a:off x="0" y="2000160"/>
            <a:ext cx="2286000" cy="64296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onstantia"/>
              </a:rPr>
              <a:t>кофт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Загнутый угол 9"/>
          <p:cNvSpPr/>
          <p:nvPr/>
        </p:nvSpPr>
        <p:spPr>
          <a:xfrm>
            <a:off x="0" y="2714760"/>
            <a:ext cx="2286000" cy="64296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onstantia"/>
              </a:rPr>
              <a:t>юб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Загнутый угол 10"/>
          <p:cNvSpPr/>
          <p:nvPr/>
        </p:nvSpPr>
        <p:spPr>
          <a:xfrm>
            <a:off x="0" y="3429000"/>
            <a:ext cx="2286000" cy="64296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3763"/>
                </a:solidFill>
                <a:latin typeface="Constantia"/>
              </a:rPr>
              <a:t>спидниц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Загнутый угол 11"/>
          <p:cNvSpPr/>
          <p:nvPr/>
        </p:nvSpPr>
        <p:spPr>
          <a:xfrm>
            <a:off x="6286680" y="3857760"/>
            <a:ext cx="2286000" cy="64296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onstantia"/>
              </a:rPr>
              <a:t>плато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Загнутый угол 12"/>
          <p:cNvSpPr/>
          <p:nvPr/>
        </p:nvSpPr>
        <p:spPr>
          <a:xfrm>
            <a:off x="6215040" y="3071880"/>
            <a:ext cx="2286000" cy="64296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onstantia"/>
              </a:rPr>
              <a:t>шал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Загнутый угол 13"/>
          <p:cNvSpPr/>
          <p:nvPr/>
        </p:nvSpPr>
        <p:spPr>
          <a:xfrm>
            <a:off x="0" y="4143240"/>
            <a:ext cx="2286000" cy="64296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Обув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Загнутый угол 14"/>
          <p:cNvSpPr/>
          <p:nvPr/>
        </p:nvSpPr>
        <p:spPr>
          <a:xfrm>
            <a:off x="0" y="4857840"/>
            <a:ext cx="2286000" cy="64296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onstantia"/>
              </a:rPr>
              <a:t>башма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Загнутый угол 15"/>
          <p:cNvSpPr/>
          <p:nvPr/>
        </p:nvSpPr>
        <p:spPr>
          <a:xfrm>
            <a:off x="0" y="5572080"/>
            <a:ext cx="2286000" cy="64296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3763"/>
                </a:solidFill>
                <a:latin typeface="Constantia"/>
              </a:rPr>
              <a:t>гусари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Загнутый угол 17"/>
          <p:cNvSpPr/>
          <p:nvPr/>
        </p:nvSpPr>
        <p:spPr>
          <a:xfrm>
            <a:off x="6215040" y="1714680"/>
            <a:ext cx="2500200" cy="121428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Головной убо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Управляющая кнопка: далее 18">
            <a:hlinkClick r:id="rId3" action="ppaction://hlinksldjump"/>
          </p:cNvPr>
          <p:cNvSpPr/>
          <p:nvPr/>
        </p:nvSpPr>
        <p:spPr>
          <a:xfrm>
            <a:off x="7715160" y="607212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6878" y="3794"/>
                </a:moveTo>
                <a:lnTo>
                  <a:pt x="20891" y="10800"/>
                </a:lnTo>
                <a:lnTo>
                  <a:pt x="6878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4"/>
          <p:cNvSpPr txBox="1"/>
          <p:nvPr/>
        </p:nvSpPr>
        <p:spPr>
          <a:xfrm>
            <a:off x="2124000" y="333360"/>
            <a:ext cx="5400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убань 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аш общий дом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42" name="Picture 5" descr="Безимени-1"/>
          <p:cNvPicPr/>
          <p:nvPr/>
        </p:nvPicPr>
        <p:blipFill>
          <a:blip r:embed="rId6"/>
          <a:stretch/>
        </p:blipFill>
        <p:spPr>
          <a:xfrm>
            <a:off x="1619280" y="2276640"/>
            <a:ext cx="641664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0" y="71388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70c0"/>
                </a:solidFill>
                <a:latin typeface="Constantia"/>
              </a:rPr>
              <a:t>Шумят, шумят ,желтеющие нивы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70c0"/>
                </a:solidFill>
                <a:latin typeface="Constantia"/>
              </a:rPr>
              <a:t>Красою сердце весел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70c0"/>
                </a:solidFill>
                <a:latin typeface="Constantia"/>
              </a:rPr>
              <a:t>Родимый край мой 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70c0"/>
                </a:solidFill>
                <a:latin typeface="Constantia"/>
              </a:rPr>
              <a:t>Край судьбы счастливой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70c0"/>
                </a:solidFill>
                <a:latin typeface="Constantia"/>
              </a:rPr>
              <a:t>Земля отцов – моя земл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           </a:t>
            </a:r>
            <a:r>
              <a:rPr b="1" i="1" lang="en-US" sz="2600" spc="-1" strike="noStrike">
                <a:solidFill>
                  <a:srgbClr val="0070c0"/>
                </a:solidFill>
                <a:latin typeface="Constantia"/>
              </a:rPr>
              <a:t>Иван Варавв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06:50:10Z</dcterms:created>
  <dc:creator>Пользователь</dc:creator>
  <dc:description/>
  <dc:language>en-US</dc:language>
  <cp:lastModifiedBy>Андрей и Николай</cp:lastModifiedBy>
  <dcterms:modified xsi:type="dcterms:W3CDTF">2012-08-04T15:13:12Z</dcterms:modified>
  <cp:revision>17</cp:revision>
  <dc:subject/>
  <dc:title>Слайд 1</dc:title>
</cp:coreProperties>
</file>