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E4A-FAD8-40E7-8AED-ED3A48995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7050-7ED9-4D33-81BE-30A950084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1D8-738C-4B85-94D6-A64F7C8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F4C-94EF-4423-B392-335581C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50C-642C-4A6A-B366-ADB5709C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DE5-4AB8-4199-A3D1-F328CE48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52A-8249-4AE0-9D34-452ABC2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931-EACB-49BC-8AE0-8031F057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57F-9216-400E-88F4-8F2CD2CD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08D-A604-44FE-93C6-A5D969EF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DF1-D24B-4E2A-9205-202B2DF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A20-466D-488B-A16E-BD6802C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25C-139A-402E-AD46-A8F652F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AF9-C7AA-4F04-90E3-F320D42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2A8-6EEA-4C07-8092-017CACBD6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95280" y="26028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оду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"Основы православной культур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11280" y="1916280"/>
            <a:ext cx="11523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520" y="228600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овесть и раскаяни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905120" y="5257800"/>
            <a:ext cx="678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http://im3-tub.yandex.net/i?id=11890992-01"/>
          <p:cNvPicPr/>
          <p:nvPr/>
        </p:nvPicPr>
        <p:blipFill>
          <a:blip r:embed="rId1"/>
          <a:stretch/>
        </p:blipFill>
        <p:spPr>
          <a:xfrm>
            <a:off x="4952880" y="39625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im5-tub.yandex.net/i?id=112964719-05"/>
          <p:cNvPicPr/>
          <p:nvPr/>
        </p:nvPicPr>
        <p:blipFill>
          <a:blip r:embed="rId2"/>
          <a:stretch/>
        </p:blipFill>
        <p:spPr>
          <a:xfrm>
            <a:off x="60948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Совесть"/>
          <p:cNvPicPr/>
          <p:nvPr/>
        </p:nvPicPr>
        <p:blipFill>
          <a:blip r:embed="rId1"/>
          <a:stretch/>
        </p:blipFill>
        <p:spPr>
          <a:xfrm>
            <a:off x="1371600" y="762120"/>
            <a:ext cx="6477120" cy="571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04920" y="228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Гайдар «Совес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04920" y="304920"/>
            <a:ext cx="8686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Карнаухова не приготовила урока по алгебре и решила не идти в школ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, чтобы знакомые случайно не увидели, как она во время рабочего дня болтается с книгами по городу, Нина украдкой прошла в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ожив пакет с завтраком и связку книг под куст, она побежала догонять красивую бабочку и наткнулась на малыша, который смотрел на нее добрыми, доверчивыми глаз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так как в руке он сжимал букварь с заложенной в него тетрадкой, то Нина смекнула, в чем дело, и решила над ним подшут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счастный прогульщик! - строго сказала она. - И это с таких юных лет ты уже обманываешь родителей и школ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т! - удивленно ответил малыш. - Я просто шел на урок. Но тут в лесу ходит большая собака. Она залаяла, и я заблудил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нахмурилась. Но этот малыш был такой смешной и добродушный, что ей пришлось взять его за руку и повести через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связка Нининых книг и завтрак так и остались лежать под кустом, потому что поднять их перед малышом теперь было бы стыд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шмыгнула из-за ветвей собака, книг не тронула, а завтрак съ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рнулась Нина, села и заплакала. Нет! Не жалко ей было украденного завтрака. Но слишком хорошо пели над ее головой веселые птицы. И очень тяжело было на ее сердце, которое грызла беспощадная сове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Фильм.wmv" descr=""/>
          <p:cNvPicPr/>
          <p:nvPr/>
        </p:nvPicPr>
        <p:blipFill>
          <a:blip r:embed="rId1"/>
          <a:stretch/>
        </p:blipFill>
        <p:spPr>
          <a:xfrm>
            <a:off x="838080" y="39996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258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914400" y="11430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КАЯНИЕ 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или покаяние)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327672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изменение той оценки, которую человек дает своим поступ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im2-tub.yandex.net/i?id=155810128-00"/>
          <p:cNvPicPr/>
          <p:nvPr/>
        </p:nvPicPr>
        <p:blipFill>
          <a:blip r:embed="rId1"/>
          <a:stretch/>
        </p:blipFill>
        <p:spPr>
          <a:xfrm>
            <a:off x="1066680" y="304812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2-3 предложения, в которых говорится о спасении в православной культуре. Объяснить значение понятий добро и зло в этих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3-tub.yandex.net/i?id=182607045-05"/>
          <p:cNvPicPr/>
          <p:nvPr/>
        </p:nvPicPr>
        <p:blipFill>
          <a:blip r:embed="rId1"/>
          <a:stretch/>
        </p:blipFill>
        <p:spPr>
          <a:xfrm>
            <a:off x="609480" y="1371600"/>
            <a:ext cx="350532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6-tub.yandex.net/i?id=176158947-07"/>
          <p:cNvPicPr/>
          <p:nvPr/>
        </p:nvPicPr>
        <p:blipFill>
          <a:blip r:embed="rId2"/>
          <a:stretch/>
        </p:blipFill>
        <p:spPr>
          <a:xfrm>
            <a:off x="4724280" y="129528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76520" y="380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ди дело, противоположное совершенному гре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9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2895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5800" y="4114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ЖАДНИ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Л ЗЛ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6386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715000" y="2971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СИ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791320" y="4343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640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ЕРИСЬ СИЛ СКАЗАТЬ ПРА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286000" y="2438280"/>
            <a:ext cx="33526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362320" y="3352680"/>
            <a:ext cx="30477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V="1">
            <a:off x="3505320" y="25142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3505320" y="34286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текст.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ться найти и выполнить дело, за которое вам не было бы сты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рассказ «Добро и зло в православных традиция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im8-tub.yandex.net/i?id=30117987-01"/>
          <p:cNvPicPr/>
          <p:nvPr/>
        </p:nvPicPr>
        <p:blipFill>
          <a:blip r:embed="rId1"/>
          <a:stretch/>
        </p:blipFill>
        <p:spPr>
          <a:xfrm>
            <a:off x="5029200" y="434340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066680" y="2362320"/>
            <a:ext cx="70866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572000" y="15228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Воспитание всему причиной, и доброму и зло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вятитель Феофан Затв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im7-tub.yandex.net/i?id=768981-01"/>
          <p:cNvPicPr/>
          <p:nvPr/>
        </p:nvPicPr>
        <p:blipFill>
          <a:blip r:embed="rId1"/>
          <a:stretch/>
        </p:blipFill>
        <p:spPr>
          <a:xfrm>
            <a:off x="609480" y="274320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человек может сделать свою душу бога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а хвалят, его душа стано-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 приобретает материаль-ные блага, его душа тоже стано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больше человек отдаёт людям, тем больше приобретает для с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 В чём главное отличие человека от живот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имеет дар слова, умеет мыслить, сострадать, делать добро, помогать нуждаю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й ви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е отличается от животного ни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4-tub.yandex.net/i?id=85872140-02"/>
          <p:cNvPicPr/>
          <p:nvPr/>
        </p:nvPicPr>
        <p:blipFill>
          <a:blip r:embed="rId1"/>
          <a:stretch/>
        </p:blipFill>
        <p:spPr>
          <a:xfrm>
            <a:off x="457200" y="502920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m7-tub.yandex.net/i?id=37648005-00"/>
          <p:cNvPicPr/>
          <p:nvPr/>
        </p:nvPicPr>
        <p:blipFill>
          <a:blip r:embed="rId2"/>
          <a:stretch/>
        </p:blipFill>
        <p:spPr>
          <a:xfrm>
            <a:off x="3200400" y="51055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4-tub.yandex.net/i?id=94828968-03"/>
          <p:cNvPicPr/>
          <p:nvPr/>
        </p:nvPicPr>
        <p:blipFill>
          <a:blip r:embed="rId3"/>
          <a:stretch/>
        </p:blipFill>
        <p:spPr>
          <a:xfrm>
            <a:off x="5715000" y="502920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3. В чём проявляется «Образ Божий» в человек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достойном повед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любить, в способности выбрать путь добрых дел и поступ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подстраиваться под текущую си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im3-tub.yandex.net/i?id=6521436-02"/>
          <p:cNvPicPr/>
          <p:nvPr/>
        </p:nvPicPr>
        <p:blipFill>
          <a:blip r:embed="rId1"/>
          <a:stretch/>
        </p:blipFill>
        <p:spPr>
          <a:xfrm>
            <a:off x="5715000" y="411480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тча о пшенице и плевел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арство Небесное подобно человеку, посеявшему доброе с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оле своем. Когда же люди спали, пришёл враг его и посея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шеницею плевелы и ушё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взошла зелень и показался плод, тогда явилис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евелы. Пришедши же рабы домовладыки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Господин! Не доброе ли семя сеял ты на поле твоем? 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 на нем плеве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же сказал 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раг человек сделал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рабы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Хочешь ли, мы пойдем, выберем 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он сказа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т, чтобы выбирая плевелы, вы не выдергали вместе с 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шеницы. Оставьте расти вместе то и другое до жатвы; и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жатвы я скажу жнецам: соберите прежде плевелы и свяжите их в связки, чтобы сжечь их; а пшеницу уберите в житницу 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495680" y="1066680"/>
            <a:ext cx="42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росту души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другим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радует Б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95680" y="327672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 удаляет от этих добрых целей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95680" y="472428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недоброе  чувство, мысль или дело. Грех противоречит голосу совести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457200" y="1066680"/>
            <a:ext cx="37908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990720" y="3200400"/>
            <a:ext cx="223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Л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14400" y="49528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Х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152280" y="228600"/>
            <a:ext cx="3276360" cy="2133360"/>
            <a:chOff x="152280" y="228600"/>
            <a:chExt cx="3276360" cy="2133360"/>
          </a:xfrm>
        </p:grpSpPr>
        <p:pic>
          <p:nvPicPr>
            <p:cNvPr id="75" name="Picture 4" descr="старушка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152784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дети"/>
            <p:cNvPicPr/>
            <p:nvPr/>
          </p:nvPicPr>
          <p:blipFill>
            <a:blip r:embed="rId2"/>
            <a:stretch/>
          </p:blipFill>
          <p:spPr>
            <a:xfrm>
              <a:off x="1607040" y="228600"/>
              <a:ext cx="1821600" cy="20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7" descr="не уступае место"/>
          <p:cNvPicPr/>
          <p:nvPr/>
        </p:nvPicPr>
        <p:blipFill>
          <a:blip r:embed="rId3"/>
          <a:stretch/>
        </p:blipFill>
        <p:spPr>
          <a:xfrm>
            <a:off x="3200400" y="990720"/>
            <a:ext cx="3460680" cy="256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гнездо"/>
          <p:cNvPicPr/>
          <p:nvPr/>
        </p:nvPicPr>
        <p:blipFill>
          <a:blip r:embed="rId4"/>
          <a:stretch/>
        </p:blipFill>
        <p:spPr>
          <a:xfrm>
            <a:off x="6934320" y="380880"/>
            <a:ext cx="1968480" cy="510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драка"/>
          <p:cNvPicPr/>
          <p:nvPr/>
        </p:nvPicPr>
        <p:blipFill>
          <a:blip r:embed="rId5"/>
          <a:stretch/>
        </p:blipFill>
        <p:spPr>
          <a:xfrm>
            <a:off x="4267080" y="3733920"/>
            <a:ext cx="3353040" cy="28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дерево 1"/>
          <p:cNvPicPr/>
          <p:nvPr/>
        </p:nvPicPr>
        <p:blipFill>
          <a:blip r:embed="rId6"/>
          <a:stretch/>
        </p:blipFill>
        <p:spPr>
          <a:xfrm>
            <a:off x="457200" y="2590920"/>
            <a:ext cx="31528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8"/>
          <p:cNvGrpSpPr/>
          <p:nvPr/>
        </p:nvGrpSpPr>
        <p:grpSpPr>
          <a:xfrm>
            <a:off x="152280" y="152280"/>
            <a:ext cx="2743200" cy="3492360"/>
            <a:chOff x="152280" y="152280"/>
            <a:chExt cx="2743200" cy="3492360"/>
          </a:xfrm>
        </p:grpSpPr>
        <p:pic>
          <p:nvPicPr>
            <p:cNvPr id="82" name="Picture 4" descr="апостол Петр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2219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52280" y="31240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постол Пё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228600" y="0"/>
            <a:ext cx="8686800" cy="6692760"/>
            <a:chOff x="228600" y="0"/>
            <a:chExt cx="8686800" cy="6692760"/>
          </a:xfrm>
        </p:grpSpPr>
        <p:sp>
          <p:nvSpPr>
            <p:cNvPr id="85" name="Text Box 6"/>
            <p:cNvSpPr/>
            <p:nvPr/>
          </p:nvSpPr>
          <p:spPr>
            <a:xfrm>
              <a:off x="2819520" y="0"/>
              <a:ext cx="609588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рывок из Евангелия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             «Отречение Пет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Евангелие рассказывает, как один из самых близких учеников Христа апостол Петр убежал в минуту ареста Учителя. Всю ночь он таился людей. Наконец одна женщина присмотрелась к нему и сказала: «Так вот он всегда ходил с этим арестованным Иисусом!». Петр стал отпираться: «Не знаю, что ты говоришь». Он сделал несколько шагов, и вновь люди заголосили: «Да, точно, этот был с тем преступником!». И снова Петр отрёкся, даже поклявшись, что не знает Иисус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28600" y="3581280"/>
              <a:ext cx="8686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Через час ему пришлось ещё раз поклясться в том же самом. Так за одну ночь он  трижды отрёкся от Хрис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И тут петух пропел утреннюю зарю... И Петр вспомнил, что еще вечером Христос сказал ему слова, оказавшиеся пророчеством: «истинно говорю тебе, что в эту ночь, прежде нежели пропоет петух, трижды отречёшься от Меня»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огда Петр мужественно ответил: «хотя бы надлежало мне и умереть с Тобою, не отрекусь от Тебя». Теперь же при крике петуха Петр вспомнил это предсказание Христа и заплакал от горького стыда. В этих слезах обновилась его душа. Впредь он не будет бояться ничего, будет проповедовать учение Христа и за это будет казне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tr</cp:lastModifiedBy>
  <dcterms:modified xsi:type="dcterms:W3CDTF">2001-12-31T22:25:4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