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EF3A-2039-4EE8-8191-C4977DA625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DF19-102B-4605-B978-E51F8D5136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3E0-EC19-46EC-9CEA-7AABDC79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3D74-F609-4C14-96E1-43542B02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87A-F3D2-4E06-94FD-FE8E9C1D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D29-E902-4A65-AA40-2841B108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425-E459-4391-8542-B553D204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AA8-212E-4477-9469-9343F42E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423-C89B-49AD-A6FC-1C7F7D7B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25E-329B-4D69-B5BA-C6865158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760-F018-4DB5-B823-61F0A823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6B6-FD70-416F-93C6-226E6F81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2E9-A843-43BC-B4D5-3AAF8CAE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5A3-88A2-44A2-8402-E9A96403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6DF4-3C9C-424F-A339-A55033AB8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95280" y="260280"/>
            <a:ext cx="828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Модул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"Основы православной культур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611280" y="1916280"/>
            <a:ext cx="1152360" cy="40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ем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533520" y="228600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Совесть и раскаяние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905120" y="5257800"/>
            <a:ext cx="6781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http://im3-tub.yandex.net/i?id=11890992-01"/>
          <p:cNvPicPr/>
          <p:nvPr/>
        </p:nvPicPr>
        <p:blipFill>
          <a:blip r:embed="rId1"/>
          <a:stretch/>
        </p:blipFill>
        <p:spPr>
          <a:xfrm>
            <a:off x="4952880" y="3962520"/>
            <a:ext cx="3429000" cy="2438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http://im5-tub.yandex.net/i?id=112964719-05"/>
          <p:cNvPicPr/>
          <p:nvPr/>
        </p:nvPicPr>
        <p:blipFill>
          <a:blip r:embed="rId2"/>
          <a:stretch/>
        </p:blipFill>
        <p:spPr>
          <a:xfrm>
            <a:off x="609480" y="388620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Совесть"/>
          <p:cNvPicPr/>
          <p:nvPr/>
        </p:nvPicPr>
        <p:blipFill>
          <a:blip r:embed="rId1"/>
          <a:stretch/>
        </p:blipFill>
        <p:spPr>
          <a:xfrm>
            <a:off x="1371600" y="762120"/>
            <a:ext cx="6477120" cy="5719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04920" y="228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Гайдар «Совесть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304920" y="304920"/>
            <a:ext cx="8686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ина Карнаухова не приготовила урока по алгебре и решила не идти в школ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, чтобы знакомые случайно не увидели, как она во время рабочего дня болтается с книгами по городу, Нина украдкой прошла в рощ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ложив пакет с завтраком и связку книг под куст, она побежала догонять красивую бабочку и наткнулась на малыша, который смотрел на нее добрыми, доверчивыми глаза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 так как в руке он сжимал букварь с заложенной в него тетрадкой, то Нина смекнула, в чем дело, и решила над ним подшути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Несчастный прогульщик! - строго сказала она. - И это с таких юных лет ты уже обманываешь родителей и школу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Нет! - удивленно ответил малыш. - Я просто шел на урок. Но тут в лесу ходит большая собака. Она залаяла, и я заблудилс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ина нахмурилась. Но этот малыш был такой смешной и добродушный, что ей пришлось взять его за руку и повести через рощ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 связка Нининых книг и завтрак так и остались лежать под кустом, потому что поднять их перед малышом теперь было бы стыд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шмыгнула из-за ветвей собака, книг не тронула, а завтрак съ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ернулась Нина, села и заплакала. Нет! Не жалко ей было украденного завтрака. Но слишком хорошо пели над ее головой веселые птицы. И очень тяжело было на ее сердце, которое грызла беспощадная сове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Фильм.wmv" descr=""/>
          <p:cNvPicPr/>
          <p:nvPr/>
        </p:nvPicPr>
        <p:blipFill>
          <a:blip r:embed="rId1"/>
          <a:stretch/>
        </p:blipFill>
        <p:spPr>
          <a:xfrm>
            <a:off x="838080" y="39996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258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914400" y="1143000"/>
            <a:ext cx="5867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КАЯНИЕ </a:t>
            </a:r>
            <a:endParaRPr b="0" i="1" lang="en-US" sz="32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или покаяние)</a:t>
            </a:r>
            <a:endParaRPr b="0" i="1" lang="en-US" sz="32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5680" y="3276720"/>
            <a:ext cx="42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о изменение той оценки, которую человек дает своим поступк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http://im2-tub.yandex.net/i?id=155810128-00"/>
          <p:cNvPicPr/>
          <p:nvPr/>
        </p:nvPicPr>
        <p:blipFill>
          <a:blip r:embed="rId1"/>
          <a:stretch/>
        </p:blipFill>
        <p:spPr>
          <a:xfrm>
            <a:off x="1066680" y="3048120"/>
            <a:ext cx="2362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исать 2-3 предложения, в которых говорится о спасении в православной культуре. Объяснить значение понятий добро и зло в этих предлож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im3-tub.yandex.net/i?id=182607045-05"/>
          <p:cNvPicPr/>
          <p:nvPr/>
        </p:nvPicPr>
        <p:blipFill>
          <a:blip r:embed="rId1"/>
          <a:stretch/>
        </p:blipFill>
        <p:spPr>
          <a:xfrm>
            <a:off x="609480" y="1371600"/>
            <a:ext cx="350532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im6-tub.yandex.net/i?id=176158947-07"/>
          <p:cNvPicPr/>
          <p:nvPr/>
        </p:nvPicPr>
        <p:blipFill>
          <a:blip r:embed="rId2"/>
          <a:stretch/>
        </p:blipFill>
        <p:spPr>
          <a:xfrm>
            <a:off x="4724280" y="1295280"/>
            <a:ext cx="3429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676520" y="3808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йди дело, противоположное совершенному гре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9051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85800" y="28954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ЛГ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85800" y="4114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ЖАДНИЧ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85800" y="49528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АЛ ЗЛОЕ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638680" y="1981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А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5715000" y="29718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РОСИ ПРО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791320" y="4343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486400" y="5029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ЕРИСЬ СИЛ СКАЗАТЬ ПРА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2286000" y="2438280"/>
            <a:ext cx="33526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362320" y="3352680"/>
            <a:ext cx="304776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 flipV="1">
            <a:off x="3505320" y="251424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 flipV="1">
            <a:off x="3505320" y="342864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текст. Ответить на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раться найти и выполнить дело, за которое вам не было бы сты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рассказ «Добро и зло в православных традициях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ttp://im8-tub.yandex.net/i?id=30117987-01"/>
          <p:cNvPicPr/>
          <p:nvPr/>
        </p:nvPicPr>
        <p:blipFill>
          <a:blip r:embed="rId1"/>
          <a:stretch/>
        </p:blipFill>
        <p:spPr>
          <a:xfrm>
            <a:off x="5029200" y="434340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1066680" y="2362320"/>
            <a:ext cx="708660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ЕШИТЕ ДЕЛАТЬ ДОБРО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572000" y="152280"/>
            <a:ext cx="434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Воспитание всему причиной, и доброму и злом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вятитель Феофан Затвор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im7-tub.yandex.net/i?id=768981-01"/>
          <p:cNvPicPr/>
          <p:nvPr/>
        </p:nvPicPr>
        <p:blipFill>
          <a:blip r:embed="rId1"/>
          <a:stretch/>
        </p:blipFill>
        <p:spPr>
          <a:xfrm>
            <a:off x="609480" y="2743200"/>
            <a:ext cx="3200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к человек может сделать свою душу богач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человека хвалят, его душа стано-вится богач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человек приобретает материаль-ные блага, его душа тоже становится богач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больше человек отдаёт людям, тем больше приобретает для с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2. В чём главное отличие человека от животного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имеет дар слова, умеет мыслить, сострадать, делать добро, помогать нуждающим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ий ви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не отличается от животного нич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im4-tub.yandex.net/i?id=85872140-02"/>
          <p:cNvPicPr/>
          <p:nvPr/>
        </p:nvPicPr>
        <p:blipFill>
          <a:blip r:embed="rId1"/>
          <a:stretch/>
        </p:blipFill>
        <p:spPr>
          <a:xfrm>
            <a:off x="457200" y="5029200"/>
            <a:ext cx="259092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im7-tub.yandex.net/i?id=37648005-00"/>
          <p:cNvPicPr/>
          <p:nvPr/>
        </p:nvPicPr>
        <p:blipFill>
          <a:blip r:embed="rId2"/>
          <a:stretch/>
        </p:blipFill>
        <p:spPr>
          <a:xfrm>
            <a:off x="3200400" y="5105520"/>
            <a:ext cx="2209680" cy="144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im4-tub.yandex.net/i?id=94828968-03"/>
          <p:cNvPicPr/>
          <p:nvPr/>
        </p:nvPicPr>
        <p:blipFill>
          <a:blip r:embed="rId3"/>
          <a:stretch/>
        </p:blipFill>
        <p:spPr>
          <a:xfrm>
            <a:off x="5715000" y="5029200"/>
            <a:ext cx="2590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3. В чём проявляется «Образ Божий» в человек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достойном повед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мении любить, в способности выбрать путь добрых дел и поступ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мении подстраиваться под текущую ситу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im3-tub.yandex.net/i?id=6521436-02"/>
          <p:cNvPicPr/>
          <p:nvPr/>
        </p:nvPicPr>
        <p:blipFill>
          <a:blip r:embed="rId1"/>
          <a:stretch/>
        </p:blipFill>
        <p:spPr>
          <a:xfrm>
            <a:off x="5715000" y="411480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тча о пшенице и плевела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240" y="7617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арство Небесное подобно человеку, посеявшему доброе с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оле своем. Когда же люди спали, пришёл враг его и посея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 пшеницею плевелы и ушё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взошла зелень и показался плод, тогда явилис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евелы. Пришедши же рабы домовладыки сказали ем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Господин! Не доброе ли семя сеял ты на поле твоем? Отк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 на нем плевел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же сказал 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Враг человек сделал э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рабы сказали ем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Хочешь ли, мы пойдем, выберем и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он сказа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ет, чтобы выбирая плевелы, вы не выдергали вместе с н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шеницы. Оставьте расти вместе то и другое до жатвы; и 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я жатвы я скажу жнецам: соберите прежде плевелы и свяжите их в связки, чтобы сжечь их; а пшеницу уберите в житницу м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4495680" y="1066680"/>
            <a:ext cx="42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т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помогает росту души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помогает другим люд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радует Б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495680" y="3276720"/>
            <a:ext cx="42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то, что удаляет от этих добрых целей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495680" y="4724280"/>
            <a:ext cx="42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о недоброе  чувство, мысль или дело. Грех противоречит голосу совести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457200" y="1066680"/>
            <a:ext cx="3790800" cy="6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БРО</a:t>
            </a:r>
            <a:endParaRPr b="0" i="1" lang="en-US" sz="32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990720" y="3200400"/>
            <a:ext cx="223200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ЛО</a:t>
            </a:r>
            <a:endParaRPr b="0" i="1" lang="en-US" sz="32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914400" y="4952880"/>
            <a:ext cx="2819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ЕХ</a:t>
            </a:r>
            <a:endParaRPr b="0" i="1" lang="en-US" sz="32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6"/>
          <p:cNvGrpSpPr/>
          <p:nvPr/>
        </p:nvGrpSpPr>
        <p:grpSpPr>
          <a:xfrm>
            <a:off x="152280" y="228600"/>
            <a:ext cx="3276360" cy="2133360"/>
            <a:chOff x="152280" y="228600"/>
            <a:chExt cx="3276360" cy="2133360"/>
          </a:xfrm>
        </p:grpSpPr>
        <p:pic>
          <p:nvPicPr>
            <p:cNvPr id="75" name="Picture 4" descr="старушка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1527840" cy="21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5" descr="дети"/>
            <p:cNvPicPr/>
            <p:nvPr/>
          </p:nvPicPr>
          <p:blipFill>
            <a:blip r:embed="rId2"/>
            <a:stretch/>
          </p:blipFill>
          <p:spPr>
            <a:xfrm>
              <a:off x="1607040" y="228600"/>
              <a:ext cx="1821600" cy="209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Picture 7" descr="не уступае место"/>
          <p:cNvPicPr/>
          <p:nvPr/>
        </p:nvPicPr>
        <p:blipFill>
          <a:blip r:embed="rId3"/>
          <a:stretch/>
        </p:blipFill>
        <p:spPr>
          <a:xfrm>
            <a:off x="3200400" y="990720"/>
            <a:ext cx="3460680" cy="2565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гнездо"/>
          <p:cNvPicPr/>
          <p:nvPr/>
        </p:nvPicPr>
        <p:blipFill>
          <a:blip r:embed="rId4"/>
          <a:stretch/>
        </p:blipFill>
        <p:spPr>
          <a:xfrm>
            <a:off x="6934320" y="380880"/>
            <a:ext cx="1968480" cy="5105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драка"/>
          <p:cNvPicPr/>
          <p:nvPr/>
        </p:nvPicPr>
        <p:blipFill>
          <a:blip r:embed="rId5"/>
          <a:stretch/>
        </p:blipFill>
        <p:spPr>
          <a:xfrm>
            <a:off x="4267080" y="3733920"/>
            <a:ext cx="3353040" cy="286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дерево 1"/>
          <p:cNvPicPr/>
          <p:nvPr/>
        </p:nvPicPr>
        <p:blipFill>
          <a:blip r:embed="rId6"/>
          <a:stretch/>
        </p:blipFill>
        <p:spPr>
          <a:xfrm>
            <a:off x="457200" y="2590920"/>
            <a:ext cx="31528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8"/>
          <p:cNvGrpSpPr/>
          <p:nvPr/>
        </p:nvGrpSpPr>
        <p:grpSpPr>
          <a:xfrm>
            <a:off x="152280" y="152280"/>
            <a:ext cx="2743200" cy="3492360"/>
            <a:chOff x="152280" y="152280"/>
            <a:chExt cx="2743200" cy="3492360"/>
          </a:xfrm>
        </p:grpSpPr>
        <p:pic>
          <p:nvPicPr>
            <p:cNvPr id="82" name="Picture 4" descr="апостол Петр"/>
            <p:cNvPicPr/>
            <p:nvPr/>
          </p:nvPicPr>
          <p:blipFill>
            <a:blip r:embed="rId1"/>
            <a:stretch/>
          </p:blipFill>
          <p:spPr>
            <a:xfrm>
              <a:off x="380880" y="152280"/>
              <a:ext cx="221940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5"/>
            <p:cNvSpPr/>
            <p:nvPr/>
          </p:nvSpPr>
          <p:spPr>
            <a:xfrm>
              <a:off x="152280" y="312408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апостол Пёт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228600" y="0"/>
            <a:ext cx="8686800" cy="6692760"/>
            <a:chOff x="228600" y="0"/>
            <a:chExt cx="8686800" cy="6692760"/>
          </a:xfrm>
        </p:grpSpPr>
        <p:sp>
          <p:nvSpPr>
            <p:cNvPr id="85" name="Text Box 6"/>
            <p:cNvSpPr/>
            <p:nvPr/>
          </p:nvSpPr>
          <p:spPr>
            <a:xfrm>
              <a:off x="2819520" y="0"/>
              <a:ext cx="609588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трывок из Евангелия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              «Отречение Петр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Евангелие рассказывает, как один из самых близких учеников Христа апостол Петр убежал в минуту ареста Учителя. Всю ночь он таился людей. Наконец одна женщина присмотрелась к нему и сказала: «Так вот он всегда ходил с этим арестованным Иисусом!». Петр стал отпираться: «Не знаю, что ты говоришь». Он сделал несколько шагов, и вновь люди заголосили: «Да, точно, этот был с тем преступником!». И снова Петр отрёкся, даже поклявшись, что не знает Иисуса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228600" y="3581280"/>
              <a:ext cx="868680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Через час ему пришлось ещё раз поклясться в том же самом. Так за одну ночь он  трижды отрёкся от Христ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И тут петух пропел утреннюю зарю... И Петр вспомнил, что еще вечером Христос сказал ему слова, оказавшиеся пророчеством: «истинно говорю тебе, что в эту ночь, прежде нежели пропоет петух, трижды отречёшься от Меня»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огда Петр мужественно ответил: «хотя бы надлежало мне и умереть с Тобою, не отрекусь от Тебя». Теперь же при крике петуха Петр вспомнил это предсказание Христа и заплакал от горького стыда. В этих слезах обновилась его душа. Впредь он не будет бояться ничего, будет проповедовать учение Христа и за это будет казнен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tr</cp:lastModifiedBy>
  <dcterms:modified xsi:type="dcterms:W3CDTF">2001-12-31T22:25:4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