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2862D7D1-BE2F-415F-94EE-7CF8FAF3AECA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2" descr="nn,b,b,b,n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428840" y="428760"/>
            <a:ext cx="68770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86e2"/>
                </a:solidFill>
                <a:latin typeface="Times New Roman"/>
                <a:ea typeface="Times New Roman"/>
              </a:rPr>
              <a:t>МОУ «СОШ с. Агафоновка Питерского района Саратов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TextBox 3" descr=""/>
          <p:cNvPicPr/>
          <p:nvPr/>
        </p:nvPicPr>
        <p:blipFill>
          <a:blip r:embed="rId2"/>
          <a:stretch/>
        </p:blipFill>
        <p:spPr>
          <a:xfrm>
            <a:off x="201600" y="1566720"/>
            <a:ext cx="6095880" cy="2541600"/>
          </a:xfrm>
          <a:prstGeom prst="rect">
            <a:avLst/>
          </a:prstGeom>
          <a:ln w="0">
            <a:noFill/>
          </a:ln>
        </p:spPr>
      </p:pic>
      <p:sp>
        <p:nvSpPr>
          <p:cNvPr id="41" name="TextBox 4"/>
          <p:cNvSpPr/>
          <p:nvPr/>
        </p:nvSpPr>
        <p:spPr>
          <a:xfrm>
            <a:off x="2857680" y="5072040"/>
            <a:ext cx="60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Учитель физики: Дзюрич Елен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Осенью у трамвайных путей, идущих под уклон вблизи деревьев, вывешивается табличка «Листопад. Берегись юза!»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Что такое юз?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Чем вызвано</a:t>
            </a: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     появление такой </a:t>
            </a:r>
            <a:br>
              <a:rPr sz="2800"/>
            </a:br>
            <a:r>
              <a:rPr b="0" lang="ru-RU" sz="2800" spc="-1" strike="noStrike">
                <a:solidFill>
                  <a:srgbClr val="235cb1"/>
                </a:solidFill>
                <a:latin typeface="Arial"/>
              </a:rPr>
              <a:t>                       надпис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i (8).jpg"/>
          <p:cNvPicPr/>
          <p:nvPr/>
        </p:nvPicPr>
        <p:blipFill>
          <a:blip r:embed="rId1"/>
          <a:stretch/>
        </p:blipFill>
        <p:spPr>
          <a:xfrm>
            <a:off x="4643280" y="2573280"/>
            <a:ext cx="3786480" cy="2679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Тихая вода подмывает берег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172615_344014.jpg"/>
          <p:cNvPicPr/>
          <p:nvPr/>
        </p:nvPicPr>
        <p:blipFill>
          <a:blip r:embed="rId1"/>
          <a:stretch/>
        </p:blipFill>
        <p:spPr>
          <a:xfrm>
            <a:off x="4286160" y="2071800"/>
            <a:ext cx="410868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луг от работы  блестит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3" descr="i (9).jpg"/>
          <p:cNvPicPr/>
          <p:nvPr/>
        </p:nvPicPr>
        <p:blipFill>
          <a:blip r:embed="rId1"/>
          <a:stretch/>
        </p:blipFill>
        <p:spPr>
          <a:xfrm>
            <a:off x="3591000" y="1730520"/>
            <a:ext cx="3909960" cy="284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оси коса, пока роса; роса долой, и мы домой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3" descr="i (3).jpg"/>
          <p:cNvPicPr/>
          <p:nvPr/>
        </p:nvPicPr>
        <p:blipFill>
          <a:blip r:embed="rId1"/>
          <a:stretch/>
        </p:blipFill>
        <p:spPr>
          <a:xfrm>
            <a:off x="3071880" y="2571840"/>
            <a:ext cx="390996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орабли спускают, так салом подмазываю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article4422.jpg"/>
          <p:cNvPicPr/>
          <p:nvPr/>
        </p:nvPicPr>
        <p:blipFill>
          <a:blip r:embed="rId1"/>
          <a:stretch/>
        </p:blipFill>
        <p:spPr>
          <a:xfrm>
            <a:off x="3429000" y="1928880"/>
            <a:ext cx="438480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кусок хозяйственного мыла легче разрезать крепкой ниткой, чем нож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i (5).jpg"/>
          <p:cNvPicPr/>
          <p:nvPr/>
        </p:nvPicPr>
        <p:blipFill>
          <a:blip r:embed="rId1"/>
          <a:stretch/>
        </p:blipFill>
        <p:spPr>
          <a:xfrm>
            <a:off x="4429080" y="2714760"/>
            <a:ext cx="3467160" cy="263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зимой дорожки посыпают соль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i (4).jpg"/>
          <p:cNvPicPr/>
          <p:nvPr/>
        </p:nvPicPr>
        <p:blipFill>
          <a:blip r:embed="rId1"/>
          <a:stretch/>
        </p:blipFill>
        <p:spPr>
          <a:xfrm>
            <a:off x="3571920" y="2422440"/>
            <a:ext cx="3286080" cy="2441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меньшается глубина рельефного рисунка на колесах тракторов, зерноуборочных комбайнов и другой сельскохозяйственной технике по мере ее эксплуатаци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e40259020851dfbb12386098cd44631a.jpg"/>
          <p:cNvPicPr/>
          <p:nvPr/>
        </p:nvPicPr>
        <p:blipFill>
          <a:blip r:embed="rId1"/>
          <a:stretch/>
        </p:blipFill>
        <p:spPr>
          <a:xfrm>
            <a:off x="4000680" y="2214720"/>
            <a:ext cx="439236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легкоатлеты надевают спортивную обувь с шип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i (7).jpg"/>
          <p:cNvPicPr/>
          <p:nvPr/>
        </p:nvPicPr>
        <p:blipFill>
          <a:blip r:embed="rId1"/>
          <a:stretch/>
        </p:blipFill>
        <p:spPr>
          <a:xfrm>
            <a:off x="4000680" y="2571840"/>
            <a:ext cx="377640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Какие понятия мы повтор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Что нового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Чем запомнился  вам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d0d0d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                   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Оцените свою работу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тветы к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2408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32, подобрать 3,4 пословицы на тему «Сила тр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желанию подготовить презентацию или буклет по теме «Трение в природе и техник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4200" y="1143000"/>
            <a:ext cx="8715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d.exdat.com/pars_docs/tw_refs/578/577016/577016_html_347b626a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7-tub-ru.yandex.net/i?id=140373743-49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4-tub-ru.yandex.net/i?id=137823746-29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bm.img.com.ua/img/prikol/images/large/5/1/172615_34401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3-tub-ru.yandex.net/i?id=510769990-30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1-tub-ru.yandex.net/i?id=251028368-50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2-tub-ru.yandex.net/i?id=226509706-35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5-tub-ru.yandex.net/i?id=144812129-13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7-tub-ru.yandex.net/i?id=274105974-05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7-tub-ru.yandex.net/i?id=711459-24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2-tub-ru.yandex.net/i?id=92987697-35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1-tub-ru.yandex.net/i?id=427068993-31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5-tub-ru.yandex.net/i?id=575017404-42-72&amp;n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price-list.kiev.ua/img/board_files/04_02_2011/e40259020851dfbb12386098cd44631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35cb1"/>
                </a:solidFill>
                <a:latin typeface="Times New Roman"/>
                <a:ea typeface="Times New Roman"/>
              </a:rPr>
              <a:t>Трение - полезно или вредн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ль силы трения при ходь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0007-006-CHto-vygodnee-kachenie-ili-skolzhenie.jpg"/>
          <p:cNvPicPr/>
          <p:nvPr/>
        </p:nvPicPr>
        <p:blipFill>
          <a:blip r:embed="rId1"/>
          <a:stretch/>
        </p:blipFill>
        <p:spPr>
          <a:xfrm>
            <a:off x="3857760" y="1857240"/>
            <a:ext cx="3786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ьба по скользкой поверх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i.jpg"/>
          <p:cNvPicPr/>
          <p:nvPr/>
        </p:nvPicPr>
        <p:blipFill>
          <a:blip r:embed="rId1"/>
          <a:stretch/>
        </p:blipFill>
        <p:spPr>
          <a:xfrm>
            <a:off x="3429000" y="207180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лёд более скользкий: гладкий или шероховатый, покрытый мельчайшими бугороч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3" descr="i (1).jpg"/>
          <p:cNvPicPr/>
          <p:nvPr/>
        </p:nvPicPr>
        <p:blipFill>
          <a:blip r:embed="rId1"/>
          <a:stretch/>
        </p:blipFill>
        <p:spPr>
          <a:xfrm>
            <a:off x="4143240" y="2357280"/>
            <a:ext cx="365292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ля чего подковывают лошад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3" descr="577016_html_347b626a.png"/>
          <p:cNvPicPr/>
          <p:nvPr/>
        </p:nvPicPr>
        <p:blipFill>
          <a:blip r:embed="rId1"/>
          <a:stretch/>
        </p:blipFill>
        <p:spPr>
          <a:xfrm>
            <a:off x="3786120" y="2928960"/>
            <a:ext cx="444348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агруженный автомобиль на размытой дороге буксует меньше, чем пу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3" descr="i (2).jpg"/>
          <p:cNvPicPr/>
          <p:nvPr/>
        </p:nvPicPr>
        <p:blipFill>
          <a:blip r:embed="rId1"/>
          <a:stretch/>
        </p:blipFill>
        <p:spPr>
          <a:xfrm>
            <a:off x="4143240" y="2428920"/>
            <a:ext cx="378648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чему, спускаясь по канату, опасно быстро скользить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5" descr="noginsk_13.jpg"/>
          <p:cNvPicPr/>
          <p:nvPr/>
        </p:nvPicPr>
        <p:blipFill>
          <a:blip r:embed="rId1"/>
          <a:stretch/>
        </p:blipFill>
        <p:spPr>
          <a:xfrm>
            <a:off x="4643280" y="2000160"/>
            <a:ext cx="226548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</dc:description>
  <dc:language>en-US</dc:language>
  <cp:lastModifiedBy>Валера</cp:lastModifiedBy>
  <dcterms:modified xsi:type="dcterms:W3CDTF">2014-01-26T17:40:35Z</dcterms:modified>
  <cp:revision>48</cp:revision>
  <dc:subject/>
  <dc:title>Blue Water Flow</dc:title>
</cp:coreProperties>
</file>