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7" descr="Sansbvcbdsfstitre-1sdfsfs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C008D17A-1E25-432B-8D55-B6BADA566567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2" descr="nn,b,b,b,nb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Text Box 6"/>
          <p:cNvSpPr/>
          <p:nvPr/>
        </p:nvSpPr>
        <p:spPr>
          <a:xfrm>
            <a:off x="1428840" y="428760"/>
            <a:ext cx="6877080" cy="10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686e2"/>
                </a:solidFill>
                <a:latin typeface="Times New Roman"/>
                <a:ea typeface="Times New Roman"/>
              </a:rPr>
              <a:t>МОУ «СОШ с. Агафоновка Питерского района Саратовской обла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TextBox 3" descr=""/>
          <p:cNvPicPr/>
          <p:nvPr/>
        </p:nvPicPr>
        <p:blipFill>
          <a:blip r:embed="rId2"/>
          <a:stretch/>
        </p:blipFill>
        <p:spPr>
          <a:xfrm>
            <a:off x="201600" y="1566720"/>
            <a:ext cx="6095880" cy="2541600"/>
          </a:xfrm>
          <a:prstGeom prst="rect">
            <a:avLst/>
          </a:prstGeom>
          <a:ln w="0">
            <a:noFill/>
          </a:ln>
        </p:spPr>
      </p:pic>
      <p:sp>
        <p:nvSpPr>
          <p:cNvPr id="41" name="TextBox 4"/>
          <p:cNvSpPr/>
          <p:nvPr/>
        </p:nvSpPr>
        <p:spPr>
          <a:xfrm>
            <a:off x="2857680" y="5072040"/>
            <a:ext cx="600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Учитель физики: Дзюрич Елена Алексе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5cb1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235cb1"/>
                </a:solidFill>
                <a:latin typeface="Arial"/>
              </a:rPr>
              <a:t>Осенью у трамвайных путей, идущих под уклон вблизи деревьев, вывешивается табличка «Листопад. Берегись юза!»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235cb1"/>
                </a:solidFill>
                <a:latin typeface="Arial"/>
              </a:rPr>
              <a:t>     Что такое юз?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235cb1"/>
                </a:solidFill>
                <a:latin typeface="Arial"/>
              </a:rPr>
              <a:t>     Чем вызвано</a:t>
            </a:r>
            <a:br>
              <a:rPr sz="2800"/>
            </a:br>
            <a:r>
              <a:rPr b="0" lang="ru-RU" sz="2800" spc="-1" strike="noStrike">
                <a:solidFill>
                  <a:srgbClr val="235cb1"/>
                </a:solidFill>
                <a:latin typeface="Arial"/>
              </a:rPr>
              <a:t>          появление такой </a:t>
            </a:r>
            <a:br>
              <a:rPr sz="2800"/>
            </a:br>
            <a:r>
              <a:rPr b="0" lang="ru-RU" sz="2800" spc="-1" strike="noStrike">
                <a:solidFill>
                  <a:srgbClr val="235cb1"/>
                </a:solidFill>
                <a:latin typeface="Arial"/>
              </a:rPr>
              <a:t>                       надписи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Содержимое 4" descr="i (8).jpg"/>
          <p:cNvPicPr/>
          <p:nvPr/>
        </p:nvPicPr>
        <p:blipFill>
          <a:blip r:embed="rId1"/>
          <a:stretch/>
        </p:blipFill>
        <p:spPr>
          <a:xfrm>
            <a:off x="4643280" y="2573280"/>
            <a:ext cx="3786480" cy="26798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«Тихая вода подмывает берег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Содержимое 3" descr="172615_344014.jpg"/>
          <p:cNvPicPr/>
          <p:nvPr/>
        </p:nvPicPr>
        <p:blipFill>
          <a:blip r:embed="rId1"/>
          <a:stretch/>
        </p:blipFill>
        <p:spPr>
          <a:xfrm>
            <a:off x="4286160" y="2071800"/>
            <a:ext cx="4108680" cy="328608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Плуг от работы  блестит.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Содержимое 3" descr="i (9).jpg"/>
          <p:cNvPicPr/>
          <p:nvPr/>
        </p:nvPicPr>
        <p:blipFill>
          <a:blip r:embed="rId1"/>
          <a:stretch/>
        </p:blipFill>
        <p:spPr>
          <a:xfrm>
            <a:off x="3591000" y="1730520"/>
            <a:ext cx="3909960" cy="28461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Коси коса, пока роса; роса долой, и мы домой.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Содержимое 3" descr="i (3).jpg"/>
          <p:cNvPicPr/>
          <p:nvPr/>
        </p:nvPicPr>
        <p:blipFill>
          <a:blip r:embed="rId1"/>
          <a:stretch/>
        </p:blipFill>
        <p:spPr>
          <a:xfrm>
            <a:off x="3071880" y="2571840"/>
            <a:ext cx="3909960" cy="23367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Корабли спускают, так салом подмазываю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Содержимое 3" descr="article4422.jpg"/>
          <p:cNvPicPr/>
          <p:nvPr/>
        </p:nvPicPr>
        <p:blipFill>
          <a:blip r:embed="rId1"/>
          <a:stretch/>
        </p:blipFill>
        <p:spPr>
          <a:xfrm>
            <a:off x="3429000" y="1928880"/>
            <a:ext cx="4384800" cy="328608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чему кусок хозяйственного мыла легче разрезать крепкой ниткой, чем ножо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Содержимое 3" descr="i (5).jpg"/>
          <p:cNvPicPr/>
          <p:nvPr/>
        </p:nvPicPr>
        <p:blipFill>
          <a:blip r:embed="rId1"/>
          <a:stretch/>
        </p:blipFill>
        <p:spPr>
          <a:xfrm>
            <a:off x="4429080" y="2714760"/>
            <a:ext cx="3467160" cy="263988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чем зимой дорожки посыпают солью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Содержимое 3" descr="i (4).jpg"/>
          <p:cNvPicPr/>
          <p:nvPr/>
        </p:nvPicPr>
        <p:blipFill>
          <a:blip r:embed="rId1"/>
          <a:stretch/>
        </p:blipFill>
        <p:spPr>
          <a:xfrm>
            <a:off x="3571920" y="2422440"/>
            <a:ext cx="3286080" cy="244152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уменьшается глубина рельефного рисунка на колесах тракторов, зерноуборочных комбайнов и другой сельскохозяйственной технике по мере ее эксплуатации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Содержимое 5" descr="e40259020851dfbb12386098cd44631a.jpg"/>
          <p:cNvPicPr/>
          <p:nvPr/>
        </p:nvPicPr>
        <p:blipFill>
          <a:blip r:embed="rId1"/>
          <a:stretch/>
        </p:blipFill>
        <p:spPr>
          <a:xfrm>
            <a:off x="4000680" y="2214720"/>
            <a:ext cx="4392360" cy="292572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чем легкоатлеты надевают спортивную обувь с шипам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Содержимое 3" descr="i (7).jpg"/>
          <p:cNvPicPr/>
          <p:nvPr/>
        </p:nvPicPr>
        <p:blipFill>
          <a:blip r:embed="rId1"/>
          <a:stretch/>
        </p:blipFill>
        <p:spPr>
          <a:xfrm>
            <a:off x="4000680" y="2571840"/>
            <a:ext cx="3776400" cy="223812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700"/>
              </a:spcBef>
              <a:buClr>
                <a:srgbClr val="0d0d0d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Какие понятия мы повтори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d0d0d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d0d0d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Что нового узнали на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d0d0d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d0d0d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Чем запомнился  вам уро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d0d0d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d0d0d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                    </a:t>
            </a: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Оцените свою работу на уро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Ответы к тес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57200" y="1600200"/>
          <a:ext cx="8229600" cy="24084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зад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зад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зад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зад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</p:spTree>
  </p:cSld>
  <p:transition spd="med"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§32, подобрать 3,4 пословицы на тему «Сила тре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желанию подготовить презентацию или буклет по теме «Трение в природе и техник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14200" y="1143000"/>
            <a:ext cx="8715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rud.exdat.com/pars_docs/tw_refs/578/577016/577016_html_347b626a.p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7-tub-ru.yandex.net/i?id=140373743-49-72&amp;n=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4-tub-ru.yandex.net/i?id=137823746-29-72&amp;n=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bm.img.com.ua/img/prikol/images/large/5/1/172615_344014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3-tub-ru.yandex.net/i?id=510769990-30-72&amp;n=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1-tub-ru.yandex.net/i?id=251028368-50-72&amp;n=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2-tub-ru.yandex.net/i?id=226509706-35-72&amp;n=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5-tub-ru.yandex.net/i?id=144812129-13-72&amp;n=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7-tub-ru.yandex.net/i?id=274105974-05-72&amp;n=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00040" y="571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7-tub-ru.yandex.net/i?id=711459-24-72&amp;n=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2-tub-ru.yandex.net/i?id=92987697-35-72&amp;n=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1-tub-ru.yandex.net/i?id=427068993-31-72&amp;n=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5-tub-ru.yandex.net/i?id=575017404-42-72&amp;n=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price-list.kiev.ua/img/board_files/04_02_2011/e40259020851dfbb12386098cd44631a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ополагающий вопрос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35cb1"/>
                </a:solidFill>
                <a:latin typeface="Times New Roman"/>
                <a:ea typeface="Times New Roman"/>
              </a:rPr>
              <a:t>Трение - полезно или вредн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оль силы трения при ходьб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Содержимое 3" descr="0007-006-CHto-vygodnee-kachenie-ili-skolzhenie.jpg"/>
          <p:cNvPicPr/>
          <p:nvPr/>
        </p:nvPicPr>
        <p:blipFill>
          <a:blip r:embed="rId1"/>
          <a:stretch/>
        </p:blipFill>
        <p:spPr>
          <a:xfrm>
            <a:off x="3857760" y="1857240"/>
            <a:ext cx="3786120" cy="26193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одьба по скользкой поверх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Содержимое 3" descr="i.jpg"/>
          <p:cNvPicPr/>
          <p:nvPr/>
        </p:nvPicPr>
        <p:blipFill>
          <a:blip r:embed="rId1"/>
          <a:stretch/>
        </p:blipFill>
        <p:spPr>
          <a:xfrm>
            <a:off x="3429000" y="2071800"/>
            <a:ext cx="2928960" cy="29289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лёд более скользкий: гладкий или шероховатый, покрытый мельчайшими бугорочка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Содержимое 3" descr="i (1).jpg"/>
          <p:cNvPicPr/>
          <p:nvPr/>
        </p:nvPicPr>
        <p:blipFill>
          <a:blip r:embed="rId1"/>
          <a:stretch/>
        </p:blipFill>
        <p:spPr>
          <a:xfrm>
            <a:off x="4143240" y="2357280"/>
            <a:ext cx="3652920" cy="25844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Для чего подковывают лошаде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Содержимое 3" descr="577016_html_347b626a.png"/>
          <p:cNvPicPr/>
          <p:nvPr/>
        </p:nvPicPr>
        <p:blipFill>
          <a:blip r:embed="rId1"/>
          <a:stretch/>
        </p:blipFill>
        <p:spPr>
          <a:xfrm>
            <a:off x="3786120" y="2928960"/>
            <a:ext cx="4443480" cy="218772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нагруженный автомобиль на размытой дороге буксует меньше, чем пуст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Содержимое 3" descr="i (2).jpg"/>
          <p:cNvPicPr/>
          <p:nvPr/>
        </p:nvPicPr>
        <p:blipFill>
          <a:blip r:embed="rId1"/>
          <a:stretch/>
        </p:blipFill>
        <p:spPr>
          <a:xfrm>
            <a:off x="4143240" y="2428920"/>
            <a:ext cx="3786480" cy="25239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Почему, спускаясь по канату, опасно быстро скользить?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Содержимое 5" descr="noginsk_13.jpg"/>
          <p:cNvPicPr/>
          <p:nvPr/>
        </p:nvPicPr>
        <p:blipFill>
          <a:blip r:embed="rId1"/>
          <a:stretch/>
        </p:blipFill>
        <p:spPr>
          <a:xfrm>
            <a:off x="4643280" y="2000160"/>
            <a:ext cx="2265480" cy="34005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Francesco Marino / FreeDigitalPhotos.net</dc:description>
  <dc:language>en-US</dc:language>
  <cp:lastModifiedBy>Валера</cp:lastModifiedBy>
  <dcterms:modified xsi:type="dcterms:W3CDTF">2014-01-26T17:40:35Z</dcterms:modified>
  <cp:revision>48</cp:revision>
  <dc:subject/>
  <dc:title>Blue Water Flow</dc:title>
</cp:coreProperties>
</file>