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128-8BB6-4F0A-916D-CEF579B6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646-2968-4C37-9AA8-D85ED68D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1E7-59BE-454C-A1FE-1804A8D4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FA7-E3E8-4A32-819D-D21410A82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3F6-2F29-4654-A4AC-C8670768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5C8-9F30-4013-BE24-A8E821E4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5DF-36C4-43B7-914C-A7FCD49A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F9A-B343-4E5C-B71C-2DFD4108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A04-9E56-4A37-A93F-45DE9DF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010-0C94-4872-95B6-61C4509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884-D507-4E60-8C4A-5DB5E46F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09B-5B38-4DA4-8CC4-753AF14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57B2-4EDA-4458-B639-590F481E6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</a:rPr>
              <a:t>Правильная пирами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89640" y="3592440"/>
            <a:ext cx="48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Петренко Наталья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МОУ СОШ №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Воронежской, Усть - Лабинского рай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52360" y="475920"/>
            <a:ext cx="4450680" cy="3993480"/>
            <a:chOff x="252360" y="475920"/>
            <a:chExt cx="4450680" cy="3993480"/>
          </a:xfrm>
        </p:grpSpPr>
        <p:sp>
          <p:nvSpPr>
            <p:cNvPr id="240" name=""/>
            <p:cNvSpPr/>
            <p:nvPr/>
          </p:nvSpPr>
          <p:spPr>
            <a:xfrm flipH="1">
              <a:off x="414000" y="476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52360" y="475920"/>
              <a:ext cx="4450680" cy="3993480"/>
              <a:chOff x="252360" y="475920"/>
              <a:chExt cx="4450680" cy="3993480"/>
            </a:xfrm>
          </p:grpSpPr>
          <p:sp>
            <p:nvSpPr>
              <p:cNvPr id="242" name=""/>
              <p:cNvSpPr/>
              <p:nvPr/>
            </p:nvSpPr>
            <p:spPr>
              <a:xfrm>
                <a:off x="252360" y="387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7800" y="2584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05240" y="3932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1063440" y="3932280"/>
                <a:ext cx="863280" cy="537120"/>
                <a:chOff x="1063440" y="3932280"/>
                <a:chExt cx="863280" cy="537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063440" y="4009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47" name=""/>
                    <p:cNvSpPr txBox="1"/>
                    <p:nvPr/>
                  </p:nvSpPr>
                  <p:spPr>
                    <a:xfrm>
                      <a:off x="1321560" y="3932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8" name=""/>
              <p:cNvSpPr/>
              <p:nvPr/>
            </p:nvSpPr>
            <p:spPr>
              <a:xfrm>
                <a:off x="2287440" y="476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414360" y="2708280"/>
                <a:ext cx="3889440" cy="1154160"/>
                <a:chOff x="414360" y="2708280"/>
                <a:chExt cx="3889440" cy="1154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14360" y="2708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14360" y="2708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V="1">
                <a:off x="2287440" y="475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287440" y="476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142720" y="476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84520" y="2276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4840200" y="208080"/>
            <a:ext cx="417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) Так как в правильной пирам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я от вершины  до  ре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 равны,  то  найде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расстояние   от   точк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  ребра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  расстоя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 длине апофем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532720" y="1557360"/>
                <a:ext cx="46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413080" y="1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32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108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30480" y="2060640"/>
            <a:ext cx="4313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Так как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ости прямой и плоск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асстояние от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 расстоя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юбой точки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. Рассмотрим на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из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ско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. Это расстояние ра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е высот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длину 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в двумя способами площ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58560" y="476280"/>
            <a:ext cx="2089440" cy="2808360"/>
            <a:chOff x="1258560" y="476280"/>
            <a:chExt cx="2089440" cy="2808360"/>
          </a:xfrm>
        </p:grpSpPr>
        <p:sp>
          <p:nvSpPr>
            <p:cNvPr id="263" name=""/>
            <p:cNvSpPr/>
            <p:nvPr/>
          </p:nvSpPr>
          <p:spPr>
            <a:xfrm>
              <a:off x="2268360" y="476280"/>
              <a:ext cx="107964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1258560" y="3212640"/>
              <a:ext cx="2089080" cy="71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331640" y="476280"/>
              <a:ext cx="936360" cy="2736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952560" y="28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6920" y="3881520"/>
            <a:ext cx="3201480" cy="2960640"/>
            <a:chOff x="736920" y="3881520"/>
            <a:chExt cx="3201480" cy="2960640"/>
          </a:xfrm>
        </p:grpSpPr>
        <p:grpSp>
          <p:nvGrpSpPr>
            <p:cNvPr id="268" name=""/>
            <p:cNvGrpSpPr/>
            <p:nvPr/>
          </p:nvGrpSpPr>
          <p:grpSpPr>
            <a:xfrm>
              <a:off x="1042920" y="4292640"/>
              <a:ext cx="2521080" cy="2232000"/>
              <a:chOff x="1042920" y="4292640"/>
              <a:chExt cx="2521080" cy="2232000"/>
            </a:xfrm>
          </p:grpSpPr>
          <p:sp>
            <p:nvSpPr>
              <p:cNvPr id="269" name=""/>
              <p:cNvSpPr/>
              <p:nvPr/>
            </p:nvSpPr>
            <p:spPr>
              <a:xfrm>
                <a:off x="1042920" y="4292640"/>
                <a:ext cx="2521080" cy="2232000"/>
              </a:xfrm>
              <a:custGeom>
                <a:avLst/>
                <a:gdLst/>
                <a:ahLst/>
                <a:rect l="l" t="t" r="r" b="b"/>
                <a:pathLst>
                  <a:path w="1588" h="1406">
                    <a:moveTo>
                      <a:pt x="0" y="1406"/>
                    </a:moveTo>
                    <a:lnTo>
                      <a:pt x="772" y="0"/>
                    </a:lnTo>
                    <a:lnTo>
                      <a:pt x="1588" y="1406"/>
                    </a:lnTo>
                    <a:lnTo>
                      <a:pt x="0" y="1406"/>
                    </a:lnTo>
                    <a:close/>
                  </a:path>
                </a:pathLst>
              </a:custGeom>
              <a:solidFill>
                <a:srgbClr val="0000ff">
                  <a:alpha val="3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68360" y="4292640"/>
                <a:ext cx="71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476000" y="5732280"/>
                <a:ext cx="208764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03280" y="5805360"/>
                <a:ext cx="216000" cy="142560"/>
              </a:xfrm>
              <a:custGeom>
                <a:avLst/>
                <a:gdLst/>
                <a:ahLst/>
                <a:rect l="l" t="t" r="r" b="b"/>
                <a:pathLst>
                  <a:path w="136" h="90">
                    <a:moveTo>
                      <a:pt x="0" y="45"/>
                    </a:moveTo>
                    <a:lnTo>
                      <a:pt x="91" y="90"/>
                    </a:lnTo>
                    <a:lnTo>
                      <a:pt x="1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40000" y="6379920"/>
                <a:ext cx="144360" cy="14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36920" y="632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61280" y="38815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7640" y="63295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4920" y="6473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97280" y="5321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435640" y="5877000"/>
            <a:ext cx="3168720" cy="72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076720" y="2924280"/>
            <a:ext cx="4067280" cy="3168720"/>
            <a:chOff x="5076720" y="2924280"/>
            <a:chExt cx="4067280" cy="3168720"/>
          </a:xfrm>
        </p:grpSpPr>
        <p:sp>
          <p:nvSpPr>
            <p:cNvPr id="281" name=""/>
            <p:cNvSpPr/>
            <p:nvPr/>
          </p:nvSpPr>
          <p:spPr>
            <a:xfrm>
              <a:off x="5076720" y="2924280"/>
              <a:ext cx="4067280" cy="3168720"/>
            </a:xfrm>
            <a:prstGeom prst="wedgeRoundRectCallout">
              <a:avLst>
                <a:gd name="adj1" fmla="val 4370"/>
                <a:gd name="adj2" fmla="val 67282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580000" y="3068640"/>
                  <a:ext cx="3384720" cy="23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КТ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Е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ЕТ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rad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KT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KO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E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EK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3" name=""/>
          <p:cNvSpPr/>
          <p:nvPr/>
        </p:nvSpPr>
        <p:spPr>
          <a:xfrm>
            <a:off x="1332000" y="476280"/>
            <a:ext cx="2016000" cy="280836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590" y="0"/>
                </a:moveTo>
                <a:lnTo>
                  <a:pt x="0" y="1724"/>
                </a:lnTo>
                <a:lnTo>
                  <a:pt x="1270" y="1769"/>
                </a:lnTo>
                <a:lnTo>
                  <a:pt x="590" y="0"/>
                </a:lnTo>
                <a:close/>
              </a:path>
            </a:pathLst>
          </a:custGeom>
          <a:solidFill>
            <a:srgbClr val="0000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18900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7493"/>
                </a:moveTo>
                <a:lnTo>
                  <a:pt x="15719" y="7493"/>
                </a:lnTo>
                <a:lnTo>
                  <a:pt x="15719" y="12828"/>
                </a:lnTo>
                <a:cubicBezTo>
                  <a:pt x="15719" y="13751"/>
                  <a:pt x="16520" y="14482"/>
                  <a:pt x="17556" y="14482"/>
                </a:cubicBezTo>
                <a:lnTo>
                  <a:pt x="19218" y="14482"/>
                </a:lnTo>
                <a:cubicBezTo>
                  <a:pt x="20254" y="14482"/>
                  <a:pt x="21054" y="13751"/>
                  <a:pt x="21054" y="12828"/>
                </a:cubicBezTo>
                <a:lnTo>
                  <a:pt x="21054" y="7493"/>
                </a:lnTo>
                <a:lnTo>
                  <a:pt x="19218" y="7493"/>
                </a:lnTo>
                <a:lnTo>
                  <a:pt x="22726" y="3985"/>
                </a:lnTo>
                <a:lnTo>
                  <a:pt x="26399" y="7493"/>
                </a:lnTo>
                <a:lnTo>
                  <a:pt x="24562" y="7493"/>
                </a:lnTo>
                <a:lnTo>
                  <a:pt x="24562" y="12828"/>
                </a:lnTo>
                <a:cubicBezTo>
                  <a:pt x="24562" y="15596"/>
                  <a:pt x="21986" y="18155"/>
                  <a:pt x="19218" y="18155"/>
                </a:cubicBezTo>
                <a:lnTo>
                  <a:pt x="17556" y="18155"/>
                </a:lnTo>
                <a:cubicBezTo>
                  <a:pt x="14788" y="18155"/>
                  <a:pt x="12212" y="15596"/>
                  <a:pt x="12212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03924 0.43016 E">
                                      <p:cBhvr>
                                        <p:cTn id="8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286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93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94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2321640" y="639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720" y="260280"/>
            <a:ext cx="55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) Найдем расстояние от ребра КС до диагон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Проведем высо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 и докажем 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ий перпендикуляр к прямым КС и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8400" y="1289160"/>
            <a:ext cx="424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С по постро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 Так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О) (По призна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ости прям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),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(КСО), то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┴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Найдем дли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804000" y="220500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2698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84360" y="1052640"/>
            <a:ext cx="2016360" cy="280800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0" y="0"/>
                </a:moveTo>
                <a:lnTo>
                  <a:pt x="0" y="1769"/>
                </a:lnTo>
                <a:lnTo>
                  <a:pt x="1270" y="1406"/>
                </a:lnTo>
                <a:lnTo>
                  <a:pt x="0" y="0"/>
                </a:lnTo>
                <a:close/>
              </a:path>
            </a:pathLst>
          </a:custGeom>
          <a:solidFill>
            <a:srgbClr val="4f81bd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484360" y="3284640"/>
            <a:ext cx="2016360" cy="57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484360" y="2565360"/>
            <a:ext cx="136692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76560" y="215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2706600">
            <a:off x="3779640" y="2565360"/>
            <a:ext cx="144360" cy="14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564000" y="3933720"/>
                <a:ext cx="417672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314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316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21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22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447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6720" y="549360"/>
            <a:ext cx="51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м прямоугольную систему координ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ий перпендикуляр прям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йдем длину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211640" y="1557360"/>
                <a:ext cx="4176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5056560" y="229716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инеар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такое число х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219640" y="3068640"/>
                <a:ext cx="324000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налогичн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4553280" y="474516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ем координаты векто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124000" y="5229360"/>
                <a:ext cx="57610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121640" y="13644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екторно-координатны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84360" y="333360"/>
            <a:ext cx="0" cy="3527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36560" y="13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3860640"/>
            <a:ext cx="719280" cy="1297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57280" y="481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484360" y="3068640"/>
            <a:ext cx="2664000" cy="792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5292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6056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236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627280" y="1989000"/>
            <a:ext cx="720720" cy="2160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4964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02360" y="164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4360" y="476280"/>
                <a:ext cx="626400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Учитывая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3645000"/>
                <a:ext cx="561816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лучае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5867280" y="6021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024" h="21600">
                <a:moveTo>
                  <a:pt x="23006" y="7493"/>
                </a:moveTo>
                <a:lnTo>
                  <a:pt x="26513" y="7493"/>
                </a:lnTo>
                <a:lnTo>
                  <a:pt x="26513" y="12828"/>
                </a:lnTo>
                <a:cubicBezTo>
                  <a:pt x="26513" y="13751"/>
                  <a:pt x="27314" y="14482"/>
                  <a:pt x="28350" y="14482"/>
                </a:cubicBezTo>
                <a:lnTo>
                  <a:pt x="30012" y="14482"/>
                </a:lnTo>
                <a:cubicBezTo>
                  <a:pt x="31048" y="14482"/>
                  <a:pt x="31848" y="13751"/>
                  <a:pt x="31848" y="12828"/>
                </a:cubicBezTo>
                <a:lnTo>
                  <a:pt x="31848" y="7493"/>
                </a:lnTo>
                <a:lnTo>
                  <a:pt x="30012" y="7493"/>
                </a:lnTo>
                <a:lnTo>
                  <a:pt x="33520" y="3985"/>
                </a:lnTo>
                <a:lnTo>
                  <a:pt x="37193" y="7493"/>
                </a:lnTo>
                <a:lnTo>
                  <a:pt x="35356" y="7493"/>
                </a:lnTo>
                <a:lnTo>
                  <a:pt x="35356" y="12828"/>
                </a:lnTo>
                <a:cubicBezTo>
                  <a:pt x="35356" y="15596"/>
                  <a:pt x="32780" y="18155"/>
                  <a:pt x="30012" y="18155"/>
                </a:cubicBezTo>
                <a:lnTo>
                  <a:pt x="28350" y="18155"/>
                </a:lnTo>
                <a:cubicBezTo>
                  <a:pt x="25582" y="18155"/>
                  <a:pt x="23006" y="15596"/>
                  <a:pt x="2300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440" y="549000"/>
            <a:ext cx="4450680" cy="3993480"/>
            <a:chOff x="1440" y="549000"/>
            <a:chExt cx="4450680" cy="3993480"/>
          </a:xfrm>
        </p:grpSpPr>
        <p:sp>
          <p:nvSpPr>
            <p:cNvPr id="353" name=""/>
            <p:cNvSpPr/>
            <p:nvPr/>
          </p:nvSpPr>
          <p:spPr>
            <a:xfrm flipH="1">
              <a:off x="163080" y="54936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440" y="549000"/>
              <a:ext cx="4450680" cy="3993480"/>
              <a:chOff x="1440" y="549000"/>
              <a:chExt cx="4450680" cy="3993480"/>
            </a:xfrm>
          </p:grpSpPr>
          <p:sp>
            <p:nvSpPr>
              <p:cNvPr id="355" name=""/>
              <p:cNvSpPr/>
              <p:nvPr/>
            </p:nvSpPr>
            <p:spPr>
              <a:xfrm>
                <a:off x="1440" y="3952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06880" y="2657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54320" y="40053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812520" y="4005360"/>
                <a:ext cx="863280" cy="537120"/>
                <a:chOff x="812520" y="4005360"/>
                <a:chExt cx="863280" cy="537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812520" y="408276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0" name=""/>
                    <p:cNvSpPr txBox="1"/>
                    <p:nvPr/>
                  </p:nvSpPr>
                  <p:spPr>
                    <a:xfrm>
                      <a:off x="1070640" y="400536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61" name=""/>
              <p:cNvSpPr/>
              <p:nvPr/>
            </p:nvSpPr>
            <p:spPr>
              <a:xfrm>
                <a:off x="2036520" y="54936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63440" y="2781360"/>
                <a:ext cx="3889440" cy="1154160"/>
                <a:chOff x="163440" y="2781360"/>
                <a:chExt cx="3889440" cy="11541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63440" y="278136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63440" y="278136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flipV="1">
                <a:off x="2036520" y="54900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36520" y="54936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891800" y="54936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33600" y="234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4339800" y="352440"/>
            <a:ext cx="47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) Высота вписанного конуса равна выс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, а радиус основания кону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ен радиусу окружности, вписанн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83080" y="3376440"/>
            <a:ext cx="460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) Образующая описанного конус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му ребру пирамиды, а ради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конуса равен ради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сти, описанной около квадр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27640" y="1773360"/>
                <a:ext cx="4176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писа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211640" y="5013360"/>
                <a:ext cx="46432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пи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 rot="20719800">
            <a:off x="900000" y="2852640"/>
            <a:ext cx="2448000" cy="1009800"/>
          </a:xfrm>
          <a:prstGeom prst="ellipse">
            <a:avLst/>
          </a:prstGeom>
          <a:solidFill>
            <a:srgbClr val="00ff00">
              <a:alpha val="18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50920" y="3357720"/>
            <a:ext cx="100836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050920" y="2781000"/>
            <a:ext cx="194472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33640" y="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6508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6021360"/>
            <a:ext cx="1584360" cy="647640"/>
          </a:xfrm>
          <a:custGeom>
            <a:avLst/>
            <a:gdLst>
              <a:gd name="textAreaLeft" fmla="*/ 41760 w 1584360"/>
              <a:gd name="textAreaRight" fmla="*/ 1542600 w 15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824" h="21600">
                <a:moveTo>
                  <a:pt x="0" y="0"/>
                </a:moveTo>
                <a:lnTo>
                  <a:pt x="52824" y="0"/>
                </a:lnTo>
                <a:lnTo>
                  <a:pt x="52824" y="21600"/>
                </a:lnTo>
                <a:lnTo>
                  <a:pt x="0" y="21600"/>
                </a:lnTo>
                <a:close/>
              </a:path>
              <a:path fill="lightenLess" w="52824" h="21600">
                <a:moveTo>
                  <a:pt x="0" y="0"/>
                </a:moveTo>
                <a:lnTo>
                  <a:pt x="52824" y="0"/>
                </a:lnTo>
                <a:lnTo>
                  <a:pt x="51424" y="1400"/>
                </a:lnTo>
                <a:lnTo>
                  <a:pt x="1400" y="1400"/>
                </a:lnTo>
                <a:close/>
              </a:path>
              <a:path fill="darken" w="52824" h="21600">
                <a:moveTo>
                  <a:pt x="52824" y="0"/>
                </a:moveTo>
                <a:lnTo>
                  <a:pt x="52824" y="21600"/>
                </a:lnTo>
                <a:lnTo>
                  <a:pt x="51424" y="20200"/>
                </a:lnTo>
                <a:lnTo>
                  <a:pt x="51424" y="1400"/>
                </a:lnTo>
                <a:close/>
              </a:path>
              <a:path fill="darkenLess" w="52824" h="21600">
                <a:moveTo>
                  <a:pt x="5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24" y="20200"/>
                </a:lnTo>
                <a:close/>
              </a:path>
              <a:path fill="lighten" w="5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824" h="21600">
                <a:moveTo>
                  <a:pt x="19406" y="7493"/>
                </a:moveTo>
                <a:lnTo>
                  <a:pt x="22913" y="7493"/>
                </a:lnTo>
                <a:lnTo>
                  <a:pt x="22913" y="12828"/>
                </a:lnTo>
                <a:cubicBezTo>
                  <a:pt x="22913" y="13751"/>
                  <a:pt x="23714" y="14482"/>
                  <a:pt x="24750" y="14482"/>
                </a:cubicBezTo>
                <a:lnTo>
                  <a:pt x="26412" y="14482"/>
                </a:lnTo>
                <a:cubicBezTo>
                  <a:pt x="27448" y="14482"/>
                  <a:pt x="28248" y="13751"/>
                  <a:pt x="28248" y="12828"/>
                </a:cubicBezTo>
                <a:lnTo>
                  <a:pt x="28248" y="7493"/>
                </a:lnTo>
                <a:lnTo>
                  <a:pt x="26412" y="7493"/>
                </a:lnTo>
                <a:lnTo>
                  <a:pt x="29920" y="3985"/>
                </a:lnTo>
                <a:lnTo>
                  <a:pt x="33593" y="7493"/>
                </a:lnTo>
                <a:lnTo>
                  <a:pt x="31756" y="7493"/>
                </a:lnTo>
                <a:lnTo>
                  <a:pt x="31756" y="12828"/>
                </a:lnTo>
                <a:cubicBezTo>
                  <a:pt x="31756" y="15596"/>
                  <a:pt x="29180" y="18155"/>
                  <a:pt x="26412" y="18155"/>
                </a:cubicBezTo>
                <a:lnTo>
                  <a:pt x="24750" y="18155"/>
                </a:lnTo>
                <a:cubicBezTo>
                  <a:pt x="21982" y="18155"/>
                  <a:pt x="19406" y="15596"/>
                  <a:pt x="1940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116000" y="1700280"/>
            <a:ext cx="727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58920" y="3141720"/>
            <a:ext cx="5761080" cy="2162160"/>
            <a:chOff x="1258920" y="3141720"/>
            <a:chExt cx="5761080" cy="2162160"/>
          </a:xfrm>
        </p:grpSpPr>
        <p:sp>
          <p:nvSpPr>
            <p:cNvPr id="44" name=""/>
            <p:cNvSpPr/>
            <p:nvPr/>
          </p:nvSpPr>
          <p:spPr>
            <a:xfrm>
              <a:off x="1258920" y="3141720"/>
              <a:ext cx="5715000" cy="2162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3141720"/>
              <a:ext cx="5761080" cy="215892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1258920" y="3141360"/>
            <a:ext cx="5689440" cy="215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3141720"/>
            <a:ext cx="792360" cy="215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67280" y="26028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780000" y="260280"/>
            <a:ext cx="287280" cy="28814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58560" y="260280"/>
            <a:ext cx="280836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260280"/>
            <a:ext cx="43344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60280"/>
            <a:ext cx="2881080" cy="28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530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0360" y="539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18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980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43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1080" y="26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260280"/>
            <a:ext cx="1728720" cy="388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4964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84000" y="4149720"/>
            <a:ext cx="3311640" cy="7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5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4149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916360" y="5373720"/>
            <a:ext cx="720720" cy="531000"/>
            <a:chOff x="2916360" y="5373720"/>
            <a:chExt cx="720720" cy="531000"/>
          </a:xfrm>
        </p:grpSpPr>
        <p:sp>
          <p:nvSpPr>
            <p:cNvPr id="65" name=""/>
            <p:cNvSpPr/>
            <p:nvPr/>
          </p:nvSpPr>
          <p:spPr>
            <a:xfrm>
              <a:off x="2916360" y="544500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132000" y="537372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3780000" y="213372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56000" y="260280"/>
            <a:ext cx="1511280" cy="396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правильной четырехугольной пирамиде известны длина стороны основания 2         и длина высоты 2. Найдит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бъем пирами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лощадь боковой по­верх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угол наклона бокового ребра к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угол наклона боковой грани к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радиус вписанного ша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радиус описанного ша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расстояние от вершины пирамиды до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35280" y="1844640"/>
                <a:ext cx="432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)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стояние от вершины пирамиды до ребра осн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)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расстояние от ребра основания до противоположной гра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) расстояние между боковым ребром и скрещивающейся с ним диагональю ос­н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) объем вписанного конус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) площадь боковой поверхности описанного кон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602136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718160" y="105264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КО – высота 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76720" y="1484280"/>
                <a:ext cx="5618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78" name="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1557360"/>
            <a:ext cx="201636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20720" y="42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452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56536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1640" y="2655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ведем апофему КТ и най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длину из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03640" y="3357720"/>
                <a:ext cx="3816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03640" y="4869000"/>
                <a:ext cx="5761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93" name="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5084640"/>
            <a:ext cx="720720" cy="531000"/>
            <a:chOff x="900000" y="5084640"/>
            <a:chExt cx="720720" cy="531000"/>
          </a:xfrm>
        </p:grpSpPr>
        <p:sp>
          <p:nvSpPr>
            <p:cNvPr id="101" name=""/>
            <p:cNvSpPr/>
            <p:nvPr/>
          </p:nvSpPr>
          <p:spPr>
            <a:xfrm>
              <a:off x="900000" y="515592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115640" y="508464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516720" y="5950080"/>
            <a:ext cx="1368360" cy="71892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03" h="21600">
                <a:moveTo>
                  <a:pt x="13545" y="7493"/>
                </a:moveTo>
                <a:lnTo>
                  <a:pt x="17052" y="7493"/>
                </a:lnTo>
                <a:lnTo>
                  <a:pt x="17052" y="12828"/>
                </a:lnTo>
                <a:cubicBezTo>
                  <a:pt x="17052" y="13751"/>
                  <a:pt x="17853" y="14482"/>
                  <a:pt x="18889" y="14482"/>
                </a:cubicBezTo>
                <a:lnTo>
                  <a:pt x="20551" y="14482"/>
                </a:lnTo>
                <a:cubicBezTo>
                  <a:pt x="21587" y="14482"/>
                  <a:pt x="22388" y="13751"/>
                  <a:pt x="22388" y="12828"/>
                </a:cubicBezTo>
                <a:lnTo>
                  <a:pt x="22388" y="7493"/>
                </a:lnTo>
                <a:lnTo>
                  <a:pt x="20551" y="7493"/>
                </a:lnTo>
                <a:lnTo>
                  <a:pt x="24059" y="3985"/>
                </a:lnTo>
                <a:lnTo>
                  <a:pt x="27732" y="7493"/>
                </a:lnTo>
                <a:lnTo>
                  <a:pt x="25895" y="7493"/>
                </a:lnTo>
                <a:lnTo>
                  <a:pt x="25895" y="12828"/>
                </a:lnTo>
                <a:cubicBezTo>
                  <a:pt x="25895" y="15596"/>
                  <a:pt x="23319" y="18155"/>
                  <a:pt x="20551" y="18155"/>
                </a:cubicBezTo>
                <a:lnTo>
                  <a:pt x="18889" y="18155"/>
                </a:lnTo>
                <a:cubicBezTo>
                  <a:pt x="16121" y="18155"/>
                  <a:pt x="13545" y="15596"/>
                  <a:pt x="13545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105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107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2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13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4429440" y="1268280"/>
            <a:ext cx="445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Так как в правильной пирамиде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ы наклона всех боковых ребер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основания равны, то най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СО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=2, ОС=0,5 АС, где АС – 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а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3573360"/>
                <a:ext cx="3888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321640" y="568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484360" y="3284640"/>
            <a:ext cx="194328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98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1052640"/>
            <a:ext cx="2016360" cy="280800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0" y="0"/>
                </a:moveTo>
                <a:lnTo>
                  <a:pt x="0" y="1769"/>
                </a:lnTo>
                <a:lnTo>
                  <a:pt x="1224" y="1406"/>
                </a:lnTo>
                <a:lnTo>
                  <a:pt x="1270" y="1406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33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95640" y="2852640"/>
            <a:ext cx="2887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227640" y="6093000"/>
            <a:ext cx="1513080" cy="57600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719" h="21600">
                <a:moveTo>
                  <a:pt x="0" y="0"/>
                </a:moveTo>
                <a:lnTo>
                  <a:pt x="56719" y="0"/>
                </a:lnTo>
                <a:lnTo>
                  <a:pt x="56719" y="21600"/>
                </a:lnTo>
                <a:lnTo>
                  <a:pt x="0" y="21600"/>
                </a:lnTo>
                <a:close/>
              </a:path>
              <a:path fill="lightenLess" w="56719" h="21600">
                <a:moveTo>
                  <a:pt x="0" y="0"/>
                </a:moveTo>
                <a:lnTo>
                  <a:pt x="56719" y="0"/>
                </a:lnTo>
                <a:lnTo>
                  <a:pt x="55319" y="1400"/>
                </a:lnTo>
                <a:lnTo>
                  <a:pt x="1400" y="1400"/>
                </a:lnTo>
                <a:close/>
              </a:path>
              <a:path fill="darken" w="56719" h="21600">
                <a:moveTo>
                  <a:pt x="56719" y="0"/>
                </a:moveTo>
                <a:lnTo>
                  <a:pt x="56719" y="21600"/>
                </a:lnTo>
                <a:lnTo>
                  <a:pt x="55319" y="20200"/>
                </a:lnTo>
                <a:lnTo>
                  <a:pt x="55319" y="1400"/>
                </a:lnTo>
                <a:close/>
              </a:path>
              <a:path fill="darkenLess" w="56719" h="21600">
                <a:moveTo>
                  <a:pt x="56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19" y="20200"/>
                </a:lnTo>
                <a:close/>
              </a:path>
              <a:path fill="lighten" w="56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19" h="21600">
                <a:moveTo>
                  <a:pt x="21353" y="7493"/>
                </a:moveTo>
                <a:lnTo>
                  <a:pt x="24860" y="7493"/>
                </a:lnTo>
                <a:lnTo>
                  <a:pt x="24860" y="12828"/>
                </a:lnTo>
                <a:cubicBezTo>
                  <a:pt x="24860" y="13751"/>
                  <a:pt x="25661" y="14482"/>
                  <a:pt x="26697" y="14482"/>
                </a:cubicBezTo>
                <a:lnTo>
                  <a:pt x="28359" y="14482"/>
                </a:lnTo>
                <a:cubicBezTo>
                  <a:pt x="29395" y="14482"/>
                  <a:pt x="30196" y="13751"/>
                  <a:pt x="30196" y="12828"/>
                </a:cubicBezTo>
                <a:lnTo>
                  <a:pt x="30196" y="7493"/>
                </a:lnTo>
                <a:lnTo>
                  <a:pt x="28359" y="7493"/>
                </a:lnTo>
                <a:lnTo>
                  <a:pt x="31867" y="3985"/>
                </a:lnTo>
                <a:lnTo>
                  <a:pt x="35540" y="7493"/>
                </a:lnTo>
                <a:lnTo>
                  <a:pt x="33703" y="7493"/>
                </a:lnTo>
                <a:lnTo>
                  <a:pt x="33703" y="12828"/>
                </a:lnTo>
                <a:cubicBezTo>
                  <a:pt x="33703" y="15596"/>
                  <a:pt x="31127" y="18155"/>
                  <a:pt x="28359" y="18155"/>
                </a:cubicBezTo>
                <a:lnTo>
                  <a:pt x="26697" y="18155"/>
                </a:lnTo>
                <a:cubicBezTo>
                  <a:pt x="23929" y="18155"/>
                  <a:pt x="21353" y="15596"/>
                  <a:pt x="2135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131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133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39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4846680" y="1484280"/>
            <a:ext cx="429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Так как в правильной пирам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ы наклона всех боковых гр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основания равны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, например, угол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й гра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 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 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эт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 -линейный угол иско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гранного угла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=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1052640"/>
            <a:ext cx="1150920" cy="2808000"/>
          </a:xfrm>
          <a:custGeom>
            <a:avLst/>
            <a:gdLst/>
            <a:ahLst/>
            <a:rect l="l" t="t" r="r" b="b"/>
            <a:pathLst>
              <a:path w="725" h="1769">
                <a:moveTo>
                  <a:pt x="0" y="0"/>
                </a:moveTo>
                <a:lnTo>
                  <a:pt x="725" y="1769"/>
                </a:lnTo>
                <a:lnTo>
                  <a:pt x="0" y="1769"/>
                </a:lnTo>
              </a:path>
            </a:pathLst>
          </a:custGeom>
          <a:solidFill>
            <a:srgbClr val="00ff00">
              <a:alpha val="37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150920" cy="28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60560" y="3881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1640" y="568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980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2920" y="3429000"/>
            <a:ext cx="4309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1" y="286"/>
                </a:moveTo>
                <a:arcTo wR="10800" hR="10800" stAng="-6193043" swAng="6193043"/>
                <a:lnTo>
                  <a:pt x="10800" y="10800"/>
                </a:lnTo>
                <a:close/>
              </a:path>
              <a:path fill="none" w="21600" h="21600">
                <a:moveTo>
                  <a:pt x="8331" y="286"/>
                </a:moveTo>
                <a:arcTo wR="10800" hR="10800" stAng="-6193043" swAng="619304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508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932360" y="4437000"/>
                <a:ext cx="3889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5589720"/>
                <a:ext cx="3456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763640" y="609300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18641" y="7493"/>
                </a:moveTo>
                <a:lnTo>
                  <a:pt x="22149" y="7493"/>
                </a:lnTo>
                <a:lnTo>
                  <a:pt x="22149" y="12828"/>
                </a:lnTo>
                <a:cubicBezTo>
                  <a:pt x="22149" y="13751"/>
                  <a:pt x="22949" y="14482"/>
                  <a:pt x="23985" y="14482"/>
                </a:cubicBezTo>
                <a:lnTo>
                  <a:pt x="25647" y="14482"/>
                </a:lnTo>
                <a:cubicBezTo>
                  <a:pt x="26683" y="14482"/>
                  <a:pt x="27484" y="13751"/>
                  <a:pt x="27484" y="12828"/>
                </a:cubicBezTo>
                <a:lnTo>
                  <a:pt x="27484" y="7493"/>
                </a:lnTo>
                <a:lnTo>
                  <a:pt x="25647" y="7493"/>
                </a:lnTo>
                <a:lnTo>
                  <a:pt x="29155" y="3985"/>
                </a:lnTo>
                <a:lnTo>
                  <a:pt x="32828" y="7493"/>
                </a:lnTo>
                <a:lnTo>
                  <a:pt x="30992" y="7493"/>
                </a:lnTo>
                <a:lnTo>
                  <a:pt x="30992" y="12828"/>
                </a:lnTo>
                <a:cubicBezTo>
                  <a:pt x="30992" y="15596"/>
                  <a:pt x="28415" y="18155"/>
                  <a:pt x="25647" y="18155"/>
                </a:cubicBezTo>
                <a:lnTo>
                  <a:pt x="23985" y="18155"/>
                </a:lnTo>
                <a:cubicBezTo>
                  <a:pt x="21217" y="18155"/>
                  <a:pt x="18641" y="15596"/>
                  <a:pt x="1864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09440" y="475920"/>
            <a:ext cx="4450680" cy="3993480"/>
            <a:chOff x="109440" y="475920"/>
            <a:chExt cx="4450680" cy="3993480"/>
          </a:xfrm>
        </p:grpSpPr>
        <p:sp>
          <p:nvSpPr>
            <p:cNvPr id="159" name=""/>
            <p:cNvSpPr/>
            <p:nvPr/>
          </p:nvSpPr>
          <p:spPr>
            <a:xfrm flipH="1">
              <a:off x="271080" y="476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09440" y="475920"/>
              <a:ext cx="4450680" cy="3993480"/>
              <a:chOff x="109440" y="475920"/>
              <a:chExt cx="4450680" cy="3993480"/>
            </a:xfrm>
          </p:grpSpPr>
          <p:sp>
            <p:nvSpPr>
              <p:cNvPr id="161" name=""/>
              <p:cNvSpPr/>
              <p:nvPr/>
            </p:nvSpPr>
            <p:spPr>
              <a:xfrm>
                <a:off x="109440" y="387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14880" y="2584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932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920520" y="3932280"/>
                <a:ext cx="863280" cy="537120"/>
                <a:chOff x="920520" y="3932280"/>
                <a:chExt cx="863280" cy="537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20520" y="4009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6" name=""/>
                    <p:cNvSpPr txBox="1"/>
                    <p:nvPr/>
                  </p:nvSpPr>
                  <p:spPr>
                    <a:xfrm>
                      <a:off x="1178640" y="3932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67" name=""/>
              <p:cNvSpPr/>
              <p:nvPr/>
            </p:nvSpPr>
            <p:spPr>
              <a:xfrm>
                <a:off x="2144520" y="476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71440" y="2708280"/>
                <a:ext cx="3889440" cy="1154160"/>
                <a:chOff x="271440" y="2708280"/>
                <a:chExt cx="3889440" cy="11541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71440" y="2708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1440" y="2708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 flipV="1">
                <a:off x="2144520" y="475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44520" y="476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999800" y="476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41600" y="2276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4751280" y="1197000"/>
            <a:ext cx="43927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Так как двугранные углы при осн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й пирамиды равны, т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санного шара (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радиус впис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а букв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=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пользуя подобие треугольников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 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,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59640" y="4149720"/>
                <a:ext cx="19429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Т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ОТ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124000" y="476280"/>
            <a:ext cx="1150920" cy="2808360"/>
          </a:xfrm>
          <a:custGeom>
            <a:avLst/>
            <a:gdLst/>
            <a:ahLst/>
            <a:rect l="l" t="t" r="r" b="b"/>
            <a:pathLst>
              <a:path w="725" h="1769">
                <a:moveTo>
                  <a:pt x="0" y="0"/>
                </a:moveTo>
                <a:lnTo>
                  <a:pt x="725" y="1769"/>
                </a:lnTo>
                <a:lnTo>
                  <a:pt x="0" y="1769"/>
                </a:lnTo>
              </a:path>
            </a:pathLst>
          </a:custGeom>
          <a:solidFill>
            <a:srgbClr val="ff00ff">
              <a:alpha val="35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476280"/>
            <a:ext cx="1150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0520" y="115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944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32000" y="5444640"/>
            <a:ext cx="71928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628720" y="3716280"/>
            <a:ext cx="2049480" cy="2960640"/>
            <a:chOff x="2628720" y="3716280"/>
            <a:chExt cx="2049480" cy="2960640"/>
          </a:xfrm>
        </p:grpSpPr>
        <p:sp>
          <p:nvSpPr>
            <p:cNvPr id="184" name=""/>
            <p:cNvSpPr/>
            <p:nvPr/>
          </p:nvSpPr>
          <p:spPr>
            <a:xfrm>
              <a:off x="3132000" y="3716280"/>
              <a:ext cx="1150920" cy="2808360"/>
            </a:xfrm>
            <a:custGeom>
              <a:avLst/>
              <a:gdLst/>
              <a:ahLst/>
              <a:rect l="l" t="t" r="r" b="b"/>
              <a:pathLst>
                <a:path w="725" h="1769">
                  <a:moveTo>
                    <a:pt x="0" y="0"/>
                  </a:moveTo>
                  <a:lnTo>
                    <a:pt x="0" y="1769"/>
                  </a:lnTo>
                  <a:lnTo>
                    <a:pt x="725" y="1769"/>
                  </a:lnTo>
                  <a:lnTo>
                    <a:pt x="0" y="46"/>
                  </a:lnTo>
                </a:path>
              </a:pathLst>
            </a:custGeom>
            <a:solidFill>
              <a:srgbClr val="ff00ff">
                <a:alpha val="25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059280" y="6021360"/>
              <a:ext cx="144360" cy="71640"/>
              <a:chOff x="3059280" y="6021360"/>
              <a:chExt cx="144360" cy="71640"/>
            </a:xfrm>
          </p:grpSpPr>
          <p:sp>
            <p:nvSpPr>
              <p:cNvPr id="186" name=""/>
              <p:cNvSpPr/>
              <p:nvPr/>
            </p:nvSpPr>
            <p:spPr>
              <a:xfrm>
                <a:off x="3059280" y="60213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59280" y="6093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397320" y="5505480"/>
              <a:ext cx="133560" cy="166320"/>
              <a:chOff x="3397320" y="5505480"/>
              <a:chExt cx="133560" cy="166320"/>
            </a:xfrm>
          </p:grpSpPr>
          <p:sp>
            <p:nvSpPr>
              <p:cNvPr id="189" name=""/>
              <p:cNvSpPr/>
              <p:nvPr/>
            </p:nvSpPr>
            <p:spPr>
              <a:xfrm>
                <a:off x="3479760" y="5505480"/>
                <a:ext cx="5112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97320" y="5536800"/>
                <a:ext cx="5112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28720" y="6308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7440" y="6308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73800" y="37162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7200" y="551664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3080" y="50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2000" y="6381720"/>
              <a:ext cx="14472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08360" y="5516640"/>
              <a:ext cx="216000" cy="14436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0"/>
                  </a:moveTo>
                  <a:lnTo>
                    <a:pt x="45" y="91"/>
                  </a:lnTo>
                  <a:lnTo>
                    <a:pt x="136" y="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03280" y="6021360"/>
            <a:ext cx="1081080" cy="576360"/>
          </a:xfrm>
          <a:custGeom>
            <a:avLst/>
            <a:gdLst>
              <a:gd name="textAreaLeft" fmla="*/ 37080 w 1081080"/>
              <a:gd name="textAreaRight" fmla="*/ 1044000 w 1081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503" h="21600">
                <a:moveTo>
                  <a:pt x="0" y="0"/>
                </a:moveTo>
                <a:lnTo>
                  <a:pt x="40503" y="0"/>
                </a:lnTo>
                <a:lnTo>
                  <a:pt x="40503" y="21600"/>
                </a:lnTo>
                <a:lnTo>
                  <a:pt x="0" y="21600"/>
                </a:lnTo>
                <a:close/>
              </a:path>
              <a:path fill="lightenLess" w="40503" h="21600">
                <a:moveTo>
                  <a:pt x="0" y="0"/>
                </a:moveTo>
                <a:lnTo>
                  <a:pt x="40503" y="0"/>
                </a:lnTo>
                <a:lnTo>
                  <a:pt x="39103" y="1400"/>
                </a:lnTo>
                <a:lnTo>
                  <a:pt x="1400" y="1400"/>
                </a:lnTo>
                <a:close/>
              </a:path>
              <a:path fill="darken" w="40503" h="21600">
                <a:moveTo>
                  <a:pt x="40503" y="0"/>
                </a:moveTo>
                <a:lnTo>
                  <a:pt x="40503" y="21600"/>
                </a:lnTo>
                <a:lnTo>
                  <a:pt x="39103" y="20200"/>
                </a:lnTo>
                <a:lnTo>
                  <a:pt x="39103" y="1400"/>
                </a:lnTo>
                <a:close/>
              </a:path>
              <a:path fill="darkenLess" w="40503" h="21600">
                <a:moveTo>
                  <a:pt x="40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03" y="20200"/>
                </a:lnTo>
                <a:close/>
              </a:path>
              <a:path fill="lighten" w="40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03" h="21600">
                <a:moveTo>
                  <a:pt x="13245" y="7493"/>
                </a:moveTo>
                <a:lnTo>
                  <a:pt x="16753" y="7493"/>
                </a:lnTo>
                <a:lnTo>
                  <a:pt x="16753" y="12828"/>
                </a:lnTo>
                <a:cubicBezTo>
                  <a:pt x="16753" y="13751"/>
                  <a:pt x="17554" y="14482"/>
                  <a:pt x="18589" y="14482"/>
                </a:cubicBezTo>
                <a:lnTo>
                  <a:pt x="20252" y="14482"/>
                </a:lnTo>
                <a:cubicBezTo>
                  <a:pt x="21287" y="14482"/>
                  <a:pt x="22088" y="13751"/>
                  <a:pt x="22088" y="12828"/>
                </a:cubicBezTo>
                <a:lnTo>
                  <a:pt x="22088" y="7493"/>
                </a:lnTo>
                <a:lnTo>
                  <a:pt x="20252" y="7493"/>
                </a:lnTo>
                <a:lnTo>
                  <a:pt x="23759" y="3985"/>
                </a:lnTo>
                <a:lnTo>
                  <a:pt x="27432" y="7493"/>
                </a:lnTo>
                <a:lnTo>
                  <a:pt x="25596" y="7493"/>
                </a:lnTo>
                <a:lnTo>
                  <a:pt x="25596" y="12828"/>
                </a:lnTo>
                <a:cubicBezTo>
                  <a:pt x="25596" y="15596"/>
                  <a:pt x="23019" y="18155"/>
                  <a:pt x="20252" y="18155"/>
                </a:cubicBezTo>
                <a:lnTo>
                  <a:pt x="18589" y="18155"/>
                </a:lnTo>
                <a:cubicBezTo>
                  <a:pt x="15822" y="18155"/>
                  <a:pt x="13245" y="15596"/>
                  <a:pt x="13245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3654E-007 L 0.11042 0.47757 E">
                                      <p:cBhvr>
                                        <p:cTn id="4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52360" y="43920"/>
            <a:ext cx="4450680" cy="3993480"/>
            <a:chOff x="252360" y="43920"/>
            <a:chExt cx="4450680" cy="3993480"/>
          </a:xfrm>
        </p:grpSpPr>
        <p:sp>
          <p:nvSpPr>
            <p:cNvPr id="200" name=""/>
            <p:cNvSpPr/>
            <p:nvPr/>
          </p:nvSpPr>
          <p:spPr>
            <a:xfrm flipH="1">
              <a:off x="414000" y="44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52360" y="43920"/>
              <a:ext cx="4450680" cy="3993480"/>
              <a:chOff x="252360" y="43920"/>
              <a:chExt cx="4450680" cy="3993480"/>
            </a:xfrm>
          </p:grpSpPr>
          <p:sp>
            <p:nvSpPr>
              <p:cNvPr id="202" name=""/>
              <p:cNvSpPr/>
              <p:nvPr/>
            </p:nvSpPr>
            <p:spPr>
              <a:xfrm>
                <a:off x="252360" y="3447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57800" y="2152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5240" y="3500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063440" y="3500280"/>
                <a:ext cx="863280" cy="537120"/>
                <a:chOff x="1063440" y="3500280"/>
                <a:chExt cx="863280" cy="537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63440" y="3577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7" name=""/>
                    <p:cNvSpPr txBox="1"/>
                    <p:nvPr/>
                  </p:nvSpPr>
                  <p:spPr>
                    <a:xfrm>
                      <a:off x="1321560" y="3500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08" name=""/>
              <p:cNvSpPr/>
              <p:nvPr/>
            </p:nvSpPr>
            <p:spPr>
              <a:xfrm>
                <a:off x="2287440" y="44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414360" y="2276280"/>
                <a:ext cx="3889440" cy="1154160"/>
                <a:chOff x="414360" y="2276280"/>
                <a:chExt cx="3889440" cy="1154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14360" y="2276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4360" y="2276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 flipV="1">
                <a:off x="2287440" y="43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7440" y="44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42720" y="44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4520" y="1844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830480" y="1268280"/>
            <a:ext cx="4310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Так как боковые ребра прав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 равны, то центр опис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а (точка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лежит на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радиус описанного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Пифагора из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356000" y="3645000"/>
                <a:ext cx="44830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769640" y="4941720"/>
            <a:ext cx="43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, что центр описанного ш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падает с точкой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3640" y="-7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23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4149720"/>
            <a:ext cx="1800360" cy="2160720"/>
          </a:xfrm>
          <a:prstGeom prst="rtTriangle">
            <a:avLst/>
          </a:prstGeom>
          <a:solidFill>
            <a:srgbClr val="00ff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186920" y="5734080"/>
            <a:ext cx="1800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16000" y="5013360"/>
            <a:ext cx="144360" cy="71280"/>
            <a:chOff x="1116000" y="5013360"/>
            <a:chExt cx="144360" cy="71280"/>
          </a:xfrm>
        </p:grpSpPr>
        <p:sp>
          <p:nvSpPr>
            <p:cNvPr id="225" name=""/>
            <p:cNvSpPr/>
            <p:nvPr/>
          </p:nvSpPr>
          <p:spPr>
            <a:xfrm>
              <a:off x="111600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16000" y="50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02600" y="5911200"/>
            <a:ext cx="155160" cy="149040"/>
            <a:chOff x="1902600" y="5911200"/>
            <a:chExt cx="155160" cy="149040"/>
          </a:xfrm>
        </p:grpSpPr>
        <p:sp>
          <p:nvSpPr>
            <p:cNvPr id="228" name=""/>
            <p:cNvSpPr/>
            <p:nvPr/>
          </p:nvSpPr>
          <p:spPr>
            <a:xfrm flipV="1">
              <a:off x="1902600" y="5911200"/>
              <a:ext cx="10800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949760" y="5964840"/>
              <a:ext cx="1080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87280" y="6165720"/>
            <a:ext cx="144720" cy="14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5516640"/>
            <a:ext cx="4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6560" y="632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7800" y="4005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2000" y="61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68360" y="2276640"/>
            <a:ext cx="194328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720" y="5516640"/>
            <a:ext cx="32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) Расстояние 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скости АВС равно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е отрез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авно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0"/>
            <a:ext cx="0" cy="28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00" y="18900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7493"/>
                </a:moveTo>
                <a:lnTo>
                  <a:pt x="18108" y="7493"/>
                </a:lnTo>
                <a:lnTo>
                  <a:pt x="18108" y="12828"/>
                </a:lnTo>
                <a:cubicBezTo>
                  <a:pt x="18108" y="13751"/>
                  <a:pt x="18909" y="14482"/>
                  <a:pt x="19944" y="14482"/>
                </a:cubicBezTo>
                <a:lnTo>
                  <a:pt x="21607" y="14482"/>
                </a:lnTo>
                <a:cubicBezTo>
                  <a:pt x="22642" y="14482"/>
                  <a:pt x="23443" y="13751"/>
                  <a:pt x="23443" y="12828"/>
                </a:cubicBezTo>
                <a:lnTo>
                  <a:pt x="23443" y="7493"/>
                </a:lnTo>
                <a:lnTo>
                  <a:pt x="21607" y="7493"/>
                </a:lnTo>
                <a:lnTo>
                  <a:pt x="25114" y="3985"/>
                </a:lnTo>
                <a:lnTo>
                  <a:pt x="28787" y="7493"/>
                </a:lnTo>
                <a:lnTo>
                  <a:pt x="26951" y="7493"/>
                </a:lnTo>
                <a:lnTo>
                  <a:pt x="26951" y="12828"/>
                </a:lnTo>
                <a:cubicBezTo>
                  <a:pt x="26951" y="15596"/>
                  <a:pt x="24375" y="18155"/>
                  <a:pt x="21607" y="18155"/>
                </a:cubicBezTo>
                <a:lnTo>
                  <a:pt x="19944" y="18155"/>
                </a:lnTo>
                <a:cubicBezTo>
                  <a:pt x="17177" y="18155"/>
                  <a:pt x="14600" y="15596"/>
                  <a:pt x="1460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5:23:14Z</dcterms:created>
  <dc:creator>Наталья</dc:creator>
  <dc:description/>
  <dc:language>en-US</dc:language>
  <cp:lastModifiedBy>Наталья</cp:lastModifiedBy>
  <dcterms:modified xsi:type="dcterms:W3CDTF">2010-02-14T15:53:15Z</dcterms:modified>
  <cp:revision>3</cp:revision>
  <dc:subject/>
  <dc:title>Правильная пирамида</dc:title>
</cp:coreProperties>
</file>