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5509-E7A8-4866-AC73-A7FE461D3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B63E-291D-46AE-866A-56564EF1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80E1-F0B9-488F-8D56-A6A0ECF3C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1A70-B0D7-480B-BC61-8C7EDB3BA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A738-91D8-4265-A680-9BF8AA87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9709-31DE-4869-BC08-1E58D8AD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84DB-493A-4D55-B3AB-013899AA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11D4-06CA-41F6-8B6B-A29B363D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82B7-69A2-45EE-8DE6-36AAED05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E6C0-5587-4B51-85C5-3C1A0838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2E25-F7B3-45E1-9729-F076273E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5A97-083C-40AB-84B8-9B8F4469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D097-F3D4-4C07-8811-BA0CD84BA2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9.xml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alibri"/>
              </a:rPr>
              <a:t>Правильная пирамид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3689640" y="3592440"/>
            <a:ext cx="483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 Петренко Наталья Виктор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атематики МОУ СОШ №7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.Воронежской, Усть - Лабинского райо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нодар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252360" y="475920"/>
            <a:ext cx="4450680" cy="3993480"/>
            <a:chOff x="252360" y="475920"/>
            <a:chExt cx="4450680" cy="3993480"/>
          </a:xfrm>
        </p:grpSpPr>
        <p:sp>
          <p:nvSpPr>
            <p:cNvPr id="240" name=""/>
            <p:cNvSpPr/>
            <p:nvPr/>
          </p:nvSpPr>
          <p:spPr>
            <a:xfrm flipH="1">
              <a:off x="414000" y="476280"/>
              <a:ext cx="1873080" cy="33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252360" y="475920"/>
              <a:ext cx="4450680" cy="3993480"/>
              <a:chOff x="252360" y="475920"/>
              <a:chExt cx="4450680" cy="3993480"/>
            </a:xfrm>
          </p:grpSpPr>
          <p:sp>
            <p:nvSpPr>
              <p:cNvPr id="242" name=""/>
              <p:cNvSpPr/>
              <p:nvPr/>
            </p:nvSpPr>
            <p:spPr>
              <a:xfrm>
                <a:off x="252360" y="387972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7800" y="25844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505240" y="39322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1063440" y="3932280"/>
                <a:ext cx="863280" cy="537120"/>
                <a:chOff x="1063440" y="3932280"/>
                <a:chExt cx="863280" cy="53712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1063440" y="400968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47" name=""/>
                    <p:cNvSpPr txBox="1"/>
                    <p:nvPr/>
                  </p:nvSpPr>
                  <p:spPr>
                    <a:xfrm>
                      <a:off x="1321560" y="3932280"/>
                      <a:ext cx="605160" cy="5054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248" name=""/>
              <p:cNvSpPr/>
              <p:nvPr/>
            </p:nvSpPr>
            <p:spPr>
              <a:xfrm>
                <a:off x="2287440" y="476280"/>
                <a:ext cx="201636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9" name=""/>
              <p:cNvGrpSpPr/>
              <p:nvPr/>
            </p:nvGrpSpPr>
            <p:grpSpPr>
              <a:xfrm>
                <a:off x="414360" y="2708280"/>
                <a:ext cx="3889440" cy="1154160"/>
                <a:chOff x="414360" y="2708280"/>
                <a:chExt cx="3889440" cy="11541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414360" y="2708280"/>
                  <a:ext cx="3858120" cy="1154160"/>
                </a:xfrm>
                <a:custGeom>
                  <a:avLst/>
                  <a:gdLst/>
                  <a:ahLst/>
                  <a:rect l="l" t="t" r="r" b="b"/>
                  <a:pathLst>
                    <a:path w="3600" h="1362">
                      <a:moveTo>
                        <a:pt x="0" y="1362"/>
                      </a:moveTo>
                      <a:cubicBezTo>
                        <a:pt x="35" y="1350"/>
                        <a:pt x="62" y="1362"/>
                        <a:pt x="100" y="1362"/>
                      </a:cubicBezTo>
                      <a:lnTo>
                        <a:pt x="2058" y="1360"/>
                      </a:lnTo>
                      <a:lnTo>
                        <a:pt x="3600" y="0"/>
                      </a:lnTo>
                    </a:path>
                  </a:pathLst>
                </a:custGeom>
                <a:solidFill>
                  <a:srgbClr val="99cc00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14360" y="2708280"/>
                  <a:ext cx="3889440" cy="1152360"/>
                </a:xfrm>
                <a:custGeom>
                  <a:avLst/>
                  <a:gdLst/>
                  <a:ahLst/>
                  <a:rect l="l" t="t" r="r" b="b"/>
                  <a:pathLst>
                    <a:path w="3629" h="1360">
                      <a:moveTo>
                        <a:pt x="0" y="1360"/>
                      </a:moveTo>
                      <a:lnTo>
                        <a:pt x="1588" y="0"/>
                      </a:lnTo>
                      <a:lnTo>
                        <a:pt x="3629" y="0"/>
                      </a:lnTo>
                    </a:path>
                  </a:pathLst>
                </a:custGeom>
                <a:solidFill>
                  <a:srgbClr val="99cc00"/>
                </a:solidFill>
                <a:ln w="381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 flipV="1">
                <a:off x="2287440" y="475920"/>
                <a:ext cx="0" cy="280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287440" y="476280"/>
                <a:ext cx="287280" cy="338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2142720" y="476280"/>
                <a:ext cx="14436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784520" y="227664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6" name=""/>
          <p:cNvSpPr/>
          <p:nvPr/>
        </p:nvSpPr>
        <p:spPr>
          <a:xfrm>
            <a:off x="4840200" y="208080"/>
            <a:ext cx="417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) Так как в правильной пирами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тояния от вершины  до  реб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я  равны,  то  найдем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, расстояние   от   точки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  ребра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  расстоя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о длине апофемы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рав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8532720" y="1557360"/>
                <a:ext cx="4683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2413080" y="18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81080" y="3284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21080" y="3429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30480" y="2060640"/>
            <a:ext cx="4313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) Так как прямая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ь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К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 призна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ьности прямой и плоскости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расстояние от прям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К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о расстоя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любой точки прям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 эт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и. Рассмотрим на прям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 точк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из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К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точк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един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ем иском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тояние. Это расстояние рав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не высоты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Н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ем длину Т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зив двумя способами площа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К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258560" y="476280"/>
            <a:ext cx="2089440" cy="2808360"/>
            <a:chOff x="1258560" y="476280"/>
            <a:chExt cx="2089440" cy="2808360"/>
          </a:xfrm>
        </p:grpSpPr>
        <p:sp>
          <p:nvSpPr>
            <p:cNvPr id="263" name=""/>
            <p:cNvSpPr/>
            <p:nvPr/>
          </p:nvSpPr>
          <p:spPr>
            <a:xfrm>
              <a:off x="2268360" y="476280"/>
              <a:ext cx="1079640" cy="280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flipV="1">
              <a:off x="1258560" y="3212640"/>
              <a:ext cx="2089080" cy="716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1331640" y="476280"/>
              <a:ext cx="936360" cy="27367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952560" y="2873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736920" y="3881520"/>
            <a:ext cx="3201480" cy="2960640"/>
            <a:chOff x="736920" y="3881520"/>
            <a:chExt cx="3201480" cy="2960640"/>
          </a:xfrm>
        </p:grpSpPr>
        <p:grpSp>
          <p:nvGrpSpPr>
            <p:cNvPr id="268" name=""/>
            <p:cNvGrpSpPr/>
            <p:nvPr/>
          </p:nvGrpSpPr>
          <p:grpSpPr>
            <a:xfrm>
              <a:off x="1042920" y="4292640"/>
              <a:ext cx="2521080" cy="2232000"/>
              <a:chOff x="1042920" y="4292640"/>
              <a:chExt cx="2521080" cy="2232000"/>
            </a:xfrm>
          </p:grpSpPr>
          <p:sp>
            <p:nvSpPr>
              <p:cNvPr id="269" name=""/>
              <p:cNvSpPr/>
              <p:nvPr/>
            </p:nvSpPr>
            <p:spPr>
              <a:xfrm>
                <a:off x="1042920" y="4292640"/>
                <a:ext cx="2521080" cy="2232000"/>
              </a:xfrm>
              <a:custGeom>
                <a:avLst/>
                <a:gdLst/>
                <a:ahLst/>
                <a:rect l="l" t="t" r="r" b="b"/>
                <a:pathLst>
                  <a:path w="1588" h="1406">
                    <a:moveTo>
                      <a:pt x="0" y="1406"/>
                    </a:moveTo>
                    <a:lnTo>
                      <a:pt x="772" y="0"/>
                    </a:lnTo>
                    <a:lnTo>
                      <a:pt x="1588" y="1406"/>
                    </a:lnTo>
                    <a:lnTo>
                      <a:pt x="0" y="1406"/>
                    </a:lnTo>
                    <a:close/>
                  </a:path>
                </a:pathLst>
              </a:custGeom>
              <a:solidFill>
                <a:srgbClr val="0000ff">
                  <a:alpha val="31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268360" y="4292640"/>
                <a:ext cx="71640" cy="22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 flipV="1">
                <a:off x="1476000" y="5732280"/>
                <a:ext cx="2087640" cy="79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403280" y="5805360"/>
                <a:ext cx="216000" cy="142560"/>
              </a:xfrm>
              <a:custGeom>
                <a:avLst/>
                <a:gdLst/>
                <a:ahLst/>
                <a:rect l="l" t="t" r="r" b="b"/>
                <a:pathLst>
                  <a:path w="136" h="90">
                    <a:moveTo>
                      <a:pt x="0" y="45"/>
                    </a:moveTo>
                    <a:lnTo>
                      <a:pt x="91" y="90"/>
                    </a:lnTo>
                    <a:lnTo>
                      <a:pt x="13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340000" y="6379920"/>
                <a:ext cx="144360" cy="14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736920" y="6329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61280" y="388152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617640" y="63295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04920" y="64738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97280" y="5321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5435640" y="5877000"/>
            <a:ext cx="3168720" cy="72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5076720" y="2924280"/>
            <a:ext cx="4067280" cy="3168720"/>
            <a:chOff x="5076720" y="2924280"/>
            <a:chExt cx="4067280" cy="3168720"/>
          </a:xfrm>
        </p:grpSpPr>
        <p:sp>
          <p:nvSpPr>
            <p:cNvPr id="281" name=""/>
            <p:cNvSpPr/>
            <p:nvPr/>
          </p:nvSpPr>
          <p:spPr>
            <a:xfrm>
              <a:off x="5076720" y="2924280"/>
              <a:ext cx="4067280" cy="3168720"/>
            </a:xfrm>
            <a:prstGeom prst="wedgeRoundRectCallout">
              <a:avLst>
                <a:gd name="adj1" fmla="val 4370"/>
                <a:gd name="adj2" fmla="val 67282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5580000" y="3068640"/>
                  <a:ext cx="3384720" cy="239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КТ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КЕ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6</m:t>
                              </m:r>
                            </m:e>
                          </m:rad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ЕТ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rad>
                        </m:e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EKT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KO</m:t>
                          </m:r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ET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EK</m:t>
                          </m:r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6</m:t>
                              </m:r>
                            </m:e>
                          </m:rad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4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3</m:t>
                                  </m:r>
                                </m:e>
                              </m:rad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3" name=""/>
          <p:cNvSpPr/>
          <p:nvPr/>
        </p:nvSpPr>
        <p:spPr>
          <a:xfrm>
            <a:off x="1332000" y="476280"/>
            <a:ext cx="2016000" cy="2808360"/>
          </a:xfrm>
          <a:custGeom>
            <a:avLst/>
            <a:gdLst/>
            <a:ahLst/>
            <a:rect l="l" t="t" r="r" b="b"/>
            <a:pathLst>
              <a:path w="1270" h="1769">
                <a:moveTo>
                  <a:pt x="590" y="0"/>
                </a:moveTo>
                <a:lnTo>
                  <a:pt x="0" y="1724"/>
                </a:lnTo>
                <a:lnTo>
                  <a:pt x="1270" y="1769"/>
                </a:lnTo>
                <a:lnTo>
                  <a:pt x="590" y="0"/>
                </a:lnTo>
                <a:close/>
              </a:path>
            </a:pathLst>
          </a:custGeom>
          <a:solidFill>
            <a:srgbClr val="0000ff">
              <a:alpha val="2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79280" y="189000"/>
            <a:ext cx="1152720" cy="647640"/>
          </a:xfrm>
          <a:custGeom>
            <a:avLst/>
            <a:gdLst>
              <a:gd name="textAreaLeft" fmla="*/ 41760 w 1152720"/>
              <a:gd name="textAreaRight" fmla="*/ 1110960 w 1152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8436" h="21600">
                <a:moveTo>
                  <a:pt x="0" y="0"/>
                </a:moveTo>
                <a:lnTo>
                  <a:pt x="38436" y="0"/>
                </a:lnTo>
                <a:lnTo>
                  <a:pt x="38436" y="21600"/>
                </a:lnTo>
                <a:lnTo>
                  <a:pt x="0" y="21600"/>
                </a:lnTo>
                <a:close/>
              </a:path>
              <a:path fill="lightenLess" w="38436" h="21600">
                <a:moveTo>
                  <a:pt x="0" y="0"/>
                </a:moveTo>
                <a:lnTo>
                  <a:pt x="38436" y="0"/>
                </a:lnTo>
                <a:lnTo>
                  <a:pt x="37036" y="1400"/>
                </a:lnTo>
                <a:lnTo>
                  <a:pt x="1400" y="1400"/>
                </a:lnTo>
                <a:close/>
              </a:path>
              <a:path fill="darken" w="38436" h="21600">
                <a:moveTo>
                  <a:pt x="38436" y="0"/>
                </a:moveTo>
                <a:lnTo>
                  <a:pt x="38436" y="21600"/>
                </a:lnTo>
                <a:lnTo>
                  <a:pt x="37036" y="20200"/>
                </a:lnTo>
                <a:lnTo>
                  <a:pt x="37036" y="1400"/>
                </a:lnTo>
                <a:close/>
              </a:path>
              <a:path fill="darkenLess" w="38436" h="21600">
                <a:moveTo>
                  <a:pt x="38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36" y="20200"/>
                </a:lnTo>
                <a:close/>
              </a:path>
              <a:path fill="lighten" w="38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36" h="21600">
                <a:moveTo>
                  <a:pt x="12212" y="7493"/>
                </a:moveTo>
                <a:lnTo>
                  <a:pt x="15719" y="7493"/>
                </a:lnTo>
                <a:lnTo>
                  <a:pt x="15719" y="12828"/>
                </a:lnTo>
                <a:cubicBezTo>
                  <a:pt x="15719" y="13751"/>
                  <a:pt x="16520" y="14482"/>
                  <a:pt x="17556" y="14482"/>
                </a:cubicBezTo>
                <a:lnTo>
                  <a:pt x="19218" y="14482"/>
                </a:lnTo>
                <a:cubicBezTo>
                  <a:pt x="20254" y="14482"/>
                  <a:pt x="21054" y="13751"/>
                  <a:pt x="21054" y="12828"/>
                </a:cubicBezTo>
                <a:lnTo>
                  <a:pt x="21054" y="7493"/>
                </a:lnTo>
                <a:lnTo>
                  <a:pt x="19218" y="7493"/>
                </a:lnTo>
                <a:lnTo>
                  <a:pt x="22726" y="3985"/>
                </a:lnTo>
                <a:lnTo>
                  <a:pt x="26399" y="7493"/>
                </a:lnTo>
                <a:lnTo>
                  <a:pt x="24562" y="7493"/>
                </a:lnTo>
                <a:lnTo>
                  <a:pt x="24562" y="12828"/>
                </a:lnTo>
                <a:cubicBezTo>
                  <a:pt x="24562" y="15596"/>
                  <a:pt x="21986" y="18155"/>
                  <a:pt x="19218" y="18155"/>
                </a:cubicBezTo>
                <a:lnTo>
                  <a:pt x="17556" y="18155"/>
                </a:lnTo>
                <a:cubicBezTo>
                  <a:pt x="14788" y="18155"/>
                  <a:pt x="12212" y="15596"/>
                  <a:pt x="12212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48011E-007 L 0.03924 0.43016 E">
                                      <p:cBhvr>
                                        <p:cTn id="80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"/>
          <p:cNvGrpSpPr/>
          <p:nvPr/>
        </p:nvGrpSpPr>
        <p:grpSpPr>
          <a:xfrm>
            <a:off x="469800" y="1052280"/>
            <a:ext cx="4450680" cy="3993480"/>
            <a:chOff x="469800" y="1052280"/>
            <a:chExt cx="4450680" cy="3993480"/>
          </a:xfrm>
        </p:grpSpPr>
        <p:sp>
          <p:nvSpPr>
            <p:cNvPr id="286" name=""/>
            <p:cNvSpPr/>
            <p:nvPr/>
          </p:nvSpPr>
          <p:spPr>
            <a:xfrm flipH="1">
              <a:off x="631440" y="1052640"/>
              <a:ext cx="1873080" cy="33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469800" y="1052280"/>
              <a:ext cx="4450680" cy="3993480"/>
              <a:chOff x="469800" y="1052280"/>
              <a:chExt cx="4450680" cy="3993480"/>
            </a:xfrm>
          </p:grpSpPr>
          <p:sp>
            <p:nvSpPr>
              <p:cNvPr id="288" name=""/>
              <p:cNvSpPr/>
              <p:nvPr/>
            </p:nvSpPr>
            <p:spPr>
              <a:xfrm>
                <a:off x="469800" y="44560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575240" y="316080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722680" y="45086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1280880" y="4508640"/>
                <a:ext cx="863280" cy="537120"/>
                <a:chOff x="1280880" y="4508640"/>
                <a:chExt cx="863280" cy="5371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1280880" y="458604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93" name=""/>
                    <p:cNvSpPr txBox="1"/>
                    <p:nvPr/>
                  </p:nvSpPr>
                  <p:spPr>
                    <a:xfrm>
                      <a:off x="1539000" y="4508640"/>
                      <a:ext cx="605160" cy="5054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294" name=""/>
              <p:cNvSpPr/>
              <p:nvPr/>
            </p:nvSpPr>
            <p:spPr>
              <a:xfrm>
                <a:off x="2504880" y="1052640"/>
                <a:ext cx="201636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5" name=""/>
              <p:cNvGrpSpPr/>
              <p:nvPr/>
            </p:nvGrpSpPr>
            <p:grpSpPr>
              <a:xfrm>
                <a:off x="631800" y="3284640"/>
                <a:ext cx="3889440" cy="1154160"/>
                <a:chOff x="631800" y="3284640"/>
                <a:chExt cx="3889440" cy="115416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631800" y="3284640"/>
                  <a:ext cx="3858120" cy="1154160"/>
                </a:xfrm>
                <a:custGeom>
                  <a:avLst/>
                  <a:gdLst/>
                  <a:ahLst/>
                  <a:rect l="l" t="t" r="r" b="b"/>
                  <a:pathLst>
                    <a:path w="3600" h="1362">
                      <a:moveTo>
                        <a:pt x="0" y="1362"/>
                      </a:moveTo>
                      <a:cubicBezTo>
                        <a:pt x="35" y="1350"/>
                        <a:pt x="62" y="1362"/>
                        <a:pt x="100" y="1362"/>
                      </a:cubicBezTo>
                      <a:lnTo>
                        <a:pt x="2058" y="1360"/>
                      </a:lnTo>
                      <a:lnTo>
                        <a:pt x="3600" y="0"/>
                      </a:lnTo>
                    </a:path>
                  </a:pathLst>
                </a:custGeom>
                <a:solidFill>
                  <a:srgbClr val="99cc00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31800" y="3284640"/>
                  <a:ext cx="3889440" cy="1152360"/>
                </a:xfrm>
                <a:custGeom>
                  <a:avLst/>
                  <a:gdLst/>
                  <a:ahLst/>
                  <a:rect l="l" t="t" r="r" b="b"/>
                  <a:pathLst>
                    <a:path w="3629" h="1360">
                      <a:moveTo>
                        <a:pt x="0" y="1360"/>
                      </a:moveTo>
                      <a:lnTo>
                        <a:pt x="1588" y="0"/>
                      </a:lnTo>
                      <a:lnTo>
                        <a:pt x="3629" y="0"/>
                      </a:lnTo>
                    </a:path>
                  </a:pathLst>
                </a:custGeom>
                <a:solidFill>
                  <a:srgbClr val="99cc00"/>
                </a:solidFill>
                <a:ln w="381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8" name=""/>
              <p:cNvSpPr/>
              <p:nvPr/>
            </p:nvSpPr>
            <p:spPr>
              <a:xfrm flipV="1">
                <a:off x="2504880" y="1052280"/>
                <a:ext cx="0" cy="280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504880" y="1052640"/>
                <a:ext cx="287280" cy="338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2360160" y="1052640"/>
                <a:ext cx="14436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001960" y="28530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2" name=""/>
          <p:cNvSpPr/>
          <p:nvPr/>
        </p:nvSpPr>
        <p:spPr>
          <a:xfrm>
            <a:off x="2321640" y="63972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92720" y="260280"/>
            <a:ext cx="556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) Найдем расстояние от ребра КС до диагон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Проведем высот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СО и докажем , ч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бщий перпендикуляр к прямым КС и 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838400" y="1289160"/>
            <a:ext cx="424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КС по постро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) Так как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СО) (По призна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пендикулярности прямо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и), 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(КСО), то 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┴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Найдем длин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спользу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щадь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С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6804000" y="2205000"/>
                <a:ext cx="2872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2269800" y="3933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84360" y="1052640"/>
            <a:ext cx="2016360" cy="2808000"/>
          </a:xfrm>
          <a:custGeom>
            <a:avLst/>
            <a:gdLst/>
            <a:ahLst/>
            <a:rect l="l" t="t" r="r" b="b"/>
            <a:pathLst>
              <a:path w="1270" h="1769">
                <a:moveTo>
                  <a:pt x="0" y="0"/>
                </a:moveTo>
                <a:lnTo>
                  <a:pt x="0" y="1769"/>
                </a:lnTo>
                <a:lnTo>
                  <a:pt x="1270" y="1406"/>
                </a:lnTo>
                <a:lnTo>
                  <a:pt x="0" y="0"/>
                </a:lnTo>
                <a:close/>
              </a:path>
            </a:pathLst>
          </a:custGeom>
          <a:solidFill>
            <a:srgbClr val="4f81bd">
              <a:alpha val="4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2484360" y="3284640"/>
            <a:ext cx="2016360" cy="57600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2484360" y="2565360"/>
            <a:ext cx="1366920" cy="1295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976560" y="2152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rot="2706600">
            <a:off x="3779640" y="2565360"/>
            <a:ext cx="144360" cy="144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3564000" y="3933720"/>
                <a:ext cx="4176720" cy="24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O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469800" y="1052280"/>
            <a:ext cx="4450680" cy="3993480"/>
            <a:chOff x="469800" y="1052280"/>
            <a:chExt cx="4450680" cy="3993480"/>
          </a:xfrm>
        </p:grpSpPr>
        <p:sp>
          <p:nvSpPr>
            <p:cNvPr id="314" name=""/>
            <p:cNvSpPr/>
            <p:nvPr/>
          </p:nvSpPr>
          <p:spPr>
            <a:xfrm flipH="1">
              <a:off x="631440" y="1052640"/>
              <a:ext cx="1873080" cy="33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469800" y="1052280"/>
              <a:ext cx="4450680" cy="3993480"/>
              <a:chOff x="469800" y="1052280"/>
              <a:chExt cx="4450680" cy="3993480"/>
            </a:xfrm>
          </p:grpSpPr>
          <p:sp>
            <p:nvSpPr>
              <p:cNvPr id="316" name=""/>
              <p:cNvSpPr/>
              <p:nvPr/>
            </p:nvSpPr>
            <p:spPr>
              <a:xfrm>
                <a:off x="469800" y="44560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575240" y="316080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722680" y="45086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9" name=""/>
              <p:cNvGrpSpPr/>
              <p:nvPr/>
            </p:nvGrpSpPr>
            <p:grpSpPr>
              <a:xfrm>
                <a:off x="1280880" y="4508640"/>
                <a:ext cx="863280" cy="537120"/>
                <a:chOff x="1280880" y="4508640"/>
                <a:chExt cx="863280" cy="5371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1280880" y="458604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21" name=""/>
                    <p:cNvSpPr txBox="1"/>
                    <p:nvPr/>
                  </p:nvSpPr>
                  <p:spPr>
                    <a:xfrm>
                      <a:off x="1539000" y="4508640"/>
                      <a:ext cx="605160" cy="5054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322" name=""/>
              <p:cNvSpPr/>
              <p:nvPr/>
            </p:nvSpPr>
            <p:spPr>
              <a:xfrm>
                <a:off x="2504880" y="1052640"/>
                <a:ext cx="201636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3" name=""/>
              <p:cNvGrpSpPr/>
              <p:nvPr/>
            </p:nvGrpSpPr>
            <p:grpSpPr>
              <a:xfrm>
                <a:off x="631800" y="3284640"/>
                <a:ext cx="3889440" cy="1154160"/>
                <a:chOff x="631800" y="3284640"/>
                <a:chExt cx="3889440" cy="115416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631800" y="3284640"/>
                  <a:ext cx="3858120" cy="1154160"/>
                </a:xfrm>
                <a:custGeom>
                  <a:avLst/>
                  <a:gdLst/>
                  <a:ahLst/>
                  <a:rect l="l" t="t" r="r" b="b"/>
                  <a:pathLst>
                    <a:path w="3600" h="1362">
                      <a:moveTo>
                        <a:pt x="0" y="1362"/>
                      </a:moveTo>
                      <a:cubicBezTo>
                        <a:pt x="35" y="1350"/>
                        <a:pt x="62" y="1362"/>
                        <a:pt x="100" y="1362"/>
                      </a:cubicBezTo>
                      <a:lnTo>
                        <a:pt x="2058" y="1360"/>
                      </a:lnTo>
                      <a:lnTo>
                        <a:pt x="3600" y="0"/>
                      </a:lnTo>
                    </a:path>
                  </a:pathLst>
                </a:custGeom>
                <a:solidFill>
                  <a:srgbClr val="99cc00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31800" y="3284640"/>
                  <a:ext cx="3889440" cy="1152360"/>
                </a:xfrm>
                <a:custGeom>
                  <a:avLst/>
                  <a:gdLst/>
                  <a:ahLst/>
                  <a:rect l="l" t="t" r="r" b="b"/>
                  <a:pathLst>
                    <a:path w="3629" h="1360">
                      <a:moveTo>
                        <a:pt x="0" y="1360"/>
                      </a:moveTo>
                      <a:lnTo>
                        <a:pt x="1588" y="0"/>
                      </a:lnTo>
                      <a:lnTo>
                        <a:pt x="3629" y="0"/>
                      </a:lnTo>
                    </a:path>
                  </a:pathLst>
                </a:custGeom>
                <a:solidFill>
                  <a:srgbClr val="99cc00"/>
                </a:solidFill>
                <a:ln w="381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"/>
              <p:cNvSpPr/>
              <p:nvPr/>
            </p:nvSpPr>
            <p:spPr>
              <a:xfrm flipV="1">
                <a:off x="2504880" y="1052280"/>
                <a:ext cx="0" cy="280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504880" y="1052640"/>
                <a:ext cx="287280" cy="338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2360160" y="1052640"/>
                <a:ext cx="14436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001960" y="28530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0" name=""/>
          <p:cNvSpPr/>
          <p:nvPr/>
        </p:nvSpPr>
        <p:spPr>
          <a:xfrm>
            <a:off x="4479840" y="49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996720" y="549360"/>
            <a:ext cx="519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едем прямоугольную систему координа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бщий перпендикуляр прям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айдем длину векто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4211640" y="1557360"/>
                <a:ext cx="41767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SN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C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5056560" y="2297160"/>
            <a:ext cx="377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ка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линеаре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ет такое число х,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5219640" y="3068640"/>
                <a:ext cx="3240000" cy="17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x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аналогично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y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K</m:t>
                            </m:r>
                          </m:e>
                        </m:acc>
                        <m:r>
                          <m:t xml:space="preserve">⇒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N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x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y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K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4553280" y="4745160"/>
            <a:ext cx="34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йдем координаты вектор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2124000" y="5229360"/>
                <a:ext cx="576108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e>
                        </m:acc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</m:acc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K</m:t>
                            </m:r>
                          </m:e>
                        </m:acc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⇒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N</m:t>
                            </m:r>
                          </m:e>
                        </m:acc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;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4121640" y="136440"/>
            <a:ext cx="348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Векторно-координатный мет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2484360" y="333360"/>
            <a:ext cx="0" cy="3527280"/>
          </a:xfrm>
          <a:prstGeom prst="line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536560" y="136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484360" y="3860640"/>
            <a:ext cx="719280" cy="1297080"/>
          </a:xfrm>
          <a:prstGeom prst="line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57280" y="4816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484360" y="3068640"/>
            <a:ext cx="2664000" cy="792000"/>
          </a:xfrm>
          <a:prstGeom prst="line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552920" y="2728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60560" y="712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052360" y="3789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2627280" y="1989000"/>
            <a:ext cx="720720" cy="21607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49640" y="4024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402360" y="1647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684360" y="476280"/>
                <a:ext cx="6264000" cy="25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Учитывая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чт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N</m:t>
                            </m:r>
                          </m:e>
                        </m:acc>
                        <m:r>
                          <m:t xml:space="preserve">⊥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e>
                        </m:acc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N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D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N</m:t>
                            </m:r>
                          </m:e>
                        </m:acc>
                        <m:r>
                          <m:t xml:space="preserve">⊥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K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N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K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⇒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908000" y="3645000"/>
                <a:ext cx="5618160" cy="22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лучаем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N</m:t>
                            </m:r>
                          </m:e>
                        </m:acc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N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5867280" y="6021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024" h="21600">
                <a:moveTo>
                  <a:pt x="23006" y="7493"/>
                </a:moveTo>
                <a:lnTo>
                  <a:pt x="26513" y="7493"/>
                </a:lnTo>
                <a:lnTo>
                  <a:pt x="26513" y="12828"/>
                </a:lnTo>
                <a:cubicBezTo>
                  <a:pt x="26513" y="13751"/>
                  <a:pt x="27314" y="14482"/>
                  <a:pt x="28350" y="14482"/>
                </a:cubicBezTo>
                <a:lnTo>
                  <a:pt x="30012" y="14482"/>
                </a:lnTo>
                <a:cubicBezTo>
                  <a:pt x="31048" y="14482"/>
                  <a:pt x="31848" y="13751"/>
                  <a:pt x="31848" y="12828"/>
                </a:cubicBezTo>
                <a:lnTo>
                  <a:pt x="31848" y="7493"/>
                </a:lnTo>
                <a:lnTo>
                  <a:pt x="30012" y="7493"/>
                </a:lnTo>
                <a:lnTo>
                  <a:pt x="33520" y="3985"/>
                </a:lnTo>
                <a:lnTo>
                  <a:pt x="37193" y="7493"/>
                </a:lnTo>
                <a:lnTo>
                  <a:pt x="35356" y="7493"/>
                </a:lnTo>
                <a:lnTo>
                  <a:pt x="35356" y="12828"/>
                </a:lnTo>
                <a:cubicBezTo>
                  <a:pt x="35356" y="15596"/>
                  <a:pt x="32780" y="18155"/>
                  <a:pt x="30012" y="18155"/>
                </a:cubicBezTo>
                <a:lnTo>
                  <a:pt x="28350" y="18155"/>
                </a:lnTo>
                <a:cubicBezTo>
                  <a:pt x="25582" y="18155"/>
                  <a:pt x="23006" y="15596"/>
                  <a:pt x="23006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1440" y="549000"/>
            <a:ext cx="4450680" cy="3993480"/>
            <a:chOff x="1440" y="549000"/>
            <a:chExt cx="4450680" cy="3993480"/>
          </a:xfrm>
        </p:grpSpPr>
        <p:sp>
          <p:nvSpPr>
            <p:cNvPr id="353" name=""/>
            <p:cNvSpPr/>
            <p:nvPr/>
          </p:nvSpPr>
          <p:spPr>
            <a:xfrm flipH="1">
              <a:off x="163080" y="549360"/>
              <a:ext cx="1873080" cy="33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1440" y="549000"/>
              <a:ext cx="4450680" cy="3993480"/>
              <a:chOff x="1440" y="549000"/>
              <a:chExt cx="4450680" cy="3993480"/>
            </a:xfrm>
          </p:grpSpPr>
          <p:sp>
            <p:nvSpPr>
              <p:cNvPr id="355" name=""/>
              <p:cNvSpPr/>
              <p:nvPr/>
            </p:nvSpPr>
            <p:spPr>
              <a:xfrm>
                <a:off x="1440" y="39528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106880" y="26575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254320" y="40053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8" name=""/>
              <p:cNvGrpSpPr/>
              <p:nvPr/>
            </p:nvGrpSpPr>
            <p:grpSpPr>
              <a:xfrm>
                <a:off x="812520" y="4005360"/>
                <a:ext cx="863280" cy="537120"/>
                <a:chOff x="812520" y="4005360"/>
                <a:chExt cx="863280" cy="53712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812520" y="408276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60" name=""/>
                    <p:cNvSpPr txBox="1"/>
                    <p:nvPr/>
                  </p:nvSpPr>
                  <p:spPr>
                    <a:xfrm>
                      <a:off x="1070640" y="4005360"/>
                      <a:ext cx="605160" cy="5054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361" name=""/>
              <p:cNvSpPr/>
              <p:nvPr/>
            </p:nvSpPr>
            <p:spPr>
              <a:xfrm>
                <a:off x="2036520" y="549360"/>
                <a:ext cx="201636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163440" y="2781360"/>
                <a:ext cx="3889440" cy="1154160"/>
                <a:chOff x="163440" y="2781360"/>
                <a:chExt cx="3889440" cy="11541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163440" y="2781360"/>
                  <a:ext cx="3858120" cy="1154160"/>
                </a:xfrm>
                <a:custGeom>
                  <a:avLst/>
                  <a:gdLst/>
                  <a:ahLst/>
                  <a:rect l="l" t="t" r="r" b="b"/>
                  <a:pathLst>
                    <a:path w="3600" h="1362">
                      <a:moveTo>
                        <a:pt x="0" y="1362"/>
                      </a:moveTo>
                      <a:cubicBezTo>
                        <a:pt x="35" y="1350"/>
                        <a:pt x="62" y="1362"/>
                        <a:pt x="100" y="1362"/>
                      </a:cubicBezTo>
                      <a:lnTo>
                        <a:pt x="2058" y="1360"/>
                      </a:lnTo>
                      <a:lnTo>
                        <a:pt x="3600" y="0"/>
                      </a:lnTo>
                    </a:path>
                  </a:pathLst>
                </a:custGeom>
                <a:solidFill>
                  <a:srgbClr val="99cc00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63440" y="2781360"/>
                  <a:ext cx="3889440" cy="1152360"/>
                </a:xfrm>
                <a:custGeom>
                  <a:avLst/>
                  <a:gdLst/>
                  <a:ahLst/>
                  <a:rect l="l" t="t" r="r" b="b"/>
                  <a:pathLst>
                    <a:path w="3629" h="1360">
                      <a:moveTo>
                        <a:pt x="0" y="1360"/>
                      </a:moveTo>
                      <a:lnTo>
                        <a:pt x="1588" y="0"/>
                      </a:lnTo>
                      <a:lnTo>
                        <a:pt x="3629" y="0"/>
                      </a:lnTo>
                    </a:path>
                  </a:pathLst>
                </a:custGeom>
                <a:solidFill>
                  <a:srgbClr val="99cc00"/>
                </a:solidFill>
                <a:ln w="381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5" name=""/>
              <p:cNvSpPr/>
              <p:nvPr/>
            </p:nvSpPr>
            <p:spPr>
              <a:xfrm flipV="1">
                <a:off x="2036520" y="549000"/>
                <a:ext cx="0" cy="280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036520" y="549360"/>
                <a:ext cx="287280" cy="338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1891800" y="549360"/>
                <a:ext cx="14436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533600" y="234972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9" name=""/>
          <p:cNvSpPr/>
          <p:nvPr/>
        </p:nvSpPr>
        <p:spPr>
          <a:xfrm>
            <a:off x="4339800" y="352440"/>
            <a:ext cx="479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) Высота вписанного конуса равна выс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рамиды, а радиус основания кону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ен радиусу окружности, вписанной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вадрат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С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эт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483080" y="3376440"/>
            <a:ext cx="4606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) Образующая описанного конуса ра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ковому ребру пирамиды, а радиу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я конуса равен радиу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ружности, описанной около квадра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С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эт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4427640" y="1773360"/>
                <a:ext cx="417672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писа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конуса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4211640" y="5013360"/>
                <a:ext cx="46432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пис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конус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3" name=""/>
          <p:cNvSpPr/>
          <p:nvPr/>
        </p:nvSpPr>
        <p:spPr>
          <a:xfrm rot="20719800">
            <a:off x="900000" y="2852640"/>
            <a:ext cx="2448000" cy="1009800"/>
          </a:xfrm>
          <a:prstGeom prst="ellipse">
            <a:avLst/>
          </a:prstGeom>
          <a:solidFill>
            <a:srgbClr val="00ff00">
              <a:alpha val="18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050920" y="3357720"/>
            <a:ext cx="100836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050920" y="2781000"/>
            <a:ext cx="194472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033640" y="65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765080" y="3429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908000" y="6021360"/>
            <a:ext cx="1584360" cy="647640"/>
          </a:xfrm>
          <a:custGeom>
            <a:avLst/>
            <a:gdLst>
              <a:gd name="textAreaLeft" fmla="*/ 41760 w 1584360"/>
              <a:gd name="textAreaRight" fmla="*/ 1542600 w 1584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2824" h="21600">
                <a:moveTo>
                  <a:pt x="0" y="0"/>
                </a:moveTo>
                <a:lnTo>
                  <a:pt x="52824" y="0"/>
                </a:lnTo>
                <a:lnTo>
                  <a:pt x="52824" y="21600"/>
                </a:lnTo>
                <a:lnTo>
                  <a:pt x="0" y="21600"/>
                </a:lnTo>
                <a:close/>
              </a:path>
              <a:path fill="lightenLess" w="52824" h="21600">
                <a:moveTo>
                  <a:pt x="0" y="0"/>
                </a:moveTo>
                <a:lnTo>
                  <a:pt x="52824" y="0"/>
                </a:lnTo>
                <a:lnTo>
                  <a:pt x="51424" y="1400"/>
                </a:lnTo>
                <a:lnTo>
                  <a:pt x="1400" y="1400"/>
                </a:lnTo>
                <a:close/>
              </a:path>
              <a:path fill="darken" w="52824" h="21600">
                <a:moveTo>
                  <a:pt x="52824" y="0"/>
                </a:moveTo>
                <a:lnTo>
                  <a:pt x="52824" y="21600"/>
                </a:lnTo>
                <a:lnTo>
                  <a:pt x="51424" y="20200"/>
                </a:lnTo>
                <a:lnTo>
                  <a:pt x="51424" y="1400"/>
                </a:lnTo>
                <a:close/>
              </a:path>
              <a:path fill="darkenLess" w="52824" h="21600">
                <a:moveTo>
                  <a:pt x="5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424" y="20200"/>
                </a:lnTo>
                <a:close/>
              </a:path>
              <a:path fill="lighten" w="5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824" h="21600">
                <a:moveTo>
                  <a:pt x="19406" y="7493"/>
                </a:moveTo>
                <a:lnTo>
                  <a:pt x="22913" y="7493"/>
                </a:lnTo>
                <a:lnTo>
                  <a:pt x="22913" y="12828"/>
                </a:lnTo>
                <a:cubicBezTo>
                  <a:pt x="22913" y="13751"/>
                  <a:pt x="23714" y="14482"/>
                  <a:pt x="24750" y="14482"/>
                </a:cubicBezTo>
                <a:lnTo>
                  <a:pt x="26412" y="14482"/>
                </a:lnTo>
                <a:cubicBezTo>
                  <a:pt x="27448" y="14482"/>
                  <a:pt x="28248" y="13751"/>
                  <a:pt x="28248" y="12828"/>
                </a:cubicBezTo>
                <a:lnTo>
                  <a:pt x="28248" y="7493"/>
                </a:lnTo>
                <a:lnTo>
                  <a:pt x="26412" y="7493"/>
                </a:lnTo>
                <a:lnTo>
                  <a:pt x="29920" y="3985"/>
                </a:lnTo>
                <a:lnTo>
                  <a:pt x="33593" y="7493"/>
                </a:lnTo>
                <a:lnTo>
                  <a:pt x="31756" y="7493"/>
                </a:lnTo>
                <a:lnTo>
                  <a:pt x="31756" y="12828"/>
                </a:lnTo>
                <a:cubicBezTo>
                  <a:pt x="31756" y="15596"/>
                  <a:pt x="29180" y="18155"/>
                  <a:pt x="26412" y="18155"/>
                </a:cubicBezTo>
                <a:lnTo>
                  <a:pt x="24750" y="18155"/>
                </a:lnTo>
                <a:cubicBezTo>
                  <a:pt x="21982" y="18155"/>
                  <a:pt x="19406" y="15596"/>
                  <a:pt x="19406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2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1116000" y="1700280"/>
            <a:ext cx="7272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258920" y="3141720"/>
            <a:ext cx="5761080" cy="2162160"/>
            <a:chOff x="1258920" y="3141720"/>
            <a:chExt cx="5761080" cy="2162160"/>
          </a:xfrm>
        </p:grpSpPr>
        <p:sp>
          <p:nvSpPr>
            <p:cNvPr id="44" name=""/>
            <p:cNvSpPr/>
            <p:nvPr/>
          </p:nvSpPr>
          <p:spPr>
            <a:xfrm>
              <a:off x="1258920" y="3141720"/>
              <a:ext cx="5715000" cy="2162160"/>
            </a:xfrm>
            <a:custGeom>
              <a:avLst/>
              <a:gdLst/>
              <a:ahLst/>
              <a:rect l="l" t="t" r="r" b="b"/>
              <a:pathLst>
                <a:path w="3600" h="1362">
                  <a:moveTo>
                    <a:pt x="0" y="1362"/>
                  </a:moveTo>
                  <a:cubicBezTo>
                    <a:pt x="35" y="1350"/>
                    <a:pt x="62" y="1362"/>
                    <a:pt x="100" y="1362"/>
                  </a:cubicBezTo>
                  <a:lnTo>
                    <a:pt x="2058" y="1360"/>
                  </a:lnTo>
                  <a:lnTo>
                    <a:pt x="360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58920" y="3141720"/>
              <a:ext cx="5761080" cy="2158920"/>
            </a:xfrm>
            <a:custGeom>
              <a:avLst/>
              <a:gdLst/>
              <a:ahLst/>
              <a:rect l="l" t="t" r="r" b="b"/>
              <a:pathLst>
                <a:path w="3629" h="1360">
                  <a:moveTo>
                    <a:pt x="0" y="1360"/>
                  </a:moveTo>
                  <a:lnTo>
                    <a:pt x="1588" y="0"/>
                  </a:lnTo>
                  <a:lnTo>
                    <a:pt x="3629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1258920" y="3141360"/>
            <a:ext cx="5689440" cy="21589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8360" y="3141720"/>
            <a:ext cx="792360" cy="21589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4067280" y="260280"/>
            <a:ext cx="0" cy="39607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780000" y="260280"/>
            <a:ext cx="287280" cy="288144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1258560" y="260280"/>
            <a:ext cx="2808360" cy="504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67280" y="260280"/>
            <a:ext cx="433440" cy="504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260280"/>
            <a:ext cx="2881080" cy="288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1800" y="530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10360" y="5392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21800" y="29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49800" y="2708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81440" y="4365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1080" y="260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260280"/>
            <a:ext cx="1728720" cy="3889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49640" y="4240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484000" y="4149720"/>
            <a:ext cx="3311640" cy="71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05280" y="388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95640" y="414972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916360" y="5373720"/>
            <a:ext cx="720720" cy="531000"/>
            <a:chOff x="2916360" y="5373720"/>
            <a:chExt cx="720720" cy="531000"/>
          </a:xfrm>
        </p:grpSpPr>
        <p:sp>
          <p:nvSpPr>
            <p:cNvPr id="65" name=""/>
            <p:cNvSpPr/>
            <p:nvPr/>
          </p:nvSpPr>
          <p:spPr>
            <a:xfrm>
              <a:off x="2916360" y="5445000"/>
              <a:ext cx="31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3132000" y="5373720"/>
                  <a:ext cx="505080" cy="46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7" name=""/>
          <p:cNvSpPr/>
          <p:nvPr/>
        </p:nvSpPr>
        <p:spPr>
          <a:xfrm>
            <a:off x="3780000" y="2133720"/>
            <a:ext cx="3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556000" y="260280"/>
            <a:ext cx="1511280" cy="3960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 правильной четырехугольной пирамиде известны длина стороны основания 2         и длина высоты 2. Найдите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)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объем пирамид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б)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площадь боковой по­верхност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)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угол наклона бокового ребра к плоскости основани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)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угол наклона боковой грани к плоскости основани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)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радиус вписанного шар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)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радиус описанного шар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ж)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расстояние от вершины пирамиды до плоскости основани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635280" y="1844640"/>
                <a:ext cx="4320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з)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расстояние от вершины пирамиды до ребра основа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)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расстояние от ребра основания до противоположной гран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) расстояние между боковым ребром и скрещивающейся с ним диагональю ос­нова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л) объем вписанного конуса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) площадь боковой поверхности описанного кону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5003640" y="6021360"/>
            <a:ext cx="2664000" cy="576360"/>
          </a:xfrm>
          <a:custGeom>
            <a:avLst/>
            <a:gdLst>
              <a:gd name="textAreaLeft" fmla="*/ 37080 w 2664000"/>
              <a:gd name="textAreaRight" fmla="*/ 2626920 w 266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99789" h="21600">
                <a:moveTo>
                  <a:pt x="0" y="0"/>
                </a:moveTo>
                <a:lnTo>
                  <a:pt x="99789" y="0"/>
                </a:lnTo>
                <a:lnTo>
                  <a:pt x="99789" y="21600"/>
                </a:lnTo>
                <a:lnTo>
                  <a:pt x="0" y="21600"/>
                </a:lnTo>
                <a:close/>
              </a:path>
              <a:path fill="lightenLess" w="99789" h="21600">
                <a:moveTo>
                  <a:pt x="0" y="0"/>
                </a:moveTo>
                <a:lnTo>
                  <a:pt x="99789" y="0"/>
                </a:lnTo>
                <a:lnTo>
                  <a:pt x="98389" y="1400"/>
                </a:lnTo>
                <a:lnTo>
                  <a:pt x="1400" y="1400"/>
                </a:lnTo>
                <a:close/>
              </a:path>
              <a:path fill="darken" w="99789" h="21600">
                <a:moveTo>
                  <a:pt x="99789" y="0"/>
                </a:moveTo>
                <a:lnTo>
                  <a:pt x="99789" y="21600"/>
                </a:lnTo>
                <a:lnTo>
                  <a:pt x="98389" y="20200"/>
                </a:lnTo>
                <a:lnTo>
                  <a:pt x="98389" y="1400"/>
                </a:lnTo>
                <a:close/>
              </a:path>
              <a:path fill="darkenLess" w="99789" h="21600">
                <a:moveTo>
                  <a:pt x="99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389" y="20200"/>
                </a:lnTo>
                <a:close/>
              </a:path>
              <a:path fill="lighten" w="99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718160" y="1052640"/>
            <a:ext cx="292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КО – высота пирам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276720" y="1484280"/>
                <a:ext cx="561816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D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KO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(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7" name=""/>
          <p:cNvGrpSpPr/>
          <p:nvPr/>
        </p:nvGrpSpPr>
        <p:grpSpPr>
          <a:xfrm>
            <a:off x="250920" y="3789360"/>
            <a:ext cx="3889440" cy="1154160"/>
            <a:chOff x="250920" y="3789360"/>
            <a:chExt cx="3889440" cy="1154160"/>
          </a:xfrm>
        </p:grpSpPr>
        <p:sp>
          <p:nvSpPr>
            <p:cNvPr id="78" name=""/>
            <p:cNvSpPr/>
            <p:nvPr/>
          </p:nvSpPr>
          <p:spPr>
            <a:xfrm>
              <a:off x="250920" y="3789360"/>
              <a:ext cx="3858120" cy="1154160"/>
            </a:xfrm>
            <a:custGeom>
              <a:avLst/>
              <a:gdLst/>
              <a:ahLst/>
              <a:rect l="l" t="t" r="r" b="b"/>
              <a:pathLst>
                <a:path w="3600" h="1362">
                  <a:moveTo>
                    <a:pt x="0" y="1362"/>
                  </a:moveTo>
                  <a:cubicBezTo>
                    <a:pt x="35" y="1350"/>
                    <a:pt x="62" y="1362"/>
                    <a:pt x="100" y="1362"/>
                  </a:cubicBezTo>
                  <a:lnTo>
                    <a:pt x="2058" y="1360"/>
                  </a:lnTo>
                  <a:lnTo>
                    <a:pt x="3600" y="0"/>
                  </a:lnTo>
                </a:path>
              </a:pathLst>
            </a:custGeom>
            <a:solidFill>
              <a:srgbClr val="99cc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0920" y="3789360"/>
              <a:ext cx="3889440" cy="1152360"/>
            </a:xfrm>
            <a:custGeom>
              <a:avLst/>
              <a:gdLst/>
              <a:ahLst/>
              <a:rect l="l" t="t" r="r" b="b"/>
              <a:pathLst>
                <a:path w="3629" h="1360">
                  <a:moveTo>
                    <a:pt x="0" y="1360"/>
                  </a:moveTo>
                  <a:lnTo>
                    <a:pt x="1588" y="0"/>
                  </a:lnTo>
                  <a:lnTo>
                    <a:pt x="3629" y="0"/>
                  </a:lnTo>
                </a:path>
              </a:pathLst>
            </a:custGeom>
            <a:solidFill>
              <a:srgbClr val="99cc00"/>
            </a:solidFill>
            <a:ln w="381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 flipV="1">
            <a:off x="2124000" y="155700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50560" y="1557360"/>
            <a:ext cx="1873080" cy="33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24000" y="1557360"/>
            <a:ext cx="287280" cy="33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24000" y="1557360"/>
            <a:ext cx="201636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979280" y="1557360"/>
            <a:ext cx="144360" cy="22320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21080" y="3357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20720" y="4221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94520" y="12682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68360" y="2565360"/>
            <a:ext cx="3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41640" y="2655720"/>
            <a:ext cx="39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Проведем апофему КТ и найд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е длину из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КО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003640" y="3357720"/>
                <a:ext cx="381636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ra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203640" y="4869000"/>
                <a:ext cx="57610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D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8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92" name=""/>
          <p:cNvGrpSpPr/>
          <p:nvPr/>
        </p:nvGrpSpPr>
        <p:grpSpPr>
          <a:xfrm>
            <a:off x="250920" y="3789360"/>
            <a:ext cx="3889440" cy="1154160"/>
            <a:chOff x="250920" y="3789360"/>
            <a:chExt cx="3889440" cy="1154160"/>
          </a:xfrm>
        </p:grpSpPr>
        <p:sp>
          <p:nvSpPr>
            <p:cNvPr id="93" name=""/>
            <p:cNvSpPr/>
            <p:nvPr/>
          </p:nvSpPr>
          <p:spPr>
            <a:xfrm>
              <a:off x="250920" y="3789360"/>
              <a:ext cx="3858120" cy="1154160"/>
            </a:xfrm>
            <a:custGeom>
              <a:avLst/>
              <a:gdLst/>
              <a:ahLst/>
              <a:rect l="l" t="t" r="r" b="b"/>
              <a:pathLst>
                <a:path w="3600" h="1362">
                  <a:moveTo>
                    <a:pt x="0" y="1362"/>
                  </a:moveTo>
                  <a:cubicBezTo>
                    <a:pt x="35" y="1350"/>
                    <a:pt x="62" y="1362"/>
                    <a:pt x="100" y="1362"/>
                  </a:cubicBezTo>
                  <a:lnTo>
                    <a:pt x="2058" y="1360"/>
                  </a:lnTo>
                  <a:lnTo>
                    <a:pt x="3600" y="0"/>
                  </a:lnTo>
                </a:path>
              </a:pathLst>
            </a:custGeom>
            <a:solidFill>
              <a:srgbClr val="99cc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0920" y="3789360"/>
              <a:ext cx="3889440" cy="1152360"/>
            </a:xfrm>
            <a:custGeom>
              <a:avLst/>
              <a:gdLst/>
              <a:ahLst/>
              <a:rect l="l" t="t" r="r" b="b"/>
              <a:pathLst>
                <a:path w="3629" h="1360">
                  <a:moveTo>
                    <a:pt x="0" y="1360"/>
                  </a:moveTo>
                  <a:lnTo>
                    <a:pt x="1588" y="0"/>
                  </a:lnTo>
                  <a:lnTo>
                    <a:pt x="3629" y="0"/>
                  </a:lnTo>
                </a:path>
              </a:pathLst>
            </a:custGeom>
            <a:solidFill>
              <a:srgbClr val="99cc00"/>
            </a:solidFill>
            <a:ln w="381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 flipV="1">
            <a:off x="2124000" y="155700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0560" y="1557360"/>
            <a:ext cx="1873080" cy="33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24000" y="1557360"/>
            <a:ext cx="287280" cy="33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979280" y="1557360"/>
            <a:ext cx="144360" cy="22320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21080" y="3357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900000" y="5084640"/>
            <a:ext cx="720720" cy="531000"/>
            <a:chOff x="900000" y="5084640"/>
            <a:chExt cx="720720" cy="531000"/>
          </a:xfrm>
        </p:grpSpPr>
        <p:sp>
          <p:nvSpPr>
            <p:cNvPr id="101" name=""/>
            <p:cNvSpPr/>
            <p:nvPr/>
          </p:nvSpPr>
          <p:spPr>
            <a:xfrm>
              <a:off x="900000" y="5155920"/>
              <a:ext cx="31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1115640" y="5084640"/>
                  <a:ext cx="505080" cy="46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6516720" y="5950080"/>
            <a:ext cx="1368360" cy="718920"/>
          </a:xfrm>
          <a:custGeom>
            <a:avLst/>
            <a:gdLst>
              <a:gd name="textAreaLeft" fmla="*/ 46440 w 1368360"/>
              <a:gd name="textAreaRight" fmla="*/ 1321920 w 136836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41103" h="21600">
                <a:moveTo>
                  <a:pt x="0" y="0"/>
                </a:moveTo>
                <a:lnTo>
                  <a:pt x="41103" y="0"/>
                </a:lnTo>
                <a:lnTo>
                  <a:pt x="41103" y="21600"/>
                </a:lnTo>
                <a:lnTo>
                  <a:pt x="0" y="21600"/>
                </a:lnTo>
                <a:close/>
              </a:path>
              <a:path fill="lightenLess" w="41103" h="21600">
                <a:moveTo>
                  <a:pt x="0" y="0"/>
                </a:moveTo>
                <a:lnTo>
                  <a:pt x="41103" y="0"/>
                </a:lnTo>
                <a:lnTo>
                  <a:pt x="39703" y="1400"/>
                </a:lnTo>
                <a:lnTo>
                  <a:pt x="1400" y="1400"/>
                </a:lnTo>
                <a:close/>
              </a:path>
              <a:path fill="darken" w="41103" h="21600">
                <a:moveTo>
                  <a:pt x="41103" y="0"/>
                </a:moveTo>
                <a:lnTo>
                  <a:pt x="41103" y="21600"/>
                </a:lnTo>
                <a:lnTo>
                  <a:pt x="39703" y="20200"/>
                </a:lnTo>
                <a:lnTo>
                  <a:pt x="39703" y="1400"/>
                </a:lnTo>
                <a:close/>
              </a:path>
              <a:path fill="darkenLess" w="41103" h="21600">
                <a:moveTo>
                  <a:pt x="41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03" y="20200"/>
                </a:lnTo>
                <a:close/>
              </a:path>
              <a:path fill="lighten" w="41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103" h="21600">
                <a:moveTo>
                  <a:pt x="13545" y="7493"/>
                </a:moveTo>
                <a:lnTo>
                  <a:pt x="17052" y="7493"/>
                </a:lnTo>
                <a:lnTo>
                  <a:pt x="17052" y="12828"/>
                </a:lnTo>
                <a:cubicBezTo>
                  <a:pt x="17052" y="13751"/>
                  <a:pt x="17853" y="14482"/>
                  <a:pt x="18889" y="14482"/>
                </a:cubicBezTo>
                <a:lnTo>
                  <a:pt x="20551" y="14482"/>
                </a:lnTo>
                <a:cubicBezTo>
                  <a:pt x="21587" y="14482"/>
                  <a:pt x="22388" y="13751"/>
                  <a:pt x="22388" y="12828"/>
                </a:cubicBezTo>
                <a:lnTo>
                  <a:pt x="22388" y="7493"/>
                </a:lnTo>
                <a:lnTo>
                  <a:pt x="20551" y="7493"/>
                </a:lnTo>
                <a:lnTo>
                  <a:pt x="24059" y="3985"/>
                </a:lnTo>
                <a:lnTo>
                  <a:pt x="27732" y="7493"/>
                </a:lnTo>
                <a:lnTo>
                  <a:pt x="25895" y="7493"/>
                </a:lnTo>
                <a:lnTo>
                  <a:pt x="25895" y="12828"/>
                </a:lnTo>
                <a:cubicBezTo>
                  <a:pt x="25895" y="15596"/>
                  <a:pt x="23319" y="18155"/>
                  <a:pt x="20551" y="18155"/>
                </a:cubicBezTo>
                <a:lnTo>
                  <a:pt x="18889" y="18155"/>
                </a:lnTo>
                <a:cubicBezTo>
                  <a:pt x="16121" y="18155"/>
                  <a:pt x="13545" y="15596"/>
                  <a:pt x="13545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469800" y="1052280"/>
            <a:ext cx="4450680" cy="3993480"/>
            <a:chOff x="469800" y="1052280"/>
            <a:chExt cx="4450680" cy="3993480"/>
          </a:xfrm>
        </p:grpSpPr>
        <p:sp>
          <p:nvSpPr>
            <p:cNvPr id="105" name=""/>
            <p:cNvSpPr/>
            <p:nvPr/>
          </p:nvSpPr>
          <p:spPr>
            <a:xfrm flipH="1">
              <a:off x="631440" y="1052640"/>
              <a:ext cx="1873080" cy="33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469800" y="1052280"/>
              <a:ext cx="4450680" cy="3993480"/>
              <a:chOff x="469800" y="1052280"/>
              <a:chExt cx="4450680" cy="3993480"/>
            </a:xfrm>
          </p:grpSpPr>
          <p:sp>
            <p:nvSpPr>
              <p:cNvPr id="107" name=""/>
              <p:cNvSpPr/>
              <p:nvPr/>
            </p:nvSpPr>
            <p:spPr>
              <a:xfrm>
                <a:off x="469800" y="44560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575240" y="316080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722680" y="45086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1280880" y="4508640"/>
                <a:ext cx="863280" cy="537120"/>
                <a:chOff x="1280880" y="4508640"/>
                <a:chExt cx="863280" cy="53712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1280880" y="458604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12" name=""/>
                    <p:cNvSpPr txBox="1"/>
                    <p:nvPr/>
                  </p:nvSpPr>
                  <p:spPr>
                    <a:xfrm>
                      <a:off x="1539000" y="4508640"/>
                      <a:ext cx="605160" cy="5054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113" name=""/>
              <p:cNvSpPr/>
              <p:nvPr/>
            </p:nvSpPr>
            <p:spPr>
              <a:xfrm>
                <a:off x="2504880" y="1052640"/>
                <a:ext cx="201636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631800" y="3284640"/>
                <a:ext cx="3889440" cy="1154160"/>
                <a:chOff x="631800" y="3284640"/>
                <a:chExt cx="3889440" cy="115416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631800" y="3284640"/>
                  <a:ext cx="3858120" cy="1154160"/>
                </a:xfrm>
                <a:custGeom>
                  <a:avLst/>
                  <a:gdLst/>
                  <a:ahLst/>
                  <a:rect l="l" t="t" r="r" b="b"/>
                  <a:pathLst>
                    <a:path w="3600" h="1362">
                      <a:moveTo>
                        <a:pt x="0" y="1362"/>
                      </a:moveTo>
                      <a:cubicBezTo>
                        <a:pt x="35" y="1350"/>
                        <a:pt x="62" y="1362"/>
                        <a:pt x="100" y="1362"/>
                      </a:cubicBezTo>
                      <a:lnTo>
                        <a:pt x="2058" y="1360"/>
                      </a:lnTo>
                      <a:lnTo>
                        <a:pt x="3600" y="0"/>
                      </a:lnTo>
                    </a:path>
                  </a:pathLst>
                </a:custGeom>
                <a:solidFill>
                  <a:srgbClr val="99cc00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31800" y="3284640"/>
                  <a:ext cx="3889440" cy="1152360"/>
                </a:xfrm>
                <a:custGeom>
                  <a:avLst/>
                  <a:gdLst/>
                  <a:ahLst/>
                  <a:rect l="l" t="t" r="r" b="b"/>
                  <a:pathLst>
                    <a:path w="3629" h="1360">
                      <a:moveTo>
                        <a:pt x="0" y="1360"/>
                      </a:moveTo>
                      <a:lnTo>
                        <a:pt x="1588" y="0"/>
                      </a:lnTo>
                      <a:lnTo>
                        <a:pt x="3629" y="0"/>
                      </a:lnTo>
                    </a:path>
                  </a:pathLst>
                </a:custGeom>
                <a:solidFill>
                  <a:srgbClr val="99cc00"/>
                </a:solidFill>
                <a:ln w="381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 flipV="1">
                <a:off x="2504880" y="1052280"/>
                <a:ext cx="0" cy="280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504880" y="1052640"/>
                <a:ext cx="287280" cy="338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2360160" y="1052640"/>
                <a:ext cx="14436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001960" y="28530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"/>
          <p:cNvSpPr/>
          <p:nvPr/>
        </p:nvSpPr>
        <p:spPr>
          <a:xfrm>
            <a:off x="4429440" y="1268280"/>
            <a:ext cx="445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Так как в правильной пирамиде в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лы наклона всех боковых ребер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и основания равны, то найд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СО. Рассмотрим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=2, ОС=0,5 АС, где АС – диагон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вадрата АВ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знач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43280" y="3573360"/>
                <a:ext cx="388800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2321640" y="56844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484360" y="3284640"/>
            <a:ext cx="1943280" cy="5760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69800" y="3933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84360" y="1052640"/>
            <a:ext cx="2016360" cy="2808000"/>
          </a:xfrm>
          <a:custGeom>
            <a:avLst/>
            <a:gdLst/>
            <a:ahLst/>
            <a:rect l="l" t="t" r="r" b="b"/>
            <a:pathLst>
              <a:path w="1270" h="1769">
                <a:moveTo>
                  <a:pt x="0" y="0"/>
                </a:moveTo>
                <a:lnTo>
                  <a:pt x="0" y="1769"/>
                </a:lnTo>
                <a:lnTo>
                  <a:pt x="1224" y="1406"/>
                </a:lnTo>
                <a:lnTo>
                  <a:pt x="1270" y="1406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33000"/>
            </a:srgbClr>
          </a:solidFill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995640" y="2852640"/>
            <a:ext cx="28872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580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6227640" y="6093000"/>
            <a:ext cx="1513080" cy="576000"/>
          </a:xfrm>
          <a:custGeom>
            <a:avLst/>
            <a:gdLst>
              <a:gd name="textAreaLeft" fmla="*/ 37080 w 1513080"/>
              <a:gd name="textAreaRight" fmla="*/ 1476000 w 15130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56719" h="21600">
                <a:moveTo>
                  <a:pt x="0" y="0"/>
                </a:moveTo>
                <a:lnTo>
                  <a:pt x="56719" y="0"/>
                </a:lnTo>
                <a:lnTo>
                  <a:pt x="56719" y="21600"/>
                </a:lnTo>
                <a:lnTo>
                  <a:pt x="0" y="21600"/>
                </a:lnTo>
                <a:close/>
              </a:path>
              <a:path fill="lightenLess" w="56719" h="21600">
                <a:moveTo>
                  <a:pt x="0" y="0"/>
                </a:moveTo>
                <a:lnTo>
                  <a:pt x="56719" y="0"/>
                </a:lnTo>
                <a:lnTo>
                  <a:pt x="55319" y="1400"/>
                </a:lnTo>
                <a:lnTo>
                  <a:pt x="1400" y="1400"/>
                </a:lnTo>
                <a:close/>
              </a:path>
              <a:path fill="darken" w="56719" h="21600">
                <a:moveTo>
                  <a:pt x="56719" y="0"/>
                </a:moveTo>
                <a:lnTo>
                  <a:pt x="56719" y="21600"/>
                </a:lnTo>
                <a:lnTo>
                  <a:pt x="55319" y="20200"/>
                </a:lnTo>
                <a:lnTo>
                  <a:pt x="55319" y="1400"/>
                </a:lnTo>
                <a:close/>
              </a:path>
              <a:path fill="darkenLess" w="56719" h="21600">
                <a:moveTo>
                  <a:pt x="56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319" y="20200"/>
                </a:lnTo>
                <a:close/>
              </a:path>
              <a:path fill="lighten" w="56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719" h="21600">
                <a:moveTo>
                  <a:pt x="21353" y="7493"/>
                </a:moveTo>
                <a:lnTo>
                  <a:pt x="24860" y="7493"/>
                </a:lnTo>
                <a:lnTo>
                  <a:pt x="24860" y="12828"/>
                </a:lnTo>
                <a:cubicBezTo>
                  <a:pt x="24860" y="13751"/>
                  <a:pt x="25661" y="14482"/>
                  <a:pt x="26697" y="14482"/>
                </a:cubicBezTo>
                <a:lnTo>
                  <a:pt x="28359" y="14482"/>
                </a:lnTo>
                <a:cubicBezTo>
                  <a:pt x="29395" y="14482"/>
                  <a:pt x="30196" y="13751"/>
                  <a:pt x="30196" y="12828"/>
                </a:cubicBezTo>
                <a:lnTo>
                  <a:pt x="30196" y="7493"/>
                </a:lnTo>
                <a:lnTo>
                  <a:pt x="28359" y="7493"/>
                </a:lnTo>
                <a:lnTo>
                  <a:pt x="31867" y="3985"/>
                </a:lnTo>
                <a:lnTo>
                  <a:pt x="35540" y="7493"/>
                </a:lnTo>
                <a:lnTo>
                  <a:pt x="33703" y="7493"/>
                </a:lnTo>
                <a:lnTo>
                  <a:pt x="33703" y="12828"/>
                </a:lnTo>
                <a:cubicBezTo>
                  <a:pt x="33703" y="15596"/>
                  <a:pt x="31127" y="18155"/>
                  <a:pt x="28359" y="18155"/>
                </a:cubicBezTo>
                <a:lnTo>
                  <a:pt x="26697" y="18155"/>
                </a:lnTo>
                <a:cubicBezTo>
                  <a:pt x="23929" y="18155"/>
                  <a:pt x="21353" y="15596"/>
                  <a:pt x="21353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469800" y="1052280"/>
            <a:ext cx="4450680" cy="3993480"/>
            <a:chOff x="469800" y="1052280"/>
            <a:chExt cx="4450680" cy="3993480"/>
          </a:xfrm>
        </p:grpSpPr>
        <p:sp>
          <p:nvSpPr>
            <p:cNvPr id="131" name=""/>
            <p:cNvSpPr/>
            <p:nvPr/>
          </p:nvSpPr>
          <p:spPr>
            <a:xfrm flipH="1">
              <a:off x="631440" y="1052640"/>
              <a:ext cx="1873080" cy="33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469800" y="1052280"/>
              <a:ext cx="4450680" cy="3993480"/>
              <a:chOff x="469800" y="1052280"/>
              <a:chExt cx="4450680" cy="3993480"/>
            </a:xfrm>
          </p:grpSpPr>
          <p:sp>
            <p:nvSpPr>
              <p:cNvPr id="133" name=""/>
              <p:cNvSpPr/>
              <p:nvPr/>
            </p:nvSpPr>
            <p:spPr>
              <a:xfrm>
                <a:off x="469800" y="44560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575240" y="316080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722680" y="45086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" name=""/>
              <p:cNvGrpSpPr/>
              <p:nvPr/>
            </p:nvGrpSpPr>
            <p:grpSpPr>
              <a:xfrm>
                <a:off x="1280880" y="4508640"/>
                <a:ext cx="863280" cy="537120"/>
                <a:chOff x="1280880" y="4508640"/>
                <a:chExt cx="863280" cy="5371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1280880" y="458604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38" name=""/>
                    <p:cNvSpPr txBox="1"/>
                    <p:nvPr/>
                  </p:nvSpPr>
                  <p:spPr>
                    <a:xfrm>
                      <a:off x="1539000" y="4508640"/>
                      <a:ext cx="605160" cy="5054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139" name=""/>
              <p:cNvSpPr/>
              <p:nvPr/>
            </p:nvSpPr>
            <p:spPr>
              <a:xfrm>
                <a:off x="2504880" y="1052640"/>
                <a:ext cx="201636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631800" y="3284640"/>
                <a:ext cx="3889440" cy="1154160"/>
                <a:chOff x="631800" y="3284640"/>
                <a:chExt cx="3889440" cy="11541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631800" y="3284640"/>
                  <a:ext cx="3858120" cy="1154160"/>
                </a:xfrm>
                <a:custGeom>
                  <a:avLst/>
                  <a:gdLst/>
                  <a:ahLst/>
                  <a:rect l="l" t="t" r="r" b="b"/>
                  <a:pathLst>
                    <a:path w="3600" h="1362">
                      <a:moveTo>
                        <a:pt x="0" y="1362"/>
                      </a:moveTo>
                      <a:cubicBezTo>
                        <a:pt x="35" y="1350"/>
                        <a:pt x="62" y="1362"/>
                        <a:pt x="100" y="1362"/>
                      </a:cubicBezTo>
                      <a:lnTo>
                        <a:pt x="2058" y="1360"/>
                      </a:lnTo>
                      <a:lnTo>
                        <a:pt x="3600" y="0"/>
                      </a:lnTo>
                    </a:path>
                  </a:pathLst>
                </a:custGeom>
                <a:solidFill>
                  <a:srgbClr val="99cc00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31800" y="3284640"/>
                  <a:ext cx="3889440" cy="1152360"/>
                </a:xfrm>
                <a:custGeom>
                  <a:avLst/>
                  <a:gdLst/>
                  <a:ahLst/>
                  <a:rect l="l" t="t" r="r" b="b"/>
                  <a:pathLst>
                    <a:path w="3629" h="1360">
                      <a:moveTo>
                        <a:pt x="0" y="1360"/>
                      </a:moveTo>
                      <a:lnTo>
                        <a:pt x="1588" y="0"/>
                      </a:lnTo>
                      <a:lnTo>
                        <a:pt x="3629" y="0"/>
                      </a:lnTo>
                    </a:path>
                  </a:pathLst>
                </a:custGeom>
                <a:solidFill>
                  <a:srgbClr val="99cc00"/>
                </a:solidFill>
                <a:ln w="381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 flipV="1">
                <a:off x="2504880" y="1052280"/>
                <a:ext cx="0" cy="280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504880" y="1052640"/>
                <a:ext cx="287280" cy="338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2360160" y="1052640"/>
                <a:ext cx="14436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001960" y="28530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"/>
          <p:cNvSpPr/>
          <p:nvPr/>
        </p:nvSpPr>
        <p:spPr>
          <a:xfrm>
            <a:off x="4846680" y="1484280"/>
            <a:ext cx="429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Так как в правильной пирами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лы наклона всех боковых гра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плоскости основания равны, 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ем, например, угол накл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ковой гран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C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плоскости АВ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ка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T D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 D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эт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ТО -линейный угол иском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угранного угла. Рассмотрим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=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1052640"/>
            <a:ext cx="1150920" cy="2808000"/>
          </a:xfrm>
          <a:custGeom>
            <a:avLst/>
            <a:gdLst/>
            <a:ahLst/>
            <a:rect l="l" t="t" r="r" b="b"/>
            <a:pathLst>
              <a:path w="725" h="1769">
                <a:moveTo>
                  <a:pt x="0" y="0"/>
                </a:moveTo>
                <a:lnTo>
                  <a:pt x="725" y="1769"/>
                </a:lnTo>
                <a:lnTo>
                  <a:pt x="0" y="1769"/>
                </a:lnTo>
              </a:path>
            </a:pathLst>
          </a:custGeom>
          <a:solidFill>
            <a:srgbClr val="00ff00">
              <a:alpha val="37000"/>
            </a:srgbClr>
          </a:solidFill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84360" y="1052640"/>
            <a:ext cx="1150920" cy="28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760560" y="3881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21640" y="56844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69800" y="3860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2920" y="3429000"/>
            <a:ext cx="430920" cy="8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31" y="286"/>
                </a:moveTo>
                <a:arcTo wR="10800" hR="10800" stAng="-6193043" swAng="6193043"/>
                <a:lnTo>
                  <a:pt x="10800" y="10800"/>
                </a:lnTo>
                <a:close/>
              </a:path>
              <a:path fill="none" w="21600" h="21600">
                <a:moveTo>
                  <a:pt x="8331" y="286"/>
                </a:moveTo>
                <a:arcTo wR="10800" hR="10800" stAng="-6193043" swAng="6193043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45080" y="32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932360" y="4437000"/>
                <a:ext cx="38894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148360" y="5589720"/>
                <a:ext cx="34560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T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763640" y="6093000"/>
            <a:ext cx="1368360" cy="576000"/>
          </a:xfrm>
          <a:custGeom>
            <a:avLst/>
            <a:gdLst>
              <a:gd name="textAreaLeft" fmla="*/ 37080 w 1368360"/>
              <a:gd name="textAreaRight" fmla="*/ 1331280 w 1368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51295" h="21600">
                <a:moveTo>
                  <a:pt x="0" y="0"/>
                </a:moveTo>
                <a:lnTo>
                  <a:pt x="51295" y="0"/>
                </a:lnTo>
                <a:lnTo>
                  <a:pt x="51295" y="21600"/>
                </a:lnTo>
                <a:lnTo>
                  <a:pt x="0" y="21600"/>
                </a:lnTo>
                <a:close/>
              </a:path>
              <a:path fill="lightenLess" w="51295" h="21600">
                <a:moveTo>
                  <a:pt x="0" y="0"/>
                </a:moveTo>
                <a:lnTo>
                  <a:pt x="51295" y="0"/>
                </a:lnTo>
                <a:lnTo>
                  <a:pt x="49895" y="1400"/>
                </a:lnTo>
                <a:lnTo>
                  <a:pt x="1400" y="1400"/>
                </a:lnTo>
                <a:close/>
              </a:path>
              <a:path fill="darken" w="51295" h="21600">
                <a:moveTo>
                  <a:pt x="51295" y="0"/>
                </a:moveTo>
                <a:lnTo>
                  <a:pt x="51295" y="21600"/>
                </a:lnTo>
                <a:lnTo>
                  <a:pt x="49895" y="20200"/>
                </a:lnTo>
                <a:lnTo>
                  <a:pt x="49895" y="1400"/>
                </a:lnTo>
                <a:close/>
              </a:path>
              <a:path fill="darkenLess" w="51295" h="21600">
                <a:moveTo>
                  <a:pt x="51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95" y="20200"/>
                </a:lnTo>
                <a:close/>
              </a:path>
              <a:path fill="lighten" w="51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295" h="21600">
                <a:moveTo>
                  <a:pt x="18641" y="7493"/>
                </a:moveTo>
                <a:lnTo>
                  <a:pt x="22149" y="7493"/>
                </a:lnTo>
                <a:lnTo>
                  <a:pt x="22149" y="12828"/>
                </a:lnTo>
                <a:cubicBezTo>
                  <a:pt x="22149" y="13751"/>
                  <a:pt x="22949" y="14482"/>
                  <a:pt x="23985" y="14482"/>
                </a:cubicBezTo>
                <a:lnTo>
                  <a:pt x="25647" y="14482"/>
                </a:lnTo>
                <a:cubicBezTo>
                  <a:pt x="26683" y="14482"/>
                  <a:pt x="27484" y="13751"/>
                  <a:pt x="27484" y="12828"/>
                </a:cubicBezTo>
                <a:lnTo>
                  <a:pt x="27484" y="7493"/>
                </a:lnTo>
                <a:lnTo>
                  <a:pt x="25647" y="7493"/>
                </a:lnTo>
                <a:lnTo>
                  <a:pt x="29155" y="3985"/>
                </a:lnTo>
                <a:lnTo>
                  <a:pt x="32828" y="7493"/>
                </a:lnTo>
                <a:lnTo>
                  <a:pt x="30992" y="7493"/>
                </a:lnTo>
                <a:lnTo>
                  <a:pt x="30992" y="12828"/>
                </a:lnTo>
                <a:cubicBezTo>
                  <a:pt x="30992" y="15596"/>
                  <a:pt x="28415" y="18155"/>
                  <a:pt x="25647" y="18155"/>
                </a:cubicBezTo>
                <a:lnTo>
                  <a:pt x="23985" y="18155"/>
                </a:lnTo>
                <a:cubicBezTo>
                  <a:pt x="21217" y="18155"/>
                  <a:pt x="18641" y="15596"/>
                  <a:pt x="18641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109440" y="475920"/>
            <a:ext cx="4450680" cy="3993480"/>
            <a:chOff x="109440" y="475920"/>
            <a:chExt cx="4450680" cy="3993480"/>
          </a:xfrm>
        </p:grpSpPr>
        <p:sp>
          <p:nvSpPr>
            <p:cNvPr id="159" name=""/>
            <p:cNvSpPr/>
            <p:nvPr/>
          </p:nvSpPr>
          <p:spPr>
            <a:xfrm flipH="1">
              <a:off x="271080" y="476280"/>
              <a:ext cx="1873080" cy="33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109440" y="475920"/>
              <a:ext cx="4450680" cy="3993480"/>
              <a:chOff x="109440" y="475920"/>
              <a:chExt cx="4450680" cy="3993480"/>
            </a:xfrm>
          </p:grpSpPr>
          <p:sp>
            <p:nvSpPr>
              <p:cNvPr id="161" name=""/>
              <p:cNvSpPr/>
              <p:nvPr/>
            </p:nvSpPr>
            <p:spPr>
              <a:xfrm>
                <a:off x="109440" y="387972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214880" y="25844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362320" y="39322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920520" y="3932280"/>
                <a:ext cx="863280" cy="537120"/>
                <a:chOff x="920520" y="3932280"/>
                <a:chExt cx="863280" cy="5371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920520" y="400968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66" name=""/>
                    <p:cNvSpPr txBox="1"/>
                    <p:nvPr/>
                  </p:nvSpPr>
                  <p:spPr>
                    <a:xfrm>
                      <a:off x="1178640" y="3932280"/>
                      <a:ext cx="605160" cy="5054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167" name=""/>
              <p:cNvSpPr/>
              <p:nvPr/>
            </p:nvSpPr>
            <p:spPr>
              <a:xfrm>
                <a:off x="2144520" y="476280"/>
                <a:ext cx="201636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271440" y="2708280"/>
                <a:ext cx="3889440" cy="1154160"/>
                <a:chOff x="271440" y="2708280"/>
                <a:chExt cx="3889440" cy="11541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271440" y="2708280"/>
                  <a:ext cx="3858120" cy="1154160"/>
                </a:xfrm>
                <a:custGeom>
                  <a:avLst/>
                  <a:gdLst/>
                  <a:ahLst/>
                  <a:rect l="l" t="t" r="r" b="b"/>
                  <a:pathLst>
                    <a:path w="3600" h="1362">
                      <a:moveTo>
                        <a:pt x="0" y="1362"/>
                      </a:moveTo>
                      <a:cubicBezTo>
                        <a:pt x="35" y="1350"/>
                        <a:pt x="62" y="1362"/>
                        <a:pt x="100" y="1362"/>
                      </a:cubicBezTo>
                      <a:lnTo>
                        <a:pt x="2058" y="1360"/>
                      </a:lnTo>
                      <a:lnTo>
                        <a:pt x="3600" y="0"/>
                      </a:lnTo>
                    </a:path>
                  </a:pathLst>
                </a:custGeom>
                <a:solidFill>
                  <a:srgbClr val="99cc00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71440" y="2708280"/>
                  <a:ext cx="3889440" cy="1152360"/>
                </a:xfrm>
                <a:custGeom>
                  <a:avLst/>
                  <a:gdLst/>
                  <a:ahLst/>
                  <a:rect l="l" t="t" r="r" b="b"/>
                  <a:pathLst>
                    <a:path w="3629" h="1360">
                      <a:moveTo>
                        <a:pt x="0" y="1360"/>
                      </a:moveTo>
                      <a:lnTo>
                        <a:pt x="1588" y="0"/>
                      </a:lnTo>
                      <a:lnTo>
                        <a:pt x="3629" y="0"/>
                      </a:lnTo>
                    </a:path>
                  </a:pathLst>
                </a:custGeom>
                <a:solidFill>
                  <a:srgbClr val="99cc00"/>
                </a:solidFill>
                <a:ln w="381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"/>
              <p:cNvSpPr/>
              <p:nvPr/>
            </p:nvSpPr>
            <p:spPr>
              <a:xfrm flipV="1">
                <a:off x="2144520" y="475920"/>
                <a:ext cx="0" cy="280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144520" y="476280"/>
                <a:ext cx="287280" cy="338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1999800" y="476280"/>
                <a:ext cx="14436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641600" y="227664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"/>
          <p:cNvSpPr/>
          <p:nvPr/>
        </p:nvSpPr>
        <p:spPr>
          <a:xfrm>
            <a:off x="4751280" y="1197000"/>
            <a:ext cx="439272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) Так как двугранные углы при основа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й пирамиды равны, то цен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писанного шара (точк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адлеж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т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значим радиус вписа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ра букв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Рассмотрим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Т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=О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Используя подобие треугольников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ТО и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, име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6659640" y="4149720"/>
                <a:ext cx="1942920" cy="23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КО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КТ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О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ОТ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6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r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,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2124000" y="476280"/>
            <a:ext cx="1150920" cy="2808360"/>
          </a:xfrm>
          <a:custGeom>
            <a:avLst/>
            <a:gdLst/>
            <a:ahLst/>
            <a:rect l="l" t="t" r="r" b="b"/>
            <a:pathLst>
              <a:path w="725" h="1769">
                <a:moveTo>
                  <a:pt x="0" y="0"/>
                </a:moveTo>
                <a:lnTo>
                  <a:pt x="725" y="1769"/>
                </a:lnTo>
                <a:lnTo>
                  <a:pt x="0" y="1769"/>
                </a:lnTo>
              </a:path>
            </a:pathLst>
          </a:custGeom>
          <a:solidFill>
            <a:srgbClr val="ff00ff">
              <a:alpha val="35000"/>
            </a:srgbClr>
          </a:solidFill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24000" y="476280"/>
            <a:ext cx="115092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70520" y="11592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49440" y="3357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33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32000" y="5444640"/>
            <a:ext cx="71928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628720" y="3716280"/>
            <a:ext cx="2049480" cy="2960640"/>
            <a:chOff x="2628720" y="3716280"/>
            <a:chExt cx="2049480" cy="2960640"/>
          </a:xfrm>
        </p:grpSpPr>
        <p:sp>
          <p:nvSpPr>
            <p:cNvPr id="184" name=""/>
            <p:cNvSpPr/>
            <p:nvPr/>
          </p:nvSpPr>
          <p:spPr>
            <a:xfrm>
              <a:off x="3132000" y="3716280"/>
              <a:ext cx="1150920" cy="2808360"/>
            </a:xfrm>
            <a:custGeom>
              <a:avLst/>
              <a:gdLst/>
              <a:ahLst/>
              <a:rect l="l" t="t" r="r" b="b"/>
              <a:pathLst>
                <a:path w="725" h="1769">
                  <a:moveTo>
                    <a:pt x="0" y="0"/>
                  </a:moveTo>
                  <a:lnTo>
                    <a:pt x="0" y="1769"/>
                  </a:lnTo>
                  <a:lnTo>
                    <a:pt x="725" y="1769"/>
                  </a:lnTo>
                  <a:lnTo>
                    <a:pt x="0" y="46"/>
                  </a:lnTo>
                </a:path>
              </a:pathLst>
            </a:custGeom>
            <a:solidFill>
              <a:srgbClr val="ff00ff">
                <a:alpha val="25000"/>
              </a:srgbClr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3059280" y="6021360"/>
              <a:ext cx="144360" cy="71640"/>
              <a:chOff x="3059280" y="6021360"/>
              <a:chExt cx="144360" cy="71640"/>
            </a:xfrm>
          </p:grpSpPr>
          <p:sp>
            <p:nvSpPr>
              <p:cNvPr id="186" name=""/>
              <p:cNvSpPr/>
              <p:nvPr/>
            </p:nvSpPr>
            <p:spPr>
              <a:xfrm>
                <a:off x="3059280" y="602136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059280" y="609300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3397320" y="5505480"/>
              <a:ext cx="133560" cy="166320"/>
              <a:chOff x="3397320" y="5505480"/>
              <a:chExt cx="133560" cy="166320"/>
            </a:xfrm>
          </p:grpSpPr>
          <p:sp>
            <p:nvSpPr>
              <p:cNvPr id="189" name=""/>
              <p:cNvSpPr/>
              <p:nvPr/>
            </p:nvSpPr>
            <p:spPr>
              <a:xfrm>
                <a:off x="3479760" y="5505480"/>
                <a:ext cx="51120" cy="13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397320" y="5536800"/>
                <a:ext cx="51120" cy="13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2628720" y="63086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357440" y="63086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73800" y="371628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07200" y="5516640"/>
              <a:ext cx="432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53080" y="50846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32000" y="6381720"/>
              <a:ext cx="144720" cy="14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708360" y="5516640"/>
              <a:ext cx="216000" cy="144360"/>
            </a:xfrm>
            <a:custGeom>
              <a:avLst/>
              <a:gdLst/>
              <a:ahLst/>
              <a:rect l="l" t="t" r="r" b="b"/>
              <a:pathLst>
                <a:path w="136" h="91">
                  <a:moveTo>
                    <a:pt x="0" y="0"/>
                  </a:moveTo>
                  <a:lnTo>
                    <a:pt x="45" y="91"/>
                  </a:lnTo>
                  <a:lnTo>
                    <a:pt x="136" y="4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1403280" y="6021360"/>
            <a:ext cx="1081080" cy="576360"/>
          </a:xfrm>
          <a:custGeom>
            <a:avLst/>
            <a:gdLst>
              <a:gd name="textAreaLeft" fmla="*/ 37080 w 1081080"/>
              <a:gd name="textAreaRight" fmla="*/ 1044000 w 1081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0503" h="21600">
                <a:moveTo>
                  <a:pt x="0" y="0"/>
                </a:moveTo>
                <a:lnTo>
                  <a:pt x="40503" y="0"/>
                </a:lnTo>
                <a:lnTo>
                  <a:pt x="40503" y="21600"/>
                </a:lnTo>
                <a:lnTo>
                  <a:pt x="0" y="21600"/>
                </a:lnTo>
                <a:close/>
              </a:path>
              <a:path fill="lightenLess" w="40503" h="21600">
                <a:moveTo>
                  <a:pt x="0" y="0"/>
                </a:moveTo>
                <a:lnTo>
                  <a:pt x="40503" y="0"/>
                </a:lnTo>
                <a:lnTo>
                  <a:pt x="39103" y="1400"/>
                </a:lnTo>
                <a:lnTo>
                  <a:pt x="1400" y="1400"/>
                </a:lnTo>
                <a:close/>
              </a:path>
              <a:path fill="darken" w="40503" h="21600">
                <a:moveTo>
                  <a:pt x="40503" y="0"/>
                </a:moveTo>
                <a:lnTo>
                  <a:pt x="40503" y="21600"/>
                </a:lnTo>
                <a:lnTo>
                  <a:pt x="39103" y="20200"/>
                </a:lnTo>
                <a:lnTo>
                  <a:pt x="39103" y="1400"/>
                </a:lnTo>
                <a:close/>
              </a:path>
              <a:path fill="darkenLess" w="40503" h="21600">
                <a:moveTo>
                  <a:pt x="405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03" y="20200"/>
                </a:lnTo>
                <a:close/>
              </a:path>
              <a:path fill="lighten" w="405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03" h="21600">
                <a:moveTo>
                  <a:pt x="13245" y="7493"/>
                </a:moveTo>
                <a:lnTo>
                  <a:pt x="16753" y="7493"/>
                </a:lnTo>
                <a:lnTo>
                  <a:pt x="16753" y="12828"/>
                </a:lnTo>
                <a:cubicBezTo>
                  <a:pt x="16753" y="13751"/>
                  <a:pt x="17554" y="14482"/>
                  <a:pt x="18589" y="14482"/>
                </a:cubicBezTo>
                <a:lnTo>
                  <a:pt x="20252" y="14482"/>
                </a:lnTo>
                <a:cubicBezTo>
                  <a:pt x="21287" y="14482"/>
                  <a:pt x="22088" y="13751"/>
                  <a:pt x="22088" y="12828"/>
                </a:cubicBezTo>
                <a:lnTo>
                  <a:pt x="22088" y="7493"/>
                </a:lnTo>
                <a:lnTo>
                  <a:pt x="20252" y="7493"/>
                </a:lnTo>
                <a:lnTo>
                  <a:pt x="23759" y="3985"/>
                </a:lnTo>
                <a:lnTo>
                  <a:pt x="27432" y="7493"/>
                </a:lnTo>
                <a:lnTo>
                  <a:pt x="25596" y="7493"/>
                </a:lnTo>
                <a:lnTo>
                  <a:pt x="25596" y="12828"/>
                </a:lnTo>
                <a:cubicBezTo>
                  <a:pt x="25596" y="15596"/>
                  <a:pt x="23019" y="18155"/>
                  <a:pt x="20252" y="18155"/>
                </a:cubicBezTo>
                <a:lnTo>
                  <a:pt x="18589" y="18155"/>
                </a:lnTo>
                <a:cubicBezTo>
                  <a:pt x="15822" y="18155"/>
                  <a:pt x="13245" y="15596"/>
                  <a:pt x="13245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5.3654E-007 L 0.11042 0.47757 E">
                                      <p:cBhvr>
                                        <p:cTn id="40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252360" y="43920"/>
            <a:ext cx="4450680" cy="3993480"/>
            <a:chOff x="252360" y="43920"/>
            <a:chExt cx="4450680" cy="3993480"/>
          </a:xfrm>
        </p:grpSpPr>
        <p:sp>
          <p:nvSpPr>
            <p:cNvPr id="200" name=""/>
            <p:cNvSpPr/>
            <p:nvPr/>
          </p:nvSpPr>
          <p:spPr>
            <a:xfrm flipH="1">
              <a:off x="414000" y="44280"/>
              <a:ext cx="1873080" cy="33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252360" y="43920"/>
              <a:ext cx="4450680" cy="3993480"/>
              <a:chOff x="252360" y="43920"/>
              <a:chExt cx="4450680" cy="3993480"/>
            </a:xfrm>
          </p:grpSpPr>
          <p:sp>
            <p:nvSpPr>
              <p:cNvPr id="202" name=""/>
              <p:cNvSpPr/>
              <p:nvPr/>
            </p:nvSpPr>
            <p:spPr>
              <a:xfrm>
                <a:off x="252360" y="344772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57800" y="21524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05240" y="35002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1063440" y="3500280"/>
                <a:ext cx="863280" cy="537120"/>
                <a:chOff x="1063440" y="3500280"/>
                <a:chExt cx="863280" cy="5371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1063440" y="357768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07" name=""/>
                    <p:cNvSpPr txBox="1"/>
                    <p:nvPr/>
                  </p:nvSpPr>
                  <p:spPr>
                    <a:xfrm>
                      <a:off x="1321560" y="3500280"/>
                      <a:ext cx="605160" cy="5054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208" name=""/>
              <p:cNvSpPr/>
              <p:nvPr/>
            </p:nvSpPr>
            <p:spPr>
              <a:xfrm>
                <a:off x="2287440" y="44280"/>
                <a:ext cx="201636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414360" y="2276280"/>
                <a:ext cx="3889440" cy="1154160"/>
                <a:chOff x="414360" y="2276280"/>
                <a:chExt cx="3889440" cy="115416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414360" y="2276280"/>
                  <a:ext cx="3858120" cy="1154160"/>
                </a:xfrm>
                <a:custGeom>
                  <a:avLst/>
                  <a:gdLst/>
                  <a:ahLst/>
                  <a:rect l="l" t="t" r="r" b="b"/>
                  <a:pathLst>
                    <a:path w="3600" h="1362">
                      <a:moveTo>
                        <a:pt x="0" y="1362"/>
                      </a:moveTo>
                      <a:cubicBezTo>
                        <a:pt x="35" y="1350"/>
                        <a:pt x="62" y="1362"/>
                        <a:pt x="100" y="1362"/>
                      </a:cubicBezTo>
                      <a:lnTo>
                        <a:pt x="2058" y="1360"/>
                      </a:lnTo>
                      <a:lnTo>
                        <a:pt x="3600" y="0"/>
                      </a:lnTo>
                    </a:path>
                  </a:pathLst>
                </a:custGeom>
                <a:solidFill>
                  <a:srgbClr val="99cc00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14360" y="2276280"/>
                  <a:ext cx="3889440" cy="1152360"/>
                </a:xfrm>
                <a:custGeom>
                  <a:avLst/>
                  <a:gdLst/>
                  <a:ahLst/>
                  <a:rect l="l" t="t" r="r" b="b"/>
                  <a:pathLst>
                    <a:path w="3629" h="1360">
                      <a:moveTo>
                        <a:pt x="0" y="1360"/>
                      </a:moveTo>
                      <a:lnTo>
                        <a:pt x="1588" y="0"/>
                      </a:lnTo>
                      <a:lnTo>
                        <a:pt x="3629" y="0"/>
                      </a:lnTo>
                    </a:path>
                  </a:pathLst>
                </a:custGeom>
                <a:solidFill>
                  <a:srgbClr val="99cc00"/>
                </a:solidFill>
                <a:ln w="381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2" name=""/>
              <p:cNvSpPr/>
              <p:nvPr/>
            </p:nvSpPr>
            <p:spPr>
              <a:xfrm flipV="1">
                <a:off x="2287440" y="43920"/>
                <a:ext cx="0" cy="280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287440" y="44280"/>
                <a:ext cx="287280" cy="338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2142720" y="44280"/>
                <a:ext cx="14436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784520" y="184464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4830480" y="1268280"/>
            <a:ext cx="431064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) Так как боковые ребра прави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рамиды равны, то центр описа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ра (точка О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лежит на прямой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значим радиус описанного ш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им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С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теореме Пифагора из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356000" y="3645000"/>
                <a:ext cx="448308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О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О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О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О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4769640" y="4941720"/>
            <a:ext cx="437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аем, что центр описанного ша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падает с точкой 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73640" y="-792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2360" y="2924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87280" y="4149720"/>
            <a:ext cx="1800360" cy="2160720"/>
          </a:xfrm>
          <a:prstGeom prst="rtTriangle">
            <a:avLst/>
          </a:prstGeom>
          <a:solidFill>
            <a:srgbClr val="00ffff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1186920" y="5734080"/>
            <a:ext cx="180036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116000" y="5013360"/>
            <a:ext cx="144360" cy="71280"/>
            <a:chOff x="1116000" y="5013360"/>
            <a:chExt cx="144360" cy="71280"/>
          </a:xfrm>
        </p:grpSpPr>
        <p:sp>
          <p:nvSpPr>
            <p:cNvPr id="225" name=""/>
            <p:cNvSpPr/>
            <p:nvPr/>
          </p:nvSpPr>
          <p:spPr>
            <a:xfrm>
              <a:off x="1116000" y="5013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16000" y="50846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902600" y="5911200"/>
            <a:ext cx="155160" cy="149040"/>
            <a:chOff x="1902600" y="5911200"/>
            <a:chExt cx="155160" cy="149040"/>
          </a:xfrm>
        </p:grpSpPr>
        <p:sp>
          <p:nvSpPr>
            <p:cNvPr id="228" name=""/>
            <p:cNvSpPr/>
            <p:nvPr/>
          </p:nvSpPr>
          <p:spPr>
            <a:xfrm flipV="1">
              <a:off x="1902600" y="5911200"/>
              <a:ext cx="10800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1949760" y="5964840"/>
              <a:ext cx="10800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187280" y="6165720"/>
            <a:ext cx="144720" cy="142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1280" y="5516640"/>
            <a:ext cx="446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36560" y="6329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7800" y="40053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2000" y="618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268360" y="2276640"/>
            <a:ext cx="1943280" cy="5760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16720" y="5516640"/>
            <a:ext cx="324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) Расстояние от точк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оскости АВС равно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ине отрезк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равно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68360" y="0"/>
            <a:ext cx="0" cy="28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812000" y="189000"/>
            <a:ext cx="1152720" cy="576000"/>
          </a:xfrm>
          <a:custGeom>
            <a:avLst/>
            <a:gdLst>
              <a:gd name="textAreaLeft" fmla="*/ 37080 w 1152720"/>
              <a:gd name="textAreaRight" fmla="*/ 1115640 w 1152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3213" h="21600">
                <a:moveTo>
                  <a:pt x="0" y="0"/>
                </a:moveTo>
                <a:lnTo>
                  <a:pt x="43213" y="0"/>
                </a:lnTo>
                <a:lnTo>
                  <a:pt x="43213" y="21600"/>
                </a:lnTo>
                <a:lnTo>
                  <a:pt x="0" y="21600"/>
                </a:lnTo>
                <a:close/>
              </a:path>
              <a:path fill="lightenLess" w="43213" h="21600">
                <a:moveTo>
                  <a:pt x="0" y="0"/>
                </a:moveTo>
                <a:lnTo>
                  <a:pt x="43213" y="0"/>
                </a:lnTo>
                <a:lnTo>
                  <a:pt x="41813" y="1400"/>
                </a:lnTo>
                <a:lnTo>
                  <a:pt x="1400" y="1400"/>
                </a:lnTo>
                <a:close/>
              </a:path>
              <a:path fill="darken" w="43213" h="21600">
                <a:moveTo>
                  <a:pt x="43213" y="0"/>
                </a:moveTo>
                <a:lnTo>
                  <a:pt x="43213" y="21600"/>
                </a:lnTo>
                <a:lnTo>
                  <a:pt x="41813" y="20200"/>
                </a:lnTo>
                <a:lnTo>
                  <a:pt x="41813" y="1400"/>
                </a:lnTo>
                <a:close/>
              </a:path>
              <a:path fill="darkenLess" w="43213" h="21600">
                <a:moveTo>
                  <a:pt x="432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13" y="20200"/>
                </a:lnTo>
                <a:close/>
              </a:path>
              <a:path fill="lighten" w="432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13" h="21600">
                <a:moveTo>
                  <a:pt x="14600" y="7493"/>
                </a:moveTo>
                <a:lnTo>
                  <a:pt x="18108" y="7493"/>
                </a:lnTo>
                <a:lnTo>
                  <a:pt x="18108" y="12828"/>
                </a:lnTo>
                <a:cubicBezTo>
                  <a:pt x="18108" y="13751"/>
                  <a:pt x="18909" y="14482"/>
                  <a:pt x="19944" y="14482"/>
                </a:cubicBezTo>
                <a:lnTo>
                  <a:pt x="21607" y="14482"/>
                </a:lnTo>
                <a:cubicBezTo>
                  <a:pt x="22642" y="14482"/>
                  <a:pt x="23443" y="13751"/>
                  <a:pt x="23443" y="12828"/>
                </a:cubicBezTo>
                <a:lnTo>
                  <a:pt x="23443" y="7493"/>
                </a:lnTo>
                <a:lnTo>
                  <a:pt x="21607" y="7493"/>
                </a:lnTo>
                <a:lnTo>
                  <a:pt x="25114" y="3985"/>
                </a:lnTo>
                <a:lnTo>
                  <a:pt x="28787" y="7493"/>
                </a:lnTo>
                <a:lnTo>
                  <a:pt x="26951" y="7493"/>
                </a:lnTo>
                <a:lnTo>
                  <a:pt x="26951" y="12828"/>
                </a:lnTo>
                <a:cubicBezTo>
                  <a:pt x="26951" y="15596"/>
                  <a:pt x="24375" y="18155"/>
                  <a:pt x="21607" y="18155"/>
                </a:cubicBezTo>
                <a:lnTo>
                  <a:pt x="19944" y="18155"/>
                </a:lnTo>
                <a:cubicBezTo>
                  <a:pt x="17177" y="18155"/>
                  <a:pt x="14600" y="15596"/>
                  <a:pt x="14600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5:23:14Z</dcterms:created>
  <dc:creator>Наталья</dc:creator>
  <dc:description/>
  <dc:language>en-US</dc:language>
  <cp:lastModifiedBy>Наталья</cp:lastModifiedBy>
  <dcterms:modified xsi:type="dcterms:W3CDTF">2010-02-14T15:53:15Z</dcterms:modified>
  <cp:revision>3</cp:revision>
  <dc:subject/>
  <dc:title>Правильная пирамида</dc:title>
</cp:coreProperties>
</file>