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3C1-9CBC-4212-8E9D-EB692CE6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3F7-5CFE-49D7-B647-5F7B741C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216-217F-4360-BFB7-8E3723D7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1B4-654B-4DAD-AFDB-9CC50398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9DD6-D333-473F-92C0-46F2A06F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79B1-E36C-4FAF-9171-237B2EF7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5D87-1196-4581-8225-5BDBCFF7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5869-26D1-469C-AD50-124E4AEA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F293-F0EB-44CE-955E-1F29FF28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309-2947-4ECC-A3F4-3FACD96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552C-970C-4CBF-BC27-2E58D37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EE6-8445-4FEC-A319-0E34929B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28E4-99C1-4F67-B8B0-017A154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4A67-9DF1-4CF1-9C25-FB79C4CE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87DB-662C-43F0-9687-3D4ECAEC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D10-1F61-4372-BBBF-07F948EE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F6D8-0A30-4560-B42C-ED06C4E7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954-427D-43ED-932A-4AC2D9D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F9C-B4A4-4F9D-8733-5181DCA2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E5E-0BCB-498B-8E11-5D027AC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54D-CCC5-42CA-8A8A-F29FF137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07E-2E4B-41AD-B1D1-B88AA5B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5BD-A3DF-489D-B931-E8403AB5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AA1-5F53-4032-BA7C-B76594B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0A1-BCF4-4AAB-AB03-0DCAE6219A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17D-03C9-40F2-BEDA-CF8B7CD604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сня «Котёнок  щенок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ова В. Виктор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зыка Т. Попатен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81080" y="9907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одной квартире ж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ятелями бы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- ус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ой – мохн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ятелями бы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9320" y="129528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странную игрушк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сли ребята в д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восты поджали друж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грушка колка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овётся ёлкою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голки растопырив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оит в углу своё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09320" y="12949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вот на эту ёлк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зелёным хохол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али втихомол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убами, лап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ё царапали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ёлку повал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шли ребята вскор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ёлка - на бо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мало было гор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у и щ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х так нашлёп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х так нахлоп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было очень стыд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у и щ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ёлку наряди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стей позвали в д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даже приглас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а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– ус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ой – мохн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ёлкой веселили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02:03Z</dcterms:created>
  <dc:creator>comp</dc:creator>
  <dc:description/>
  <dc:language>en-US</dc:language>
  <cp:lastModifiedBy>comp</cp:lastModifiedBy>
  <dcterms:modified xsi:type="dcterms:W3CDTF">2008-01-10T07:27:31Z</dcterms:modified>
  <cp:revision>3</cp:revision>
  <dc:subject/>
  <dc:title>Песня «Котёнок  щенок»</dc:title>
</cp:coreProperties>
</file>