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851-5A8E-46D6-A5D7-632244EC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5F1-0F7A-49BE-A3AA-FB7DCFE1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475-201E-4E81-BCDC-3648BF3E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2C3-5E7A-4DA4-86D4-AEC8745F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E575-944C-4627-BA4F-3DA5EC2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9FA2-A6A3-42B3-9796-F68D8053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29C2-ABFF-4F8B-94C4-46F27078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EB5-7E71-4E55-9010-EBF61A0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9D35-51CD-43C7-825D-B87A6B4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A47A-0E0E-456B-88A7-347DB0F9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8144-69E0-4F28-A67F-6175BB32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487-1518-48DF-9E41-6712954B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E31F-D19F-441E-A9B6-6D8D8D0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93B2-CA8E-465F-8C1A-1F18E4F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F447-6AF6-4B77-B2D3-7DBF055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AA29-F70A-4C0F-9887-B50137D9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59A-C8CC-4981-ABB0-D5F94959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C49-ED4F-49F2-939C-8FE2A35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786-6812-4CD3-9AB1-A5BB3AA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7C5-72A5-4C68-82CD-F002059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4B3-7237-4900-8AC8-6EF1781A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98D-87CA-44C8-A1EC-A3A94F3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6B4-DF88-43C5-8AC8-1DADA9E7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E17-803E-4916-8BD3-8190B432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1BB5-FFA7-44B6-9A48-33B2B0A28E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60A-7966-4055-AAED-3BD0FC053C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есня «Котёнок  щенок»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ова В. Викторо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узыка Т. Попатенк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81080" y="9907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одной квартире ж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-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ятелями бы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и щен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09320" y="129528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странную игруш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сли ребята в д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восты поджали друж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рушка колка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овётся ёлкою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голки растопырив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тоит в углу своё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09320" y="12949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вот на эту ёлк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зелёным хохолк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али втихомол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убами, лап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ё царапали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ёлку повал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шли ребята вскор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а - на бо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мало было гор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шлё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х так нахлопа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было очень стыдн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у и щен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купл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ёлку нарядил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остей позвали в д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 даже пригласи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ка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дин – ус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ругой – мохнатенький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 ёлкой веселили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тёнок со щен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02:03Z</dcterms:created>
  <dc:creator>comp</dc:creator>
  <dc:description/>
  <dc:language>en-US</dc:language>
  <cp:lastModifiedBy>comp</cp:lastModifiedBy>
  <dcterms:modified xsi:type="dcterms:W3CDTF">2008-01-10T07:27:31Z</dcterms:modified>
  <cp:revision>3</cp:revision>
  <dc:subject/>
  <dc:title>Песня «Котёнок  щенок»</dc:title>
</cp:coreProperties>
</file>