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E47-89A6-4296-998C-FC26C4AC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818-DA63-4C79-8B02-D9C47781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429-C845-47CF-8FC8-FEA94E51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E43E-6321-4698-8240-B0ACF76F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F308-4B5E-42E3-A9A8-83BD7D49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D663-7797-4098-AC42-9404D1D5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7742-AC90-470C-A956-0F603438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D514-95F8-4987-8E51-AF3094AE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FD42-982B-4D29-A4E8-744E79DE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CEE9-61F9-462A-BCA2-00E193DC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B416-7733-4D8B-BB0D-571CB7BA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5D23-9DEF-4F5C-B878-9B7D2CF7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10E2-6959-4D43-BE8C-4EBD6724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0D24-51C8-42F9-87D8-64FDE780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B494-0FEE-4F91-8608-C0F09B03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55C5-C332-424D-BC01-3BBE1729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596F-7B54-4C1D-856B-6D4703A5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71AF-4316-4DBD-B3F6-3BBD885D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DB8-A323-4C13-9831-5EBBEDAF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A4DD-828A-409F-8315-2D3A9B5A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783-0229-4B62-8607-C48935A7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422-6262-4A4F-A486-4FEDF319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E2D8-0E7E-446E-A4B4-396F16D0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145-E0F1-4980-AF6B-275A5076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F44B-72FE-4497-88E2-439D6CA32B3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E3BE-DBBF-4CD9-BAF3-53E361A5FDD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есня «Котёнок  щенок»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лова В. Викторо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узыка Т. Попатенк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 купл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81080" y="99072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одной квартире жи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ок и щенок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ятелями бы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ок и щен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дин - усатенький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ругой – мохнатенький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ятелями бы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ок и щен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купл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09320" y="1295280"/>
            <a:ext cx="6172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о странную игрушку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сли ребята в д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Хвосты поджали дружн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ок со щен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грушка колкая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овётся ёлкою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голки растопырив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тоит в углу своё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 купл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09320" y="1294920"/>
            <a:ext cx="6172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 вот на эту ёлку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 зелёным хохолк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пали втихомол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ок со щен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убами, лап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ё царапали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 ёлку повали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ок со щен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 купл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81080" y="13716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шли ребята вскоре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 ёлка - на бок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мало было гор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ку и щенк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х так нашлёпали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х так нахлопали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 было очень стыдн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ку и щенк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 купл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81080" y="13716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 ёлку нарядили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остей позвали в д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 даже пригласи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ка со щен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дин – усатенький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ругой – мохнатенький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 ёлкой веселилис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ок со щен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7:02:03Z</dcterms:created>
  <dc:creator>comp</dc:creator>
  <dc:description/>
  <dc:language>en-US</dc:language>
  <cp:lastModifiedBy>comp</cp:lastModifiedBy>
  <dcterms:modified xsi:type="dcterms:W3CDTF">2008-01-10T07:27:31Z</dcterms:modified>
  <cp:revision>3</cp:revision>
  <dc:subject/>
  <dc:title>Песня «Котёнок  щенок»</dc:title>
</cp:coreProperties>
</file>