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FB71-EE3D-4199-8432-6C66B6D3E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0EC4-78F5-48AD-AE40-9351325B3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A9E0-B7D9-426C-B2B8-F29F275FD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E41E-4C93-49E1-8AB0-94E2B40BA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09BC-3239-4F5F-BCF3-95549A666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6413-4635-41CD-BC5F-F11D1BF63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2D00-90CB-4989-B39B-31E4F89BC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BDC9-DACF-48A7-B095-23F752489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3F78-3537-4226-8BC8-AA350D932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E926-7595-4104-8BAC-7670E1119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5D5F-B21C-4DE5-A964-F45BEB36D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EDD7-A03A-492D-B139-3679F71AF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E2A21-C9DE-4760-BB4D-C2FAC0F5E0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Times New Roman"/>
              </a:rPr>
              <a:t>Добрый день, 8А класс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87280" y="4797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Times New Roman"/>
              </a:rPr>
              <a:t>Является утверждение</a:t>
            </a:r>
            <a:br>
              <a:rPr sz="4800"/>
            </a:br>
            <a:r>
              <a:rPr b="1" lang="en-US" sz="4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6600"/>
                </a:solidFill>
                <a:latin typeface="Times New Roman"/>
              </a:rPr>
              <a:t>верным</a:t>
            </a:r>
            <a:r>
              <a:rPr b="1" lang="en-US" sz="4800" spc="-1" strike="noStrike">
                <a:solidFill>
                  <a:srgbClr val="000066"/>
                </a:solidFill>
                <a:latin typeface="Times New Roman"/>
              </a:rPr>
              <a:t> или </a:t>
            </a: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неверны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66"/>
                </a:solidFill>
                <a:latin typeface="Times New Roman"/>
              </a:rPr>
              <a:t>8) Площадь трапеции равна произведению суммы оснований на половину высот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Является утверждение</a:t>
            </a:r>
            <a:br>
              <a:rPr sz="3600"/>
            </a:b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6600"/>
                </a:solidFill>
                <a:latin typeface="Times New Roman"/>
              </a:rPr>
              <a:t>верным</a:t>
            </a: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 или </a:t>
            </a: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неверны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54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Times New Roman"/>
              </a:rPr>
              <a:t>9) Теорема Пифагора гласит: Если квадрат одной стороны треугольника равен сумме квадратов двух других сторон, то треугольник прямоугольны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Times New Roman"/>
              </a:rPr>
              <a:t>Является утверждение</a:t>
            </a:r>
            <a:br>
              <a:rPr sz="4800"/>
            </a:br>
            <a:r>
              <a:rPr b="1" lang="en-US" sz="4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6600"/>
                </a:solidFill>
                <a:latin typeface="Times New Roman"/>
              </a:rPr>
              <a:t>верным</a:t>
            </a:r>
            <a:r>
              <a:rPr b="1" lang="en-US" sz="4800" spc="-1" strike="noStrike">
                <a:solidFill>
                  <a:srgbClr val="000066"/>
                </a:solidFill>
                <a:latin typeface="Times New Roman"/>
              </a:rPr>
              <a:t> или </a:t>
            </a: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неверны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10) Если угол  одного треугольника равен углу другого треугольника, то площади этих треугольников относятся как произведения сторон , заключающих равные угл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0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66"/>
                </a:solidFill>
                <a:latin typeface="Times New Roman"/>
              </a:rPr>
              <a:t>Выберите номер </a:t>
            </a:r>
            <a:r>
              <a:rPr b="1" lang="en-US" sz="7200" spc="-1" strike="noStrike">
                <a:solidFill>
                  <a:srgbClr val="800000"/>
                </a:solidFill>
                <a:latin typeface="Times New Roman"/>
              </a:rPr>
              <a:t>верного утверждения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Times New Roman"/>
              </a:rPr>
              <a:t>11) Высотой трапеции называетс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66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перпендикуляр, проведённый к её основани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66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отрезок, пересекающий основание под прямым угл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66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перпендикуляр, опущенный из вершины трапе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66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перпендикуляр, проведенный из любой точки одного из оснований к прямой, содержащей другое основа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12) Если высоты треугольников</a:t>
            </a:r>
            <a:r>
              <a:rPr b="1" lang="en-US" sz="40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равны, то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000066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их площади равн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000066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их площади относятся как основ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000066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эти треугольники равн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000066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основания к которым они проведены, равн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17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13) Египетским треугольником называют такой треугольник, длины сторон которого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lnSpc>
                <a:spcPct val="100000"/>
              </a:lnSpc>
              <a:spcBef>
                <a:spcPts val="1001"/>
              </a:spcBef>
              <a:buClr>
                <a:srgbClr val="000066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удовлетворяют теореме Пифаго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100000"/>
              </a:lnSpc>
              <a:spcBef>
                <a:spcPts val="1001"/>
              </a:spcBef>
              <a:buClr>
                <a:srgbClr val="000066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удовлетворяют, обратной теореме Пифаго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100000"/>
              </a:lnSpc>
              <a:spcBef>
                <a:spcPts val="1001"/>
              </a:spcBef>
              <a:buClr>
                <a:srgbClr val="000066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равны 3,4 и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100000"/>
              </a:lnSpc>
              <a:spcBef>
                <a:spcPts val="1001"/>
              </a:spcBef>
              <a:buClr>
                <a:srgbClr val="000066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равны целым числа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81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14) Если в треугольнике АВ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1)  угол В – прямо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66"/>
              </a:buClr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угол С – прямо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66"/>
              </a:buClr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угол А – прямо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66"/>
              </a:buClr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угол С или угол А прямо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539640" y="1031760"/>
                <a:ext cx="6624720" cy="111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АС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АВ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ВС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549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Решите задачи          №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042920" y="2060640"/>
            <a:ext cx="2160720" cy="25923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42920" y="3933720"/>
            <a:ext cx="1873440" cy="72072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2771640" y="4149360"/>
            <a:ext cx="21600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 flipV="1">
            <a:off x="2700360" y="4005000"/>
            <a:ext cx="7128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116000" y="2997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843280" y="3141720"/>
            <a:ext cx="64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908000" y="472428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4965840" y="1628640"/>
                <a:ext cx="1882800" cy="432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5</m:t>
                        </m:r>
                      </m:e>
                      <m:e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t xml:space="preserve">6</m:t>
                        </m:r>
                      </m:e>
                      <m:e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t xml:space="preserve">7</m:t>
                        </m:r>
                      </m:e>
                      <m:e>
                        <m:r>
                          <m:t xml:space="preserve">h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?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95280" y="1700280"/>
            <a:ext cx="5040360" cy="2571840"/>
          </a:xfrm>
          <a:prstGeom prst="parallelogram">
            <a:avLst>
              <a:gd name="adj" fmla="val 48996"/>
            </a:avLst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692360" y="1700280"/>
            <a:ext cx="0" cy="259236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692360" y="1700280"/>
            <a:ext cx="3240000" cy="93672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692360" y="400536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908000" y="4005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4788000" y="2420640"/>
            <a:ext cx="712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859280" y="2421000"/>
            <a:ext cx="14436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547640" y="436572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47640" y="436572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932360" y="2924280"/>
            <a:ext cx="9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5364000" y="3548160"/>
                <a:ext cx="2624400" cy="23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4,  b 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5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?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Задача № 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268280"/>
            <a:ext cx="7772400" cy="30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66"/>
                </a:solidFill>
                <a:latin typeface="Times New Roman"/>
              </a:rPr>
              <a:t>Обобщающий урок </a:t>
            </a:r>
            <a:br>
              <a:rPr sz="6600"/>
            </a:br>
            <a:r>
              <a:rPr b="1" lang="en-US" sz="6600" spc="-1" strike="noStrike">
                <a:solidFill>
                  <a:srgbClr val="000066"/>
                </a:solidFill>
                <a:latin typeface="Times New Roman"/>
              </a:rPr>
              <a:t>по теме</a:t>
            </a: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6600"/>
            </a:br>
            <a:r>
              <a:rPr b="1" lang="en-US" sz="6600" spc="-1" strike="noStrike">
                <a:solidFill>
                  <a:srgbClr val="800000"/>
                </a:solidFill>
                <a:latin typeface="Times New Roman"/>
              </a:rPr>
              <a:t>"Площади"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5360040"/>
            <a:ext cx="6400800" cy="1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755640" y="1989000"/>
            <a:ext cx="2808360" cy="280836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1280" y="3500280"/>
            <a:ext cx="28872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79640" y="1773360"/>
            <a:ext cx="0" cy="36036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348000" y="3284640"/>
            <a:ext cx="36036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24000" y="4653000"/>
            <a:ext cx="0" cy="28872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31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932360" y="135000"/>
                <a:ext cx="2879640" cy="279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S 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81 см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t xml:space="preserve">Р</m:t>
                        </m:r>
                        <m:r>
                          <m:t xml:space="preserve">=</m:t>
                        </m:r>
                        <m:r>
                          <m:t xml:space="preserve">?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Задача №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84360" y="1844640"/>
            <a:ext cx="4895640" cy="273672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79280" y="42926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916360" y="141300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651640" y="429264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28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5900760" y="333360"/>
                <a:ext cx="2278080" cy="388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АВ</m:t>
                        </m:r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t xml:space="preserve">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ВС</m:t>
                        </m:r>
                        <m:r>
                          <m:t xml:space="preserve">=</m:t>
                        </m:r>
                        <m:r>
                          <m:t xml:space="preserve">8</m:t>
                        </m:r>
                        <m:r>
                          <m:t xml:space="preserve">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АС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e>
                        <m:r>
                          <m:t xml:space="preserve">∠</m:t>
                        </m:r>
                        <m:r>
                          <m:t xml:space="preserve">С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e>
                      <m:e>
                        <m:r>
                          <m:t xml:space="preserve">∠</m:t>
                        </m:r>
                        <m:r>
                          <m:t xml:space="preserve">А</m:t>
                        </m:r>
                        <m:r>
                          <m:t xml:space="preserve">=</m:t>
                        </m:r>
                        <m:r>
                          <m:t xml:space="preserve">?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Задача №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716360" y="4149720"/>
            <a:ext cx="36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0" y="414972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187280" y="407664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684360" y="1844640"/>
            <a:ext cx="4895640" cy="273672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79280" y="429264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916360" y="141300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724360" y="429264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28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08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308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4788000" y="260280"/>
                <a:ext cx="4146480" cy="351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АВ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ВС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</m:e>
                      <m:e>
                        <m:r>
                          <m:t xml:space="preserve">∠</m:t>
                        </m:r>
                        <m:r>
                          <m:t xml:space="preserve">А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5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 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АВС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?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6" name=""/>
          <p:cNvSpPr/>
          <p:nvPr/>
        </p:nvSpPr>
        <p:spPr>
          <a:xfrm>
            <a:off x="1692360" y="3213000"/>
            <a:ext cx="287280" cy="21600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4066920" y="2997360"/>
            <a:ext cx="290520" cy="21564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116000" y="4149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Задача № 5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 rot="10644000">
            <a:off x="1116000" y="1052640"/>
            <a:ext cx="4681440" cy="2930400"/>
          </a:xfrm>
          <a:custGeom>
            <a:avLst/>
            <a:gdLst>
              <a:gd name="textAreaLeft" fmla="*/ 1029240 w 4681440"/>
              <a:gd name="textAreaRight" fmla="*/ 3652200 w 4681440"/>
              <a:gd name="textAreaTop" fmla="*/ 644400 h 2930400"/>
              <a:gd name="textAreaBottom" fmla="*/ 2286000 h 293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187280" y="1628640"/>
            <a:ext cx="6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19280" y="2349360"/>
            <a:ext cx="288720" cy="14292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547640" y="2565360"/>
            <a:ext cx="287640" cy="14436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4932000" y="2133720"/>
            <a:ext cx="360360" cy="14292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003280" y="2349360"/>
            <a:ext cx="360360" cy="14292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059280" y="476280"/>
            <a:ext cx="86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987640" y="407664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403280" y="335772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6443640" y="1989000"/>
                <a:ext cx="1933560" cy="237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S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?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задача №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Задача № 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rot="19932000">
            <a:off x="1775880" y="2377800"/>
            <a:ext cx="1946520" cy="3806640"/>
          </a:xfrm>
          <a:prstGeom prst="diamond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3640" y="3645000"/>
            <a:ext cx="216000" cy="14436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843280" y="3141720"/>
            <a:ext cx="0" cy="28728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492360" y="4653000"/>
            <a:ext cx="216000" cy="14436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627280" y="5084640"/>
            <a:ext cx="0" cy="28908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76360" y="450864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547640" y="2276640"/>
            <a:ext cx="6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564000" y="357336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419640" y="58770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835280" y="2565360"/>
            <a:ext cx="1800000" cy="338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1835280" y="3860280"/>
            <a:ext cx="180000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5076720" y="2349360"/>
                <a:ext cx="2132280" cy="388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АС</m:t>
                        </m:r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t xml:space="preserve">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ВС</m:t>
                        </m:r>
                        <m:r>
                          <m:t xml:space="preserve">=</m:t>
                        </m:r>
                        <m:r>
                          <m:t xml:space="preserve">8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АВ</m:t>
                        </m:r>
                        <m:r>
                          <m:t xml:space="preserve">=</m:t>
                        </m:r>
                        <m:r>
                          <m:t xml:space="preserve">?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900000" y="2492280"/>
            <a:ext cx="4967280" cy="252108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48000" y="2492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2340000" y="2492280"/>
            <a:ext cx="1008000" cy="252108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348000" y="2492280"/>
            <a:ext cx="1368360" cy="252108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050920" y="508464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0" y="508464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68360" y="501336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276720" y="198900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940360" y="479736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547640" y="436572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4292640"/>
            <a:ext cx="8636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3640" y="436572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788000" y="443700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30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5364000" y="1197000"/>
                <a:ext cx="3527640" cy="270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АВС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20 см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BD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?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Задача № 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 rot="19932000">
            <a:off x="1492200" y="1228320"/>
            <a:ext cx="2676600" cy="4843440"/>
          </a:xfrm>
          <a:prstGeom prst="diamond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547640" y="3141720"/>
            <a:ext cx="21600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059280" y="227664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851280" y="4365720"/>
            <a:ext cx="21600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700360" y="4869000"/>
            <a:ext cx="0" cy="288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258920" y="41497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332000" y="9810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924360" y="256536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067280" y="558972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92360" y="1557360"/>
            <a:ext cx="2232000" cy="417672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1619280" y="3068640"/>
            <a:ext cx="2376360" cy="122400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2986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4832280" y="1125360"/>
                <a:ext cx="3221280" cy="460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АС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АВ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CD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?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Задача № 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 rot="20179200">
            <a:off x="1204560" y="2602080"/>
            <a:ext cx="3889440" cy="2498400"/>
          </a:xfrm>
          <a:custGeom>
            <a:avLst/>
            <a:gdLst>
              <a:gd name="textAreaLeft" fmla="*/ 855360 w 3889440"/>
              <a:gd name="textAreaRight" fmla="*/ 3034080 w 3889440"/>
              <a:gd name="textAreaTop" fmla="*/ 549360 h 2498400"/>
              <a:gd name="textAreaBottom" fmla="*/ 1949040 h 249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900000" y="3500280"/>
            <a:ext cx="3600720" cy="108108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2771640" y="1916280"/>
            <a:ext cx="1656000" cy="345744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95280" y="285264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067280" y="1413000"/>
            <a:ext cx="100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643280" y="4797360"/>
            <a:ext cx="93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716360" y="4221000"/>
            <a:ext cx="7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11280" y="5300640"/>
            <a:ext cx="10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286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5651640" y="1341360"/>
                <a:ext cx="3003480" cy="525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АС</m:t>
                        </m:r>
                        <m:r>
                          <m:t xml:space="preserve">=</m:t>
                        </m:r>
                        <m:r>
                          <m:t xml:space="preserve">7</m:t>
                        </m:r>
                      </m:e>
                      <m:e>
                        <m:r>
                          <m:t xml:space="preserve">ВD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  <m:r>
                          <m:t xml:space="preserve">⊥</m:t>
                        </m:r>
                        <m:r>
                          <m:rPr>
                            <m:lit/>
                            <m:nor/>
                          </m:rPr>
                          <m:t xml:space="preserve">BD</m:t>
                        </m:r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CD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?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Задача № 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900000" y="2492280"/>
            <a:ext cx="4967280" cy="252108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48000" y="2492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908000" y="4005360"/>
            <a:ext cx="2016360" cy="100800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564000" y="5013360"/>
            <a:ext cx="71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476360" y="342900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68360" y="501336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76720" y="198900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940360" y="479736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908000" y="5084640"/>
            <a:ext cx="7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643280" y="508464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306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55640" y="4076640"/>
            <a:ext cx="719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116000" y="393372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340000" y="278136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30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5003640" y="331920"/>
                <a:ext cx="3889440" cy="286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АDK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7 см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АВС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?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Задача № 1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971640" y="2492280"/>
            <a:ext cx="4895640" cy="25923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348000" y="2492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500720" y="314172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39640" y="508464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276720" y="198900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940360" y="479736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627280" y="508464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916360" y="4292640"/>
            <a:ext cx="8636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306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55640" y="4076640"/>
            <a:ext cx="719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843280" y="4005360"/>
            <a:ext cx="115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908000" y="3284640"/>
            <a:ext cx="7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30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971640" y="3499920"/>
            <a:ext cx="3384360" cy="158436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3924360" y="550800"/>
                <a:ext cx="4680000" cy="160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А</m:t>
                        </m:r>
                        <m:r>
                          <m:rPr>
                            <m:lit/>
                            <m:nor/>
                          </m:rPr>
                          <m:t xml:space="preserve">D -  биссектриса </m:t>
                        </m:r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АВD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:   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АDС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?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Задача № 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Times New Roman"/>
              </a:rPr>
              <a:t>Является утверждение </a:t>
            </a:r>
            <a:r>
              <a:rPr b="1" lang="en-US" sz="4800" spc="-1" strike="noStrike">
                <a:solidFill>
                  <a:srgbClr val="006600"/>
                </a:solidFill>
                <a:latin typeface="Times New Roman"/>
              </a:rPr>
              <a:t>верным</a:t>
            </a:r>
            <a:r>
              <a:rPr b="1" lang="en-US" sz="4800" spc="-1" strike="noStrike">
                <a:solidFill>
                  <a:srgbClr val="000066"/>
                </a:solidFill>
                <a:latin typeface="Times New Roman"/>
              </a:rPr>
              <a:t> или </a:t>
            </a: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неверны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000066"/>
                </a:solidFill>
                <a:latin typeface="Arial"/>
              </a:rPr>
              <a:t>1)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000066"/>
                </a:solidFill>
                <a:latin typeface="Times New Roman"/>
              </a:rPr>
              <a:t>Если 2 многоугольника имеют равные площади, то они равн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Формула площади равностороннего треугольн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39640" y="2133720"/>
            <a:ext cx="4464000" cy="367344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771640" y="2133720"/>
            <a:ext cx="0" cy="367344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79280" y="566100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11280" y="1700280"/>
            <a:ext cx="6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076720" y="5445000"/>
            <a:ext cx="5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5651640" y="2143080"/>
                <a:ext cx="3168360" cy="14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АВ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ВС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АС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 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АВС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?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42" name=""/>
          <p:cNvSpPr/>
          <p:nvPr/>
        </p:nvSpPr>
        <p:spPr>
          <a:xfrm>
            <a:off x="1403280" y="3933720"/>
            <a:ext cx="36036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3708360" y="3860640"/>
            <a:ext cx="43200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916360" y="5661000"/>
            <a:ext cx="14436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1332000" y="620640"/>
            <a:ext cx="3240000" cy="5400720"/>
          </a:xfrm>
          <a:prstGeom prst="diamond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829080" y="3141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558160" y="189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574160" y="2997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702520" y="5950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627280" y="1052640"/>
            <a:ext cx="77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5602320" y="1844640"/>
                <a:ext cx="2963880" cy="32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АВ</m:t>
                        </m:r>
                        <m:r>
                          <m:t xml:space="preserve">=</m:t>
                        </m:r>
                        <m:r>
                          <m:t xml:space="preserve">7</m:t>
                        </m:r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CD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?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Является утверждение</a:t>
            </a:r>
            <a:br>
              <a:rPr sz="4000"/>
            </a:b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6600"/>
                </a:solidFill>
                <a:latin typeface="Arial"/>
              </a:rPr>
              <a:t>верным</a:t>
            </a: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 или </a:t>
            </a: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неверны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2)</a:t>
            </a:r>
            <a:r>
              <a:rPr b="1" lang="en-US" sz="4800" spc="-1" strike="noStrike">
                <a:solidFill>
                  <a:srgbClr val="000066"/>
                </a:solidFill>
                <a:latin typeface="Times New Roman"/>
              </a:rPr>
              <a:t>Если многоугольник составлен из нескольких многоугольников, то его площадь равна сумме площадей этих многоугольнико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Times New Roman"/>
              </a:rPr>
              <a:t>Является утверждение</a:t>
            </a:r>
            <a:br>
              <a:rPr sz="4800"/>
            </a:br>
            <a:r>
              <a:rPr b="1" lang="en-US" sz="4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6600"/>
                </a:solidFill>
                <a:latin typeface="Times New Roman"/>
              </a:rPr>
              <a:t>верным</a:t>
            </a:r>
            <a:r>
              <a:rPr b="1" lang="en-US" sz="4800" spc="-1" strike="noStrike">
                <a:solidFill>
                  <a:srgbClr val="000066"/>
                </a:solidFill>
                <a:latin typeface="Times New Roman"/>
              </a:rPr>
              <a:t> или </a:t>
            </a: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неверны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66"/>
                </a:solidFill>
                <a:latin typeface="Times New Roman"/>
              </a:rPr>
              <a:t>3)Квадратный сантиметр – это фигура, стороны которой равны 1с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8280360" cy="13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Times New Roman"/>
              </a:rPr>
              <a:t>Является утверждение</a:t>
            </a:r>
            <a:br>
              <a:rPr sz="4800"/>
            </a:br>
            <a:r>
              <a:rPr b="1" lang="en-US" sz="4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6600"/>
                </a:solidFill>
                <a:latin typeface="Times New Roman"/>
              </a:rPr>
              <a:t>верным</a:t>
            </a:r>
            <a:r>
              <a:rPr b="1" lang="en-US" sz="4800" spc="-1" strike="noStrike">
                <a:solidFill>
                  <a:srgbClr val="000066"/>
                </a:solidFill>
                <a:latin typeface="Times New Roman"/>
              </a:rPr>
              <a:t> или </a:t>
            </a: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неверны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66"/>
                </a:solidFill>
                <a:latin typeface="Times New Roman"/>
              </a:rPr>
              <a:t>4) Площадь квадрата равна произведению его сторон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Times New Roman"/>
              </a:rPr>
              <a:t>Является утверждение</a:t>
            </a:r>
            <a:br>
              <a:rPr sz="4800"/>
            </a:br>
            <a:r>
              <a:rPr b="1" lang="en-US" sz="4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6600"/>
                </a:solidFill>
                <a:latin typeface="Times New Roman"/>
              </a:rPr>
              <a:t>верным</a:t>
            </a:r>
            <a:r>
              <a:rPr b="1" lang="en-US" sz="4800" spc="-1" strike="noStrike">
                <a:solidFill>
                  <a:srgbClr val="000066"/>
                </a:solidFill>
                <a:latin typeface="Times New Roman"/>
              </a:rPr>
              <a:t> или </a:t>
            </a: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неверны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66"/>
                </a:solidFill>
                <a:latin typeface="Times New Roman"/>
              </a:rPr>
              <a:t>5)Площадь треугольника равна произведению стороны на высоту, проведённую к этой сторон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Times New Roman"/>
              </a:rPr>
              <a:t>Является утверждение</a:t>
            </a:r>
            <a:br>
              <a:rPr sz="4800"/>
            </a:br>
            <a:r>
              <a:rPr b="1" lang="en-US" sz="4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6600"/>
                </a:solidFill>
                <a:latin typeface="Times New Roman"/>
              </a:rPr>
              <a:t>верным</a:t>
            </a:r>
            <a:r>
              <a:rPr b="1" lang="en-US" sz="4800" spc="-1" strike="noStrike">
                <a:solidFill>
                  <a:srgbClr val="000066"/>
                </a:solidFill>
                <a:latin typeface="Times New Roman"/>
              </a:rPr>
              <a:t> или </a:t>
            </a: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неверны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66"/>
                </a:solidFill>
                <a:latin typeface="Times New Roman"/>
              </a:rPr>
              <a:t>6) Площадь параллелограмма равна произведению стороны параллелограмма на высот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Times New Roman"/>
              </a:rPr>
              <a:t>Является утверждение</a:t>
            </a:r>
            <a:br>
              <a:rPr sz="4800"/>
            </a:br>
            <a:r>
              <a:rPr b="1" lang="en-US" sz="4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6600"/>
                </a:solidFill>
                <a:latin typeface="Times New Roman"/>
              </a:rPr>
              <a:t>верным</a:t>
            </a:r>
            <a:r>
              <a:rPr b="1" lang="en-US" sz="4800" spc="-1" strike="noStrike">
                <a:solidFill>
                  <a:srgbClr val="000066"/>
                </a:solidFill>
                <a:latin typeface="Times New Roman"/>
              </a:rPr>
              <a:t> или </a:t>
            </a: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неверны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66"/>
                </a:solidFill>
                <a:latin typeface="Times New Roman"/>
              </a:rPr>
              <a:t>7) Площадь прямоугольного треугольника равна половине произведения катето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8T23:37:28Z</dcterms:created>
  <dc:creator>Хаскины</dc:creator>
  <dc:description/>
  <dc:language>en-US</dc:language>
  <cp:lastModifiedBy>Хаскины</cp:lastModifiedBy>
  <dcterms:modified xsi:type="dcterms:W3CDTF">2014-02-10T07:44:33Z</dcterms:modified>
  <cp:revision>6</cp:revision>
  <dc:subject/>
  <dc:title>Добрый день, 8А класс и  уважаемые родители.</dc:title>
</cp:coreProperties>
</file>