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D24-5BB1-4437-8CC8-9B3B29DD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AC3-5173-44D7-9E67-253F0668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0C7A-0204-407B-9DE2-3981E3BF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B89-6078-40C1-BD06-C3D4A80E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51F-0FB6-4B06-9B82-5819C9F1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729F-CCCF-4A3A-AAFF-BF172255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99B-35B9-47FE-B191-F38E85F1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5EBB-0A93-4F6D-A409-C9408A5E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59CE-7D4F-43BE-95C5-86746A3E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A0A-8534-411E-9FB2-16ACEBD5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2E7-362C-4F33-887D-197DA5B3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2181-6E98-4836-BB9B-DABEC4C8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A09D-B1CE-4EB8-8632-38ADACE9E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Добрый день, 8А класс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8) Площадь трапеции равна произведению суммы оснований на половину выс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9) Теорема Пифагора гласит: Если квадрат одной стороны треугольника равен сумме квадратов двух других сторон, то треугольник прямоуго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10) Если угол  одного треугольника равен углу другого треугольника, то площади этих треугольников относятся как произведения сторон , заключающих равные уг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66"/>
                </a:solidFill>
                <a:latin typeface="Times New Roman"/>
              </a:rPr>
              <a:t>Выберите номер </a:t>
            </a:r>
            <a:r>
              <a:rPr b="1" lang="en-US" sz="7200" spc="-1" strike="noStrike">
                <a:solidFill>
                  <a:srgbClr val="800000"/>
                </a:solidFill>
                <a:latin typeface="Times New Roman"/>
              </a:rPr>
              <a:t>верного утвержд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11) Высотой трапеции называе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перпендикуляр, проведённый к её основа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отрезок, пересекающий основание под прямым уг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перпендикуляр, опущенный из вершины трапе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перпендикуляр, проведенный из любой точки одного из оснований к прямой, содержащей другое осн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12) Если высоты треугольников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равны, 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их площади рав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их площади относятся как осн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эти треугольники рав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основания к которым они проведены, рав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7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13) Египетским треугольником называют такой треугольник, длины сторон которог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удовлетворяют теореме Пифаг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удовлетворяют, обратной теореме Пифаг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равны 3,4 и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равны целым числ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8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14) Если в треугольнике АВ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)  угол В –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66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угол С –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66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угол А –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66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угол С или угол А 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9640" y="1031760"/>
                <a:ext cx="66247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Решите задачи         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2060640"/>
            <a:ext cx="2160720" cy="2592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42920" y="3933720"/>
            <a:ext cx="1873440" cy="7207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771640" y="414936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700360" y="4005000"/>
            <a:ext cx="71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16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314172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8000" y="4724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965840" y="1628640"/>
                <a:ext cx="1882800" cy="432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95280" y="1700280"/>
            <a:ext cx="5040360" cy="2571840"/>
          </a:xfrm>
          <a:prstGeom prst="parallelogram">
            <a:avLst>
              <a:gd name="adj" fmla="val 4899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1700280"/>
            <a:ext cx="0" cy="2592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1700280"/>
            <a:ext cx="3240000" cy="9367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9236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800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788000" y="242064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2421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7640" y="4365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4365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32360" y="2924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364000" y="3548160"/>
                <a:ext cx="2624400" cy="23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,  b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Задача №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Times New Roman"/>
              </a:rPr>
              <a:t>Обобщающий урок </a:t>
            </a:r>
            <a:br>
              <a:rPr sz="6600"/>
            </a:br>
            <a:r>
              <a:rPr b="1" lang="en-US" sz="6600" spc="-1" strike="noStrike">
                <a:solidFill>
                  <a:srgbClr val="000066"/>
                </a:solidFill>
                <a:latin typeface="Times New Roman"/>
              </a:rPr>
              <a:t>по теме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6600"/>
            </a:br>
            <a:r>
              <a:rPr b="1" lang="en-US" sz="6600" spc="-1" strike="noStrike">
                <a:solidFill>
                  <a:srgbClr val="800000"/>
                </a:solidFill>
                <a:latin typeface="Times New Roman"/>
              </a:rPr>
              <a:t>"Площади"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36004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1989000"/>
            <a:ext cx="2808360" cy="28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3500280"/>
            <a:ext cx="28872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1773360"/>
            <a:ext cx="0" cy="360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284640"/>
            <a:ext cx="36036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4653000"/>
            <a:ext cx="0" cy="2887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932360" y="135000"/>
                <a:ext cx="2879640" cy="27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81 с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Р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Задача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4360" y="1844640"/>
            <a:ext cx="4895640" cy="2736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429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14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900760" y="333360"/>
                <a:ext cx="2278080" cy="38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16360" y="414972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414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076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4360" y="1844640"/>
            <a:ext cx="4895640" cy="2736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429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14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4292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788000" y="260280"/>
                <a:ext cx="4146480" cy="351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1692360" y="3213000"/>
            <a:ext cx="287280" cy="2160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066920" y="2997360"/>
            <a:ext cx="290520" cy="2156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 rot="10644000">
            <a:off x="1116000" y="1052640"/>
            <a:ext cx="4681440" cy="2930400"/>
          </a:xfrm>
          <a:custGeom>
            <a:avLst/>
            <a:gdLst>
              <a:gd name="textAreaLeft" fmla="*/ 1029240 w 4681440"/>
              <a:gd name="textAreaRight" fmla="*/ 3652200 w 4681440"/>
              <a:gd name="textAreaTop" fmla="*/ 644400 h 2930400"/>
              <a:gd name="textAreaBottom" fmla="*/ 2286000 h 293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1628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349360"/>
            <a:ext cx="288720" cy="142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47640" y="2565360"/>
            <a:ext cx="287640" cy="144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932000" y="2133720"/>
            <a:ext cx="360360" cy="142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003280" y="2349360"/>
            <a:ext cx="360360" cy="142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47628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7640" y="4076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3357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443640" y="1989000"/>
                <a:ext cx="1933560" cy="23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задача №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9932000">
            <a:off x="1775880" y="2377800"/>
            <a:ext cx="1946520" cy="380664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3640" y="3645000"/>
            <a:ext cx="216000" cy="144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43280" y="3141720"/>
            <a:ext cx="0" cy="2872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653000"/>
            <a:ext cx="216000" cy="144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5084640"/>
            <a:ext cx="0" cy="289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450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47640" y="2276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64000" y="357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19640" y="587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5280" y="2565360"/>
            <a:ext cx="180000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35280" y="3860280"/>
            <a:ext cx="1800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076720" y="2349360"/>
                <a:ext cx="2132280" cy="388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00000" y="2492280"/>
            <a:ext cx="4967280" cy="2521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340000" y="2492280"/>
            <a:ext cx="1008000" cy="2521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48000" y="2492280"/>
            <a:ext cx="1368360" cy="2521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5084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508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501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1989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0360" y="4797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436572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4292640"/>
            <a:ext cx="8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4365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88000" y="44370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364000" y="1197000"/>
                <a:ext cx="3527640" cy="27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20 с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rot="19932000">
            <a:off x="1492200" y="1228320"/>
            <a:ext cx="2676600" cy="484344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3141720"/>
            <a:ext cx="2160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59280" y="22766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4365720"/>
            <a:ext cx="2160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0360" y="48690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5892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32000" y="981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2565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67280" y="5589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1557360"/>
            <a:ext cx="2232000" cy="4176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619280" y="3068640"/>
            <a:ext cx="2376360" cy="1224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832280" y="1125360"/>
                <a:ext cx="3221280" cy="460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 rot="20179200">
            <a:off x="1204560" y="2602080"/>
            <a:ext cx="3889440" cy="2498400"/>
          </a:xfrm>
          <a:custGeom>
            <a:avLst/>
            <a:gdLst>
              <a:gd name="textAreaLeft" fmla="*/ 855360 w 3889440"/>
              <a:gd name="textAreaRight" fmla="*/ 3034080 w 3889440"/>
              <a:gd name="textAreaTop" fmla="*/ 549360 h 2498400"/>
              <a:gd name="textAreaBottom" fmla="*/ 1949040 h 24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3500280"/>
            <a:ext cx="3600720" cy="1081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771640" y="1916280"/>
            <a:ext cx="1656000" cy="34574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2852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7280" y="141300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3280" y="4797360"/>
            <a:ext cx="9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42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11280" y="530064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651640" y="1341360"/>
                <a:ext cx="30034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В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00000" y="2492280"/>
            <a:ext cx="4967280" cy="2521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4800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8000" y="4005360"/>
            <a:ext cx="2016360" cy="1008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64000" y="501336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76360" y="3429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501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1989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4797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0" y="5084640"/>
            <a:ext cx="7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3280" y="5084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407664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40000" y="2781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003640" y="331920"/>
                <a:ext cx="3889440" cy="28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DK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7 с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71640" y="2492280"/>
            <a:ext cx="4895640" cy="2592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4800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5084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1989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0360" y="4797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5084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16360" y="4292640"/>
            <a:ext cx="8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407664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3280" y="4005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8000" y="3284640"/>
            <a:ext cx="7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971640" y="3499920"/>
            <a:ext cx="3384360" cy="1584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924360" y="550800"/>
                <a:ext cx="468000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D -  биссектриса 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D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:   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DС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Задача №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1)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Если 2 многоугольника имеют равные площади, то они рав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Формула площади равносторонне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2133720"/>
            <a:ext cx="4464000" cy="3673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2133720"/>
            <a:ext cx="0" cy="36734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9280" y="5661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1280" y="17002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6720" y="5445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651640" y="2143080"/>
                <a:ext cx="316836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АВС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1403280" y="3933720"/>
            <a:ext cx="36036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708360" y="3860640"/>
            <a:ext cx="432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16360" y="5661000"/>
            <a:ext cx="144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332000" y="620640"/>
            <a:ext cx="3240000" cy="540072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9080" y="31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58160" y="1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416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2520" y="595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1052640"/>
            <a:ext cx="7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602320" y="1844640"/>
                <a:ext cx="2963880" cy="32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Является утверждение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верным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или 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невер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2)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Если многоугольник составлен из нескольких многоугольников, то его площадь равна сумме площадей этих многоугольни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3)Квадратный сантиметр – это фигура, стороны которой равны 1с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4) Площадь квадрата равна произведению его стор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5)Площадь треугольника равна произведению стороны на высоту, проведённую к этой сторон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6) Площадь параллелограмма равна произведению стороны параллелограмма на высот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Является утверждение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верным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 или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неверн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7) Площадь прямоугольного треугольника равна половине произведения кате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23:37:28Z</dcterms:created>
  <dc:creator>Хаскины</dc:creator>
  <dc:description/>
  <dc:language>en-US</dc:language>
  <cp:lastModifiedBy>Хаскины</cp:lastModifiedBy>
  <dcterms:modified xsi:type="dcterms:W3CDTF">2014-02-10T07:44:33Z</dcterms:modified>
  <cp:revision>6</cp:revision>
  <dc:subject/>
  <dc:title>Добрый день, 8А класс и  уважаемые родители.</dc:title>
</cp:coreProperties>
</file>