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9A8-61CC-46EB-AD4B-9F09ADC6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033-F84F-4D34-9456-9982EE21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57E-79FA-456B-92E6-55805919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E88-2225-47A6-BB08-0DCD321C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BF7-AF28-434D-9C67-F8FB7C09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D00-1C27-4E09-9814-699E0856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36C-DC1A-4192-B346-AC59DC2D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066-2A94-45DE-9CFA-E5E3284B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E42-D8FD-4916-8828-3ADD0F83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9B9-B2CD-4EAC-94EE-01B1C16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D31-5670-43AD-ACCE-69F58E9B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235-74E9-4CEA-9482-ABB95B7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9C2F-2243-4726-B2E7-21BA0FEC6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Добрый день, 8А класс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8) Площадь трапеции равна произведению суммы оснований на половину выс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9) Теорема Пифагора гласит: Если квадрат одной стороны треугольника равен сумме квадратов двух других сторон, то треугольник прямоуго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10) Если угол  одного треугольника равен углу другого треугольника, то площади этих треугольников относятся как произведения сторон , заключающих рав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Times New Roman"/>
              </a:rPr>
              <a:t>Выберите номер </a:t>
            </a: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верного утвержд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11) Высотой трапеции называ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перпендикуляр, проведённый к её основ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отрезок, пересекающий основание под прямым уг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перпендикуляр, опущенный из вершины трап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перпендикуляр, проведенный из любой точки одного из оснований к прямой, содержащей другое осн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2) Если высоты треугольников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равны, 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их площади ра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их площади относятся как осн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эти треугольники ра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основания к которым они проведены, ра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13) Египетским треугольником называют такой треугольник, длины сторон котор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удовлетворяют теореме Пифаг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удовлетворяют, обратной теореме Пифаг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равны 3,4 и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равны целым числ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8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4) Если в треугольнике АВ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)  угол В –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гол С –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гол А –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гол С или угол 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9640" y="1031760"/>
                <a:ext cx="6624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шите задачи         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2060640"/>
            <a:ext cx="2160720" cy="2592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42920" y="3933720"/>
            <a:ext cx="1873440" cy="720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771640" y="414936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700360" y="400500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31417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472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65840" y="1628640"/>
                <a:ext cx="1882800" cy="432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1700280"/>
            <a:ext cx="5040360" cy="2571840"/>
          </a:xfrm>
          <a:prstGeom prst="parallelogram">
            <a:avLst>
              <a:gd name="adj" fmla="val 4899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1700280"/>
            <a:ext cx="0" cy="2592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1700280"/>
            <a:ext cx="3240000" cy="936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788000" y="2420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436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436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2924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64000" y="3548160"/>
                <a:ext cx="262440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,  b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адача №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Обобщающий урок </a:t>
            </a: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по теме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800000"/>
                </a:solidFill>
                <a:latin typeface="Times New Roman"/>
              </a:rPr>
              <a:t>"Площади"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3600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1989000"/>
            <a:ext cx="2808360" cy="28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3500280"/>
            <a:ext cx="2887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1773360"/>
            <a:ext cx="0" cy="360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284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4653000"/>
            <a:ext cx="0" cy="288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32360" y="135000"/>
                <a:ext cx="2879640" cy="27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81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адача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1844640"/>
            <a:ext cx="4895640" cy="2736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900760" y="333360"/>
                <a:ext cx="2278080" cy="38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414972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0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844640"/>
            <a:ext cx="4895640" cy="2736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429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8000" y="260280"/>
                <a:ext cx="4146480" cy="351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1692360" y="3213000"/>
            <a:ext cx="287280" cy="216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066920" y="2997360"/>
            <a:ext cx="290520" cy="2156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10644000">
            <a:off x="1116000" y="1052640"/>
            <a:ext cx="4681440" cy="2930400"/>
          </a:xfrm>
          <a:custGeom>
            <a:avLst/>
            <a:gdLst>
              <a:gd name="textAreaLeft" fmla="*/ 1029240 w 4681440"/>
              <a:gd name="textAreaRight" fmla="*/ 3652200 w 4681440"/>
              <a:gd name="textAreaTop" fmla="*/ 644400 h 2930400"/>
              <a:gd name="textAreaBottom" fmla="*/ 2286000 h 29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1628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349360"/>
            <a:ext cx="28872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2565360"/>
            <a:ext cx="28764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932000" y="2133720"/>
            <a:ext cx="36036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03280" y="2349360"/>
            <a:ext cx="36036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76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407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3357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443640" y="1989000"/>
                <a:ext cx="193356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адача 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9932000">
            <a:off x="1775880" y="2377800"/>
            <a:ext cx="1946520" cy="380664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3645000"/>
            <a:ext cx="21600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3141720"/>
            <a:ext cx="0" cy="287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653000"/>
            <a:ext cx="21600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5084640"/>
            <a:ext cx="0" cy="2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450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2276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35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2565360"/>
            <a:ext cx="1800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35280" y="3860280"/>
            <a:ext cx="1800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076720" y="2349360"/>
                <a:ext cx="213228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2492280"/>
            <a:ext cx="4967280" cy="2521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340000" y="2492280"/>
            <a:ext cx="1008000" cy="252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2492280"/>
            <a:ext cx="1368360" cy="252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5084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0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4365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429264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4365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4437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364000" y="1197000"/>
                <a:ext cx="3527640" cy="27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0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rot="19932000">
            <a:off x="1492200" y="1228320"/>
            <a:ext cx="2676600" cy="484344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3141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22766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4365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4869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98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56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558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1557360"/>
            <a:ext cx="2232000" cy="4176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619280" y="3068640"/>
            <a:ext cx="2376360" cy="1224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32280" y="1125360"/>
                <a:ext cx="3221280" cy="460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rot="20179200">
            <a:off x="1204560" y="2602080"/>
            <a:ext cx="3889440" cy="2498400"/>
          </a:xfrm>
          <a:custGeom>
            <a:avLst/>
            <a:gdLst>
              <a:gd name="textAreaLeft" fmla="*/ 855360 w 3889440"/>
              <a:gd name="textAreaRight" fmla="*/ 3034080 w 3889440"/>
              <a:gd name="textAreaTop" fmla="*/ 549360 h 2498400"/>
              <a:gd name="textAreaBottom" fmla="*/ 1949040 h 24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500280"/>
            <a:ext cx="3600720" cy="108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771640" y="1916280"/>
            <a:ext cx="1656000" cy="3457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85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141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4797360"/>
            <a:ext cx="9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42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5300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651640" y="1341360"/>
                <a:ext cx="30034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В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2492280"/>
            <a:ext cx="4967280" cy="2521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4005360"/>
            <a:ext cx="2016360" cy="100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4000" y="5013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76360" y="342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508464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0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4076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7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003640" y="331920"/>
                <a:ext cx="3889440" cy="28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DK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7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71640" y="2492280"/>
            <a:ext cx="4895640" cy="2592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50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5084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429264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4076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0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328464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71640" y="3499920"/>
            <a:ext cx="3384360" cy="1584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924360" y="550800"/>
                <a:ext cx="468000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D -  биссектриса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D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:  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D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1)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Если 2 многоугольника имеют равные площади, то они рав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Формула площади равносторонне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2133720"/>
            <a:ext cx="446400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2133720"/>
            <a:ext cx="0" cy="36734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566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1700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5445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651640" y="2143080"/>
                <a:ext cx="316836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403280" y="3933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708360" y="3860640"/>
            <a:ext cx="432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566100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32000" y="620640"/>
            <a:ext cx="3240000" cy="540072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9080" y="31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58160" y="1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416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2520" y="595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1052640"/>
            <a:ext cx="7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602320" y="1844640"/>
                <a:ext cx="296388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Является утверждение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верным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или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невер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)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Если многоугольник составлен из нескольких многоугольников, то его площадь равна сумме площадей этих многоуголь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3)Квадратный сантиметр – это фигура, стороны которой равны 1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4) Площадь квадрата равна произведению его стор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5)Площадь треугольника равна произведению стороны на высоту, проведённую к этой сторо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6) Площадь параллелограмма равна произведению стороны параллелограмма на высот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7) Площадь прямоугольного треугольника равна половине произведения кате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23:37:28Z</dcterms:created>
  <dc:creator>Хаскины</dc:creator>
  <dc:description/>
  <dc:language>en-US</dc:language>
  <cp:lastModifiedBy>Хаскины</cp:lastModifiedBy>
  <dcterms:modified xsi:type="dcterms:W3CDTF">2014-02-10T07:44:33Z</dcterms:modified>
  <cp:revision>6</cp:revision>
  <dc:subject/>
  <dc:title>Добрый день, 8А класс и  уважаемые родители.</dc:title>
</cp:coreProperties>
</file>