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D465-464B-4714-B061-3B5122A21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C29D-810E-455D-9661-B7C7DDEC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9BE6-1852-4B93-B389-896C1F741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5D2A-6FC4-41F1-BF71-38E59A23A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13C1-7E54-4354-ACF5-296C7281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C886-91CA-4B41-A382-5CAE3E33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33F0-9BBC-4500-88C8-9065A04E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72A6-7078-4743-A262-CBC1BB17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9B38-45B8-4FE2-A5B6-62E50625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4A06-E04A-4F77-863C-36C67545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B4C6-BEDE-4754-BD9C-C45B89D5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79F5-5E69-49C1-8F4F-136E3ECB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94CE-6942-4881-BECD-3C9A4413E4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«Я попал в чудесную страну: мир музыки и крас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7" dur="123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8" dur="123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0" dur="123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1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«А еще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7044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дленная музыка в стиле барокко дает ощущение устойчивости, порядка, безопасности и создает духовную стимулирующую среду, которая подходит для занятий или рабо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00360" y="3716280"/>
            <a:ext cx="4392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к-музыка может пробудить чувства, стимулировать активные движения, снять напряжение, ослабить боль и снизить неприятный эффект громких и резких звуков, присутствующих в окружающей среде. Эта музыка также способна создать напряжение, стресс и боль в организм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97c89e21a3bacd78237704ba01538e33"/>
          <p:cNvPicPr/>
          <p:nvPr/>
        </p:nvPicPr>
        <p:blipFill>
          <a:blip r:embed="rId1"/>
          <a:stretch/>
        </p:blipFill>
        <p:spPr>
          <a:xfrm>
            <a:off x="179280" y="4005360"/>
            <a:ext cx="2592360" cy="2468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Безымянный"/>
          <p:cNvPicPr/>
          <p:nvPr/>
        </p:nvPicPr>
        <p:blipFill>
          <a:blip r:embed="rId2"/>
          <a:stretch/>
        </p:blipFill>
        <p:spPr>
          <a:xfrm>
            <a:off x="2771640" y="4005360"/>
            <a:ext cx="1871640" cy="244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b_psyho"/>
          <p:cNvPicPr/>
          <p:nvPr/>
        </p:nvPicPr>
        <p:blipFill>
          <a:blip r:embed="rId3"/>
          <a:stretch/>
        </p:blipFill>
        <p:spPr>
          <a:xfrm>
            <a:off x="4716360" y="1484280"/>
            <a:ext cx="2232000" cy="2138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Безымянный"/>
          <p:cNvPicPr/>
          <p:nvPr/>
        </p:nvPicPr>
        <p:blipFill>
          <a:blip r:embed="rId4"/>
          <a:stretch/>
        </p:blipFill>
        <p:spPr>
          <a:xfrm>
            <a:off x="6948360" y="1484280"/>
            <a:ext cx="1800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39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47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5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9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5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9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«И наконец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280" y="4508280"/>
            <a:ext cx="403884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-музыка, а также народные мелодии провоцируют телодвижения, создают ощущение благополуч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236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ическая музыка (Бетховен и Моцарт) отличается ясностью, элегантностью и прозрачност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10"/>
          <p:cNvPicPr/>
          <p:nvPr/>
        </p:nvPicPr>
        <p:blipFill>
          <a:blip r:embed="rId1"/>
          <a:stretch/>
        </p:blipFill>
        <p:spPr>
          <a:xfrm>
            <a:off x="684360" y="1268280"/>
            <a:ext cx="3563640" cy="2222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Безымянный"/>
          <p:cNvPicPr/>
          <p:nvPr/>
        </p:nvPicPr>
        <p:blipFill>
          <a:blip r:embed="rId2"/>
          <a:stretch/>
        </p:blipFill>
        <p:spPr>
          <a:xfrm>
            <a:off x="684360" y="3284640"/>
            <a:ext cx="3600360" cy="936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i"/>
          <p:cNvPicPr/>
          <p:nvPr/>
        </p:nvPicPr>
        <p:blipFill>
          <a:blip r:embed="rId3"/>
          <a:stretch/>
        </p:blipFill>
        <p:spPr>
          <a:xfrm>
            <a:off x="4716360" y="2852640"/>
            <a:ext cx="4176720" cy="2611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Безымянный"/>
          <p:cNvPicPr/>
          <p:nvPr/>
        </p:nvPicPr>
        <p:blipFill>
          <a:blip r:embed="rId4"/>
          <a:stretch/>
        </p:blipFill>
        <p:spPr>
          <a:xfrm>
            <a:off x="4716360" y="4941720"/>
            <a:ext cx="4176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8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8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8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8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2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5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«И вот я сделал это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меня получилась целая музыкальная радуга настоя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24476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ечно она не похожа на настоящую радугу, но на то она и музыкальная, чтобы отличаться от всех радуг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1247914017_bf2f6fc1cb42"/>
          <p:cNvPicPr/>
          <p:nvPr/>
        </p:nvPicPr>
        <p:blipFill>
          <a:blip r:embed="rId1"/>
          <a:stretch/>
        </p:blipFill>
        <p:spPr>
          <a:xfrm>
            <a:off x="4876920" y="365760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2"/>
          <p:cNvPicPr/>
          <p:nvPr/>
        </p:nvPicPr>
        <p:blipFill>
          <a:blip r:embed="rId2"/>
          <a:stretch/>
        </p:blipFill>
        <p:spPr>
          <a:xfrm>
            <a:off x="0" y="3573360"/>
            <a:ext cx="460836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61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61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62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62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1" descr="ksmkvs_cont"/>
          <p:cNvPicPr/>
          <p:nvPr/>
        </p:nvPicPr>
        <p:blipFill>
          <a:blip r:embed="rId1"/>
          <a:stretch/>
        </p:blipFill>
        <p:spPr>
          <a:xfrm>
            <a:off x="7191360" y="2421000"/>
            <a:ext cx="1952640" cy="2736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1240931396_8"/>
          <p:cNvPicPr/>
          <p:nvPr/>
        </p:nvPicPr>
        <p:blipFill>
          <a:blip r:embed="rId2"/>
          <a:stretch/>
        </p:blipFill>
        <p:spPr>
          <a:xfrm>
            <a:off x="7070760" y="5300640"/>
            <a:ext cx="2073240" cy="1387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j108896_1224410169"/>
          <p:cNvPicPr/>
          <p:nvPr/>
        </p:nvPicPr>
        <p:blipFill>
          <a:blip r:embed="rId3"/>
          <a:stretch/>
        </p:blipFill>
        <p:spPr>
          <a:xfrm>
            <a:off x="0" y="2044800"/>
            <a:ext cx="7020000" cy="4813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la1137-001"/>
          <p:cNvPicPr/>
          <p:nvPr/>
        </p:nvPicPr>
        <p:blipFill>
          <a:blip r:embed="rId4"/>
          <a:stretch/>
        </p:blipFill>
        <p:spPr>
          <a:xfrm>
            <a:off x="0" y="0"/>
            <a:ext cx="1281240" cy="19162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6560" y="189000"/>
            <a:ext cx="8677440" cy="30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00"/>
                </a:solidFill>
                <a:latin typeface="Arial"/>
              </a:rPr>
              <a:t>«Все чувства мира можно передать с помощью музыки, а чтобы было наглядно мы - дети делаем это с помощью красок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56"/>
          <p:cNvPicPr/>
          <p:nvPr/>
        </p:nvPicPr>
        <p:blipFill>
          <a:blip r:embed="rId1"/>
          <a:stretch/>
        </p:blipFill>
        <p:spPr>
          <a:xfrm>
            <a:off x="5219640" y="2276640"/>
            <a:ext cx="4114800" cy="4176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«Знаем ли мы как влияет музыкальный ритм на наше сознание и психику?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43"/>
          <p:cNvPicPr/>
          <p:nvPr/>
        </p:nvPicPr>
        <p:blipFill>
          <a:blip r:embed="rId1"/>
          <a:stretch/>
        </p:blipFill>
        <p:spPr>
          <a:xfrm>
            <a:off x="179280" y="0"/>
            <a:ext cx="4608720" cy="3678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47280" y="2852640"/>
            <a:ext cx="8496360" cy="28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«Сейчас я вам расскажу цветную историю моего необычного исследования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1" descr="h_t8h0yDiQeGnf7OvVJ4BoqwpNj3zK6SCR_"/>
          <p:cNvPicPr/>
          <p:nvPr/>
        </p:nvPicPr>
        <p:blipFill>
          <a:blip r:embed="rId1"/>
          <a:stretch/>
        </p:blipFill>
        <p:spPr>
          <a:xfrm>
            <a:off x="3492360" y="3009960"/>
            <a:ext cx="5651640" cy="38480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637200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Arial"/>
              </a:rPr>
              <a:t>«Мир огромен своим разнообразием, яркостью и цветами. Слушая дома музыку, мне стало интересно: а ведь у музыкального ритма тоже есть свой цвет или нет? И я решил раскрасить мир музыки! Но не просто сделать его цветным, а попытаться выразить через цвет свои чувства, вызываемые той или иной музыкой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Никто не объяснял, а я понял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бая культура, да и вся наша жизнь основана на звуке. При резком звуке мы 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вздрагивае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при тихом -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рислушиваем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при спокойном - 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засыпае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Полная тишина нас 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пуга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да и бывает она, как правило, перед землетрясением, или подобными неприятност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864d8095f3f9"/>
          <p:cNvPicPr/>
          <p:nvPr/>
        </p:nvPicPr>
        <p:blipFill>
          <a:blip r:embed="rId1"/>
          <a:stretch/>
        </p:blipFill>
        <p:spPr>
          <a:xfrm>
            <a:off x="684360" y="0"/>
            <a:ext cx="777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3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31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0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5641123"/>
          <p:cNvPicPr/>
          <p:nvPr/>
        </p:nvPicPr>
        <p:blipFill>
          <a:blip r:embed="rId1"/>
          <a:stretch/>
        </p:blipFill>
        <p:spPr>
          <a:xfrm>
            <a:off x="5148360" y="3141720"/>
            <a:ext cx="3995640" cy="34686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48360" cy="558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«Магическая сила звуков может привести человека в отчаяние, заставить смеяться или, наоборот, успокоить. Но музыка еще и мощное лечебное средство, способ глубоко воздействовать на физическое и психическое состояние человека. Наши музыкальные пристрастия могут рассказать о многих психологических особенностях лич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99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55280" y="333000"/>
            <a:ext cx="7777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99ff"/>
                </a:solidFill>
                <a:latin typeface="Arial"/>
              </a:rPr>
              <a:t>«Мы взяли бесцветную палитру и решили раскрасить её теми цветами, с которыми у нас будет ассоциироваться прослушанная нами музыка. А в конце мы посмотрим, что у нас получилос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Безымянный1"/>
          <p:cNvPicPr/>
          <p:nvPr/>
        </p:nvPicPr>
        <p:blipFill>
          <a:blip r:embed="rId1"/>
          <a:stretch/>
        </p:blipFill>
        <p:spPr>
          <a:xfrm>
            <a:off x="1692360" y="3448080"/>
            <a:ext cx="60498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2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1332000" y="549360"/>
            <a:ext cx="62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«Мы договорились, что определенному настроению соответствует определенный цвет»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042920" y="2852640"/>
          <a:ext cx="7274160" cy="3716280"/>
        </p:xfrm>
        <a:graphic>
          <a:graphicData uri="http://schemas.openxmlformats.org/drawingml/2006/table">
            <a:tbl>
              <a:tblPr/>
              <a:tblGrid>
                <a:gridCol w="4362480"/>
                <a:gridCol w="2911680"/>
              </a:tblGrid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койствие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07373"/>
                        </a:gs>
                        <a:gs pos="50000">
                          <a:srgbClr val="f1f8f9"/>
                        </a:gs>
                        <a:gs pos="100000">
                          <a:srgbClr val="70737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голубой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07373"/>
                        </a:gs>
                        <a:gs pos="50000">
                          <a:srgbClr val="f1f8f9"/>
                        </a:gs>
                        <a:gs pos="100000">
                          <a:srgbClr val="707373"/>
                        </a:gs>
                      </a:gsLst>
                      <a:lin ang="5400000"/>
                    </a:gradFill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яжение, стресс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07373"/>
                        </a:gs>
                        <a:gs pos="50000">
                          <a:srgbClr val="f1f8f9"/>
                        </a:gs>
                        <a:gs pos="100000">
                          <a:srgbClr val="70737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фиолетовый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07373"/>
                        </a:gs>
                        <a:gs pos="50000">
                          <a:srgbClr val="f1f8f9"/>
                        </a:gs>
                        <a:gs pos="100000">
                          <a:srgbClr val="707373"/>
                        </a:gs>
                      </a:gsLst>
                      <a:lin ang="5400000"/>
                    </a:gradFill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ойчивость, чувство безопасности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07373"/>
                        </a:gs>
                        <a:gs pos="50000">
                          <a:srgbClr val="f1f8f9"/>
                        </a:gs>
                        <a:gs pos="100000">
                          <a:srgbClr val="70737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серый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07373"/>
                        </a:gs>
                        <a:gs pos="50000">
                          <a:srgbClr val="f1f8f9"/>
                        </a:gs>
                        <a:gs pos="100000">
                          <a:srgbClr val="707373"/>
                        </a:gs>
                      </a:gsLst>
                      <a:lin ang="5400000"/>
                    </a:gradFill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увство элегантности, ясность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07373"/>
                        </a:gs>
                        <a:gs pos="50000">
                          <a:srgbClr val="f1f8f9"/>
                        </a:gs>
                        <a:gs pos="100000">
                          <a:srgbClr val="70737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ый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07373"/>
                        </a:gs>
                        <a:gs pos="50000">
                          <a:srgbClr val="f1f8f9"/>
                        </a:gs>
                        <a:gs pos="100000">
                          <a:srgbClr val="707373"/>
                        </a:gs>
                      </a:gsLst>
                      <a:lin ang="5400000"/>
                    </a:gradFill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увство благополучия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07373"/>
                        </a:gs>
                        <a:gs pos="50000">
                          <a:srgbClr val="f1f8f9"/>
                        </a:gs>
                        <a:gs pos="100000">
                          <a:srgbClr val="70737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желтый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07373"/>
                        </a:gs>
                        <a:gs pos="50000">
                          <a:srgbClr val="f1f8f9"/>
                        </a:gs>
                        <a:gs pos="100000">
                          <a:srgbClr val="707373"/>
                        </a:gs>
                      </a:gsLst>
                      <a:lin ang="5400000"/>
                    </a:gradFill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дость, юмор, вдохновение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07373"/>
                        </a:gs>
                        <a:gs pos="50000">
                          <a:srgbClr val="f1f8f9"/>
                        </a:gs>
                        <a:gs pos="100000">
                          <a:srgbClr val="70737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расный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07373"/>
                        </a:gs>
                        <a:gs pos="50000">
                          <a:srgbClr val="f1f8f9"/>
                        </a:gs>
                        <a:gs pos="100000">
                          <a:srgbClr val="707373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«И вот к каким выводам мы пришели..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0920" y="4076280"/>
            <a:ext cx="404316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койная фоновая музыка или современные оркестровки, в которых нет четких ритмов, усиливает состояние расслабленной готов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8000" y="1600200"/>
            <a:ext cx="396072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жаз, блюз, регги и другие музыкальные и танцевальные формы, в основе которых лежат выразительные африканские мелодии, могут поднять настроение и вдохновить, дать выход радости, рассеять печаль, обострить юмор и иронию, повысить общитель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ffd4452d"/>
          <p:cNvPicPr/>
          <p:nvPr/>
        </p:nvPicPr>
        <p:blipFill>
          <a:blip r:embed="rId1"/>
          <a:stretch/>
        </p:blipFill>
        <p:spPr>
          <a:xfrm>
            <a:off x="539640" y="1844640"/>
            <a:ext cx="2448000" cy="2071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showimage"/>
          <p:cNvPicPr/>
          <p:nvPr/>
        </p:nvPicPr>
        <p:blipFill>
          <a:blip r:embed="rId2"/>
          <a:stretch/>
        </p:blipFill>
        <p:spPr>
          <a:xfrm>
            <a:off x="6883560" y="4365720"/>
            <a:ext cx="2260440" cy="2492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Безымянный"/>
          <p:cNvPicPr/>
          <p:nvPr/>
        </p:nvPicPr>
        <p:blipFill>
          <a:blip r:embed="rId3"/>
          <a:stretch/>
        </p:blipFill>
        <p:spPr>
          <a:xfrm>
            <a:off x="2987640" y="1844640"/>
            <a:ext cx="1584360" cy="2087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Безымянный"/>
          <p:cNvPicPr/>
          <p:nvPr/>
        </p:nvPicPr>
        <p:blipFill>
          <a:blip r:embed="rId4"/>
          <a:stretch/>
        </p:blipFill>
        <p:spPr>
          <a:xfrm>
            <a:off x="4643280" y="4365720"/>
            <a:ext cx="23148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8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1">
                                  <p:stCondLst>
                                    <p:cond delay="2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22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13:48:24Z</dcterms:created>
  <dc:creator>Ляська-масяська</dc:creator>
  <dc:description/>
  <dc:language>en-US</dc:language>
  <cp:lastModifiedBy>Коля</cp:lastModifiedBy>
  <dcterms:modified xsi:type="dcterms:W3CDTF">2013-03-20T19:17:53Z</dcterms:modified>
  <cp:revision>5</cp:revision>
  <dc:subject/>
  <dc:title>«Я попал в чудесную страну: мир музыки и красок»</dc:title>
</cp:coreProperties>
</file>