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910-F00B-4AD2-9142-7BABA2C9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27C-E806-4C49-8ED0-D875B6B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3D9-5BFB-4A7D-A215-08F9FB5C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1C5-AC01-4241-88D9-D1018E22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386-2353-4114-AAFC-E668105F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321-FD55-4398-A81B-59DE3B5C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8D3-BD77-4113-B2AA-604F714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984-3127-4AFB-8234-D4FE88FA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19B-1BFF-4E01-81D8-788F247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83A-821B-4F31-9DCA-E1672D02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007-D3A6-41DC-A643-86EC7AB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F59-BBFE-49C0-8EC0-E0F8E27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8A65-3AAA-4A13-A8D6-2B5A843A4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«Я попал в чудесную страну: мир музыки и крас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7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8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0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А еще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ленная музыка в стиле барокко дает ощущение устойчивости, порядка, безопасности и создает духовную стимулирующую среду, которая подходит для занятий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0360" y="3716280"/>
            <a:ext cx="439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к-музыка может пробудить чувства, стимулировать активные движения, снять напряжение, ослабить боль и снизить неприятный эффект громких и резких звуков, присутствующих в окружающей среде. Эта музыка также способна создать напряжение, стресс и боль в организ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97c89e21a3bacd78237704ba01538e33"/>
          <p:cNvPicPr/>
          <p:nvPr/>
        </p:nvPicPr>
        <p:blipFill>
          <a:blip r:embed="rId1"/>
          <a:stretch/>
        </p:blipFill>
        <p:spPr>
          <a:xfrm>
            <a:off x="179280" y="400536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Безымянный"/>
          <p:cNvPicPr/>
          <p:nvPr/>
        </p:nvPicPr>
        <p:blipFill>
          <a:blip r:embed="rId2"/>
          <a:stretch/>
        </p:blipFill>
        <p:spPr>
          <a:xfrm>
            <a:off x="2771640" y="400536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b_psyho"/>
          <p:cNvPicPr/>
          <p:nvPr/>
        </p:nvPicPr>
        <p:blipFill>
          <a:blip r:embed="rId3"/>
          <a:stretch/>
        </p:blipFill>
        <p:spPr>
          <a:xfrm>
            <a:off x="4716360" y="1484280"/>
            <a:ext cx="2232000" cy="213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Безымянный"/>
          <p:cNvPicPr/>
          <p:nvPr/>
        </p:nvPicPr>
        <p:blipFill>
          <a:blip r:embed="rId4"/>
          <a:stretch/>
        </p:blipFill>
        <p:spPr>
          <a:xfrm>
            <a:off x="6948360" y="148428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И наконец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4508280"/>
            <a:ext cx="40388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-музыка, а также народные мелодии провоцируют телодвижения, создают ощущение благополуч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ческая музыка (Бетховен и Моцарт) отличается ясностью, элегантностью и прозрач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10"/>
          <p:cNvPicPr/>
          <p:nvPr/>
        </p:nvPicPr>
        <p:blipFill>
          <a:blip r:embed="rId1"/>
          <a:stretch/>
        </p:blipFill>
        <p:spPr>
          <a:xfrm>
            <a:off x="684360" y="1268280"/>
            <a:ext cx="3563640" cy="222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Безымянный"/>
          <p:cNvPicPr/>
          <p:nvPr/>
        </p:nvPicPr>
        <p:blipFill>
          <a:blip r:embed="rId2"/>
          <a:stretch/>
        </p:blipFill>
        <p:spPr>
          <a:xfrm>
            <a:off x="684360" y="3284640"/>
            <a:ext cx="3600360" cy="93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i"/>
          <p:cNvPicPr/>
          <p:nvPr/>
        </p:nvPicPr>
        <p:blipFill>
          <a:blip r:embed="rId3"/>
          <a:stretch/>
        </p:blipFill>
        <p:spPr>
          <a:xfrm>
            <a:off x="4716360" y="2852640"/>
            <a:ext cx="4176720" cy="261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Безымянный"/>
          <p:cNvPicPr/>
          <p:nvPr/>
        </p:nvPicPr>
        <p:blipFill>
          <a:blip r:embed="rId4"/>
          <a:stretch/>
        </p:blipFill>
        <p:spPr>
          <a:xfrm>
            <a:off x="4716360" y="4941720"/>
            <a:ext cx="4176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И вот я сделал это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получилась целая музыкальная радуга на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 она не похожа на настоящую радугу, но на то она и музыкальная, чтобы отличаться от всех радуг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247914017_bf2f6fc1cb42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"/>
          <p:cNvPicPr/>
          <p:nvPr/>
        </p:nvPicPr>
        <p:blipFill>
          <a:blip r:embed="rId2"/>
          <a:stretch/>
        </p:blipFill>
        <p:spPr>
          <a:xfrm>
            <a:off x="0" y="3573360"/>
            <a:ext cx="46083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ksmkvs_cont"/>
          <p:cNvPicPr/>
          <p:nvPr/>
        </p:nvPicPr>
        <p:blipFill>
          <a:blip r:embed="rId1"/>
          <a:stretch/>
        </p:blipFill>
        <p:spPr>
          <a:xfrm>
            <a:off x="7191360" y="2421000"/>
            <a:ext cx="1952640" cy="27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40931396_8"/>
          <p:cNvPicPr/>
          <p:nvPr/>
        </p:nvPicPr>
        <p:blipFill>
          <a:blip r:embed="rId2"/>
          <a:stretch/>
        </p:blipFill>
        <p:spPr>
          <a:xfrm>
            <a:off x="7070760" y="5300640"/>
            <a:ext cx="2073240" cy="1387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j108896_1224410169"/>
          <p:cNvPicPr/>
          <p:nvPr/>
        </p:nvPicPr>
        <p:blipFill>
          <a:blip r:embed="rId3"/>
          <a:stretch/>
        </p:blipFill>
        <p:spPr>
          <a:xfrm>
            <a:off x="0" y="2044800"/>
            <a:ext cx="7020000" cy="481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a1137-001"/>
          <p:cNvPicPr/>
          <p:nvPr/>
        </p:nvPicPr>
        <p:blipFill>
          <a:blip r:embed="rId4"/>
          <a:stretch/>
        </p:blipFill>
        <p:spPr>
          <a:xfrm>
            <a:off x="0" y="0"/>
            <a:ext cx="1281240" cy="1916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677440" cy="30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«Все чувства мира можно передать с помощью музыки, а чтобы было наглядно мы - дети делаем это с помощью красок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56"/>
          <p:cNvPicPr/>
          <p:nvPr/>
        </p:nvPicPr>
        <p:blipFill>
          <a:blip r:embed="rId1"/>
          <a:stretch/>
        </p:blipFill>
        <p:spPr>
          <a:xfrm>
            <a:off x="5219640" y="2276640"/>
            <a:ext cx="411480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«Знаем ли мы как влияет музыкальный ритм на наше сознание и психику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43"/>
          <p:cNvPicPr/>
          <p:nvPr/>
        </p:nvPicPr>
        <p:blipFill>
          <a:blip r:embed="rId1"/>
          <a:stretch/>
        </p:blipFill>
        <p:spPr>
          <a:xfrm>
            <a:off x="179280" y="0"/>
            <a:ext cx="4608720" cy="3678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2852640"/>
            <a:ext cx="849636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«Сейчас я вам расскажу цветную историю моего необычного исследования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h_t8h0yDiQeGnf7OvVJ4BoqwpNj3zK6SCR_"/>
          <p:cNvPicPr/>
          <p:nvPr/>
        </p:nvPicPr>
        <p:blipFill>
          <a:blip r:embed="rId1"/>
          <a:stretch/>
        </p:blipFill>
        <p:spPr>
          <a:xfrm>
            <a:off x="3492360" y="3009960"/>
            <a:ext cx="5651640" cy="3848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63720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«Мир огромен своим разнообразием, яркостью и цветами. Слушая дома музыку, мне стало интересно: а ведь у музыкального ритма тоже есть свой цвет или нет? И я решил раскрасить мир музыки! Но не просто сделать его цветным, а попытаться выразить через цвет свои чувства, вызываемые той или иной музык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Никто не объяснял, а я понял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ая культура, да и вся наша жизнь основана на звуке. При резком звуке мы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вздрагива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тихом -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слушиваем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спокойном -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засыпа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лная тишина нас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уг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а и бывает она, как правило, перед землетрясением, или подобными неприятност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64d8095f3f9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5641123"/>
          <p:cNvPicPr/>
          <p:nvPr/>
        </p:nvPicPr>
        <p:blipFill>
          <a:blip r:embed="rId1"/>
          <a:stretch/>
        </p:blipFill>
        <p:spPr>
          <a:xfrm>
            <a:off x="5148360" y="3141720"/>
            <a:ext cx="3995640" cy="3468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Магическая сила звуков может привести человека в отчаяние, заставить смеяться или, наоборот, успокоить. Но музыка еще и мощное лечебное средство, способ глубоко воздействовать на физическое и психическое состояние человека. Наши музыкальные пристрастия могут рассказать о многих психологических особенностях лич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777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«Мы взяли бесцветную палитру и решили раскрасить её теми цветами, с которыми у нас будет ассоциироваться прослушанная нами музыка. А в конце мы посмотрим, что у нас получилос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Безымянный1"/>
          <p:cNvPicPr/>
          <p:nvPr/>
        </p:nvPicPr>
        <p:blipFill>
          <a:blip r:embed="rId1"/>
          <a:stretch/>
        </p:blipFill>
        <p:spPr>
          <a:xfrm>
            <a:off x="1692360" y="3448080"/>
            <a:ext cx="60498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332000" y="549360"/>
            <a:ext cx="62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Мы договорились, что определенному настроению соответствует определенный цвет»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042920" y="2852640"/>
          <a:ext cx="7274160" cy="3716280"/>
        </p:xfrm>
        <a:graphic>
          <a:graphicData uri="http://schemas.openxmlformats.org/drawingml/2006/table">
            <a:tbl>
              <a:tblPr/>
              <a:tblGrid>
                <a:gridCol w="4362480"/>
                <a:gridCol w="291168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ств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олубо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яжение, стресс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фиолетов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сть, чувство безопасности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ер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элегантности, ясност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о благополуч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желт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ь, юмор, вдохновен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расный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07373"/>
                        </a:gs>
                        <a:gs pos="50000">
                          <a:srgbClr val="f1f8f9"/>
                        </a:gs>
                        <a:gs pos="100000">
                          <a:srgbClr val="70737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И вот к каким выводам мы пришели.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4076280"/>
            <a:ext cx="4043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койная фоновая музыка или современные оркестровки, в которых нет четких ритмов, усиливает состояние расслабленной гото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8000" y="160020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аз, блюз, регги и другие музыкальные и танцевальные формы, в основе которых лежат выразительные африканские мелодии, могут поднять настроение и вдохновить, дать выход радости, рассеять печаль, обострить юмор и иронию, повысить общи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fd4452d"/>
          <p:cNvPicPr/>
          <p:nvPr/>
        </p:nvPicPr>
        <p:blipFill>
          <a:blip r:embed="rId1"/>
          <a:stretch/>
        </p:blipFill>
        <p:spPr>
          <a:xfrm>
            <a:off x="539640" y="1844640"/>
            <a:ext cx="2448000" cy="20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howimage"/>
          <p:cNvPicPr/>
          <p:nvPr/>
        </p:nvPicPr>
        <p:blipFill>
          <a:blip r:embed="rId2"/>
          <a:stretch/>
        </p:blipFill>
        <p:spPr>
          <a:xfrm>
            <a:off x="6883560" y="4365720"/>
            <a:ext cx="2260440" cy="24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Безымянный"/>
          <p:cNvPicPr/>
          <p:nvPr/>
        </p:nvPicPr>
        <p:blipFill>
          <a:blip r:embed="rId3"/>
          <a:stretch/>
        </p:blipFill>
        <p:spPr>
          <a:xfrm>
            <a:off x="2987640" y="1844640"/>
            <a:ext cx="158436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Безымянный"/>
          <p:cNvPicPr/>
          <p:nvPr/>
        </p:nvPicPr>
        <p:blipFill>
          <a:blip r:embed="rId4"/>
          <a:stretch/>
        </p:blipFill>
        <p:spPr>
          <a:xfrm>
            <a:off x="4643280" y="4365720"/>
            <a:ext cx="2314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48:24Z</dcterms:created>
  <dc:creator>Ляська-масяська</dc:creator>
  <dc:description/>
  <dc:language>en-US</dc:language>
  <cp:lastModifiedBy>Коля</cp:lastModifiedBy>
  <dcterms:modified xsi:type="dcterms:W3CDTF">2013-03-20T19:17:53Z</dcterms:modified>
  <cp:revision>5</cp:revision>
  <dc:subject/>
  <dc:title>«Я попал в чудесную страну: мир музыки и красок»</dc:title>
</cp:coreProperties>
</file>