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7EE-5B07-4BA7-AE68-70589473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06D-FA32-4AE6-8AB4-C636E977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C55-D176-45FD-B877-E89661CE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8E6-8897-4D72-ABD1-B7129937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153F-7266-498B-92B6-6593C216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0FB9-7E80-46B6-93C8-901C7700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1480-687E-49CE-9374-C787B06B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B32A-19FB-47B9-A8D3-2C495191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242D-1867-4B4E-9D4D-691FC878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BBE8-8247-4E7E-A6B3-AD52157A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7DDF-B34E-438A-B5FE-D6453CBF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FFE-4DF8-42DF-BB32-D60E6AE6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DBBF-7203-46A0-81D1-7CFAC77E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E964-78C5-4F52-9736-B70538F6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A7B6-1A67-43C8-B54E-5ABDB6C4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8191-03E5-499F-A5F5-D51E3912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BD9B-7A26-4196-9BCA-1DFD8805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597BB-2235-407C-82EC-AA73F457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F93D-F955-4B58-85FD-1418E682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D1934-F484-43CA-BE5E-99D8E827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F786-B805-406F-802E-B7E011A9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C179B-4B12-4818-B8DA-1B8646C6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713-206C-491F-A83A-79AA4BB9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C5168-D210-40A4-AF00-90521640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BB6D4-3383-4B34-ACFE-D416ED6C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4CE1A-F63D-4AEE-B4FE-950207CC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56329-DFC5-40C9-A860-2B2D6516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DEA9E-E3EE-40D8-B9C6-BDB7DB16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81977-039F-42B4-9C21-15C17C2B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D081C-9B34-412D-BD27-CC5271F3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A1458-6A68-43E6-BFBE-F27F2FBA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95588-DAFE-4E8E-90DC-7494804B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B2945-CCA4-43F6-BD5C-6EED8D64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2CA-1CEA-4592-955A-F3A5B61E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6113-EC0A-4B36-A084-8581E36D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AD31A-254A-404B-A81F-16AB977E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C6812-0F53-4DF2-8E78-D0B2E6FD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AA1AA-D3D5-48A4-96FB-2646782C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08FCF-9CBA-4332-80E7-AB345E14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42BF2-EE6B-48F7-88C7-6EA773DC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2EEE3-93F5-4425-BC67-5BB92903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75E10-FF4C-4730-8CEC-D53D6B91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5A159-70AE-485D-A37D-247AE8EA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84729-D15D-43C1-88C4-193987EB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283-FB5A-44D1-8832-D05E9FF4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663E2-CB59-40CA-A439-5668A5CD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F550B-FD47-4F19-AE07-1F395133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48F02-1582-496B-8F82-394A3C79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EE3C5-1131-48AD-80C9-B9112A3B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52A6E-AF2C-4A45-B63F-E14DA76C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C05F5-A959-41D9-9BF0-CF6EB679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FDFB4-8DC3-4217-85CD-14445475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6F4F4-D3CD-4CA7-A7CE-49B27000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CA567-36A4-4831-83CB-89FE6D9E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0FFB9-65C1-44C3-B71F-848190D2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AB9-C20F-4686-85B7-E946CA9D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6C236-0DFC-473C-A3F6-372ADBF2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45059-9DD2-451B-82E5-746D36CA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C195B-3181-4198-AC92-B8920116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B8504-F66C-4B0F-94F5-9A29A7DC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B9DC0-8169-4509-BC8E-03826E0C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DB2CA-7042-442C-9D81-8C3E62D6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827C1-3DBF-4DA3-8088-63DF7F56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AD568-D347-4FF8-A166-BD1918FA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C192E-50C7-4EAB-8857-34B5A603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CA161-1CB0-4864-9969-E0FDF12D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58B7-B377-482A-AA06-9A50E542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E1AD0-7AB4-4348-8CC2-FD03794A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7FC82-ADE1-49A1-949C-81C03234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1C6F1-D659-4B10-A833-1BE8F6DB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E9D-F272-4BD7-B811-16EF9339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764-0EA3-42C6-A977-13BAE383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595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00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2619-4663-49B3-AF27-CC7D43445A4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595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00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341F-8752-458D-B39B-A589C8D79D9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595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00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02F0-8438-4C03-86E8-C2AE1A74ADB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522A-9E2B-49E0-A2A8-8DBF311133B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595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00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A7D1-7703-4B80-A945-F12D2E8C2C0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6359-9FE3-4728-B580-24521838DA3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Содержимое 6" descr="artlib_gallery-259349-b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573120" y="871560"/>
            <a:ext cx="8163000" cy="2809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86240" y="5857560"/>
            <a:ext cx="3200400" cy="77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4. Вертепная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386400" y="4071600"/>
            <a:ext cx="2757600" cy="7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Тростевая кук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14200" y="285480"/>
            <a:ext cx="84297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ды куко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Петруш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Марионетки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4" descr="C:\Users\Гурьевы\Desktop\для призентаций\Marionettes.jpg"/>
          <p:cNvPicPr/>
          <p:nvPr/>
        </p:nvPicPr>
        <p:blipFill>
          <a:blip r:embed="rId1"/>
          <a:stretch/>
        </p:blipFill>
        <p:spPr>
          <a:xfrm>
            <a:off x="428760" y="1000080"/>
            <a:ext cx="1928520" cy="3076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C:\Users\Гурьевы\Desktop\для призентаций\604.jpg"/>
          <p:cNvPicPr/>
          <p:nvPr/>
        </p:nvPicPr>
        <p:blipFill>
          <a:blip r:embed="rId2"/>
          <a:stretch/>
        </p:blipFill>
        <p:spPr>
          <a:xfrm>
            <a:off x="2714760" y="100008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C:\Users\Гурьевы\Desktop\для призентаций\93848435301333.jpg"/>
          <p:cNvPicPr/>
          <p:nvPr/>
        </p:nvPicPr>
        <p:blipFill>
          <a:blip r:embed="rId3"/>
          <a:stretch/>
        </p:blipFill>
        <p:spPr>
          <a:xfrm>
            <a:off x="6572160" y="1071720"/>
            <a:ext cx="2252880" cy="2998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C:\Users\Гурьевы\Desktop\для призентаций\Vertep.jpg"/>
          <p:cNvPicPr/>
          <p:nvPr/>
        </p:nvPicPr>
        <p:blipFill>
          <a:blip r:embed="rId4"/>
          <a:stretch/>
        </p:blipFill>
        <p:spPr>
          <a:xfrm>
            <a:off x="2214720" y="4429080"/>
            <a:ext cx="3000240" cy="225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943600" y="5857920"/>
            <a:ext cx="3200400" cy="73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7.Мимирующая кукла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357720" y="45720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Куклы театра те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28400" y="356760"/>
            <a:ext cx="778644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Перчаточная кукла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C:\Users\Гурьевы\Desktop\для призентаций\b041c2f30345113d957f676b247b36a4.jpg"/>
          <p:cNvPicPr/>
          <p:nvPr/>
        </p:nvPicPr>
        <p:blipFill>
          <a:blip r:embed="rId1"/>
          <a:stretch/>
        </p:blipFill>
        <p:spPr>
          <a:xfrm>
            <a:off x="428760" y="357120"/>
            <a:ext cx="2714400" cy="3194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Users\Гурьевы\Desktop\для призентаций\visockiy _dla_splubimova.jpg"/>
          <p:cNvPicPr/>
          <p:nvPr/>
        </p:nvPicPr>
        <p:blipFill>
          <a:blip r:embed="rId2"/>
          <a:stretch/>
        </p:blipFill>
        <p:spPr>
          <a:xfrm>
            <a:off x="6286680" y="2357280"/>
            <a:ext cx="257148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:\Users\Гурьевы\Desktop\для призентаций\561126.jpg"/>
          <p:cNvPicPr/>
          <p:nvPr/>
        </p:nvPicPr>
        <p:blipFill>
          <a:blip r:embed="rId3"/>
          <a:stretch/>
        </p:blipFill>
        <p:spPr>
          <a:xfrm>
            <a:off x="3357720" y="1214280"/>
            <a:ext cx="2736720" cy="322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C:\Users\Гурьевы\Desktop\для призентаций\cec91664fde36ef2996de16bb147b89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Заголовок 4" descr=""/>
          <p:cNvPicPr/>
          <p:nvPr/>
        </p:nvPicPr>
        <p:blipFill>
          <a:blip r:embed="rId2"/>
          <a:stretch/>
        </p:blipFill>
        <p:spPr>
          <a:xfrm>
            <a:off x="285840" y="1871640"/>
            <a:ext cx="7956360" cy="243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57120" y="213840"/>
            <a:ext cx="814392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еа́тр кукол — одна из разновидностей кукольного вида пространственно-временнóго искусства, в который входят мультипликационное и не мультипликационное анимационное киноискусство,кукольное искусство эстрады и художественные кукольные программы телевидения. В спектаклях театра кукол внешность и физические действия персонажей изображаются 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означаются, как правило,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ъёмными, полу объёмными (барельефными или горельефными) и плоскими куклами (куклами-актёрами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Куклы-актёры обычно управляются и приводятся в движение людьми, актёрами-кукловодами, а иногда автоматическими механическими или механически-электрически-электронными устройствам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3880" y="142560"/>
            <a:ext cx="6967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Среди театров кукол различают три основных типа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57200"/>
            <a:ext cx="4000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1.Театр верховых кукол (перчаточных, гапитно-тростевых и кукол иных конструкций), управляемых снизу. Актёры-кукловоды в театрах этого типа обычно скрыты от зрителей ширмой, но бывает и так, что они не скрываются и видны зрителям целиком или на половину своего рост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Содержимое 6" descr="punch.jpg"/>
          <p:cNvPicPr/>
          <p:nvPr/>
        </p:nvPicPr>
        <p:blipFill>
          <a:blip r:embed="rId1"/>
          <a:stretch/>
        </p:blipFill>
        <p:spPr>
          <a:xfrm>
            <a:off x="4357800" y="1343160"/>
            <a:ext cx="3214440" cy="2876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C:\Users\Гурьевы\Desktop\для призентаций\22498781_Teatr1.jpg"/>
          <p:cNvPicPr/>
          <p:nvPr/>
        </p:nvPicPr>
        <p:blipFill>
          <a:blip r:embed="rId2"/>
          <a:stretch/>
        </p:blipFill>
        <p:spPr>
          <a:xfrm>
            <a:off x="4643280" y="4500720"/>
            <a:ext cx="2775240" cy="208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6840" y="214200"/>
            <a:ext cx="790092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Театр низовых кукол (кукол-марионеток), управляемых сверху с помощью ниток, прутов или проволоками. Актёры-кукловоды в театрах этого типа чаще всего тоже скрыты от зрителей, но не ширмой, а верхней занавеской или падугой. В некоторых случаях актёры-кукловоды, как и в театрах верховых кукол, видны зрителям целиком или на половину своего ро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C:\Users\Гурьевы\Desktop\для призентаций\766px-SarTerem_Прыгающая_принцесса.jpg"/>
          <p:cNvPicPr/>
          <p:nvPr/>
        </p:nvPicPr>
        <p:blipFill>
          <a:blip r:embed="rId1"/>
          <a:stretch/>
        </p:blipFill>
        <p:spPr>
          <a:xfrm>
            <a:off x="357120" y="3214800"/>
            <a:ext cx="4286160" cy="3351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Гурьевы\Desktop\для призентаций\22499021_Teatr3.jpg"/>
          <p:cNvPicPr/>
          <p:nvPr/>
        </p:nvPicPr>
        <p:blipFill>
          <a:blip r:embed="rId2"/>
          <a:stretch/>
        </p:blipFill>
        <p:spPr>
          <a:xfrm>
            <a:off x="5072040" y="3357720"/>
            <a:ext cx="382284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42560" y="142920"/>
            <a:ext cx="4071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Театр кукол срединных (не верховых и не низовых) кукол, управляемых на уровне актёров-кукловодов. Срединные куклы бывают объёмными, управляемыми актёрами-кукловодами либо со стороны, либо изнутри кукол больших размеров, внутри которых находится актёр-кукловод. К числу срединных кукол относятся, в частности, куклы Театра теней. В таких театрах актёры-кукловоды не видны зрителям, так как находится за экраном, на который проецируются тени от плоских или не плоских кукол-актёров. В качестве срединных кукол-актёров используются куклы-марионетки, управляемые сзади кукол видимыми или не видимыми зрителям актёрами-кукловодами. Либо перчаточные куклы или куклы-актёры других конструкц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Содержимое 6" descr="603.jpg"/>
          <p:cNvPicPr/>
          <p:nvPr/>
        </p:nvPicPr>
        <p:blipFill>
          <a:blip r:embed="rId1"/>
          <a:stretch/>
        </p:blipFill>
        <p:spPr>
          <a:xfrm>
            <a:off x="4214880" y="3714840"/>
            <a:ext cx="4422600" cy="2428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C:\Users\Гурьевы\Desktop\для призентаций\778px-OFB-Qianlongsatz03-Krieger.JPG"/>
          <p:cNvPicPr/>
          <p:nvPr/>
        </p:nvPicPr>
        <p:blipFill>
          <a:blip r:embed="rId2"/>
          <a:stretch/>
        </p:blipFill>
        <p:spPr>
          <a:xfrm>
            <a:off x="4714920" y="500040"/>
            <a:ext cx="3500280" cy="270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28400" y="2857320"/>
            <a:ext cx="34290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ea0b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6ea0b0"/>
                </a:solidFill>
                <a:latin typeface="Arial"/>
              </a:rPr>
              <a:t>С. В. Образцов с куклой Тяп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0040" y="5428800"/>
            <a:ext cx="3214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269" name="Содержимое 14" descr="Obraztsov.jpg"/>
          <p:cNvPicPr/>
          <p:nvPr/>
        </p:nvPicPr>
        <p:blipFill>
          <a:blip r:embed="rId1"/>
          <a:stretch/>
        </p:blipFill>
        <p:spPr>
          <a:xfrm>
            <a:off x="785880" y="214200"/>
            <a:ext cx="2143080" cy="26290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3929040" y="214200"/>
            <a:ext cx="47577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следнее время всё чаще театр кукол представляет собой сценическое взаимодействие актёров-кукловодов с куклами (актёры «играют в открытую», то есть не скрыты от зрителей ширмой или каким-либо иным объектом). В XX веке начало этому взаимодействию положил С. В. Образцов в той самой эстрадной миниатюре, в которой действовали два персонажа: малыш по имени Тяпа и его отец. Но фактически подобные взаимодействия актёров-кукловодов и кукол-актёров привели к размыванию границ между кукольным и не кукольными видами пространственно — временнóго искусства. Профессиональные кукольники всё же призывают не злоупотреблять "третьим жанром", а использовать в основном выразительные средства, присущие театру куко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C:\Users\Гурьевы\Desktop\для призентаций\Obraztsov_Statue_in_Moscow.jpg"/>
          <p:cNvPicPr/>
          <p:nvPr/>
        </p:nvPicPr>
        <p:blipFill>
          <a:blip r:embed="rId2"/>
          <a:stretch/>
        </p:blipFill>
        <p:spPr>
          <a:xfrm>
            <a:off x="571680" y="3286080"/>
            <a:ext cx="2500200" cy="357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928800"/>
            <a:ext cx="7829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кусство кукольников очень старое — в разных странах возникали свои, ставшие затем традиционными, виды кукол и типы представлений. Есть сведения о существовании ритуальных мистерий в Египте, во время которых женщины носили куклу Озириса. В Древней Греции кукольный театр существовал в эпоху эллинизма. Истоки кукольного театра — в языческих обрядах, играх с овеществлёнными символами богов. Упоминание об игровых куклах встречаются у Геродота, Ксенофонта, Аристотеля, Горация, Марка Аврелия, Апулея. Однако в Древнюю Грецию и Древний Рим кукольные представления, условно говоря, эстрадного типа и искусство театра кукол пришли с бродячими труппами кукольников из Древней Индии (сухопутными и морскими путями через Древний Иран) и Древнего Китая . (О.Цехновицер, И.Еремин. Театр Петрушки. — Москва-Ленинград.: «Госиздат», 1927 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одные кукольные театры Древнего Рима родственен древнеримской комедии ателлане с комическим героем-шутом Макком, прообразом будущего Пульчинел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428760"/>
            <a:ext cx="7686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стория театра кукол в Росс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ервое известие о существовании в России кукольного театра датировано 1636 годом, зафиксировано немецким путешественником Адамом Олеарие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 1700 году состоялись первые в России гастроли кукольников: одна труппа проехала по городам Украины, а вторая по волжским городам до Астрахани. В 1733 году, по приглашению Анны Иоановны в Москве и Санкт-Петербурге работали четыре кукольных театра из числа итальянских комедиантов, приехавших в составе труппы комедии дель ар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дним из самых известных кукольных театров России является Государственный Академический Центральный театр кукол им. С. В. Образцов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6840" y="285480"/>
            <a:ext cx="81867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иды театров куко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ногообразие форм представления в кукольном театре определяется разнообразием видов кукол и их систем управления. Различают куклы-марионетки, тростевые, перчаточные, планшетные. Куклы могут иметь размер от нескольких сантиметров до 2-3 метр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зличие в формах представлений обуславливается чаще всего национальными традициями страны, задачами которые поставлены перед актёрами режиссёром-постановщиком спектакля, а также взаимосвязью кукол и актёров с художественным оформлением спектак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пособность отражать яркие черты характера человека, убедительность иносказания, образная нарицательность характерные для искусства кукольного театра определяют в репертуаре театров кукол сатирических, а в ряде стран Юго-Восточной Азии героико-патетических представл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7:57:55Z</dcterms:created>
  <dc:creator>Гурьевы</dc:creator>
  <dc:description/>
  <dc:language>en-US</dc:language>
  <cp:lastModifiedBy>ZooM</cp:lastModifiedBy>
  <dcterms:modified xsi:type="dcterms:W3CDTF">2013-10-22T13:04:21Z</dcterms:modified>
  <cp:revision>32</cp:revision>
  <dc:subject/>
  <dc:title>Слайд 1</dc:title>
</cp:coreProperties>
</file>