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B83-7681-4A96-8F22-CC0B4CCC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FA7-0D9E-48DF-99C9-70B08D36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8C7-06C7-44D7-8BC5-6525CABA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572-AAE1-4C7C-9EDD-9DE2583A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E414-81F2-4594-B454-4ABDF3E5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C09C-365A-4C3C-A70D-DFB60F41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881-A8BA-4619-B1A0-6AE0D177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3AE2-B7C6-49D3-9F67-68F8AE5B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1183-76CA-45E4-B495-608B5292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62A6-12A1-44D5-A101-B57D90B4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C494-71F3-409C-AFA7-B0EF60E7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1DF-FEE8-427E-8162-31CD1DB8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D1B3-8096-4624-B055-FF19C22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3A82-03F5-4201-AC42-AF2FEFE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F926-8399-4CBC-B539-B8360506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D674-C6F4-48E8-B060-BB33F550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35B3-13BA-40E6-8257-C57EED7B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D141-5CB9-4474-98EA-C481E68C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ED60-91D6-4BF8-9B5C-C6810733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C9B0-7864-4050-9C01-9C572E65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E999-5C6A-4E11-87AF-5597A2F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D111-9EC5-484E-8B37-3D90C226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15B4-62B5-413F-B6D9-FB63CAA8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079B-EEF1-474F-86B0-58437940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D332F-673D-4EEC-99C7-23B15854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294A0-F981-4442-94D6-5D90BD3F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7805-DAF5-4252-9180-2214658F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FAE7-FC0D-46CC-9ECA-3A313799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CC3C-3C20-4ABD-B3BA-9CDEDD44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A57D-1B45-4462-8A1F-972102CE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5684-D635-4F9D-882F-676623DC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6FBC-E08D-4FFC-B1EF-B00135D5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FBEB5-23D6-4200-AB6F-858C1B28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8E4-2C4C-470F-B3DF-519FB5CC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D555-75AA-4466-8E32-D8D8B8B2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306D-2A3B-4842-9B0E-423F2F2E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0C9CC-A2BB-422B-8E95-237C18BA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319DF-4AAA-4D30-8E10-0B24FD8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BE47F-2ACA-4CA9-8C5D-3769BF5E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2D92-8108-46FD-8D99-E6B51ABC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EFFF-4453-4521-AAA7-4D762CE1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4CD5C-4327-4391-9E9A-F416A516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559CF-34D5-4BD0-B2D1-D4820888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65D05-E105-4214-A395-E02DD577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711-08F1-476E-B87D-3F33D590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52CF-2207-4A20-A929-CFB28ACD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94FFB-FCE7-495D-9747-77339D0B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7DFD-07A1-4FD4-967F-ACCF27D7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8AA4-32E6-4224-93B3-319C3E17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31B41-D86B-4999-A945-5901B915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63853-108F-4A8C-9F5B-72E77511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F211D-1BD8-4F74-8D10-8234A48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6959-43FD-4558-8B0D-B4A241A6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9E6D-2A3D-4687-A0DB-017E2997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F6D9-EF8D-4977-AE02-C01282E1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5E0-DE19-44A8-9179-0A39F2CC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A6B5-E476-450B-9C4B-30BFE6F8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AF68F-1C23-456A-BED8-9833D8C2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0713-DC37-4231-B785-F36406C6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FF5B6-A98E-44C9-938F-136144ED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DEEAF-E4BB-49F6-89CD-B236CCD9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C0F37-9095-400F-B226-CA71807F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9A9D-2964-40FB-BE97-70119B71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201A-0260-4B62-8B16-1E141E4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527AF-8E31-4A97-8522-F9D627F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F0F85-4E9E-46C5-B2ED-FF53C6B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9B9-7B2D-4EA9-91B9-D17F00D8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E6654-74E4-48B8-80A6-351CC2E0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F68ED-A1DF-4BE2-A0E2-B06CC3D2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B19ED-DA25-46FC-B582-FD55AE6E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A21-DC9E-41AE-976D-B947C34C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2D0-A9AD-4939-A82E-89F8992E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3B76-3510-47B6-BAC7-61F7554AE63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99A3-7FD1-488D-B3A6-EE5A92307BF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13C0-64FE-44B9-A5E7-6CC8476645D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58D0-E73C-4B76-80A9-6B02266FF5D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5854-DB63-459B-8170-E295B564A00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7A0B-308B-4966-9364-9E9563AAB3A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6" descr="artlib_gallery-259349-b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573120" y="871560"/>
            <a:ext cx="8163000" cy="2809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86240" y="5857560"/>
            <a:ext cx="3200400" cy="77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4. Вертепная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386400" y="4071600"/>
            <a:ext cx="2757600" cy="7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Тростевая кук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14200" y="285480"/>
            <a:ext cx="84297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ы куко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Петру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Марионетки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4" descr="C:\Users\Гурьевы\Desktop\для призентаций\Marionettes.jpg"/>
          <p:cNvPicPr/>
          <p:nvPr/>
        </p:nvPicPr>
        <p:blipFill>
          <a:blip r:embed="rId1"/>
          <a:stretch/>
        </p:blipFill>
        <p:spPr>
          <a:xfrm>
            <a:off x="428760" y="1000080"/>
            <a:ext cx="1928520" cy="307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Users\Гурьевы\Desktop\для призентаций\604.jpg"/>
          <p:cNvPicPr/>
          <p:nvPr/>
        </p:nvPicPr>
        <p:blipFill>
          <a:blip r:embed="rId2"/>
          <a:stretch/>
        </p:blipFill>
        <p:spPr>
          <a:xfrm>
            <a:off x="2714760" y="100008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Users\Гурьевы\Desktop\для призентаций\93848435301333.jpg"/>
          <p:cNvPicPr/>
          <p:nvPr/>
        </p:nvPicPr>
        <p:blipFill>
          <a:blip r:embed="rId3"/>
          <a:stretch/>
        </p:blipFill>
        <p:spPr>
          <a:xfrm>
            <a:off x="6572160" y="1071720"/>
            <a:ext cx="2252880" cy="2998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C:\Users\Гурьевы\Desktop\для призентаций\Vertep.jpg"/>
          <p:cNvPicPr/>
          <p:nvPr/>
        </p:nvPicPr>
        <p:blipFill>
          <a:blip r:embed="rId4"/>
          <a:stretch/>
        </p:blipFill>
        <p:spPr>
          <a:xfrm>
            <a:off x="2214720" y="4429080"/>
            <a:ext cx="3000240" cy="22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943600" y="5857920"/>
            <a:ext cx="3200400" cy="73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7.Мимирующая кукла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57720" y="4572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Куклы театра те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8400" y="356760"/>
            <a:ext cx="778644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Перчаточная кукла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C:\Users\Гурьевы\Desktop\для призентаций\b041c2f30345113d957f676b247b36a4.jpg"/>
          <p:cNvPicPr/>
          <p:nvPr/>
        </p:nvPicPr>
        <p:blipFill>
          <a:blip r:embed="rId1"/>
          <a:stretch/>
        </p:blipFill>
        <p:spPr>
          <a:xfrm>
            <a:off x="428760" y="357120"/>
            <a:ext cx="2714400" cy="3194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Users\Гурьевы\Desktop\для призентаций\visockiy _dla_splubimova.jpg"/>
          <p:cNvPicPr/>
          <p:nvPr/>
        </p:nvPicPr>
        <p:blipFill>
          <a:blip r:embed="rId2"/>
          <a:stretch/>
        </p:blipFill>
        <p:spPr>
          <a:xfrm>
            <a:off x="6286680" y="235728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Users\Гурьевы\Desktop\для призентаций\561126.jpg"/>
          <p:cNvPicPr/>
          <p:nvPr/>
        </p:nvPicPr>
        <p:blipFill>
          <a:blip r:embed="rId3"/>
          <a:stretch/>
        </p:blipFill>
        <p:spPr>
          <a:xfrm>
            <a:off x="3357720" y="1214280"/>
            <a:ext cx="2736720" cy="32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C:\Users\Гурьевы\Desktop\для призентаций\cec91664fde36ef2996de16bb147b89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Заголовок 4" descr=""/>
          <p:cNvPicPr/>
          <p:nvPr/>
        </p:nvPicPr>
        <p:blipFill>
          <a:blip r:embed="rId2"/>
          <a:stretch/>
        </p:blipFill>
        <p:spPr>
          <a:xfrm>
            <a:off x="285840" y="1871640"/>
            <a:ext cx="7956360" cy="243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еа́тр кукол — одна из разновидностей кукольного вида пространственно-временнóго искусства, в который входят мультипликационное и не мультипликационное анимационное киноискусство,кукольное искусство эстрады и художественные кукольные программы телевидения. В спектаклях театра кукол внешность и физические действия персонажей изображаются 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означаются, как правило,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ъёмными, полу объёмными (барельефными или горельефными) и плоскими куклами (куклами-актёрами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Куклы-актёры обычно управляются и приводятся в движение людьми, актёрами-кукловодами, а иногда автоматическими механическими или механически-электрически-электронными устройствам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3880" y="142560"/>
            <a:ext cx="6967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реди театров кукол различают три основных типа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57200"/>
            <a:ext cx="4000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1.Театр верховых кукол (перчаточных, гапитно-тростевых и кукол иных конструкций), управляемых снизу. Актёры-кукловоды в театрах этого типа обычно скрыты от зрителей ширмой, но бывает и так, что они не скрываются и видны зрителям целиком или на половину своего рост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Содержимое 6" descr="punch.jpg"/>
          <p:cNvPicPr/>
          <p:nvPr/>
        </p:nvPicPr>
        <p:blipFill>
          <a:blip r:embed="rId1"/>
          <a:stretch/>
        </p:blipFill>
        <p:spPr>
          <a:xfrm>
            <a:off x="4357800" y="1343160"/>
            <a:ext cx="3214440" cy="2876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C:\Users\Гурьевы\Desktop\для призентаций\22498781_Teatr1.jpg"/>
          <p:cNvPicPr/>
          <p:nvPr/>
        </p:nvPicPr>
        <p:blipFill>
          <a:blip r:embed="rId2"/>
          <a:stretch/>
        </p:blipFill>
        <p:spPr>
          <a:xfrm>
            <a:off x="4643280" y="4500720"/>
            <a:ext cx="2775240" cy="208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6840" y="214200"/>
            <a:ext cx="79009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Театр низовых кукол (кукол-марионеток), управляемых сверху с помощью ниток, прутов или проволоками. Актёры-кукловоды в театрах этого типа чаще всего тоже скрыты от зрителей, но не ширмой, а верхней занавеской или падугой. В некоторых случаях актёры-кукловоды, как и в театрах верховых кукол, видны зрителям целиком или на половину своего ро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C:\Users\Гурьевы\Desktop\для призентаций\766px-SarTerem_Прыгающая_принцесса.jpg"/>
          <p:cNvPicPr/>
          <p:nvPr/>
        </p:nvPicPr>
        <p:blipFill>
          <a:blip r:embed="rId1"/>
          <a:stretch/>
        </p:blipFill>
        <p:spPr>
          <a:xfrm>
            <a:off x="357120" y="3214800"/>
            <a:ext cx="4286160" cy="335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Гурьевы\Desktop\для призентаций\22499021_Teatr3.jpg"/>
          <p:cNvPicPr/>
          <p:nvPr/>
        </p:nvPicPr>
        <p:blipFill>
          <a:blip r:embed="rId2"/>
          <a:stretch/>
        </p:blipFill>
        <p:spPr>
          <a:xfrm>
            <a:off x="5072040" y="3357720"/>
            <a:ext cx="382284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42560" y="142920"/>
            <a:ext cx="4071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Театр кукол срединных (не верховых и не низовых) кукол, управляемых на уровне актёров-кукловодов. Срединные куклы бывают объёмными, управляемыми актёрами-кукловодами либо со стороны, либо изнутри кукол больших размеров, внутри которых находится актёр-кукловод. К числу срединных кукол относятся, в частности, куклы Театра теней. В таких театрах актёры-кукловоды не видны зрителям, так как находится за экраном, на который проецируются тени от плоских или не плоских кукол-актёров. В качестве срединных кукол-актёров используются куклы-марионетки, управляемые сзади кукол видимыми или не видимыми зрителям актёрами-кукловодами. Либо перчаточные куклы или куклы-актёры других конструкц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Содержимое 6" descr="603.jpg"/>
          <p:cNvPicPr/>
          <p:nvPr/>
        </p:nvPicPr>
        <p:blipFill>
          <a:blip r:embed="rId1"/>
          <a:stretch/>
        </p:blipFill>
        <p:spPr>
          <a:xfrm>
            <a:off x="4214880" y="3714840"/>
            <a:ext cx="4422600" cy="2428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Users\Гурьевы\Desktop\для призентаций\778px-OFB-Qianlongsatz03-Krieger.JPG"/>
          <p:cNvPicPr/>
          <p:nvPr/>
        </p:nvPicPr>
        <p:blipFill>
          <a:blip r:embed="rId2"/>
          <a:stretch/>
        </p:blipFill>
        <p:spPr>
          <a:xfrm>
            <a:off x="4714920" y="500040"/>
            <a:ext cx="3500280" cy="27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28400" y="2857320"/>
            <a:ext cx="3429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ea0b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6ea0b0"/>
                </a:solidFill>
                <a:latin typeface="Arial"/>
              </a:rPr>
              <a:t>С. В. Образцов с куклой Тяп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0040" y="5428800"/>
            <a:ext cx="3214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69" name="Содержимое 14" descr="Obraztsov.jpg"/>
          <p:cNvPicPr/>
          <p:nvPr/>
        </p:nvPicPr>
        <p:blipFill>
          <a:blip r:embed="rId1"/>
          <a:stretch/>
        </p:blipFill>
        <p:spPr>
          <a:xfrm>
            <a:off x="785880" y="214200"/>
            <a:ext cx="2143080" cy="2629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3929040" y="214200"/>
            <a:ext cx="47577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следнее время всё чаще театр кукол представляет собой сценическое взаимодействие актёров-кукловодов с куклами (актёры «играют в открытую», то есть не скрыты от зрителей ширмой или каким-либо иным объектом). В XX веке начало этому взаимодействию положил С. В. Образцов в той самой эстрадной миниатюре, в которой действовали два персонажа: малыш по имени Тяпа и его отец. Но фактически подобные взаимодействия актёров-кукловодов и кукол-актёров привели к размыванию границ между кукольным и не кукольными видами пространственно — временнóго искусства. Профессиональные кукольники всё же призывают не злоупотреблять "третьим жанром", а использовать в основном выразительные средства, присущие театру куко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C:\Users\Гурьевы\Desktop\для призентаций\Obraztsov_Statue_in_Moscow.jpg"/>
          <p:cNvPicPr/>
          <p:nvPr/>
        </p:nvPicPr>
        <p:blipFill>
          <a:blip r:embed="rId2"/>
          <a:stretch/>
        </p:blipFill>
        <p:spPr>
          <a:xfrm>
            <a:off x="571680" y="3286080"/>
            <a:ext cx="2500200" cy="357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928800"/>
            <a:ext cx="7829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кусство кукольников очень старое — в разных странах возникали свои, ставшие затем традиционными, виды кукол и типы представлений. Есть сведения о существовании ритуальных мистерий в Египте, во время которых женщины носили куклу Озириса. В Древней Греции кукольный театр существовал в эпоху эллинизма. Истоки кукольного театра — в языческих обрядах, играх с овеществлёнными символами богов. Упоминание об игровых куклах встречаются у Геродота, Ксенофонта, Аристотеля, Горация, Марка Аврелия, Апулея. Однако в Древнюю Грецию и Древний Рим кукольные представления, условно говоря, эстрадного типа и искусство театра кукол пришли с бродячими труппами кукольников из Древней Индии (сухопутными и морскими путями через Древний Иран) и Древнего Китая . (О.Цехновицер, И.Еремин. Театр Петрушки. — Москва-Ленинград.: «Госиздат», 1927 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одные кукольные театры Древнего Рима родственен древнеримской комедии ателлане с комическим героем-шутом Макком, прообразом будущего Пульчинел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28760"/>
            <a:ext cx="7686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стория театра кукол в Росс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ервое известие о существовании в России кукольного театра датировано 1636 годом, зафиксировано немецким путешественником Адамом Олеар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 1700 году состоялись первые в России гастроли кукольников: одна труппа проехала по городам Украины, а вторая по волжским городам до Астрахани. В 1733 году, по приглашению Анны Иоановны в Москве и Санкт-Петербурге работали четыре кукольных театра из числа итальянских комедиантов, приехавших в составе труппы комедии дель ар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дним из самых известных кукольных театров России является Государственный Академический Центральный театр кукол им. С. В. Образцов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6840" y="285480"/>
            <a:ext cx="81867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иды театров куко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ногообразие форм представления в кукольном театре определяется разнообразием видов кукол и их систем управления. Различают куклы-марионетки, тростевые, перчаточные, планшетные. Куклы могут иметь размер от нескольких сантиметров до 2-3 метр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личие в формах представлений обуславливается чаще всего национальными традициями страны, задачами которые поставлены перед актёрами режиссёром-постановщиком спектакля, а также взаимосвязью кукол и актёров с художественным оформлением спектак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особность отражать яркие черты характера человека, убедительность иносказания, образная нарицательность характерные для искусства кукольного театра определяют в репертуаре театров кукол сатирических, а в ряде стран Юго-Восточной Азии героико-патетических представл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7:57:55Z</dcterms:created>
  <dc:creator>Гурьевы</dc:creator>
  <dc:description/>
  <dc:language>en-US</dc:language>
  <cp:lastModifiedBy>ZooM</cp:lastModifiedBy>
  <dcterms:modified xsi:type="dcterms:W3CDTF">2013-10-22T13:04:21Z</dcterms:modified>
  <cp:revision>32</cp:revision>
  <dc:subject/>
  <dc:title>Слайд 1</dc:title>
</cp:coreProperties>
</file>