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8E5-0148-496F-9E49-BDC46668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147-8EE2-47BD-B911-5C74ACB8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68C-C27E-4368-885F-D2FEB523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196-70C2-4F7F-9F8C-4624DDD6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5FEF-CD8A-43AF-9BAC-5B15DB4D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FC3D-1867-44F7-9217-B7AE4044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6EBD-DBDB-42C2-B6C0-B3102C6B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1099-0967-4299-93E2-E9408BEA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925A-1E64-4272-8707-C07CDFB8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E583-7329-4AD8-BF09-94F2CB2E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4E89-4B2E-4A3E-90E9-50A7B636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AA0-8765-4D21-944A-A11A8B94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69BC-DFE9-492E-9601-DFB620AD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91BC-E7D7-4688-9FB9-81E6FA15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79D7-6263-4408-9580-9581FB17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EB0F-96F9-4979-9EE4-8FC5FE4F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F023-BA9D-4CFC-82D2-C329BA6C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6F0E-7194-4683-B03E-3149AD57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85FCD-867A-409D-BC6B-E696C183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4A14D-DC1E-488D-9966-8F764C8D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4ECD-96FD-4B84-81AA-211430B5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4EF0-9AAD-4B70-A388-D42BBC36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AE7-F323-4D99-B980-7BE4D463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5EB0-313E-4331-ACEC-CB9DFE71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55B57-B5B9-4F82-BA99-F99DE47A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812D-2E6E-4B40-A0ED-17A2FE9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53E33-AF8E-4674-BB5B-633C610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BF508-C78B-4C07-8820-85E04170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6954-C161-498F-AE78-C217D5E1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ECA0-D176-47BD-AAAF-9A309E36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C203B-0B03-4331-83AC-E71C6DFF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58DA-C89A-4695-9434-AF6DB914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6A48B-7080-4038-A125-DE23206C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2C5-7D75-42C2-B4A9-3B755E30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C540D-7D79-448E-9FB7-D79AAFFE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0D642-7D8B-433B-9395-87623C03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045FA-FC15-420F-BD84-78AD7998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0214-D11C-4D40-BAD0-4D2F3820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A12CC-28ED-4A18-8B31-498B96A1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E8CD-C877-4C03-8DE7-53DD83C9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B594C-6DDD-4DDE-B1D6-5418B41F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5B37-751F-4939-9059-AD2461CD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0CB69-1480-4D8E-A84B-17D441D7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4E3B7-421D-4BC0-9DD5-7EE2591B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11D-A2BB-4F0D-B665-949690F7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93153-0664-405E-A8A3-584AAC07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3C460-5B85-4ECB-A1FE-F7DF0C1A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60FA7-1BF9-4299-A752-06EF2638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A6670-5D87-4AAA-B908-0854BCB5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6E65E-3B6D-4817-B52E-79EEAA9E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68C6B-45EA-438C-8E67-EAD718F3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D068C-F132-439D-9DF0-B3B9068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E95F9-ED73-4E19-B725-FBD79983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E1274-C731-40BE-892E-688A43F4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E7FF8-19B5-43E2-A3C5-90257686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E85-56F0-4866-9D8C-DE00DF8E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4AF7A-166B-4924-A007-2725C69D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AE160-CB41-44C2-BAE9-D9F3D3B4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F4BB4-1234-45F5-880E-610E7BEE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A91E0-6A66-4F06-80A8-318DE12F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F7DFC-B268-47D3-A04F-C04A1678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A9639-C2E2-422D-8222-7C68EDBB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E61EF-B0A2-4EBC-A56A-8C22CE32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0C0CF-CEF4-48E6-A18A-739CFC05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75262-F9BA-479D-B0B0-79BAF5F1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E2C2E-E2AC-4C6F-9808-E6EB9F25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80A-3EF7-4FC1-8496-03BA8FC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ED85D-4E9D-4A82-BADE-BCFF4360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C87CA-A13B-46B1-B048-D72AFF46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035D2-16CA-4D68-865A-58DE3E56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2C4-5BAE-4168-A0D3-5AD4C62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C55-7DA0-458A-9E8E-7EEF8CCD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0BF2-3B01-405E-9F2F-B4B20BDF01F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3346-3E52-4FCC-AA52-EA512660E73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1E8E-4460-4515-B3DA-E15F7A2D9E2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C96F-1C52-43DE-94D7-33A8FA081C6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5959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4AE4-7824-4155-A53F-D9EE6245B63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2244-57BC-483A-837C-6EF2A8A36D5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6" descr="artlib_gallery-259349-b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573120" y="871560"/>
            <a:ext cx="8163000" cy="2809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86240" y="5857560"/>
            <a:ext cx="3200400" cy="772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4. Вертепная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386400" y="4071600"/>
            <a:ext cx="2757600" cy="7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Тростевая кук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14200" y="285480"/>
            <a:ext cx="84297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ы куко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Петру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Марионетки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4" descr="C:\Users\Гурьевы\Desktop\для призентаций\Marionettes.jpg"/>
          <p:cNvPicPr/>
          <p:nvPr/>
        </p:nvPicPr>
        <p:blipFill>
          <a:blip r:embed="rId1"/>
          <a:stretch/>
        </p:blipFill>
        <p:spPr>
          <a:xfrm>
            <a:off x="428760" y="1000080"/>
            <a:ext cx="1928520" cy="307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Users\Гурьевы\Desktop\для призентаций\604.jpg"/>
          <p:cNvPicPr/>
          <p:nvPr/>
        </p:nvPicPr>
        <p:blipFill>
          <a:blip r:embed="rId2"/>
          <a:stretch/>
        </p:blipFill>
        <p:spPr>
          <a:xfrm>
            <a:off x="2714760" y="100008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Users\Гурьевы\Desktop\для призентаций\93848435301333.jpg"/>
          <p:cNvPicPr/>
          <p:nvPr/>
        </p:nvPicPr>
        <p:blipFill>
          <a:blip r:embed="rId3"/>
          <a:stretch/>
        </p:blipFill>
        <p:spPr>
          <a:xfrm>
            <a:off x="6572160" y="1071720"/>
            <a:ext cx="2252880" cy="2998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C:\Users\Гурьевы\Desktop\для призентаций\Vertep.jpg"/>
          <p:cNvPicPr/>
          <p:nvPr/>
        </p:nvPicPr>
        <p:blipFill>
          <a:blip r:embed="rId4"/>
          <a:stretch/>
        </p:blipFill>
        <p:spPr>
          <a:xfrm>
            <a:off x="2214720" y="4429080"/>
            <a:ext cx="3000240" cy="225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943600" y="5857920"/>
            <a:ext cx="3200400" cy="73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7.Мимирующая кукла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57720" y="4572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Куклы театра те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8400" y="356760"/>
            <a:ext cx="778644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Перчаточная кукла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C:\Users\Гурьевы\Desktop\для призентаций\b041c2f30345113d957f676b247b36a4.jpg"/>
          <p:cNvPicPr/>
          <p:nvPr/>
        </p:nvPicPr>
        <p:blipFill>
          <a:blip r:embed="rId1"/>
          <a:stretch/>
        </p:blipFill>
        <p:spPr>
          <a:xfrm>
            <a:off x="428760" y="357120"/>
            <a:ext cx="2714400" cy="3194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Users\Гурьевы\Desktop\для призентаций\visockiy _dla_splubimova.jpg"/>
          <p:cNvPicPr/>
          <p:nvPr/>
        </p:nvPicPr>
        <p:blipFill>
          <a:blip r:embed="rId2"/>
          <a:stretch/>
        </p:blipFill>
        <p:spPr>
          <a:xfrm>
            <a:off x="6286680" y="2357280"/>
            <a:ext cx="257148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Users\Гурьевы\Desktop\для призентаций\561126.jpg"/>
          <p:cNvPicPr/>
          <p:nvPr/>
        </p:nvPicPr>
        <p:blipFill>
          <a:blip r:embed="rId3"/>
          <a:stretch/>
        </p:blipFill>
        <p:spPr>
          <a:xfrm>
            <a:off x="3357720" y="1214280"/>
            <a:ext cx="2736720" cy="32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C:\Users\Гурьевы\Desktop\для призентаций\cec91664fde36ef2996de16bb147b89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Заголовок 4" descr=""/>
          <p:cNvPicPr/>
          <p:nvPr/>
        </p:nvPicPr>
        <p:blipFill>
          <a:blip r:embed="rId2"/>
          <a:stretch/>
        </p:blipFill>
        <p:spPr>
          <a:xfrm>
            <a:off x="285840" y="1871640"/>
            <a:ext cx="7956360" cy="243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еа́тр кукол — одна из разновидностей кукольного вида пространственно-временнóго искусства, в который входят мультипликационное и не мультипликационное анимационное киноискусство,кукольное искусство эстрады и художественные кукольные программы телевидения. В спектаклях театра кукол внешность и физические действия персонажей изображаются 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означаются, как правило,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ъёмными, полу объёмными (барельефными или горельефными) и плоскими куклами (куклами-актёрами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Куклы-актёры обычно управляются и приводятся в движение людьми, актёрами-кукловодами, а иногда автоматическими механическими или механически-электрически-электронными устройствам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3880" y="142560"/>
            <a:ext cx="6967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Среди театров кукол различают три основных типа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57200"/>
            <a:ext cx="4000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1.Театр верховых кукол (перчаточных, гапитно-тростевых и кукол иных конструкций), управляемых снизу. Актёры-кукловоды в театрах этого типа обычно скрыты от зрителей ширмой, но бывает и так, что они не скрываются и видны зрителям целиком или на половину своего рост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Содержимое 6" descr="punch.jpg"/>
          <p:cNvPicPr/>
          <p:nvPr/>
        </p:nvPicPr>
        <p:blipFill>
          <a:blip r:embed="rId1"/>
          <a:stretch/>
        </p:blipFill>
        <p:spPr>
          <a:xfrm>
            <a:off x="4357800" y="1343160"/>
            <a:ext cx="3214440" cy="2876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C:\Users\Гурьевы\Desktop\для призентаций\22498781_Teatr1.jpg"/>
          <p:cNvPicPr/>
          <p:nvPr/>
        </p:nvPicPr>
        <p:blipFill>
          <a:blip r:embed="rId2"/>
          <a:stretch/>
        </p:blipFill>
        <p:spPr>
          <a:xfrm>
            <a:off x="4643280" y="4500720"/>
            <a:ext cx="2775240" cy="208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6840" y="214200"/>
            <a:ext cx="79009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Театр низовых кукол (кукол-марионеток), управляемых сверху с помощью ниток, прутов или проволоками. Актёры-кукловоды в театрах этого типа чаще всего тоже скрыты от зрителей, но не ширмой, а верхней занавеской или падугой. В некоторых случаях актёры-кукловоды, как и в театрах верховых кукол, видны зрителям целиком или на половину своего ро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C:\Users\Гурьевы\Desktop\для призентаций\766px-SarTerem_Прыгающая_принцесса.jpg"/>
          <p:cNvPicPr/>
          <p:nvPr/>
        </p:nvPicPr>
        <p:blipFill>
          <a:blip r:embed="rId1"/>
          <a:stretch/>
        </p:blipFill>
        <p:spPr>
          <a:xfrm>
            <a:off x="357120" y="3214800"/>
            <a:ext cx="4286160" cy="335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Гурьевы\Desktop\для призентаций\22499021_Teatr3.jpg"/>
          <p:cNvPicPr/>
          <p:nvPr/>
        </p:nvPicPr>
        <p:blipFill>
          <a:blip r:embed="rId2"/>
          <a:stretch/>
        </p:blipFill>
        <p:spPr>
          <a:xfrm>
            <a:off x="5072040" y="3357720"/>
            <a:ext cx="382284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42560" y="142920"/>
            <a:ext cx="4071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Театр кукол срединных (не верховых и не низовых) кукол, управляемых на уровне актёров-кукловодов. Срединные куклы бывают объёмными, управляемыми актёрами-кукловодами либо со стороны, либо изнутри кукол больших размеров, внутри которых находится актёр-кукловод. К числу срединных кукол относятся, в частности, куклы Театра теней. В таких театрах актёры-кукловоды не видны зрителям, так как находится за экраном, на который проецируются тени от плоских или не плоских кукол-актёров. В качестве срединных кукол-актёров используются куклы-марионетки, управляемые сзади кукол видимыми или не видимыми зрителям актёрами-кукловодами. Либо перчаточные куклы или куклы-актёры других конструкц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Содержимое 6" descr="603.jpg"/>
          <p:cNvPicPr/>
          <p:nvPr/>
        </p:nvPicPr>
        <p:blipFill>
          <a:blip r:embed="rId1"/>
          <a:stretch/>
        </p:blipFill>
        <p:spPr>
          <a:xfrm>
            <a:off x="4214880" y="3714840"/>
            <a:ext cx="4422600" cy="2428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Users\Гурьевы\Desktop\для призентаций\778px-OFB-Qianlongsatz03-Krieger.JPG"/>
          <p:cNvPicPr/>
          <p:nvPr/>
        </p:nvPicPr>
        <p:blipFill>
          <a:blip r:embed="rId2"/>
          <a:stretch/>
        </p:blipFill>
        <p:spPr>
          <a:xfrm>
            <a:off x="4714920" y="500040"/>
            <a:ext cx="3500280" cy="27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28400" y="2857320"/>
            <a:ext cx="34290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ea0b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6ea0b0"/>
                </a:solidFill>
                <a:latin typeface="Arial"/>
              </a:rPr>
              <a:t>С. В. Образцов с куклой Тяп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0040" y="5428800"/>
            <a:ext cx="3214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69" name="Содержимое 14" descr="Obraztsov.jpg"/>
          <p:cNvPicPr/>
          <p:nvPr/>
        </p:nvPicPr>
        <p:blipFill>
          <a:blip r:embed="rId1"/>
          <a:stretch/>
        </p:blipFill>
        <p:spPr>
          <a:xfrm>
            <a:off x="785880" y="214200"/>
            <a:ext cx="2143080" cy="2629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3929040" y="214200"/>
            <a:ext cx="47577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следнее время всё чаще театр кукол представляет собой сценическое взаимодействие актёров-кукловодов с куклами (актёры «играют в открытую», то есть не скрыты от зрителей ширмой или каким-либо иным объектом). В XX веке начало этому взаимодействию положил С. В. Образцов в той самой эстрадной миниатюре, в которой действовали два персонажа: малыш по имени Тяпа и его отец. Но фактически подобные взаимодействия актёров-кукловодов и кукол-актёров привели к размыванию границ между кукольным и не кукольными видами пространственно — временнóго искусства. Профессиональные кукольники всё же призывают не злоупотреблять "третьим жанром", а использовать в основном выразительные средства, присущие театру куко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C:\Users\Гурьевы\Desktop\для призентаций\Obraztsov_Statue_in_Moscow.jpg"/>
          <p:cNvPicPr/>
          <p:nvPr/>
        </p:nvPicPr>
        <p:blipFill>
          <a:blip r:embed="rId2"/>
          <a:stretch/>
        </p:blipFill>
        <p:spPr>
          <a:xfrm>
            <a:off x="571680" y="3286080"/>
            <a:ext cx="2500200" cy="3571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928800"/>
            <a:ext cx="7829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кусство кукольников очень старое — в разных странах возникали свои, ставшие затем традиционными, виды кукол и типы представлений. Есть сведения о существовании ритуальных мистерий в Египте, во время которых женщины носили куклу Озириса. В Древней Греции кукольный театр существовал в эпоху эллинизма. Истоки кукольного театра — в языческих обрядах, играх с овеществлёнными символами богов. Упоминание об игровых куклах встречаются у Геродота, Ксенофонта, Аристотеля, Горация, Марка Аврелия, Апулея. Однако в Древнюю Грецию и Древний Рим кукольные представления, условно говоря, эстрадного типа и искусство театра кукол пришли с бродячими труппами кукольников из Древней Индии (сухопутными и морскими путями через Древний Иран) и Древнего Китая . (О.Цехновицер, И.Еремин. Театр Петрушки. — Москва-Ленинград.: «Госиздат», 1927 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одные кукольные театры Древнего Рима родственен древнеримской комедии ателлане с комическим героем-шутом Макком, прообразом будущего Пульчинел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28760"/>
            <a:ext cx="7686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стория театра кукол в Росс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ервое известие о существовании в России кукольного театра датировано 1636 годом, зафиксировано немецким путешественником Адамом Олеар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 1700 году состоялись первые в России гастроли кукольников: одна труппа проехала по городам Украины, а вторая по волжским городам до Астрахани. В 1733 году, по приглашению Анны Иоановны в Москве и Санкт-Петербурге работали четыре кукольных театра из числа итальянских комедиантов, приехавших в составе труппы комедии дель ар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дним из самых известных кукольных театров России является Государственный Академический Центральный театр кукол им. С. В. Образцов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6840" y="285480"/>
            <a:ext cx="81867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иды театров куко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ногообразие форм представления в кукольном театре определяется разнообразием видов кукол и их систем управления. Различают куклы-марионетки, тростевые, перчаточные, планшетные. Куклы могут иметь размер от нескольких сантиметров до 2-3 метр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зличие в формах представлений обуславливается чаще всего национальными традициями страны, задачами которые поставлены перед актёрами режиссёром-постановщиком спектакля, а также взаимосвязью кукол и актёров с художественным оформлением спектак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пособность отражать яркие черты характера человека, убедительность иносказания, образная нарицательность характерные для искусства кукольного театра определяют в репертуаре театров кукол сатирических, а в ряде стран Юго-Восточной Азии героико-патетических представл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7:57:55Z</dcterms:created>
  <dc:creator>Гурьевы</dc:creator>
  <dc:description/>
  <dc:language>en-US</dc:language>
  <cp:lastModifiedBy>ZooM</cp:lastModifiedBy>
  <dcterms:modified xsi:type="dcterms:W3CDTF">2013-10-22T13:04:21Z</dcterms:modified>
  <cp:revision>32</cp:revision>
  <dc:subject/>
  <dc:title>Слайд 1</dc:title>
</cp:coreProperties>
</file>