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70CC-F5CA-4640-AFA4-24D55EF4C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FDF9-CC74-4142-A6DF-67A1D23FD6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ссылку «Герб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9F2-6B6D-4BC0-A889-519DCCEB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C0E-FA21-4BE3-BF53-27F45C6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8BB-16F1-427C-AE08-CA6B5949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96E-F3A1-4D52-86F5-7640851B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076-2F50-45AB-91F8-9B2A8D17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86CC-18AC-4106-8E93-FD7A515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7913-9A5C-45AB-8EBA-48F4B81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4F2D-3764-4145-914F-7297841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6B1E-6FCB-45EC-B5F1-4B95374B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0FA4-C367-4769-98DE-E310B25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FD6-11C5-477F-A55D-D6FFE2A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817-A4BF-4FF2-BF9E-161AC48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1E28-150F-4D37-8A75-56F9F4D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132A-88D6-45B2-A655-D615263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BA32-453F-4F22-98DE-10CDEE92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051B-C977-4885-8394-78268B1B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C553-A997-44B3-9CD0-149F64D7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2C6-9048-499D-B4A9-3A65D0B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263-5128-4374-BD63-95EEE616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0AB-29B5-4828-80C4-0C108BA7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6EC-5D19-4E00-A533-0470CFD3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D36-A916-41EB-BCE6-F2D9AE5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E27-CD2B-46DD-974F-2CFE240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34B-2C4F-4A6F-959F-D69CC24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B888-418F-46AF-9373-ECBD49E5C4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C218-0A0F-4CBE-B6E8-FB17E96B8D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636640"/>
            <a:ext cx="730260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тория геральдики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тромской обла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я Костромской обла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93040" y="522936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географ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рова Е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724200" y="616572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Космыни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ля закреп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503320" y="2637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-67680" y="2997360"/>
            <a:ext cx="854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ие исторические личности влияли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бу костромского герба?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-16200" y="1989000"/>
            <a:ext cx="84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ата образования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574600" y="3933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48840" y="4365720"/>
            <a:ext cx="84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огда утвердили флаг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74600" y="5013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17800" y="5516640"/>
            <a:ext cx="89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Что изображено на гербе Нерехтского район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645880" y="6165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00000" y="333000"/>
            <a:ext cx="82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бы вы изменили в символике Костромской области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чему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5724360" y="3429000"/>
            <a:ext cx="1905120" cy="126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5" name="Picture 7" descr="http://images.geraldika.ru/44/kostromskaya_obl_coa.gif"/>
          <p:cNvPicPr/>
          <p:nvPr/>
        </p:nvPicPr>
        <p:blipFill>
          <a:blip r:embed="rId2"/>
          <a:stretch/>
        </p:blipFill>
        <p:spPr>
          <a:xfrm>
            <a:off x="2556000" y="2997360"/>
            <a:ext cx="230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912680" y="260280"/>
            <a:ext cx="58896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та обра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стромской обла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13 августа 1944 г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438320" y="61848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619280" y="76500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692360" y="2133720"/>
            <a:ext cx="23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692360" y="2924280"/>
            <a:ext cx="230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692360" y="3860640"/>
            <a:ext cx="21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692360" y="4869000"/>
            <a:ext cx="302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А.Шершу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817760" y="609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547640" y="2781360"/>
            <a:ext cx="619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герб муниципального района город Нерехта и Нерехтский район"/>
          <p:cNvPicPr/>
          <p:nvPr/>
        </p:nvPicPr>
        <p:blipFill>
          <a:blip r:embed="rId1"/>
          <a:stretch/>
        </p:blipFill>
        <p:spPr>
          <a:xfrm>
            <a:off x="3419640" y="2205000"/>
            <a:ext cx="2571480" cy="3206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-4680" y="1440"/>
            <a:ext cx="9286920" cy="5581800"/>
          </a:xfrm>
          <a:prstGeom prst="rect">
            <a:avLst/>
          </a:prstGeom>
          <a:ln w="0">
            <a:noFill/>
          </a:ln>
        </p:spPr>
      </p:pic>
      <p:sp>
        <p:nvSpPr>
          <p:cNvPr id="190" name="Выгнутая вправо стрелка 2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73080" y="655560"/>
            <a:ext cx="9290160" cy="5545080"/>
          </a:xfrm>
          <a:prstGeom prst="rect">
            <a:avLst/>
          </a:prstGeom>
          <a:ln w="0">
            <a:noFill/>
          </a:ln>
        </p:spPr>
      </p:pic>
      <p:sp>
        <p:nvSpPr>
          <p:cNvPr id="193" name="Выгнутая вправо стрелка 3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RussiaKostroma2007-07[1]"/>
          <p:cNvPicPr/>
          <p:nvPr/>
        </p:nvPicPr>
        <p:blipFill>
          <a:blip r:embed="rId1"/>
          <a:stretch/>
        </p:blipFill>
        <p:spPr>
          <a:xfrm>
            <a:off x="971640" y="0"/>
            <a:ext cx="295272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1" name="Picture 9" descr="У Костромской области появится свой флаг"/>
          <p:cNvPicPr/>
          <p:nvPr/>
        </p:nvPicPr>
        <p:blipFill>
          <a:blip r:embed="rId2"/>
          <a:stretch/>
        </p:blipFill>
        <p:spPr>
          <a:xfrm>
            <a:off x="5724360" y="515772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427640" y="549360"/>
            <a:ext cx="434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00000" y="2492280"/>
            <a:ext cx="79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та образования: 13 августа 1944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о жителей: 697,0 тыс. человек (на 1 января 2008 г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тр: г. Кострома (основан в 1152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ых районов: 2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2" descr="http://images.geraldika.ru/44/kostromskaya_obl_coa.gif"/>
          <p:cNvPicPr/>
          <p:nvPr/>
        </p:nvPicPr>
        <p:blipFill>
          <a:blip r:embed="rId3"/>
          <a:stretch/>
        </p:blipFill>
        <p:spPr>
          <a:xfrm>
            <a:off x="1619280" y="4581360"/>
            <a:ext cx="230328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2700360" y="907920"/>
            <a:ext cx="1440000" cy="289080"/>
          </a:xfrm>
          <a:prstGeom prst="leftArrow">
            <a:avLst>
              <a:gd name="adj1" fmla="val 50000"/>
              <a:gd name="adj2" fmla="val 124533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4.79769E-006 L -0.13386 -4.79769E-006 E">
                                      <p:cBhvr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20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8422d8b3c4a5[1]"/>
          <p:cNvPicPr/>
          <p:nvPr/>
        </p:nvPicPr>
        <p:blipFill>
          <a:blip r:embed="rId1"/>
          <a:stretch/>
        </p:blipFill>
        <p:spPr>
          <a:xfrm>
            <a:off x="1042920" y="1989000"/>
            <a:ext cx="3200400" cy="408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13" descr="00004180[1]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168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WordArt 7"/>
          <p:cNvSpPr txBox="1"/>
          <p:nvPr/>
        </p:nvSpPr>
        <p:spPr>
          <a:xfrm>
            <a:off x="2771640" y="404640"/>
            <a:ext cx="360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67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2411280" y="6237360"/>
            <a:ext cx="185292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14800" y="2133720"/>
            <a:ext cx="5161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ной – летом 1767г. императр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39 лет) путешествует по волжски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ам в сопровождении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лыла на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е «Твер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 мая 1767 года флотилия кораб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лыла к городу Костром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гостям был оказан пышный приё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есть этого события Екатерино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официально утверждён гер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ы, на котором изобраз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у, на которой плавала цар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79280" y="4869000"/>
            <a:ext cx="172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алера "Тверь"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2" name="Picture 17" descr="http://images.geraldika.ru/44/kost_g.gif"/>
          <p:cNvPicPr/>
          <p:nvPr/>
        </p:nvPicPr>
        <p:blipFill>
          <a:blip r:embed="rId3"/>
          <a:stretch/>
        </p:blipFill>
        <p:spPr>
          <a:xfrm>
            <a:off x="7596360" y="189000"/>
            <a:ext cx="1292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203640" y="404640"/>
            <a:ext cx="352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9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408px-Borovikovsky_Pavel_I[1]"/>
          <p:cNvPicPr/>
          <p:nvPr/>
        </p:nvPicPr>
        <p:blipFill>
          <a:blip r:embed="rId1"/>
          <a:stretch/>
        </p:blipFill>
        <p:spPr>
          <a:xfrm>
            <a:off x="1042920" y="1989000"/>
            <a:ext cx="289260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WordArt 7"/>
          <p:cNvSpPr txBox="1"/>
          <p:nvPr/>
        </p:nvSpPr>
        <p:spPr>
          <a:xfrm>
            <a:off x="1619280" y="6381720"/>
            <a:ext cx="1852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88720" y="2060640"/>
            <a:ext cx="535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нце 1796 г. Павел 1 решил измен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б Костромской губер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45880" y="5013360"/>
            <a:ext cx="54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мволика и происхождение этого герб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известна, но герб просуществов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оло 8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0" descr="http://heraldry.hobby.ru/k/kostrom2.jpg"/>
          <p:cNvPicPr/>
          <p:nvPr/>
        </p:nvPicPr>
        <p:blipFill>
          <a:blip r:embed="rId2"/>
          <a:stretch/>
        </p:blipFill>
        <p:spPr>
          <a:xfrm>
            <a:off x="5580000" y="3068640"/>
            <a:ext cx="1542960" cy="169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13200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34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Picture 5" descr="0_20b31_6d4076e5_XL[1]"/>
          <p:cNvPicPr/>
          <p:nvPr/>
        </p:nvPicPr>
        <p:blipFill>
          <a:blip r:embed="rId1"/>
          <a:stretch/>
        </p:blipFill>
        <p:spPr>
          <a:xfrm>
            <a:off x="1042920" y="1989000"/>
            <a:ext cx="325116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WordArt 7"/>
          <p:cNvSpPr txBox="1"/>
          <p:nvPr/>
        </p:nvSpPr>
        <p:spPr>
          <a:xfrm>
            <a:off x="1979640" y="6308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40856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http://heraldry.hobby.ru/k/kostrom2.jpg"/>
          <p:cNvPicPr/>
          <p:nvPr/>
        </p:nvPicPr>
        <p:blipFill>
          <a:blip r:embed="rId2"/>
          <a:stretch/>
        </p:blipFill>
        <p:spPr>
          <a:xfrm>
            <a:off x="7667640" y="260280"/>
            <a:ext cx="1177920" cy="129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Text Box 12"/>
          <p:cNvSpPr/>
          <p:nvPr/>
        </p:nvSpPr>
        <p:spPr>
          <a:xfrm>
            <a:off x="4290840" y="2637000"/>
            <a:ext cx="496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вловсий герб был подтвержд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ом Николая 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28 ноября 183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этот герб был изображ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намёнах четырёх пол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ских ополченц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ных во время войны 181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2843280" y="404640"/>
            <a:ext cx="345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78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5" descr="940330304[1]"/>
          <p:cNvPicPr/>
          <p:nvPr/>
        </p:nvPicPr>
        <p:blipFill>
          <a:blip r:embed="rId1"/>
          <a:stretch/>
        </p:blipFill>
        <p:spPr>
          <a:xfrm>
            <a:off x="1042920" y="1989000"/>
            <a:ext cx="335124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7" name="Picture 7" descr="http://images.geraldika.ru/44/g602_kostroma_gub.gif"/>
          <p:cNvPicPr/>
          <p:nvPr/>
        </p:nvPicPr>
        <p:blipFill>
          <a:blip r:embed="rId2"/>
          <a:stretch/>
        </p:blipFill>
        <p:spPr>
          <a:xfrm>
            <a:off x="7451640" y="0"/>
            <a:ext cx="1471680" cy="17002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908000" y="6308640"/>
            <a:ext cx="1648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466160" y="2997360"/>
            <a:ext cx="481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Гербового отд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партамента геральдии С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он Кёне предложил верну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екатерининскому гербу Костро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ного его измен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виде герб просуществов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1917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35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герб"/>
          <p:cNvPicPr/>
          <p:nvPr/>
        </p:nvPicPr>
        <p:blipFill>
          <a:blip r:embed="rId1"/>
          <a:stretch/>
        </p:blipFill>
        <p:spPr>
          <a:xfrm>
            <a:off x="0" y="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герб"/>
          <p:cNvPicPr/>
          <p:nvPr/>
        </p:nvPicPr>
        <p:blipFill>
          <a:blip r:embed="rId2"/>
          <a:stretch/>
        </p:blipFill>
        <p:spPr>
          <a:xfrm>
            <a:off x="1042920" y="292428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1535400" y="101880"/>
            <a:ext cx="77230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3 ноября 1995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Думой был принят Первый Закон о герб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1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остромская областная Дума приняла нов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кон о гербе области, восстановив губернский герб 1878 год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шённый внешних украшений щи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9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Глава администрации В.А.Шершу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твердил данный Закон (№41)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924360" y="3065760"/>
            <a:ext cx="5219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ый герб области введён Законом Костромской обла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8 апреля 2006 г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№13-4-З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"О гербе Костромской области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принят Костромской областной Думой 20 апреля 2006 год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8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68"/>
          <p:cNvSpPr txBox="1"/>
          <p:nvPr/>
        </p:nvSpPr>
        <p:spPr>
          <a:xfrm>
            <a:off x="226836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WordArt 469"/>
          <p:cNvSpPr txBox="1"/>
          <p:nvPr/>
        </p:nvSpPr>
        <p:spPr>
          <a:xfrm>
            <a:off x="1116000" y="1844640"/>
            <a:ext cx="7632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ниципальных рай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470" descr="http://images.geraldika.ru/44/kostromskaya_obl_coa.gif"/>
          <p:cNvPicPr/>
          <p:nvPr/>
        </p:nvPicPr>
        <p:blipFill>
          <a:blip r:embed="rId1"/>
          <a:stretch/>
        </p:blipFill>
        <p:spPr>
          <a:xfrm>
            <a:off x="3348000" y="440064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72">
            <a:hlinkClick r:id="rId2" action="ppaction://hlinksldjump"/>
          </p:cNvPr>
          <p:cNvSpPr/>
          <p:nvPr/>
        </p:nvSpPr>
        <p:spPr>
          <a:xfrm>
            <a:off x="817236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60" h="21600">
                <a:moveTo>
                  <a:pt x="5303" y="3985"/>
                </a:moveTo>
                <a:lnTo>
                  <a:pt x="12301" y="3985"/>
                </a:lnTo>
                <a:lnTo>
                  <a:pt x="16357" y="7484"/>
                </a:lnTo>
                <a:lnTo>
                  <a:pt x="16357" y="17615"/>
                </a:lnTo>
                <a:lnTo>
                  <a:pt x="5303" y="17615"/>
                </a:lnTo>
                <a:close/>
              </a:path>
              <a:path fill="darken" w="21660" h="21600">
                <a:moveTo>
                  <a:pt x="12301" y="3985"/>
                </a:moveTo>
                <a:lnTo>
                  <a:pt x="16357" y="7484"/>
                </a:lnTo>
                <a:lnTo>
                  <a:pt x="12301" y="7484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7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6000" y="6022800"/>
            <a:ext cx="645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6405480" y="0"/>
            <a:ext cx="2738520" cy="181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WordArt 6"/>
          <p:cNvSpPr txBox="1"/>
          <p:nvPr/>
        </p:nvSpPr>
        <p:spPr>
          <a:xfrm>
            <a:off x="971640" y="333360"/>
            <a:ext cx="51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ла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83440" y="2492280"/>
            <a:ext cx="808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аг Костромской области почти повторяет флаг РСФСР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сное полотнище с синей полоской у дре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центре флага – герб Костром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е ширины флага к его длине 2 :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331080" y="40258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Флаг утверждё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1547640" y="4869000"/>
            <a:ext cx="61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8:24:00Z</dcterms:created>
  <dc:creator>мама</dc:creator>
  <dc:description/>
  <dc:language>en-US</dc:language>
  <cp:lastModifiedBy>пк</cp:lastModifiedBy>
  <dcterms:modified xsi:type="dcterms:W3CDTF">2013-04-06T21:01:35Z</dcterms:modified>
  <cp:revision>29</cp:revision>
  <dc:subject/>
  <dc:title>История геральдики  Костромской области</dc:title>
</cp:coreProperties>
</file>