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12.png" ContentType="image/png"/>
  <Override PartName="/ppt/media/image8.jpeg" ContentType="image/jpeg"/>
  <Override PartName="/ppt/media/image10.jpeg" ContentType="image/jpeg"/>
  <Override PartName="/ppt/media/image17.wmf" ContentType="image/x-wmf"/>
  <Override PartName="/ppt/media/image16.wmf" ContentType="image/x-wmf"/>
  <Override PartName="/ppt/media/image15.png" ContentType="image/png"/>
  <Override PartName="/ppt/media/image5.jpeg" ContentType="image/jpeg"/>
  <Override PartName="/ppt/media/image14.png" ContentType="image/png"/>
  <Override PartName="/ppt/media/image1.jpeg" ContentType="image/jpeg"/>
  <Override PartName="/ppt/media/image9.jpeg" ContentType="image/jpeg"/>
  <Override PartName="/ppt/media/image4.jpeg" ContentType="image/jpeg"/>
  <Override PartName="/ppt/media/image2.png" ContentType="image/png"/>
  <Override PartName="/ppt/media/image3.png" ContentType="image/png"/>
  <Override PartName="/ppt/media/image6.png" ContentType="image/png"/>
  <Override PartName="/ppt/media/image7.jpeg" ContentType="image/jpe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13EC0-D7B5-4BE7-ADB4-D229E3143CB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9CFAD-8AB4-4BB0-B9C0-EBC2C9658B1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Щелкнуть ссылку «Гербы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18AB3-4EB9-451B-8274-481AAD127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FD80D-BC45-47A8-8EAB-4116AB70C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BE57C-B18F-4388-8CD3-82E18A61C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64823-A60F-4A06-A496-052A2CBDF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F5E0B-CA14-415A-BB91-B00AA949F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84387-C564-454D-8F8F-4899580A8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1164F-7391-4B05-9CC7-0BF354579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0F8DC-13DB-405C-8CCF-E8AA449C5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512CE-7EBB-4688-B772-471BCCC46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5A7DB-ADB6-4257-9DD2-F3D920D68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FB9CE-E2D8-4392-A92D-E53A060FA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AE72E-2572-4A51-B3F4-9592314D6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818D5-7958-4AC9-B5E8-4D7B2F5BF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42647-41E3-4AA3-B52B-E3CCE831E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D28E7-5D63-4319-8A9E-02636D848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A0E32-AD23-440B-BA7D-36A73BCFD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B160A-431F-47E6-9343-E4DF9B091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3B2F7-2B98-4231-9F89-EB99B6443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8A483-F7CD-4EE2-B0E5-ABF29724D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D1E63-B9AA-4CC4-9747-6D5408568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98987-531F-43E2-80D4-C27D1FC33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D8C01-A31C-4DB7-AA7D-9D94F4998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199CC-D19F-41AA-A003-AC228FB89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1241A-FF3B-4A3B-8209-EA05821BE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34204-18CD-4105-B019-5BBBDA0831E6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3BB01-98A2-49DE-84EC-6348C8CB02AA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17.xml"/><Relationship Id="rId3" Type="http://schemas.openxmlformats.org/officeDocument/2006/relationships/slide" Target="slide16.xml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476000" y="2636640"/>
            <a:ext cx="7302600" cy="1657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История геральдики </a:t>
            </a:r>
            <a:br>
              <a:rPr sz="4400"/>
            </a:b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Костромской области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187280" y="259920"/>
            <a:ext cx="77407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География Костромской области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9 класс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6593040" y="5229360"/>
            <a:ext cx="261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Учитель географии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острова Е.С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Text Box 5"/>
          <p:cNvSpPr/>
          <p:nvPr/>
        </p:nvSpPr>
        <p:spPr>
          <a:xfrm>
            <a:off x="3724200" y="6165720"/>
            <a:ext cx="176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. Космынино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Вопросы </a:t>
            </a:r>
            <a:br>
              <a:rPr sz="4400"/>
            </a:b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для закрепления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5" name="Text Box 4"/>
          <p:cNvSpPr/>
          <p:nvPr/>
        </p:nvSpPr>
        <p:spPr>
          <a:xfrm>
            <a:off x="5503320" y="2637000"/>
            <a:ext cx="89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Tahoma"/>
              </a:rPr>
              <a:t>Ответ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Text Box 5"/>
          <p:cNvSpPr/>
          <p:nvPr/>
        </p:nvSpPr>
        <p:spPr>
          <a:xfrm>
            <a:off x="-67680" y="2997360"/>
            <a:ext cx="8547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2. Какие исторические личности влияли на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удьбу костромского герба?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Text Box 7"/>
          <p:cNvSpPr/>
          <p:nvPr/>
        </p:nvSpPr>
        <p:spPr>
          <a:xfrm>
            <a:off x="-16200" y="1989000"/>
            <a:ext cx="8470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1. Дата образования Костромской области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Rectangle 8"/>
          <p:cNvSpPr/>
          <p:nvPr/>
        </p:nvSpPr>
        <p:spPr>
          <a:xfrm>
            <a:off x="5574600" y="3933720"/>
            <a:ext cx="89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Tahoma"/>
              </a:rPr>
              <a:t>Ответ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Text Box 9"/>
          <p:cNvSpPr/>
          <p:nvPr/>
        </p:nvSpPr>
        <p:spPr>
          <a:xfrm>
            <a:off x="348840" y="4365720"/>
            <a:ext cx="84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3. Когда утвердили флаг Костромской области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Rectangle 10"/>
          <p:cNvSpPr/>
          <p:nvPr/>
        </p:nvSpPr>
        <p:spPr>
          <a:xfrm>
            <a:off x="5574600" y="5013360"/>
            <a:ext cx="89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Tahoma"/>
              </a:rPr>
              <a:t>Ответ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Text Box 11"/>
          <p:cNvSpPr/>
          <p:nvPr/>
        </p:nvSpPr>
        <p:spPr>
          <a:xfrm>
            <a:off x="217800" y="5516640"/>
            <a:ext cx="894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4. Что изображено на гербе Нерехтского района?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Rectangle 12"/>
          <p:cNvSpPr/>
          <p:nvPr/>
        </p:nvSpPr>
        <p:spPr>
          <a:xfrm>
            <a:off x="5645880" y="6165720"/>
            <a:ext cx="89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Tahoma"/>
              </a:rPr>
              <a:t>Ответ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900000" y="333000"/>
            <a:ext cx="8244000" cy="170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Что бы вы изменили в символике Костромской области и </a:t>
            </a:r>
            <a:r>
              <a:rPr b="1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почему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4" name="Picture 4" descr="У Костромской области появится свой флаг"/>
          <p:cNvPicPr/>
          <p:nvPr/>
        </p:nvPicPr>
        <p:blipFill>
          <a:blip r:embed="rId1"/>
          <a:stretch/>
        </p:blipFill>
        <p:spPr>
          <a:xfrm>
            <a:off x="5724360" y="3429000"/>
            <a:ext cx="1905120" cy="12668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175" name="Picture 7" descr="http://images.geraldika.ru/44/kostromskaya_obl_coa.gif"/>
          <p:cNvPicPr/>
          <p:nvPr/>
        </p:nvPicPr>
        <p:blipFill>
          <a:blip r:embed="rId2"/>
          <a:stretch/>
        </p:blipFill>
        <p:spPr>
          <a:xfrm>
            <a:off x="2556000" y="2997360"/>
            <a:ext cx="230328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0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48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51" dur="3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4"/>
          <p:cNvSpPr/>
          <p:nvPr/>
        </p:nvSpPr>
        <p:spPr>
          <a:xfrm>
            <a:off x="1912680" y="260280"/>
            <a:ext cx="5889600" cy="38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Дата образования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Костромской области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4800" spc="-1" strike="noStrike">
                <a:solidFill>
                  <a:srgbClr val="ffffff"/>
                </a:solidFill>
                <a:latin typeface="Tahoma"/>
              </a:rPr>
              <a:t>13 августа 1944 г.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Text Box 5"/>
          <p:cNvSpPr/>
          <p:nvPr/>
        </p:nvSpPr>
        <p:spPr>
          <a:xfrm>
            <a:off x="7438320" y="6184800"/>
            <a:ext cx="91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Дале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WordArt 4"/>
          <p:cNvSpPr txBox="1"/>
          <p:nvPr/>
        </p:nvSpPr>
        <p:spPr>
          <a:xfrm>
            <a:off x="1619280" y="765000"/>
            <a:ext cx="25923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Екатерина II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79" name="WordArt 5"/>
          <p:cNvSpPr txBox="1"/>
          <p:nvPr/>
        </p:nvSpPr>
        <p:spPr>
          <a:xfrm>
            <a:off x="1692360" y="2133720"/>
            <a:ext cx="237492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Павел 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80" name="WordArt 6"/>
          <p:cNvSpPr txBox="1"/>
          <p:nvPr/>
        </p:nvSpPr>
        <p:spPr>
          <a:xfrm>
            <a:off x="1692360" y="2924280"/>
            <a:ext cx="230508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Николай 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81" name="WordArt 7"/>
          <p:cNvSpPr txBox="1"/>
          <p:nvPr/>
        </p:nvSpPr>
        <p:spPr>
          <a:xfrm>
            <a:off x="1692360" y="3860640"/>
            <a:ext cx="216036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В.Б.Кён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82" name="WordArt 8"/>
          <p:cNvSpPr txBox="1"/>
          <p:nvPr/>
        </p:nvSpPr>
        <p:spPr>
          <a:xfrm>
            <a:off x="1692360" y="4869000"/>
            <a:ext cx="302400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В.А.Шершуно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83" name="Rectangle 9"/>
          <p:cNvSpPr/>
          <p:nvPr/>
        </p:nvSpPr>
        <p:spPr>
          <a:xfrm>
            <a:off x="7817760" y="6093000"/>
            <a:ext cx="91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Дале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WordArt 4"/>
          <p:cNvSpPr txBox="1"/>
          <p:nvPr/>
        </p:nvSpPr>
        <p:spPr>
          <a:xfrm>
            <a:off x="1547640" y="2781360"/>
            <a:ext cx="619308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19 октября 2000 год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85" name="Rectangle 5"/>
          <p:cNvSpPr/>
          <p:nvPr/>
        </p:nvSpPr>
        <p:spPr>
          <a:xfrm>
            <a:off x="7890840" y="6165720"/>
            <a:ext cx="91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Дале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4" descr="герб муниципального района город Нерехта и Нерехтский район"/>
          <p:cNvPicPr/>
          <p:nvPr/>
        </p:nvPicPr>
        <p:blipFill>
          <a:blip r:embed="rId1"/>
          <a:stretch/>
        </p:blipFill>
        <p:spPr>
          <a:xfrm>
            <a:off x="3419640" y="2205000"/>
            <a:ext cx="2571480" cy="3206880"/>
          </a:xfrm>
          <a:prstGeom prst="rect">
            <a:avLst/>
          </a:prstGeom>
          <a:ln w="0">
            <a:noFill/>
          </a:ln>
        </p:spPr>
      </p:pic>
      <p:sp>
        <p:nvSpPr>
          <p:cNvPr id="187" name="Rectangle 6"/>
          <p:cNvSpPr/>
          <p:nvPr/>
        </p:nvSpPr>
        <p:spPr>
          <a:xfrm>
            <a:off x="7890840" y="6165720"/>
            <a:ext cx="91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Дале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1066320" y="304920"/>
            <a:ext cx="75438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9" name="Picture 2" descr=""/>
          <p:cNvPicPr/>
          <p:nvPr/>
        </p:nvPicPr>
        <p:blipFill>
          <a:blip r:embed="rId1"/>
          <a:stretch/>
        </p:blipFill>
        <p:spPr>
          <a:xfrm>
            <a:off x="-4680" y="1440"/>
            <a:ext cx="9286920" cy="5581800"/>
          </a:xfrm>
          <a:prstGeom prst="rect">
            <a:avLst/>
          </a:prstGeom>
          <a:ln w="0">
            <a:noFill/>
          </a:ln>
        </p:spPr>
      </p:pic>
      <p:sp>
        <p:nvSpPr>
          <p:cNvPr id="190" name="Выгнутая вправо стрелка 2"/>
          <p:cNvSpPr/>
          <p:nvPr/>
        </p:nvSpPr>
        <p:spPr>
          <a:xfrm>
            <a:off x="7885080" y="5686560"/>
            <a:ext cx="844560" cy="911160"/>
          </a:xfrm>
          <a:custGeom>
            <a:avLst/>
            <a:gdLst>
              <a:gd name="textAreaLeft" fmla="*/ 113040 w 844560"/>
              <a:gd name="textAreaRight" fmla="*/ 731520 w 844560"/>
              <a:gd name="textAreaTop" fmla="*/ 148320 h 911160"/>
              <a:gd name="textAreaBottom" fmla="*/ 657000 h 911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041" stAng="-5400000" swAng="5400000"/>
                <a:lnTo>
                  <a:pt x="21600" y="12053"/>
                </a:lnTo>
                <a:arcTo wR="21600" hR="7041" stAng="0" swAng="3096941"/>
                <a:lnTo>
                  <a:pt x="5400" y="21376"/>
                </a:lnTo>
                <a:lnTo>
                  <a:pt x="0" y="16587"/>
                </a:lnTo>
                <a:lnTo>
                  <a:pt x="5400" y="11350"/>
                </a:lnTo>
                <a:lnTo>
                  <a:pt x="5400" y="13857"/>
                </a:lnTo>
                <a:arcTo wR="21600" hR="7041" stAng="3096941" swAng="-2672320"/>
                <a:lnTo>
                  <a:pt x="20185" y="9547"/>
                </a:lnTo>
                <a:arcTo wR="21600" hR="7041" stAng="-424621" swAng="-4975379"/>
                <a:close/>
              </a:path>
              <a:path fill="darkenLess" w="21600" h="21600">
                <a:moveTo>
                  <a:pt x="0" y="0"/>
                </a:moveTo>
                <a:arcTo wR="21600" hR="7041" stAng="-5400000" swAng="5400000"/>
                <a:lnTo>
                  <a:pt x="21600" y="12053"/>
                </a:lnTo>
                <a:arcTo wR="21600" hR="7041" stAng="0" swAng="-424621"/>
                <a:lnTo>
                  <a:pt x="20185" y="9547"/>
                </a:lnTo>
                <a:arcTo wR="21600" hR="7041" stAng="-424621" swAng="-4975379"/>
                <a:close/>
              </a:path>
            </a:pathLst>
          </a:custGeom>
          <a:solidFill>
            <a:srgbClr val="ffff66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1066320" y="304920"/>
            <a:ext cx="75438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2" name="Picture 2" descr=""/>
          <p:cNvPicPr/>
          <p:nvPr/>
        </p:nvPicPr>
        <p:blipFill>
          <a:blip r:embed="rId1"/>
          <a:stretch/>
        </p:blipFill>
        <p:spPr>
          <a:xfrm>
            <a:off x="-73080" y="655560"/>
            <a:ext cx="9290160" cy="5545080"/>
          </a:xfrm>
          <a:prstGeom prst="rect">
            <a:avLst/>
          </a:prstGeom>
          <a:ln w="0">
            <a:noFill/>
          </a:ln>
        </p:spPr>
      </p:pic>
      <p:sp>
        <p:nvSpPr>
          <p:cNvPr id="193" name="Выгнутая вправо стрелка 3"/>
          <p:cNvSpPr/>
          <p:nvPr/>
        </p:nvSpPr>
        <p:spPr>
          <a:xfrm>
            <a:off x="7885080" y="5686560"/>
            <a:ext cx="844560" cy="911160"/>
          </a:xfrm>
          <a:custGeom>
            <a:avLst/>
            <a:gdLst>
              <a:gd name="textAreaLeft" fmla="*/ 113040 w 844560"/>
              <a:gd name="textAreaRight" fmla="*/ 731520 w 844560"/>
              <a:gd name="textAreaTop" fmla="*/ 148320 h 911160"/>
              <a:gd name="textAreaBottom" fmla="*/ 657000 h 911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041" stAng="-5400000" swAng="5400000"/>
                <a:lnTo>
                  <a:pt x="21600" y="12053"/>
                </a:lnTo>
                <a:arcTo wR="21600" hR="7041" stAng="0" swAng="3096941"/>
                <a:lnTo>
                  <a:pt x="5400" y="21376"/>
                </a:lnTo>
                <a:lnTo>
                  <a:pt x="0" y="16587"/>
                </a:lnTo>
                <a:lnTo>
                  <a:pt x="5400" y="11350"/>
                </a:lnTo>
                <a:lnTo>
                  <a:pt x="5400" y="13857"/>
                </a:lnTo>
                <a:arcTo wR="21600" hR="7041" stAng="3096941" swAng="-2672320"/>
                <a:lnTo>
                  <a:pt x="20185" y="9547"/>
                </a:lnTo>
                <a:arcTo wR="21600" hR="7041" stAng="-424621" swAng="-4975379"/>
                <a:close/>
              </a:path>
              <a:path fill="darkenLess" w="21600" h="21600">
                <a:moveTo>
                  <a:pt x="0" y="0"/>
                </a:moveTo>
                <a:arcTo wR="21600" hR="7041" stAng="-5400000" swAng="5400000"/>
                <a:lnTo>
                  <a:pt x="21600" y="12053"/>
                </a:lnTo>
                <a:arcTo wR="21600" hR="7041" stAng="0" swAng="-424621"/>
                <a:lnTo>
                  <a:pt x="20185" y="9547"/>
                </a:lnTo>
                <a:arcTo wR="21600" hR="7041" stAng="-424621" swAng="-4975379"/>
                <a:close/>
              </a:path>
            </a:pathLst>
          </a:custGeom>
          <a:solidFill>
            <a:srgbClr val="ffff66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4" descr="RussiaKostroma2007-07[1]"/>
          <p:cNvPicPr/>
          <p:nvPr/>
        </p:nvPicPr>
        <p:blipFill>
          <a:blip r:embed="rId1"/>
          <a:stretch/>
        </p:blipFill>
        <p:spPr>
          <a:xfrm>
            <a:off x="971640" y="0"/>
            <a:ext cx="2952720" cy="17524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121" name="Picture 9" descr="У Костромской области появится свой флаг"/>
          <p:cNvPicPr/>
          <p:nvPr/>
        </p:nvPicPr>
        <p:blipFill>
          <a:blip r:embed="rId2"/>
          <a:stretch/>
        </p:blipFill>
        <p:spPr>
          <a:xfrm>
            <a:off x="5724360" y="5157720"/>
            <a:ext cx="1905120" cy="1266840"/>
          </a:xfrm>
          <a:prstGeom prst="rect">
            <a:avLst/>
          </a:prstGeom>
          <a:ln w="0">
            <a:noFill/>
          </a:ln>
        </p:spPr>
      </p:pic>
      <p:sp>
        <p:nvSpPr>
          <p:cNvPr id="122" name="WordArt 7"/>
          <p:cNvSpPr txBox="1"/>
          <p:nvPr/>
        </p:nvSpPr>
        <p:spPr>
          <a:xfrm>
            <a:off x="4427640" y="549360"/>
            <a:ext cx="43434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Костромская област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23" name="Text Box 8"/>
          <p:cNvSpPr/>
          <p:nvPr/>
        </p:nvSpPr>
        <p:spPr>
          <a:xfrm>
            <a:off x="900000" y="2492280"/>
            <a:ext cx="79041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Дата образования: 13 августа 1944 г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4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оличество жителей: 697,0 тыс. человек (на 1 января 2008 г.)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4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Центр: г. Кострома (основан в 1152 г.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4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Муниципальных районов: 24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4" name="Picture 12" descr="http://images.geraldika.ru/44/kostromskaya_obl_coa.gif"/>
          <p:cNvPicPr/>
          <p:nvPr/>
        </p:nvPicPr>
        <p:blipFill>
          <a:blip r:embed="rId3"/>
          <a:stretch/>
        </p:blipFill>
        <p:spPr>
          <a:xfrm>
            <a:off x="1619280" y="4581360"/>
            <a:ext cx="2303280" cy="1981440"/>
          </a:xfrm>
          <a:prstGeom prst="rect">
            <a:avLst/>
          </a:prstGeom>
          <a:ln w="0">
            <a:noFill/>
          </a:ln>
        </p:spPr>
      </p:pic>
      <p:sp>
        <p:nvSpPr>
          <p:cNvPr id="125" name="AutoShape 15"/>
          <p:cNvSpPr/>
          <p:nvPr/>
        </p:nvSpPr>
        <p:spPr>
          <a:xfrm>
            <a:off x="2700360" y="907920"/>
            <a:ext cx="1440000" cy="289080"/>
          </a:xfrm>
          <a:prstGeom prst="leftArrow">
            <a:avLst>
              <a:gd name="adj1" fmla="val 50000"/>
              <a:gd name="adj2" fmla="val 124533"/>
            </a:avLst>
          </a:prstGeom>
          <a:solidFill>
            <a:srgbClr val="66c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7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531 -4.79769E-006 L -0.13386 -4.79769E-006 E">
                                      <p:cBhvr>
                                        <p:cTn id="16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8" nodeType="afterEffect" fill="hold" presetClass="emph" presetID="27" repeatCount="2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" dur="500" autoRev="1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66"/>
                                      </p:to>
                                    </p:animClr>
                                    <p:animClr clrSpc="rgb">
                                      <p:cBhvr>
                                        <p:cTn id="20" dur="500" autoRev="1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66"/>
                                      </p:to>
                                    </p:animClr>
                                    <p:set>
                                      <p:cBhvr>
                                        <p:cTn id="21" dur="500" autoRev="1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7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0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4" descr="8422d8b3c4a5[1]"/>
          <p:cNvPicPr/>
          <p:nvPr/>
        </p:nvPicPr>
        <p:blipFill>
          <a:blip r:embed="rId1"/>
          <a:stretch/>
        </p:blipFill>
        <p:spPr>
          <a:xfrm>
            <a:off x="1042920" y="1989000"/>
            <a:ext cx="3200400" cy="40863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127" name="Picture 13" descr="00004180[1]"/>
          <p:cNvPicPr/>
          <p:nvPr/>
        </p:nvPicPr>
        <p:blipFill>
          <a:blip r:embed="rId2"/>
          <a:stretch/>
        </p:blipFill>
        <p:spPr>
          <a:xfrm>
            <a:off x="0" y="4724280"/>
            <a:ext cx="2268360" cy="16830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28" name="WordArt 7"/>
          <p:cNvSpPr txBox="1"/>
          <p:nvPr/>
        </p:nvSpPr>
        <p:spPr>
          <a:xfrm>
            <a:off x="2771640" y="404640"/>
            <a:ext cx="360072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1767 год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29" name="WordArt 11"/>
          <p:cNvSpPr txBox="1"/>
          <p:nvPr/>
        </p:nvSpPr>
        <p:spPr>
          <a:xfrm>
            <a:off x="2411280" y="6237360"/>
            <a:ext cx="1852920" cy="315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Екатерина II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14800" y="2133720"/>
            <a:ext cx="516132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есной – летом 1767г. императрица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(39 лет) путешествует по волжским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городам в сопровождении большой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виты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Екатерина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I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плыла на большой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галере «Тверь»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14 мая 1767 года флотилия корабле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одплыла к городу Костроме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где гостям был оказан пышный приём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 честь этого события Екатериной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I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был официально утверждён герб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остромы, на котором изобразили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галеру, на которой плавала цариц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WordArt 16"/>
          <p:cNvSpPr txBox="1"/>
          <p:nvPr/>
        </p:nvSpPr>
        <p:spPr>
          <a:xfrm>
            <a:off x="179280" y="4869000"/>
            <a:ext cx="172872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Галера "Тверь"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132" name="Picture 17" descr="http://images.geraldika.ru/44/kost_g.gif"/>
          <p:cNvPicPr/>
          <p:nvPr/>
        </p:nvPicPr>
        <p:blipFill>
          <a:blip r:embed="rId3"/>
          <a:stretch/>
        </p:blipFill>
        <p:spPr>
          <a:xfrm>
            <a:off x="7596360" y="189000"/>
            <a:ext cx="1292040" cy="151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0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77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8" dur="770" fill="hold"/>
                                        <p:tgtEl>
                                          <p:spTgt spid="12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0" dur="77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2" dur="77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5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57" dur="5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65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67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77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6" dur="770" fill="hold"/>
                                        <p:tgtEl>
                                          <p:spTgt spid="13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8" dur="77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0" dur="77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WordArt 4"/>
          <p:cNvSpPr txBox="1"/>
          <p:nvPr/>
        </p:nvSpPr>
        <p:spPr>
          <a:xfrm>
            <a:off x="3203640" y="404640"/>
            <a:ext cx="352908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1796 год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134" name="Picture 5" descr="408px-Borovikovsky_Pavel_I[1]"/>
          <p:cNvPicPr/>
          <p:nvPr/>
        </p:nvPicPr>
        <p:blipFill>
          <a:blip r:embed="rId1"/>
          <a:stretch/>
        </p:blipFill>
        <p:spPr>
          <a:xfrm>
            <a:off x="1042920" y="1989000"/>
            <a:ext cx="2892600" cy="42483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35" name="WordArt 7"/>
          <p:cNvSpPr txBox="1"/>
          <p:nvPr/>
        </p:nvSpPr>
        <p:spPr>
          <a:xfrm>
            <a:off x="1619280" y="6381720"/>
            <a:ext cx="185256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Павел 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36" name="Text Box 8"/>
          <p:cNvSpPr/>
          <p:nvPr/>
        </p:nvSpPr>
        <p:spPr>
          <a:xfrm>
            <a:off x="3888720" y="2060640"/>
            <a:ext cx="5359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 конце 1796 г. Павел 1 решил изменить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герб Костромской губерни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Text Box 9"/>
          <p:cNvSpPr/>
          <p:nvPr/>
        </p:nvSpPr>
        <p:spPr>
          <a:xfrm>
            <a:off x="3845880" y="5013360"/>
            <a:ext cx="5435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имволика и происхождение этого герба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еизвестна, но герб просуществовал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коло 80 лет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8" name="Picture 10" descr="http://heraldry.hobby.ru/k/kostrom2.jpg"/>
          <p:cNvPicPr/>
          <p:nvPr/>
        </p:nvPicPr>
        <p:blipFill>
          <a:blip r:embed="rId2"/>
          <a:stretch/>
        </p:blipFill>
        <p:spPr>
          <a:xfrm>
            <a:off x="5580000" y="3068640"/>
            <a:ext cx="1542960" cy="16970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77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9" dur="770" fill="hold"/>
                                        <p:tgtEl>
                                          <p:spTgt spid="13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1" dur="77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3" dur="77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6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8" presetSubtype="3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1" dur="3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06" nodeType="afterEffect" fill="hold" presetClass="entr" presetID="5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385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9" dur="385" fill="hold"/>
                                        <p:tgtEl>
                                          <p:spTgt spid="13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1" dur="385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3" dur="385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16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WordArt 4"/>
          <p:cNvSpPr txBox="1"/>
          <p:nvPr/>
        </p:nvSpPr>
        <p:spPr>
          <a:xfrm>
            <a:off x="3132000" y="404640"/>
            <a:ext cx="338472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1834 год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140" name="Picture 5" descr="0_20b31_6d4076e5_XL[1]"/>
          <p:cNvPicPr/>
          <p:nvPr/>
        </p:nvPicPr>
        <p:blipFill>
          <a:blip r:embed="rId1"/>
          <a:stretch/>
        </p:blipFill>
        <p:spPr>
          <a:xfrm>
            <a:off x="1042920" y="1989000"/>
            <a:ext cx="3251160" cy="42483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41" name="WordArt 7"/>
          <p:cNvSpPr txBox="1"/>
          <p:nvPr/>
        </p:nvSpPr>
        <p:spPr>
          <a:xfrm>
            <a:off x="1979640" y="6308640"/>
            <a:ext cx="180036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Николай 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42" name="Text Box 8"/>
          <p:cNvSpPr/>
          <p:nvPr/>
        </p:nvSpPr>
        <p:spPr>
          <a:xfrm>
            <a:off x="4408560" y="2008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3" name="Picture 9" descr="http://heraldry.hobby.ru/k/kostrom2.jpg"/>
          <p:cNvPicPr/>
          <p:nvPr/>
        </p:nvPicPr>
        <p:blipFill>
          <a:blip r:embed="rId2"/>
          <a:stretch/>
        </p:blipFill>
        <p:spPr>
          <a:xfrm>
            <a:off x="7667640" y="260280"/>
            <a:ext cx="1177920" cy="12956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44" name="Text Box 12"/>
          <p:cNvSpPr/>
          <p:nvPr/>
        </p:nvSpPr>
        <p:spPr>
          <a:xfrm>
            <a:off x="4290840" y="2637000"/>
            <a:ext cx="49662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авловсий герб был подтверждён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указом Николая 1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т 28 ноября 1834 года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менно этот герб был изображён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а знамёнах четырёх полков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остромских ополченцев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озданных во время войны 1812 год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0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77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6" dur="770" fill="hold"/>
                                        <p:tgtEl>
                                          <p:spTgt spid="13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8" dur="77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0" dur="77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3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40" nodeType="afterEffect" fill="hold" presetClass="entr" presetID="8" presetSubtype="3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42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WordArt 4"/>
          <p:cNvSpPr txBox="1"/>
          <p:nvPr/>
        </p:nvSpPr>
        <p:spPr>
          <a:xfrm>
            <a:off x="2843280" y="404640"/>
            <a:ext cx="345744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1878 год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146" name="Picture 5" descr="940330304[1]"/>
          <p:cNvPicPr/>
          <p:nvPr/>
        </p:nvPicPr>
        <p:blipFill>
          <a:blip r:embed="rId1"/>
          <a:stretch/>
        </p:blipFill>
        <p:spPr>
          <a:xfrm>
            <a:off x="1042920" y="1989000"/>
            <a:ext cx="3351240" cy="42483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147" name="Picture 7" descr="http://images.geraldika.ru/44/g602_kostroma_gub.gif"/>
          <p:cNvPicPr/>
          <p:nvPr/>
        </p:nvPicPr>
        <p:blipFill>
          <a:blip r:embed="rId2"/>
          <a:stretch/>
        </p:blipFill>
        <p:spPr>
          <a:xfrm>
            <a:off x="7451640" y="0"/>
            <a:ext cx="1471680" cy="1700280"/>
          </a:xfrm>
          <a:prstGeom prst="rect">
            <a:avLst/>
          </a:prstGeom>
          <a:ln w="0">
            <a:noFill/>
          </a:ln>
        </p:spPr>
      </p:pic>
      <p:sp>
        <p:nvSpPr>
          <p:cNvPr id="148" name="WordArt 10"/>
          <p:cNvSpPr txBox="1"/>
          <p:nvPr/>
        </p:nvSpPr>
        <p:spPr>
          <a:xfrm>
            <a:off x="1908000" y="6308640"/>
            <a:ext cx="1648080" cy="36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В.Б.Кён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49" name="Text Box 11"/>
          <p:cNvSpPr/>
          <p:nvPr/>
        </p:nvSpPr>
        <p:spPr>
          <a:xfrm>
            <a:off x="4466160" y="2997360"/>
            <a:ext cx="48106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Руководитель Гербового отделения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Департамента геральдии Сенат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барон Кёне предложил вернуться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 екатерининскому гербу Костромы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емного его изменив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 этом виде герб просуществова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до 1917 год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0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77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2" dur="770" fill="hold"/>
                                        <p:tgtEl>
                                          <p:spTgt spid="14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4" dur="77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6" dur="77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64" dur="5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77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2" dur="770" fill="hold"/>
                                        <p:tgtEl>
                                          <p:spTgt spid="14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4" dur="77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6" dur="77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9" nodeType="afterEffect" fill="hold" presetClass="emph" presetID="35" repeatCount="2000">
                                  <p:stCondLst>
                                    <p:cond delay="1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0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4" descr="герб"/>
          <p:cNvPicPr/>
          <p:nvPr/>
        </p:nvPicPr>
        <p:blipFill>
          <a:blip r:embed="rId1"/>
          <a:stretch/>
        </p:blipFill>
        <p:spPr>
          <a:xfrm>
            <a:off x="0" y="0"/>
            <a:ext cx="1619280" cy="19051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6" descr="герб"/>
          <p:cNvPicPr/>
          <p:nvPr/>
        </p:nvPicPr>
        <p:blipFill>
          <a:blip r:embed="rId2"/>
          <a:stretch/>
        </p:blipFill>
        <p:spPr>
          <a:xfrm>
            <a:off x="1042920" y="2924280"/>
            <a:ext cx="2857680" cy="2457360"/>
          </a:xfrm>
          <a:prstGeom prst="rect">
            <a:avLst/>
          </a:prstGeom>
          <a:ln w="0">
            <a:noFill/>
          </a:ln>
        </p:spPr>
      </p:pic>
      <p:sp>
        <p:nvSpPr>
          <p:cNvPr id="152" name="Rectangle 9"/>
          <p:cNvSpPr/>
          <p:nvPr/>
        </p:nvSpPr>
        <p:spPr>
          <a:xfrm>
            <a:off x="1535400" y="101880"/>
            <a:ext cx="7723080" cy="173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23 ноября 1995 года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 Думой был принят Первый Закон о гербе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21 января 1999 года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 Костромская областная Дума приняла новый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Закон о гербе области, восстановив губернский герб 1878 года,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лишённый внешних украшений щита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29 января 1999 года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 Глава администрации В.А.Шершунов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утвердил данный Закон (№41)</a:t>
            </a: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Rectangle 10"/>
          <p:cNvSpPr/>
          <p:nvPr/>
        </p:nvSpPr>
        <p:spPr>
          <a:xfrm>
            <a:off x="3924360" y="3065760"/>
            <a:ext cx="5219640" cy="23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Новый герб области введён Законом Костромской области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от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28 апреля 2006 г.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№13-4-ЗКО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"О гербе Костромской области"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(принят Костромской областной Думой 20 апреля 2006 года)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0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9" nodeType="afterEffect" fill="hold" presetClass="entr" presetID="8" presetSubtype="32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91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8" nodeType="afterEffect" fill="hold" presetClass="entr" presetID="8" presetSubtype="32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00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WordArt 468"/>
          <p:cNvSpPr txBox="1"/>
          <p:nvPr/>
        </p:nvSpPr>
        <p:spPr>
          <a:xfrm>
            <a:off x="2268360" y="549360"/>
            <a:ext cx="475308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Герб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55" name="WordArt 469"/>
          <p:cNvSpPr txBox="1"/>
          <p:nvPr/>
        </p:nvSpPr>
        <p:spPr>
          <a:xfrm>
            <a:off x="1116000" y="1844640"/>
            <a:ext cx="7632720" cy="25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Муниципальных районо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Костромской област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156" name="Picture 470" descr="http://images.geraldika.ru/44/kostromskaya_obl_coa.gif"/>
          <p:cNvPicPr/>
          <p:nvPr/>
        </p:nvPicPr>
        <p:blipFill>
          <a:blip r:embed="rId1"/>
          <a:stretch/>
        </p:blipFill>
        <p:spPr>
          <a:xfrm>
            <a:off x="3348000" y="4400640"/>
            <a:ext cx="2857680" cy="2457360"/>
          </a:xfrm>
          <a:prstGeom prst="rect">
            <a:avLst/>
          </a:prstGeom>
          <a:ln w="0">
            <a:noFill/>
          </a:ln>
        </p:spPr>
      </p:pic>
      <p:sp>
        <p:nvSpPr>
          <p:cNvPr id="157" name="AutoShape 472">
            <a:hlinkClick r:id="rId2" action="ppaction://hlinksldjump"/>
          </p:cNvPr>
          <p:cNvSpPr/>
          <p:nvPr/>
        </p:nvSpPr>
        <p:spPr>
          <a:xfrm>
            <a:off x="8172360" y="6021360"/>
            <a:ext cx="649440" cy="647640"/>
          </a:xfrm>
          <a:custGeom>
            <a:avLst/>
            <a:gdLst>
              <a:gd name="textAreaLeft" fmla="*/ 41760 w 649440"/>
              <a:gd name="textAreaRight" fmla="*/ 607680 w 64944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1660" h="21600">
                <a:moveTo>
                  <a:pt x="0" y="0"/>
                </a:moveTo>
                <a:lnTo>
                  <a:pt x="21660" y="0"/>
                </a:lnTo>
                <a:lnTo>
                  <a:pt x="21660" y="21600"/>
                </a:lnTo>
                <a:lnTo>
                  <a:pt x="0" y="21600"/>
                </a:lnTo>
                <a:close/>
              </a:path>
              <a:path fill="lightenLess" w="21660" h="21600">
                <a:moveTo>
                  <a:pt x="0" y="0"/>
                </a:moveTo>
                <a:lnTo>
                  <a:pt x="21660" y="0"/>
                </a:lnTo>
                <a:lnTo>
                  <a:pt x="20260" y="1400"/>
                </a:lnTo>
                <a:lnTo>
                  <a:pt x="1400" y="1400"/>
                </a:lnTo>
                <a:close/>
              </a:path>
              <a:path fill="darken" w="21660" h="21600">
                <a:moveTo>
                  <a:pt x="21660" y="0"/>
                </a:moveTo>
                <a:lnTo>
                  <a:pt x="21660" y="21600"/>
                </a:lnTo>
                <a:lnTo>
                  <a:pt x="20260" y="20200"/>
                </a:lnTo>
                <a:lnTo>
                  <a:pt x="20260" y="1400"/>
                </a:lnTo>
                <a:close/>
              </a:path>
              <a:path fill="darkenLess" w="21660" h="21600">
                <a:moveTo>
                  <a:pt x="216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60" y="20200"/>
                </a:lnTo>
                <a:close/>
              </a:path>
              <a:path fill="lighten" w="216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21660" h="21600">
                <a:moveTo>
                  <a:pt x="5303" y="3985"/>
                </a:moveTo>
                <a:lnTo>
                  <a:pt x="12301" y="3985"/>
                </a:lnTo>
                <a:lnTo>
                  <a:pt x="16357" y="7484"/>
                </a:lnTo>
                <a:lnTo>
                  <a:pt x="16357" y="17615"/>
                </a:lnTo>
                <a:lnTo>
                  <a:pt x="5303" y="17615"/>
                </a:lnTo>
                <a:close/>
              </a:path>
              <a:path fill="darken" w="21660" h="21600">
                <a:moveTo>
                  <a:pt x="12301" y="3985"/>
                </a:moveTo>
                <a:lnTo>
                  <a:pt x="16357" y="7484"/>
                </a:lnTo>
                <a:lnTo>
                  <a:pt x="12301" y="7484"/>
                </a:lnTo>
                <a:close/>
              </a:path>
            </a:pathLst>
          </a:cu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Picture 473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236000" y="6022800"/>
            <a:ext cx="645840" cy="6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0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13" dur="3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4" descr="У Костромской области появится свой флаг"/>
          <p:cNvPicPr/>
          <p:nvPr/>
        </p:nvPicPr>
        <p:blipFill>
          <a:blip r:embed="rId1"/>
          <a:stretch/>
        </p:blipFill>
        <p:spPr>
          <a:xfrm>
            <a:off x="6405480" y="0"/>
            <a:ext cx="2738520" cy="18194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60" name="WordArt 6"/>
          <p:cNvSpPr txBox="1"/>
          <p:nvPr/>
        </p:nvSpPr>
        <p:spPr>
          <a:xfrm>
            <a:off x="971640" y="333360"/>
            <a:ext cx="511308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Флаг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Костромской област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61" name="Text Box 7"/>
          <p:cNvSpPr/>
          <p:nvPr/>
        </p:nvSpPr>
        <p:spPr>
          <a:xfrm>
            <a:off x="883440" y="2492280"/>
            <a:ext cx="80899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Флаг Костромской области почти повторяет флаг РСФСР: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красное полотнище с синей полоской у древк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В центре флага – герб Костромской област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Отношение ширины флага к его длине 2 : 3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Text Box 8"/>
          <p:cNvSpPr/>
          <p:nvPr/>
        </p:nvSpPr>
        <p:spPr>
          <a:xfrm>
            <a:off x="3331080" y="4025880"/>
            <a:ext cx="323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Tahoma"/>
              </a:rPr>
              <a:t>Флаг утверждён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WordArt 9"/>
          <p:cNvSpPr txBox="1"/>
          <p:nvPr/>
        </p:nvSpPr>
        <p:spPr>
          <a:xfrm>
            <a:off x="1547640" y="4869000"/>
            <a:ext cx="619308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19 октября 2000 год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0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25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5T18:24:00Z</dcterms:created>
  <dc:creator>мама</dc:creator>
  <dc:description/>
  <dc:language>en-US</dc:language>
  <cp:lastModifiedBy>пк</cp:lastModifiedBy>
  <dcterms:modified xsi:type="dcterms:W3CDTF">2013-04-06T21:01:35Z</dcterms:modified>
  <cp:revision>29</cp:revision>
  <dc:subject/>
  <dc:title>История геральдики  Костромской области</dc:title>
</cp:coreProperties>
</file>