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8.jpeg" ContentType="image/jpeg"/>
  <Override PartName="/ppt/media/image10.jpeg" ContentType="image/jpeg"/>
  <Override PartName="/ppt/media/image17.wmf" ContentType="image/x-wmf"/>
  <Override PartName="/ppt/media/image16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664F-4451-4AF1-B8A1-6BF3F54732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BCE1-4436-413F-AEA4-7C970E9755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уть ссылку «Герб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96FB-ADA9-49B6-9483-4CBAF4E8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CF00-EC20-40E6-996A-45B088AE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7840-8A23-4B0C-A967-7A91148A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365B-45DA-4070-A3FC-DC780E4F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7A80-D9CC-4917-BC06-4B5A187F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3A2D-1083-435C-B5B6-263713CF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8858-F40D-47DD-91FC-661A484D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88A2-B18A-492E-8ABD-C58347F5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E5F8-B29C-4516-9577-5055353D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EBAD-553F-4B1E-AD01-F039914E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0AEB-45B5-49DB-89FA-67F30A49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B44D-2646-4567-95A3-4F1B5874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B81C-0EED-40C3-A951-F9341AAF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D74B-5EF9-4B8E-9DEE-8B7AEBEC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0E3E-1002-45D6-BB73-CC050525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D689-22B2-4FB7-BC6F-1FB62FD5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709C-BE9B-4D36-8D36-E1FF12CC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7BC-D3B0-41B5-97B3-3CE1A160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1DCD-25B7-452A-A215-88312E80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36C9-17CD-4988-A205-7DF206C8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7DAF-D6F9-4A5A-AA34-3C62A327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0779-6E60-4D0B-8462-D88562D8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D09B-E141-4437-BDE5-34B8B48F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10DD-746B-40D0-9790-7D620FC4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0B6F-508E-4D22-87BB-85A586041D2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B53A-DA45-4680-9D43-47DD0BC1A9E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2636640"/>
            <a:ext cx="7302600" cy="16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стория геральдики 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остромской обла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87280" y="259920"/>
            <a:ext cx="7740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ография Костромской област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593040" y="5229360"/>
            <a:ext cx="26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читель географи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строва Е.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724200" y="616572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. Космыни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опросы 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для закрепл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503320" y="26370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-67680" y="2997360"/>
            <a:ext cx="854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Какие исторические личности влияли 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дьбу костромского герба?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-16200" y="1989000"/>
            <a:ext cx="84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Дата образования Костромской област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5574600" y="39337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348840" y="4365720"/>
            <a:ext cx="84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Когда утвердили флаг Костромской област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5574600" y="5013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217800" y="5516640"/>
            <a:ext cx="89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Что изображено на гербе Нерехтского района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5645880" y="61657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00000" y="333000"/>
            <a:ext cx="82440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то бы вы изменили в символике Костромской области и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очему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4" descr="У Костромской области появится свой флаг"/>
          <p:cNvPicPr/>
          <p:nvPr/>
        </p:nvPicPr>
        <p:blipFill>
          <a:blip r:embed="rId1"/>
          <a:stretch/>
        </p:blipFill>
        <p:spPr>
          <a:xfrm>
            <a:off x="5724360" y="3429000"/>
            <a:ext cx="1905120" cy="1266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75" name="Picture 7" descr="http://images.geraldika.ru/44/kostromskaya_obl_coa.gif"/>
          <p:cNvPicPr/>
          <p:nvPr/>
        </p:nvPicPr>
        <p:blipFill>
          <a:blip r:embed="rId2"/>
          <a:stretch/>
        </p:blipFill>
        <p:spPr>
          <a:xfrm>
            <a:off x="2556000" y="2997360"/>
            <a:ext cx="2303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1912680" y="260280"/>
            <a:ext cx="588960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ата образов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остромской обла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13 августа 1944 г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7438320" y="618480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1619280" y="765000"/>
            <a:ext cx="2592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катерина I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1692360" y="2133720"/>
            <a:ext cx="237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авел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" name="WordArt 6"/>
          <p:cNvSpPr txBox="1"/>
          <p:nvPr/>
        </p:nvSpPr>
        <p:spPr>
          <a:xfrm>
            <a:off x="1692360" y="2924280"/>
            <a:ext cx="230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иколай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1" name="WordArt 7"/>
          <p:cNvSpPr txBox="1"/>
          <p:nvPr/>
        </p:nvSpPr>
        <p:spPr>
          <a:xfrm>
            <a:off x="1692360" y="3860640"/>
            <a:ext cx="216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.Б.Кё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2" name="WordArt 8"/>
          <p:cNvSpPr txBox="1"/>
          <p:nvPr/>
        </p:nvSpPr>
        <p:spPr>
          <a:xfrm>
            <a:off x="1692360" y="4869000"/>
            <a:ext cx="3024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.А.Шершу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7817760" y="609300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1547640" y="2781360"/>
            <a:ext cx="6193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9 октября 2000 г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7890840" y="61657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герб муниципального района город Нерехта и Нерехтский район"/>
          <p:cNvPicPr/>
          <p:nvPr/>
        </p:nvPicPr>
        <p:blipFill>
          <a:blip r:embed="rId1"/>
          <a:stretch/>
        </p:blipFill>
        <p:spPr>
          <a:xfrm>
            <a:off x="3419640" y="2205000"/>
            <a:ext cx="2571480" cy="3206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7890840" y="61657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-4680" y="1440"/>
            <a:ext cx="9286920" cy="5581800"/>
          </a:xfrm>
          <a:prstGeom prst="rect">
            <a:avLst/>
          </a:prstGeom>
          <a:ln w="0">
            <a:noFill/>
          </a:ln>
        </p:spPr>
      </p:pic>
      <p:sp>
        <p:nvSpPr>
          <p:cNvPr id="190" name="Выгнутая вправо стрелка 2"/>
          <p:cNvSpPr/>
          <p:nvPr/>
        </p:nvSpPr>
        <p:spPr>
          <a:xfrm>
            <a:off x="7885080" y="5686560"/>
            <a:ext cx="844560" cy="911160"/>
          </a:xfrm>
          <a:custGeom>
            <a:avLst/>
            <a:gdLst>
              <a:gd name="textAreaLeft" fmla="*/ 113040 w 844560"/>
              <a:gd name="textAreaRight" fmla="*/ 731520 w 844560"/>
              <a:gd name="textAreaTop" fmla="*/ 148320 h 911160"/>
              <a:gd name="textAreaBottom" fmla="*/ 657000 h 91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041" stAng="-5400000" swAng="5400000"/>
                <a:lnTo>
                  <a:pt x="21600" y="12053"/>
                </a:lnTo>
                <a:arcTo wR="21600" hR="7041" stAng="0" swAng="3096941"/>
                <a:lnTo>
                  <a:pt x="5400" y="21376"/>
                </a:lnTo>
                <a:lnTo>
                  <a:pt x="0" y="16587"/>
                </a:lnTo>
                <a:lnTo>
                  <a:pt x="5400" y="11350"/>
                </a:lnTo>
                <a:lnTo>
                  <a:pt x="5400" y="13857"/>
                </a:lnTo>
                <a:arcTo wR="21600" hR="7041" stAng="3096941" swAng="-2672320"/>
                <a:lnTo>
                  <a:pt x="20185" y="9547"/>
                </a:lnTo>
                <a:arcTo wR="21600" hR="7041" stAng="-424621" swAng="-4975379"/>
                <a:close/>
              </a:path>
              <a:path fill="darkenLess" w="21600" h="21600">
                <a:moveTo>
                  <a:pt x="0" y="0"/>
                </a:moveTo>
                <a:arcTo wR="21600" hR="7041" stAng="-5400000" swAng="5400000"/>
                <a:lnTo>
                  <a:pt x="21600" y="12053"/>
                </a:lnTo>
                <a:arcTo wR="21600" hR="7041" stAng="0" swAng="-424621"/>
                <a:lnTo>
                  <a:pt x="20185" y="9547"/>
                </a:lnTo>
                <a:arcTo wR="21600" hR="7041" stAng="-424621" swAng="-4975379"/>
                <a:close/>
              </a:path>
            </a:pathLst>
          </a:custGeom>
          <a:solidFill>
            <a:srgbClr val="fff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-73080" y="655560"/>
            <a:ext cx="9290160" cy="5545080"/>
          </a:xfrm>
          <a:prstGeom prst="rect">
            <a:avLst/>
          </a:prstGeom>
          <a:ln w="0">
            <a:noFill/>
          </a:ln>
        </p:spPr>
      </p:pic>
      <p:sp>
        <p:nvSpPr>
          <p:cNvPr id="193" name="Выгнутая вправо стрелка 3"/>
          <p:cNvSpPr/>
          <p:nvPr/>
        </p:nvSpPr>
        <p:spPr>
          <a:xfrm>
            <a:off x="7885080" y="5686560"/>
            <a:ext cx="844560" cy="911160"/>
          </a:xfrm>
          <a:custGeom>
            <a:avLst/>
            <a:gdLst>
              <a:gd name="textAreaLeft" fmla="*/ 113040 w 844560"/>
              <a:gd name="textAreaRight" fmla="*/ 731520 w 844560"/>
              <a:gd name="textAreaTop" fmla="*/ 148320 h 911160"/>
              <a:gd name="textAreaBottom" fmla="*/ 657000 h 91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041" stAng="-5400000" swAng="5400000"/>
                <a:lnTo>
                  <a:pt x="21600" y="12053"/>
                </a:lnTo>
                <a:arcTo wR="21600" hR="7041" stAng="0" swAng="3096941"/>
                <a:lnTo>
                  <a:pt x="5400" y="21376"/>
                </a:lnTo>
                <a:lnTo>
                  <a:pt x="0" y="16587"/>
                </a:lnTo>
                <a:lnTo>
                  <a:pt x="5400" y="11350"/>
                </a:lnTo>
                <a:lnTo>
                  <a:pt x="5400" y="13857"/>
                </a:lnTo>
                <a:arcTo wR="21600" hR="7041" stAng="3096941" swAng="-2672320"/>
                <a:lnTo>
                  <a:pt x="20185" y="9547"/>
                </a:lnTo>
                <a:arcTo wR="21600" hR="7041" stAng="-424621" swAng="-4975379"/>
                <a:close/>
              </a:path>
              <a:path fill="darkenLess" w="21600" h="21600">
                <a:moveTo>
                  <a:pt x="0" y="0"/>
                </a:moveTo>
                <a:arcTo wR="21600" hR="7041" stAng="-5400000" swAng="5400000"/>
                <a:lnTo>
                  <a:pt x="21600" y="12053"/>
                </a:lnTo>
                <a:arcTo wR="21600" hR="7041" stAng="0" swAng="-424621"/>
                <a:lnTo>
                  <a:pt x="20185" y="9547"/>
                </a:lnTo>
                <a:arcTo wR="21600" hR="7041" stAng="-424621" swAng="-4975379"/>
                <a:close/>
              </a:path>
            </a:pathLst>
          </a:custGeom>
          <a:solidFill>
            <a:srgbClr val="fff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RussiaKostroma2007-07[1]"/>
          <p:cNvPicPr/>
          <p:nvPr/>
        </p:nvPicPr>
        <p:blipFill>
          <a:blip r:embed="rId1"/>
          <a:stretch/>
        </p:blipFill>
        <p:spPr>
          <a:xfrm>
            <a:off x="971640" y="0"/>
            <a:ext cx="2952720" cy="1752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1" name="Picture 9" descr="У Костромской области появится свой флаг"/>
          <p:cNvPicPr/>
          <p:nvPr/>
        </p:nvPicPr>
        <p:blipFill>
          <a:blip r:embed="rId2"/>
          <a:stretch/>
        </p:blipFill>
        <p:spPr>
          <a:xfrm>
            <a:off x="5724360" y="5157720"/>
            <a:ext cx="1905120" cy="1266840"/>
          </a:xfrm>
          <a:prstGeom prst="rect">
            <a:avLst/>
          </a:prstGeom>
          <a:ln w="0">
            <a:noFill/>
          </a:ln>
        </p:spPr>
      </p:pic>
      <p:sp>
        <p:nvSpPr>
          <p:cNvPr id="122" name="WordArt 7"/>
          <p:cNvSpPr txBox="1"/>
          <p:nvPr/>
        </p:nvSpPr>
        <p:spPr>
          <a:xfrm>
            <a:off x="4427640" y="549360"/>
            <a:ext cx="434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стромская обла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900000" y="2492280"/>
            <a:ext cx="790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та образования: 13 августа 1944 г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личество жителей: 697,0 тыс. человек (на 1 января 2008 г.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тр: г. Кострома (основан в 1152 г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униципальных районов: 24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12" descr="http://images.geraldika.ru/44/kostromskaya_obl_coa.gif"/>
          <p:cNvPicPr/>
          <p:nvPr/>
        </p:nvPicPr>
        <p:blipFill>
          <a:blip r:embed="rId3"/>
          <a:stretch/>
        </p:blipFill>
        <p:spPr>
          <a:xfrm>
            <a:off x="1619280" y="4581360"/>
            <a:ext cx="2303280" cy="19814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5"/>
          <p:cNvSpPr/>
          <p:nvPr/>
        </p:nvSpPr>
        <p:spPr>
          <a:xfrm>
            <a:off x="2700360" y="907920"/>
            <a:ext cx="1440000" cy="289080"/>
          </a:xfrm>
          <a:prstGeom prst="leftArrow">
            <a:avLst>
              <a:gd name="adj1" fmla="val 50000"/>
              <a:gd name="adj2" fmla="val 124533"/>
            </a:avLst>
          </a:prstGeom>
          <a:solidFill>
            <a:srgbClr val="66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31 -4.79769E-006 L -0.13386 -4.79769E-006 E">
                                      <p:cBhvr>
                                        <p:cTn id="1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animClr clrSpc="rgb">
                                      <p:cBhvr>
                                        <p:cTn id="20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set>
                                      <p:cBhvr>
                                        <p:cTn id="21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8422d8b3c4a5[1]"/>
          <p:cNvPicPr/>
          <p:nvPr/>
        </p:nvPicPr>
        <p:blipFill>
          <a:blip r:embed="rId1"/>
          <a:stretch/>
        </p:blipFill>
        <p:spPr>
          <a:xfrm>
            <a:off x="1042920" y="1989000"/>
            <a:ext cx="3200400" cy="4086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7" name="Picture 13" descr="00004180[1]"/>
          <p:cNvPicPr/>
          <p:nvPr/>
        </p:nvPicPr>
        <p:blipFill>
          <a:blip r:embed="rId2"/>
          <a:stretch/>
        </p:blipFill>
        <p:spPr>
          <a:xfrm>
            <a:off x="0" y="4724280"/>
            <a:ext cx="2268360" cy="1683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8" name="WordArt 7"/>
          <p:cNvSpPr txBox="1"/>
          <p:nvPr/>
        </p:nvSpPr>
        <p:spPr>
          <a:xfrm>
            <a:off x="2771640" y="404640"/>
            <a:ext cx="360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767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2411280" y="6237360"/>
            <a:ext cx="185292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катерина I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14800" y="2133720"/>
            <a:ext cx="5161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сной – летом 1767г. императриц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39 лет) путешествует по волжски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родам в сопровождении больш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и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катерин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лыла на больш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алере «Тверь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4 мая 1767 года флотилия кораб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плыла к городу Костром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гостям был оказан пышный приё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честь этого события Екатериной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л официально утверждён герб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стромы, на котором изобрази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алеру, на которой плавала цариц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WordArt 16"/>
          <p:cNvSpPr txBox="1"/>
          <p:nvPr/>
        </p:nvSpPr>
        <p:spPr>
          <a:xfrm>
            <a:off x="179280" y="4869000"/>
            <a:ext cx="1728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алера "Тверь"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32" name="Picture 17" descr="http://images.geraldika.ru/44/kost_g.gif"/>
          <p:cNvPicPr/>
          <p:nvPr/>
        </p:nvPicPr>
        <p:blipFill>
          <a:blip r:embed="rId3"/>
          <a:stretch/>
        </p:blipFill>
        <p:spPr>
          <a:xfrm>
            <a:off x="7596360" y="189000"/>
            <a:ext cx="12920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3203640" y="404640"/>
            <a:ext cx="3529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796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34" name="Picture 5" descr="408px-Borovikovsky_Pavel_I[1]"/>
          <p:cNvPicPr/>
          <p:nvPr/>
        </p:nvPicPr>
        <p:blipFill>
          <a:blip r:embed="rId1"/>
          <a:stretch/>
        </p:blipFill>
        <p:spPr>
          <a:xfrm>
            <a:off x="1042920" y="1989000"/>
            <a:ext cx="2892600" cy="424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5" name="WordArt 7"/>
          <p:cNvSpPr txBox="1"/>
          <p:nvPr/>
        </p:nvSpPr>
        <p:spPr>
          <a:xfrm>
            <a:off x="1619280" y="6381720"/>
            <a:ext cx="18525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авел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888720" y="2060640"/>
            <a:ext cx="535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онце 1796 г. Павел 1 решил измени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рб Костромской губерн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845880" y="5013360"/>
            <a:ext cx="54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мволика и происхождение этого герб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известна, но герб просуществова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коло 80 л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10" descr="http://heraldry.hobby.ru/k/kostrom2.jpg"/>
          <p:cNvPicPr/>
          <p:nvPr/>
        </p:nvPicPr>
        <p:blipFill>
          <a:blip r:embed="rId2"/>
          <a:stretch/>
        </p:blipFill>
        <p:spPr>
          <a:xfrm>
            <a:off x="5580000" y="3068640"/>
            <a:ext cx="1542960" cy="1697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85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385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38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38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3132000" y="404640"/>
            <a:ext cx="3384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834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0" name="Picture 5" descr="0_20b31_6d4076e5_XL[1]"/>
          <p:cNvPicPr/>
          <p:nvPr/>
        </p:nvPicPr>
        <p:blipFill>
          <a:blip r:embed="rId1"/>
          <a:stretch/>
        </p:blipFill>
        <p:spPr>
          <a:xfrm>
            <a:off x="1042920" y="1989000"/>
            <a:ext cx="3251160" cy="424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1" name="WordArt 7"/>
          <p:cNvSpPr txBox="1"/>
          <p:nvPr/>
        </p:nvSpPr>
        <p:spPr>
          <a:xfrm>
            <a:off x="1979640" y="630864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иколай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40856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9" descr="http://heraldry.hobby.ru/k/kostrom2.jpg"/>
          <p:cNvPicPr/>
          <p:nvPr/>
        </p:nvPicPr>
        <p:blipFill>
          <a:blip r:embed="rId2"/>
          <a:stretch/>
        </p:blipFill>
        <p:spPr>
          <a:xfrm>
            <a:off x="7667640" y="260280"/>
            <a:ext cx="1177920" cy="129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4" name="Text Box 12"/>
          <p:cNvSpPr/>
          <p:nvPr/>
        </p:nvSpPr>
        <p:spPr>
          <a:xfrm>
            <a:off x="4290840" y="2637000"/>
            <a:ext cx="4966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вловсий герб был подтверждё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казом Николая 1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 28 ноября 1834 г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енно этот герб был изображё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знамёнах четырёх пол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стромских ополченцев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нных во время войны 1812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2843280" y="404640"/>
            <a:ext cx="3457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878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6" name="Picture 5" descr="940330304[1]"/>
          <p:cNvPicPr/>
          <p:nvPr/>
        </p:nvPicPr>
        <p:blipFill>
          <a:blip r:embed="rId1"/>
          <a:stretch/>
        </p:blipFill>
        <p:spPr>
          <a:xfrm>
            <a:off x="1042920" y="1989000"/>
            <a:ext cx="3351240" cy="424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7" name="Picture 7" descr="http://images.geraldika.ru/44/g602_kostroma_gub.gif"/>
          <p:cNvPicPr/>
          <p:nvPr/>
        </p:nvPicPr>
        <p:blipFill>
          <a:blip r:embed="rId2"/>
          <a:stretch/>
        </p:blipFill>
        <p:spPr>
          <a:xfrm>
            <a:off x="7451640" y="0"/>
            <a:ext cx="1471680" cy="1700280"/>
          </a:xfrm>
          <a:prstGeom prst="rect">
            <a:avLst/>
          </a:prstGeom>
          <a:ln w="0">
            <a:noFill/>
          </a:ln>
        </p:spPr>
      </p:pic>
      <p:sp>
        <p:nvSpPr>
          <p:cNvPr id="148" name="WordArt 10"/>
          <p:cNvSpPr txBox="1"/>
          <p:nvPr/>
        </p:nvSpPr>
        <p:spPr>
          <a:xfrm>
            <a:off x="1908000" y="6308640"/>
            <a:ext cx="16480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.Б.Кё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4466160" y="2997360"/>
            <a:ext cx="4810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ководитель Гербового отдел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партамента геральдии Сена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арон Кёне предложил вернуть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 екатерининскому гербу Костром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много его измени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этом виде герб просуществова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 1917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4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mph" presetID="35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герб"/>
          <p:cNvPicPr/>
          <p:nvPr/>
        </p:nvPicPr>
        <p:blipFill>
          <a:blip r:embed="rId1"/>
          <a:stretch/>
        </p:blipFill>
        <p:spPr>
          <a:xfrm>
            <a:off x="0" y="0"/>
            <a:ext cx="1619280" cy="190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герб"/>
          <p:cNvPicPr/>
          <p:nvPr/>
        </p:nvPicPr>
        <p:blipFill>
          <a:blip r:embed="rId2"/>
          <a:stretch/>
        </p:blipFill>
        <p:spPr>
          <a:xfrm>
            <a:off x="1042920" y="2924280"/>
            <a:ext cx="2857680" cy="2457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9"/>
          <p:cNvSpPr/>
          <p:nvPr/>
        </p:nvSpPr>
        <p:spPr>
          <a:xfrm>
            <a:off x="1535400" y="101880"/>
            <a:ext cx="77230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3 ноября 1995 года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Думой был принят Первый Закон о герб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1 января 1999 года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Костромская областная Дума приняла новы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акон о гербе области, восстановив губернский герб 1878 года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лишённый внешних украшений щит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9 января 1999 года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Глава администрации В.А.Шершуно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утвердил данный Закон (№41)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924360" y="3065760"/>
            <a:ext cx="521964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овый герб области введён Законом Костромской обла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т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8 апреля 2006 г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№13-4-ЗК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"О гербе Костромской области"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принят Костромской областной Думой 20 апреля 2006 года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8" presetSubtype="3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8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68"/>
          <p:cNvSpPr txBox="1"/>
          <p:nvPr/>
        </p:nvSpPr>
        <p:spPr>
          <a:xfrm>
            <a:off x="2268360" y="549360"/>
            <a:ext cx="475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ер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5" name="WordArt 469"/>
          <p:cNvSpPr txBox="1"/>
          <p:nvPr/>
        </p:nvSpPr>
        <p:spPr>
          <a:xfrm>
            <a:off x="1116000" y="1844640"/>
            <a:ext cx="763272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униципальных райо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стромской обла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6" name="Picture 470" descr="http://images.geraldika.ru/44/kostromskaya_obl_coa.gif"/>
          <p:cNvPicPr/>
          <p:nvPr/>
        </p:nvPicPr>
        <p:blipFill>
          <a:blip r:embed="rId1"/>
          <a:stretch/>
        </p:blipFill>
        <p:spPr>
          <a:xfrm>
            <a:off x="3348000" y="4400640"/>
            <a:ext cx="2857680" cy="2457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472">
            <a:hlinkClick r:id="rId2" action="ppaction://hlinksldjump"/>
          </p:cNvPr>
          <p:cNvSpPr/>
          <p:nvPr/>
        </p:nvSpPr>
        <p:spPr>
          <a:xfrm>
            <a:off x="817236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60" h="21600">
                <a:moveTo>
                  <a:pt x="5303" y="3985"/>
                </a:moveTo>
                <a:lnTo>
                  <a:pt x="12301" y="3985"/>
                </a:lnTo>
                <a:lnTo>
                  <a:pt x="16357" y="7484"/>
                </a:lnTo>
                <a:lnTo>
                  <a:pt x="16357" y="17615"/>
                </a:lnTo>
                <a:lnTo>
                  <a:pt x="5303" y="17615"/>
                </a:lnTo>
                <a:close/>
              </a:path>
              <a:path fill="darken" w="21660" h="21600">
                <a:moveTo>
                  <a:pt x="12301" y="3985"/>
                </a:moveTo>
                <a:lnTo>
                  <a:pt x="16357" y="7484"/>
                </a:lnTo>
                <a:lnTo>
                  <a:pt x="12301" y="7484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47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36000" y="6022800"/>
            <a:ext cx="6458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3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У Костромской области появится свой флаг"/>
          <p:cNvPicPr/>
          <p:nvPr/>
        </p:nvPicPr>
        <p:blipFill>
          <a:blip r:embed="rId1"/>
          <a:stretch/>
        </p:blipFill>
        <p:spPr>
          <a:xfrm>
            <a:off x="6405480" y="0"/>
            <a:ext cx="2738520" cy="1819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0" name="WordArt 6"/>
          <p:cNvSpPr txBox="1"/>
          <p:nvPr/>
        </p:nvSpPr>
        <p:spPr>
          <a:xfrm>
            <a:off x="971640" y="333360"/>
            <a:ext cx="511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лаг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стромской обла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83440" y="2492280"/>
            <a:ext cx="8089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Флаг Костромской области почти повторяет флаг РСФСР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асное полотнище с синей полоской у древ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центре флага – герб Костромской об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тношение ширины флага к его длине 2 :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331080" y="4025880"/>
            <a:ext cx="32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Флаг утверждё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WordArt 9"/>
          <p:cNvSpPr txBox="1"/>
          <p:nvPr/>
        </p:nvSpPr>
        <p:spPr>
          <a:xfrm>
            <a:off x="1547640" y="4869000"/>
            <a:ext cx="6193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9 октября 2000 г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8:24:00Z</dcterms:created>
  <dc:creator>мама</dc:creator>
  <dc:description/>
  <dc:language>en-US</dc:language>
  <cp:lastModifiedBy>пк</cp:lastModifiedBy>
  <dcterms:modified xsi:type="dcterms:W3CDTF">2013-04-06T21:01:35Z</dcterms:modified>
  <cp:revision>29</cp:revision>
  <dc:subject/>
  <dc:title>История геральдики  Костромской области</dc:title>
</cp:coreProperties>
</file>