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1BD-DE54-479C-856B-368A5E12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3EF-DB1F-4B36-A235-7E4BF814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913-6393-4E82-9693-07D3103A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1E8-8D7C-4A2B-974E-70E67DB5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09E-F52F-4668-A471-1D276D88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CDD-6603-485B-8A35-FE9030B5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0DC-4046-40A6-85B0-B54ABC27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A15-B333-4AE4-947C-31B64A9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9D3-E710-4593-AE70-A1FD9858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772-7CCE-43F2-AE2B-44A28AE2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EDF-67C1-4E8B-AD06-6CE6620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762-F36D-40C2-8CF9-B0286DA7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2909-F00F-447D-967F-432C8079C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lubkontakt.net/publ/6-1-0-456" TargetMode="External"/><Relationship Id="rId2" Type="http://schemas.openxmlformats.org/officeDocument/2006/relationships/hyperlink" Target="http://www.klubkontakt.net/publ/6-1-0-456" TargetMode="External"/><Relationship Id="rId3" Type="http://schemas.openxmlformats.org/officeDocument/2006/relationships/hyperlink" Target="http://www.klubkontakt.net/publ/6-1-0-456" TargetMode="External"/><Relationship Id="rId4" Type="http://schemas.openxmlformats.org/officeDocument/2006/relationships/hyperlink" Target="http://www.klubkontakt.net/publ/6-1-0-456" TargetMode="External"/><Relationship Id="rId5" Type="http://schemas.openxmlformats.org/officeDocument/2006/relationships/hyperlink" Target="http://www.klubkontakt.net/publ/6-1-0-456" TargetMode="External"/><Relationship Id="rId6" Type="http://schemas.openxmlformats.org/officeDocument/2006/relationships/hyperlink" Target="http://www.klubkontakt.net/publ/6-1-0-456" TargetMode="External"/><Relationship Id="rId7" Type="http://schemas.openxmlformats.org/officeDocument/2006/relationships/hyperlink" Target="http://club-igc.narod.ru/pent.html" TargetMode="External"/><Relationship Id="rId8" Type="http://schemas.openxmlformats.org/officeDocument/2006/relationships/hyperlink" Target="http://club-igc.narod.ru/pent.html" TargetMode="External"/><Relationship Id="rId9" Type="http://schemas.openxmlformats.org/officeDocument/2006/relationships/hyperlink" Target="http://club-igc.narod.ru/pent.html" TargetMode="External"/><Relationship Id="rId10" Type="http://schemas.openxmlformats.org/officeDocument/2006/relationships/hyperlink" Target="http://club-igc.narod.ru/pent.html" TargetMode="External"/><Relationship Id="rId11" Type="http://schemas.openxmlformats.org/officeDocument/2006/relationships/hyperlink" Target="http://club-igc.narod.ru/pent.html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71760" y="2071800"/>
            <a:ext cx="6400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58ed5"/>
                </a:solidFill>
                <a:latin typeface="Calibri"/>
              </a:rPr>
              <a:t>«Пентагон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авильный пятиугольник 3"/>
          <p:cNvSpPr/>
          <p:nvPr/>
        </p:nvSpPr>
        <p:spPr>
          <a:xfrm>
            <a:off x="3000240" y="3143160"/>
            <a:ext cx="3500640" cy="271476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талий Валентинович Биа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бианки.jpeg"/>
          <p:cNvPicPr/>
          <p:nvPr/>
        </p:nvPicPr>
        <p:blipFill>
          <a:blip r:embed="rId1"/>
          <a:stretch/>
        </p:blipFill>
        <p:spPr>
          <a:xfrm>
            <a:off x="357120" y="2000160"/>
            <a:ext cx="3052800" cy="3948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3643200" y="1735200"/>
            <a:ext cx="507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чему ни начнешь прислушиваться - за самым обыкновенным, даже скучным, на первый взгляд, явлением скрываются удивительные вещи. Начнешь разбираться, а там – полно неизвестного: темные дебри маленьких и больших тайн. Весь огромный мир вокруг меня полон неизведанных тайн. И я буду открывать их всю жизнь, потому что это самое интересное и увлекательное занятие в мире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работы в коман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людаем дисципли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е мнение высказывает каждый игрок коман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ое мнение доказыва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сли не согласен с мнением другого, предложи свой вариант от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5" descr="1603 004.JPG"/>
          <p:cNvPicPr/>
          <p:nvPr/>
        </p:nvPicPr>
        <p:blipFill>
          <a:blip r:embed="rId1"/>
          <a:stretch/>
        </p:blipFill>
        <p:spPr>
          <a:xfrm>
            <a:off x="2643120" y="500040"/>
            <a:ext cx="4248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подснежник.jpeg"/>
          <p:cNvPicPr/>
          <p:nvPr/>
        </p:nvPicPr>
        <p:blipFill>
          <a:blip r:embed="rId1"/>
          <a:stretch/>
        </p:blipFill>
        <p:spPr>
          <a:xfrm>
            <a:off x="1071720" y="642960"/>
            <a:ext cx="7332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3" descr="радуга.jpeg"/>
          <p:cNvPicPr/>
          <p:nvPr/>
        </p:nvPicPr>
        <p:blipFill>
          <a:blip r:embed="rId1"/>
          <a:stretch/>
        </p:blipFill>
        <p:spPr>
          <a:xfrm>
            <a:off x="2571840" y="428760"/>
            <a:ext cx="414324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солнце.jpeg"/>
          <p:cNvPicPr/>
          <p:nvPr/>
        </p:nvPicPr>
        <p:blipFill>
          <a:blip r:embed="rId1"/>
          <a:srcRect l="4816" t="0" r="2437" b="0"/>
          <a:stretch/>
        </p:blipFill>
        <p:spPr>
          <a:xfrm>
            <a:off x="1857240" y="1600200"/>
            <a:ext cx="557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229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колай Михайлович Карамзин писал: 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“Общение с книгой подготавливает нас к общению с людьми. И то и другое одинаково нам необходимо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бова О. В., Красносельских А. В.. Сценарий интеллектуальной игры для учащихся 2–4-х классов "Пентагон". Режим доступа: http://festival.1september.ru/articles/580497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 Пентагон. Режим доступа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klubkontakt.net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ubl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6-1-0-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нтагон. Правила игры. Режим доступа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club-igc.narod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ent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1-31T03:57:48Z</dcterms:modified>
  <cp:revision>7</cp:revision>
  <dc:subject/>
  <dc:title>Игра</dc:title>
</cp:coreProperties>
</file>