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FC6-3048-4CC1-94FD-1A4BA557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1BC-99BF-4FD2-AA3B-3C271EB3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B1C-9B2B-43DD-869F-7AA045D1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C5B-2E90-4FD2-83C2-78DE7683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337-C1B4-4C6D-8DAD-21ECBBB1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95A-5ED1-4B54-907E-AB9C7104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F54-CFA8-4D8E-80F0-B0F57D4D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1CE-1697-4917-BFA3-40E97633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714-3D8C-473B-871F-F2BE6EBF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831-19AC-4E41-91E5-C05173EF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CDD-602E-4893-99BB-E80745CE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AEC-0C4D-4122-9276-06CECE16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DD97-BD58-48E0-9576-151D8435E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lubkontakt.net/publ/6-1-0-456" TargetMode="External"/><Relationship Id="rId2" Type="http://schemas.openxmlformats.org/officeDocument/2006/relationships/hyperlink" Target="http://www.klubkontakt.net/publ/6-1-0-456" TargetMode="External"/><Relationship Id="rId3" Type="http://schemas.openxmlformats.org/officeDocument/2006/relationships/hyperlink" Target="http://www.klubkontakt.net/publ/6-1-0-456" TargetMode="External"/><Relationship Id="rId4" Type="http://schemas.openxmlformats.org/officeDocument/2006/relationships/hyperlink" Target="http://www.klubkontakt.net/publ/6-1-0-456" TargetMode="External"/><Relationship Id="rId5" Type="http://schemas.openxmlformats.org/officeDocument/2006/relationships/hyperlink" Target="http://www.klubkontakt.net/publ/6-1-0-456" TargetMode="External"/><Relationship Id="rId6" Type="http://schemas.openxmlformats.org/officeDocument/2006/relationships/hyperlink" Target="http://www.klubkontakt.net/publ/6-1-0-456" TargetMode="External"/><Relationship Id="rId7" Type="http://schemas.openxmlformats.org/officeDocument/2006/relationships/hyperlink" Target="http://club-igc.narod.ru/pent.html" TargetMode="External"/><Relationship Id="rId8" Type="http://schemas.openxmlformats.org/officeDocument/2006/relationships/hyperlink" Target="http://club-igc.narod.ru/pent.html" TargetMode="External"/><Relationship Id="rId9" Type="http://schemas.openxmlformats.org/officeDocument/2006/relationships/hyperlink" Target="http://club-igc.narod.ru/pent.html" TargetMode="External"/><Relationship Id="rId10" Type="http://schemas.openxmlformats.org/officeDocument/2006/relationships/hyperlink" Target="http://club-igc.narod.ru/pent.html" TargetMode="External"/><Relationship Id="rId11" Type="http://schemas.openxmlformats.org/officeDocument/2006/relationships/hyperlink" Target="http://club-igc.narod.ru/pent.html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64008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58ed5"/>
                </a:solidFill>
                <a:latin typeface="Calibri"/>
              </a:rPr>
              <a:t>«Пентагон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авильный пятиугольник 3"/>
          <p:cNvSpPr/>
          <p:nvPr/>
        </p:nvSpPr>
        <p:spPr>
          <a:xfrm>
            <a:off x="3000240" y="3143160"/>
            <a:ext cx="3500640" cy="271476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италий Валентинович Биа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бианки.jpeg"/>
          <p:cNvPicPr/>
          <p:nvPr/>
        </p:nvPicPr>
        <p:blipFill>
          <a:blip r:embed="rId1"/>
          <a:stretch/>
        </p:blipFill>
        <p:spPr>
          <a:xfrm>
            <a:off x="357120" y="2000160"/>
            <a:ext cx="3052800" cy="3948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3643200" y="1735200"/>
            <a:ext cx="507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чему ни начнешь прислушиваться - за самым обыкновенным, даже скучным, на первый взгляд, явлением скрываются удивительные вещи. Начнешь разбираться, а там – полно неизвестного: темные дебри маленьких и больших тайн. Весь огромный мир вокруг меня полон неизведанных тайн. И я буду открывать их всю жизнь, потому что это самое интересное и увлекательное занятие в мире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авила работы в коман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людаем дисципл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е мнение высказывает каждый игрок коман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е мнение доказыва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не согласен с мнением другого, предложи свой вариант от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5" descr="1603 004.JPG"/>
          <p:cNvPicPr/>
          <p:nvPr/>
        </p:nvPicPr>
        <p:blipFill>
          <a:blip r:embed="rId1"/>
          <a:stretch/>
        </p:blipFill>
        <p:spPr>
          <a:xfrm>
            <a:off x="2643120" y="500040"/>
            <a:ext cx="4248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подснежник.jpeg"/>
          <p:cNvPicPr/>
          <p:nvPr/>
        </p:nvPicPr>
        <p:blipFill>
          <a:blip r:embed="rId1"/>
          <a:stretch/>
        </p:blipFill>
        <p:spPr>
          <a:xfrm>
            <a:off x="1071720" y="642960"/>
            <a:ext cx="7332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радуга.jpeg"/>
          <p:cNvPicPr/>
          <p:nvPr/>
        </p:nvPicPr>
        <p:blipFill>
          <a:blip r:embed="rId1"/>
          <a:stretch/>
        </p:blipFill>
        <p:spPr>
          <a:xfrm>
            <a:off x="2571840" y="428760"/>
            <a:ext cx="414324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солнце.jpeg"/>
          <p:cNvPicPr/>
          <p:nvPr/>
        </p:nvPicPr>
        <p:blipFill>
          <a:blip r:embed="rId1"/>
          <a:srcRect l="4816" t="0" r="2437" b="0"/>
          <a:stretch/>
        </p:blipFill>
        <p:spPr>
          <a:xfrm>
            <a:off x="1857240" y="1600200"/>
            <a:ext cx="557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99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колай Михайлович Карамзин писал: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“Общение с книгой подготавливает нас к общению с людьми. И то и другое одинаково нам необходимо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бова О. В., Красносельских А. В.. Сценарий интеллектуальной игры для учащихся 2–4-х классов "Пентагон". Режим доступа: http://festival.1september.ru/articles/580497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 Пентагон. Режим доступа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klubkontakt.net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ubl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/6-1-0-4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нтагон. Правила игры. Режим доступа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club-igc.narod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pent.ht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2-01-31T03:57:48Z</dcterms:modified>
  <cp:revision>7</cp:revision>
  <dc:subject/>
  <dc:title>Игра</dc:title>
</cp:coreProperties>
</file>