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1390-96CF-4329-A8EF-D27D098D6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8E88-C7A4-480A-9465-91F2712F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7EA0-31F2-4E44-8169-CC6365DFE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3967-EBAB-4039-8434-604C6C03A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5C20-42DC-4CF3-9195-CA74D523B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F479-55C0-4D30-85F5-8820C380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6A34-81F7-4227-AB2A-02C17675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77EE-120F-446E-B07C-B81262A6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9D93-A6AD-4E81-B426-F9DFE4DE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2D2E-7044-4441-A375-17563D1D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E6C1-268B-463E-A936-707181F5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03AF-FC50-4590-A6AD-F6D5F25E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95F0-EE1E-4C55-A66D-5487C7B2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6C33-44EB-43A1-8D15-B8316A38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ED4B-E004-4CD8-B176-9533E105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6015-E89E-47A8-B766-B87C4DF5A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55ED-61B0-4271-BCFE-63A1AD13E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D56D-6CDA-49FF-B628-B655AFF3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6F66-FC78-46F9-A3D7-E56C4475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733D-E9AD-4E72-957E-BB78A031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EC60-B721-4932-BA54-BB838D85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E98C-9C45-4416-8355-97BAA021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01AC-F3D8-4207-A962-8CC56D3F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F458-D72D-4DFF-BE49-A93BFB98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7CF5-100C-4342-80DA-24B96E202D8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0E28-A051-4261-897E-7777E9C9D01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684360" y="2276640"/>
            <a:ext cx="8172360" cy="95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илологическая разминка</a:t>
            </a:r>
            <a:endParaRPr b="0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9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Найдите четвертое лишнее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  стульчи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 диванч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 огурч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 разговорч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2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10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Назовите слово, образованное только с помощью приставки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пригор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иссуш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говорчив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2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11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Найдите существительное мужского рода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авеню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паль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депо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маэстр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2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12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С какой частью речи не употребляются предлоги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глагол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существитель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числительное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местоим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13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Найдите четвертое лишнее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ворота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двер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сан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салазк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2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14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Назовите часть речи, которая может изменяться и по временам, и по падежам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глагол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причаст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числительное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прилагатель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15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Решите грамматическую задачу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95280" y="292428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можно ли вне текста определить часть речи слова «стекло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95280" y="2923920"/>
            <a:ext cx="822960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Хрупкое стекл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                    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Стекло с крыш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10000002384186">
                                      <p:cBhvr additive="repl">
                                        <p:cTn id="100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10000002384186">
                                      <p:cBhvr additive="repl">
                                        <p:cTn id="104" dur="2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16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Каким членом предложения является слово «выше»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Поднимайтесь выш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Этот дом значительно выш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17</a:t>
            </a:r>
            <a:br>
              <a:rPr sz="2400"/>
            </a:b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Выбор гласной в корне -</a:t>
            </a:r>
            <a:r>
              <a:rPr b="1" i="1" lang="ru-RU" sz="2800" spc="-1" strike="noStrike">
                <a:solidFill>
                  <a:srgbClr val="ccecff"/>
                </a:solidFill>
                <a:latin typeface="Arial"/>
              </a:rPr>
              <a:t>кос</a:t>
            </a: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- – -</a:t>
            </a:r>
            <a:r>
              <a:rPr b="1" i="1" lang="ru-RU" sz="2800" spc="-1" strike="noStrike">
                <a:solidFill>
                  <a:srgbClr val="ccecff"/>
                </a:solidFill>
                <a:latin typeface="Arial"/>
              </a:rPr>
              <a:t>кас</a:t>
            </a: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-  зависит от: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удар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последующего суффик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ксического знач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2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1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В каком слове количество букв и звуков совпадает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пахать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боюс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ос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каю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35280" y="5229360"/>
            <a:ext cx="28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18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В каком слове в корне пишется «А»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р…сток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зар…с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пор…сль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отр…сл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2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19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Какую смысловую нагрузку несет запятая в предложениях? Принципиальна ли она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Мы построим новый каменный до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Мы построим новый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каменный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до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20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ЭТИМОЛОГИЧЕСКИЙ – это словарь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иностранных сл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правильного произно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исхождения сл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ксического значения сл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2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ecff"/>
                </a:solidFill>
                <a:latin typeface="Arial"/>
              </a:rPr>
              <a:t>Сочинение – эсс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Несколько слов о себе, о своей семье, о своей школьной жизни, о своих увлечения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Что я жду от уроков русского языка и литературы. Какими они должны бы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Каким я хочу видеть учителя русского языка и литературы и что я жду от нег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Каким должен (должна) быть я. Что зависит от меня, чтобы достичь успех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Что мне может помеш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Мои просьбы и пожел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№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2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В каком слове есть только твердые согласные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920" y="328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  варит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  багрец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 скаже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 сме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2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3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Найдите слово, в котором находятся рядом два гласных звука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сою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дуэ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стру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2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4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Что изучает наука </a:t>
            </a:r>
            <a:r>
              <a:rPr b="1" i="1" lang="en-US" sz="2400" spc="-1" strike="noStrike" u="sng">
                <a:solidFill>
                  <a:srgbClr val="ccecff"/>
                </a:solidFill>
                <a:uFillTx/>
                <a:latin typeface="Arial"/>
              </a:rPr>
              <a:t>«Орфоэпия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» 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2997000"/>
            <a:ext cx="91440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произнош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звуки реч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правопис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2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5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Найдите лишнее слово в синонимическом ряду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всадник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коню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конник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наездни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6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Что обозначает слово «</a:t>
            </a:r>
            <a:r>
              <a:rPr b="1" i="1" lang="en-US" sz="2400" spc="-1" strike="noStrike" u="sng">
                <a:solidFill>
                  <a:srgbClr val="ccecff"/>
                </a:solidFill>
                <a:uFillTx/>
                <a:latin typeface="Arial"/>
              </a:rPr>
              <a:t>ланиты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»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руки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гла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губы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ще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устаревшее слов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ЗМ  или  АРХАИЗ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2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7</a:t>
            </a:r>
            <a:br>
              <a:rPr sz="2400"/>
            </a:br>
            <a:r>
              <a:rPr b="1" i="1" lang="en-US" sz="2400" spc="-1" strike="noStrike" u="sng">
                <a:solidFill>
                  <a:srgbClr val="ccecff"/>
                </a:solidFill>
                <a:uFillTx/>
                <a:latin typeface="Arial"/>
              </a:rPr>
              <a:t>Неологизм 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– это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устаревшее слово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новое слов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ово, употребляемое в определенной мест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ово, пришедшее к нам из других язык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2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8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Что обозначает слово</a:t>
            </a:r>
            <a:r>
              <a:rPr b="1" i="1" lang="en-US" sz="2400" spc="-1" strike="noStrike" u="sng">
                <a:solidFill>
                  <a:srgbClr val="ccecff"/>
                </a:solidFill>
                <a:uFillTx/>
                <a:latin typeface="Arial"/>
              </a:rPr>
              <a:t> «декоративный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»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служащий для укра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яркий, разноцветный, с картинк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ненный ручным труд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2T13:10:35Z</dcterms:created>
  <dc:creator>мах</dc:creator>
  <dc:description/>
  <dc:language>en-US</dc:language>
  <cp:lastModifiedBy>prezent261</cp:lastModifiedBy>
  <dcterms:modified xsi:type="dcterms:W3CDTF">2007-09-04T04:18:20Z</dcterms:modified>
  <cp:revision>3</cp:revision>
  <dc:subject/>
  <dc:title>Слайд 1</dc:title>
</cp:coreProperties>
</file>