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D06-2C0B-4150-ABDB-B184EF5A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CD3-5C46-48DF-8248-61BB745A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9A0-C035-4867-9A5A-1DFD059B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353E-BDA3-4005-942A-347F11FD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92A1-B04B-40C9-9B58-D484A338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D28D-599A-4FF2-971A-8644B27A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92FC-0437-425A-9E67-1843125D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0422-484C-4C9C-9FC1-37970967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DBEA-267A-44BC-8EC3-8681E89C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9C20-E6D5-4D64-BC9A-F7A4AC7E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0721-4FC3-46F5-B1F1-E97E5295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441-9D67-40D9-B685-555AAD88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8D3E-F4AA-4D19-80E6-5711BAC2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4688-8E4C-4AC8-A425-CF1CB09D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0657-9D26-4E7E-9AB2-35E16142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BEC3-6AAF-4E00-93E0-8F8ED2E8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0B09-EBED-4A18-93E5-CDB062BA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4AE-A5DA-4C0D-BA40-9A018B8C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FEB-21F5-4E70-B133-A06DEB23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F59-1A87-4065-96CF-AF9F395A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443-F259-4E99-A281-82671E90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4B3-93FE-4BDB-A7EA-DFC84168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CB3-32FC-48B4-96CF-0F50D2B9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C32-156C-4080-8AB7-055FD8C7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249A-EDB9-4EB4-BA04-67F6D93C71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CCFE-7671-41C1-ACA3-FBCBE80D785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84360" y="2276640"/>
            <a:ext cx="8172360" cy="95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лологическая разминка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9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четвертое лишнее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  стульч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 диван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 огур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 разговор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0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зовите слово, образованное только с помощью приставки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приго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иссуш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говорчи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1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существительное мужского рода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авеню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аль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деп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маэс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2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С какой частью речи не употребляются предлоги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глагол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существи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числительно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местоим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3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четвертое лишнее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ворота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двер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са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салаз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4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зовите часть речи, которая может изменяться и по временам, и по падежам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глагол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ричаст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числительное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прилага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5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Решите грамматическую задачу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можно ли вне текста определить часть речи слова «стекло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95280" y="292392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Хрупкое стек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Стекло с кры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10000002384186">
                                      <p:cBhvr additive="repl">
                                        <p:cTn id="100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10000002384186">
                                      <p:cBhvr additive="repl">
                                        <p:cTn id="104" dur="2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6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Каким членом предложения является слово «выше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Поднимайтесь вы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Этот дом значительно вы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17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Выбор гласной в корне -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кос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- – -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кас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-  зависит от: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уда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последующего суффик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сического зна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В каком слове количество букв и звуков совпадает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ахать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боюс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ос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каю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522936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8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В каком слове в корне пишется «А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р…сток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зар…с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пор…сль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отр…с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9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Какую смысловую нагрузку несет запятая в предложениях? Принципиальна ли она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Мы построим новый каменный д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Мы построим новый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аменный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д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20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ЭТИМОЛОГИЧЕСКИЙ – это словарь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иностранных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равильного произно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схождения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сического значения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Сочинение – эсс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Несколько слов о себе, о своей семье, о своей школьной жизни, о своих увлеч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Что я жду от уроков русского языка и литературы. Какими они должны бы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аким я хочу видеть учителя русского языка и литературы и что я жду от не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аким должен (должна) быть я. Что зависит от меня, чтобы достичь успе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Что мне может помеш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ои просьбы и пожел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В каком слове есть только твердые согласные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328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  варит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  багрец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 скаж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 см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3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слово, в котором находятся рядом два гласных звук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сою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дуэ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стру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4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Что изучает наука </a:t>
            </a: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«Орфоэпия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» 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роизнош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звуки ре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правопис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5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лишнее слово в синонимическом ряду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всадник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коню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конник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наезд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6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Что обозначает слово «</a:t>
            </a: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ланиты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руки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гл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губы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ще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устаревшее сло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ЗМ  или  АРХАИЗ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7</a:t>
            </a:r>
            <a:br>
              <a:rPr sz="2400"/>
            </a:b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Неологизм 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– это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устаревшее слово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новое сло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о, употребляемое в определенной мест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о, пришедшее к нам из других язык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8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Что обозначает слово</a:t>
            </a: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 «декоративный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служащий для укра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яркий, разноцветный, с картин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ненный ручным труд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3:10:35Z</dcterms:created>
  <dc:creator>мах</dc:creator>
  <dc:description/>
  <dc:language>en-US</dc:language>
  <cp:lastModifiedBy>prezent261</cp:lastModifiedBy>
  <dcterms:modified xsi:type="dcterms:W3CDTF">2007-09-04T04:18:20Z</dcterms:modified>
  <cp:revision>3</cp:revision>
  <dc:subject/>
  <dc:title>Слайд 1</dc:title>
</cp:coreProperties>
</file>