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952-CDFC-4F94-8F49-82D538E2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BEF-DFFD-49B5-A906-7A00A1A0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268-A111-4DDE-80B1-0FB9A943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47A-B89D-4D78-953B-8CFEDE66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9374-04A3-4952-89CE-7EF98F5E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0EE2-FB65-4F76-B5EB-6CA0ACE5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7942-C875-45F7-9703-9EE00AB7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B4BF-6617-43F0-8736-A9F5BAFC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241F-3723-497C-8812-3004CC26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C83C-66C5-46D1-BB0C-0C525B6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5869-EB05-425F-B8A7-62A8C5B9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E48-1D4D-42CF-84F9-75CADCFE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BBB8-646B-440D-901D-BEEA27C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46D3-BD38-4294-A2AF-91A35773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0D96-614A-4C64-A82B-ABAAE71D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237F-C9DC-476A-A5BD-23690146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962F-637E-40E4-BC5B-84E549C8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602-8DAB-417C-B215-B8C332A5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A0A-0EAA-46AF-8973-C3466097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602-A867-4413-A13E-66E710B8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F39-C66A-4B41-9499-DD4B67D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666-E055-44E6-8E0D-9771FDBD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966-1146-4488-979E-00C932B7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ADE-B324-460A-A9A1-3D03DF76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F6B0-9631-483D-803E-1351971263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9896-8996-4F21-AB30-69BF431450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4360" y="2276640"/>
            <a:ext cx="8172360" cy="95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ологическая разминка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стульч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диван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огу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разгово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слово, образованное только с помощью приставки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приго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иссуш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говорч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уществительное мужского рода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авеню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аль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деп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аэ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С какой частью речи не употребляются предлоги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сущест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естоим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орот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в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салаз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часть речи, которая может изменяться и по временам, и по падежам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ича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прилага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Решите грамматическую задачу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можно ли вне текста определить часть речи слова «стекл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Хрупкое стек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Стекло с кры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0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4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им членом предложения является слово «выше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Поднимайтесь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Этот дом значительно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17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Выбор гласной в корне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о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–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а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 зависит от: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уда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последующего суффи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сического зна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количество букв и звуков совпадает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ахать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боюс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ос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аю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522936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в корне пишется «А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…сток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ар…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ор…сль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отр…с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ую смысловую нагрузку несет запятая в предложениях? Принципиальна ли она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Мы построим новый каменный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Мы построим нов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аменн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2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ЭТИМОЛОГИЧЕСКИЙ – это словарь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иностранных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авильного произ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схожд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сического знач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Сочинение – эсс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сколько слов о себе, о своей семье, о своей школьной жизни, о своих увлеч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я жду от уроков русского языка и литературы. Какими они должны бы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я хочу видеть учителя русского языка и литературы и что я жду от н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должен (должна) быть я. Что зависит от меня, чтобы достичь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мне может помеш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и просьбы и пожел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есть только твердые согласные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328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варит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 багре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скаж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с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лово, в котором находятся рядом два гласных звук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ою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уэ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тру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изучает наука 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«Орфоэпия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 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роизнош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вуки ре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равопис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лишнее слово в синонимическом ряду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садник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коню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конник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наезд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 «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ланиты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уки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гл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губы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щ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устаревшее сло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ЗМ  или  АРХАИЗ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7</a:t>
            </a:r>
            <a:br>
              <a:rPr sz="2400"/>
            </a:b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Неологизм 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– это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устаревшее слово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новое сло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употребляемое в определенной мес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пришедшее к нам из других язы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 «декоративный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лужащий для укра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яркий, разноцветный, с картин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ненный ручным тру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3:10:35Z</dcterms:created>
  <dc:creator>мах</dc:creator>
  <dc:description/>
  <dc:language>en-US</dc:language>
  <cp:lastModifiedBy>prezent261</cp:lastModifiedBy>
  <dcterms:modified xsi:type="dcterms:W3CDTF">2007-09-04T04:18:20Z</dcterms:modified>
  <cp:revision>3</cp:revision>
  <dc:subject/>
  <dc:title>Слайд 1</dc:title>
</cp:coreProperties>
</file>