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12.wmf" ContentType="image/x-wmf"/>
  <Override PartName="/ppt/media/image1.gif" ContentType="image/gif"/>
  <Override PartName="/ppt/media/image4.gif" ContentType="image/gif"/>
  <Override PartName="/ppt/media/image3.wmf" ContentType="image/x-wmf"/>
  <Override PartName="/ppt/media/image1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7.jpeg" ContentType="image/jpeg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633-4F68-4374-9CB0-B83D64169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554-AFA9-434B-A4CF-B6AC4331FE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75A-FFF7-40E4-B060-784362208A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236D-2870-45C9-A789-0698046AC7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0E1-732D-4CCC-B9AC-16789CF9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7CD-4475-4369-93FA-6C77347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7A7-2C0B-46B6-BB33-09830D36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E9C-17D3-4408-9013-21A9BC00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9A8-312C-46CA-AB67-B03CE35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790-DF7B-4D55-A358-9823202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D70-BF18-44BA-92AF-F6FE62E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6A4-8276-4DFC-9E50-35965941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F29-9C29-4E25-B6CB-CA66078D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DA-67BA-47E8-AD22-8EE97E4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615-4DC7-4B10-9E29-D0FEFE7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62E-FA6B-4988-A3CE-80DDEFC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B03B-5999-42DC-BC87-CEE7E3D4CE7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8AB-2C09-431B-AD20-7F58D91892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6.jpeg"/><Relationship Id="rId28" Type="http://schemas.openxmlformats.org/officeDocument/2006/relationships/image" Target="../media/image16.jpeg"/><Relationship Id="rId2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8392-29B0-40CB-902F-6D8DC944DE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24000" y="472392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 класс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ивный курс, 2006-2007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Кочнев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язнова А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4" descr="j0254413"/>
          <p:cNvPicPr/>
          <p:nvPr/>
        </p:nvPicPr>
        <p:blipFill>
          <a:blip r:embed="rId1"/>
          <a:stretch/>
        </p:blipFill>
        <p:spPr>
          <a:xfrm>
            <a:off x="971640" y="285264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0323759"/>
          <p:cNvPicPr/>
          <p:nvPr/>
        </p:nvPicPr>
        <p:blipFill>
          <a:blip r:embed="rId2"/>
          <a:stretch/>
        </p:blipFill>
        <p:spPr>
          <a:xfrm>
            <a:off x="395280" y="26028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j0237185"/>
          <p:cNvPicPr/>
          <p:nvPr/>
        </p:nvPicPr>
        <p:blipFill>
          <a:blip r:embed="rId3"/>
          <a:stretch/>
        </p:blipFill>
        <p:spPr>
          <a:xfrm>
            <a:off x="179280" y="4581360"/>
            <a:ext cx="2376720" cy="21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j0284133"/>
          <p:cNvPicPr/>
          <p:nvPr/>
        </p:nvPicPr>
        <p:blipFill>
          <a:blip r:embed="rId4"/>
          <a:stretch/>
        </p:blipFill>
        <p:spPr>
          <a:xfrm>
            <a:off x="7885080" y="306864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j0174157"/>
          <p:cNvPicPr/>
          <p:nvPr/>
        </p:nvPicPr>
        <p:blipFill>
          <a:blip r:embed="rId5"/>
          <a:stretch/>
        </p:blipFill>
        <p:spPr>
          <a:xfrm>
            <a:off x="6192720" y="189000"/>
            <a:ext cx="2951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6276-DC6C-440C-B02F-008B37F882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Разма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разность между наибольшим и наименьшим из этих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ан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39 – 34 = 4  -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мах ря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BB1-771B-4468-A23D-A172EAE571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Мод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а чисел – число наиболее часто встречающееся в данн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д чисел может иметь более одной моды или не иметь моды совс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36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мода ряда, так как встречается чаще всего в эт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797-199D-47D5-99CA-F59D6A9C01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Медиа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о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яда чисел 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нечётны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называется среднее в ряду чис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чёт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 среднее арифметическое чисел, записанных посереди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7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2, 85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, 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5, 88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+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386E-A004-49FE-8103-9225190F11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реднее  арифметичес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змах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да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BA19-EA9D-4ED2-94D4-343AF8C79A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477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Этапы исследовательской деятельност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09880" y="3581280"/>
            <a:ext cx="175284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8098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477120" y="1523880"/>
            <a:ext cx="1828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55308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09480" y="1523880"/>
            <a:ext cx="1828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09880" y="1562040"/>
            <a:ext cx="17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477120" y="152388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ор мет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кт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ладение 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3716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962520" y="3886200"/>
            <a:ext cx="1393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476040" y="3882960"/>
            <a:ext cx="192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362320" y="21337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5627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723888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1371600" y="3200400"/>
            <a:ext cx="586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37160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362320" y="44956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562720" y="4495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7498-4D62-4E4E-8A95-0583C021CE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ировка цели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направленный сбор информа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татистическое наблю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и систематизация данных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руппировка данных, составление табли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полученных дан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ля этого используются различные обобщающие показате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2E7-DA0B-452E-8E0C-DCDA39336C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бор и группировка статистических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637000"/>
          <a:ext cx="7708680" cy="2074680"/>
        </p:xfrm>
        <a:graphic>
          <a:graphicData uri="http://schemas.openxmlformats.org/drawingml/2006/table">
            <a:tbl>
              <a:tblPr/>
              <a:tblGrid>
                <a:gridCol w="2519280"/>
                <a:gridCol w="504720"/>
                <a:gridCol w="576360"/>
                <a:gridCol w="574560"/>
                <a:gridCol w="504720"/>
                <a:gridCol w="576360"/>
                <a:gridCol w="576360"/>
                <a:gridCol w="431640"/>
                <a:gridCol w="416160"/>
                <a:gridCol w="514080"/>
                <a:gridCol w="514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71"/>
          <p:cNvSpPr/>
          <p:nvPr/>
        </p:nvSpPr>
        <p:spPr>
          <a:xfrm>
            <a:off x="1332000" y="50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блица     част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93B-BFE8-4C31-A62A-3EB58882F4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3213000"/>
          <a:ext cx="8183520" cy="2089080"/>
        </p:xfrm>
        <a:graphic>
          <a:graphicData uri="http://schemas.openxmlformats.org/drawingml/2006/table">
            <a:tbl>
              <a:tblPr/>
              <a:tblGrid>
                <a:gridCol w="2530440"/>
                <a:gridCol w="533520"/>
                <a:gridCol w="533160"/>
                <a:gridCol w="614520"/>
                <a:gridCol w="379440"/>
                <a:gridCol w="676080"/>
                <a:gridCol w="554040"/>
                <a:gridCol w="463680"/>
                <a:gridCol w="674640"/>
                <a:gridCol w="674640"/>
                <a:gridCol w="54936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ая частота, 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8"/>
          <p:cNvSpPr/>
          <p:nvPr/>
        </p:nvSpPr>
        <p:spPr>
          <a:xfrm>
            <a:off x="1042920" y="5877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блица относительных част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0"/>
          <p:cNvSpPr/>
          <p:nvPr/>
        </p:nvSpPr>
        <p:spPr>
          <a:xfrm>
            <a:off x="826920" y="549360"/>
            <a:ext cx="78487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ношение частоты к общему числу данных в ряду (в %) относительная част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1"/>
          <p:cNvSpPr/>
          <p:nvPr/>
        </p:nvSpPr>
        <p:spPr>
          <a:xfrm>
            <a:off x="1042920" y="227664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3703-5ED9-4DE0-BAC7-1B16B279BF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нтервальный ря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для анализа большего количества  данных одинакового 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ое исслед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если невозможно провести сплош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Генеральная совокуп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вся совокупность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ая совокупност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борка)- должна быть </a:t>
            </a:r>
            <a:r>
              <a:rPr b="0" i="1" lang="ru-RU" sz="2400" spc="-1" strike="noStrike">
                <a:solidFill>
                  <a:srgbClr val="ccff33"/>
                </a:solidFill>
                <a:latin typeface="Arial"/>
              </a:rPr>
              <a:t>представительн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епрезентативно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.е. отражающей характерные особенности исследуемой генеральной совокуп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EDFB-119E-4203-8291-2B0DD82A18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3" name="Picture 4" descr="j0287311"/>
          <p:cNvPicPr/>
          <p:nvPr/>
        </p:nvPicPr>
        <p:blipFill>
          <a:blip r:embed="rId1"/>
          <a:stretch/>
        </p:blipFill>
        <p:spPr>
          <a:xfrm>
            <a:off x="324000" y="3716280"/>
            <a:ext cx="3509640" cy="2965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476360" y="1628640"/>
            <a:ext cx="65516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азличные табл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Диаграм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BF04-1DB3-4019-A55B-8D36D370F7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 такое статист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j0238036"/>
          <p:cNvPicPr/>
          <p:nvPr/>
        </p:nvPicPr>
        <p:blipFill>
          <a:blip r:embed="rId1"/>
          <a:stretch/>
        </p:blipFill>
        <p:spPr>
          <a:xfrm>
            <a:off x="6227640" y="189000"/>
            <a:ext cx="2778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202-151F-46C4-ACF1-1EA5B5989B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бчат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ов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гон (на координатной плоск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стограммы (для изображения интервальных рядов дан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D387-3A91-43A7-B288-FEC3F02E64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855720"/>
                <a:gridCol w="303120"/>
                <a:gridCol w="287280"/>
                <a:gridCol w="287280"/>
                <a:gridCol w="244800"/>
                <a:gridCol w="242640"/>
                <a:gridCol w="258840"/>
                <a:gridCol w="257040"/>
                <a:gridCol w="250920"/>
                <a:gridCol w="258840"/>
                <a:gridCol w="253800"/>
                <a:gridCol w="273240"/>
                <a:gridCol w="264960"/>
              </a:tblGrid>
              <a:tr h="11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806400" y="-2124000"/>
          <a:ext cx="1463760" cy="517320"/>
        </p:xfrm>
        <a:graphic>
          <a:graphicData uri="http://schemas.openxmlformats.org/drawingml/2006/table">
            <a:tbl>
              <a:tblPr/>
              <a:tblGrid>
                <a:gridCol w="14637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34" descr="clip_image002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11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68360" y="189000"/>
          <a:ext cx="7991280" cy="914400"/>
        </p:xfrm>
        <a:graphic>
          <a:graphicData uri="http://schemas.openxmlformats.org/drawingml/2006/table">
            <a:tbl>
              <a:tblPr/>
              <a:tblGrid>
                <a:gridCol w="1693800"/>
                <a:gridCol w="598680"/>
                <a:gridCol w="569880"/>
                <a:gridCol w="566640"/>
                <a:gridCol w="487440"/>
                <a:gridCol w="479160"/>
                <a:gridCol w="511200"/>
                <a:gridCol w="509760"/>
                <a:gridCol w="493560"/>
                <a:gridCol w="514440"/>
                <a:gridCol w="500040"/>
                <a:gridCol w="542880"/>
                <a:gridCol w="5238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E5A-7DA8-4D23-8ECD-7EE11C8157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91"/>
          <p:cNvGraphicFramePr/>
          <p:nvPr/>
        </p:nvGraphicFramePr>
        <p:xfrm>
          <a:off x="1619280" y="0"/>
          <a:ext cx="7164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7164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115920"/>
          <a:ext cx="1619280" cy="3706920"/>
        </p:xfrm>
        <a:graphic>
          <a:graphicData uri="http://schemas.openxmlformats.org/drawingml/2006/table">
            <a:tbl>
              <a:tblPr/>
              <a:tblGrid>
                <a:gridCol w="939960"/>
                <a:gridCol w="6793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количество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732-5D32-4C22-A58D-5A78E3B2EE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Object 67"/>
          <p:cNvGraphicFramePr/>
          <p:nvPr/>
        </p:nvGraphicFramePr>
        <p:xfrm>
          <a:off x="2195640" y="0"/>
          <a:ext cx="60354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60354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33360"/>
          <a:ext cx="2050920" cy="4248000"/>
        </p:xfrm>
        <a:graphic>
          <a:graphicData uri="http://schemas.openxmlformats.org/drawingml/2006/table">
            <a:tbl>
              <a:tblPr/>
              <a:tblGrid>
                <a:gridCol w="820800"/>
                <a:gridCol w="1230120"/>
              </a:tblGrid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я, 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носительная частота 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96A5-457E-498A-9022-F0C2F7C65D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Object 16"/>
          <p:cNvGraphicFramePr/>
          <p:nvPr/>
        </p:nvGraphicFramePr>
        <p:xfrm>
          <a:off x="179280" y="404640"/>
          <a:ext cx="828036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28036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10D-E3A4-4604-9A77-7AC5426DDB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24000" y="274680"/>
          <a:ext cx="8424720" cy="58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680"/>
                    <a:ext cx="842472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8884-B58C-4C45-8BA4-8DBE44AEA9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2120" y="-3166920"/>
          <a:ext cx="2492280" cy="771480"/>
        </p:xfrm>
        <a:graphic>
          <a:graphicData uri="http://schemas.openxmlformats.org/drawingml/2006/table">
            <a:tbl>
              <a:tblPr/>
              <a:tblGrid>
                <a:gridCol w="249228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33" descr="clip_image002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897520"/>
          </a:xfrm>
          <a:prstGeom prst="rect">
            <a:avLst/>
          </a:prstGeom>
          <a:ln w="0">
            <a:noFill/>
          </a:ln>
        </p:spPr>
      </p:pic>
      <p:sp>
        <p:nvSpPr>
          <p:cNvPr id="173" name="Line 668"/>
          <p:cNvSpPr/>
          <p:nvPr/>
        </p:nvSpPr>
        <p:spPr>
          <a:xfrm flipV="1">
            <a:off x="539640" y="764640"/>
            <a:ext cx="7632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405-B4AE-4A5F-B313-DA35D859D6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46120" y="549360"/>
          <a:ext cx="777096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49360"/>
                    <a:ext cx="777096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A10C-C34E-4B96-B7C7-1D185F1C44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39640" y="333360"/>
          <a:ext cx="8064720" cy="59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80647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BCB-205D-4036-8F26-DB7326D1A1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одолжительность горения электроламп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042920" y="1413000"/>
          <a:ext cx="64245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4245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Стр. 17, стр. 27 рис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C4A-EDF7-45ED-B37E-EE154A35BF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Толковый словарь иностранных слов Л.П.Кры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[греч. statos стоящий; стоячий, неподвижный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ука о количественных измерениях в развитии общества и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оличественный учет всякого рода массовых случаев,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Научный метод количественных исследований в некоторых областях знаний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атематическая статистика и т.д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специалист в области статистики1-3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й —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ящийся к статистике1-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D5A-6529-413D-A757-736C358E95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с п о л ь з у е м а я     л и т е р а т у р а    (1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В.Ф.Бутузов, Ю.М.Колягин, Г.Л. Луканкин, Э.Г.Позняк и др. «Математ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ое пособие для 11кл общеобразовательных учреждений /рекомендовано Министерством образования РФ/ М., Просвещение, 199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Е.А. Бунимович, В.А. Булычёв: «Вероятность и статистика», пособие для общеобразовательных учебных заведений  5 – 9 классы / допущено Министерством образования Российской Федерации // Дрофа Москва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.Я. Виленкин, Р.С. Гутер, С.И. Шварцбурд, Б.В. Овчинский, В.Г. Ашкенуз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Алгебра» учебное пособие дл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лассов средних школ с математической специализацией» / второе издание, «Просвещение», Москва 1972. 237 – 2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6D9-3465-4F22-9584-685B878FDC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И с п о л ь з у е м а я     л и т е р а т у р а    (2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Ю.Н. Макарычев, Н.Г.Миндюк «Алгебра: элементы статистики и теории вероятностей   7 – 9 классы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редакцией С.А.Теляковского М: Просвещение , 200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Н.Я. Виленкин:  «Индукция. Комбинаторика». Пособие для учителей. М., «Просвещение»,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В.Л. Лютикас: «Школьнику о теории вероятностей» Учебное пособие по факультативному курсу для учащихся  8 – 10 классов,/ М., «Просвещение»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Журналы  «Математика в школе»:  № 10 – 2003 г, № 5 – 2004 г, № 6 – 2004 г, № 7 – 200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E2C6-9791-4DF6-8AD2-62EF09EB72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Толковый словарь русского языка С.И. Ожегова и Н.Ю. Шведо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ка, изучающая количественные показатели развития общества и общественного произ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              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(Общая теория статистики. Экономическая с. Сельскохозяйственная 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ичественный учёт всякого рода массовых случаев, явл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ый метод количественных исследований в некоторых областях зн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Математическая с</a:t>
            </a:r>
            <a:r>
              <a:rPr b="0" i="1" lang="ru-RU" sz="1600" spc="-1" strike="noStrike">
                <a:solidFill>
                  <a:srgbClr val="cc00cc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наука о математических методах систематизации и использования статистических данных).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Лингвистическая с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раздел лингвистики, занимающийся количественными закономерностями естественного язы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447-4DD9-4597-8389-CE8F4414A9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6680" cy="108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тистика</a:t>
            </a:r>
            <a:r>
              <a:rPr b="0" i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– получение, обработка, анализ и публикация информации, характеризующей количественные закономерности жизни в обществе в неразрывной связи с их количественным содерж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j0174157"/>
          <p:cNvPicPr/>
          <p:nvPr/>
        </p:nvPicPr>
        <p:blipFill>
          <a:blip r:embed="rId2"/>
          <a:stretch/>
        </p:blipFill>
        <p:spPr>
          <a:xfrm>
            <a:off x="611280" y="4653000"/>
            <a:ext cx="3600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2364-53E2-4E31-B693-37E36970CF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«   Есть   три   вида   лжи :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 обычная   ложь,   наглая  ложь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и   статистическая . »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195640" y="4437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Б. Дизраэли </a:t>
            </a:r>
            <a:br>
              <a:rPr sz="3200"/>
            </a:b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(а н г л и й с к и й   п р е м ь е р   м и н и с т р, 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9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5EC-A497-48B5-9370-988A8B8163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Какие статистические данные можно считать достоверными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исследования проводились на достаточно большой, случайным образом составленной выбор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ётко определено, что подразумевается под тем или иным поня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95280" y="4221000"/>
            <a:ext cx="8748720" cy="2485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татистические данные не должны «убаюкивать» наше сознание, но и не должны без причины пугать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обходимо уметь видеть за цифрами объективный характер явления, уметь критически оценивать статистические данные и те выводы, которые сделаны на основе этих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589-43B0-4305-8515-299A474BE4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которые «искусные» приёмы средств массовой информации для создания нужного им эффекта от сообщ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9" name="Object 38"/>
          <p:cNvGraphicFramePr/>
          <p:nvPr/>
        </p:nvGraphicFramePr>
        <p:xfrm>
          <a:off x="684360" y="1557360"/>
          <a:ext cx="157788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1577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7"/>
          <p:cNvSpPr/>
          <p:nvPr/>
        </p:nvSpPr>
        <p:spPr>
          <a:xfrm>
            <a:off x="2268360" y="220500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859280" y="220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Object 41"/>
          <p:cNvGraphicFramePr/>
          <p:nvPr/>
        </p:nvGraphicFramePr>
        <p:xfrm>
          <a:off x="3419640" y="1773360"/>
          <a:ext cx="4135320" cy="201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1773360"/>
                    <a:ext cx="41353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4"/>
          <p:cNvGraphicFramePr/>
          <p:nvPr/>
        </p:nvGraphicFramePr>
        <p:xfrm>
          <a:off x="755640" y="5013360"/>
          <a:ext cx="3168720" cy="16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013360"/>
                    <a:ext cx="31687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6"/>
          <p:cNvGraphicFramePr/>
          <p:nvPr/>
        </p:nvGraphicFramePr>
        <p:xfrm>
          <a:off x="5651640" y="3933720"/>
          <a:ext cx="2665440" cy="292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933720"/>
                    <a:ext cx="26654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AD44-4A2E-4D2B-9373-994004ED5A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2440" indent="-82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Среднее арифме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   частное от деления суммы этих чисел на число слагае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лько минут тратят на домашнее задание по алгеб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, 30, 25, 20, 34, 25, 30, 34, 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23+30+25+20+34+25+30+34+35+14</a:t>
            </a:r>
            <a:r>
              <a:rPr b="0" lang="ru-RU" sz="3200" spc="-1" strike="noStrike" baseline="-25000">
                <a:solidFill>
                  <a:srgbClr val="ffff99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900000" y="2924280"/>
            <a:ext cx="7201080" cy="0"/>
          </a:xfrm>
          <a:prstGeom prst="line">
            <a:avLst/>
          </a:prstGeom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21:03Z</dcterms:created>
  <dc:creator>Грязнова</dc:creator>
  <dc:description/>
  <dc:language>en-US</dc:language>
  <cp:lastModifiedBy>Грязновы</cp:lastModifiedBy>
  <dcterms:modified xsi:type="dcterms:W3CDTF">2009-04-23T16:24:12Z</dcterms:modified>
  <cp:revision>26</cp:revision>
  <dc:subject/>
  <dc:title>Элементы статистики и теории вероятностей  9 класс</dc:title>
</cp:coreProperties>
</file>