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.gif" ContentType="image/gif"/>
  <Override PartName="/ppt/media/image9.wmf" ContentType="image/x-wmf"/>
  <Override PartName="/ppt/media/image11.wmf" ContentType="image/x-wmf"/>
  <Override PartName="/ppt/media/image6.wmf" ContentType="image/x-wmf"/>
  <Override PartName="/ppt/media/image12.wmf" ContentType="image/x-wmf"/>
  <Override PartName="/ppt/media/image1.gif" ContentType="image/gif"/>
  <Override PartName="/ppt/media/image4.gif" ContentType="image/gif"/>
  <Override PartName="/ppt/media/image3.wmf" ContentType="image/x-wmf"/>
  <Override PartName="/ppt/media/image10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7.jpeg" ContentType="image/jpeg"/>
  <Override PartName="/ppt/media/image21.png" ContentType="image/png"/>
  <Override PartName="/ppt/media/image19.wmf" ContentType="image/x-wmf"/>
  <Override PartName="/ppt/media/image14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5.png" ContentType="image/pn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04BD-DBF0-4FD1-8F4D-EF0F2B724A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5031-999C-4877-8C28-6F5FF92D9E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EBBA-0DA8-4654-B841-BF928DF791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3360-93B9-4857-BE2A-7079AF27A2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905-1050-4DA9-91BB-A1ED9D8D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FA9-C220-450C-ADD6-A25F507A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5ED-9BA8-4B9B-BCDE-783D0882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FB5-B021-47E9-96A2-C64A2B9B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C55-8033-4B82-86D0-2C1A380C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6A67-1FBF-4A0C-A19B-DD3AD3DF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789-E9E4-4BC6-92C7-B8761FAE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A39-4322-4DB5-B1DC-3DBD4DE8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494-0E3A-4191-8CC4-9B994B8A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F3D-FF81-4F71-B330-06160DC7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28B-4EC2-4519-B743-D25AD1D6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7FB-AC3B-46B1-B19F-BDEB2662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B6ED-F3AC-4AAB-804E-BB7F8658863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7DD9-7E48-4336-AB3F-3A66A5E524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image" Target="../media/image16.jpeg"/><Relationship Id="rId27" Type="http://schemas.openxmlformats.org/officeDocument/2006/relationships/image" Target="../media/image16.jpeg"/><Relationship Id="rId28" Type="http://schemas.openxmlformats.org/officeDocument/2006/relationships/image" Target="../media/image16.jpeg"/><Relationship Id="rId2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EEBF-6A7E-45D9-B45C-65737DC4291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Элементы статистики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24000" y="4723920"/>
            <a:ext cx="640080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9 класс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ивный курс, 2006-2007 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Кочневская СО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язнова А.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4" descr="j0254413"/>
          <p:cNvPicPr/>
          <p:nvPr/>
        </p:nvPicPr>
        <p:blipFill>
          <a:blip r:embed="rId1"/>
          <a:stretch/>
        </p:blipFill>
        <p:spPr>
          <a:xfrm>
            <a:off x="971640" y="285264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j0323759"/>
          <p:cNvPicPr/>
          <p:nvPr/>
        </p:nvPicPr>
        <p:blipFill>
          <a:blip r:embed="rId2"/>
          <a:stretch/>
        </p:blipFill>
        <p:spPr>
          <a:xfrm>
            <a:off x="395280" y="260280"/>
            <a:ext cx="1224000" cy="115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j0237185"/>
          <p:cNvPicPr/>
          <p:nvPr/>
        </p:nvPicPr>
        <p:blipFill>
          <a:blip r:embed="rId3"/>
          <a:stretch/>
        </p:blipFill>
        <p:spPr>
          <a:xfrm>
            <a:off x="179280" y="4581360"/>
            <a:ext cx="2376720" cy="214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j0284133"/>
          <p:cNvPicPr/>
          <p:nvPr/>
        </p:nvPicPr>
        <p:blipFill>
          <a:blip r:embed="rId4"/>
          <a:stretch/>
        </p:blipFill>
        <p:spPr>
          <a:xfrm>
            <a:off x="7885080" y="3068640"/>
            <a:ext cx="1047960" cy="11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j0174157"/>
          <p:cNvPicPr/>
          <p:nvPr/>
        </p:nvPicPr>
        <p:blipFill>
          <a:blip r:embed="rId5"/>
          <a:stretch/>
        </p:blipFill>
        <p:spPr>
          <a:xfrm>
            <a:off x="6192720" y="189000"/>
            <a:ext cx="2951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2D74-5717-4017-BEBD-926D4F7BE4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Размах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яда чисел  - разность между наибольшим и наименьшим из этих чис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ан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порядочен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яд чис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5, 35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6, 36, 36, 36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37, 37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8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9, 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39 – 34 = 4  -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змах ря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92FA-63DB-49CF-AA3F-83829586D7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Мод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яда чисел – число наиболее часто встречающееся в данном ря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яд чисел может иметь более одной моды или не иметь моды совс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5, 35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6, 36, 36, 36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37, 37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8,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9, 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36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мода ряда, так как встречается чаще всего в этом ря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AF17-01FF-46D6-88D5-3DF0602B5B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Медиан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упорядоченног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яда чисел с </a:t>
            </a:r>
            <a:r>
              <a:rPr b="0" lang="ru-RU" sz="2800" spc="-1" strike="noStrike" u="sng">
                <a:solidFill>
                  <a:srgbClr val="ccff66"/>
                </a:solidFill>
                <a:uFillTx/>
                <a:latin typeface="Times New Roman"/>
              </a:rPr>
              <a:t>нечётным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м членов называется среднее в ряду числ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ru-RU" sz="2800" spc="-1" strike="noStrike" u="sng">
                <a:solidFill>
                  <a:srgbClr val="ccff66"/>
                </a:solidFill>
                <a:uFillTx/>
                <a:latin typeface="Times New Roman"/>
              </a:rPr>
              <a:t>чётны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м членов  среднее арифметическое чисел, записанных посереди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4, 72, 72, 75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78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82, 85, 91, 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4, 72, 72, 75, 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78, 8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85, 88, 91, 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78+8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B9A6-1042-479B-B8B7-CD628154DE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реднее  арифметическ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азмах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ода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едиа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23E8-7673-4E88-BD29-348272EB8F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477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99"/>
                </a:solidFill>
                <a:uFillTx/>
                <a:latin typeface="Arial"/>
              </a:rPr>
              <a:t>Этапы исследовательской деятельност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33520" y="3581280"/>
            <a:ext cx="1828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809880" y="3581280"/>
            <a:ext cx="175284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09480" y="1523880"/>
            <a:ext cx="175284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809880" y="1523880"/>
            <a:ext cx="175284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477120" y="1523880"/>
            <a:ext cx="182880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6553080" y="3581280"/>
            <a:ext cx="1828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609480" y="1523880"/>
            <a:ext cx="1828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ули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809880" y="1562040"/>
            <a:ext cx="176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да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т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6477120" y="1523880"/>
            <a:ext cx="196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бор мет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след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практ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владение и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539640" y="371628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ствен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ри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962520" y="3886200"/>
            <a:ext cx="1393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б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476040" y="3882960"/>
            <a:ext cx="192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улир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в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2362320" y="213372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5562720" y="2209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7238880" y="2971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 flipH="1">
            <a:off x="1371600" y="3200400"/>
            <a:ext cx="586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1371600" y="3200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362320" y="44956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5562720" y="44956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7C7F-DCCF-484D-B5D5-75E279931D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исследования. Статистическое оценивание и прогноз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улировка цели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направленный сбор информаци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статистическое наблюд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ение и систематизация данных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руппировка данных, составление таблиц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полученных дан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для этого используются различные обобщающие показател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1CB6-BA3A-4795-93C3-BE4A473AC5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бор и группировка статистических данны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матическая подготовка учащихся (40 чел) по теме (тес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4360" y="2637000"/>
          <a:ext cx="7708680" cy="2074680"/>
        </p:xfrm>
        <a:graphic>
          <a:graphicData uri="http://schemas.openxmlformats.org/drawingml/2006/table">
            <a:tbl>
              <a:tblPr/>
              <a:tblGrid>
                <a:gridCol w="2519280"/>
                <a:gridCol w="504720"/>
                <a:gridCol w="576360"/>
                <a:gridCol w="574560"/>
                <a:gridCol w="504720"/>
                <a:gridCol w="576360"/>
                <a:gridCol w="576360"/>
                <a:gridCol w="431640"/>
                <a:gridCol w="416160"/>
                <a:gridCol w="514080"/>
                <a:gridCol w="514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</a:tr>
              <a:tr h="88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о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71"/>
          <p:cNvSpPr/>
          <p:nvPr/>
        </p:nvSpPr>
        <p:spPr>
          <a:xfrm>
            <a:off x="1332000" y="5084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блица     част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AB6A-DBA2-4282-96AE-807E5B8E57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3213000"/>
          <a:ext cx="8183520" cy="2089080"/>
        </p:xfrm>
        <a:graphic>
          <a:graphicData uri="http://schemas.openxmlformats.org/drawingml/2006/table">
            <a:tbl>
              <a:tblPr/>
              <a:tblGrid>
                <a:gridCol w="2530440"/>
                <a:gridCol w="533520"/>
                <a:gridCol w="533160"/>
                <a:gridCol w="614520"/>
                <a:gridCol w="379440"/>
                <a:gridCol w="676080"/>
                <a:gridCol w="554040"/>
                <a:gridCol w="463680"/>
                <a:gridCol w="674640"/>
                <a:gridCol w="674640"/>
                <a:gridCol w="549360"/>
              </a:tblGrid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осительная частота, %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5a58"/>
                    </a:solidFill>
                  </a:tcPr>
                </a:tc>
              </a:tr>
            </a:tbl>
          </a:graphicData>
        </a:graphic>
      </p:graphicFrame>
      <p:sp>
        <p:nvSpPr>
          <p:cNvPr id="136" name="Text Box 58"/>
          <p:cNvSpPr/>
          <p:nvPr/>
        </p:nvSpPr>
        <p:spPr>
          <a:xfrm>
            <a:off x="1042920" y="58770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аблица относительных част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60"/>
          <p:cNvSpPr/>
          <p:nvPr/>
        </p:nvSpPr>
        <p:spPr>
          <a:xfrm>
            <a:off x="826920" y="549360"/>
            <a:ext cx="78487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Отношение частоты к общему числу данных в ряду (в %) относительная част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1"/>
          <p:cNvSpPr/>
          <p:nvPr/>
        </p:nvSpPr>
        <p:spPr>
          <a:xfrm>
            <a:off x="1042920" y="227664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ая подготовка учащихся (40 чел) по теме (тес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42BF-5D7B-4E2F-A48F-380D4651F5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Интервальный ря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для анализа большего количества  данных одинакового 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Выборочное исследо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если невозможно провести сплош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Генеральная совокуп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вся совокупность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Выборочная совокупность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выборка)- должна быть </a:t>
            </a:r>
            <a:r>
              <a:rPr b="0" i="1" lang="ru-RU" sz="2400" spc="-1" strike="noStrike">
                <a:solidFill>
                  <a:srgbClr val="ccff33"/>
                </a:solidFill>
                <a:latin typeface="Arial"/>
              </a:rPr>
              <a:t>представительной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епрезентативно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.е. отражающей характерные особенности исследуемой генеральной совокуп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B6CF-5184-4278-9BB0-7E04AD8E33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пособы представления данных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3" name="Picture 4" descr="j0287311"/>
          <p:cNvPicPr/>
          <p:nvPr/>
        </p:nvPicPr>
        <p:blipFill>
          <a:blip r:embed="rId1"/>
          <a:stretch/>
        </p:blipFill>
        <p:spPr>
          <a:xfrm>
            <a:off x="324000" y="3716280"/>
            <a:ext cx="3509640" cy="2965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476360" y="1628640"/>
            <a:ext cx="655164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2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Различные табл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20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Диаграм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E865-0C4B-46F0-B8F3-3B38ACF840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Элементы статистики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Что такое статисти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татистические исследования. Статистическое оценивание и прогноз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пособы представления да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j0238036"/>
          <p:cNvPicPr/>
          <p:nvPr/>
        </p:nvPicPr>
        <p:blipFill>
          <a:blip r:embed="rId1"/>
          <a:stretch/>
        </p:blipFill>
        <p:spPr>
          <a:xfrm>
            <a:off x="6227640" y="189000"/>
            <a:ext cx="27781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8DAC-7485-4864-A1F1-09B62021AB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Способы представления данны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лбчатые диа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говые диа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игон (на координатной плоскост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стограммы (для изображения интервальных рядов данны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944E-095A-4350-A861-949E07D606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855720"/>
                <a:gridCol w="303120"/>
                <a:gridCol w="287280"/>
                <a:gridCol w="287280"/>
                <a:gridCol w="244800"/>
                <a:gridCol w="242640"/>
                <a:gridCol w="258840"/>
                <a:gridCol w="257040"/>
                <a:gridCol w="250920"/>
                <a:gridCol w="258840"/>
                <a:gridCol w="253800"/>
                <a:gridCol w="273240"/>
                <a:gridCol w="264960"/>
              </a:tblGrid>
              <a:tr h="118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I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I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V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V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VI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I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X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X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8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 электроэнергии, кВт-ч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806400" y="-2124000"/>
          <a:ext cx="1463760" cy="517320"/>
        </p:xfrm>
        <a:graphic>
          <a:graphicData uri="http://schemas.openxmlformats.org/drawingml/2006/table">
            <a:tbl>
              <a:tblPr/>
              <a:tblGrid>
                <a:gridCol w="14637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34" descr="clip_image002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11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468360" y="189000"/>
          <a:ext cx="7991280" cy="914400"/>
        </p:xfrm>
        <a:graphic>
          <a:graphicData uri="http://schemas.openxmlformats.org/drawingml/2006/table">
            <a:tbl>
              <a:tblPr/>
              <a:tblGrid>
                <a:gridCol w="1693800"/>
                <a:gridCol w="598680"/>
                <a:gridCol w="569880"/>
                <a:gridCol w="566640"/>
                <a:gridCol w="487440"/>
                <a:gridCol w="479160"/>
                <a:gridCol w="511200"/>
                <a:gridCol w="509760"/>
                <a:gridCol w="493560"/>
                <a:gridCol w="514440"/>
                <a:gridCol w="500040"/>
                <a:gridCol w="542880"/>
                <a:gridCol w="5238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V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V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VI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X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XI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электроэнергии, кВт-ч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E01B-EA3B-45CA-A3B1-DCC48A5814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Object 91"/>
          <p:cNvGraphicFramePr/>
          <p:nvPr/>
        </p:nvGraphicFramePr>
        <p:xfrm>
          <a:off x="1619280" y="0"/>
          <a:ext cx="716436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Object 9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0"/>
                    <a:ext cx="71643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0" y="115920"/>
          <a:ext cx="1619280" cy="3706920"/>
        </p:xfrm>
        <a:graphic>
          <a:graphicData uri="http://schemas.openxmlformats.org/drawingml/2006/table">
            <a:tbl>
              <a:tblPr/>
              <a:tblGrid>
                <a:gridCol w="939960"/>
                <a:gridCol w="679320"/>
              </a:tblGrid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количество де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Часто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5a58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C1C7-2C5C-4C08-8FAD-AE43C84DA2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Object 67"/>
          <p:cNvGraphicFramePr/>
          <p:nvPr/>
        </p:nvGraphicFramePr>
        <p:xfrm>
          <a:off x="2195640" y="0"/>
          <a:ext cx="6035400" cy="609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Object 6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0"/>
                    <a:ext cx="60354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333360"/>
          <a:ext cx="2050920" cy="4248000"/>
        </p:xfrm>
        <a:graphic>
          <a:graphicData uri="http://schemas.openxmlformats.org/drawingml/2006/table">
            <a:tbl>
              <a:tblPr/>
              <a:tblGrid>
                <a:gridCol w="820800"/>
                <a:gridCol w="1230120"/>
              </a:tblGrid>
              <a:tr h="12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я, 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носительная частота ,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49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123C-FF5E-4616-9865-013C21522E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Object 16"/>
          <p:cNvGraphicFramePr/>
          <p:nvPr/>
        </p:nvGraphicFramePr>
        <p:xfrm>
          <a:off x="179280" y="404640"/>
          <a:ext cx="8280360" cy="598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4640"/>
                    <a:ext cx="8280360" cy="59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E316-F57E-4B29-9CFA-D83E85D3BA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324000" y="274680"/>
          <a:ext cx="8424720" cy="581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4680"/>
                    <a:ext cx="8424720" cy="58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79912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672D-2458-442D-980A-780391BDCD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92120" y="-3166920"/>
          <a:ext cx="2492280" cy="771480"/>
        </p:xfrm>
        <a:graphic>
          <a:graphicData uri="http://schemas.openxmlformats.org/drawingml/2006/table">
            <a:tbl>
              <a:tblPr/>
              <a:tblGrid>
                <a:gridCol w="2492280"/>
              </a:tblGrid>
              <a:tr h="77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Picture 33" descr="clip_image002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897520"/>
          </a:xfrm>
          <a:prstGeom prst="rect">
            <a:avLst/>
          </a:prstGeom>
          <a:ln w="0">
            <a:noFill/>
          </a:ln>
        </p:spPr>
      </p:pic>
      <p:sp>
        <p:nvSpPr>
          <p:cNvPr id="173" name="Line 668"/>
          <p:cNvSpPr/>
          <p:nvPr/>
        </p:nvSpPr>
        <p:spPr>
          <a:xfrm flipV="1">
            <a:off x="539640" y="764640"/>
            <a:ext cx="763272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D94A-F785-48A8-A830-DAB4C9396E4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546120" y="549360"/>
          <a:ext cx="7770960" cy="59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549360"/>
                    <a:ext cx="777096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13A6-A554-4484-BD1A-A8DC840519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539640" y="333360"/>
          <a:ext cx="8064720" cy="599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3360"/>
                    <a:ext cx="80647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D8E4-BE8E-4086-8777-012149CCBF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Продолжительность горения электроламп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1042920" y="1413000"/>
          <a:ext cx="642456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64245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6"/>
          <p:cNvSpPr/>
          <p:nvPr/>
        </p:nvSpPr>
        <p:spPr>
          <a:xfrm>
            <a:off x="4284720" y="6308640"/>
            <a:ext cx="36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33"/>
                </a:solidFill>
                <a:latin typeface="Arial"/>
              </a:rPr>
              <a:t>Стр. 17, стр. 27 рис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B3F2-1D65-4048-936A-82B78A86F8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ffff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Что такое статистика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Толковый словарь иностранных слов Л.П.Крыс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ТАТИСТИКА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[греч. statos стоящий; стоячий, неподвижный]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Наука о количественных измерениях в развитии общества и эконом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Количественный учет всякого рода массовых случаев, яв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Научный метод количественных исследований в некоторых областях знаний.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атематическая статистика и т.д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атисти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специалист в области статистики1-3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атистический —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тносящийся к статистике1-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71B8-E002-4CDD-BBC7-84E95C4B55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 с п о л ь з у е м а я     л и т е р а т у р а    (1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В.Ф.Бутузов, Ю.М.Колягин, Г.Л. Луканкин, Э.Г.Позняк и др. «Математик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бное пособие для 11кл общеобразовательных учреждений /рекомендовано Министерством образования РФ/ М., Просвещение, 199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Е.А. Бунимович, В.А. Булычёв: «Вероятность и статистика», пособие для общеобразовательных учебных заведений  5 – 9 классы / допущено Министерством образования Российской Федерации // Дрофа Москва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Н.Я. Виленкин, Р.С. Гутер, С.И. Шварцбурд, Б.В. Овчинский, В.Г. Ашкенуз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Алгебра» учебное пособие для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классов средних школ с математической специализацией» / второе издание, «Просвещение», Москва 1972. 237 – 2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B777-BD80-43D9-B083-F3F40F82AC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И с п о л ь з у е м а я     л и т е р а т у р а    (2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Ю.Н. Макарычев, Н.Г.Миндюк «Алгебра: элементы статистики и теории вероятностей   7 – 9 классы»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 редакцией С.А.Теляковского М: Просвещение , 2006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Н.Я. Виленкин:  «Индукция. Комбинаторика». Пособие для учителей. М., «Просвещение», 197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В.Л. Лютикас: «Школьнику о теории вероятностей» Учебное пособие по факультативному курсу для учащихся  8 – 10 классов,/ М., «Просвещение» 197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Журналы  «Математика в школе»:  № 10 – 2003 г, № 5 – 2004 г, № 6 – 2004 г, № 7 – 2004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2800-EEDF-4D3B-860B-ECDC57D0BB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</a:rPr>
              <a:t>Толковый словарь русского языка С.И. Ожегова и Н.Ю. Шведов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ука, изучающая количественные показатели развития общества и общественного производ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ff"/>
                </a:solidFill>
                <a:latin typeface="Times New Roman"/>
              </a:rPr>
              <a:t>                </a:t>
            </a:r>
            <a:r>
              <a:rPr b="0" i="1" lang="ru-RU" sz="1600" spc="-1" strike="noStrike">
                <a:solidFill>
                  <a:srgbClr val="00ffff"/>
                </a:solidFill>
                <a:latin typeface="Times New Roman"/>
              </a:rPr>
              <a:t>(Общая теория статистики. Экономическая с. Сельскохозяйственная с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личественный учёт всякого рода массовых случаев, явле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учный метод количественных исследований в некоторых областях зн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                    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ffff"/>
                </a:solidFill>
                <a:latin typeface="Times New Roman"/>
              </a:rPr>
              <a:t>Математическая с</a:t>
            </a:r>
            <a:r>
              <a:rPr b="0" i="1" lang="ru-RU" sz="1600" spc="-1" strike="noStrike">
                <a:solidFill>
                  <a:srgbClr val="cc00cc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(наука о математических методах систематизации и использования статистических данных).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1600" spc="-1" strike="noStrike">
                <a:solidFill>
                  <a:srgbClr val="00ffff"/>
                </a:solidFill>
                <a:latin typeface="Times New Roman"/>
              </a:rPr>
              <a:t>Лингвистическая с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(раздел лингвистики, занимающийся количественными закономерностями естественного язык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ffff99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Arial"/>
              </a:rPr>
              <a:t>Что такое статистика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0E9D-6E4D-4354-87C1-67CA15B994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86680" cy="1081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marL="1117440" indent="-1117440" algn="ctr">
              <a:buClr>
                <a:srgbClr val="ffff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Что такое статистика?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татистика</a:t>
            </a:r>
            <a:r>
              <a:rPr b="0" i="1" lang="ru-RU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– получение, обработка, анализ и публикация информации, характеризующей количественные закономерности жизни в обществе в неразрывной связи с их количественным содерж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циклопедический словар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j0174157"/>
          <p:cNvPicPr/>
          <p:nvPr/>
        </p:nvPicPr>
        <p:blipFill>
          <a:blip r:embed="rId2"/>
          <a:stretch/>
        </p:blipFill>
        <p:spPr>
          <a:xfrm>
            <a:off x="611280" y="4653000"/>
            <a:ext cx="3600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3405-6825-47B3-953A-25AEF07B2E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ff33"/>
                </a:solidFill>
                <a:latin typeface="Monotype Corsiva"/>
              </a:rPr>
              <a:t>«   Есть   три   вида   лжи :  </a:t>
            </a:r>
            <a:br>
              <a:rPr sz="4400"/>
            </a:br>
            <a:r>
              <a:rPr b="0" i="1" lang="ru-RU" sz="4400" spc="-1" strike="noStrike">
                <a:solidFill>
                  <a:srgbClr val="ccff33"/>
                </a:solidFill>
                <a:latin typeface="Monotype Corsiva"/>
              </a:rPr>
              <a:t> обычная   ложь,   наглая  ложь  </a:t>
            </a:r>
            <a:br>
              <a:rPr sz="4400"/>
            </a:br>
            <a:r>
              <a:rPr b="0" i="1" lang="ru-RU" sz="4400" spc="-1" strike="noStrike">
                <a:solidFill>
                  <a:srgbClr val="ccff33"/>
                </a:solidFill>
                <a:latin typeface="Monotype Corsiva"/>
              </a:rPr>
              <a:t>и   статистическая . »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195640" y="44370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Б. Дизраэли </a:t>
            </a:r>
            <a:br>
              <a:rPr sz="3200"/>
            </a:b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(а н г л и й с к и й   п р е м ь е р   м и н и с т р,  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i="1" lang="ru-RU" sz="1600" spc="-1" strike="noStrike">
                <a:solidFill>
                  <a:srgbClr val="000000"/>
                </a:solidFill>
                <a:latin typeface="Monotype Corsiva"/>
              </a:rPr>
              <a:t> 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9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6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09E1-4C6A-4B2B-BAD7-18355EDCAB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Какие статистические данные можно считать достоверными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solidFill>
            <a:srgbClr val="6d6fc7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сли исследования проводились на достаточно большой, случайным образом составленной выбор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Чётко определено, что подразумевается под тем или иным понят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95280" y="4221000"/>
            <a:ext cx="8748720" cy="2485440"/>
          </a:xfrm>
          <a:prstGeom prst="rect">
            <a:avLst/>
          </a:prstGeom>
          <a:solidFill>
            <a:srgbClr val="6d6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татистические данные не должны «убаюкивать» наше сознание, но и не должны без причины пугать.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обходимо уметь видеть за цифрами объективный характер явления, уметь критически оценивать статистические данные и те выводы, которые сделаны на основе этих дан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A5B1-FE78-42D1-B828-14AFA11A32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екоторые «искусные» приёмы средств массовой информации для создания нужного им эффекта от сообщения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9" name="Object 38"/>
          <p:cNvGraphicFramePr/>
          <p:nvPr/>
        </p:nvGraphicFramePr>
        <p:xfrm>
          <a:off x="684360" y="1557360"/>
          <a:ext cx="1577880" cy="302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Object 3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557360"/>
                    <a:ext cx="15778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37"/>
          <p:cNvSpPr/>
          <p:nvPr/>
        </p:nvSpPr>
        <p:spPr>
          <a:xfrm>
            <a:off x="2268360" y="220500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4859280" y="220500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Object 41"/>
          <p:cNvGraphicFramePr/>
          <p:nvPr/>
        </p:nvGraphicFramePr>
        <p:xfrm>
          <a:off x="3419640" y="1773360"/>
          <a:ext cx="4135320" cy="201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4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1773360"/>
                    <a:ext cx="413532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44"/>
          <p:cNvGraphicFramePr/>
          <p:nvPr/>
        </p:nvGraphicFramePr>
        <p:xfrm>
          <a:off x="755640" y="5013360"/>
          <a:ext cx="3168720" cy="1611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" name="Object 4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5013360"/>
                    <a:ext cx="316872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46"/>
          <p:cNvGraphicFramePr/>
          <p:nvPr/>
        </p:nvGraphicFramePr>
        <p:xfrm>
          <a:off x="5651640" y="3933720"/>
          <a:ext cx="2665440" cy="2924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" name="Object 4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51640" y="3933720"/>
                    <a:ext cx="266544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7F27-E1B0-43C7-88A9-58978AF2CB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Статистические характеристик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82440" indent="-82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Среднее арифметическ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яда чисел  -    частное от деления суммы этих чисел на число слагаем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олько минут тратят на домашнее задание по алгебр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, 30, 25, 20, 34, 25, 30, 34, 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23+30+25+20+34+25+30+34+35+14</a:t>
            </a:r>
            <a:r>
              <a:rPr b="0" lang="ru-RU" sz="3200" spc="-1" strike="noStrike" baseline="-25000">
                <a:solidFill>
                  <a:srgbClr val="ffff99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900000" y="2924280"/>
            <a:ext cx="7201080" cy="0"/>
          </a:xfrm>
          <a:prstGeom prst="line">
            <a:avLst/>
          </a:prstGeom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5:21:03Z</dcterms:created>
  <dc:creator>Грязнова</dc:creator>
  <dc:description/>
  <dc:language>en-US</dc:language>
  <cp:lastModifiedBy>Грязновы</cp:lastModifiedBy>
  <dcterms:modified xsi:type="dcterms:W3CDTF">2009-04-23T16:24:12Z</dcterms:modified>
  <cp:revision>26</cp:revision>
  <dc:subject/>
  <dc:title>Элементы статистики и теории вероятностей  9 класс</dc:title>
</cp:coreProperties>
</file>