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2.gif" ContentType="image/gif"/>
  <Override PartName="/ppt/media/image9.wmf" ContentType="image/x-wmf"/>
  <Override PartName="/ppt/media/image11.wmf" ContentType="image/x-wmf"/>
  <Override PartName="/ppt/media/image6.wmf" ContentType="image/x-wmf"/>
  <Override PartName="/ppt/media/image12.wmf" ContentType="image/x-wmf"/>
  <Override PartName="/ppt/media/image1.gif" ContentType="image/gif"/>
  <Override PartName="/ppt/media/image4.gif" ContentType="image/gif"/>
  <Override PartName="/ppt/media/image3.wmf" ContentType="image/x-wmf"/>
  <Override PartName="/ppt/media/image10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5.wmf" ContentType="image/x-wmf"/>
  <Override PartName="/ppt/media/image7.jpeg" ContentType="image/jpeg"/>
  <Override PartName="/ppt/media/image21.png" ContentType="image/png"/>
  <Override PartName="/ppt/media/image19.wmf" ContentType="image/x-wmf"/>
  <Override PartName="/ppt/media/image14.jpeg" ContentType="image/jpeg"/>
  <Override PartName="/ppt/media/image20.wmf" ContentType="image/x-wmf"/>
  <Override PartName="/ppt/media/image18.wmf" ContentType="image/x-wmf"/>
  <Override PartName="/ppt/media/image17.wmf" ContentType="image/x-wmf"/>
  <Override PartName="/ppt/media/image16.jpeg" ContentType="image/jpeg"/>
  <Override PartName="/ppt/media/image15.png" ContentType="image/png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D93D0-3DC9-4D19-A54F-BEBF7BF51F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A3C0C-1F72-464D-8363-8F1A2E7A4B5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B1E34-96B2-4B8A-8EC6-0EBB0B81E58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166FB-78F7-468C-B2B2-AAA0288CA66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8DBB-EA6E-460F-A14E-5693546F5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AB96-295B-4C5B-8908-DD623C2B0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3308-9D29-409D-A6B9-6FA788F80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F14C-D43D-49D8-863F-E6CB114D7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CA3E-9672-4DC5-BE9F-E6693D6CA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17E9-5B79-40C7-87CE-6F4095077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29D9-498D-40E7-9EEC-26E089F59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E795-B4DE-4954-ABAB-8C72A656F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5071-373D-497F-AE18-6A0A482D7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796F-A6E0-428E-921B-5C78DAC8D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8389-B2A8-45F8-97E6-E2F58639E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2E86-530E-4A02-95D6-C5DA5A0E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ECBE9-3CC3-47A7-A4A4-C565A5B99465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4072E-E15A-4FCB-88CC-E2EC28A488A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image" Target="../media/image4.gi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image" Target="../media/image16.jpeg"/><Relationship Id="rId7" Type="http://schemas.openxmlformats.org/officeDocument/2006/relationships/image" Target="../media/image16.jpeg"/><Relationship Id="rId8" Type="http://schemas.openxmlformats.org/officeDocument/2006/relationships/image" Target="../media/image16.jpeg"/><Relationship Id="rId9" Type="http://schemas.openxmlformats.org/officeDocument/2006/relationships/image" Target="../media/image16.jpe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image" Target="../media/image16.jpeg"/><Relationship Id="rId13" Type="http://schemas.openxmlformats.org/officeDocument/2006/relationships/image" Target="../media/image16.jpeg"/><Relationship Id="rId14" Type="http://schemas.openxmlformats.org/officeDocument/2006/relationships/image" Target="../media/image16.jpeg"/><Relationship Id="rId15" Type="http://schemas.openxmlformats.org/officeDocument/2006/relationships/image" Target="../media/image16.jpeg"/><Relationship Id="rId16" Type="http://schemas.openxmlformats.org/officeDocument/2006/relationships/image" Target="../media/image16.jpeg"/><Relationship Id="rId17" Type="http://schemas.openxmlformats.org/officeDocument/2006/relationships/image" Target="../media/image16.jpeg"/><Relationship Id="rId18" Type="http://schemas.openxmlformats.org/officeDocument/2006/relationships/image" Target="../media/image16.jpeg"/><Relationship Id="rId19" Type="http://schemas.openxmlformats.org/officeDocument/2006/relationships/image" Target="../media/image16.jpeg"/><Relationship Id="rId20" Type="http://schemas.openxmlformats.org/officeDocument/2006/relationships/image" Target="../media/image16.jpeg"/><Relationship Id="rId21" Type="http://schemas.openxmlformats.org/officeDocument/2006/relationships/image" Target="../media/image16.jpeg"/><Relationship Id="rId22" Type="http://schemas.openxmlformats.org/officeDocument/2006/relationships/image" Target="../media/image16.jpeg"/><Relationship Id="rId23" Type="http://schemas.openxmlformats.org/officeDocument/2006/relationships/image" Target="../media/image16.jpeg"/><Relationship Id="rId24" Type="http://schemas.openxmlformats.org/officeDocument/2006/relationships/image" Target="../media/image16.jpeg"/><Relationship Id="rId25" Type="http://schemas.openxmlformats.org/officeDocument/2006/relationships/image" Target="../media/image16.jpeg"/><Relationship Id="rId26" Type="http://schemas.openxmlformats.org/officeDocument/2006/relationships/image" Target="../media/image16.jpeg"/><Relationship Id="rId27" Type="http://schemas.openxmlformats.org/officeDocument/2006/relationships/image" Target="../media/image16.jpeg"/><Relationship Id="rId28" Type="http://schemas.openxmlformats.org/officeDocument/2006/relationships/image" Target="../media/image16.jpeg"/><Relationship Id="rId2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2.wmf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19C01-C720-43B9-A53B-77BF4057182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00"/>
                </a:solidFill>
                <a:latin typeface="Arial"/>
              </a:rPr>
              <a:t>Элементы статистики 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124000" y="4723920"/>
            <a:ext cx="6400800" cy="12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9 класс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лективный курс, 2006-2007 учебный го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У Кочневская СОШ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Грязнова А.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14" descr="j0254413"/>
          <p:cNvPicPr/>
          <p:nvPr/>
        </p:nvPicPr>
        <p:blipFill>
          <a:blip r:embed="rId1"/>
          <a:stretch/>
        </p:blipFill>
        <p:spPr>
          <a:xfrm>
            <a:off x="971640" y="2852640"/>
            <a:ext cx="1428840" cy="12002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9" descr="j0323759"/>
          <p:cNvPicPr/>
          <p:nvPr/>
        </p:nvPicPr>
        <p:blipFill>
          <a:blip r:embed="rId2"/>
          <a:stretch/>
        </p:blipFill>
        <p:spPr>
          <a:xfrm>
            <a:off x="395280" y="260280"/>
            <a:ext cx="1224000" cy="1152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1" descr="j0237185"/>
          <p:cNvPicPr/>
          <p:nvPr/>
        </p:nvPicPr>
        <p:blipFill>
          <a:blip r:embed="rId3"/>
          <a:stretch/>
        </p:blipFill>
        <p:spPr>
          <a:xfrm>
            <a:off x="179280" y="4581360"/>
            <a:ext cx="2376720" cy="2144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4" descr="j0284133"/>
          <p:cNvPicPr/>
          <p:nvPr/>
        </p:nvPicPr>
        <p:blipFill>
          <a:blip r:embed="rId4"/>
          <a:stretch/>
        </p:blipFill>
        <p:spPr>
          <a:xfrm>
            <a:off x="7885080" y="3068640"/>
            <a:ext cx="1047960" cy="1123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5" descr="j0174157"/>
          <p:cNvPicPr/>
          <p:nvPr/>
        </p:nvPicPr>
        <p:blipFill>
          <a:blip r:embed="rId5"/>
          <a:stretch/>
        </p:blipFill>
        <p:spPr>
          <a:xfrm>
            <a:off x="6192720" y="189000"/>
            <a:ext cx="295128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9A358-BACD-43BB-9978-BC97623C974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Статистические характеристики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00"/>
                </a:solidFill>
                <a:latin typeface="Arial"/>
              </a:rPr>
              <a:t>Размах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яда чисел  - разность между наибольшим и наименьшим из этих чисе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имер: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дан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упорядоченный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ряд чисе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5, 35,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36, 36, 36, 36,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37, 37,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38,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9, 3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ccffff"/>
                </a:solidFill>
                <a:latin typeface="Arial"/>
              </a:rPr>
              <a:t>39 – 34 = 4  -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размах ря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32370-DDA8-4715-A254-29CB773B47C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Статистические характеристик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00"/>
                </a:solidFill>
                <a:latin typeface="Arial"/>
              </a:rPr>
              <a:t>Модой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ряда чисел – число наиболее часто встречающееся в данном ряд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яд чисел может иметь более одной моды или не иметь моды совсе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5, 35,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36, 36, 36, 36,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37, 37,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38,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9, 3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Times New Roman"/>
              </a:rPr>
              <a:t>36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–мода ряда, так как встречается чаще всего в этом ряд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1A499-DE96-4FB8-8B3E-CEF45F11E9E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Статистические характеристик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Arial"/>
              </a:rPr>
              <a:t>Медианой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упорядоченного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ряда чисел с </a:t>
            </a:r>
            <a:r>
              <a:rPr b="0" lang="ru-RU" sz="2800" spc="-1" strike="noStrike" u="sng">
                <a:solidFill>
                  <a:srgbClr val="ccff66"/>
                </a:solidFill>
                <a:uFillTx/>
                <a:latin typeface="Times New Roman"/>
              </a:rPr>
              <a:t>нечётным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ислом членов называется среднее в ряду число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</a:t>
            </a:r>
            <a:r>
              <a:rPr b="0" lang="ru-RU" sz="2800" spc="-1" strike="noStrike" u="sng">
                <a:solidFill>
                  <a:srgbClr val="ccff66"/>
                </a:solidFill>
                <a:uFillTx/>
                <a:latin typeface="Times New Roman"/>
              </a:rPr>
              <a:t>чётным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ислом членов  среднее арифметическое чисел, записанных посередин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4, 72, 72, 75,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78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82, 85, 91, 9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4, 72, 72, 75, </a:t>
            </a:r>
            <a:r>
              <a:rPr b="0" lang="ru-RU" sz="2800" spc="-1" strike="noStrike" u="sng">
                <a:solidFill>
                  <a:srgbClr val="ffff00"/>
                </a:solidFill>
                <a:uFillTx/>
                <a:latin typeface="Arial"/>
              </a:rPr>
              <a:t>78, 8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85, 88, 91, 9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 u="sng">
                <a:solidFill>
                  <a:srgbClr val="ffff00"/>
                </a:solidFill>
                <a:uFillTx/>
                <a:latin typeface="Arial"/>
              </a:rPr>
              <a:t>78+8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=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8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35E0E-9235-4EC4-B786-BFB8450D888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4247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Статистические характеристики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84358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реднее  арифметическо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Размах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Мода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Медиан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E54E2-908B-423E-8908-F7D0E3A68CF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4772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99"/>
                </a:solidFill>
                <a:uFillTx/>
                <a:latin typeface="Arial"/>
              </a:rPr>
              <a:t>Этапы исследовательской деятельности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533520" y="3581280"/>
            <a:ext cx="1828800" cy="1676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3809880" y="3581280"/>
            <a:ext cx="1752840" cy="1676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609480" y="1523880"/>
            <a:ext cx="1752840" cy="1447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3809880" y="1523880"/>
            <a:ext cx="1752840" cy="1447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6477120" y="1523880"/>
            <a:ext cx="1828800" cy="1447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6553080" y="3581280"/>
            <a:ext cx="1828800" cy="1676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609480" y="1523880"/>
            <a:ext cx="18288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ормулиров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блемы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станов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дач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3809880" y="1562040"/>
            <a:ext cx="176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уч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формаци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 данн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блематик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6477120" y="1523880"/>
            <a:ext cx="196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бор метод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сслед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практическ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владение и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2"/>
          <p:cNvSpPr/>
          <p:nvPr/>
        </p:nvSpPr>
        <p:spPr>
          <a:xfrm>
            <a:off x="539640" y="3716280"/>
            <a:ext cx="175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бо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бственн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териа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3962520" y="3886200"/>
            <a:ext cx="13935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нализ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общ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6476040" y="3882960"/>
            <a:ext cx="192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ормулиров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вод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Line 15"/>
          <p:cNvSpPr/>
          <p:nvPr/>
        </p:nvSpPr>
        <p:spPr>
          <a:xfrm>
            <a:off x="2362320" y="2133720"/>
            <a:ext cx="1447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Line 16"/>
          <p:cNvSpPr/>
          <p:nvPr/>
        </p:nvSpPr>
        <p:spPr>
          <a:xfrm>
            <a:off x="5562720" y="22096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17"/>
          <p:cNvSpPr/>
          <p:nvPr/>
        </p:nvSpPr>
        <p:spPr>
          <a:xfrm>
            <a:off x="7238880" y="29718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 flipH="1">
            <a:off x="1371600" y="3200400"/>
            <a:ext cx="586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1371600" y="32004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362320" y="4495680"/>
            <a:ext cx="1447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5562720" y="4495680"/>
            <a:ext cx="99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D6AE8-1BB9-4AF3-B855-674E311E2AB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Статистические исследования. Статистическое оценивание и прогноз.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ормулировка цели исследов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еленаправленный сбор информации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статистическое наблюдени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общение и систематизация данных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руппировка данных, составление таблиц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нализ полученных данны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для этого используются различные обобщающие показател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944FD-BE6A-44B2-A2C8-26976DC6A96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Сбор и группировка статистических данных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1844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атематическая подготовка учащихся (40 чел) по теме (тест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684360" y="2637000"/>
          <a:ext cx="7708680" cy="2074680"/>
        </p:xfrm>
        <a:graphic>
          <a:graphicData uri="http://schemas.openxmlformats.org/drawingml/2006/table">
            <a:tbl>
              <a:tblPr/>
              <a:tblGrid>
                <a:gridCol w="2519280"/>
                <a:gridCol w="504720"/>
                <a:gridCol w="576360"/>
                <a:gridCol w="574560"/>
                <a:gridCol w="504720"/>
                <a:gridCol w="576360"/>
                <a:gridCol w="576360"/>
                <a:gridCol w="431640"/>
                <a:gridCol w="416160"/>
                <a:gridCol w="514080"/>
                <a:gridCol w="51444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исло верно выполненных задани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</a:tr>
              <a:tr h="88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астота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</a:tr>
            </a:tbl>
          </a:graphicData>
        </a:graphic>
      </p:graphicFrame>
      <p:sp>
        <p:nvSpPr>
          <p:cNvPr id="133" name="Text Box 71"/>
          <p:cNvSpPr/>
          <p:nvPr/>
        </p:nvSpPr>
        <p:spPr>
          <a:xfrm>
            <a:off x="1332000" y="508464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Таблица     часто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0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F33B9-3E67-4691-A9AE-2FB66D8D460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68360" y="3213000"/>
          <a:ext cx="8183520" cy="2089080"/>
        </p:xfrm>
        <a:graphic>
          <a:graphicData uri="http://schemas.openxmlformats.org/drawingml/2006/table">
            <a:tbl>
              <a:tblPr/>
              <a:tblGrid>
                <a:gridCol w="2530440"/>
                <a:gridCol w="533520"/>
                <a:gridCol w="533160"/>
                <a:gridCol w="614520"/>
                <a:gridCol w="379440"/>
                <a:gridCol w="676080"/>
                <a:gridCol w="554040"/>
                <a:gridCol w="463680"/>
                <a:gridCol w="674640"/>
                <a:gridCol w="674640"/>
                <a:gridCol w="549360"/>
              </a:tblGrid>
              <a:tr h="119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исло верно выполненных задани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</a:tr>
              <a:tr h="89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носительная частота, %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</a:tr>
            </a:tbl>
          </a:graphicData>
        </a:graphic>
      </p:graphicFrame>
      <p:sp>
        <p:nvSpPr>
          <p:cNvPr id="136" name="Text Box 58"/>
          <p:cNvSpPr/>
          <p:nvPr/>
        </p:nvSpPr>
        <p:spPr>
          <a:xfrm>
            <a:off x="1042920" y="5877000"/>
            <a:ext cx="59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Таблица относительных часто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60"/>
          <p:cNvSpPr/>
          <p:nvPr/>
        </p:nvSpPr>
        <p:spPr>
          <a:xfrm>
            <a:off x="826920" y="549360"/>
            <a:ext cx="784872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Отношение частоты к общему числу данных в ряду (в %) относительная часто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61"/>
          <p:cNvSpPr/>
          <p:nvPr/>
        </p:nvSpPr>
        <p:spPr>
          <a:xfrm>
            <a:off x="1042920" y="2276640"/>
            <a:ext cx="7274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тематическая подготовка учащихся (40 чел) по теме (тест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0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7A382-D712-451A-8DEB-B15B7B400DF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ff00"/>
                </a:solidFill>
                <a:uFillTx/>
                <a:latin typeface="Arial"/>
              </a:rPr>
              <a:t>Интервальный ряд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для анализа большего количества  данных одинакового знач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ff00"/>
                </a:solidFill>
                <a:uFillTx/>
                <a:latin typeface="Arial"/>
              </a:rPr>
              <a:t>Выборочное исследовани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если невозможно провести сплошно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00"/>
                </a:solidFill>
                <a:uFillTx/>
                <a:latin typeface="Arial"/>
              </a:rPr>
              <a:t>Генеральная совокупность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вся совокупность дан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ffff00"/>
                </a:solidFill>
                <a:uFillTx/>
                <a:latin typeface="Arial"/>
              </a:rPr>
              <a:t>Выборочная совокупность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выборка)- должна быть </a:t>
            </a:r>
            <a:r>
              <a:rPr b="0" i="1" lang="ru-RU" sz="2400" spc="-1" strike="noStrike">
                <a:solidFill>
                  <a:srgbClr val="ccff33"/>
                </a:solidFill>
                <a:latin typeface="Arial"/>
              </a:rPr>
              <a:t>представительной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репрезентативной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),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т.е. отражающей характерные особенности исследуемой генеральной совокуп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A095E-31E5-4B7F-A03C-EC24C4B89C4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Способы представления данных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43" name="Picture 4" descr="j0287311"/>
          <p:cNvPicPr/>
          <p:nvPr/>
        </p:nvPicPr>
        <p:blipFill>
          <a:blip r:embed="rId1"/>
          <a:stretch/>
        </p:blipFill>
        <p:spPr>
          <a:xfrm>
            <a:off x="324000" y="3716280"/>
            <a:ext cx="3509640" cy="29656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>
            <a:off x="1476360" y="1628640"/>
            <a:ext cx="6551640" cy="21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spcBef>
                <a:spcPts val="20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Различные таблиц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90000"/>
              </a:lnSpc>
              <a:spcBef>
                <a:spcPts val="20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Диаграмм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500"/>
                            </p:stCondLst>
                            <p:childTnLst>
                              <p:par>
                                <p:cTn id="6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350"/>
                                  </p:iterate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6f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3493C-0823-4904-A5BB-E4C1170E546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00"/>
                </a:solidFill>
                <a:latin typeface="Arial"/>
              </a:rPr>
              <a:t>Элементы статистики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17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Что такое статистик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17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Статистические характеристи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17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Статистические исследования. Статистическое оценивание и прогноз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17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Способы представления данны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4" descr="j0238036"/>
          <p:cNvPicPr/>
          <p:nvPr/>
        </p:nvPicPr>
        <p:blipFill>
          <a:blip r:embed="rId1"/>
          <a:stretch/>
        </p:blipFill>
        <p:spPr>
          <a:xfrm>
            <a:off x="6227640" y="189000"/>
            <a:ext cx="2778120" cy="19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" dur="250" autoRev="1" fill="hold"/>
                                        <p:tgtEl>
                                          <p:spTgt spid="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597AE-1B23-4A1A-BE5A-43789A16AFE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Arial"/>
              </a:rPr>
              <a:t>Способы представления данных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олбчатые диаграмм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руговые диаграмм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лигон (на координатной плоскости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истограммы (для изображения интервальных рядов данных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59294-185E-4D4A-A00F-B77E78FECF5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5720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855720"/>
                <a:gridCol w="303120"/>
                <a:gridCol w="287280"/>
                <a:gridCol w="287280"/>
                <a:gridCol w="244800"/>
                <a:gridCol w="242640"/>
                <a:gridCol w="258840"/>
                <a:gridCol w="257040"/>
                <a:gridCol w="250920"/>
                <a:gridCol w="258840"/>
                <a:gridCol w="253800"/>
                <a:gridCol w="273240"/>
                <a:gridCol w="264960"/>
              </a:tblGrid>
              <a:tr h="1187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месяц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I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II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IV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V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V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VI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VII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I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X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XI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8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сход электроэнергии, кВт-ч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8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7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7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9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0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806400" y="-2124000"/>
          <a:ext cx="1463760" cy="517320"/>
        </p:xfrm>
        <a:graphic>
          <a:graphicData uri="http://schemas.openxmlformats.org/drawingml/2006/table">
            <a:tbl>
              <a:tblPr/>
              <a:tblGrid>
                <a:gridCol w="146376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2" name="Picture 34" descr="clip_image002"/>
          <p:cNvPicPr/>
          <p:nvPr/>
        </p:nvPicPr>
        <p:blipFill>
          <a:blip r:embed="rId2"/>
          <a:stretch/>
        </p:blipFill>
        <p:spPr>
          <a:xfrm>
            <a:off x="395280" y="1125360"/>
            <a:ext cx="8353440" cy="5110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3" name=""/>
          <p:cNvGraphicFramePr/>
          <p:nvPr/>
        </p:nvGraphicFramePr>
        <p:xfrm>
          <a:off x="468360" y="189000"/>
          <a:ext cx="7991280" cy="914400"/>
        </p:xfrm>
        <a:graphic>
          <a:graphicData uri="http://schemas.openxmlformats.org/drawingml/2006/table">
            <a:tbl>
              <a:tblPr/>
              <a:tblGrid>
                <a:gridCol w="1693800"/>
                <a:gridCol w="598680"/>
                <a:gridCol w="569880"/>
                <a:gridCol w="566640"/>
                <a:gridCol w="487440"/>
                <a:gridCol w="479160"/>
                <a:gridCol w="511200"/>
                <a:gridCol w="509760"/>
                <a:gridCol w="493560"/>
                <a:gridCol w="514440"/>
                <a:gridCol w="500040"/>
                <a:gridCol w="542880"/>
                <a:gridCol w="523800"/>
              </a:tblGrid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месяц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I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II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IV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V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V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VI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VII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I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X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XI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  <a:tr h="641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 электроэнергии, кВт-ч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3772B-9803-4185-8E25-CE36D2EA556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5" name="Object 91"/>
          <p:cNvGraphicFramePr/>
          <p:nvPr/>
        </p:nvGraphicFramePr>
        <p:xfrm>
          <a:off x="1619280" y="0"/>
          <a:ext cx="7164360" cy="633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6" name="Object 9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0"/>
                    <a:ext cx="7164360" cy="633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0" y="115920"/>
          <a:ext cx="1619280" cy="3706920"/>
        </p:xfrm>
        <a:graphic>
          <a:graphicData uri="http://schemas.openxmlformats.org/drawingml/2006/table">
            <a:tbl>
              <a:tblPr/>
              <a:tblGrid>
                <a:gridCol w="939960"/>
                <a:gridCol w="679320"/>
              </a:tblGrid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5a58"/>
                          </a:solidFill>
                          <a:latin typeface="Arial Cyr"/>
                        </a:rPr>
                        <a:t>количество дете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5a58"/>
                          </a:solidFill>
                          <a:latin typeface="Arial Cyr"/>
                        </a:rPr>
                        <a:t>Частот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5a58"/>
                          </a:solidFill>
                          <a:latin typeface="Arial Cyr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5a58"/>
                          </a:solidFill>
                          <a:latin typeface="Arial Cyr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8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5a58"/>
                          </a:solidFill>
                          <a:latin typeface="Arial Cyr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5a58"/>
                          </a:solidFill>
                          <a:latin typeface="Arial Cyr"/>
                        </a:rPr>
                        <a:t>2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0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5a58"/>
                          </a:solidFill>
                          <a:latin typeface="Arial Cyr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5a58"/>
                          </a:solidFill>
                          <a:latin typeface="Arial Cyr"/>
                        </a:rPr>
                        <a:t>3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0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5a58"/>
                          </a:solidFill>
                          <a:latin typeface="Arial Cyr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5a58"/>
                          </a:solidFill>
                          <a:latin typeface="Arial Cyr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5a58"/>
                          </a:solidFill>
                          <a:latin typeface="Arial Cyr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5a58"/>
                          </a:solidFill>
                          <a:latin typeface="Arial Cyr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5a58"/>
                          </a:solidFill>
                          <a:latin typeface="Arial Cyr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5a58"/>
                          </a:solidFill>
                          <a:latin typeface="Arial Cyr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5209E-97D4-4F7F-BAF7-C41A4E5A77F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9" name="Object 67"/>
          <p:cNvGraphicFramePr/>
          <p:nvPr/>
        </p:nvGraphicFramePr>
        <p:xfrm>
          <a:off x="2195640" y="0"/>
          <a:ext cx="6035400" cy="6093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0" name="Object 6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0"/>
                    <a:ext cx="6035400" cy="609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0" y="333360"/>
          <a:ext cx="2050920" cy="4248000"/>
        </p:xfrm>
        <a:graphic>
          <a:graphicData uri="http://schemas.openxmlformats.org/drawingml/2006/table">
            <a:tbl>
              <a:tblPr/>
              <a:tblGrid>
                <a:gridCol w="820800"/>
                <a:gridCol w="1230120"/>
              </a:tblGrid>
              <a:tr h="1251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ремя, ч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носительная частота , 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</a:tr>
              <a:tr h="749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</a:tr>
              <a:tr h="749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</a:tr>
              <a:tr h="749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</a:tr>
              <a:tr h="749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438EB-5C59-42FD-90FF-0D9C17F8215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3" name="Object 16"/>
          <p:cNvGraphicFramePr/>
          <p:nvPr/>
        </p:nvGraphicFramePr>
        <p:xfrm>
          <a:off x="179280" y="404640"/>
          <a:ext cx="8280360" cy="5983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404640"/>
                    <a:ext cx="8280360" cy="598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35D4A-0B08-43B4-96B2-B9C900B7948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6" name="Object 2"/>
          <p:cNvGraphicFramePr/>
          <p:nvPr/>
        </p:nvGraphicFramePr>
        <p:xfrm>
          <a:off x="324000" y="274680"/>
          <a:ext cx="8424720" cy="5818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74680"/>
                    <a:ext cx="8424720" cy="581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79912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930E2-422D-426E-9D1C-19FCB159398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92120" y="-3166920"/>
          <a:ext cx="2492280" cy="771480"/>
        </p:xfrm>
        <a:graphic>
          <a:graphicData uri="http://schemas.openxmlformats.org/drawingml/2006/table">
            <a:tbl>
              <a:tblPr/>
              <a:tblGrid>
                <a:gridCol w="2492280"/>
              </a:tblGrid>
              <a:tr h="771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2" name="Picture 33" descr="clip_image002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897520"/>
          </a:xfrm>
          <a:prstGeom prst="rect">
            <a:avLst/>
          </a:prstGeom>
          <a:ln w="0">
            <a:noFill/>
          </a:ln>
        </p:spPr>
      </p:pic>
      <p:sp>
        <p:nvSpPr>
          <p:cNvPr id="173" name="Line 668"/>
          <p:cNvSpPr/>
          <p:nvPr/>
        </p:nvSpPr>
        <p:spPr>
          <a:xfrm flipV="1">
            <a:off x="539640" y="764640"/>
            <a:ext cx="7632720" cy="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53296-4AB5-4385-8790-50E1CDC49B4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5" name="Object 3"/>
          <p:cNvGraphicFramePr/>
          <p:nvPr/>
        </p:nvGraphicFramePr>
        <p:xfrm>
          <a:off x="546120" y="549360"/>
          <a:ext cx="7770960" cy="5900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6120" y="549360"/>
                    <a:ext cx="7770960" cy="59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500DA-12F9-4B39-AE59-1F4EEAA8045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179" name="Object 3"/>
          <p:cNvGraphicFramePr/>
          <p:nvPr/>
        </p:nvGraphicFramePr>
        <p:xfrm>
          <a:off x="539640" y="333360"/>
          <a:ext cx="8064720" cy="599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333360"/>
                    <a:ext cx="8064720" cy="59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A933F-D4A5-4FDB-8611-A496505C9AB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Продолжительность горения электроламп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183" name="Object 3"/>
          <p:cNvGraphicFramePr/>
          <p:nvPr/>
        </p:nvGraphicFramePr>
        <p:xfrm>
          <a:off x="1042920" y="1413000"/>
          <a:ext cx="6424560" cy="4294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413000"/>
                    <a:ext cx="6424560" cy="42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Text Box 6"/>
          <p:cNvSpPr/>
          <p:nvPr/>
        </p:nvSpPr>
        <p:spPr>
          <a:xfrm>
            <a:off x="4284720" y="6308640"/>
            <a:ext cx="3672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33"/>
                </a:solidFill>
                <a:latin typeface="Arial"/>
              </a:rPr>
              <a:t>Стр. 17, стр. 27 рис 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6f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9C9D2-2B65-48E2-8F40-1490723DBEB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066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marL="1117440" indent="-1117440" algn="ctr">
              <a:buClr>
                <a:srgbClr val="ffff00"/>
              </a:buClr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Arial"/>
              </a:rPr>
              <a:t>Что такое статистика?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00"/>
                </a:solidFill>
                <a:latin typeface="Times New Roman"/>
              </a:rPr>
              <a:t>Толковый словарь иностранных слов Л.П.Крыси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СТАТИСТИКА</a:t>
            </a: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[греч. statos стоящий; стоячий, неподвижный]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 Наука о количественных измерениях в развитии общества и экономик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 Количественный учет всякого рода массовых случаев, явле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. Научный метод количественных исследований в некоторых областях знаний.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Математическая статистика и т.д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татистик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— специалист в области статистики1-3.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татистический —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относящийся к статистике1-3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078BC-9BAD-49AA-BFAE-95399DF1D6F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И с п о л ь з у е м а я     л и т е р а т у р а    (1)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 В.Ф.Бутузов, Ю.М.Колягин, Г.Л. Луканкин, Э.Г.Позняк и др. «Математика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»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ебное пособие для 11кл общеобразовательных учреждений /рекомендовано Министерством образования РФ/ М., Просвещение, 1996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 Е.А. Бунимович, В.А. Булычёв: «Вероятность и статистика», пособие для общеобразовательных учебных заведений  5 – 9 классы / допущено Министерством образования Российской Федерации // Дрофа Москва 20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. Н.Я. Виленкин, Р.С. Гутер, С.И. Шварцбурд, Б.В. Овчинский, В.Г. Ашкенузе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«Алгебра» учебное пособие для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X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классов средних школ с математической специализацией» / второе издание, «Просвещение», Москва 1972. 237 – 24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024E4-F859-405F-8B2B-4F47CA460AF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И с п о л ь з у е м а я     л и т е р а т у р а    (2)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. Ю.Н. Макарычев, Н.Г.Миндюк «Алгебра: элементы статистики и теории вероятностей   7 – 9 классы»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д редакцией С.А.Теляковского М: Просвещение , 2006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. Н.Я. Виленкин:  «Индукция. Комбинаторика». Пособие для учителей. М., «Просвещение», 197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6. В.Л. Лютикас: «Школьнику о теории вероятностей» Учебное пособие по факультативному курсу для учащихся  8 – 10 классов,/ М., «Просвещение» 197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.Журналы  «Математика в школе»:  № 10 – 2003 г, № 5 – 2004 г, № 6 – 2004 г, № 7 – 2004 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6f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4BAB1-C3D6-4C05-8EC8-408E2FD96CF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00"/>
                </a:solidFill>
                <a:latin typeface="Times New Roman"/>
              </a:rPr>
              <a:t>Толковый словарь русского языка С.И. Ожегова и Н.Ю. Шведово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ука, изучающая количественные показатели развития общества и общественного производств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ffff"/>
                </a:solidFill>
                <a:latin typeface="Times New Roman"/>
              </a:rPr>
              <a:t>                </a:t>
            </a:r>
            <a:r>
              <a:rPr b="0" i="1" lang="ru-RU" sz="1600" spc="-1" strike="noStrike">
                <a:solidFill>
                  <a:srgbClr val="00ffff"/>
                </a:solidFill>
                <a:latin typeface="Times New Roman"/>
              </a:rPr>
              <a:t>(Общая теория статистики. Экономическая с. Сельскохозяйственная с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личественный учёт всякого рода массовых случаев, явлени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учный метод количественных исследований в некоторых областях знани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                                                  </a:t>
            </a:r>
            <a:r>
              <a:rPr b="0" i="1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1600" spc="-1" strike="noStrike">
                <a:solidFill>
                  <a:srgbClr val="00ffff"/>
                </a:solidFill>
                <a:latin typeface="Times New Roman"/>
              </a:rPr>
              <a:t>Математическая с</a:t>
            </a:r>
            <a:r>
              <a:rPr b="0" i="1" lang="ru-RU" sz="1600" spc="-1" strike="noStrike">
                <a:solidFill>
                  <a:srgbClr val="cc00cc"/>
                </a:solidFill>
                <a:latin typeface="Times New Roman"/>
              </a:rPr>
              <a:t>.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(наука о математических методах систематизации и использования статистических данных). </a:t>
            </a: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ru-RU" sz="1600" spc="-1" strike="noStrike">
                <a:solidFill>
                  <a:srgbClr val="00ffff"/>
                </a:solidFill>
                <a:latin typeface="Times New Roman"/>
              </a:rPr>
              <a:t>Лингвистическая с</a:t>
            </a: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(раздел лингвистики, занимающийся количественными закономерностями естественного языка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marL="1117440" indent="-1117440" algn="ctr">
              <a:buClr>
                <a:srgbClr val="ffff99"/>
              </a:buClr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99"/>
                </a:solidFill>
                <a:latin typeface="Arial"/>
              </a:rPr>
              <a:t>Что такое статистика?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6f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0A6DE-657B-44F3-96E0-6187E461DF6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8086680" cy="1081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marL="1117440" indent="-1117440" algn="ctr">
              <a:buClr>
                <a:srgbClr val="ffff00"/>
              </a:buClr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ffff00"/>
                </a:solidFill>
                <a:latin typeface="Arial"/>
              </a:rPr>
              <a:t>Что такое статистика?</a:t>
            </a:r>
            <a:br>
              <a:rPr sz="3600"/>
            </a:br>
            <a:r>
              <a:rPr b="1" i="1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ff"/>
                </a:solidFill>
                <a:latin typeface="Arial"/>
              </a:rPr>
              <a:t>Статистика</a:t>
            </a:r>
            <a:r>
              <a:rPr b="0" i="1" lang="ru-RU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ffff"/>
                </a:solidFill>
                <a:latin typeface="Arial"/>
              </a:rPr>
              <a:t>– получение, обработка, анализ и публикация информации, характеризующей количественные закономерности жизни в обществе в неразрывной связи с их количественным содержание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нциклопедический словар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4" descr="j0174157"/>
          <p:cNvPicPr/>
          <p:nvPr/>
        </p:nvPicPr>
        <p:blipFill>
          <a:blip r:embed="rId2"/>
          <a:stretch/>
        </p:blipFill>
        <p:spPr>
          <a:xfrm>
            <a:off x="611280" y="4653000"/>
            <a:ext cx="360036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8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C56A2-67FB-4A69-B0F6-06F46BAFFAE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ff33"/>
                </a:solidFill>
                <a:latin typeface="Monotype Corsiva"/>
              </a:rPr>
              <a:t>«   Есть   три   вида   лжи :  </a:t>
            </a:r>
            <a:br>
              <a:rPr sz="4400"/>
            </a:br>
            <a:r>
              <a:rPr b="0" i="1" lang="ru-RU" sz="4400" spc="-1" strike="noStrike">
                <a:solidFill>
                  <a:srgbClr val="ccff33"/>
                </a:solidFill>
                <a:latin typeface="Monotype Corsiva"/>
              </a:rPr>
              <a:t> обычная   ложь,   наглая  ложь  </a:t>
            </a:r>
            <a:br>
              <a:rPr sz="4400"/>
            </a:br>
            <a:r>
              <a:rPr b="0" i="1" lang="ru-RU" sz="4400" spc="-1" strike="noStrike">
                <a:solidFill>
                  <a:srgbClr val="ccff33"/>
                </a:solidFill>
                <a:latin typeface="Monotype Corsiva"/>
              </a:rPr>
              <a:t>и   статистическая . »</a:t>
            </a:r>
            <a:br>
              <a:rPr sz="4000"/>
            </a:br>
            <a:br>
              <a:rPr sz="4000"/>
            </a:b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2195640" y="443700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Б. Дизраэли </a:t>
            </a:r>
            <a:br>
              <a:rPr sz="3200"/>
            </a:br>
            <a:r>
              <a:rPr b="0" i="1" lang="ru-RU" sz="1600" spc="-1" strike="noStrike">
                <a:solidFill>
                  <a:srgbClr val="000000"/>
                </a:solidFill>
                <a:latin typeface="Monotype Corsiva"/>
              </a:rPr>
              <a:t>(а н г л и й с к и й   п р е м ь е р   м и н и с т р,  </a:t>
            </a:r>
            <a:r>
              <a:rPr b="0" i="1" lang="en-US" sz="1600" spc="-1" strike="noStrike">
                <a:solidFill>
                  <a:srgbClr val="000000"/>
                </a:solidFill>
                <a:latin typeface="Monotype Corsiva"/>
              </a:rPr>
              <a:t>X</a:t>
            </a:r>
            <a:r>
              <a:rPr b="0" i="1" lang="ru-RU" sz="1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Monotype Corsiva"/>
              </a:rPr>
              <a:t>I</a:t>
            </a:r>
            <a:r>
              <a:rPr b="0" i="1" lang="ru-RU" sz="1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Monotype Corsiva"/>
              </a:rPr>
              <a:t>X </a:t>
            </a:r>
            <a:r>
              <a:rPr b="0" i="1" lang="ru-RU" sz="1600" spc="-1" strike="noStrike">
                <a:solidFill>
                  <a:srgbClr val="000000"/>
                </a:solidFill>
                <a:latin typeface="Monotype Corsiva"/>
              </a:rPr>
              <a:t> в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9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6f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C9553-7E2F-4E8D-BEF8-579F08D56B1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00"/>
                </a:solidFill>
                <a:latin typeface="Arial"/>
              </a:rPr>
              <a:t>Какие статистические данные можно считать достоверными?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76440"/>
          </a:xfrm>
          <a:prstGeom prst="rect">
            <a:avLst/>
          </a:prstGeom>
          <a:solidFill>
            <a:srgbClr val="6d6fc7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Если исследования проводились на достаточно большой, случайным образом составленной выборк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Чётко определено, что подразумевается под тем или иным поняти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395280" y="4221000"/>
            <a:ext cx="8748720" cy="2485440"/>
          </a:xfrm>
          <a:prstGeom prst="rect">
            <a:avLst/>
          </a:prstGeom>
          <a:solidFill>
            <a:srgbClr val="6d6f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Статистические данные не должны «убаюкивать» наше сознание, но и не должны без причины пугать.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Необходимо уметь видеть за цифрами объективный характер явления, уметь критически оценивать статистические данные и те выводы, которые сделаны на основе этих данны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986F2-E67C-4FCD-8312-7C14A68DE2F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Некоторые «искусные» приёмы средств массовой информации для создания нужного им эффекта от сообщения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79" name="Object 38"/>
          <p:cNvGraphicFramePr/>
          <p:nvPr/>
        </p:nvGraphicFramePr>
        <p:xfrm>
          <a:off x="684360" y="1557360"/>
          <a:ext cx="1577880" cy="3024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0" name="Object 3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1557360"/>
                    <a:ext cx="1577880" cy="30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Text Box 37"/>
          <p:cNvSpPr/>
          <p:nvPr/>
        </p:nvSpPr>
        <p:spPr>
          <a:xfrm>
            <a:off x="2268360" y="2205000"/>
            <a:ext cx="44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40"/>
          <p:cNvSpPr/>
          <p:nvPr/>
        </p:nvSpPr>
        <p:spPr>
          <a:xfrm>
            <a:off x="4859280" y="2205000"/>
            <a:ext cx="367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3" name="Object 41"/>
          <p:cNvGraphicFramePr/>
          <p:nvPr/>
        </p:nvGraphicFramePr>
        <p:xfrm>
          <a:off x="3419640" y="1773360"/>
          <a:ext cx="4135320" cy="20160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84" name="Object 4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419640" y="1773360"/>
                    <a:ext cx="4135320" cy="20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Object 44"/>
          <p:cNvGraphicFramePr/>
          <p:nvPr/>
        </p:nvGraphicFramePr>
        <p:xfrm>
          <a:off x="755640" y="5013360"/>
          <a:ext cx="3168720" cy="1611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6" name="Object 4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55640" y="5013360"/>
                    <a:ext cx="3168720" cy="16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Object 46"/>
          <p:cNvGraphicFramePr/>
          <p:nvPr/>
        </p:nvGraphicFramePr>
        <p:xfrm>
          <a:off x="5651640" y="3933720"/>
          <a:ext cx="2665440" cy="2924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8" name="Object 4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651640" y="3933720"/>
                    <a:ext cx="2665440" cy="29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5A0CE-8F6B-49F2-A0C0-1F8B53BDE5C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Статистические характеристики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82440" indent="-824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i="1" lang="ru-RU" sz="3600" spc="-1" strike="noStrike">
                <a:solidFill>
                  <a:srgbClr val="ffff00"/>
                </a:solidFill>
                <a:latin typeface="Arial"/>
              </a:rPr>
              <a:t>Среднее арифметическо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82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яда чисел  -    частное от деления суммы этих чисел на число слагаемы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2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2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адача: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колько минут тратят на домашнее задание по алгебр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2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3, 30, 25, 20, 34, 25, 30, 34, 3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2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 u="sng">
                <a:solidFill>
                  <a:srgbClr val="ffff99"/>
                </a:solidFill>
                <a:uFillTx/>
                <a:latin typeface="Arial"/>
              </a:rPr>
              <a:t>23+30+25+20+34+25+30+34+35+14</a:t>
            </a:r>
            <a:r>
              <a:rPr b="0" lang="ru-RU" sz="3200" spc="-1" strike="noStrike" baseline="-25000">
                <a:solidFill>
                  <a:srgbClr val="ffff99"/>
                </a:solidFill>
                <a:latin typeface="Arial"/>
              </a:rPr>
              <a:t> = </a:t>
            </a: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2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2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                          </a:t>
            </a: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Line 5"/>
          <p:cNvSpPr/>
          <p:nvPr/>
        </p:nvSpPr>
        <p:spPr>
          <a:xfrm>
            <a:off x="900000" y="2924280"/>
            <a:ext cx="7201080" cy="0"/>
          </a:xfrm>
          <a:prstGeom prst="line">
            <a:avLst/>
          </a:prstGeom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5T15:21:03Z</dcterms:created>
  <dc:creator>Грязнова</dc:creator>
  <dc:description/>
  <dc:language>en-US</dc:language>
  <cp:lastModifiedBy>Грязновы</cp:lastModifiedBy>
  <dcterms:modified xsi:type="dcterms:W3CDTF">2009-04-23T16:24:12Z</dcterms:modified>
  <cp:revision>26</cp:revision>
  <dc:subject/>
  <dc:title>Элементы статистики и теории вероятностей  9 класс</dc:title>
</cp:coreProperties>
</file>