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35F-9AB4-4136-8C97-94759E71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3B7-DD93-4D33-95B7-D9299048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DEB-B5AF-4F67-AD21-25B2FA7C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1A7-DE1C-41D4-89BC-3F88EF9C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B404-D5AE-4A8E-BDD7-B5E97261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AE2D-59A4-4C9B-8488-745A38D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2A8C-834C-472F-9E17-81E16E2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688-3B46-4256-8C4F-7E3CBDE0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0B67-CC9E-429C-A49B-8D97EBE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1761-82C5-44EC-8A6C-E005C254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D5B2-9E8A-434E-8B4E-511CD4E3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07C-38D2-471C-85FF-5DA807FA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18F6-5030-4777-A068-5E4D1C8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5746-D707-4F87-A33E-C71AB43F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AB91-B1BC-4A37-95A7-F28B687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F16-33D2-4BBB-A1EE-2824978A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BD44-CDD1-4A69-882B-FE7ED940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5D5-CE72-4342-95E7-28C8994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CFD-1672-4D19-BBB5-7CDAB685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D52-D408-40FD-A637-2ED7ADF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668-7A79-44BB-B716-F593058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B94-8B8F-421D-8A5A-AD51901F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9BF-6E17-4CE2-88CE-7A4ACB7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75D-D406-49EA-9836-86A9CCA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E9C4-71F7-4881-BF4C-02BCE1C94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FBF4-3DB3-499B-B7A1-B6F83BCFCA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БЕЛКООПСОЮЗ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Учреждение образования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«Белорусский торгово-экономический университет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потребительской кооперации»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Кафедра товароведения непродовольственных товаров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ребования к оформлению и содержанию дипломных рабо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приложени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ЛОЖЕНИЕ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люстрации, таблицы и формулы, помещаемые в приложении, нумеруются в пределах каждого приложения (например, «Рис. П.1.2» - второй рисунок первого приложения, «Табл. П.2.1» - первая таблица второго приложения, «П.1.3» - третья формула первого прилож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сылок на литературные источники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сылке на использованный источник после упоминания о нем в тексте дипломной работы проставляют в квадратных скобках (косых – в случаях печатания) номер, под которым оно значится в бибилиографическом списке. В необходимых случаях (обычно при использовании цифровых данных или цитаты) указываются и страницы, на которых помещается используемый источ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6, с. 4-5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]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или /6, с. 4-5/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писок использованных источни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авицкий, А. А. Основы ценообразования : учеб. пособие для вузов / А. А. Савицкий. –  Мн. : ДизайнПро, 2004. – 119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ихоненко, Т. П. Рынок ценных бумаг : учеб.-метод. пособие для вузов / Т. П. Тихоненко, В. А. Казак. – Мн. : Веды, 2004. – 58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: учеб. для вузов / А. И. Балдинова [и др.]; под ред. И. Е. Тишкова.– 5-е изд., перераб. и доп. – Мн. : Высш. шк., 2001. – 685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и контроль в Республике Беларусь : сб. нормат. актов. – Мн. : Амалфея, 2004. – 512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защите прав потребителей : закон Респ. Беларусь от 9 янв. 2002 г., № 90-3 : по состоянию на 25 марта 2004 г. – Мн. :  Дикта, 2004. – 5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бюджете Республики Беларусь на 2005 год : закон Респ. Беларусь от 18 нояб. 2004 г., № 339-З // Нац. реестр правовых актов Респ. Беларусь. – 2004. – № 189. – С. 20–7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некоторых мерах по противодействию торговле людьми : декрет Президента Респ. Беларусь от 9 марта 2005 г., № 3 // Нац. реестр правовых актов Респ. Беларусь. – 2005. – № 40. – С. 5–1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ппаратура радиоэлектронная бытовая. Входные и выходные параметры и типы соединений. Технические требования : ГОСТ Р 517721–2001.  –  Введ. 2002-01-01. – М. : Изд-во стандартов, 2001. – 27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Инструкция о порядке отражения в бухгалтерском учете налога на добавленную стоимость : утв. постановлением М-ва финансов Респ. Беларусь от 16 дек. 2003 г., № 176  //  Гл. бухгалтер. – 2004. – № 4. – С. 45–4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совершенствовании государственного регулирования аудиторской деятельности : указ Президента Респ. Беларусь от 12 февр. 2004 г., № 67 // Нац. реестр правовых актов Респ. Беларусь. – 2004. – № 26. – С. 26–27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жевникова, Т. С. Требования к разработке порядка применения скидок / Т. С. Кожевникова  // Экономика. Финансы. Упр. – 2005. – № 1. – С. 55–5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лимович, Л. К. Роль и место сферы услуг в общественном производстве / Л. К. Климович, И. А. Ткаченко // Весн. Бел. дзярж. экан. ун-та. – 2005. – № 1. – С. 67–7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емобин – натуральная биологически активная добавка нового поколения / С. И. Черняев  [и др.]  // Пищ. пром-сть. – 2000. – № 6. – С. 50–5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льское хозяйство России в 2004 году // Экономика сел. хоз-ва России. – 2005. – № 1. – С. 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4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ременные нормы технического оснащения типовых продовольственных магазинов: приказ Министерства торговли Респ. Беларусь от 22.05.1998 г. № 66// Консультант [Электронный ресурс]. — Дата доступа 26.11.2006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государственная библиот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/ Центр информ. технологий РГБ ; ред. Власенко Т. В. ; Web-мастер Козлова Н. В. – Электрон. дан. – М. : Рос. гос. б-ка, 1997 –    . – Режим доступа: http//www.rsl.ru, свободный. – Загл. с экрана. – Яз. рус., анг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каталог ГПНТБ 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: база данных содержит сведения о всех видах лит., поступающей в фонд ГПНТБ России. – Электрон. дан. (5 файлов, 178 тыс. записей). – М., [199-]. – Режим доступа: http://www.gpntb.ru/win/search/help/el-cat.html. – Загл. с экран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8001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труктура дипломной работы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итульный лис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ление на выполнение дипломной рабо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ка на выполнение темы дипломной работы от организации-заказчика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е на выполнение дипломной рабо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равка о внедрении и экономической эффективности полученных результатов и о достоверности данны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руководител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консультан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шняя реценз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ер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дипломной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0" y="0"/>
            <a:ext cx="914400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ООПСОЮ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ЛОРУССКИЙ ТОРГОВО-ЭКОНОМ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ИТЕТ ПОТРЕБИТЕЛЬСКОЙ КООПЕРАЦ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 flipH="1" flipV="1">
            <a:off x="-165240" y="-867600"/>
            <a:ext cx="18432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248520" y="1219320"/>
            <a:ext cx="236196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ове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вольственных това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щена к защит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кафед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Е. Сыцк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__» _____________ 2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0" y="2743200"/>
            <a:ext cx="899172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Я РАБОТ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уктуры ассортимента, оценка конкурентоспособности часов и коммерческая деятельность по организации хозяйственных связей с поставщиками (на материалах Слонимского райпо)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-дипломни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ый факульте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ции и менеджмен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кур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упп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-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Ольга Пет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, 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а Ольга Иван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ультан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.преподаватель                                                                                                      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ванова Нина Васил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ель 2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Порядок оформления содержа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ояние рынка (швейных) товаров в Республике Беларус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1 Состояние производства и потребления (швейных изделий) в Республике Беларус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2 Тенденция развития рынка и формирование структуры ассортимен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Анализ и 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ы торгового ассортимен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ый ассортимент (швейных товаров) как основа формирования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2 Анализ структуры ассортимента товаров торгового предприят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3 Пути формирования оптимальной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Оценка уровня качества, конкурентоспособности и экспертиза (швейных) това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1 Характеристика потребительских свойств и номенклатура показателей качест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2 Современные методы оценки и экспертиза качества товар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ИСОК ИСПОЛЬЗОВАННЫХ ИСТОЧ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Требования к оформлению текст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о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левое – 30 мм, правое – 10, верхнее – 15, нижнее –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Шрифт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чати должен быть четким , черного цвета средней жирности, одинаковым по всему объёму текста дипломной работы. Количество знаков в строке должно составлять 60-70, с межстрочным интервалом, позволяющим разместить 40 +/- 3 строк на страни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Общий объё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ипломной работы должен содержать до 100 страниц рукописного текста или 70-80 страниц печатного текста без прилож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80720" y="930240"/>
            <a:ext cx="60375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римерное со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ежду отдельными частями работ следующее: введение – 4-5 страниц, заключение –5-6, список использованных источников – 3-4, основная часть – 50-60 стран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Нумерация страниц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ницы дипломной работы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едует нумеровать арабскими цифрами, соблюдая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сквозную нумерацию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у тексту, включая список использованных источников и приложения. Номер страницы проставляют в правом верхнем углу без точки в ко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структурную часть дипломной работы следует начинать с нового ли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тульный лист, содержание, введение, заключение и список использованных источников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не нумеруются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умерация начинается со второго листа введения– 4-5 стран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930240"/>
            <a:ext cx="86868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труктурных часте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РОЛЬ И СИСТЕМА ХОЗЯЙСТВЕННЫХ СВЯЗЕЙ В ТОРГОВЛЕ С ПРОМЫШЛ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1 Сущность и содержание хозяйственных связей торговли с промышленностью, их правовое регул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важное значение имеют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929880"/>
            <a:ext cx="74091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таблиц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2147760"/>
            <a:ext cx="792468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аблица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намика социально-экономических показателей торговой отрасли Витебского райпо за 2005-2007 г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160" y="3429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таблица занимает более одной страницы, то на второй странице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Продолжение 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 ссылке  на  таблицу  в тексте 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рисун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4732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исунок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руктура оптового товарооборота по формам собственности за 2006 год, в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6" name="Object 6"/>
          <p:cNvGraphicFramePr/>
          <p:nvPr/>
        </p:nvGraphicFramePr>
        <p:xfrm>
          <a:off x="1517760" y="1830240"/>
          <a:ext cx="709272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830240"/>
                    <a:ext cx="709272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32:15Z</dcterms:created>
  <dc:creator>418m9</dc:creator>
  <dc:description/>
  <dc:language>en-US</dc:language>
  <cp:lastModifiedBy>Коля</cp:lastModifiedBy>
  <dcterms:modified xsi:type="dcterms:W3CDTF">2013-04-17T15:03:32Z</dcterms:modified>
  <cp:revision>20</cp:revision>
  <dc:subject/>
  <dc:title>БЕЛКООПСОЮЗ Учреждение образования «Белорусский торгово-экономический университет  потребительской кооперации» Кафедра коммерции и технологии торговли</dc:title>
</cp:coreProperties>
</file>