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1E0-08D1-4768-B40D-991E1679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2A6-D805-4B51-A745-6499F8CE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03C-AA01-4779-98A8-EC667AE2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EC1-6A57-4207-A9D0-E269D642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258B-CF97-4F0D-8B5C-D3D805AE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849F-3B78-4C69-9207-8BEE40CA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6DA9-2C9E-4C62-A0B7-A3C5360D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1E5C-115A-4F5F-B060-422D6620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5196-FF72-41F9-8198-7F67E332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BB1A-7F68-499A-8CB1-4B61D29D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779A-8345-466E-BC8A-1378EF90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264-4F25-4D1E-8D5C-B95FCC04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9D85-8617-4F57-971D-8198DDA7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E72A-4ED3-4250-89E8-EB809461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D807-3BD6-4286-BE95-EF8A5892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1A1A-9365-4122-8C44-D0DEDBC4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6636-212A-4D5C-9F41-CEFA8A52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FCF-5059-4781-BB57-97CA5A40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96C-1596-43F5-A92E-CD1ADAFD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671-9087-44E8-9D5B-534EE254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9DA-410A-4FE7-8FFB-6DC07598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DEE-6A72-4A9B-B30C-41E1C7E1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485-372D-484A-88F4-46F8EFD7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856-7ED6-45AB-93CE-793958AD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9A0F-44CC-467C-B795-3A2100F014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7440"/>
                <a:ext cx="2732400" cy="1582200"/>
                <a:chOff x="0" y="217440"/>
                <a:chExt cx="2732400" cy="158220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5156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5156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5156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5156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5156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AB64-8F41-4F87-850A-9C2B4360B0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БЕЛКООПСОЮЗ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Учреждение образования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«Белорусский торгово-экономический университет 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потребительской кооперации»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</a:rPr>
              <a:t>Кафедра товароведения непродовольственных товаров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295280" y="403848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ребования к оформлению и содержанию дипломных рабо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930240"/>
            <a:ext cx="73328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приложений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ЛОЖЕНИЕ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ллюстрации, таблицы и формулы, помещаемые в приложении, нумеруются в пределах каждого приложения (например, «Рис. П.1.2» - второй рисунок первого приложения, «Табл. П.2.1» - первая таблица второго приложения, «П.1.3» - третья формула первого приложени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ссылок на литературные источники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сылке на использованный источник после упоминания о нем в тексте дипломной работы проставляют в квадратных скобках (косых – в случаях печатания) номер, под которым оно значится в бибилиографическом списке. В необходимых случаях (обычно при использовании цифровых данных или цитаты) указываются и страницы, на которых помещается используемый источни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  <a:ea typeface="Tahoma"/>
              </a:rPr>
              <a:t>[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6, с. 4-5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  <a:ea typeface="Tahoma"/>
              </a:rPr>
              <a:t>]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или /6, с. 4-5/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Список использованных источников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Савицкий, А. А. Основы ценообразования : учеб. пособие для вузов / А. А. Савицкий. –  Мн. : ДизайнПро, 2004. – 119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Тихоненко, Т. П. Рынок ценных бумаг : учеб.-метод. пособие для вузов / Т. П. Тихоненко, В. А. Казак. – Мн. : Веды, 2004. – 58 с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Бухгалтерский учет : учеб. для вузов / А. И. Балдинова [и др.]; под ред. И. Е. Тишкова.– 5-е изд., перераб. и доп. – Мн. : Высш. шк., 2001. – 685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Бухгалтерский учет и контроль в Республике Беларусь : сб. нормат. актов. – Мн. : Амалфея, 2004. – 512 с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 защите прав потребителей : закон Респ. Беларусь от 9 янв. 2002 г., № 90-3 : по состоянию на 25 марта 2004 г. – Мн. :  Дикта, 2004. – 52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 бюджете Республики Беларусь на 2005 год : закон Респ. Беларусь от 18 нояб. 2004 г., № 339-З // Нац. реестр правовых актов Респ. Беларусь. – 2004. – № 189. – С. 20–7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 некоторых мерах по противодействию торговле людьми : декрет Президента Респ. Беларусь от 9 марта 2005 г., № 3 // Нац. реестр правовых актов Респ. Беларусь. – 2005. – № 40. – С. 5–1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Аппаратура радиоэлектронная бытовая. Входные и выходные параметры и типы соединений. Технические требования : ГОСТ Р 517721–2001.  –  Введ. 2002-01-01. – М. : Изд-во стандартов, 2001. – 27 с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Инструкция о порядке отражения в бухгалтерском учете налога на добавленную стоимость : утв. постановлением М-ва финансов Респ. Беларусь от 16 дек. 2003 г., № 176  //  Гл. бухгалтер. – 2004. – № 4. – С. 45–4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9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О совершенствовании государственного регулирования аудиторской деятельности : указ Президента Респ. Беларусь от 12 февр. 2004 г., № 67 // Нац. реестр правовых актов Респ. Беларусь. – 2004. – № 26. – С. 26–27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0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жевникова, Т. С. Требования к разработке порядка применения скидок / Т. С. Кожевникова  // Экономика. Финансы. Упр. – 2005. – № 1. – С. 55–5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Климович, Л. К. Роль и место сферы услуг в общественном производстве / Л. К. Климович, И. А. Ткаченко // Весн. Бел. дзярж. экан. ун-та. – 2005. – № 1. – С. 67–73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2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Гемобин – натуральная биологически активная добавка нового поколения / С. И. Черняев  [и др.]  // Пищ. пром-сть. – 2000. – № 6. – С. 50–5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3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Сельское хозяйство России в 2004 году // Экономика сел. хоз-ва России. – 2005. – № 1. – С. 9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4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ременные нормы технического оснащения типовых продовольственных магазинов: приказ Министерства торговли Респ. Беларусь от 22.05.1998 г. № 66// Консультант [Электронный ресурс]. — Дата доступа 26.11.2006 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государственная библиоте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Электронный ресурс] / Центр информ. технологий РГБ ; ред. Власенко Т. В. ; Web-мастер Козлова Н. В. – Электрон. дан. – М. : Рос. гос. б-ка, 1997 –    . – Режим доступа: http//www.rsl.ru, свободный. – Загл. с экрана. – Яз. рус., анг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каталог ГПНТБ Росс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Электронный ресурс] : база данных содержит сведения о всех видах лит., поступающей в фонд ГПНТБ России. – Электрон. дан. (5 файлов, 178 тыс. записей). – М., [199-]. – Режим доступа: http://www.gpntb.ru/win/search/help/el-cat.html. – Загл. с экран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1760" y="929880"/>
            <a:ext cx="80010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Структура дипломной работы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итульный лис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явление на выполнение дипломной рабо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явка на выполнение темы дипломной работы от организации-заказчика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е на выполнение дипломной рабо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равка о внедрении и экономической эффективности полученных результатов и о достоверности данны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зыв руководител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зыв консультан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ешняя реценз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фер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дипломной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9"/>
          <p:cNvSpPr/>
          <p:nvPr/>
        </p:nvSpPr>
        <p:spPr>
          <a:xfrm>
            <a:off x="0" y="0"/>
            <a:ext cx="914400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ООПСОЮ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Е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ЛОРУССКИЙ ТОРГОВО-ЭКОНОМИЧЕ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ИТЕТ ПОТРЕБИТЕЛЬСКОЙ КООПЕРАЦИ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0"/>
          <p:cNvSpPr/>
          <p:nvPr/>
        </p:nvSpPr>
        <p:spPr>
          <a:xfrm flipH="1" flipV="1">
            <a:off x="-165240" y="-867600"/>
            <a:ext cx="18432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6248520" y="1219320"/>
            <a:ext cx="236196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оведе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довольственных това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щена к защит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кафедр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Е. Сыцк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__» _____________ 20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0" y="2743200"/>
            <a:ext cx="8991720" cy="46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82760" indent="-32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НАЯ РАБОТ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труктуры ассортимента, оценка конкурентоспособности часов и коммерческая деятельность по организации хозяйственных связей с поставщиками (на материалах Слонимского райпо)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-дипломник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очный факульте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ции и менеджмент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кур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рупп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с-4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а Ольга Петр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ент, к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бьева Ольга Иван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сультан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.преподаватель                                                                                                       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ванова Нина Василье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ель 20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32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Порядок оформления содержания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тояние рынка (швейных) товаров в Республике Беларус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1 Состояние производства и потребления (швейных изделий) в Республике Беларусь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2 Тенденция развития рынка и формирование структуры ассортимен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Анализ и 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ы торгового ассортимент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временный ассортимент (швейных товаров) как основа формирования структуры торгового ассортимен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2 Анализ структуры ассортимента товаров торгового предприят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3 Пути формирования оптимальной структуры торгового ассортимен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 Оценка уровня качества, конкурентоспособности и экспертиза (швейных) товар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1 Характеристика потребительских свойств и номенклатура показателей качест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2 Современные методы оценки и экспертиза качества товаро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ПИСОК ИСПОЛЬЗОВАННЫХ ИСТОЧНИ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ЛОЖ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Требования к оформлению текста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Поля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левое – 30 мм, правое – 10, верхнее – 15, нижнее – 20 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Шрифт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чати должен быть четким , черного цвета средней жирности, одинаковым по всему объёму текста дипломной работы. Количество знаков в строке должно составлять 60-70, с межстрочным интервалом, позволяющим разместить 40 +/- 3 строк на страниц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Общий объё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ипломной работы должен содержать до 100 страниц рукописного текста или 70-80 страниц печатного текста без прилож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80720" y="930240"/>
            <a:ext cx="60375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Примерное соотно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ежду отдельными частями работ следующее: введение – 4-5 страниц, заключение –5-6, список использованных источников – 3-4, основная часть – 50-60 страни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Нумерация страниц: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ницы дипломной работы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едует нумеровать арабскими цифрами, соблюдая </a:t>
            </a:r>
            <a:r>
              <a:rPr b="1" i="1" lang="ru-RU" sz="2400" spc="-1" strike="noStrike">
                <a:solidFill>
                  <a:srgbClr val="ff3300"/>
                </a:solidFill>
                <a:latin typeface="Tahoma"/>
              </a:rPr>
              <a:t>сквозную нумерацию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 всему тексту, включая список использованных источников и приложения. Номер страницы проставляют в правом верхнем углу без точки в конц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ждую структурную часть дипломной работы следует начинать с нового лист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тульный лист, содержание, введение, заключение и список использованных источников </a:t>
            </a:r>
            <a:r>
              <a:rPr b="1" i="1" lang="ru-RU" sz="2400" spc="-1" strike="noStrike">
                <a:solidFill>
                  <a:srgbClr val="ff3300"/>
                </a:solidFill>
                <a:latin typeface="Tahoma"/>
              </a:rPr>
              <a:t>не нумеруются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умерация начинается со второго листа введения– 4-5 страниц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930240"/>
            <a:ext cx="86868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структурных частей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8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РОЛЬ И СИСТЕМА ХОЗЯЙСТВЕННЫХ СВЯЗЕЙ В ТОРГОВЛЕ С ПРОМЫШЛ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1 Сущность и содержание хозяйственных связей торговли с промышленностью, их правовое регулир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современном этапе важное значение имеют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929880"/>
            <a:ext cx="740916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таблиц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2147760"/>
            <a:ext cx="7924680" cy="11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25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аблица 1.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инамика социально-экономических показателей торговой отрасли Витебского райпо за 2005-2007 г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25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3160" y="34290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таблица занимает более одной страницы, то на второй странице указывается: </a:t>
            </a:r>
            <a:r>
              <a:rPr b="0" i="1" lang="ru-RU" sz="2400" spc="-1" strike="noStrike">
                <a:solidFill>
                  <a:srgbClr val="ff3300"/>
                </a:solidFill>
                <a:latin typeface="Tahoma"/>
              </a:rPr>
              <a:t>Продолжение табл. 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 ссылке  на  таблицу  в тексте  указывается: </a:t>
            </a:r>
            <a:r>
              <a:rPr b="0" i="1" lang="ru-RU" sz="2400" spc="-1" strike="noStrike">
                <a:solidFill>
                  <a:srgbClr val="ff3300"/>
                </a:solidFill>
                <a:latin typeface="Tahoma"/>
              </a:rPr>
              <a:t>табл. 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930240"/>
            <a:ext cx="73328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      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Оформление рисунков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4732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Рисунок 1.1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руктура оптового товарооборота по формам собственности за 2006 год, в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6" name="Object 6"/>
          <p:cNvGraphicFramePr/>
          <p:nvPr/>
        </p:nvGraphicFramePr>
        <p:xfrm>
          <a:off x="1517760" y="1830240"/>
          <a:ext cx="709272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830240"/>
                    <a:ext cx="709272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32:15Z</dcterms:created>
  <dc:creator>418m9</dc:creator>
  <dc:description/>
  <dc:language>en-US</dc:language>
  <cp:lastModifiedBy>Коля</cp:lastModifiedBy>
  <dcterms:modified xsi:type="dcterms:W3CDTF">2013-04-17T15:03:32Z</dcterms:modified>
  <cp:revision>20</cp:revision>
  <dc:subject/>
  <dc:title>БЕЛКООПСОЮЗ Учреждение образования «Белорусский торгово-экономический университет  потребительской кооперации» Кафедра коммерции и технологии торговли</dc:title>
</cp:coreProperties>
</file>