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048-26BA-43CB-AA17-E6FB5AFF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81B-A0A9-49B0-A850-62CA2FED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434-33D0-4FEB-865D-75480F41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6D3D-83A6-4E90-A499-87AB38E2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FFF-F7B5-43C3-81B7-8CC42522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A05-FB78-4178-8DE4-225C5581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BFD-B781-420D-802A-F153EF33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2AB-C644-47C3-97D4-EC4878F6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F69-4477-4B1E-AF56-1CB96160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3F0B-3505-4251-859C-129D36C0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84C-851A-41C3-B6CA-F6159E1C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1D9F-5DD8-4D38-B34D-0B74B84E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C3D2-5761-4781-8CC3-068CFA4085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fd293"/>
                </a:solidFill>
                <a:latin typeface="Arial"/>
              </a:rPr>
              <a:t>Выполнение </a:t>
            </a:r>
            <a:br>
              <a:rPr sz="5400"/>
            </a:br>
            <a:r>
              <a:rPr b="1" lang="ru-RU" sz="5400" spc="-1" strike="noStrike">
                <a:solidFill>
                  <a:srgbClr val="dfd293"/>
                </a:solidFill>
                <a:latin typeface="Arial"/>
              </a:rPr>
              <a:t>композиций в технике «бумажная пластика»</a:t>
            </a:r>
            <a:endParaRPr b="0" lang="en-US" sz="5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глядно-дидактические материалы к уроку «Рельефная композиция «Аленький цветочек», «Папараць кветка», 2 класс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360036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1d1cb"/>
                </a:solidFill>
                <a:latin typeface="Arial"/>
              </a:rPr>
              <a:t>Панно, выполненное в технике «бумажная пластика»</a:t>
            </a:r>
            <a:br>
              <a:rPr sz="4000"/>
            </a:br>
            <a:r>
              <a:rPr b="0" lang="ru-RU" sz="4000" spc="-1" strike="noStrike">
                <a:solidFill>
                  <a:srgbClr val="d1d1cb"/>
                </a:solidFill>
                <a:latin typeface="Arial"/>
              </a:rPr>
              <a:t> (торцовое приклеивание бумажной ленты)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0" name="Picture 3" descr="БУМАЖНАЯ ПЛАСТИКА 047"/>
          <p:cNvPicPr/>
          <p:nvPr/>
        </p:nvPicPr>
        <p:blipFill>
          <a:blip r:embed="rId1"/>
          <a:stretch/>
        </p:blipFill>
        <p:spPr>
          <a:xfrm>
            <a:off x="4365720" y="260280"/>
            <a:ext cx="4492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339408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c08d"/>
                </a:solidFill>
                <a:latin typeface="Arial"/>
              </a:rPr>
              <a:t>Панно, выполненное в технике «бумажная пластика»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2" name="Picture 3" descr="БУМАЖНАЯ ПЛАСТИКА 045"/>
          <p:cNvPicPr/>
          <p:nvPr/>
        </p:nvPicPr>
        <p:blipFill>
          <a:blip r:embed="rId1"/>
          <a:stretch/>
        </p:blipFill>
        <p:spPr>
          <a:xfrm>
            <a:off x="4140360" y="333360"/>
            <a:ext cx="42735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86040" y="533520"/>
            <a:ext cx="335268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d1cb"/>
                </a:solidFill>
                <a:latin typeface="Arial"/>
              </a:rPr>
              <a:t>Открытка, выполненная в технике «бумажная пластика»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-117360" y="61920"/>
            <a:ext cx="565452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58920" y="620640"/>
            <a:ext cx="399564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крытка, выполненная в технике «бумажная пластика»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46" name="Picture 3" descr="БУМАЖНАЯ ПЛАСТИКА 010"/>
          <p:cNvPicPr/>
          <p:nvPr/>
        </p:nvPicPr>
        <p:blipFill>
          <a:blip r:embed="rId1"/>
          <a:stretch/>
        </p:blipFill>
        <p:spPr>
          <a:xfrm>
            <a:off x="684360" y="189000"/>
            <a:ext cx="42559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58920" y="620640"/>
            <a:ext cx="399564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Открытка, выполненная в технике «бумажная пластика»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48" name="Picture 5" descr="БУМАЖНАЯ ПЛАСТИКА 001"/>
          <p:cNvPicPr/>
          <p:nvPr/>
        </p:nvPicPr>
        <p:blipFill>
          <a:blip r:embed="rId1"/>
          <a:stretch/>
        </p:blipFill>
        <p:spPr>
          <a:xfrm>
            <a:off x="533520" y="304920"/>
            <a:ext cx="4216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92720" y="333360"/>
            <a:ext cx="338472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крытка, выполненная в технике «бумажная пластика»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0" name="Picture 3" descr="БУМАЖНАЯ ПЛАСТИКА 009"/>
          <p:cNvPicPr/>
          <p:nvPr/>
        </p:nvPicPr>
        <p:blipFill>
          <a:blip r:embed="rId1"/>
          <a:stretch/>
        </p:blipFill>
        <p:spPr>
          <a:xfrm>
            <a:off x="395280" y="333360"/>
            <a:ext cx="42148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8920" y="620640"/>
            <a:ext cx="399564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1d1cb"/>
                </a:solidFill>
                <a:latin typeface="Arial"/>
              </a:rPr>
              <a:t>Открытка, выполненная в технике «бумажная пластика»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2" name="Picture 5" descr="Рисунок1"/>
          <p:cNvPicPr/>
          <p:nvPr/>
        </p:nvPicPr>
        <p:blipFill>
          <a:blip r:embed="rId1"/>
          <a:stretch/>
        </p:blipFill>
        <p:spPr>
          <a:xfrm>
            <a:off x="351000" y="380880"/>
            <a:ext cx="4437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6360" y="549000"/>
            <a:ext cx="381636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весная конструкция, выполненная в технике «бумажная пластика»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4" name="Picture 3" descr="БУМАЖНАЯ ПЛАСТИКА 011"/>
          <p:cNvPicPr/>
          <p:nvPr/>
        </p:nvPicPr>
        <p:blipFill>
          <a:blip r:embed="rId1"/>
          <a:stretch/>
        </p:blipFill>
        <p:spPr>
          <a:xfrm>
            <a:off x="468360" y="260280"/>
            <a:ext cx="42051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08360" y="907920"/>
            <a:ext cx="338436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анно, выполненное в технике «бумажная пластика»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6" name="Picture 3" descr="БУМАЖНАЯ ПЛАСТИКА 063"/>
          <p:cNvPicPr/>
          <p:nvPr/>
        </p:nvPicPr>
        <p:blipFill>
          <a:blip r:embed="rId1"/>
          <a:stretch/>
        </p:blipFill>
        <p:spPr>
          <a:xfrm>
            <a:off x="250920" y="260280"/>
            <a:ext cx="5027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3280" y="404640"/>
            <a:ext cx="3816360" cy="554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крытка, выполненная в технике «бумажная пластика»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торцовое приклеивание бумажной ленты)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58" name="Picture 3" descr="БУМАЖНАЯ ПЛАСТИКА 029"/>
          <p:cNvPicPr/>
          <p:nvPr/>
        </p:nvPicPr>
        <p:blipFill>
          <a:blip r:embed="rId1"/>
          <a:stretch/>
        </p:blipFill>
        <p:spPr>
          <a:xfrm>
            <a:off x="324000" y="260280"/>
            <a:ext cx="4340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e</dc:creator>
  <dc:description/>
  <dc:language>en-US</dc:language>
  <cp:lastModifiedBy>сате</cp:lastModifiedBy>
  <dcterms:modified xsi:type="dcterms:W3CDTF">2010-01-07T15:12:4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