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5299-A157-4C91-86F2-18CFAC1A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735E-DA69-4F3C-AB53-08DC281B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DA6-067A-4ACD-8F9A-F47096BD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2978-53E7-4F6D-9A56-0ABF862B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82D-6899-412A-87DC-ACF7DBEF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FCD5-D959-4DA2-9F7B-8BC5C52D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30A1-30B4-43BD-818C-9997ABF6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3E6B-7A78-4482-BFED-B446A8EA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4B3A-B8B7-4612-AD40-9B37FB26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34BB-2D32-49FB-94C9-08A3E039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9FBD-EB41-43BA-9DAA-51DCE6CD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8C14-C1BC-4952-9620-8A4CA76E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9B87-1FB5-441C-9D57-3B682B0A4C8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fd293"/>
                </a:solidFill>
                <a:latin typeface="Arial"/>
              </a:rPr>
              <a:t>Выполнение </a:t>
            </a:r>
            <a:br>
              <a:rPr sz="5400"/>
            </a:br>
            <a:r>
              <a:rPr b="1" lang="ru-RU" sz="5400" spc="-1" strike="noStrike">
                <a:solidFill>
                  <a:srgbClr val="dfd293"/>
                </a:solidFill>
                <a:latin typeface="Arial"/>
              </a:rPr>
              <a:t>композиций в технике «бумажная пластика»</a:t>
            </a:r>
            <a:endParaRPr b="0" lang="en-US" sz="5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глядно-дидактические материалы к уроку «Рельефная композиция «Аленький цветочек», «Папараць кветка», 2 класс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360036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1d1cb"/>
                </a:solidFill>
                <a:latin typeface="Arial"/>
              </a:rPr>
              <a:t>Панно, выполненное в технике «бумажная пластика»</a:t>
            </a:r>
            <a:br>
              <a:rPr sz="4000"/>
            </a:br>
            <a:r>
              <a:rPr b="0" lang="ru-RU" sz="4000" spc="-1" strike="noStrike">
                <a:solidFill>
                  <a:srgbClr val="d1d1cb"/>
                </a:solidFill>
                <a:latin typeface="Arial"/>
              </a:rPr>
              <a:t> (торцовое приклеивание бумажной ленты)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60" name="Picture 3" descr="БУМАЖНАЯ ПЛАСТИКА 047"/>
          <p:cNvPicPr/>
          <p:nvPr/>
        </p:nvPicPr>
        <p:blipFill>
          <a:blip r:embed="rId1"/>
          <a:stretch/>
        </p:blipFill>
        <p:spPr>
          <a:xfrm>
            <a:off x="4365720" y="260280"/>
            <a:ext cx="4492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339408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c08d"/>
                </a:solidFill>
                <a:latin typeface="Arial"/>
              </a:rPr>
              <a:t>Панно, выполненное в технике «бумажная пластика»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62" name="Picture 3" descr="БУМАЖНАЯ ПЛАСТИКА 045"/>
          <p:cNvPicPr/>
          <p:nvPr/>
        </p:nvPicPr>
        <p:blipFill>
          <a:blip r:embed="rId1"/>
          <a:stretch/>
        </p:blipFill>
        <p:spPr>
          <a:xfrm>
            <a:off x="4140360" y="333360"/>
            <a:ext cx="42735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86040" y="533520"/>
            <a:ext cx="3352680" cy="35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d1cb"/>
                </a:solidFill>
                <a:latin typeface="Arial"/>
              </a:rPr>
              <a:t>Открытка, выполненная в технике «бумажная пластика»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-117360" y="61920"/>
            <a:ext cx="565452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58920" y="620640"/>
            <a:ext cx="399564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крытка, выполненная в технике «бумажная пластика»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46" name="Picture 3" descr="БУМАЖНАЯ ПЛАСТИКА 010"/>
          <p:cNvPicPr/>
          <p:nvPr/>
        </p:nvPicPr>
        <p:blipFill>
          <a:blip r:embed="rId1"/>
          <a:stretch/>
        </p:blipFill>
        <p:spPr>
          <a:xfrm>
            <a:off x="684360" y="189000"/>
            <a:ext cx="42559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58920" y="620640"/>
            <a:ext cx="399564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Открытка, выполненная в технике «бумажная пластика»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48" name="Picture 5" descr="БУМАЖНАЯ ПЛАСТИКА 001"/>
          <p:cNvPicPr/>
          <p:nvPr/>
        </p:nvPicPr>
        <p:blipFill>
          <a:blip r:embed="rId1"/>
          <a:stretch/>
        </p:blipFill>
        <p:spPr>
          <a:xfrm>
            <a:off x="533520" y="304920"/>
            <a:ext cx="42163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92720" y="333360"/>
            <a:ext cx="338472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крытка, выполненная в технике «бумажная пластика»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0" name="Picture 3" descr="БУМАЖНАЯ ПЛАСТИКА 009"/>
          <p:cNvPicPr/>
          <p:nvPr/>
        </p:nvPicPr>
        <p:blipFill>
          <a:blip r:embed="rId1"/>
          <a:stretch/>
        </p:blipFill>
        <p:spPr>
          <a:xfrm>
            <a:off x="395280" y="333360"/>
            <a:ext cx="42148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58920" y="620640"/>
            <a:ext cx="399564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1d1cb"/>
                </a:solidFill>
                <a:latin typeface="Arial"/>
              </a:rPr>
              <a:t>Открытка, выполненная в технике «бумажная пластика»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2" name="Picture 5" descr="Рисунок1"/>
          <p:cNvPicPr/>
          <p:nvPr/>
        </p:nvPicPr>
        <p:blipFill>
          <a:blip r:embed="rId1"/>
          <a:stretch/>
        </p:blipFill>
        <p:spPr>
          <a:xfrm>
            <a:off x="351000" y="380880"/>
            <a:ext cx="4437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6360" y="549000"/>
            <a:ext cx="381636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весная конструкция, выполненная в технике «бумажная пластика»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4" name="Picture 3" descr="БУМАЖНАЯ ПЛАСТИКА 011"/>
          <p:cNvPicPr/>
          <p:nvPr/>
        </p:nvPicPr>
        <p:blipFill>
          <a:blip r:embed="rId1"/>
          <a:stretch/>
        </p:blipFill>
        <p:spPr>
          <a:xfrm>
            <a:off x="468360" y="260280"/>
            <a:ext cx="42051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08360" y="907920"/>
            <a:ext cx="338436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анно, выполненное в технике «бумажная пластика»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6" name="Picture 3" descr="БУМАЖНАЯ ПЛАСТИКА 063"/>
          <p:cNvPicPr/>
          <p:nvPr/>
        </p:nvPicPr>
        <p:blipFill>
          <a:blip r:embed="rId1"/>
          <a:stretch/>
        </p:blipFill>
        <p:spPr>
          <a:xfrm>
            <a:off x="250920" y="260280"/>
            <a:ext cx="50274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3280" y="404640"/>
            <a:ext cx="3816360" cy="554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крытка, выполненная в технике «бумажная пластика»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торцовое приклеивание бумажной ленты)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8" name="Picture 3" descr="БУМАЖНАЯ ПЛАСТИКА 029"/>
          <p:cNvPicPr/>
          <p:nvPr/>
        </p:nvPicPr>
        <p:blipFill>
          <a:blip r:embed="rId1"/>
          <a:stretch/>
        </p:blipFill>
        <p:spPr>
          <a:xfrm>
            <a:off x="324000" y="260280"/>
            <a:ext cx="4340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e</dc:creator>
  <dc:description/>
  <dc:language>en-US</dc:language>
  <cp:lastModifiedBy>сате</cp:lastModifiedBy>
  <dcterms:modified xsi:type="dcterms:W3CDTF">2010-01-07T15:12:4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