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E519-44EB-4763-9309-9605259EA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1ADB-CA46-4F33-BF0E-416598BA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42D4-7AFE-4D9E-9B17-C2AF84B30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1097-7C80-49B8-A2A6-CFE9F3468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7B4F-C024-450E-856F-D98DD879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66BC-E8EE-4A77-AB37-0A0804D3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E2EF-A83C-4959-97E1-ABF9E1DA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649D-1054-4F7E-BB84-96C059A2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ECB5-A520-4116-92D0-8AEDACE5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44A6-11EF-446A-951D-164F0D18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E519-EBC5-405B-9B56-850CA99A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2A0A-5C3C-454F-B9C3-2BFBCE22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9E13-A242-4A62-980C-22F98383D5B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fd293"/>
                </a:solidFill>
                <a:latin typeface="Arial"/>
              </a:rPr>
              <a:t>Выполнение </a:t>
            </a:r>
            <a:br>
              <a:rPr sz="5400"/>
            </a:br>
            <a:r>
              <a:rPr b="1" lang="ru-RU" sz="5400" spc="-1" strike="noStrike">
                <a:solidFill>
                  <a:srgbClr val="dfd293"/>
                </a:solidFill>
                <a:latin typeface="Arial"/>
              </a:rPr>
              <a:t>композиций в технике «бумажная пластика»</a:t>
            </a:r>
            <a:endParaRPr b="0" lang="en-US" sz="5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глядно-дидактические материалы к уроку «Рельефная композиция «Аленький цветочек», «Папараць кветка», 2 класс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360036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1d1cb"/>
                </a:solidFill>
                <a:latin typeface="Arial"/>
              </a:rPr>
              <a:t>Панно, выполненное в технике «бумажная пластика»</a:t>
            </a:r>
            <a:br>
              <a:rPr sz="4000"/>
            </a:br>
            <a:r>
              <a:rPr b="0" lang="ru-RU" sz="4000" spc="-1" strike="noStrike">
                <a:solidFill>
                  <a:srgbClr val="d1d1cb"/>
                </a:solidFill>
                <a:latin typeface="Arial"/>
              </a:rPr>
              <a:t> (торцовое приклеивание бумажной ленты)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60" name="Picture 3" descr="БУМАЖНАЯ ПЛАСТИКА 047"/>
          <p:cNvPicPr/>
          <p:nvPr/>
        </p:nvPicPr>
        <p:blipFill>
          <a:blip r:embed="rId1"/>
          <a:stretch/>
        </p:blipFill>
        <p:spPr>
          <a:xfrm>
            <a:off x="4365720" y="260280"/>
            <a:ext cx="44924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339408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c08d"/>
                </a:solidFill>
                <a:latin typeface="Arial"/>
              </a:rPr>
              <a:t>Панно, выполненное в технике «бумажная пластика»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62" name="Picture 3" descr="БУМАЖНАЯ ПЛАСТИКА 045"/>
          <p:cNvPicPr/>
          <p:nvPr/>
        </p:nvPicPr>
        <p:blipFill>
          <a:blip r:embed="rId1"/>
          <a:stretch/>
        </p:blipFill>
        <p:spPr>
          <a:xfrm>
            <a:off x="4140360" y="333360"/>
            <a:ext cx="42735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486040" y="533520"/>
            <a:ext cx="3352680" cy="35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d1cb"/>
                </a:solidFill>
                <a:latin typeface="Arial"/>
              </a:rPr>
              <a:t>Открытка, выполненная в технике «бумажная пластика»</a:t>
            </a:r>
            <a:endParaRPr b="0" lang="en-US" sz="36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-117360" y="61920"/>
            <a:ext cx="565452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58920" y="620640"/>
            <a:ext cx="399564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крытка, выполненная в технике «бумажная пластика»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46" name="Picture 3" descr="БУМАЖНАЯ ПЛАСТИКА 010"/>
          <p:cNvPicPr/>
          <p:nvPr/>
        </p:nvPicPr>
        <p:blipFill>
          <a:blip r:embed="rId1"/>
          <a:stretch/>
        </p:blipFill>
        <p:spPr>
          <a:xfrm>
            <a:off x="684360" y="189000"/>
            <a:ext cx="42559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858920" y="620640"/>
            <a:ext cx="399564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Открытка, выполненная в технике «бумажная пластика»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48" name="Picture 5" descr="БУМАЖНАЯ ПЛАСТИКА 001"/>
          <p:cNvPicPr/>
          <p:nvPr/>
        </p:nvPicPr>
        <p:blipFill>
          <a:blip r:embed="rId1"/>
          <a:stretch/>
        </p:blipFill>
        <p:spPr>
          <a:xfrm>
            <a:off x="533520" y="304920"/>
            <a:ext cx="42163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92720" y="333360"/>
            <a:ext cx="3384720" cy="29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крытка, выполненная в технике «бумажная пластика»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50" name="Picture 3" descr="БУМАЖНАЯ ПЛАСТИКА 009"/>
          <p:cNvPicPr/>
          <p:nvPr/>
        </p:nvPicPr>
        <p:blipFill>
          <a:blip r:embed="rId1"/>
          <a:stretch/>
        </p:blipFill>
        <p:spPr>
          <a:xfrm>
            <a:off x="395280" y="333360"/>
            <a:ext cx="42148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58920" y="620640"/>
            <a:ext cx="399564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1d1cb"/>
                </a:solidFill>
                <a:latin typeface="Arial"/>
              </a:rPr>
              <a:t>Открытка, выполненная в технике «бумажная пластика»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52" name="Picture 5" descr="Рисунок1"/>
          <p:cNvPicPr/>
          <p:nvPr/>
        </p:nvPicPr>
        <p:blipFill>
          <a:blip r:embed="rId1"/>
          <a:stretch/>
        </p:blipFill>
        <p:spPr>
          <a:xfrm>
            <a:off x="351000" y="380880"/>
            <a:ext cx="4437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76360" y="549000"/>
            <a:ext cx="3816360" cy="31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весная конструкция, выполненная в технике «бумажная пластика»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54" name="Picture 3" descr="БУМАЖНАЯ ПЛАСТИКА 011"/>
          <p:cNvPicPr/>
          <p:nvPr/>
        </p:nvPicPr>
        <p:blipFill>
          <a:blip r:embed="rId1"/>
          <a:stretch/>
        </p:blipFill>
        <p:spPr>
          <a:xfrm>
            <a:off x="468360" y="260280"/>
            <a:ext cx="42051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508360" y="907920"/>
            <a:ext cx="338436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анно, выполненное в технике «бумажная пластика»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56" name="Picture 3" descr="БУМАЖНАЯ ПЛАСТИКА 063"/>
          <p:cNvPicPr/>
          <p:nvPr/>
        </p:nvPicPr>
        <p:blipFill>
          <a:blip r:embed="rId1"/>
          <a:stretch/>
        </p:blipFill>
        <p:spPr>
          <a:xfrm>
            <a:off x="250920" y="260280"/>
            <a:ext cx="50274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03280" y="404640"/>
            <a:ext cx="3816360" cy="554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крытка, выполненная в технике «бумажная пластика»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торцовое приклеивание бумажной ленты)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58" name="Picture 3" descr="БУМАЖНАЯ ПЛАСТИКА 029"/>
          <p:cNvPicPr/>
          <p:nvPr/>
        </p:nvPicPr>
        <p:blipFill>
          <a:blip r:embed="rId1"/>
          <a:stretch/>
        </p:blipFill>
        <p:spPr>
          <a:xfrm>
            <a:off x="324000" y="260280"/>
            <a:ext cx="4340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te</dc:creator>
  <dc:description/>
  <dc:language>en-US</dc:language>
  <cp:lastModifiedBy>сате</cp:lastModifiedBy>
  <dcterms:modified xsi:type="dcterms:W3CDTF">2010-01-07T15:12:4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