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491-C872-4DDF-A008-46A1320D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D8A-2805-4491-8876-D7391BF9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C52-2BC9-43F5-9786-6420A3E9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810-E040-4E2A-A0F9-CA4563E5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7E68-A9E1-4A30-9B3B-7FC098B5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9166-43E7-4D94-B68E-1B39EFF8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3680-B81E-4AB0-96E9-D4964887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48EF-C715-4049-8BF3-31A3B070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5640-90C7-46F9-8228-73631AED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8A00-5124-49A5-8874-A3117BD7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AC84-ED61-4EF9-A048-56BFE46C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517-284D-415B-9EBF-C851374A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956E-B2EC-4F9C-A0C8-7F49EB9F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4D05-E837-4F5A-B17E-80ED9409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79D5-6D95-4AE1-9244-58EE6D14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DA5E-4F69-44ED-BE85-44003011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19EB-881B-430E-B24C-82C03355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8D66-A702-4DF1-A3F4-D0A984AD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7CA5-C1D6-4483-BE88-83037087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F22D-F104-4971-AE3C-44551ECB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FEE7-C6A0-4FFE-B478-0FC10C5F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E16A-4472-4ABB-8DDD-87E5D738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C11-C757-4B0A-8282-00DF8402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26D2-1DDE-4C49-939B-BC5EEB47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E4A0-CAA5-4CE4-AB90-2F26172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54E27-6FBB-4BA8-B464-F50DC3E0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B960-3472-42FA-8943-F5274E59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A051-A956-4735-8CA9-DFC5F964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7E14-37EB-4519-8E1D-476C9B1A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EA09-CD4B-4F67-98D9-E1CEC4A6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695-96AD-4F5A-81C2-BA82B8D8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88C-E0BB-479F-9F8F-F4557499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65B-F5E9-4BBE-93EA-7B34395E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ED6-9E65-4C3A-83E7-393C259B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3FE-C9BE-4B38-9A60-1BF18DDC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70C-734E-4391-A826-3B63985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F4E2-263A-486C-A982-CAF18D2BCBA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E0E3-BE2F-4D2B-8B95-DD826C66A6A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FFF1-B436-49D6-B8AC-03528639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d8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16000" y="1052640"/>
            <a:ext cx="7272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4300"/>
                </a:solidFill>
                <a:latin typeface="Times New Roman"/>
              </a:rPr>
              <a:t>МОУ «Средняя общеобразовательная школа №56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1258920" y="177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834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ырские образы в искусстве.</a:t>
            </a:r>
            <a:endParaRPr b="0" lang="en-US" sz="2400" spc="1" strike="noStrike">
              <a:ln w="19080">
                <a:solidFill>
                  <a:srgbClr val="6834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021200" y="3236760"/>
            <a:ext cx="1179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4300"/>
                </a:solidFill>
                <a:latin typeface="Times New Roman"/>
              </a:rPr>
              <a:t>5 клас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378936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ыченкова И.В. учитель перво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валификационной категори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5300640"/>
            <a:ext cx="252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г. Новокузнец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4" descr="book15[1]"/>
          <p:cNvPicPr/>
          <p:nvPr/>
        </p:nvPicPr>
        <p:blipFill>
          <a:blip r:embed="rId1"/>
          <a:stretch/>
        </p:blipFill>
        <p:spPr>
          <a:xfrm>
            <a:off x="6804000" y="5229360"/>
            <a:ext cx="1219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720" y="981000"/>
            <a:ext cx="4464360" cy="532944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1413000"/>
            <a:ext cx="3672000" cy="432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99160" y="1844640"/>
            <a:ext cx="3741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1848-192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Виктор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Михайлович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Васнецов</a:t>
            </a:r>
            <a:r>
              <a:rPr b="0" lang="en-US" sz="3200" spc="-1" strike="noStrike">
                <a:solidFill>
                  <a:srgbClr val="6834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3400"/>
                </a:solidFill>
                <a:latin typeface="Times New Roman"/>
              </a:rPr>
              <a:t>великий русский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3400"/>
                </a:solidFill>
                <a:latin typeface="Times New Roman"/>
              </a:rPr>
              <a:t>живописе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3970080" cy="4824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4000" y="260280"/>
          <a:ext cx="8496000" cy="61470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пись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тонация, регистр, ритм - предают музыке уверенность и мощь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омпозиция мощная, крепкая, устойчивая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Минорный лад предает музыке суровость и сдержанность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Мало контраста, близкие по цвету, краски предают картине могучий характер и суровость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5" descr="book17[1]"/>
          <p:cNvPicPr/>
          <p:nvPr/>
        </p:nvPicPr>
        <p:blipFill>
          <a:blip r:embed="rId2"/>
          <a:stretch/>
        </p:blipFill>
        <p:spPr>
          <a:xfrm>
            <a:off x="395280" y="5373720"/>
            <a:ext cx="2305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484280"/>
            <a:ext cx="8496000" cy="504036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7705800" cy="10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Подумайте, можем ли мы увидеть музык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в своем воображении, не глядя на картину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А наоборот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82072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1.Богатырь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2.Симфония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3.Оркестр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4.Экспозиция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5.Г.Т., П.Т.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6.А.П.Бородин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7.В.Васнецов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8.Назвать произведения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с  которыми мы познакомились на уроке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640" y="260280"/>
            <a:ext cx="806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айте определение каждому слову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6" name="Picture 5" descr="book17[1]"/>
          <p:cNvPicPr/>
          <p:nvPr/>
        </p:nvPicPr>
        <p:blipFill>
          <a:blip r:embed="rId4"/>
          <a:stretch/>
        </p:blipFill>
        <p:spPr>
          <a:xfrm>
            <a:off x="6659640" y="3922560"/>
            <a:ext cx="1944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 rot="193200">
            <a:off x="899640" y="2491920"/>
            <a:ext cx="763452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565"/>
                <a:gd name="adj2" fmla="val 1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834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2400" spc="1" strike="noStrike">
              <a:ln w="9360">
                <a:solidFill>
                  <a:srgbClr val="6834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Picture 4" descr="book15[1]"/>
          <p:cNvPicPr/>
          <p:nvPr/>
        </p:nvPicPr>
        <p:blipFill>
          <a:blip r:embed="rId1"/>
          <a:stretch/>
        </p:blipFill>
        <p:spPr>
          <a:xfrm>
            <a:off x="1042920" y="5157720"/>
            <a:ext cx="1219320" cy="1420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blest47[1]"/>
          <p:cNvPicPr/>
          <p:nvPr/>
        </p:nvPicPr>
        <p:blipFill>
          <a:blip r:embed="rId2"/>
          <a:stretch/>
        </p:blipFill>
        <p:spPr>
          <a:xfrm>
            <a:off x="5940360" y="549360"/>
            <a:ext cx="27687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2276640"/>
            <a:ext cx="8064360" cy="331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Тема урока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«Можем ли мы увидеть музыку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Богатырские образы в искусстве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book17[1]"/>
          <p:cNvPicPr/>
          <p:nvPr/>
        </p:nvPicPr>
        <p:blipFill>
          <a:blip r:embed="rId4"/>
          <a:stretch/>
        </p:blipFill>
        <p:spPr>
          <a:xfrm>
            <a:off x="6948360" y="476280"/>
            <a:ext cx="180036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333360"/>
            <a:ext cx="8785440" cy="6292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Выдержки из словарей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Богатыр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1. Герой русских былин, совершающий воинские подвиг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2. Человек очень большой силы, стойкости, отваг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Витяз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в Древней Руси: отважный, доблестный воин, богатырь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(Толковый словарь Ожегова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3400"/>
                </a:solidFill>
                <a:latin typeface="Times New Roman"/>
              </a:rPr>
              <a:t>Богатыр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человек рослый, дородный, дюжий и видный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необычайный силач,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смелый и удачливый, храбрый и счастливый воин, витяз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83400"/>
                </a:solidFill>
                <a:latin typeface="Times New Roman"/>
              </a:rPr>
              <a:t>(Толковый словарь Даля, Большая советская энциклопедия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765000"/>
            <a:ext cx="8207280" cy="71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Arial"/>
              </a:rPr>
              <a:t>Что означает слово богатырь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549360"/>
            <a:ext cx="806436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1052640"/>
            <a:ext cx="4464000" cy="5329080"/>
            <a:chOff x="468360" y="1052640"/>
            <a:chExt cx="4464000" cy="5329080"/>
          </a:xfrm>
        </p:grpSpPr>
        <p:sp>
          <p:nvSpPr>
            <p:cNvPr id="145" name=""/>
            <p:cNvSpPr/>
            <p:nvPr/>
          </p:nvSpPr>
          <p:spPr>
            <a:xfrm>
              <a:off x="468360" y="1052640"/>
              <a:ext cx="4464000" cy="5329080"/>
            </a:xfrm>
            <a:prstGeom prst="bevel">
              <a:avLst>
                <a:gd name="adj" fmla="val 2579"/>
              </a:avLst>
            </a:prstGeom>
            <a:solidFill>
              <a:srgbClr val="a97c39"/>
            </a:solidFill>
            <a:ln w="19080">
              <a:solidFill>
                <a:srgbClr val="a671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146" name="Picture 3" descr="Victor Vasnetsov"/>
            <p:cNvPicPr/>
            <p:nvPr/>
          </p:nvPicPr>
          <p:blipFill>
            <a:blip r:embed="rId4"/>
            <a:stretch/>
          </p:blipFill>
          <p:spPr>
            <a:xfrm>
              <a:off x="611280" y="1197000"/>
              <a:ext cx="4176720" cy="496728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гатырский скок - Васнец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39280" y="1052280"/>
            <a:ext cx="4319640" cy="53290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8000" y="1268280"/>
            <a:ext cx="36003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крепкого телослож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ый, храбрый, умный, ловк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ин, защит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549360"/>
            <a:ext cx="4319640" cy="532764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003640" y="907920"/>
            <a:ext cx="3672000" cy="3241440"/>
            <a:chOff x="5003640" y="907920"/>
            <a:chExt cx="3672000" cy="3241440"/>
          </a:xfrm>
        </p:grpSpPr>
        <p:sp>
          <p:nvSpPr>
            <p:cNvPr id="153" name=""/>
            <p:cNvSpPr/>
            <p:nvPr/>
          </p:nvSpPr>
          <p:spPr>
            <a:xfrm>
              <a:off x="5003640" y="1080360"/>
              <a:ext cx="3672000" cy="3069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a671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03640" y="907920"/>
              <a:ext cx="36720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83400"/>
                  </a:solidFill>
                  <a:latin typeface="Arial"/>
                </a:rPr>
                <a:t>1833-1887 г.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83400"/>
                  </a:solidFill>
                  <a:latin typeface="Arial"/>
                </a:rPr>
                <a:t>А.П.Бородин –</a:t>
              </a:r>
              <a:r>
                <a:rPr b="1" lang="en-US" sz="2800" spc="-1" strike="noStrike">
                  <a:solidFill>
                    <a:srgbClr val="683400"/>
                  </a:solidFill>
                  <a:latin typeface="Times New Roman"/>
                </a:rPr>
                <a:t>“богатырь в жизни и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83400"/>
                  </a:solidFill>
                  <a:latin typeface="Times New Roman"/>
                </a:rPr>
                <a:t>богатырь в музыке”.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4032000" cy="504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«Талант Бородина -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равно могуч и поразителен как в симфонии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так и в опере и в романсе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Главные качества его –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великанская сила и ширина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колоссальный размах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стремительность и порывистость,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соединённые с изумительной страстностью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нежностью и красотой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5805360"/>
            <a:ext cx="799308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5877000"/>
            <a:ext cx="26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В.В.Стасо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1628640"/>
            <a:ext cx="3097080" cy="388800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Главна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Образ защитни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734080"/>
            <a:ext cx="4896000" cy="79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Экспозиц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1628640"/>
            <a:ext cx="3168720" cy="388800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Побочна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Любви, забот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Трепетного отношение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К Родин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476280"/>
            <a:ext cx="6697800" cy="1081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3400"/>
                </a:solidFill>
                <a:latin typeface="Times New Roman"/>
              </a:rPr>
              <a:t>Симфония «Богатырская».1 част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114480"/>
            <a:ext cx="878544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268280"/>
            <a:ext cx="8353440" cy="5256360"/>
          </a:xfrm>
          <a:prstGeom prst="bevel">
            <a:avLst>
              <a:gd name="adj" fmla="val 2579"/>
            </a:avLst>
          </a:prstGeom>
          <a:solidFill>
            <a:srgbClr val="a97c39"/>
          </a:solidFill>
          <a:ln w="1908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476360" y="189000"/>
            <a:ext cx="6095520" cy="863640"/>
            <a:chOff x="1476360" y="189000"/>
            <a:chExt cx="6095520" cy="863640"/>
          </a:xfrm>
        </p:grpSpPr>
        <p:sp>
          <p:nvSpPr>
            <p:cNvPr id="167" name=""/>
            <p:cNvSpPr/>
            <p:nvPr/>
          </p:nvSpPr>
          <p:spPr>
            <a:xfrm>
              <a:off x="1591200" y="189000"/>
              <a:ext cx="5903280" cy="86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a671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76360" y="237960"/>
              <a:ext cx="609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83400"/>
                  </a:solidFill>
                  <a:latin typeface="Times New Roman"/>
                </a:rPr>
                <a:t>«Богатыри» В. Васнецова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11280" y="1484280"/>
            <a:ext cx="7921440" cy="495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8785080" cy="662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"Я считаю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что в истории русской живопис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«Богатыри» Васнецов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занимают одно из первейших мест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Здесь - сила торжествующая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спокойная и важная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никого не боящаяся и выполняющая сама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по собственной воле то, что ей нравится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что ей представляется потребным для всех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для народа"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1000" y="5445000"/>
            <a:ext cx="3384720" cy="86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a671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83400"/>
                </a:solidFill>
                <a:latin typeface="Times New Roman"/>
              </a:rPr>
              <a:t>В.В.Стасо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5:52:34Z</dcterms:created>
  <dc:creator>Fester Addams</dc:creator>
  <dc:description/>
  <dc:language>en-US</dc:language>
  <cp:lastModifiedBy>Юрий Николаевич</cp:lastModifiedBy>
  <dcterms:modified xsi:type="dcterms:W3CDTF">2010-02-23T05:06:14Z</dcterms:modified>
  <cp:revision>45</cp:revision>
  <dc:subject/>
  <dc:title>Презентация PowerPoint</dc:title>
</cp:coreProperties>
</file>