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AB5-9C85-471A-B4CB-F216273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79A-31F4-4F18-B7EF-8366C89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AA1-5FD0-487E-BA4C-0C1D4F06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FF2-29C3-4057-BA39-5907F7C0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562-A02C-412A-B0B6-4EFA68CC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99E-AD5D-47B8-9B95-70A06A5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12B-F4F9-4363-9379-12D724E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F83-E3D9-449C-B812-152F05EB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914-2498-47F0-AB8B-4B51C3D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43B3-AB6F-4908-95F0-8660D40E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A00B-D0B4-4D1E-92B5-3079A9A1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238-7520-478D-8C1C-812290F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04AB-0115-4516-87A9-AD3C1E6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FD41-4E67-4CA6-9FD0-BB6A997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A537-8592-438F-B6FA-8386051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D50-9E4A-4DE5-A18E-37C847A1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FFB-79B6-4420-8809-D8FA769C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DBB8-0161-4A6A-8499-AB77157B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B78E-AB24-4502-B580-FFC5D727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A89E-356F-4586-932A-A244C50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8569-7501-450B-A06B-907C2B7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01A4-36E2-4BE2-9647-C8F09149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6D0-BDA8-41A1-B7F7-57C0CC5E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D490-420A-4645-8355-3581742D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80AC-86B0-4BFD-914B-E3B4320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818A-0079-4D53-AD58-3B3F432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A318-3257-4448-B39E-B2B6D53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9BC5-D754-466E-9EC5-2B2B7B32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FAF1-1AA6-45C3-A7A4-C8233621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FF8A-CE24-4FF7-927D-45B4BC9B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97A-5597-459A-B83E-67A1FF5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D4E-5C3C-47DC-A803-ACCAC69C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680-461F-4CE2-9C46-2D5B489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EB6-CD18-477B-A053-C12E575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FC0-FC04-4D7C-AEB5-C218D50B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04A-CBCB-4D05-88C6-BAE895D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9FF9-74C5-4FAF-B749-D04C5D2BF4B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475-5E80-40DA-BD97-1153E0FE22D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150-F29D-4A4D-9D78-2BD09BB3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d8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16000" y="1052640"/>
            <a:ext cx="7272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4300"/>
                </a:solidFill>
                <a:latin typeface="Times New Roman"/>
              </a:rPr>
              <a:t>МОУ «Средняя общеобразовательная школа №56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1258920" y="177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 в искусстве.</a:t>
            </a:r>
            <a:endParaRPr b="0" lang="en-US" sz="2400" spc="1" strike="noStrike">
              <a:ln w="1908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021200" y="3236760"/>
            <a:ext cx="1179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4300"/>
                </a:solidFill>
                <a:latin typeface="Times New Roman"/>
              </a:rPr>
              <a:t>5 клас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78936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ыченкова И.В. учитель перво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валификационной категори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5300640"/>
            <a:ext cx="252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г. Новокузнец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4" descr="book15[1]"/>
          <p:cNvPicPr/>
          <p:nvPr/>
        </p:nvPicPr>
        <p:blipFill>
          <a:blip r:embed="rId1"/>
          <a:stretch/>
        </p:blipFill>
        <p:spPr>
          <a:xfrm>
            <a:off x="6804000" y="5229360"/>
            <a:ext cx="121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720" y="981000"/>
            <a:ext cx="4464360" cy="53294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1413000"/>
            <a:ext cx="3672000" cy="432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99160" y="1844640"/>
            <a:ext cx="374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848-192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иктор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Михайлович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аснецов</a:t>
            </a: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великий русск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живописе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3970080" cy="4824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260280"/>
          <a:ext cx="8496000" cy="6147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пись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тонация, регистр, ритм - предают музыке уверенность и мощ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омпозиция мощная, крепкая, устойчивая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инорный лад предает музыке суровость и сдержанн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ало контраста, близкие по цвету, краски предают картине могучий характер и суров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5" descr="book17[1]"/>
          <p:cNvPicPr/>
          <p:nvPr/>
        </p:nvPicPr>
        <p:blipFill>
          <a:blip r:embed="rId2"/>
          <a:stretch/>
        </p:blipFill>
        <p:spPr>
          <a:xfrm>
            <a:off x="395280" y="5373720"/>
            <a:ext cx="2305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484280"/>
            <a:ext cx="8496000" cy="5040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770580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Подумайте, можем ли мы увидеть музы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в своем воображении, не глядя на картину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А наоборот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.Богатырь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2.Симфон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3.Оркестр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4.Экспозиц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5.Г.Т., П.Т.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6.А.П.Бородин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7.В.Васнецов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8.Назвать произведени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  которыми мы познакомились на урок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260280"/>
            <a:ext cx="806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айте определение каждому слову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6" name="Picture 5" descr="book17[1]"/>
          <p:cNvPicPr/>
          <p:nvPr/>
        </p:nvPicPr>
        <p:blipFill>
          <a:blip r:embed="rId4"/>
          <a:stretch/>
        </p:blipFill>
        <p:spPr>
          <a:xfrm>
            <a:off x="6659640" y="392256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193200">
            <a:off x="899640" y="2491920"/>
            <a:ext cx="763452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565"/>
                <a:gd name="adj2" fmla="val 1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Picture 4" descr="book15[1]"/>
          <p:cNvPicPr/>
          <p:nvPr/>
        </p:nvPicPr>
        <p:blipFill>
          <a:blip r:embed="rId1"/>
          <a:stretch/>
        </p:blipFill>
        <p:spPr>
          <a:xfrm>
            <a:off x="1042920" y="5157720"/>
            <a:ext cx="1219320" cy="142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blest47[1]"/>
          <p:cNvPicPr/>
          <p:nvPr/>
        </p:nvPicPr>
        <p:blipFill>
          <a:blip r:embed="rId2"/>
          <a:stretch/>
        </p:blipFill>
        <p:spPr>
          <a:xfrm>
            <a:off x="5940360" y="549360"/>
            <a:ext cx="2768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276640"/>
            <a:ext cx="8064360" cy="331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Тема урока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«Можем ли мы увидеть музыку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Богатырские образы в искусстве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book17[1]"/>
          <p:cNvPicPr/>
          <p:nvPr/>
        </p:nvPicPr>
        <p:blipFill>
          <a:blip r:embed="rId4"/>
          <a:stretch/>
        </p:blipFill>
        <p:spPr>
          <a:xfrm>
            <a:off x="6948360" y="476280"/>
            <a:ext cx="180036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333360"/>
            <a:ext cx="8785440" cy="6292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ыдержки из словарей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1. Герой русских былин, совершающий воинские подви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2. Человек очень большой силы, стойкости, отва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итяз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в Древней Руси: отважный, доблестный воин, богатырь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Ожегова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человек рослый, дородный, дюжий и видный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необычайный силач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смелый и удачливый, храбрый и счастливый воин, витяз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Даля, Большая советская энциклопедия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765000"/>
            <a:ext cx="820728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Что означает слово богатырь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549360"/>
            <a:ext cx="8064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052640"/>
            <a:ext cx="4464000" cy="5329080"/>
            <a:chOff x="468360" y="1052640"/>
            <a:chExt cx="4464000" cy="5329080"/>
          </a:xfrm>
        </p:grpSpPr>
        <p:sp>
          <p:nvSpPr>
            <p:cNvPr id="145" name=""/>
            <p:cNvSpPr/>
            <p:nvPr/>
          </p:nvSpPr>
          <p:spPr>
            <a:xfrm>
              <a:off x="468360" y="1052640"/>
              <a:ext cx="4464000" cy="5329080"/>
            </a:xfrm>
            <a:prstGeom prst="bevel">
              <a:avLst>
                <a:gd name="adj" fmla="val 2579"/>
              </a:avLst>
            </a:prstGeom>
            <a:solidFill>
              <a:srgbClr val="a97c39"/>
            </a:solidFill>
            <a:ln w="1908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46" name="Picture 3" descr="Victor Vasnetsov"/>
            <p:cNvPicPr/>
            <p:nvPr/>
          </p:nvPicPr>
          <p:blipFill>
            <a:blip r:embed="rId4"/>
            <a:stretch/>
          </p:blipFill>
          <p:spPr>
            <a:xfrm>
              <a:off x="611280" y="1197000"/>
              <a:ext cx="4176720" cy="49672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атырский скок - Васнец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9280" y="1052280"/>
            <a:ext cx="4319640" cy="5329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8000" y="1268280"/>
            <a:ext cx="3600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крепкого телосло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, храбрый, умный, ловк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ин, защи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49360"/>
            <a:ext cx="4319640" cy="53276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003640" y="907920"/>
            <a:ext cx="3672000" cy="3241440"/>
            <a:chOff x="5003640" y="907920"/>
            <a:chExt cx="3672000" cy="3241440"/>
          </a:xfrm>
        </p:grpSpPr>
        <p:sp>
          <p:nvSpPr>
            <p:cNvPr id="153" name=""/>
            <p:cNvSpPr/>
            <p:nvPr/>
          </p:nvSpPr>
          <p:spPr>
            <a:xfrm>
              <a:off x="5003640" y="1080360"/>
              <a:ext cx="3672000" cy="3069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03640" y="907920"/>
              <a:ext cx="367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1833-1887 г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А.П.Бородин –</a:t>
              </a: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“богатырь в жизни и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богатырь в музыке”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4032000" cy="504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«Талант Бородина 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равно могуч и поразителен как в симфонии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так и в опере и в романсе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Главные качества его –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еликанская сила и ширина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колоссальный размах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тремительность и порывистость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оединённые с изумительной страстностью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нежностью и красотой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805360"/>
            <a:ext cx="799308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5877000"/>
            <a:ext cx="26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.В.Стас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1628640"/>
            <a:ext cx="309708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Глав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Образ защитни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734080"/>
            <a:ext cx="4896000" cy="79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Экспозиц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628640"/>
            <a:ext cx="316872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Побоч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Любви, забот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репетного отношени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К Родин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476280"/>
            <a:ext cx="6697800" cy="108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имфония «Богатырская».1 ча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268280"/>
            <a:ext cx="8353440" cy="5256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76360" y="189000"/>
            <a:ext cx="6095520" cy="863640"/>
            <a:chOff x="1476360" y="189000"/>
            <a:chExt cx="6095520" cy="863640"/>
          </a:xfrm>
        </p:grpSpPr>
        <p:sp>
          <p:nvSpPr>
            <p:cNvPr id="167" name=""/>
            <p:cNvSpPr/>
            <p:nvPr/>
          </p:nvSpPr>
          <p:spPr>
            <a:xfrm>
              <a:off x="1591200" y="189000"/>
              <a:ext cx="5903280" cy="86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6360" y="237960"/>
              <a:ext cx="609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83400"/>
                  </a:solidFill>
                  <a:latin typeface="Times New Roman"/>
                </a:rPr>
                <a:t>«Богатыри» В. Васнецова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11280" y="1484280"/>
            <a:ext cx="7921440" cy="495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878508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"Я считаю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в истории русской живопис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«Богатыри» Васнецов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анимают одно из первейших мес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десь - сила торжествующа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спокойная и важна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никого не боящаяся и выполняющая сама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по собственной воле то, что ей нравитс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ей представляется потребным для всех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для народа"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1000" y="5445000"/>
            <a:ext cx="338472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3400"/>
                </a:solidFill>
                <a:latin typeface="Times New Roman"/>
              </a:rPr>
              <a:t>В.В.Стас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5:52:34Z</dcterms:created>
  <dc:creator>Fester Addams</dc:creator>
  <dc:description/>
  <dc:language>en-US</dc:language>
  <cp:lastModifiedBy>Юрий Николаевич</cp:lastModifiedBy>
  <dcterms:modified xsi:type="dcterms:W3CDTF">2010-02-23T05:06:14Z</dcterms:modified>
  <cp:revision>45</cp:revision>
  <dc:subject/>
  <dc:title>Презентация PowerPoint</dc:title>
</cp:coreProperties>
</file>