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048-AB64-434B-AA5E-B3015AF8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6BB-4AAC-463E-8906-D8502277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6D0-F37B-4115-A031-7A5F9935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44A-3683-400C-8328-BDB493E9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50D-96A1-4CDA-AD7E-519640E3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D51C-8C08-4D68-BCB3-12D7267D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18C2-1FC7-44C1-86CD-B3D854F1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922E-24A3-48B2-8F84-30974BE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113E-EF2F-41C6-8CED-2812360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EC9-7FD6-41A7-95FA-26DC21DA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F08-82B7-421F-B5FB-C94258D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427-0370-4373-BB77-3D010E3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F4E2-C961-4768-8148-9F11BF5B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03A7-6262-42CB-A04F-C5F57563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566A-82B5-4E50-BDD8-AF5768C5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EA7-0B94-4B87-991A-AA16E3CD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B96D-53A0-46D4-83A2-4F4C89E7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8FEB-9860-4B5A-94A4-FA4269E7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7E72-A927-4CB7-83BE-E4409BE9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340A-50C3-40A4-8772-7EBA05D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89E8-A0F7-406C-B306-673FADC2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A5B1-6312-4BD6-9D6F-81A6B6D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141-EFC6-4723-9E09-757D395F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49CE-7BF9-4102-BE51-95BA85E6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CEA3-D067-4387-95ED-C1D151D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E627-0EBD-48E8-B6F1-4BF448F6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8308-D22A-4AFE-8EEC-BDB055F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214A-B43E-4C9E-9D1A-5D4A862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531C-EF74-443E-B9FF-02F64635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2090-43D1-4A54-A802-C0DE8A6E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4B1-65C9-4DAF-BCE1-E0A2AE7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ED1-B366-40BD-8DBE-6330DB3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5F8-BCB1-4AE0-BBE5-C72095D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FB7-00E5-4250-85E3-6AC33BD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47A-65E4-4C63-A3BC-966FD23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B66-03FF-4DDD-B802-2AF0B65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DB2E-9C74-487D-837B-A111FD0EC99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061C-90A1-4DDA-9F78-70D40359D64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FFE-7361-4827-9E8B-63EC3ACE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d8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16000" y="1052640"/>
            <a:ext cx="7272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4300"/>
                </a:solidFill>
                <a:latin typeface="Times New Roman"/>
              </a:rPr>
              <a:t>МОУ «Средняя общеобразовательная школа №56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1258920" y="177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834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ские образы в искусстве.</a:t>
            </a:r>
            <a:endParaRPr b="0" lang="en-US" sz="2400" spc="1" strike="noStrike">
              <a:ln w="19080">
                <a:solidFill>
                  <a:srgbClr val="6834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021200" y="3236760"/>
            <a:ext cx="1179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4300"/>
                </a:solidFill>
                <a:latin typeface="Times New Roman"/>
              </a:rPr>
              <a:t>5 клас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78936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ыченкова И.В. учитель перво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валификационной категори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5300640"/>
            <a:ext cx="252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г. Новокузнец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4" descr="book15[1]"/>
          <p:cNvPicPr/>
          <p:nvPr/>
        </p:nvPicPr>
        <p:blipFill>
          <a:blip r:embed="rId1"/>
          <a:stretch/>
        </p:blipFill>
        <p:spPr>
          <a:xfrm>
            <a:off x="6804000" y="5229360"/>
            <a:ext cx="1219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720" y="981000"/>
            <a:ext cx="4464360" cy="532944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1413000"/>
            <a:ext cx="3672000" cy="432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99160" y="1844640"/>
            <a:ext cx="374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1848-192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Виктор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Михайлович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Васнецов</a:t>
            </a: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великий русск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живописе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3970080" cy="4824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260280"/>
          <a:ext cx="8496000" cy="6147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пись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тонация, регистр, ритм - предают музыке уверенность и мощ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омпозиция мощная, крепкая, устойчивая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инорный лад предает музыке суровость и сдержанност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ало контраста, близкие по цвету, краски предают картине могучий характер и суровост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5" descr="book17[1]"/>
          <p:cNvPicPr/>
          <p:nvPr/>
        </p:nvPicPr>
        <p:blipFill>
          <a:blip r:embed="rId2"/>
          <a:stretch/>
        </p:blipFill>
        <p:spPr>
          <a:xfrm>
            <a:off x="395280" y="5373720"/>
            <a:ext cx="2305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484280"/>
            <a:ext cx="8496000" cy="504036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7705800" cy="10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Подумайте, можем ли мы увидеть музык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в своем воображении, не глядя на картину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А наоборот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82072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1.Богатырь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2.Симфони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3.Оркестр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4.Экспозици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5.Г.Т., П.Т.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6.А.П.Бородин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7.В.Васнецов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8.Назвать произведени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с  которыми мы познакомились на урок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640" y="260280"/>
            <a:ext cx="806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айте определение каждому слову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6" name="Picture 5" descr="book17[1]"/>
          <p:cNvPicPr/>
          <p:nvPr/>
        </p:nvPicPr>
        <p:blipFill>
          <a:blip r:embed="rId4"/>
          <a:stretch/>
        </p:blipFill>
        <p:spPr>
          <a:xfrm>
            <a:off x="6659640" y="392256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193200">
            <a:off x="899640" y="2491920"/>
            <a:ext cx="763452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565"/>
                <a:gd name="adj2" fmla="val 1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834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6834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Picture 4" descr="book15[1]"/>
          <p:cNvPicPr/>
          <p:nvPr/>
        </p:nvPicPr>
        <p:blipFill>
          <a:blip r:embed="rId1"/>
          <a:stretch/>
        </p:blipFill>
        <p:spPr>
          <a:xfrm>
            <a:off x="1042920" y="5157720"/>
            <a:ext cx="1219320" cy="1420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blest47[1]"/>
          <p:cNvPicPr/>
          <p:nvPr/>
        </p:nvPicPr>
        <p:blipFill>
          <a:blip r:embed="rId2"/>
          <a:stretch/>
        </p:blipFill>
        <p:spPr>
          <a:xfrm>
            <a:off x="5940360" y="549360"/>
            <a:ext cx="2768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276640"/>
            <a:ext cx="8064360" cy="331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Тема урока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«Можем ли мы увидеть музыку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Богатырские образы в искусстве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book17[1]"/>
          <p:cNvPicPr/>
          <p:nvPr/>
        </p:nvPicPr>
        <p:blipFill>
          <a:blip r:embed="rId4"/>
          <a:stretch/>
        </p:blipFill>
        <p:spPr>
          <a:xfrm>
            <a:off x="6948360" y="476280"/>
            <a:ext cx="180036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333360"/>
            <a:ext cx="8785440" cy="6292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Выдержки из словарей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Богатыр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1. Герой русских былин, совершающий воинские подвиг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2. Человек очень большой силы, стойкости, отваг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Витяз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в Древней Руси: отважный, доблестный воин, богатырь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(Толковый словарь Ожегова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Богатыр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человек рослый, дородный, дюжий и видный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необычайный силач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смелый и удачливый, храбрый и счастливый воин, витяз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(Толковый словарь Даля, Большая советская энциклопедия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765000"/>
            <a:ext cx="8207280" cy="71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Что означает слово богатырь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549360"/>
            <a:ext cx="8064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052640"/>
            <a:ext cx="4464000" cy="5329080"/>
            <a:chOff x="468360" y="1052640"/>
            <a:chExt cx="4464000" cy="5329080"/>
          </a:xfrm>
        </p:grpSpPr>
        <p:sp>
          <p:nvSpPr>
            <p:cNvPr id="145" name=""/>
            <p:cNvSpPr/>
            <p:nvPr/>
          </p:nvSpPr>
          <p:spPr>
            <a:xfrm>
              <a:off x="468360" y="1052640"/>
              <a:ext cx="4464000" cy="5329080"/>
            </a:xfrm>
            <a:prstGeom prst="bevel">
              <a:avLst>
                <a:gd name="adj" fmla="val 2579"/>
              </a:avLst>
            </a:prstGeom>
            <a:solidFill>
              <a:srgbClr val="a97c39"/>
            </a:solidFill>
            <a:ln w="1908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46" name="Picture 3" descr="Victor Vasnetsov"/>
            <p:cNvPicPr/>
            <p:nvPr/>
          </p:nvPicPr>
          <p:blipFill>
            <a:blip r:embed="rId4"/>
            <a:stretch/>
          </p:blipFill>
          <p:spPr>
            <a:xfrm>
              <a:off x="611280" y="1197000"/>
              <a:ext cx="4176720" cy="49672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гатырский скок - Васнец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39280" y="1052280"/>
            <a:ext cx="4319640" cy="5329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8000" y="1268280"/>
            <a:ext cx="3600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крепкого телосло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, храбрый, умный, ловк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ин, защи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49360"/>
            <a:ext cx="4319640" cy="532764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003640" y="907920"/>
            <a:ext cx="3672000" cy="3241440"/>
            <a:chOff x="5003640" y="907920"/>
            <a:chExt cx="3672000" cy="3241440"/>
          </a:xfrm>
        </p:grpSpPr>
        <p:sp>
          <p:nvSpPr>
            <p:cNvPr id="153" name=""/>
            <p:cNvSpPr/>
            <p:nvPr/>
          </p:nvSpPr>
          <p:spPr>
            <a:xfrm>
              <a:off x="5003640" y="1080360"/>
              <a:ext cx="3672000" cy="3069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03640" y="907920"/>
              <a:ext cx="367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Arial"/>
                </a:rPr>
                <a:t>1833-1887 г.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Arial"/>
                </a:rPr>
                <a:t>А.П.Бородин –</a:t>
              </a:r>
              <a:r>
                <a:rPr b="1" lang="en-US" sz="2800" spc="-1" strike="noStrike">
                  <a:solidFill>
                    <a:srgbClr val="683400"/>
                  </a:solidFill>
                  <a:latin typeface="Times New Roman"/>
                </a:rPr>
                <a:t>“богатырь в жизни и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Times New Roman"/>
                </a:rPr>
                <a:t>богатырь в музыке”.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4032000" cy="504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«Талант Бородина 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равно могуч и поразителен как в симфонии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так и в опере и в романсе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Главные качества его –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еликанская сила и ширина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колоссальный размах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стремительность и порывистость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соединённые с изумительной страстностью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нежностью и красотой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805360"/>
            <a:ext cx="799308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5877000"/>
            <a:ext cx="26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.В.Стасо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1628640"/>
            <a:ext cx="3097080" cy="388800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Глав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Образ защитни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734080"/>
            <a:ext cx="4896000" cy="79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Экспозиц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1628640"/>
            <a:ext cx="3168720" cy="388800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Побоч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Любви, забот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репетного отношени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К Родин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476280"/>
            <a:ext cx="6697800" cy="1081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Симфония «Богатырская».1 ча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268280"/>
            <a:ext cx="8353440" cy="525636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76360" y="189000"/>
            <a:ext cx="6095520" cy="863640"/>
            <a:chOff x="1476360" y="189000"/>
            <a:chExt cx="6095520" cy="863640"/>
          </a:xfrm>
        </p:grpSpPr>
        <p:sp>
          <p:nvSpPr>
            <p:cNvPr id="167" name=""/>
            <p:cNvSpPr/>
            <p:nvPr/>
          </p:nvSpPr>
          <p:spPr>
            <a:xfrm>
              <a:off x="1591200" y="189000"/>
              <a:ext cx="5903280" cy="86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6360" y="237960"/>
              <a:ext cx="609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83400"/>
                  </a:solidFill>
                  <a:latin typeface="Times New Roman"/>
                </a:rPr>
                <a:t>«Богатыри» В. Васнецова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11280" y="1484280"/>
            <a:ext cx="7921440" cy="495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878508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"Я считаю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что в истории русской живопис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«Богатыри» Васнецов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занимают одно из первейших мес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Здесь - сила торжествующа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спокойная и важна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никого не боящаяся и выполняющая сама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по собственной воле то, что ей нравитс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что ей представляется потребным для всех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для народа"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1000" y="5445000"/>
            <a:ext cx="338472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3400"/>
                </a:solidFill>
                <a:latin typeface="Times New Roman"/>
              </a:rPr>
              <a:t>В.В.Стасо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5:52:34Z</dcterms:created>
  <dc:creator>Fester Addams</dc:creator>
  <dc:description/>
  <dc:language>en-US</dc:language>
  <cp:lastModifiedBy>Юрий Николаевич</cp:lastModifiedBy>
  <dcterms:modified xsi:type="dcterms:W3CDTF">2010-02-23T05:06:14Z</dcterms:modified>
  <cp:revision>45</cp:revision>
  <dc:subject/>
  <dc:title>Презентация PowerPoint</dc:title>
</cp:coreProperties>
</file>