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9F97-2315-497B-890A-771578108B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ая но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разовательный портал "Мои университеты" - www.moi-universitet.ru Факультет "Реформы образования" - www.edu- reforma.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F536-FAE4-4D13-A144-27CE684349C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C32-B758-40A1-9453-54ECC6A2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9C1-68B8-4F48-BF19-525BED5C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4CC-CA5D-41C9-98C6-8A0A6562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E28-7F72-4402-9405-14F48844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3F01-6CB5-4C19-81C4-2B742468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A593-F140-463E-89C3-895FE23C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F728-6D0A-4102-8FDB-380BE83A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DABC-4B7D-4B5E-BED6-86C38A8F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BDDA-C61B-4449-93E0-ECBF1003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3ED3-1F82-45BD-BB5B-1B6CC6A8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7DA2-D4A1-459A-951E-D1227B66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27A5-53D9-49FD-987D-90D63123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850A-F8E2-486B-963F-9CEC3A0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20BB-0B32-43EE-9AFD-AB9E8FEE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454E-609D-4550-9EAA-F6CFBC04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107A-1ECE-472D-B592-E564275A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509C-127E-4334-8E90-EE1267A3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DA8-BDD5-4734-81CA-019E4E8B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BF8-A9D8-427C-A272-DB947925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676-8A7B-49A7-AAEE-1687D26E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DA1-9D53-46FF-8E04-F1BE6A6F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47D-BD6D-47BB-B6E9-AA45ADFA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716-0F69-4515-AACF-1E88158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95B-7FE7-4EFD-8A68-F6200E0E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0609-FC52-4B8C-B351-4BA6FD5379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E54-5A2F-4A7C-B4C6-510FBC8EA1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ewsland.ru/public/upload/news/big_354318_projections_nature_climate%20and%20weather_arctic_stud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kttv.ru/images/headlines/all/284add03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.bigmir.net/img/dnevnik/uploads/1154216/601194/1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g.liveinternet.ru/images/attach/4/19095/19095649_ArcticFox_02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y-sedovo.narod.ru/images/Pt_bazar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id4.ru/idea/pic/zhivotnye/70/migraciya-ptits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sbirds.ru/images/85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nauka.relis.ru/33/0405/rambler-.jpg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chto.fryazino.net/html/images/nauka/iceberg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now-forecast.com/coppermine/albums/userpics/10117/normal_normal_zakopane%202003_0313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palomnik.org/Geoveloklub/Photo/Alma/2008/6/19.7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10pix.ru/img1/5029/235986.jpg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orge.ru/file/mod_news/1006/olje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expert.ru/images/northwest/2002/05/ez06.gif" TargetMode="External"/><Relationship Id="rId4" Type="http://schemas.openxmlformats.org/officeDocument/2006/relationships/image" Target="../media/image26.png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hotofile.ru/photo/heyro/95033754/large/96179366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ecoportal.ru/images/news/34053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krashist.narod.ru/hist/pict/igarka2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inkme.ufanet.ru/images/ab/abcd10573a1b2384b1ff017af7159e34.jpg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hyperlink" Target="http://www.ittiofauna.org/webmuseum/pesciossei/gadiformes/gadidae/lota/lotalota/images/lota_lota-500.jpg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.rian.ru/images/7071/49/70714999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asik.ru/images/arctic_zone/0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dogandcat.ru/files/images/151941576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g.liveinternet.ru/images/attach/4/19095/19095649_ArcticFox_02.jpg" TargetMode="External"/><Relationship Id="rId6" Type="http://schemas.openxmlformats.org/officeDocument/2006/relationships/image" Target="../media/image35.jpeg"/><Relationship Id="rId7" Type="http://schemas.openxmlformats.org/officeDocument/2006/relationships/hyperlink" Target="http://tyumen.rfn.ru/p/m_861.jpg" TargetMode="External"/><Relationship Id="rId8" Type="http://schemas.openxmlformats.org/officeDocument/2006/relationships/image" Target="../media/image36.jpeg"/><Relationship Id="rId9" Type="http://schemas.openxmlformats.org/officeDocument/2006/relationships/hyperlink" Target="http://basik.ru/images/arctic_zone/32.jpg" TargetMode="External"/><Relationship Id="rId10" Type="http://schemas.openxmlformats.org/officeDocument/2006/relationships/image" Target="../media/image37.jpeg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moi-universitet.ru/" TargetMode="External"/><Relationship Id="rId16" Type="http://schemas.openxmlformats.org/officeDocument/2006/relationships/hyperlink" Target="http://www.moi-universitet.ru/" TargetMode="External"/><Relationship Id="rId17" Type="http://schemas.openxmlformats.org/officeDocument/2006/relationships/hyperlink" Target="http://www.moi-universitet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hyperlink" Target="http://www.edu-reforma.ru/" TargetMode="External"/><Relationship Id="rId23" Type="http://schemas.openxmlformats.org/officeDocument/2006/relationships/hyperlink" Target="http://www.edu-reforma.ru/" TargetMode="External"/><Relationship Id="rId24" Type="http://schemas.openxmlformats.org/officeDocument/2006/relationships/hyperlink" Target="http://www.edu-reforma.ru/" TargetMode="External"/><Relationship Id="rId2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science.newmail.ru/history/nuclear_testing_3/4.gif" TargetMode="External"/><Relationship Id="rId2" Type="http://schemas.openxmlformats.org/officeDocument/2006/relationships/image" Target="../media/image38.png"/><Relationship Id="rId3" Type="http://schemas.openxmlformats.org/officeDocument/2006/relationships/hyperlink" Target="http://img.flexcom.ru/2009/05/26/bimg402044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vokrugsveta.ru/img/cmn/2007/02/16/063.jpg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murman.rfn.ru/p/m_16695.jpg" TargetMode="External"/><Relationship Id="rId5" Type="http://schemas.openxmlformats.org/officeDocument/2006/relationships/image" Target="../media/image42.jpeg"/><Relationship Id="rId6" Type="http://schemas.openxmlformats.org/officeDocument/2006/relationships/hyperlink" Target="http://www.news.onru.ru/images/newsall/29310.jpg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asik.ru/images/1120/14.jpg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www.unesco.ru/files/media/images/gallery/h/a/hant1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img-fotki.yandex.ru/get/5/vibpxhgglzd.ab4/0_2749b_a781a60b_XL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www.vokrugsveta.ru/img/cmn/2007/02/069.jpg" TargetMode="External"/><Relationship Id="rId8" Type="http://schemas.openxmlformats.org/officeDocument/2006/relationships/image" Target="../media/image47.jpeg"/><Relationship Id="rId9" Type="http://schemas.openxmlformats.org/officeDocument/2006/relationships/hyperlink" Target="http://foto.ck.ua/files/thumbs/foto/46/27171859/640x480.jpg" TargetMode="External"/><Relationship Id="rId10" Type="http://schemas.openxmlformats.org/officeDocument/2006/relationships/image" Target="../media/image48.jpeg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moi-universitet.ru/" TargetMode="External"/><Relationship Id="rId16" Type="http://schemas.openxmlformats.org/officeDocument/2006/relationships/hyperlink" Target="http://www.moi-universitet.ru/" TargetMode="External"/><Relationship Id="rId17" Type="http://schemas.openxmlformats.org/officeDocument/2006/relationships/hyperlink" Target="http://www.moi-universitet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hyperlink" Target="http://www.edu-reforma.ru/" TargetMode="External"/><Relationship Id="rId23" Type="http://schemas.openxmlformats.org/officeDocument/2006/relationships/hyperlink" Target="http://www.edu-reforma.ru/" TargetMode="External"/><Relationship Id="rId24" Type="http://schemas.openxmlformats.org/officeDocument/2006/relationships/hyperlink" Target="http://www.edu-reforma.ru/" TargetMode="External"/><Relationship Id="rId2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otsad.ru/grants/fig2.jpg" TargetMode="External"/><Relationship Id="rId2" Type="http://schemas.openxmlformats.org/officeDocument/2006/relationships/image" Target="../media/image49.jpeg"/><Relationship Id="rId3" Type="http://schemas.openxmlformats.org/officeDocument/2006/relationships/hyperlink" Target="http://www.anadyr.org/image/gallary/id/1007/mode/image" TargetMode="External"/><Relationship Id="rId4" Type="http://schemas.openxmlformats.org/officeDocument/2006/relationships/image" Target="../media/image50.jpeg"/><Relationship Id="rId5" Type="http://schemas.openxmlformats.org/officeDocument/2006/relationships/hyperlink" Target="http://yahooeu.ru/uploads/posts/08/02/03/24/yahooeu_ru_8.jpg" TargetMode="External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i-universitet.ru/" TargetMode="External"/><Relationship Id="rId2" Type="http://schemas.openxmlformats.org/officeDocument/2006/relationships/hyperlink" Target="http://www.moi-universitet.ru/" TargetMode="External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edu-reforma.ru/" TargetMode="External"/><Relationship Id="rId9" Type="http://schemas.openxmlformats.org/officeDocument/2006/relationships/hyperlink" Target="http://www.edu-reforma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seshkolam.ru/assets/art/icons/icon_366_view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y-shop.ru/_files/product/3/43/428184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2/186/1771186/f_7680471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1/13/Walrus2.jpg/800px-Walrus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uchenik.kanchalan.ru/Tundra/images/nerpy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hyperlink" Target="http://www.dogandcat.ru/files/images/151941576.jpg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moi-universitet.ru/" TargetMode="External"/><Relationship Id="rId11" Type="http://schemas.openxmlformats.org/officeDocument/2006/relationships/hyperlink" Target="http://www.moi-universitet.ru/" TargetMode="External"/><Relationship Id="rId12" Type="http://schemas.openxmlformats.org/officeDocument/2006/relationships/hyperlink" Target="http://www.moi-universitet.ru/" TargetMode="External"/><Relationship Id="rId13" Type="http://schemas.openxmlformats.org/officeDocument/2006/relationships/hyperlink" Target="http://www.moi-universitet.ru/" TargetMode="External"/><Relationship Id="rId14" Type="http://schemas.openxmlformats.org/officeDocument/2006/relationships/hyperlink" Target="http://www.moi-universitet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hyperlink" Target="http://www.edu-reforma.ru/" TargetMode="External"/><Relationship Id="rId18" Type="http://schemas.openxmlformats.org/officeDocument/2006/relationships/hyperlink" Target="http://www.edu-reforma.ru/" TargetMode="External"/><Relationship Id="rId19" Type="http://schemas.openxmlformats.org/officeDocument/2006/relationships/hyperlink" Target="http://www.edu-reforma.ru/" TargetMode="External"/><Relationship Id="rId20" Type="http://schemas.openxmlformats.org/officeDocument/2006/relationships/hyperlink" Target="http://www.edu-reforma.ru/" TargetMode="External"/><Relationship Id="rId21" Type="http://schemas.openxmlformats.org/officeDocument/2006/relationships/hyperlink" Target="http://www.edu-reforma.ru/" TargetMode="External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a-zhenschina.ucoz.ru/_ph/13/854462672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moi-universitet.ru/" TargetMode="External"/><Relationship Id="rId4" Type="http://schemas.openxmlformats.org/officeDocument/2006/relationships/hyperlink" Target="http://www.moi-universitet.ru/" TargetMode="External"/><Relationship Id="rId5" Type="http://schemas.openxmlformats.org/officeDocument/2006/relationships/hyperlink" Target="http://www.moi-universitet.ru/" TargetMode="External"/><Relationship Id="rId6" Type="http://schemas.openxmlformats.org/officeDocument/2006/relationships/hyperlink" Target="http://www.moi-universitet.ru/" TargetMode="External"/><Relationship Id="rId7" Type="http://schemas.openxmlformats.org/officeDocument/2006/relationships/hyperlink" Target="http://www.moi-universitet.ru/" TargetMode="External"/><Relationship Id="rId8" Type="http://schemas.openxmlformats.org/officeDocument/2006/relationships/hyperlink" Target="http://www.moi-universitet.ru/" TargetMode="External"/><Relationship Id="rId9" Type="http://schemas.openxmlformats.org/officeDocument/2006/relationships/hyperlink" Target="http://www.moi-universitet.ru/" TargetMode="External"/><Relationship Id="rId10" Type="http://schemas.openxmlformats.org/officeDocument/2006/relationships/hyperlink" Target="http://www.edu-reforma.ru/" TargetMode="External"/><Relationship Id="rId11" Type="http://schemas.openxmlformats.org/officeDocument/2006/relationships/hyperlink" Target="http://www.edu-reforma.ru/" TargetMode="External"/><Relationship Id="rId12" Type="http://schemas.openxmlformats.org/officeDocument/2006/relationships/hyperlink" Target="http://www.edu-reforma.ru/" TargetMode="External"/><Relationship Id="rId13" Type="http://schemas.openxmlformats.org/officeDocument/2006/relationships/hyperlink" Target="http://www.edu-reforma.ru/" TargetMode="External"/><Relationship Id="rId14" Type="http://schemas.openxmlformats.org/officeDocument/2006/relationships/hyperlink" Target="http://www.edu-reforma.ru/" TargetMode="External"/><Relationship Id="rId15" Type="http://schemas.openxmlformats.org/officeDocument/2006/relationships/hyperlink" Target="http://www.edu-reforma.ru/" TargetMode="External"/><Relationship Id="rId16" Type="http://schemas.openxmlformats.org/officeDocument/2006/relationships/hyperlink" Target="http://www.edu-reforma.ru/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5" descr="Картинка 11 из 13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7200" y="1981080"/>
            <a:ext cx="815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b76"/>
                </a:solidFill>
                <a:latin typeface="Verdana"/>
              </a:rPr>
              <a:t>ХОЛОДНАЯ БЕЗМОЛВНАЯ АРКТИЧЕСКАЯ ПУСТЫНЯ  САМАЯ СЕВЕРНАЯ ИЗ ПРИРОДНЫХ ЗЕМЛИ, НО ТАК МАНИТ И ПРИТЯГИВАЕТ К СЕБЕ ВНИМАНИЕ ЧЕЛОВЕК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-6858000" y="3166920"/>
            <a:ext cx="4686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ЛОДНАЯ БЕЗМОЛВНАЯ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РКТИЧЕСКАЯ ПУСТЫНЯ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АЯ СЕВЕРНАЯ ИЗ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РОДНЫХ ЗЕМЛИ. НО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 МАНИТ И ПРИТЯГИВАЕТ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СЕБЕ ВНИМАНИЕ ЧЕЛОВЕКА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0" y="2016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Картинка 9 из 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57280"/>
            <a:ext cx="8381880" cy="6300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верные олени – самые крупные травоядные животные Крайнего Севра. Держатся большими стадами. Это единственные олени у самок которых есть ро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80880" y="120960"/>
            <a:ext cx="8763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0_47aa_fd0a11c1_XL"/>
          <p:cNvPicPr/>
          <p:nvPr/>
        </p:nvPicPr>
        <p:blipFill>
          <a:blip r:embed="rId1"/>
          <a:stretch/>
        </p:blipFill>
        <p:spPr>
          <a:xfrm>
            <a:off x="762120" y="314316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Картинка 6 из 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457200"/>
            <a:ext cx="3381120" cy="26701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4419720" y="457200"/>
            <a:ext cx="4114800" cy="1465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емминг – полярная полевка с коротким хвостом. Длина его тела около 15 см. Зимой не впадает в зимнюю спячку, роет норы и способен к подснежной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28600" y="5803920"/>
            <a:ext cx="4876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ая сова – опасный хищник Арктики. Основная пища – лемминг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5" descr="Картинка 8 из 445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10080" y="2286000"/>
            <a:ext cx="2895840" cy="26226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6"/>
          <p:cNvSpPr/>
          <p:nvPr/>
        </p:nvSpPr>
        <p:spPr>
          <a:xfrm>
            <a:off x="5334120" y="5105520"/>
            <a:ext cx="35049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сец – полярная лиса. Особенно заботится о своей пушистой шубе, которая спасает его от морозов. Основная пища – лемминг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2620901facbe"/>
          <p:cNvPicPr/>
          <p:nvPr/>
        </p:nvPicPr>
        <p:blipFill>
          <a:blip r:embed="rId1"/>
          <a:stretch/>
        </p:blipFill>
        <p:spPr>
          <a:xfrm>
            <a:off x="0" y="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вцебык – самое выносливое животное, не боится холода и мороза. Его толстая шкура защищает его то ветров и морозов, а мощные рога опасны для его врагов – вол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943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тичьи база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19" descr="Картинка 7 из 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4300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549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Картинка 16 из 2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97640" y="2743200"/>
            <a:ext cx="245736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3"/>
          <p:cNvSpPr/>
          <p:nvPr/>
        </p:nvSpPr>
        <p:spPr>
          <a:xfrm>
            <a:off x="0" y="5638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островах живет много птиц кайры, моевки, гуси. Кайры прекрасно ныряют, ловят рыбу и рачков на больших глубинах, далеко от берега. Моевки ловят рыбу только в поверхностных вод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9" descr="13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0" descr="Картинка 15 из 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276720" cy="22827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1"/>
          <p:cNvSpPr/>
          <p:nvPr/>
        </p:nvSpPr>
        <p:spPr>
          <a:xfrm>
            <a:off x="0" y="563868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уха – морское животное семейства дельфиновых. Длина его тела достигает 6 м., весит до 2т. Обладает развитым эхолокационным аппаратом, хорошо ориентируется в океа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Картинка 16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1308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457200" y="62485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ьды Арктики имеют толщину до 4 км. Материковые льды сползают в океан и образуют айсберги – плавающие ледяные глыб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858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йсберг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13" descr="Картинка 39 из 4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8610480" cy="57387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0" y="579132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Постоянного населения в Арктике нет.. Для адаптации человека наиболее серьезные проблемы создают полярный день и полярная ночь. По исследованиям психологов, они вызывают сильнейшие депрессии. Кроме того, сильные ветры на фоне низкой температуры быстро приводят к обморожению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19" descr="Картинка 92 из 1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89548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Картинка 11 из 1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343400" cy="30034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5" descr="Картинка 7 из 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038240"/>
            <a:ext cx="8839080" cy="581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Картинка 29 из 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066680"/>
            <a:ext cx="2514600" cy="19861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шельфе Баренцева моря обнаружено несколько месторождений нефти. Освоение морских богатств – сложная техническая задач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838080" y="380880"/>
            <a:ext cx="80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Verdana"/>
              </a:rPr>
              <a:t>Хозяйственная деятельность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05520" y="81360"/>
            <a:ext cx="3504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5" descr="Картинка 8 из 44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27 из 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66880" cy="1903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Картинка 11 из 6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89720" y="0"/>
            <a:ext cx="1754280" cy="1440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0" y="5489640"/>
            <a:ext cx="9144000" cy="137268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еверный морской путь – главная судоходная магистраль России в Арктике. Проходит по морям Северного Ледовитого океана, соединяет европейские и дальневосточные порты. Длина  (то Карских Ворот до бухты Провидения) 5600км. Северный морской путь обслуживает порты Арктики и крупных рек (ввоз топлива, оборудования, продовольствия, вывоз леса, в т.ч. за границу, и др.). Основные порты: Игарка, Дудинка, Диксон, Тикси, Певек, Провидения. Продолжительность навигации 2-4 месяц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2666880" y="3049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b76"/>
                </a:solidFill>
                <a:latin typeface="Verdana"/>
              </a:rPr>
              <a:t>Северны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b76"/>
                </a:solidFill>
                <a:latin typeface="Verdana"/>
              </a:rPr>
              <a:t>морской пут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Картинка 47 из 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676520"/>
            <a:ext cx="5867640" cy="49273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2590920" y="3808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рях Арктики развито рыболов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Picture 5" descr="1243345603_img_3063_resize"/>
          <p:cNvPicPr/>
          <p:nvPr/>
        </p:nvPicPr>
        <p:blipFill>
          <a:blip r:embed="rId3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228600" y="1828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й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9" descr="i?id=117161005&amp;tov=3"/>
          <p:cNvPicPr/>
          <p:nvPr/>
        </p:nvPicPr>
        <p:blipFill>
          <a:blip r:embed="rId4"/>
          <a:stretch/>
        </p:blipFill>
        <p:spPr>
          <a:xfrm>
            <a:off x="0" y="2209680"/>
            <a:ext cx="2438280" cy="19242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304920" y="4038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с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Picture 11" descr="Картинка 4 из 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419720"/>
            <a:ext cx="2438280" cy="21891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2"/>
          <p:cNvSpPr/>
          <p:nvPr/>
        </p:nvSpPr>
        <p:spPr>
          <a:xfrm>
            <a:off x="45720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ваг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5" descr="Картинка 26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1" name="WordArt 7"/>
          <p:cNvSpPr txBox="1"/>
          <p:nvPr/>
        </p:nvSpPr>
        <p:spPr>
          <a:xfrm>
            <a:off x="914400" y="60948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WordArt 8"/>
          <p:cNvSpPr txBox="1"/>
          <p:nvPr/>
        </p:nvSpPr>
        <p:spPr>
          <a:xfrm>
            <a:off x="609480" y="1981080"/>
            <a:ext cx="77724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Безмолвная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ктика"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Картинка 8 из 44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3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мысловый сезон короток (охотятся только летом, однако и его хватило, чтобы морж стал редким животным, а численность белого медведя сократилась до нескольких тысяч гол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7" descr="Картинка 4 из 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809880"/>
            <a:ext cx="3276360" cy="1847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мысловая житница Арк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5" descr="Картинка 8 из 445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267080"/>
            <a:ext cx="1682640" cy="1524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Картинка 2 из 10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10666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Картинка 8 из 4453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10666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5257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5" descr="Картинка 1 из 17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8305560" cy="5398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Картинка 12 из 17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94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6"/>
          <p:cNvSpPr/>
          <p:nvPr/>
        </p:nvSpPr>
        <p:spPr>
          <a:xfrm>
            <a:off x="0" y="60199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Остров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Verdana"/>
              </a:rPr>
              <a:t>Новая Земля – полигон для испытания ядерного оружия (1960-197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роблемы Арктик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5" descr="Картинка 42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1219320"/>
            <a:ext cx="5181480" cy="3500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i?id=5686463&amp;tov=2"/>
          <p:cNvPicPr/>
          <p:nvPr/>
        </p:nvPicPr>
        <p:blipFill>
          <a:blip r:embed="rId3"/>
          <a:stretch/>
        </p:blipFill>
        <p:spPr>
          <a:xfrm>
            <a:off x="0" y="0"/>
            <a:ext cx="3124080" cy="2384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Картинка 20 из 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5720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Картинка 82 из 1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362320"/>
            <a:ext cx="3124080" cy="2324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3"/>
          <p:cNvSpPr/>
          <p:nvPr/>
        </p:nvSpPr>
        <p:spPr>
          <a:xfrm>
            <a:off x="3276720" y="4724280"/>
            <a:ext cx="5867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диоактивное загрязн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кое уменьшение численности многих арктических животны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грязнение вод океана в последствии добычи нефт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тепление клима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50292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храна природ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5" descr="Картинка 11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143000"/>
            <a:ext cx="5943600" cy="431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Картинка 18 из 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3200400" y="5943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Verdana"/>
              </a:rPr>
              <a:t>«Таймырский заповедник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Picture 11" descr="Картинка 99 из 10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851360"/>
            <a:ext cx="2743200" cy="2006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Картинка 15 из 10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905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Картинка 36 из 10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05320"/>
            <a:ext cx="2743200" cy="17874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Картинка 7 из 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59080"/>
            <a:ext cx="3352680" cy="2592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Картинка 6 из 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52117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Картинка 19 из 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85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1" descr="i?id=48360520&amp;tov=7"/>
          <p:cNvPicPr/>
          <p:nvPr/>
        </p:nvPicPr>
        <p:blipFill>
          <a:blip r:embed="rId7"/>
          <a:stretch/>
        </p:blipFill>
        <p:spPr>
          <a:xfrm>
            <a:off x="2895480" y="5165640"/>
            <a:ext cx="2590920" cy="1692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4"/>
          <p:cNvSpPr/>
          <p:nvPr/>
        </p:nvSpPr>
        <p:spPr>
          <a:xfrm>
            <a:off x="2590920" y="838080"/>
            <a:ext cx="2819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715000" y="0"/>
            <a:ext cx="327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динственное место нашей страны, где гнездятся красивейшие, редкие птицы белые гуси. Их гнездовья находятся под строгой охран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  этом заповеднике самые крупные скопления моржей. Каждый год на острове насчитывается до 250 берлог, в которых у медведицы появляются малыши. Еще одно интересное животное – овцебык. Этот зверь в далеком прошлом обитал на территории нашей страны. А сейчас ученые снова поселили его на острове Вранге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153280" cy="53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родная зона Арктических пустынь расположена на островах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) Северная Земл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) Командорск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) Новосибирски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Г) Сахали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ля зоны арктических пустынь характерны животные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) белый медведь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) вол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) зубр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Г) овцебы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Д) куниц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Е) морж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Площадь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, занятая зоной Арктики, в России составляет</a:t>
            </a: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А) 40%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Б) 10%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В) 18%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Г) 30%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метьте характерные признаки природной зоны Арктик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)  полярное сия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Б) средняя температура июля +2◦С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В) выпадает много осадк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Г) поверхность сильно заболочен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Д) практически отсутствуют почв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Е) на скалистых берегах много птичьих базар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Ж ) обилие ягодных кустарник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ы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А) Северная Земл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В) Новосибирск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2. А) белый медведь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Г) овцебык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Е) морж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3. Г) 30%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4. А)  полярное сияние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Б) средняя температура июля +2◦С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Д) практически отсутствуют почв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Е) на скалистых берегах много птичьих базар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1.Рассмотреть особенности природы и взаимосвязь природных компонентов Арктик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2. Выявить, возможное хозяйственное использование природной зоны и связанные с ними экологические проблем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3. Предложить пути решения сложившихся пробле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аша оце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-9 «5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-7 «4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-5 «3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 и менее «2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она арктических пустынь наименее заселена и освоена человеком. Практически только здесь в России некоторые уголки сохранили свой первозданный обли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ровые климатические услов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новные виды хозяйственной деятельности: рыболовство, охота, добыча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следние десятилетия хозяйственной деятельности человека  обернулась для некоторых районов Арктики настоящей трагедией: это и радиоактивное загрязнение, резкое уменьшение численности многих арктических животны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нимаются меры по охране природы: прекращение испытаний ядерного оружия и ограничение промысла морского зверя, создание заповедников и охрану редких животны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ть § 32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ую карту нанес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цветом территорию Арктик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пунктиром Северный морской путь и пунсонами крупнейшие порты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заповед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0" y="36000"/>
            <a:ext cx="91440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universitet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www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edu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reforma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ортовой журна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1295280"/>
          <a:ext cx="8381880" cy="5257800"/>
        </p:xfrm>
        <a:graphic>
          <a:graphicData uri="http://schemas.openxmlformats.org/drawingml/2006/table">
            <a:tbl>
              <a:tblPr/>
              <a:tblGrid>
                <a:gridCol w="1255680"/>
                <a:gridCol w="744480"/>
                <a:gridCol w="749160"/>
                <a:gridCol w="833400"/>
                <a:gridCol w="833760"/>
                <a:gridCol w="1000080"/>
                <a:gridCol w="831600"/>
                <a:gridCol w="990720"/>
                <a:gridCol w="1143000"/>
              </a:tblGrid>
              <a:tr h="1193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еографическое положение природной зон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лиматическая характеристи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чвы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астения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ивотные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◦ ср. июля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◦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◦ ср. январ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КО, 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.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кал/см² в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Картинка 1 из 1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8367480" cy="6183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04920" y="6324480"/>
            <a:ext cx="883908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ите границы зона Аркт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5" descr="Картинка 3 из 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39560"/>
            <a:ext cx="9144000" cy="6418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0" y="6324480"/>
            <a:ext cx="914400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пределите особенности клима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80010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клима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5" descr="Картинка 8 из 44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838080"/>
            <a:ext cx="5943600" cy="3984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228600" y="489276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 Арктики характерны очень сильные ветры и низкие температуры ( летом 0 +2, зимой – 20-40) короткое лето, 100-200мм)ледяная поверхность, малый угол падения солнечных лучей, суммарная солнечная радиация 70 ккал/см² в год, так как много радиации отражается от ледников и снег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, осадков выпадает мало (100-200мм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рганический мир Арктики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5" descr="Картинка 122 из 13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371600"/>
            <a:ext cx="2895480" cy="2120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Картинка 7 из 7">
            <a:hlinkClick r:id="rId3"/>
          </p:cNvPr>
          <p:cNvPicPr/>
          <p:nvPr/>
        </p:nvPicPr>
        <p:blipFill>
          <a:blip r:embed="rId4"/>
          <a:stretch/>
        </p:blipFill>
        <p:spPr>
          <a:xfrm rot="21150600">
            <a:off x="609480" y="3580920"/>
            <a:ext cx="3427560" cy="20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1-1992-1ac85532f02553fdb582603ad31e6bc7"/>
          <p:cNvPicPr/>
          <p:nvPr/>
        </p:nvPicPr>
        <p:blipFill>
          <a:blip r:embed="rId5"/>
          <a:stretch/>
        </p:blipFill>
        <p:spPr>
          <a:xfrm rot="557400">
            <a:off x="4648320" y="1447920"/>
            <a:ext cx="3665520" cy="24429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7"/>
          <p:cNvSpPr/>
          <p:nvPr/>
        </p:nvSpPr>
        <p:spPr>
          <a:xfrm>
            <a:off x="1143000" y="57150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аз жизни животных Арктики непосредственно связан с океаном. Здесь обитают моржи, несколько видов тюлений, белый медведь, на островах много птиц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7" descr="Картинка 4 из 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95680" y="3733920"/>
            <a:ext cx="3505320" cy="1976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7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8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9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0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21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8" descr="Картинка 5 из 4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003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лый медведь – хищное животное. Длина от 2 до 3 м, весит 700-800 кг. Типичный представитель арктической фауны. Хорошо плавает, ныряет. Основная пища – тюлен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23400"/>
            <a:ext cx="914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разовательный портал «Мой университет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3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5"/>
              </a:rPr>
              <a:t>moi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6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7"/>
              </a:rPr>
              <a:t>universitet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8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9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Факультет «Реформа образования» -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0"/>
              </a:rPr>
              <a:t>www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1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2"/>
              </a:rPr>
              <a:t>edu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3"/>
              </a:rPr>
              <a:t>-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4"/>
              </a:rPr>
              <a:t>reforma</a:t>
            </a:r>
            <a:r>
              <a:rPr b="0" lang="ru-RU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5"/>
              </a:rPr>
              <a:t>.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Verdana"/>
                <a:ea typeface="Times New Roman"/>
                <a:hlinkClick r:id="rId16"/>
              </a:rPr>
              <a:t>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6-22T16:17:3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