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1F81-C576-4968-ACB2-C4359536D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ая но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5591-5740-4259-90F3-CE38B72D747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63C-0200-412A-931E-DC98B2B3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367-95C2-4361-8984-BB615C4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D9E-887D-4148-9719-B867964F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F93-A968-4700-994F-31B52184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CE70-D8CF-4040-8857-F641C8DD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DD36-2D17-4973-9562-2308E04E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A13F-B15F-4C49-BF11-48A89AA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3D3-B306-4FAE-B9D1-BAA0F185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8D0-6599-47A3-BDDE-4242AB0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04E2-0BDF-460D-AA1C-294233D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443-7E89-4425-84B1-E6B6FB9F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57E-3082-4EFA-8207-36C0F85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29A-5AA9-4A84-BB91-B162DEA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1C1-9DA2-4718-89C4-BC2250C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6492-A9D0-45DB-A0B1-58EFFD2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707B-4412-41C6-946C-AD0E612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488-621C-4E24-BF90-F2F28AF8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160-38BD-4091-9E21-EEC5A89F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4E2-1148-4D7B-A7FF-652635B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90-100A-4C0A-82BB-0AC00C0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F65-CDFF-475E-A63C-D8C4B9B0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293-96AF-4170-8C68-59F0768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45E-0AE7-40F9-91B9-A88E461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E40-C038-45D4-9300-B166D0D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E8F0-B707-4727-9D35-4983463B8C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3CD-3019-4C0E-BA2C-182DAD42F0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sland.ru/public/upload/news/big_354318_projections_nature_climate%20and%20weather_arctic_stud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kttv.ru/images/headlines/all/284add0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.bigmir.net/img/dnevnik/uploads/1154216/601194/1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.liveinternet.ru/images/attach/4/19095/19095649_ArcticFox_0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-sedovo.narod.ru/images/Pt_bazar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id4.ru/idea/pic/zhivotnye/70/migraciya-ptits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sbirds.ru/images/85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nauka.relis.ru/33/0405/rambler-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chto.fryazino.net/html/images/nauka/iceberg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now-forecast.com/coppermine/albums/userpics/10117/normal_normal_zakopane%202003_0313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palomnik.org/Geoveloklub/Photo/Alma/2008/6/19.7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10pix.ru/img1/5029/235986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orge.ru/file/mod_news/1006/olje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xpert.ru/images/northwest/2002/05/ez06.gif" TargetMode="External"/><Relationship Id="rId4" Type="http://schemas.openxmlformats.org/officeDocument/2006/relationships/image" Target="../media/image26.pn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file.ru/photo/heyro/95033754/large/9617936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ecoportal.ru/images/news/34053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krashist.narod.ru/hist/pict/igarka2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inkme.ufanet.ru/images/ab/abcd10573a1b2384b1ff017af7159e34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ittiofauna.org/webmuseum/pesciossei/gadiformes/gadidae/lota/lotalota/images/lota_lota-500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rian.ru/images/7071/49/7071499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asik.ru/images/arctic_zone/0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dogandcat.ru/files/images/151941576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g.liveinternet.ru/images/attach/4/19095/19095649_ArcticFox_02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tyumen.rfn.ru/p/m_861.jpg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basik.ru/images/arctic_zone/32.jpg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science.newmail.ru/history/nuclear_testing_3/4.gi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img.flexcom.ru/2009/05/26/bimg402044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02/16/063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murman.rfn.ru/p/m_16695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www.news.onru.ru/images/newsall/29310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sik.ru/images/1120/14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unesco.ru/files/media/images/gallery/h/a/hant1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g-fotki.yandex.ru/get/5/vibpxhgglzd.ab4/0_2749b_a781a60b_XL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www.vokrugsveta.ru/img/cmn/2007/02/069.jp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foto.ck.ua/files/thumbs/foto/46/27171859/640x480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otsad.ru/grants/fig2.jpg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www.anadyr.org/image/gallary/id/1007/mode/image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yahooeu.ru/uploads/posts/08/02/03/24/yahooeu_ru_8.jpg" TargetMode="External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seshkolam.ru/assets/art/icons/icon_366_view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-shop.ru/_files/product/3/43/428184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86/1771186/f_768047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1/13/Walrus2.jpg/800px-Walrus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uchenik.kanchalan.ru/Tundra/images/nerpy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dogandcat.ru/files/images/151941576.jp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-zhenschina.ucoz.ru/_ph/13/854462672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Картинка 11 из 13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7200" y="19810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b76"/>
                </a:solidFill>
                <a:latin typeface="Verdana"/>
              </a:rPr>
              <a:t>ХОЛОДНАЯ БЕЗМОЛВНАЯ АРКТИЧЕСКАЯ ПУСТЫНЯ  САМАЯ СЕВЕРНАЯ ИЗ ПРИРОДНЫХ ЗЕМЛИ, НО ТАК МАНИТ И ПРИТЯГИВАЕТ К СЕБЕ ВНИМАНИЕ ЧЕЛОВЕК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-6858000" y="3166920"/>
            <a:ext cx="46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ОДНАЯ БЕЗМОЛВНА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КТИЧЕСКАЯ ПУСТЫНЯ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АЯ СЕВЕРНАЯ ИЗ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Х ЗЕМЛИ. НО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 МАНИТ И ПРИТЯГИВАЕТ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СЕБЕ ВНИМАНИЕ ЧЕЛОВЕКА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2016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Картинка 9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57280"/>
            <a:ext cx="8381880" cy="630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верные олени – самые крупные травоядные животные Крайнего Севра. Держатся большими стадами. Это единственные олени у самок которых есть ро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80880" y="120960"/>
            <a:ext cx="8763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0_47aa_fd0a11c1_XL"/>
          <p:cNvPicPr/>
          <p:nvPr/>
        </p:nvPicPr>
        <p:blipFill>
          <a:blip r:embed="rId1"/>
          <a:stretch/>
        </p:blipFill>
        <p:spPr>
          <a:xfrm>
            <a:off x="762120" y="314316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Картинка 6 из 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457200"/>
            <a:ext cx="3381120" cy="2670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4419720" y="457200"/>
            <a:ext cx="4114800" cy="1465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мминг – полярная полевка с коротким хвостом. Длина его тела около 15 см. Зимой не впадает в зимнюю спячку, роет норы и способен к подснежной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28600" y="5803920"/>
            <a:ext cx="487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ая сова – опасный хищник Арктики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5" descr="Картинка 8 из 445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2286000"/>
            <a:ext cx="2895840" cy="2622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6"/>
          <p:cNvSpPr/>
          <p:nvPr/>
        </p:nvSpPr>
        <p:spPr>
          <a:xfrm>
            <a:off x="5334120" y="5105520"/>
            <a:ext cx="35049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сец – полярная лиса. Особенно заботится о своей пушистой шубе, которая спасает его от морозов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2620901facbe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вцебык – самое выносливое животное, не боится холода и мороза. Его толстая шкура защищает его то ветров и морозов, а мощные рога опасны для его врагов – вол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943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ичьи база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19" descr="Картинка 7 из 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4300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54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Картинка 16 из 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97640" y="2743200"/>
            <a:ext cx="245736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3"/>
          <p:cNvSpPr/>
          <p:nvPr/>
        </p:nvSpPr>
        <p:spPr>
          <a:xfrm>
            <a:off x="0" y="56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островах живет много птиц кайры, моевки, гуси. Кайры прекрасно ныряют, ловят рыбу и рачков на больших глубинах, далеко от берега. Моевки ловят рыбу только в поверхностных вод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9" descr="13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15 из 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76720" cy="228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0" y="56386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уха – морское животное семейства дельфиновых. Длина его тела достигает 6 м., весит до 2т. Обладает развитым эхолокационным аппаратом, хорошо ориентируется в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57200" y="6248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ьды Арктики имеют толщину до 4 км. Материковые льды сползают в океан и образуют айсберги – плавающие ледяные глыб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58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йсбер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13" descr="Картинка 39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8610480" cy="5738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остоянного населения в Арктике нет.. Для адаптации человека наиболее серьезные проблемы создают полярный день и полярная ночь. По исследованиям психологов, они вызывают сильнейшие депрессии. Кроме того, сильные ветры на фоне низкой температуры быстро приводят к обморожению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19" descr="Картинка 92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5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Картинка 1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Картинка 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38240"/>
            <a:ext cx="8839080" cy="581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артинка 29 из 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066680"/>
            <a:ext cx="2514600" cy="19861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шельфе Баренцева моря обнаружено несколько месторождений нефти. Освоение морских богатств – сложная техническая задач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838080" y="380880"/>
            <a:ext cx="80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Хозяйственная деятельност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05520" y="81360"/>
            <a:ext cx="3504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27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66880" cy="1903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Картинка 11 из 6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9720" y="0"/>
            <a:ext cx="1754280" cy="1440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0" y="5489640"/>
            <a:ext cx="9144000" cy="137268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верный морской путь – главная судоходная магистраль России в Арктике. Проходит по морям Северного Ледовитого океана, соединяет европейские и дальневосточные порты. Длина  (то Карских Ворот до бухты Провидения) 5600км. Северный морской путь обслуживает порты Арктики и крупных рек (ввоз топлива, оборудования, продовольствия, вывоз леса, в т.ч. за границу, и др.). Основные порты: Игарка, Дудинка, Диксон, Тикси, Певек, Провидения. Продолжительность навигации 2-4 месяц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666880" y="3049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Север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морской пу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Картинка 4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76520"/>
            <a:ext cx="5867640" cy="4927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2590920" y="3808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ях Арктики развито рыболов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5" descr="1243345603_img_3063_resize"/>
          <p:cNvPicPr/>
          <p:nvPr/>
        </p:nvPicPr>
        <p:blipFill>
          <a:blip r:embed="rId3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2286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й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9" descr="i?id=117161005&amp;tov=3"/>
          <p:cNvPicPr/>
          <p:nvPr/>
        </p:nvPicPr>
        <p:blipFill>
          <a:blip r:embed="rId4"/>
          <a:stretch/>
        </p:blipFill>
        <p:spPr>
          <a:xfrm>
            <a:off x="0" y="2209680"/>
            <a:ext cx="2438280" cy="1924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304920" y="4038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11" descr="Картинка 4 из 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419720"/>
            <a:ext cx="2438280" cy="2189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45720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ваг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5" descr="Картинка 2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914400" y="60948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езмолвная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ктика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мысловый сезон короток (охотятся только летом, однако и его хватило, чтобы морж стал редким животным, а численность белого медведя сократилась до нескольких тысяч гол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7" descr="Картинка 4 из 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809880"/>
            <a:ext cx="3276360" cy="1847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ысловая житница Арк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5" descr="Картинка 8 из 445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267080"/>
            <a:ext cx="1682640" cy="152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Картинка 2 из 1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066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Картинка 8 из 4453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10666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5257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Картинка 1 из 1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9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Картинка 12 из 1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9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0" y="6019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стров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овая Земля – полигон для испытания ядерного оружия (1960-197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блемы Арктик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5" descr="Картинка 42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219320"/>
            <a:ext cx="5181480" cy="350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i?id=5686463&amp;tov=2"/>
          <p:cNvPicPr/>
          <p:nvPr/>
        </p:nvPicPr>
        <p:blipFill>
          <a:blip r:embed="rId3"/>
          <a:stretch/>
        </p:blipFill>
        <p:spPr>
          <a:xfrm>
            <a:off x="0" y="0"/>
            <a:ext cx="3124080" cy="238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Картинка 20 из 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5720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Картинка 82 из 1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62320"/>
            <a:ext cx="3124080" cy="2324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3"/>
          <p:cNvSpPr/>
          <p:nvPr/>
        </p:nvSpPr>
        <p:spPr>
          <a:xfrm>
            <a:off x="3276720" y="4724280"/>
            <a:ext cx="5867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диоактивное загрязн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кое уменьшение численности многих арктических живот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рязнение вод океана в последствии добычи неф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пление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храна природ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5" descr="Картинка 1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143000"/>
            <a:ext cx="5943600" cy="431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Картинка 18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3200400" y="5943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«Таймырский заповедни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Picture 11" descr="Картинка 99 из 1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1360"/>
            <a:ext cx="2743200" cy="2006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Картинка 15 из 1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905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Картинка 36 из 1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2743200" cy="17874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Картинка 7 из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59080"/>
            <a:ext cx="3352680" cy="2592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Картинка 6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2117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Картинка 19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85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i?id=48360520&amp;tov=7"/>
          <p:cNvPicPr/>
          <p:nvPr/>
        </p:nvPicPr>
        <p:blipFill>
          <a:blip r:embed="rId7"/>
          <a:stretch/>
        </p:blipFill>
        <p:spPr>
          <a:xfrm>
            <a:off x="2895480" y="516564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4"/>
          <p:cNvSpPr/>
          <p:nvPr/>
        </p:nvSpPr>
        <p:spPr>
          <a:xfrm>
            <a:off x="2590920" y="838080"/>
            <a:ext cx="28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715000" y="0"/>
            <a:ext cx="327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динственное место нашей страны, где гнездятся красивейшие, редкие птицы белые гуси. Их гнездовья находятся под строгой охран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 этом заповеднике самые крупные скопления моржей. Каждый год на острове насчитывается до 250 берлог, в которых у медведицы появляются малыши. Еще одно интересное животное – овцебык. Этот зверь в далеком прошлом обитал на территории нашей страны. А сейчас ученые снова поселили его на острове Вранге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15328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родная зона Арктических пустынь расположена на остров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Северная Земл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Командо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Новосиби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Сахал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зоны арктических пустынь характерны животные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белый медвед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вол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зубр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Д) куниц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лощад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занятая зоной Арктики, в России составляет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4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1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18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30%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метьте характерные признаки природной зоны Арктик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)  полярное сия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) выпадает много осадк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) поверхность сильно заболоче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Ж ) обилие ягодных кустар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А) Северная Земл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) Новосибирск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2. А) белый медвед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3. Г) 3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4. А)  полярное сия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1.Рассмотреть особенности природы и взаимосвязь природных компонентов Аркт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2. Выявить, возможное хозяйственное использование природной зоны и связанные с ними экологические пробл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3. Предложить пути решения сложившихся пробл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аша оце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-9 «5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-7 «4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-5 «3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и менее «2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она арктических пустынь наименее заселена и освоена человеком. Практически только здесь в России некоторые уголки сохранили свой первозданный обли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овые климатические услов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новные виды хозяйственной деятельности: рыболовство, охота, добыча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ледние десятилетия хозяйственной деятельности человека  обернулась для некоторых районов Арктики настоящей трагедией: это и радиоактивное загрязнение, резкое уменьшение численности многих арктических животны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нимаются меры по охране природы: прекращение испытаний ядерного оружия и ограничение промысла морского зверя, создание заповедников и охрану редких живот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ть § 32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ую карту нане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цветом территорию Аркт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унктиром Северный морской путь и пунсонами крупнейшие порт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заповед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36000"/>
            <a:ext cx="91440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universitet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www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edu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eforma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ртовой жур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295280"/>
          <a:ext cx="8381880" cy="5257800"/>
        </p:xfrm>
        <a:graphic>
          <a:graphicData uri="http://schemas.openxmlformats.org/drawingml/2006/table">
            <a:tbl>
              <a:tblPr/>
              <a:tblGrid>
                <a:gridCol w="1255680"/>
                <a:gridCol w="744480"/>
                <a:gridCol w="749160"/>
                <a:gridCol w="833400"/>
                <a:gridCol w="833760"/>
                <a:gridCol w="1000080"/>
                <a:gridCol w="831600"/>
                <a:gridCol w="990720"/>
                <a:gridCol w="1143000"/>
              </a:tblGrid>
              <a:tr h="1193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еографическое положение природной зон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лиматичес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чв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стени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ивотные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июля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КО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.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кал/см² в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Картинка 1 из 1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8367480" cy="6183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04920" y="6324480"/>
            <a:ext cx="883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границы зона Аркт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Картинка 3 из 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39560"/>
            <a:ext cx="9144000" cy="6418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0" y="632448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особенности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клима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838080"/>
            <a:ext cx="5943600" cy="3984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228600" y="4892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 Арктики характерны очень сильные ветры и низкие температуры ( летом 0 +2, зимой – 20-40) короткое лето, 100-200мм)ледяная поверхность, малый угол падения солнечных лучей, суммарная солнечная радиация 70 ккал/см² в год, так как много радиации отражается от ледников и снег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, осадков выпадает мало (100-200м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ческий мир Арктики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5" descr="Картинка 122 из 13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71600"/>
            <a:ext cx="2895480" cy="212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Картинка 7 из 7">
            <a:hlinkClick r:id="rId3"/>
          </p:cNvPr>
          <p:cNvPicPr/>
          <p:nvPr/>
        </p:nvPicPr>
        <p:blipFill>
          <a:blip r:embed="rId4"/>
          <a:stretch/>
        </p:blipFill>
        <p:spPr>
          <a:xfrm rot="21150600">
            <a:off x="609480" y="3580920"/>
            <a:ext cx="3427560" cy="20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1-1992-1ac85532f02553fdb582603ad31e6bc7"/>
          <p:cNvPicPr/>
          <p:nvPr/>
        </p:nvPicPr>
        <p:blipFill>
          <a:blip r:embed="rId5"/>
          <a:stretch/>
        </p:blipFill>
        <p:spPr>
          <a:xfrm rot="557400">
            <a:off x="4648320" y="1447920"/>
            <a:ext cx="3665520" cy="2442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1143000" y="5715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 жизни животных Арктики непосредственно связан с океаном. Здесь обитают моржи, несколько видов тюлений, белый медведь, на островах много птиц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7" descr="Картинка 4 из 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95680" y="3733920"/>
            <a:ext cx="3505320" cy="1976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8" descr="Картинка 5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ый медведь – хищное животное. Длина от 2 до 3 м, весит 700-800 кг. Типичный представитель арктической фауны. Хорошо плавает, ныряет. Основная пища – тюлен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22T16:17:3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