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939-038F-48B6-89EC-BDCA6C90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5F5-78EC-4B8E-A99D-BF4E35B8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1E3-9C34-4F9E-BBE9-6C9141FD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97D-70B5-4901-8E60-3FC3A707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E1C-9A4F-47DB-9E08-3E77631C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C2E-241F-48A1-9ECE-3C31D7BF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296-C071-47E3-80EE-2639AFD8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CC4-75C6-45AE-91A4-558034FF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9C6-B061-407B-9D56-7BDE8492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9DC-2DB1-4F4F-AA91-1EC8D306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AD1-AD0E-4627-93E2-279CC2F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1FD-2B1E-464B-953B-B81D0C7D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528-4B9D-40E6-BDDB-EE4FC9F7C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5320" y="837720"/>
            <a:ext cx="5333760" cy="49532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Англия 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в XI-XIII вв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-1440"/>
            <a:ext cx="328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0" t="9764" r="0" b="5916"/>
          <a:stretch/>
        </p:blipFill>
        <p:spPr>
          <a:xfrm>
            <a:off x="0" y="7632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5071" t="10336" r="0" b="73391"/>
          <a:stretch/>
        </p:blipFill>
        <p:spPr>
          <a:xfrm>
            <a:off x="463680" y="0"/>
            <a:ext cx="8680320" cy="141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rcRect l="0" t="0" r="3166" b="3248"/>
          <a:stretch/>
        </p:blipFill>
        <p:spPr>
          <a:xfrm>
            <a:off x="4646520" y="152280"/>
            <a:ext cx="4292640" cy="50292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10336" r="0" b="108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rcRect l="0" t="0" r="3166" b="3248"/>
          <a:stretch/>
        </p:blipFill>
        <p:spPr>
          <a:xfrm>
            <a:off x="6781680" y="152280"/>
            <a:ext cx="2157480" cy="25275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215 год – Иоанн Безземельный подписал «Великую хартию вольнос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50292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ещал не вмешиваться в церковные выб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мог произвольно взимать на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мог без суда арестовывать и сажать в тюрь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Совет двадцати пяти» баронов следили за выполнением хар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80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Значение «Великой хартии вольнос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кон и порядок должны были соблюдаться королем под угрозой феодальной вой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Хартия оградила не только знать от произвола короля, но и рыцарей и горожан от притеснений зн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6480" t="15281" r="6339" b="13559"/>
          <a:stretch/>
        </p:blipFill>
        <p:spPr>
          <a:xfrm>
            <a:off x="1066680" y="304920"/>
            <a:ext cx="7972560" cy="632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316240" cy="289584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Английский парл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1160" y="1294920"/>
            <a:ext cx="3962520" cy="2667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Палата лордов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брание назначаемых пожизненно королем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редставителей духовной и светской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222800" y="1295280"/>
            <a:ext cx="4743360" cy="2362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Палата общин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брание выборных представителей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рыцарств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по 2 от каждого графства) и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горожан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по 2 от каждого гор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80880" y="5256360"/>
            <a:ext cx="2389320" cy="825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твержде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123280" y="6297480"/>
            <a:ext cx="4262040" cy="4597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троль за выпол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019920" y="4954680"/>
            <a:ext cx="2260440" cy="11912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астие в подгот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5400000">
            <a:off x="4000320" y="230040"/>
            <a:ext cx="990360" cy="8686800"/>
          </a:xfrm>
          <a:custGeom>
            <a:avLst/>
            <a:gdLst>
              <a:gd name="textAreaLeft" fmla="*/ 0 w 990360"/>
              <a:gd name="textAreaRight" fmla="*/ 357480 w 990360"/>
              <a:gd name="textAreaTop" fmla="*/ 226440 h 8686800"/>
              <a:gd name="textAreaBottom" fmla="*/ 8460360 h 868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2"/>
          <p:cNvCxnSpPr/>
          <p:nvPr/>
        </p:nvCxnSpPr>
        <p:spPr>
          <a:xfrm flipH="1">
            <a:off x="3123360" y="5068800"/>
            <a:ext cx="1220040" cy="342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4" name="Прямая со стрелкой 4"/>
          <p:cNvCxnSpPr/>
          <p:nvPr/>
        </p:nvCxnSpPr>
        <p:spPr>
          <a:xfrm>
            <a:off x="4495320" y="5238360"/>
            <a:ext cx="1080" cy="9342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/>
          <p:nvPr/>
        </p:nvCxnSpPr>
        <p:spPr>
          <a:xfrm>
            <a:off x="4648320" y="5068800"/>
            <a:ext cx="1219680" cy="342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6" name="Прямая со стрелкой 9"/>
          <p:cNvCxnSpPr/>
          <p:nvPr/>
        </p:nvCxnSpPr>
        <p:spPr>
          <a:xfrm flipV="1">
            <a:off x="6394320" y="6297120"/>
            <a:ext cx="921600" cy="408960"/>
          </a:xfrm>
          <a:prstGeom prst="straightConnector1">
            <a:avLst/>
          </a:prstGeom>
          <a:ln w="57240">
            <a:solidFill>
              <a:srgbClr val="c00000"/>
            </a:solidFill>
            <a:prstDash val="sysDot"/>
            <a:miter/>
            <a:tailEnd len="med" type="arrow" w="med"/>
          </a:ln>
        </p:spPr>
      </p:cxnSp>
      <p:cxnSp>
        <p:nvCxnSpPr>
          <p:cNvPr id="97" name="Прямая со стрелкой 19"/>
          <p:cNvCxnSpPr/>
          <p:nvPr/>
        </p:nvCxnSpPr>
        <p:spPr>
          <a:xfrm flipH="1" flipV="1">
            <a:off x="1218960" y="6198840"/>
            <a:ext cx="838800" cy="506880"/>
          </a:xfrm>
          <a:prstGeom prst="straightConnector1">
            <a:avLst/>
          </a:prstGeom>
          <a:ln w="57240">
            <a:solidFill>
              <a:srgbClr val="c00000"/>
            </a:solidFill>
            <a:prstDash val="sys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1050840"/>
          <a:ext cx="9144000" cy="5516640"/>
        </p:xfrm>
        <a:graphic>
          <a:graphicData uri="http://schemas.openxmlformats.org/drawingml/2006/table">
            <a:tbl>
              <a:tblPr/>
              <a:tblGrid>
                <a:gridCol w="3398760"/>
                <a:gridCol w="3075120"/>
                <a:gridCol w="267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опросы для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енеральные ш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арла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та первого созы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30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6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. Кто и скакой целью созв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илипп IV Крас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борьба с римским пап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имон де Монф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борьба с короле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рой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па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пал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палата лордов, палата общи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. Какие слои населения были представл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духовенство, дворянство, третье сослов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– духовенство и зна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– рыцари и горожан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я чего собирал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р нал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р налогов, создание зак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.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рическ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раничили власть ко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раничил власть кор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оугольник 2"/>
          <p:cNvSpPr/>
          <p:nvPr/>
        </p:nvSpPr>
        <p:spPr>
          <a:xfrm flipH="1">
            <a:off x="304920" y="82440"/>
            <a:ext cx="77724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словно-представительные органы власти во Франции и в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3360600" y="1447920"/>
            <a:ext cx="3124440" cy="3808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6485040" y="1447920"/>
            <a:ext cx="2666880" cy="4572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3352680" y="1905120"/>
            <a:ext cx="3124440" cy="914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6477120" y="1905120"/>
            <a:ext cx="2666880" cy="9144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3360600" y="2819520"/>
            <a:ext cx="3124440" cy="10666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6485040" y="3886200"/>
            <a:ext cx="2658960" cy="12952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3352680" y="3886200"/>
            <a:ext cx="3124440" cy="124452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6485040" y="2819520"/>
            <a:ext cx="2658960" cy="106668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3429000" y="5181480"/>
            <a:ext cx="3132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6485040" y="5181480"/>
            <a:ext cx="265896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3429000" y="5867280"/>
            <a:ext cx="313200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4"/>
          <p:cNvSpPr/>
          <p:nvPr/>
        </p:nvSpPr>
        <p:spPr>
          <a:xfrm>
            <a:off x="6492960" y="5867280"/>
            <a:ext cx="265896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7821720" y="228600"/>
            <a:ext cx="1312920" cy="685800"/>
          </a:xfrm>
          <a:prstGeom prst="rect">
            <a:avLst/>
          </a:prstGeom>
          <a:solidFill>
            <a:srgbClr val="0000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/т № 2 стр.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52280" y="228600"/>
            <a:ext cx="861084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нглия в XIII век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–                       сословно-представитель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2"/>
          <p:cNvSpPr/>
          <p:nvPr/>
        </p:nvSpPr>
        <p:spPr>
          <a:xfrm>
            <a:off x="4114800" y="12193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820880" cy="25621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16" name="Прямоугольник 4"/>
          <p:cNvSpPr/>
          <p:nvPr/>
        </p:nvSpPr>
        <p:spPr>
          <a:xfrm>
            <a:off x="150840" y="4203720"/>
            <a:ext cx="182232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066-1087 гг. - правлени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ильгельма Завое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rcRect l="2679" t="7417" r="2871" b="2249"/>
          <a:stretch/>
        </p:blipFill>
        <p:spPr>
          <a:xfrm>
            <a:off x="2211480" y="2286000"/>
            <a:ext cx="205560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18" name="Прямоугольник 6"/>
          <p:cNvSpPr/>
          <p:nvPr/>
        </p:nvSpPr>
        <p:spPr>
          <a:xfrm>
            <a:off x="2225520" y="5265720"/>
            <a:ext cx="195912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54-1189 гг. – правление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Генриха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лантаген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3"/>
          <a:srcRect l="7144" t="0" r="3166" b="3248"/>
          <a:stretch/>
        </p:blipFill>
        <p:spPr>
          <a:xfrm>
            <a:off x="4457880" y="2286000"/>
            <a:ext cx="224784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20" name="Прямоугольник 8"/>
          <p:cNvSpPr/>
          <p:nvPr/>
        </p:nvSpPr>
        <p:spPr>
          <a:xfrm>
            <a:off x="4486320" y="5278320"/>
            <a:ext cx="221940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99-1216 гг. – правление Иоанна Беззем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4"/>
          <a:srcRect l="6223" t="0" r="6183" b="7883"/>
          <a:stretch/>
        </p:blipFill>
        <p:spPr>
          <a:xfrm>
            <a:off x="6934320" y="1379520"/>
            <a:ext cx="2001600" cy="2630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122" name="Прямоугольник 10"/>
          <p:cNvSpPr/>
          <p:nvPr/>
        </p:nvSpPr>
        <p:spPr>
          <a:xfrm>
            <a:off x="6948360" y="4203720"/>
            <a:ext cx="1987560" cy="91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216-1272 гг. - правление Генрих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Прямая со стрелкой 15"/>
          <p:cNvCxnSpPr/>
          <p:nvPr/>
        </p:nvCxnSpPr>
        <p:spPr>
          <a:xfrm>
            <a:off x="7941960" y="5265360"/>
            <a:ext cx="1080" cy="6786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24" name="Прямоугольник 17"/>
          <p:cNvSpPr/>
          <p:nvPr/>
        </p:nvSpPr>
        <p:spPr>
          <a:xfrm>
            <a:off x="7086600" y="5943600"/>
            <a:ext cx="184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(1265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44956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Великая хартия вольностей (1215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838080" y="380880"/>
            <a:ext cx="7620120" cy="3276720"/>
          </a:xfrm>
          <a:prstGeom prst="downArrowCallout">
            <a:avLst>
              <a:gd name="adj1" fmla="val 27134"/>
              <a:gd name="adj2" fmla="val 33914"/>
              <a:gd name="adj3" fmla="val 16412"/>
              <a:gd name="adj4" fmla="val 66667"/>
            </a:avLst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Monotype Corsiva"/>
              </a:rPr>
              <a:t>Домашнее зад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28600" y="3352680"/>
            <a:ext cx="8686800" cy="3124440"/>
          </a:xfrm>
          <a:prstGeom prst="horizontalScroll">
            <a:avLst>
              <a:gd name="adj" fmla="val 12500"/>
            </a:avLst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914400" y="38098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§ 18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Р/т № 1-3 стр. 61-6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>
            <a:lum bright="-24000"/>
          </a:blip>
          <a:srcRect l="1614" t="0" r="1564" b="1671"/>
          <a:stretch/>
        </p:blipFill>
        <p:spPr>
          <a:xfrm>
            <a:off x="2286000" y="6480"/>
            <a:ext cx="4952880" cy="6851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0" t="0" r="23336" b="0"/>
          <a:stretch/>
        </p:blipFill>
        <p:spPr>
          <a:xfrm>
            <a:off x="4813200" y="685800"/>
            <a:ext cx="4330800" cy="5105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45" name="Picture 8" descr=""/>
          <p:cNvPicPr/>
          <p:nvPr/>
        </p:nvPicPr>
        <p:blipFill>
          <a:blip r:embed="rId2"/>
          <a:srcRect l="1738" t="2470" r="5782" b="2470"/>
          <a:stretch/>
        </p:blipFill>
        <p:spPr>
          <a:xfrm>
            <a:off x="0" y="0"/>
            <a:ext cx="4721400" cy="6858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rcRect l="2855" t="1370" r="2855" b="58869"/>
          <a:stretch/>
        </p:blipFill>
        <p:spPr>
          <a:xfrm>
            <a:off x="685800" y="0"/>
            <a:ext cx="78040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52280" y="228600"/>
            <a:ext cx="8610840" cy="914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нглия в XIII век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–                       сословно-представитель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низ 2"/>
          <p:cNvSpPr/>
          <p:nvPr/>
        </p:nvSpPr>
        <p:spPr>
          <a:xfrm>
            <a:off x="4114800" y="12193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820880" cy="25621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0" name="Прямоугольник 4"/>
          <p:cNvSpPr/>
          <p:nvPr/>
        </p:nvSpPr>
        <p:spPr>
          <a:xfrm>
            <a:off x="150840" y="4203720"/>
            <a:ext cx="182232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066-1087 гг. - правлени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ильгельма Завое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rcRect l="2679" t="7417" r="2871" b="2249"/>
          <a:stretch/>
        </p:blipFill>
        <p:spPr>
          <a:xfrm>
            <a:off x="2211480" y="2286000"/>
            <a:ext cx="205560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2" name="Прямоугольник 6"/>
          <p:cNvSpPr/>
          <p:nvPr/>
        </p:nvSpPr>
        <p:spPr>
          <a:xfrm>
            <a:off x="2225520" y="5265720"/>
            <a:ext cx="1959120" cy="1067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54-1189 гг. – правление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Генриха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лантаген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3"/>
          <a:srcRect l="7144" t="0" r="3166" b="3248"/>
          <a:stretch/>
        </p:blipFill>
        <p:spPr>
          <a:xfrm>
            <a:off x="4457880" y="2286000"/>
            <a:ext cx="2247840" cy="2841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4" name="Прямоугольник 8"/>
          <p:cNvSpPr/>
          <p:nvPr/>
        </p:nvSpPr>
        <p:spPr>
          <a:xfrm>
            <a:off x="4486320" y="5278320"/>
            <a:ext cx="2219400" cy="824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199-1216 гг. – правление Иоанна Беззем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4"/>
          <a:srcRect l="6223" t="0" r="6183" b="7883"/>
          <a:stretch/>
        </p:blipFill>
        <p:spPr>
          <a:xfrm>
            <a:off x="6934320" y="1379520"/>
            <a:ext cx="2001600" cy="263052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sp>
        <p:nvSpPr>
          <p:cNvPr id="56" name="Прямоугольник 10"/>
          <p:cNvSpPr/>
          <p:nvPr/>
        </p:nvSpPr>
        <p:spPr>
          <a:xfrm>
            <a:off x="6948360" y="4203720"/>
            <a:ext cx="1987560" cy="91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216-1272 гг. - правление Генрих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/>
          <p:cNvSpPr/>
          <p:nvPr/>
        </p:nvSpPr>
        <p:spPr>
          <a:xfrm>
            <a:off x="152280" y="5715000"/>
            <a:ext cx="1820880" cy="45720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р. 152-1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2363760" y="6478560"/>
            <a:ext cx="1820880" cy="2890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р. 156-1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557600" y="6297480"/>
            <a:ext cx="2046240" cy="2876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тр. 157-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886200" cy="1752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66-1087 гг. - правление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ильгельма Завое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206880" cy="4513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435200" cy="64944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35520" y="75960"/>
            <a:ext cx="403848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Нормандское завое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62240" y="1344600"/>
            <a:ext cx="3886200" cy="31240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066 год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завоевание Англи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ерцогом Нормандии Вильгельмом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1066-108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066 год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битва при Гастингсе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поражение англич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4952880" y="4876920"/>
            <a:ext cx="3886200" cy="1828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066 год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– утверждение нормандской династии в Анг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3"/>
          <p:cNvCxnSpPr>
            <a:stCxn id="64" idx="2"/>
            <a:endCxn id="66" idx="0"/>
          </p:cNvCxnSpPr>
          <p:nvPr/>
        </p:nvCxnSpPr>
        <p:spPr>
          <a:xfrm flipH="1">
            <a:off x="6895800" y="4468680"/>
            <a:ext cx="10080" cy="40896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066-1087 гг. - правление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ильгельма Завое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876920" cy="4267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тобрал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емл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у местных феодалов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тдал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их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воим рыцарям в разных концах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еодалы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Англии принесли клятву верности королю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али его прямыми вассалам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вел перепись всех земель и населения Англи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«Книга страшного суд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813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0670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154-1189 гг. – правлени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енриха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лантаге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0920" y="1371240"/>
            <a:ext cx="5410440" cy="53341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удебная реформ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(королевский суд 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уд присяжны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енная рефор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здание наемной армии за сче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щитовых денег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осстановлени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родного ополчени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з свободных мужчин Анг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силение власти шерифо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королевских чиновников, управлявших округами – графствам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командовали, судили, взимал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налог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3447" t="7029" r="2273" b="2249"/>
          <a:stretch/>
        </p:blipFill>
        <p:spPr>
          <a:xfrm>
            <a:off x="195120" y="1523880"/>
            <a:ext cx="3257640" cy="483876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07T10:02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