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66C-AEE3-48CC-8F13-53EB2F3E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B50-D942-4F0C-9201-BA96F8A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D99-B487-4F31-9C4B-F9283C40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07E-C2C4-4742-9EBF-79CF692C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715-BD40-492A-81FE-16A35F6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A6E-3D97-4057-86B9-7770BC91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4B4-7B13-4114-9BF6-F90EFAB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78D-12D2-4B0A-ACBC-03D2A4C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5CA-75B3-48A6-9BCF-341006D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365-C2D6-402B-BC70-613B1F3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80E-C4DB-43BB-82BF-0A0852F5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A4B-27FD-4A74-97A2-DB54361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A299-0A9F-4D2E-85E1-31EED0684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5333760" cy="4953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Англия 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в XI-XIII вв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-1440"/>
            <a:ext cx="328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9764" r="0" b="5916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071" t="10336" r="0" b="73391"/>
          <a:stretch/>
        </p:blipFill>
        <p:spPr>
          <a:xfrm>
            <a:off x="463680" y="0"/>
            <a:ext cx="8680320" cy="141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4646520" y="152280"/>
            <a:ext cx="4292640" cy="50292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10336" r="0" b="10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6781680" y="152280"/>
            <a:ext cx="2157480" cy="2527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215 год – Иоанн Безземельный подписал «Великую хартию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50292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щал не вмешиваться в церковные вы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произвольно взимать на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без суда арестовывать и сажать в тюрь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Совет двадцати пяти» баронов следили за выполнением хар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начение «Великой хартии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кон и порядок должны были соблюдаться королем под угрозой феодальной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Хартия оградила не только знать от произвола короля, но и рыцарей и горожан от притеснений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6480" t="15281" r="6339" b="13559"/>
          <a:stretch/>
        </p:blipFill>
        <p:spPr>
          <a:xfrm>
            <a:off x="1066680" y="304920"/>
            <a:ext cx="7972560" cy="632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16240" cy="28958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нглийский пар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1160" y="1294920"/>
            <a:ext cx="3962520" cy="2667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лордо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назначаемых пожизненно королем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редставителей духовной и свет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222800" y="1295280"/>
            <a:ext cx="4743360" cy="2362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общин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выборных представителей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ыцарств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рафства) и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горожан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ор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80880" y="5256360"/>
            <a:ext cx="2389320" cy="825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твержде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123280" y="6297480"/>
            <a:ext cx="4262040" cy="4597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троль за вы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19920" y="4954680"/>
            <a:ext cx="2260440" cy="1191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астие в подгот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5400000">
            <a:off x="4000320" y="230040"/>
            <a:ext cx="990360" cy="8686800"/>
          </a:xfrm>
          <a:custGeom>
            <a:avLst/>
            <a:gdLst>
              <a:gd name="textAreaLeft" fmla="*/ 0 w 990360"/>
              <a:gd name="textAreaRight" fmla="*/ 357480 w 990360"/>
              <a:gd name="textAreaTop" fmla="*/ 226440 h 8686800"/>
              <a:gd name="textAreaBottom" fmla="*/ 8460360 h 868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2"/>
          <p:cNvCxnSpPr/>
          <p:nvPr/>
        </p:nvCxnSpPr>
        <p:spPr>
          <a:xfrm flipH="1">
            <a:off x="3123360" y="5068800"/>
            <a:ext cx="122004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Прямая со стрелкой 4"/>
          <p:cNvCxnSpPr/>
          <p:nvPr/>
        </p:nvCxnSpPr>
        <p:spPr>
          <a:xfrm>
            <a:off x="4495320" y="5238360"/>
            <a:ext cx="1080" cy="9342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4648320" y="5068800"/>
            <a:ext cx="121968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V="1">
            <a:off x="6394320" y="6297120"/>
            <a:ext cx="921600" cy="40896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  <p:cxnSp>
        <p:nvCxnSpPr>
          <p:cNvPr id="97" name="Прямая со стрелкой 19"/>
          <p:cNvCxnSpPr/>
          <p:nvPr/>
        </p:nvCxnSpPr>
        <p:spPr>
          <a:xfrm flipH="1" flipV="1">
            <a:off x="1218960" y="6198840"/>
            <a:ext cx="838800" cy="50688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050840"/>
          <a:ext cx="9144000" cy="5516640"/>
        </p:xfrm>
        <a:graphic>
          <a:graphicData uri="http://schemas.openxmlformats.org/drawingml/2006/table">
            <a:tbl>
              <a:tblPr/>
              <a:tblGrid>
                <a:gridCol w="3398760"/>
                <a:gridCol w="3075120"/>
                <a:gridCol w="267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енеральные ш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арла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та первого созы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0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6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. Кто и скакой целью соз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липп IV Кра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римским пап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мон де Мон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корол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рой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па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пал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палата лордов, палата общи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. Какие слои населения были представ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духовенство, дворянство, третье сослов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– духовенство и зн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– рыцари и горожан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я чего собира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, создание зак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рическ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и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2"/>
          <p:cNvSpPr/>
          <p:nvPr/>
        </p:nvSpPr>
        <p:spPr>
          <a:xfrm flipH="1">
            <a:off x="304920" y="82440"/>
            <a:ext cx="7772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словно-представительные органы власти во Франции 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360600" y="1447920"/>
            <a:ext cx="3124440" cy="3808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485040" y="1447920"/>
            <a:ext cx="2666880" cy="4572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352680" y="1905120"/>
            <a:ext cx="312444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6477120" y="1905120"/>
            <a:ext cx="266688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3360600" y="2819520"/>
            <a:ext cx="312444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85040" y="3886200"/>
            <a:ext cx="2658960" cy="12952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352680" y="3886200"/>
            <a:ext cx="3124440" cy="1244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485040" y="2819520"/>
            <a:ext cx="265896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3429000" y="51814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6485040" y="51814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429000" y="58672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6492960" y="58672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7821720" y="228600"/>
            <a:ext cx="131292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/т № 2 стр.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8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0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2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15"/>
          <p:cNvCxnSpPr/>
          <p:nvPr/>
        </p:nvCxnSpPr>
        <p:spPr>
          <a:xfrm>
            <a:off x="7941960" y="5265360"/>
            <a:ext cx="1080" cy="6786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4" name="Прямоугольник 17"/>
          <p:cNvSpPr/>
          <p:nvPr/>
        </p:nvSpPr>
        <p:spPr>
          <a:xfrm>
            <a:off x="7086600" y="5943600"/>
            <a:ext cx="184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(1265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44956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Великая хартия вольностей (121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838080" y="380880"/>
            <a:ext cx="7620120" cy="3276720"/>
          </a:xfrm>
          <a:prstGeom prst="downArrowCallout">
            <a:avLst>
              <a:gd name="adj1" fmla="val 27134"/>
              <a:gd name="adj2" fmla="val 33914"/>
              <a:gd name="adj3" fmla="val 16412"/>
              <a:gd name="adj4" fmla="val 66667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28600" y="3352680"/>
            <a:ext cx="8686800" cy="3124440"/>
          </a:xfrm>
          <a:prstGeom prst="horizontalScroll">
            <a:avLst>
              <a:gd name="adj" fmla="val 12500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14400" y="38098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§ 18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/т № 1-3 стр. 61-6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>
            <a:lum bright="-24000"/>
          </a:blip>
          <a:srcRect l="1614" t="0" r="1564" b="1671"/>
          <a:stretch/>
        </p:blipFill>
        <p:spPr>
          <a:xfrm>
            <a:off x="2286000" y="6480"/>
            <a:ext cx="4952880" cy="6851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0" t="0" r="23336" b="0"/>
          <a:stretch/>
        </p:blipFill>
        <p:spPr>
          <a:xfrm>
            <a:off x="4813200" y="685800"/>
            <a:ext cx="4330800" cy="5105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5" name="Picture 8" descr=""/>
          <p:cNvPicPr/>
          <p:nvPr/>
        </p:nvPicPr>
        <p:blipFill>
          <a:blip r:embed="rId2"/>
          <a:srcRect l="1738" t="2470" r="5782" b="2470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rcRect l="2855" t="1370" r="2855" b="58869"/>
          <a:stretch/>
        </p:blipFill>
        <p:spPr>
          <a:xfrm>
            <a:off x="685800" y="0"/>
            <a:ext cx="78040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0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2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4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6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152280" y="5715000"/>
            <a:ext cx="1820880" cy="457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2-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2363760" y="6478560"/>
            <a:ext cx="1820880" cy="2890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6-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557600" y="6297480"/>
            <a:ext cx="2046240" cy="2876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7-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1752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206880" cy="4513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435200" cy="64944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35520" y="75960"/>
            <a:ext cx="403848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Нормандское завое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62240" y="1344600"/>
            <a:ext cx="3886200" cy="31240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завоевание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ерцогом Нормандии Вильгельм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1066-108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итва при Гастингс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поражение англич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4952880" y="4876920"/>
            <a:ext cx="3886200" cy="1828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66 год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– утверждение нормандской династи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3"/>
          <p:cNvCxnSpPr>
            <a:stCxn id="64" idx="2"/>
            <a:endCxn id="66" idx="0"/>
          </p:cNvCxnSpPr>
          <p:nvPr/>
        </p:nvCxnSpPr>
        <p:spPr>
          <a:xfrm flipH="1">
            <a:off x="6895800" y="4468680"/>
            <a:ext cx="10080" cy="40896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876920" cy="4267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обрал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емл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у местных феодалов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дал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им рыцарям в разных концах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еодал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Англии принесли клятву верности королю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али его прямыми вассалам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ел перепись всех земель и населения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«Книга страшного суд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81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0670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1371240"/>
            <a:ext cx="5410440" cy="53341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удебная реформ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(королевский суд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уд присяжн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енная ре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здание наемной армии за сче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щитовых денег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сстановлени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родного ополчени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 свободных мужчин Анг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иление власти шерифо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королевских чиновников, управлявших округами – графствам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командовали, судили, взимал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налог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3447" t="7029" r="2273" b="2249"/>
          <a:stretch/>
        </p:blipFill>
        <p:spPr>
          <a:xfrm>
            <a:off x="195120" y="1523880"/>
            <a:ext cx="3257640" cy="4838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7T10:02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