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C21-A9E0-48D8-9CD4-98B6A5D7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396-B8F3-4AAF-A0D8-16A07A1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E00-AFDB-4C4E-A3A9-2B1558E3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880-5623-4B53-A97B-37014211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00F-C45F-45F5-BE2F-D2EDEACF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CE9-331D-418C-BA54-FA08C473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FF0-9C85-4A92-9C1A-E06B0AA2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5D7-15A6-4F27-88E8-F9FD2C36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3EC-794B-48D3-A31D-B02B5C0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CD9-869E-416B-B3A8-5D3EACE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8A4-3FE8-4A4D-8FDC-517B585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F42-3288-4D19-909A-EC50227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9C6E-78B7-437D-B5A6-A4C93DBB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astyrsc.org/wp-content/uploads/2013/04/torch.jpg" TargetMode="External"/><Relationship Id="rId2" Type="http://schemas.openxmlformats.org/officeDocument/2006/relationships/hyperlink" Target="http://dstdt.org/wp-content/uploads/2011/03/4087-050-124F6A521.jpg" TargetMode="External"/><Relationship Id="rId3" Type="http://schemas.openxmlformats.org/officeDocument/2006/relationships/hyperlink" Target="http://www.bashinform.ru/upload/iblock/897/1.jpg" TargetMode="External"/><Relationship Id="rId4" Type="http://schemas.openxmlformats.org/officeDocument/2006/relationships/hyperlink" Target="http://www.yugopolis.ru/data/mediadb/2383/0000/0731/73166.jpg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75588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200400" y="609480"/>
            <a:ext cx="5486400" cy="40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851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851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851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Г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851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47242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МОУ «Егорьевская 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с. Новоегорьев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Лобан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очи-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 истории России национальная эстафета Олимпийского огня началась 7 октября 2013 года и завершится 7 февраля 2014 в Сочи, в день открытия Олимпиады. Маршрут эстафеты пройдет через все 83 региона России. Нести Олимпийский огонь будут 14 тысяч факелоносцев и более 30 тысяч волонтеров, всего эстафета преодолеет более 65 тысяч км. пути. Эстафета Олимпийского огня станет самой продолжительной и самой масштабной в истории Олимпийских зимних игр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0324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1219320" y="0"/>
            <a:ext cx="996840" cy="153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74b7db1-057b-4ded-9930-97c50b819f62"/>
          <p:cNvPicPr/>
          <p:nvPr/>
        </p:nvPicPr>
        <p:blipFill>
          <a:blip r:embed="rId3"/>
          <a:stretch/>
        </p:blipFill>
        <p:spPr>
          <a:xfrm>
            <a:off x="0" y="0"/>
            <a:ext cx="1252440" cy="156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4"/>
          <a:stretch/>
        </p:blipFill>
        <p:spPr>
          <a:xfrm>
            <a:off x="2286000" y="0"/>
            <a:ext cx="13730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5182a2a48b5d0e230cfa4660f3da9e0"/>
          <p:cNvPicPr/>
          <p:nvPr/>
        </p:nvPicPr>
        <p:blipFill>
          <a:blip r:embed="rId1"/>
          <a:stretch/>
        </p:blipFill>
        <p:spPr>
          <a:xfrm>
            <a:off x="0" y="3265560"/>
            <a:ext cx="4876920" cy="359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143521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i (7)"/>
          <p:cNvPicPr/>
          <p:nvPr/>
        </p:nvPicPr>
        <p:blipFill>
          <a:blip r:embed="rId3"/>
          <a:stretch/>
        </p:blipFill>
        <p:spPr>
          <a:xfrm>
            <a:off x="0" y="380880"/>
            <a:ext cx="3886200" cy="220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i (7)"/>
          <p:cNvPicPr/>
          <p:nvPr/>
        </p:nvPicPr>
        <p:blipFill>
          <a:blip r:embed="rId4"/>
          <a:stretch/>
        </p:blipFill>
        <p:spPr>
          <a:xfrm>
            <a:off x="4952880" y="4114800"/>
            <a:ext cx="3886200" cy="22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astyrsc.org/wp-content/uploads/2013/04/torc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stdt.org/wp-content/uploads/2011/03/4087-050-124F6A52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shinform.ru/upload/iblock/897/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ugopolis.ru/data/mediadb/2383/0000/0731/73166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riends.kz/uploads/posts/200912/1260186887_t18_2097966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CE%EB%E8%EC%EF%E8%E9%F1%EA%E8%E9_%EE%E3%EE%ED%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CB%E5%F2%ED%E8%E5_%CE%EB%E8%EC%EF%E8%E9%F1%EA%E8%E5_%E8%E3%F0%FB_19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sostav.ru/articles/rus/2013/14.01/news/images/n10.jp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hama_olimpica"/>
          <p:cNvPicPr/>
          <p:nvPr/>
        </p:nvPicPr>
        <p:blipFill>
          <a:blip r:embed="rId1"/>
          <a:stretch/>
        </p:blipFill>
        <p:spPr>
          <a:xfrm>
            <a:off x="7858080" y="304920"/>
            <a:ext cx="128592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Олимпийский огонь – один из символов Олимпийски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лимпийский огонь зажигают в гор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где проводятся олимпийские игры, во вре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ткрытия, и огонь  горит непрерывно до их оконч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Древняя история Олимпийского ог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Традиция зажжения Олимпийского огня существовала в Древней Греции - она служила напоминанием о подвиге титана Прометея, по легенде, похитившего огонь у Зевса и подарившего его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20px-Heinrich_fueger_1817_prometheus_brings_fire_to_mankind"/>
          <p:cNvPicPr/>
          <p:nvPr/>
        </p:nvPicPr>
        <p:blipFill>
          <a:blip r:embed="rId1"/>
          <a:stretch/>
        </p:blipFill>
        <p:spPr>
          <a:xfrm>
            <a:off x="5867280" y="1828800"/>
            <a:ext cx="304344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hama_olimpica"/>
          <p:cNvPicPr/>
          <p:nvPr/>
        </p:nvPicPr>
        <p:blipFill>
          <a:blip r:embed="rId2"/>
          <a:stretch/>
        </p:blipFill>
        <p:spPr>
          <a:xfrm>
            <a:off x="7848720" y="0"/>
            <a:ext cx="1063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озрождение Олимпийского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озрождение  традиции зажжения Олимпийского огня  состоялось при проведени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лимпийских игр в 19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оду в Амстерд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Суть этой идеи, принадлежащей Йозефу Геббельсу, заключалась в том, что огонь должен был связать в сознании немцев Третий Рейх с Древней Грецией."/>
          <p:cNvPicPr/>
          <p:nvPr/>
        </p:nvPicPr>
        <p:blipFill>
          <a:blip r:embed="rId1"/>
          <a:stretch/>
        </p:blipFill>
        <p:spPr>
          <a:xfrm>
            <a:off x="152280" y="1752480"/>
            <a:ext cx="3810240" cy="4410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4038480" y="388368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1936 году, перед играми в Берлине, состоялась первая Эстафета огня — идея ее проведения принадлежала Йозефу Геббельсу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hama_olimpica"/>
          <p:cNvPicPr/>
          <p:nvPr/>
        </p:nvPicPr>
        <p:blipFill>
          <a:blip r:embed="rId2"/>
          <a:stretch/>
        </p:blipFill>
        <p:spPr>
          <a:xfrm>
            <a:off x="8001000" y="228600"/>
            <a:ext cx="843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2332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настоящее время олимпийский огонь зажигают в Олимпии. За несколько месяцев до открытия игр,  женщины, изображающие жриц, проводят церемонию, в ходе которой одна из них зажигает огонь с  помощью  параболического  зеркала, фокусирующего лучи Солнца. Затем этот огонь доставляют в город, проводящий Олимпийские игры. Обычно используют факел, который несут бегуны, передавая его друг другу по эстафете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c31ec4ff9714123a6e17f1c28bc6ae8"/>
          <p:cNvPicPr/>
          <p:nvPr/>
        </p:nvPicPr>
        <p:blipFill>
          <a:blip r:embed="rId1"/>
          <a:stretch/>
        </p:blipFill>
        <p:spPr>
          <a:xfrm>
            <a:off x="4724280" y="228600"/>
            <a:ext cx="2895840" cy="215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433cb9efe40b19f68a29b6ba7060a3ef"/>
          <p:cNvPicPr/>
          <p:nvPr/>
        </p:nvPicPr>
        <p:blipFill>
          <a:blip r:embed="rId2"/>
          <a:stretch/>
        </p:blipFill>
        <p:spPr>
          <a:xfrm>
            <a:off x="1143000" y="2286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381880" cy="30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Факел олимпийского огня  потом отправляется в путешествие через весь огромный земной шар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 (3)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579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 (4)"/>
          <p:cNvPicPr/>
          <p:nvPr/>
        </p:nvPicPr>
        <p:blipFill>
          <a:blip r:embed="rId2"/>
          <a:stretch/>
        </p:blipFill>
        <p:spPr>
          <a:xfrm>
            <a:off x="533520" y="3581280"/>
            <a:ext cx="3962160" cy="261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8906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4572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роме основного факела, от олимпийского огня зажигают и специальные лампы, предназначенные для хранения огня на случай, если основной факел затухнет. Известно несколько случаев, когда огонь затухал: во время игр в Монреале в 1976 году (во время ливня), в Лондоне в 2012 году за 20 дней до игр, а также в Москве в 2013 году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10-torch"/>
          <p:cNvPicPr/>
          <p:nvPr/>
        </p:nvPicPr>
        <p:blipFill>
          <a:blip r:embed="rId1"/>
          <a:stretch/>
        </p:blipFill>
        <p:spPr>
          <a:xfrm>
            <a:off x="5638680" y="990720"/>
            <a:ext cx="327672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Зажжение ог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228960" y="160020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заторы игр стараются придумать оригинальный способ зажжения огня в олимпийской чаше и сделать это событие запоминающимся. Подробности церемонии держатся в тайне до самого последнего момента. Кому будет поручено зажечь огонь, заранее не сообщается. Как правило, это поручают известному спортсмену страны-хозяйки Олимпиады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_8a0a8_d81346d7_XXL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0" y="972000"/>
            <a:ext cx="6172200" cy="48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960" rIns="0" tIns="475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ршрут олимпийского огня московской Олимп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1 июня — Афины (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6 июня — София (Болга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 июля — Бухарест (Румы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 июля — Леушены (Молдав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6 июля — Кишинёв (Молдав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1 июля — Киев (Украин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3 июля — Харьков (Украин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8 июля — Москва (РСФ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протяжённость эста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ила 4992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лимпийский огонь Москва -19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486040"/>
            <a:ext cx="586728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жег огонь московской Олимпиады баскетболист Сергей Б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27840" y="914400"/>
            <a:ext cx="1163880" cy="32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48520" y="2895480"/>
            <a:ext cx="14475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5:12:55Z</dcterms:created>
  <dc:creator>Татьтяна</dc:creator>
  <dc:description/>
  <dc:language>en-US</dc:language>
  <cp:lastModifiedBy>Татьтяна</cp:lastModifiedBy>
  <dcterms:modified xsi:type="dcterms:W3CDTF">2013-12-10T16:07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