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5.png" ContentType="image/png"/>
  <Override PartName="/ppt/media/image23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B273-8CE2-43FD-8313-D4AC14E52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2CC7-BA6A-4234-9879-3DDDACEBF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A7D1-F4FA-4F8B-8C27-8F4DDB673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E34A-8706-46EC-AB1E-D9A89BF3A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C4CB-2AD2-4C08-B2A5-7E73158E8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A79E-E9A6-4F3F-AA04-B01232C62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F00F-3158-4FB3-891C-1475458FB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A08D-E354-4ACD-A4D5-D55F41461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4D95-DE10-4F0D-90D5-781BDDB46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8A71-3B1E-407D-B87A-C73E18BA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734B-FDC6-45A1-B2B3-C407EF75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3BC7-CA35-46EE-AC9D-C8C14569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AC734-FC9E-4E7E-8125-40DB7B0E5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bastyrsc.org/wp-content/uploads/2013/04/torch.jpg" TargetMode="External"/><Relationship Id="rId2" Type="http://schemas.openxmlformats.org/officeDocument/2006/relationships/hyperlink" Target="http://dstdt.org/wp-content/uploads/2011/03/4087-050-124F6A521.jpg" TargetMode="External"/><Relationship Id="rId3" Type="http://schemas.openxmlformats.org/officeDocument/2006/relationships/hyperlink" Target="http://www.bashinform.ru/upload/iblock/897/1.jpg" TargetMode="External"/><Relationship Id="rId4" Type="http://schemas.openxmlformats.org/officeDocument/2006/relationships/hyperlink" Target="http://www.yugopolis.ru/data/mediadb/2383/0000/0731/73166.jpg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3755880" cy="563868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3200400" y="609480"/>
            <a:ext cx="5486400" cy="409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c851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ЛИМПИЙСКИЙ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c851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c851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ГОНЬ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c851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3886200" y="4724280"/>
            <a:ext cx="4495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e8400"/>
                </a:solidFill>
                <a:latin typeface="Arial"/>
              </a:rPr>
              <a:t>учитель физической культу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e8400"/>
                </a:solidFill>
                <a:latin typeface="Arial"/>
              </a:rPr>
              <a:t>МОУ «Егорьевская средня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e84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de8400"/>
                </a:solidFill>
                <a:latin typeface="Arial"/>
              </a:rPr>
              <a:t>общеобразовательная шко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e84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de8400"/>
                </a:solidFill>
                <a:latin typeface="Arial"/>
              </a:rPr>
              <a:t>с. Новоегорьев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e8400"/>
                </a:solidFill>
                <a:latin typeface="Arial"/>
              </a:rPr>
              <a:t>Лобанова Татьяна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352320" y="3045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Сочи-20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ервая в истории России национальная эстафета Олимпийского огня началась 7 октября 2013 года и завершится 7 февраля 2014 в Сочи, в день открытия Олимпиады. Маршрут эстафеты пройдет через все 83 региона России. Нести Олимпийский огонь будут 14 тысяч факелоносцев и более 30 тысяч волонтеров, всего эстафета преодолеет более 65 тысяч км. пути. Эстафета Олимпийского огня станет самой продолжительной и самой масштабной в истории Олимпийских зимних игр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8001000" y="228600"/>
            <a:ext cx="903240" cy="1744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2"/>
          <a:stretch/>
        </p:blipFill>
        <p:spPr>
          <a:xfrm>
            <a:off x="1219320" y="0"/>
            <a:ext cx="996840" cy="1539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d74b7db1-057b-4ded-9930-97c50b819f62"/>
          <p:cNvPicPr/>
          <p:nvPr/>
        </p:nvPicPr>
        <p:blipFill>
          <a:blip r:embed="rId3"/>
          <a:stretch/>
        </p:blipFill>
        <p:spPr>
          <a:xfrm>
            <a:off x="0" y="0"/>
            <a:ext cx="1252440" cy="15699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"/>
          <p:cNvPicPr/>
          <p:nvPr/>
        </p:nvPicPr>
        <p:blipFill>
          <a:blip r:embed="rId4"/>
          <a:stretch/>
        </p:blipFill>
        <p:spPr>
          <a:xfrm>
            <a:off x="2286000" y="0"/>
            <a:ext cx="137304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91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e5182a2a48b5d0e230cfa4660f3da9e0"/>
          <p:cNvPicPr/>
          <p:nvPr/>
        </p:nvPicPr>
        <p:blipFill>
          <a:blip r:embed="rId1"/>
          <a:stretch/>
        </p:blipFill>
        <p:spPr>
          <a:xfrm>
            <a:off x="0" y="3265560"/>
            <a:ext cx="4876920" cy="3592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143521"/>
          <p:cNvPicPr/>
          <p:nvPr/>
        </p:nvPicPr>
        <p:blipFill>
          <a:blip r:embed="rId2"/>
          <a:stretch/>
        </p:blipFill>
        <p:spPr>
          <a:xfrm>
            <a:off x="3962520" y="0"/>
            <a:ext cx="5181480" cy="3352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i (7)"/>
          <p:cNvPicPr/>
          <p:nvPr/>
        </p:nvPicPr>
        <p:blipFill>
          <a:blip r:embed="rId3"/>
          <a:stretch/>
        </p:blipFill>
        <p:spPr>
          <a:xfrm>
            <a:off x="0" y="380880"/>
            <a:ext cx="3886200" cy="2200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i (7)"/>
          <p:cNvPicPr/>
          <p:nvPr/>
        </p:nvPicPr>
        <p:blipFill>
          <a:blip r:embed="rId4"/>
          <a:stretch/>
        </p:blipFill>
        <p:spPr>
          <a:xfrm>
            <a:off x="4952880" y="4114800"/>
            <a:ext cx="3886200" cy="2200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Интернет 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bastyrsc.org/wp-content/uploads/2013/04/torch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dstdt.org/wp-content/uploads/2011/03/4087-050-124F6A521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bashinform.ru/upload/iblock/897/1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yugopolis.ru/data/mediadb/2383/0000/0731/73166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friends.kz/uploads/posts/200912/1260186887_t18_20979665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ru.wikipedia.org/wiki/%CE%EB%E8%EC%EF%E8%E9%F1%EA%E8%E9_%EE%E3%EE%ED%F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ru.wikipedia.org/wiki/%CB%E5%F2%ED%E8%E5_%CE%EB%E8%EC%EF%E8%E9%F1%EA%E8%E5_%E8%E3%F0%FB_198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sostav.ru/articles/rus/2013/14.01/news/images/n10.jpg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chama_olimpica"/>
          <p:cNvPicPr/>
          <p:nvPr/>
        </p:nvPicPr>
        <p:blipFill>
          <a:blip r:embed="rId1"/>
          <a:stretch/>
        </p:blipFill>
        <p:spPr>
          <a:xfrm>
            <a:off x="7858080" y="304920"/>
            <a:ext cx="1285920" cy="2209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-360" y="0"/>
            <a:ext cx="8915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Олимпийский огонь – один из символов Олимпийских иг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Олимпийский огонь зажигают в город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где проводятся олимпийские игры, во врем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открытия, и огонь  горит непрерывно до их оконч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"/>
          <p:cNvPicPr/>
          <p:nvPr/>
        </p:nvPicPr>
        <p:blipFill>
          <a:blip r:embed="rId2"/>
          <a:stretch/>
        </p:blipFill>
        <p:spPr>
          <a:xfrm>
            <a:off x="1523880" y="2819520"/>
            <a:ext cx="5715000" cy="384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Древняя история Олимпийского ог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5943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Традиция зажжения Олимпийского огня существовала в Древней Греции - она служила напоминанием о подвиге титана Прометея, по легенде, похитившего огонь у Зевса и подарившего его люд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220px-Heinrich_fueger_1817_prometheus_brings_fire_to_mankind"/>
          <p:cNvPicPr/>
          <p:nvPr/>
        </p:nvPicPr>
        <p:blipFill>
          <a:blip r:embed="rId1"/>
          <a:stretch/>
        </p:blipFill>
        <p:spPr>
          <a:xfrm>
            <a:off x="5867280" y="1828800"/>
            <a:ext cx="3043440" cy="4343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chama_olimpica"/>
          <p:cNvPicPr/>
          <p:nvPr/>
        </p:nvPicPr>
        <p:blipFill>
          <a:blip r:embed="rId2"/>
          <a:stretch/>
        </p:blipFill>
        <p:spPr>
          <a:xfrm>
            <a:off x="7848720" y="0"/>
            <a:ext cx="10634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Возрождение Олимпийского ог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6576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Возрождение  традиции зажжения Олимпийского огня  состоялось при проведении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Олимпийских игр в 192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году в Амстерда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Суть этой идеи, принадлежащей Йозефу Геббельсу, заключалась в том, что огонь должен был связать в сознании немцев Третий Рейх с Древней Грецией."/>
          <p:cNvPicPr/>
          <p:nvPr/>
        </p:nvPicPr>
        <p:blipFill>
          <a:blip r:embed="rId1"/>
          <a:stretch/>
        </p:blipFill>
        <p:spPr>
          <a:xfrm>
            <a:off x="152280" y="1752480"/>
            <a:ext cx="3810240" cy="44103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8"/>
          <p:cNvSpPr/>
          <p:nvPr/>
        </p:nvSpPr>
        <p:spPr>
          <a:xfrm>
            <a:off x="4038480" y="3883680"/>
            <a:ext cx="510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В 1936 году, перед играми в Берлине, состоялась первая Эстафета огня — идея ее проведения принадлежала Йозефу Геббельсу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chama_olimpica"/>
          <p:cNvPicPr/>
          <p:nvPr/>
        </p:nvPicPr>
        <p:blipFill>
          <a:blip r:embed="rId2"/>
          <a:stretch/>
        </p:blipFill>
        <p:spPr>
          <a:xfrm>
            <a:off x="8001000" y="228600"/>
            <a:ext cx="8431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-360" y="233208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В настоящее время олимпийский огонь зажигают в Олимпии. За несколько месяцев до открытия игр,  женщины, изображающие жриц, проводят церемонию, в ходе которой одна из них зажигает огонь с  помощью  параболического  зеркала, фокусирующего лучи Солнца. Затем этот огонь доставляют в город, проводящий Олимпийские игры. Обычно используют факел, который несут бегуны, передавая его друг другу по эстафете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8c31ec4ff9714123a6e17f1c28bc6ae8"/>
          <p:cNvPicPr/>
          <p:nvPr/>
        </p:nvPicPr>
        <p:blipFill>
          <a:blip r:embed="rId1"/>
          <a:stretch/>
        </p:blipFill>
        <p:spPr>
          <a:xfrm>
            <a:off x="4724280" y="228600"/>
            <a:ext cx="2895840" cy="2151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433cb9efe40b19f68a29b6ba7060a3ef"/>
          <p:cNvPicPr/>
          <p:nvPr/>
        </p:nvPicPr>
        <p:blipFill>
          <a:blip r:embed="rId2"/>
          <a:stretch/>
        </p:blipFill>
        <p:spPr>
          <a:xfrm>
            <a:off x="1143000" y="228600"/>
            <a:ext cx="289548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381880" cy="30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Факел олимпийского огня  потом отправляется в путешествие через весь огромный земной шар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i (3)"/>
          <p:cNvPicPr/>
          <p:nvPr/>
        </p:nvPicPr>
        <p:blipFill>
          <a:blip r:embed="rId1"/>
          <a:stretch/>
        </p:blipFill>
        <p:spPr>
          <a:xfrm>
            <a:off x="4876920" y="3581280"/>
            <a:ext cx="3886200" cy="2579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i (4)"/>
          <p:cNvPicPr/>
          <p:nvPr/>
        </p:nvPicPr>
        <p:blipFill>
          <a:blip r:embed="rId2"/>
          <a:stretch/>
        </p:blipFill>
        <p:spPr>
          <a:xfrm>
            <a:off x="533520" y="3581280"/>
            <a:ext cx="3962160" cy="2619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7696080" y="228600"/>
            <a:ext cx="890640" cy="3200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98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98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-152280" y="457200"/>
            <a:ext cx="58672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Кроме основного факела, от олимпийского огня зажигают и специальные лампы, предназначенные для хранения огня на случай, если основной факел затухнет. Известно несколько случаев, когда огонь затухал: во время игр в Монреале в 1976 году (во время ливня), в Лондоне в 2012 году за 20 дней до игр, а также в Москве в 2013 году.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2010-torch"/>
          <p:cNvPicPr/>
          <p:nvPr/>
        </p:nvPicPr>
        <p:blipFill>
          <a:blip r:embed="rId1"/>
          <a:stretch/>
        </p:blipFill>
        <p:spPr>
          <a:xfrm>
            <a:off x="5638680" y="990720"/>
            <a:ext cx="3276720" cy="4419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98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Зажжение ог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-228960" y="1600200"/>
            <a:ext cx="4876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Организаторы игр стараются придумать оригинальный способ зажжения огня в олимпийской чаше и сделать это событие запоминающимся. Подробности церемонии держатся в тайне до самого последнего момента. Кому будет поручено зажечь огонь, заранее не сообщается. Как правило, это поручают известному спортсмену страны-хозяйки Олимпиады.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0_8a0a8_d81346d7_XXL"/>
          <p:cNvPicPr/>
          <p:nvPr/>
        </p:nvPicPr>
        <p:blipFill>
          <a:blip r:embed="rId1"/>
          <a:stretch/>
        </p:blipFill>
        <p:spPr>
          <a:xfrm>
            <a:off x="4648320" y="1600200"/>
            <a:ext cx="426708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5"/>
          <p:cNvSpPr/>
          <p:nvPr/>
        </p:nvSpPr>
        <p:spPr>
          <a:xfrm>
            <a:off x="0" y="972000"/>
            <a:ext cx="6172200" cy="480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960" rIns="0" tIns="4752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аршрут олимпийского огня московской Олимпиа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21 июня — Афины (Грец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26 июня — София (Болгар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1 июля — Бухарест (Румы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5 июля — Леушены (Молдавская СС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6 июля — Кишинёв (Молдавская СС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11 июля — Киев (Украинская СС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13 июля — Харьков (Украинская СС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18 июля — Москва (РСФС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щая протяжённость эстаф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ставила 4992 к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Олимпийский огонь Москва -198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486040"/>
            <a:ext cx="5867280" cy="102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Зажег огонь московской Олимпиады баскетболист Сергей Бе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827840" y="914400"/>
            <a:ext cx="1163880" cy="3276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6248520" y="2895480"/>
            <a:ext cx="1447560" cy="3657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8T15:12:55Z</dcterms:created>
  <dc:creator>Татьтяна</dc:creator>
  <dc:description/>
  <dc:language>en-US</dc:language>
  <cp:lastModifiedBy>Татьтяна</cp:lastModifiedBy>
  <dcterms:modified xsi:type="dcterms:W3CDTF">2013-12-10T16:07:52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