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14.png" ContentType="image/png"/>
  <Override PartName="/ppt/media/image10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40.jpeg" ContentType="image/jpeg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40DC-39B4-4384-BDA3-3213208AD2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B48B-367A-4FD7-AAF7-AF1F1920FB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EC9A-4FF8-4FC4-9C24-DC66C03D03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4909-3BBA-443D-AF38-198F5E52DE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37A9-FBF3-467D-9261-A0D60201C5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4499-5511-4411-9394-0B465AB82C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72C8-A1CC-4793-B22C-93BF3345B6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57E8-53C6-419E-91B3-83FC0F4F01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025F-4B9E-4914-A045-BC46A89F6F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D301-D930-4A18-B045-96DCC97D3D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03D1-3D95-4E66-8C16-E7D24DBD13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B034-6C95-4B89-8B8D-908663F783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11DA-02C8-4BB7-A052-803D043EF7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E01D-80BA-49F0-9307-8A257428E7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B2BD-0E8F-454C-A56C-FAB6EA16F7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FF7C-72AC-4B35-A265-F60E845BDE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B109-06C5-4935-8F0C-F13DBC476C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C234-BC69-4658-A444-F5D397E751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596F-D7CB-4619-BE73-D9A883C428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291E-97FB-4997-B853-729BE041DE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B160-DCFD-4178-8D9B-EF7B278456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861E-CF92-44F0-B20D-56D595188C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F14-59CA-4B23-97D7-C16344B7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D0E9-4508-40D4-B77A-4DD4D14F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266-AAC3-4524-A607-B5591EBD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9DE-ED8D-4AAB-8DBC-D4B93192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708-3874-40CF-B413-FA81F179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6B4E-9A72-45F3-8468-ED24BD50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649-52C8-43F1-B24E-02801265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9AF0-B1C5-4724-9CEE-0FC982DF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BBB7-6EE0-482C-91F0-2E1FF73A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DAA0-A982-44B7-974B-D08FA382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3D1-B46E-406F-BE9D-E653A2B9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8DE-5866-42B7-8E27-187F3AB5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ABAD-3E94-4EE4-B506-147343D0BA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59840" y="0"/>
            <a:ext cx="6095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33"/>
                </a:solidFill>
                <a:latin typeface="Tahoma"/>
              </a:rPr>
              <a:t>Русск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33"/>
                </a:solidFill>
                <a:latin typeface="Tahoma"/>
              </a:rPr>
              <a:t>первооткрывате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33"/>
                </a:solidFill>
                <a:latin typeface="Tahoma"/>
              </a:rPr>
              <a:t>и путешествен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4400" y="2276640"/>
            <a:ext cx="3203640" cy="14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2d2d8a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 Antiqua"/>
              </a:rPr>
              <a:t>Первая русская кругосветная экспеди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d2d8a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 Antiqua"/>
              </a:rPr>
              <a:t>Вторая русская кругосветная экспеди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d2d8a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 Antiqua"/>
              </a:rPr>
              <a:t>Освоение Русской Амер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d2d8a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 Antiqua"/>
              </a:rPr>
              <a:t>Освоение Дальнего Восто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33480"/>
            <a:ext cx="8229600" cy="65880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Вторая русская кругосветная экспедиция (1819-19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24000" y="981000"/>
            <a:ext cx="3995640" cy="16873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тоги экспеди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ткрыто 29 островов в Тихом и Атлантическом океа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16 января 1920 г. Открыт новый материк - Антаркти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4363920" y="841320"/>
            <a:ext cx="4676760" cy="5699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2"/>
          <a:stretch/>
        </p:blipFill>
        <p:spPr>
          <a:xfrm>
            <a:off x="23760" y="3078000"/>
            <a:ext cx="436572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4572000" cy="419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4672080" y="144360"/>
            <a:ext cx="4195800" cy="4195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147600" y="4511520"/>
            <a:ext cx="1616040" cy="2221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4"/>
          <a:stretch/>
        </p:blipFill>
        <p:spPr>
          <a:xfrm>
            <a:off x="2771640" y="4511520"/>
            <a:ext cx="2284560" cy="2318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5"/>
          <a:stretch/>
        </p:blipFill>
        <p:spPr>
          <a:xfrm>
            <a:off x="5850000" y="4468680"/>
            <a:ext cx="301140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Русской Аме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5780160"/>
            <a:ext cx="9144000" cy="10688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"Дерзать и в сам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трудных условиях побеждать!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5283360" y="892080"/>
            <a:ext cx="3671640" cy="403236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своение Русской Америки связано с именем А. Баранова. Купец из Каргополя торговал на Аляске с 1790 г. Он составил подробные карты Аляски и близлежащих островов. В 1799 г. Баранов стал правителем колоний в Амери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В1804г. он основал Новоархангельс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Баранов пытался присоединить к России Гавайи но потерпел неудач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Несмотря на болезнь он оставался на посту до своей смер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468360" y="4627440"/>
            <a:ext cx="4103640" cy="363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Александр Андреевич Баран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468360" y="892080"/>
            <a:ext cx="411300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625320"/>
            <a:ext cx="4861080" cy="30164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0" y="3510000"/>
            <a:ext cx="4859280" cy="210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Территория, принадлежавшая Росси на американском континент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468360" y="0"/>
            <a:ext cx="8229600" cy="49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Русской Аме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3720960"/>
            <a:ext cx="4762440" cy="28861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"/>
          <p:cNvSpPr/>
          <p:nvPr/>
        </p:nvSpPr>
        <p:spPr>
          <a:xfrm>
            <a:off x="0" y="6381720"/>
            <a:ext cx="4762440" cy="476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Письмо А.Д.Якоба  А.А.Баранов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об устройстве торговых отношений между Россией и Америкой. 1809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5148360" y="662040"/>
            <a:ext cx="3671640" cy="25081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5148360" y="3170160"/>
            <a:ext cx="3671640" cy="7635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Денежный знак (марка)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Российско-американской компании. Середина XIX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4"/>
          <a:stretch/>
        </p:blipFill>
        <p:spPr>
          <a:xfrm>
            <a:off x="5148360" y="3948120"/>
            <a:ext cx="3671640" cy="29098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7"/>
          <p:cNvSpPr/>
          <p:nvPr/>
        </p:nvSpPr>
        <p:spPr>
          <a:xfrm>
            <a:off x="5148360" y="6381720"/>
            <a:ext cx="3549600" cy="476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Карта организации русской торговли в северной части Тихого океан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Фрагмент. 1787 г. Гравю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33440" y="1112760"/>
            <a:ext cx="2573280" cy="34448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2"/>
          <p:cNvSpPr/>
          <p:nvPr/>
        </p:nvSpPr>
        <p:spPr>
          <a:xfrm>
            <a:off x="433440" y="4554360"/>
            <a:ext cx="2571840" cy="1079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Американская ратификационная грамота конвен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об уступке Северо-Американским Штатам российских североамериканских колон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28 мая 1867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3575160" y="1112760"/>
            <a:ext cx="5157720" cy="34275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"/>
          <p:cNvSpPr/>
          <p:nvPr/>
        </p:nvSpPr>
        <p:spPr>
          <a:xfrm>
            <a:off x="3570120" y="4522680"/>
            <a:ext cx="5158080" cy="1078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одписание договора о продаже русских владений на Аляс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Второй слева — У.Сьюард, пятый — Э.А.Стекль. Художник Э. Лейтце. 1867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468360" y="0"/>
            <a:ext cx="8229600" cy="49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Русской Аме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24000" y="628560"/>
            <a:ext cx="3456000" cy="2583000"/>
          </a:xfrm>
          <a:prstGeom prst="rect">
            <a:avLst/>
          </a:prstGeom>
          <a:ln w="38160">
            <a:solidFill>
              <a:srgbClr val="5c5b2e"/>
            </a:solidFill>
            <a:miter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34596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Русской Аме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Форт-Росс, современный вид"/>
          <p:cNvPicPr/>
          <p:nvPr/>
        </p:nvPicPr>
        <p:blipFill>
          <a:blip r:embed="rId2"/>
          <a:stretch/>
        </p:blipFill>
        <p:spPr>
          <a:xfrm>
            <a:off x="289080" y="3429000"/>
            <a:ext cx="3490920" cy="2727360"/>
          </a:xfrm>
          <a:prstGeom prst="rect">
            <a:avLst/>
          </a:prstGeom>
          <a:ln w="38160">
            <a:solidFill>
              <a:srgbClr val="5c5b2e"/>
            </a:solidFill>
            <a:miter/>
          </a:ln>
        </p:spPr>
      </p:pic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4859280" y="582480"/>
            <a:ext cx="3506760" cy="26290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"/>
          <p:cNvSpPr/>
          <p:nvPr/>
        </p:nvSpPr>
        <p:spPr>
          <a:xfrm>
            <a:off x="324000" y="6237360"/>
            <a:ext cx="345600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Русская крепость Форт-Росс в Калифор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4"/>
          <a:stretch/>
        </p:blipFill>
        <p:spPr>
          <a:xfrm>
            <a:off x="4859280" y="3357720"/>
            <a:ext cx="3506760" cy="2862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2"/>
          <p:cNvSpPr/>
          <p:nvPr/>
        </p:nvSpPr>
        <p:spPr>
          <a:xfrm>
            <a:off x="4859280" y="6219720"/>
            <a:ext cx="3506760" cy="449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Музей И. А. Кускова в Тоть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5003640" y="765000"/>
            <a:ext cx="3924360" cy="511200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ерритория Дальнего Востока оставалась на русской карте белым пятн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В 1848 г. Николай отправил на Дальний Восток экспедицию Г. Невельско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н доказал, что Сахалин-остров и исследовал низовья Ам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Е. Путятин во время кругосветной экспедиции 1822-25 гг. открыл о-ва Римского-Корсакова и заключил договор с Япон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68360" y="-25560"/>
            <a:ext cx="8229600" cy="49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Дальнего Вос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22400" y="414360"/>
            <a:ext cx="4437000" cy="59259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5"/>
          <p:cNvSpPr/>
          <p:nvPr/>
        </p:nvSpPr>
        <p:spPr>
          <a:xfrm>
            <a:off x="468360" y="6165720"/>
            <a:ext cx="37432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Геннадий Иванови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Невельс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04920" y="954000"/>
            <a:ext cx="3816360" cy="5139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468360" y="-25560"/>
            <a:ext cx="8229600" cy="49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Дальнего Вос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"/>
          <p:cNvSpPr/>
          <p:nvPr/>
        </p:nvSpPr>
        <p:spPr>
          <a:xfrm>
            <a:off x="324000" y="6093000"/>
            <a:ext cx="3797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До Невельского Сахалин считали полуостровом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3"/>
          <p:cNvSpPr/>
          <p:nvPr/>
        </p:nvSpPr>
        <p:spPr>
          <a:xfrm>
            <a:off x="1844640" y="3176640"/>
            <a:ext cx="1511280" cy="1152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4583160" y="907920"/>
            <a:ext cx="4309920" cy="568980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Российским морякам пришлось не только начи­нать освоение этой территории, но и защищать ее от нападения англо-французской эскадры, крейсировавшей в Охотском и Японском морях во время Крымской вой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Амурская экспедиция решила вопросы огромной важности. Доказаны островное положение Сахалина и то, что Амур судоходен почти на всем протяжении. Тогда же были составлены первая карта Амура, карта материкового берега Татарского пролива, открыта важная для флота бухта — Императорская Гаван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Труды амурской экспедиции сыграли решающую роль в присоединении Приамурья и Приморья к территории России по Айгуньскому (1858) и Пекинскому (1860) договорам с Китае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0" y="5732640"/>
            <a:ext cx="8893080" cy="112536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В 1852 г. императорское правительство решилось на попытку открыть дипломатические отношения с Японией. Великий князь Константин Николаевич поддержал старый план Путятина по укреплению позиций России на Тихом океа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65240" y="328680"/>
            <a:ext cx="3919320" cy="54561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468360" y="-25560"/>
            <a:ext cx="8229600" cy="49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Дальнего Вос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4522680" y="324000"/>
            <a:ext cx="4183200" cy="519264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"/>
          <p:cNvSpPr/>
          <p:nvPr/>
        </p:nvSpPr>
        <p:spPr>
          <a:xfrm>
            <a:off x="468360" y="5229360"/>
            <a:ext cx="3166920" cy="276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утятин Евфимий Василь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4822920" y="5114880"/>
            <a:ext cx="358596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Великий князь Константин Николаеви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5508720" y="692280"/>
            <a:ext cx="3311280" cy="597672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ричиной для спешки в организации экспедиции послужил тот факт, что с целью заключения торгового договора с Японией из Америки снаряжалась эскадра под руководством Мэттью Перр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а страна, которая бы первая прервала многовековую политику самоизоляцию Японии (сакоку) получила бы наиболее выгодные условия для торговли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468360" y="-25560"/>
            <a:ext cx="8229600" cy="49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Дальнего Вос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473040" y="3365640"/>
            <a:ext cx="4438800" cy="315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473040" y="692280"/>
            <a:ext cx="4397400" cy="208908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3"/>
          <p:cNvSpPr/>
          <p:nvPr/>
        </p:nvSpPr>
        <p:spPr>
          <a:xfrm>
            <a:off x="468360" y="2565360"/>
            <a:ext cx="4402080" cy="64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ahoma"/>
              </a:rPr>
              <a:t>"Паллада" - фрегат русского военного флота. В 1852 г. на "Палладе ", которой командовал капитан И. С. Унковский, российская дипломатическая миссия во главе с вице-адмиралом Е. В. Путятиным отправилась в Японию. "Паллада" вышла из Кронштадта и прошла через Атлантический, Индийский и Тихий океаны к берегам Страны восходящего солнц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4809960" y="3170160"/>
            <a:ext cx="2041560" cy="3486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3436920" cy="2498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7053120" y="3333600"/>
            <a:ext cx="1773360" cy="623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1763640" y="0"/>
            <a:ext cx="5904000" cy="3049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Другие экспе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5364000" y="620640"/>
            <a:ext cx="3384720" cy="583272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Кругосветные экспедиции совершили В.Головин-1807-11, Ф.Литке-1826-29 и составили 50 кар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И. Вознесенский в1839-40 г. описал Аляску, Алеутские и Курильские острова. В 1809 г. А. Колодкин начал изучение Каспия. В 1848 г. Э. Гофман и М. Ковальский исследовали Северный Ур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В 1845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Было создано Русское Географическое обще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3876480" cy="291636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4"/>
          <p:cNvSpPr/>
          <p:nvPr/>
        </p:nvSpPr>
        <p:spPr>
          <a:xfrm>
            <a:off x="324000" y="3357720"/>
            <a:ext cx="3876480" cy="93492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100" spc="-1" strike="noStrike">
                <a:solidFill>
                  <a:srgbClr val="000000"/>
                </a:solidFill>
                <a:latin typeface="Tahoma"/>
              </a:rPr>
              <a:t>учреждено в 1845 по инициативе адм. Ф. П. Литке, акад. К. М. Бэра, адм. барона Ф. П. Врангеля и ряда др. учены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324000" y="4511520"/>
            <a:ext cx="1371600" cy="19051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5"/>
          <p:cNvSpPr/>
          <p:nvPr/>
        </p:nvSpPr>
        <p:spPr>
          <a:xfrm>
            <a:off x="324000" y="6416640"/>
            <a:ext cx="1371600" cy="22068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ahoma"/>
              </a:rPr>
              <a:t>Литке Ф.П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1908000" y="4511520"/>
            <a:ext cx="1440000" cy="196560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6"/>
          <p:cNvSpPr/>
          <p:nvPr/>
        </p:nvSpPr>
        <p:spPr>
          <a:xfrm>
            <a:off x="1908000" y="6453360"/>
            <a:ext cx="1440000" cy="18396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ahoma"/>
              </a:rPr>
              <a:t>Врангель Ф.П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4"/>
          <a:stretch/>
        </p:blipFill>
        <p:spPr>
          <a:xfrm>
            <a:off x="3564000" y="4581360"/>
            <a:ext cx="1646280" cy="189576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7"/>
          <p:cNvSpPr/>
          <p:nvPr/>
        </p:nvSpPr>
        <p:spPr>
          <a:xfrm>
            <a:off x="3708360" y="6416640"/>
            <a:ext cx="1368360" cy="22068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ahoma"/>
              </a:rPr>
              <a:t>Бэр К.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3529080" cy="6206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Задание на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24000" y="2852640"/>
          <a:ext cx="8540640" cy="3492720"/>
        </p:xfrm>
        <a:graphic>
          <a:graphicData uri="http://schemas.openxmlformats.org/drawingml/2006/table">
            <a:tbl>
              <a:tblPr/>
              <a:tblGrid>
                <a:gridCol w="1893600"/>
                <a:gridCol w="3240360"/>
                <a:gridCol w="3406680"/>
              </a:tblGrid>
              <a:tr h="102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d2d8a"/>
                          </a:solidFill>
                          <a:latin typeface="Times New Roman"/>
                        </a:rPr>
                        <a:t>Д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d2d8a"/>
                          </a:solidFill>
                          <a:latin typeface="Times New Roman"/>
                        </a:rPr>
                        <a:t>Экспеди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d2d8a"/>
                          </a:solidFill>
                          <a:latin typeface="Times New Roman"/>
                        </a:rPr>
                        <a:t>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sp>
        <p:nvSpPr>
          <p:cNvPr id="156" name="Text Box 25"/>
          <p:cNvSpPr/>
          <p:nvPr/>
        </p:nvSpPr>
        <p:spPr>
          <a:xfrm>
            <a:off x="551880" y="1069920"/>
            <a:ext cx="8065800" cy="137376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Составьте таблиц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«Географические исследования в Росс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 начале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40640" cy="9079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Первая кругосветная экспедиц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(1803-18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146160" y="1133640"/>
            <a:ext cx="3908160" cy="50781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6"/>
          <p:cNvSpPr/>
          <p:nvPr/>
        </p:nvSpPr>
        <p:spPr>
          <a:xfrm>
            <a:off x="4572000" y="1246320"/>
            <a:ext cx="4027320" cy="479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Экспедиция, состоявшая из двух кораблей («Надежда» и «Нева») под командой Крузенштерна, с помощником, капитан-лейтенантом Лисянским, </a:t>
            </a:r>
            <a:r>
              <a:rPr b="1" i="1" lang="ru-RU" sz="1400" spc="-1" strike="noStrike">
                <a:solidFill>
                  <a:srgbClr val="ff0000"/>
                </a:solidFill>
                <a:latin typeface="Tahoma"/>
              </a:rPr>
              <a:t>26 июля (7 августа) 1803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года отплыла из Кронштадта. Экспедиция направилась через Атлантический океан и 20 февраля (3 марта) 1804 года обогнула мыс Горн; из русских и соседних с ними земель на севере Тихого океана она обратила особенное внимание на Камчатку, Курильские острова и Сахалин. В Кронштадт экспедиция вернулась </a:t>
            </a:r>
            <a:r>
              <a:rPr b="1" i="1" lang="ru-RU" sz="1400" spc="-1" strike="noStrike">
                <a:solidFill>
                  <a:srgbClr val="ff0000"/>
                </a:solidFill>
                <a:latin typeface="Tahoma"/>
              </a:rPr>
              <a:t>7 (19) августа 1806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7"/>
          <p:cNvSpPr/>
          <p:nvPr/>
        </p:nvSpPr>
        <p:spPr>
          <a:xfrm>
            <a:off x="249120" y="6237360"/>
            <a:ext cx="3722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Иван Фёдорович Крузенште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36360" y="1030320"/>
            <a:ext cx="3620880" cy="4737240"/>
          </a:xfrm>
          <a:prstGeom prst="rect">
            <a:avLst/>
          </a:prstGeom>
          <a:ln w="0">
            <a:noFill/>
          </a:ln>
        </p:spPr>
      </p:pic>
      <p:sp>
        <p:nvSpPr>
          <p:cNvPr id="60" name="Скругленный прямоугольник 2"/>
          <p:cNvSpPr/>
          <p:nvPr/>
        </p:nvSpPr>
        <p:spPr>
          <a:xfrm>
            <a:off x="0" y="5796000"/>
            <a:ext cx="3517920" cy="43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Юрий Фёдорович Лисян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55640" y="0"/>
            <a:ext cx="7488360" cy="45396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Первая кругосветная экспедиция  (1803-18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3924360" y="863640"/>
            <a:ext cx="4824360" cy="64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Родился в Нежине в семье священника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3916440" y="1628640"/>
            <a:ext cx="4824360" cy="22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осле кругосветного путешествия ему был присвоен очередной чин - капитана 1-го ранга - и назначен пожизненный пансион, единственное средство к существованию, поскольку других источников дохода он не имел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7"/>
          <p:cNvSpPr/>
          <p:nvPr/>
        </p:nvSpPr>
        <p:spPr>
          <a:xfrm>
            <a:off x="3924360" y="4003560"/>
            <a:ext cx="4824360" cy="1028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Адмиралтейств-коллегия отказалась финансировать издание его книги «Путешествие вокруг света в 1803-1806 годах на корабле "Нева"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8"/>
          <p:cNvSpPr/>
          <p:nvPr/>
        </p:nvSpPr>
        <p:spPr>
          <a:xfrm>
            <a:off x="3930480" y="5187960"/>
            <a:ext cx="4824720" cy="1579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За собственный счет издал свое двухтомное «Путешествие» в 1812 году, перевел на английский и в 1814 году выпустил в Лондоне. Годом позже книга Лисянского вышла на немецком языке в Германии. В отличие от русских британские и немецкие читатели высоко ее оцени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4400"/>
            <a:ext cx="8229600" cy="3902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Первая кругосветная экспедиция (1803-18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45960" y="6308640"/>
            <a:ext cx="3313080" cy="308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Николай Петрович Реза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284720" y="1168560"/>
            <a:ext cx="4392720" cy="55177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«Патриотизм заставил меня изнурить все силы мои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я плавал по морям, как утка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страдал от голода, холода, в то же время от обиды, и ещ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двое от сердечных ран моих.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Н.П.Резанов - М.М. Булдакову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24-26 января 1807 года, Иркут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14044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1"/>
          <a:stretch/>
        </p:blipFill>
        <p:spPr>
          <a:xfrm>
            <a:off x="42840" y="890640"/>
            <a:ext cx="388296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5580000" y="1643040"/>
            <a:ext cx="3348000" cy="44809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«Я родился среди моря, — писал он, — как рыба не может жить без воды, так и я не могу жить без моря»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68360" y="14400"/>
            <a:ext cx="8229600" cy="6778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Первая кругосветная экспедиция (1803-18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76040" y="1347840"/>
            <a:ext cx="4834080" cy="46562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>
            <a:off x="468360" y="5713560"/>
            <a:ext cx="4248000" cy="379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Фаддей Фаддеевич Беллинсгауз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206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Первая кругосветная экспедици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(1803-18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97800" cy="53290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Результаты экспедиц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Открытие островов в Тихом океане, исследование морских течений, температуры и плотности воды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Этнографические исследования народов Океании, Камчатки, и Сахали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Экспедиция показала, что русские матросы и капитаны ни в чем не уступают морякам ведущих стран ми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0" y="692280"/>
            <a:ext cx="9055080" cy="5972040"/>
          </a:xfrm>
          <a:prstGeom prst="rect">
            <a:avLst/>
          </a:prstGeom>
          <a:ln w="0">
            <a:noFill/>
          </a:ln>
        </p:spPr>
      </p:pic>
      <p:sp>
        <p:nvSpPr>
          <p:cNvPr id="78" name="Полилиния 3"/>
          <p:cNvSpPr/>
          <p:nvPr/>
        </p:nvSpPr>
        <p:spPr>
          <a:xfrm>
            <a:off x="996840" y="1324080"/>
            <a:ext cx="7778880" cy="3698640"/>
          </a:xfrm>
          <a:custGeom>
            <a:avLst/>
            <a:gdLst/>
            <a:ahLst/>
            <a:rect l="l" t="t" r="r" b="b"/>
            <a:pathLst>
              <a:path w="7779223" h="3698543">
                <a:moveTo>
                  <a:pt x="1132764" y="163773"/>
                </a:moveTo>
                <a:cubicBezTo>
                  <a:pt x="1122919" y="161804"/>
                  <a:pt x="1041569" y="148468"/>
                  <a:pt x="1023582" y="136477"/>
                </a:cubicBezTo>
                <a:cubicBezTo>
                  <a:pt x="1007523" y="125771"/>
                  <a:pt x="997466" y="107890"/>
                  <a:pt x="982638" y="95534"/>
                </a:cubicBezTo>
                <a:cubicBezTo>
                  <a:pt x="946367" y="65308"/>
                  <a:pt x="929574" y="65212"/>
                  <a:pt x="887104" y="40943"/>
                </a:cubicBezTo>
                <a:cubicBezTo>
                  <a:pt x="813800" y="-945"/>
                  <a:pt x="881233" y="22416"/>
                  <a:pt x="791570" y="0"/>
                </a:cubicBezTo>
                <a:cubicBezTo>
                  <a:pt x="723331" y="4549"/>
                  <a:pt x="653202" y="-2939"/>
                  <a:pt x="586853" y="13648"/>
                </a:cubicBezTo>
                <a:cubicBezTo>
                  <a:pt x="572897" y="17137"/>
                  <a:pt x="580192" y="42016"/>
                  <a:pt x="573206" y="54591"/>
                </a:cubicBezTo>
                <a:cubicBezTo>
                  <a:pt x="557274" y="83268"/>
                  <a:pt x="549736" y="126103"/>
                  <a:pt x="518614" y="136477"/>
                </a:cubicBezTo>
                <a:cubicBezTo>
                  <a:pt x="443544" y="161501"/>
                  <a:pt x="510810" y="135088"/>
                  <a:pt x="436728" y="177421"/>
                </a:cubicBezTo>
                <a:cubicBezTo>
                  <a:pt x="419064" y="187515"/>
                  <a:pt x="399389" y="193933"/>
                  <a:pt x="382137" y="204716"/>
                </a:cubicBezTo>
                <a:cubicBezTo>
                  <a:pt x="362848" y="216772"/>
                  <a:pt x="346055" y="232439"/>
                  <a:pt x="327546" y="245660"/>
                </a:cubicBezTo>
                <a:cubicBezTo>
                  <a:pt x="314199" y="255194"/>
                  <a:pt x="300251" y="263857"/>
                  <a:pt x="286603" y="272955"/>
                </a:cubicBezTo>
                <a:cubicBezTo>
                  <a:pt x="277504" y="286603"/>
                  <a:pt x="265969" y="298909"/>
                  <a:pt x="259307" y="313898"/>
                </a:cubicBezTo>
                <a:cubicBezTo>
                  <a:pt x="247622" y="340190"/>
                  <a:pt x="247972" y="371845"/>
                  <a:pt x="232012" y="395785"/>
                </a:cubicBezTo>
                <a:cubicBezTo>
                  <a:pt x="153795" y="513108"/>
                  <a:pt x="247565" y="364676"/>
                  <a:pt x="191068" y="477671"/>
                </a:cubicBezTo>
                <a:cubicBezTo>
                  <a:pt x="183733" y="492342"/>
                  <a:pt x="170435" y="503626"/>
                  <a:pt x="163773" y="518615"/>
                </a:cubicBezTo>
                <a:cubicBezTo>
                  <a:pt x="152088" y="544907"/>
                  <a:pt x="143455" y="572588"/>
                  <a:pt x="136477" y="600501"/>
                </a:cubicBezTo>
                <a:cubicBezTo>
                  <a:pt x="131928" y="618698"/>
                  <a:pt x="130218" y="637852"/>
                  <a:pt x="122829" y="655092"/>
                </a:cubicBezTo>
                <a:cubicBezTo>
                  <a:pt x="116368" y="670168"/>
                  <a:pt x="102196" y="681047"/>
                  <a:pt x="95534" y="696036"/>
                </a:cubicBezTo>
                <a:cubicBezTo>
                  <a:pt x="83849" y="722328"/>
                  <a:pt x="77336" y="750627"/>
                  <a:pt x="68238" y="777922"/>
                </a:cubicBezTo>
                <a:cubicBezTo>
                  <a:pt x="63689" y="791570"/>
                  <a:pt x="61025" y="805999"/>
                  <a:pt x="54591" y="818866"/>
                </a:cubicBezTo>
                <a:lnTo>
                  <a:pt x="0" y="928048"/>
                </a:lnTo>
                <a:cubicBezTo>
                  <a:pt x="4549" y="1064525"/>
                  <a:pt x="5386" y="1201177"/>
                  <a:pt x="13647" y="1337480"/>
                </a:cubicBezTo>
                <a:cubicBezTo>
                  <a:pt x="14517" y="1351840"/>
                  <a:pt x="18308" y="1367190"/>
                  <a:pt x="27295" y="1378424"/>
                </a:cubicBezTo>
                <a:cubicBezTo>
                  <a:pt x="37541" y="1391232"/>
                  <a:pt x="54590" y="1396621"/>
                  <a:pt x="68238" y="1405719"/>
                </a:cubicBezTo>
                <a:cubicBezTo>
                  <a:pt x="77337" y="1419367"/>
                  <a:pt x="88198" y="1431992"/>
                  <a:pt x="95534" y="1446663"/>
                </a:cubicBezTo>
                <a:cubicBezTo>
                  <a:pt x="101968" y="1459530"/>
                  <a:pt x="102196" y="1475030"/>
                  <a:pt x="109182" y="1487606"/>
                </a:cubicBezTo>
                <a:cubicBezTo>
                  <a:pt x="127746" y="1521021"/>
                  <a:pt x="168072" y="1584262"/>
                  <a:pt x="204716" y="1610436"/>
                </a:cubicBezTo>
                <a:cubicBezTo>
                  <a:pt x="221271" y="1622261"/>
                  <a:pt x="241110" y="1628633"/>
                  <a:pt x="259307" y="1637731"/>
                </a:cubicBezTo>
                <a:cubicBezTo>
                  <a:pt x="272955" y="1651379"/>
                  <a:pt x="287689" y="1664020"/>
                  <a:pt x="300250" y="1678674"/>
                </a:cubicBezTo>
                <a:cubicBezTo>
                  <a:pt x="315053" y="1695945"/>
                  <a:pt x="325110" y="1717182"/>
                  <a:pt x="341194" y="1733266"/>
                </a:cubicBezTo>
                <a:cubicBezTo>
                  <a:pt x="352792" y="1744864"/>
                  <a:pt x="368489" y="1751463"/>
                  <a:pt x="382137" y="1760561"/>
                </a:cubicBezTo>
                <a:cubicBezTo>
                  <a:pt x="413508" y="1807618"/>
                  <a:pt x="407669" y="1791080"/>
                  <a:pt x="423080" y="1842448"/>
                </a:cubicBezTo>
                <a:cubicBezTo>
                  <a:pt x="432597" y="1874170"/>
                  <a:pt x="432005" y="1910425"/>
                  <a:pt x="450376" y="1937982"/>
                </a:cubicBezTo>
                <a:cubicBezTo>
                  <a:pt x="461661" y="1954910"/>
                  <a:pt x="486770" y="1956179"/>
                  <a:pt x="504967" y="1965277"/>
                </a:cubicBezTo>
                <a:cubicBezTo>
                  <a:pt x="635584" y="2095897"/>
                  <a:pt x="480550" y="1928653"/>
                  <a:pt x="559558" y="2047164"/>
                </a:cubicBezTo>
                <a:cubicBezTo>
                  <a:pt x="570264" y="2063223"/>
                  <a:pt x="588145" y="2073280"/>
                  <a:pt x="600501" y="2088107"/>
                </a:cubicBezTo>
                <a:cubicBezTo>
                  <a:pt x="611002" y="2100708"/>
                  <a:pt x="616198" y="2117452"/>
                  <a:pt x="627797" y="2129051"/>
                </a:cubicBezTo>
                <a:cubicBezTo>
                  <a:pt x="654252" y="2155506"/>
                  <a:pt x="676384" y="2158894"/>
                  <a:pt x="709683" y="2169994"/>
                </a:cubicBezTo>
                <a:cubicBezTo>
                  <a:pt x="773403" y="2233714"/>
                  <a:pt x="725067" y="2190731"/>
                  <a:pt x="791570" y="2238233"/>
                </a:cubicBezTo>
                <a:cubicBezTo>
                  <a:pt x="805996" y="2248537"/>
                  <a:pt x="865660" y="2295749"/>
                  <a:pt x="887104" y="2306471"/>
                </a:cubicBezTo>
                <a:cubicBezTo>
                  <a:pt x="899971" y="2312905"/>
                  <a:pt x="915180" y="2313685"/>
                  <a:pt x="928047" y="2320119"/>
                </a:cubicBezTo>
                <a:cubicBezTo>
                  <a:pt x="976311" y="2344251"/>
                  <a:pt x="967676" y="2352137"/>
                  <a:pt x="1009934" y="2388358"/>
                </a:cubicBezTo>
                <a:cubicBezTo>
                  <a:pt x="1027204" y="2403161"/>
                  <a:pt x="1046328" y="2415653"/>
                  <a:pt x="1064525" y="2429301"/>
                </a:cubicBezTo>
                <a:cubicBezTo>
                  <a:pt x="1082722" y="2456597"/>
                  <a:pt x="1091820" y="2492991"/>
                  <a:pt x="1119116" y="2511188"/>
                </a:cubicBezTo>
                <a:cubicBezTo>
                  <a:pt x="1159375" y="2538027"/>
                  <a:pt x="1168164" y="2540020"/>
                  <a:pt x="1201003" y="2579427"/>
                </a:cubicBezTo>
                <a:cubicBezTo>
                  <a:pt x="1243872" y="2630870"/>
                  <a:pt x="1219897" y="2644864"/>
                  <a:pt x="1310185" y="2674961"/>
                </a:cubicBezTo>
                <a:lnTo>
                  <a:pt x="1392071" y="2702257"/>
                </a:lnTo>
                <a:lnTo>
                  <a:pt x="1433014" y="2715904"/>
                </a:lnTo>
                <a:cubicBezTo>
                  <a:pt x="1451923" y="2712122"/>
                  <a:pt x="1518589" y="2701724"/>
                  <a:pt x="1542197" y="2688609"/>
                </a:cubicBezTo>
                <a:cubicBezTo>
                  <a:pt x="1570874" y="2672677"/>
                  <a:pt x="1592962" y="2644392"/>
                  <a:pt x="1624083" y="2634018"/>
                </a:cubicBezTo>
                <a:cubicBezTo>
                  <a:pt x="1651379" y="2624919"/>
                  <a:pt x="1678057" y="2613700"/>
                  <a:pt x="1705970" y="2606722"/>
                </a:cubicBezTo>
                <a:cubicBezTo>
                  <a:pt x="1729127" y="2600933"/>
                  <a:pt x="1777579" y="2590302"/>
                  <a:pt x="1801504" y="2579427"/>
                </a:cubicBezTo>
                <a:cubicBezTo>
                  <a:pt x="1838547" y="2562590"/>
                  <a:pt x="1871211" y="2534705"/>
                  <a:pt x="1910686" y="2524836"/>
                </a:cubicBezTo>
                <a:cubicBezTo>
                  <a:pt x="1928179" y="2520463"/>
                  <a:pt x="1986639" y="2507330"/>
                  <a:pt x="2006220" y="2497540"/>
                </a:cubicBezTo>
                <a:cubicBezTo>
                  <a:pt x="2100469" y="2450416"/>
                  <a:pt x="1988142" y="2485001"/>
                  <a:pt x="2101755" y="2456597"/>
                </a:cubicBezTo>
                <a:cubicBezTo>
                  <a:pt x="2115403" y="2447498"/>
                  <a:pt x="2127622" y="2435762"/>
                  <a:pt x="2142698" y="2429301"/>
                </a:cubicBezTo>
                <a:cubicBezTo>
                  <a:pt x="2159938" y="2421912"/>
                  <a:pt x="2179254" y="2420807"/>
                  <a:pt x="2197289" y="2415654"/>
                </a:cubicBezTo>
                <a:cubicBezTo>
                  <a:pt x="2312069" y="2382860"/>
                  <a:pt x="2140624" y="2410140"/>
                  <a:pt x="2402006" y="2388358"/>
                </a:cubicBezTo>
                <a:cubicBezTo>
                  <a:pt x="2444978" y="2374034"/>
                  <a:pt x="2449548" y="2371347"/>
                  <a:pt x="2497540" y="2361063"/>
                </a:cubicBezTo>
                <a:cubicBezTo>
                  <a:pt x="2542903" y="2351342"/>
                  <a:pt x="2634017" y="2333767"/>
                  <a:pt x="2634017" y="2333767"/>
                </a:cubicBezTo>
                <a:cubicBezTo>
                  <a:pt x="2647665" y="2324668"/>
                  <a:pt x="2659972" y="2313133"/>
                  <a:pt x="2674961" y="2306471"/>
                </a:cubicBezTo>
                <a:cubicBezTo>
                  <a:pt x="2706878" y="2292286"/>
                  <a:pt x="2773111" y="2273741"/>
                  <a:pt x="2811438" y="2265528"/>
                </a:cubicBezTo>
                <a:cubicBezTo>
                  <a:pt x="2856802" y="2255807"/>
                  <a:pt x="2947916" y="2238233"/>
                  <a:pt x="2947916" y="2238233"/>
                </a:cubicBezTo>
                <a:cubicBezTo>
                  <a:pt x="2984310" y="2220036"/>
                  <a:pt x="3023242" y="2206213"/>
                  <a:pt x="3057098" y="2183642"/>
                </a:cubicBezTo>
                <a:cubicBezTo>
                  <a:pt x="3070746" y="2174543"/>
                  <a:pt x="3083052" y="2163008"/>
                  <a:pt x="3098041" y="2156346"/>
                </a:cubicBezTo>
                <a:cubicBezTo>
                  <a:pt x="3124333" y="2144661"/>
                  <a:pt x="3152632" y="2138149"/>
                  <a:pt x="3179928" y="2129051"/>
                </a:cubicBezTo>
                <a:cubicBezTo>
                  <a:pt x="3193576" y="2124502"/>
                  <a:pt x="3208901" y="2123383"/>
                  <a:pt x="3220871" y="2115403"/>
                </a:cubicBezTo>
                <a:lnTo>
                  <a:pt x="3261814" y="2088107"/>
                </a:lnTo>
                <a:cubicBezTo>
                  <a:pt x="3266363" y="2074459"/>
                  <a:pt x="3272641" y="2061271"/>
                  <a:pt x="3275462" y="2047164"/>
                </a:cubicBezTo>
                <a:cubicBezTo>
                  <a:pt x="3281771" y="2015621"/>
                  <a:pt x="3271840" y="1978769"/>
                  <a:pt x="3289110" y="1951630"/>
                </a:cubicBezTo>
                <a:cubicBezTo>
                  <a:pt x="3306722" y="1923954"/>
                  <a:pt x="3370997" y="1897039"/>
                  <a:pt x="3370997" y="1897039"/>
                </a:cubicBezTo>
                <a:cubicBezTo>
                  <a:pt x="3375546" y="1846997"/>
                  <a:pt x="3377538" y="1796656"/>
                  <a:pt x="3384644" y="1746913"/>
                </a:cubicBezTo>
                <a:cubicBezTo>
                  <a:pt x="3386678" y="1732672"/>
                  <a:pt x="3394803" y="1719926"/>
                  <a:pt x="3398292" y="1705970"/>
                </a:cubicBezTo>
                <a:cubicBezTo>
                  <a:pt x="3417775" y="1628038"/>
                  <a:pt x="3404570" y="1653201"/>
                  <a:pt x="3425588" y="1583140"/>
                </a:cubicBezTo>
                <a:cubicBezTo>
                  <a:pt x="3433855" y="1555582"/>
                  <a:pt x="3436923" y="1525194"/>
                  <a:pt x="3452883" y="1501254"/>
                </a:cubicBezTo>
                <a:lnTo>
                  <a:pt x="3480179" y="1460310"/>
                </a:lnTo>
                <a:cubicBezTo>
                  <a:pt x="3489661" y="1431864"/>
                  <a:pt x="3502381" y="1387265"/>
                  <a:pt x="3521122" y="1364776"/>
                </a:cubicBezTo>
                <a:cubicBezTo>
                  <a:pt x="3531623" y="1352175"/>
                  <a:pt x="3548417" y="1346579"/>
                  <a:pt x="3562065" y="1337480"/>
                </a:cubicBezTo>
                <a:lnTo>
                  <a:pt x="3671247" y="1364776"/>
                </a:lnTo>
                <a:cubicBezTo>
                  <a:pt x="3689444" y="1369325"/>
                  <a:pt x="3708043" y="1372493"/>
                  <a:pt x="3725838" y="1378424"/>
                </a:cubicBezTo>
                <a:cubicBezTo>
                  <a:pt x="3739486" y="1382973"/>
                  <a:pt x="3752628" y="1389498"/>
                  <a:pt x="3766782" y="1392071"/>
                </a:cubicBezTo>
                <a:cubicBezTo>
                  <a:pt x="3802868" y="1398632"/>
                  <a:pt x="3839570" y="1401170"/>
                  <a:pt x="3875964" y="1405719"/>
                </a:cubicBezTo>
                <a:cubicBezTo>
                  <a:pt x="3916907" y="1401170"/>
                  <a:pt x="3959713" y="1405098"/>
                  <a:pt x="3998794" y="1392071"/>
                </a:cubicBezTo>
                <a:cubicBezTo>
                  <a:pt x="4017104" y="1385968"/>
                  <a:pt x="4024910" y="1363484"/>
                  <a:pt x="4039737" y="1351128"/>
                </a:cubicBezTo>
                <a:cubicBezTo>
                  <a:pt x="4098404" y="1302239"/>
                  <a:pt x="4060072" y="1340961"/>
                  <a:pt x="4121623" y="1310185"/>
                </a:cubicBezTo>
                <a:cubicBezTo>
                  <a:pt x="4215870" y="1263061"/>
                  <a:pt x="4103548" y="1297643"/>
                  <a:pt x="4217158" y="1269242"/>
                </a:cubicBezTo>
                <a:cubicBezTo>
                  <a:pt x="4235355" y="1260143"/>
                  <a:pt x="4252859" y="1249502"/>
                  <a:pt x="4271749" y="1241946"/>
                </a:cubicBezTo>
                <a:cubicBezTo>
                  <a:pt x="4298463" y="1231260"/>
                  <a:pt x="4353635" y="1214651"/>
                  <a:pt x="4353635" y="1214651"/>
                </a:cubicBezTo>
                <a:cubicBezTo>
                  <a:pt x="4442372" y="1081546"/>
                  <a:pt x="4303385" y="1288386"/>
                  <a:pt x="4421874" y="1119116"/>
                </a:cubicBezTo>
                <a:cubicBezTo>
                  <a:pt x="4440686" y="1092241"/>
                  <a:pt x="4458268" y="1064525"/>
                  <a:pt x="4476465" y="1037230"/>
                </a:cubicBezTo>
                <a:cubicBezTo>
                  <a:pt x="4485564" y="1023582"/>
                  <a:pt x="4498574" y="1011847"/>
                  <a:pt x="4503761" y="996286"/>
                </a:cubicBezTo>
                <a:cubicBezTo>
                  <a:pt x="4508310" y="982638"/>
                  <a:pt x="4508577" y="966699"/>
                  <a:pt x="4517409" y="955343"/>
                </a:cubicBezTo>
                <a:cubicBezTo>
                  <a:pt x="4541108" y="924873"/>
                  <a:pt x="4599295" y="873457"/>
                  <a:pt x="4599295" y="873457"/>
                </a:cubicBezTo>
                <a:cubicBezTo>
                  <a:pt x="4636764" y="761053"/>
                  <a:pt x="4622522" y="820053"/>
                  <a:pt x="4640238" y="696036"/>
                </a:cubicBezTo>
                <a:cubicBezTo>
                  <a:pt x="4635689" y="600502"/>
                  <a:pt x="4652379" y="501533"/>
                  <a:pt x="4626591" y="409433"/>
                </a:cubicBezTo>
                <a:cubicBezTo>
                  <a:pt x="4617746" y="377843"/>
                  <a:pt x="4567901" y="378039"/>
                  <a:pt x="4544704" y="354842"/>
                </a:cubicBezTo>
                <a:cubicBezTo>
                  <a:pt x="4531056" y="341194"/>
                  <a:pt x="4518588" y="326254"/>
                  <a:pt x="4503761" y="313898"/>
                </a:cubicBezTo>
                <a:cubicBezTo>
                  <a:pt x="4491160" y="303397"/>
                  <a:pt x="4476465" y="295701"/>
                  <a:pt x="4462817" y="286603"/>
                </a:cubicBezTo>
                <a:cubicBezTo>
                  <a:pt x="4436808" y="247589"/>
                  <a:pt x="4393701" y="177129"/>
                  <a:pt x="4353635" y="163773"/>
                </a:cubicBezTo>
                <a:lnTo>
                  <a:pt x="4312692" y="150125"/>
                </a:lnTo>
                <a:cubicBezTo>
                  <a:pt x="4289946" y="154674"/>
                  <a:pt x="4255962" y="143632"/>
                  <a:pt x="4244453" y="163773"/>
                </a:cubicBezTo>
                <a:cubicBezTo>
                  <a:pt x="4230724" y="187799"/>
                  <a:pt x="4252303" y="218602"/>
                  <a:pt x="4258101" y="245660"/>
                </a:cubicBezTo>
                <a:cubicBezTo>
                  <a:pt x="4265961" y="282341"/>
                  <a:pt x="4276299" y="318448"/>
                  <a:pt x="4285397" y="354842"/>
                </a:cubicBezTo>
                <a:cubicBezTo>
                  <a:pt x="4289946" y="373039"/>
                  <a:pt x="4288639" y="393826"/>
                  <a:pt x="4299044" y="409433"/>
                </a:cubicBezTo>
                <a:lnTo>
                  <a:pt x="4353635" y="491319"/>
                </a:lnTo>
                <a:cubicBezTo>
                  <a:pt x="4344537" y="504967"/>
                  <a:pt x="4337938" y="520664"/>
                  <a:pt x="4326340" y="532263"/>
                </a:cubicBezTo>
                <a:cubicBezTo>
                  <a:pt x="4304176" y="554427"/>
                  <a:pt x="4255777" y="572585"/>
                  <a:pt x="4230806" y="586854"/>
                </a:cubicBezTo>
                <a:cubicBezTo>
                  <a:pt x="4095772" y="664016"/>
                  <a:pt x="4300240" y="558959"/>
                  <a:pt x="4135271" y="641445"/>
                </a:cubicBezTo>
                <a:cubicBezTo>
                  <a:pt x="4126173" y="655093"/>
                  <a:pt x="4118477" y="669787"/>
                  <a:pt x="4107976" y="682388"/>
                </a:cubicBezTo>
                <a:cubicBezTo>
                  <a:pt x="4095620" y="697215"/>
                  <a:pt x="4078250" y="707625"/>
                  <a:pt x="4067032" y="723331"/>
                </a:cubicBezTo>
                <a:cubicBezTo>
                  <a:pt x="4055207" y="739886"/>
                  <a:pt x="4050520" y="760670"/>
                  <a:pt x="4039737" y="777922"/>
                </a:cubicBezTo>
                <a:cubicBezTo>
                  <a:pt x="3993687" y="851602"/>
                  <a:pt x="4009384" y="813333"/>
                  <a:pt x="3957850" y="873457"/>
                </a:cubicBezTo>
                <a:cubicBezTo>
                  <a:pt x="3932457" y="903082"/>
                  <a:pt x="3911214" y="936588"/>
                  <a:pt x="3889612" y="968991"/>
                </a:cubicBezTo>
                <a:cubicBezTo>
                  <a:pt x="3894161" y="1000836"/>
                  <a:pt x="3876494" y="1046681"/>
                  <a:pt x="3903259" y="1064525"/>
                </a:cubicBezTo>
                <a:cubicBezTo>
                  <a:pt x="3933776" y="1084870"/>
                  <a:pt x="3976355" y="1057438"/>
                  <a:pt x="4012441" y="1050877"/>
                </a:cubicBezTo>
                <a:cubicBezTo>
                  <a:pt x="4049508" y="1044138"/>
                  <a:pt x="4073297" y="1024797"/>
                  <a:pt x="4107976" y="1009934"/>
                </a:cubicBezTo>
                <a:cubicBezTo>
                  <a:pt x="4121199" y="1004267"/>
                  <a:pt x="4135271" y="1000835"/>
                  <a:pt x="4148919" y="996286"/>
                </a:cubicBezTo>
                <a:cubicBezTo>
                  <a:pt x="4193370" y="951835"/>
                  <a:pt x="4195953" y="942114"/>
                  <a:pt x="4244453" y="914400"/>
                </a:cubicBezTo>
                <a:cubicBezTo>
                  <a:pt x="4262117" y="904306"/>
                  <a:pt x="4282489" y="898929"/>
                  <a:pt x="4299044" y="887104"/>
                </a:cubicBezTo>
                <a:cubicBezTo>
                  <a:pt x="4314750" y="875886"/>
                  <a:pt x="4325160" y="858517"/>
                  <a:pt x="4339988" y="846161"/>
                </a:cubicBezTo>
                <a:cubicBezTo>
                  <a:pt x="4352589" y="835661"/>
                  <a:pt x="4367283" y="827964"/>
                  <a:pt x="4380931" y="818866"/>
                </a:cubicBezTo>
                <a:cubicBezTo>
                  <a:pt x="4390029" y="805218"/>
                  <a:pt x="4397725" y="790523"/>
                  <a:pt x="4408226" y="777922"/>
                </a:cubicBezTo>
                <a:cubicBezTo>
                  <a:pt x="4420582" y="763095"/>
                  <a:pt x="4439797" y="753851"/>
                  <a:pt x="4449170" y="736979"/>
                </a:cubicBezTo>
                <a:cubicBezTo>
                  <a:pt x="4463143" y="711828"/>
                  <a:pt x="4460505" y="679032"/>
                  <a:pt x="4476465" y="655092"/>
                </a:cubicBezTo>
                <a:cubicBezTo>
                  <a:pt x="4554685" y="537764"/>
                  <a:pt x="4460909" y="686205"/>
                  <a:pt x="4517409" y="573206"/>
                </a:cubicBezTo>
                <a:cubicBezTo>
                  <a:pt x="4570321" y="467382"/>
                  <a:pt x="4524048" y="594231"/>
                  <a:pt x="4558352" y="491319"/>
                </a:cubicBezTo>
                <a:cubicBezTo>
                  <a:pt x="4563055" y="453692"/>
                  <a:pt x="4564610" y="383267"/>
                  <a:pt x="4585647" y="341194"/>
                </a:cubicBezTo>
                <a:cubicBezTo>
                  <a:pt x="4592982" y="326523"/>
                  <a:pt x="4603844" y="313899"/>
                  <a:pt x="4612943" y="300251"/>
                </a:cubicBezTo>
                <a:cubicBezTo>
                  <a:pt x="4631140" y="327546"/>
                  <a:pt x="4665352" y="349405"/>
                  <a:pt x="4667534" y="382137"/>
                </a:cubicBezTo>
                <a:cubicBezTo>
                  <a:pt x="4676882" y="522350"/>
                  <a:pt x="4677871" y="582494"/>
                  <a:pt x="4694829" y="709683"/>
                </a:cubicBezTo>
                <a:cubicBezTo>
                  <a:pt x="4698486" y="737112"/>
                  <a:pt x="4702474" y="764557"/>
                  <a:pt x="4708477" y="791570"/>
                </a:cubicBezTo>
                <a:cubicBezTo>
                  <a:pt x="4711598" y="805613"/>
                  <a:pt x="4718636" y="818557"/>
                  <a:pt x="4722125" y="832513"/>
                </a:cubicBezTo>
                <a:cubicBezTo>
                  <a:pt x="4723315" y="837272"/>
                  <a:pt x="4743196" y="944450"/>
                  <a:pt x="4749420" y="955343"/>
                </a:cubicBezTo>
                <a:cubicBezTo>
                  <a:pt x="4758996" y="972101"/>
                  <a:pt x="4776716" y="982638"/>
                  <a:pt x="4790364" y="996286"/>
                </a:cubicBezTo>
                <a:cubicBezTo>
                  <a:pt x="4840871" y="1097301"/>
                  <a:pt x="4789441" y="1008826"/>
                  <a:pt x="4858603" y="1091821"/>
                </a:cubicBezTo>
                <a:cubicBezTo>
                  <a:pt x="4869104" y="1104422"/>
                  <a:pt x="4878563" y="1118093"/>
                  <a:pt x="4885898" y="1132764"/>
                </a:cubicBezTo>
                <a:cubicBezTo>
                  <a:pt x="4892332" y="1145631"/>
                  <a:pt x="4890559" y="1162473"/>
                  <a:pt x="4899546" y="1173707"/>
                </a:cubicBezTo>
                <a:cubicBezTo>
                  <a:pt x="4909793" y="1186515"/>
                  <a:pt x="4926841" y="1191904"/>
                  <a:pt x="4940489" y="1201003"/>
                </a:cubicBezTo>
                <a:cubicBezTo>
                  <a:pt x="4945038" y="1214651"/>
                  <a:pt x="4943965" y="1231774"/>
                  <a:pt x="4954137" y="1241946"/>
                </a:cubicBezTo>
                <a:cubicBezTo>
                  <a:pt x="4977334" y="1265143"/>
                  <a:pt x="5008728" y="1278340"/>
                  <a:pt x="5036023" y="1296537"/>
                </a:cubicBezTo>
                <a:cubicBezTo>
                  <a:pt x="5049671" y="1305636"/>
                  <a:pt x="5065368" y="1312234"/>
                  <a:pt x="5076967" y="1323833"/>
                </a:cubicBezTo>
                <a:cubicBezTo>
                  <a:pt x="5090615" y="1337481"/>
                  <a:pt x="5102675" y="1352927"/>
                  <a:pt x="5117910" y="1364776"/>
                </a:cubicBezTo>
                <a:cubicBezTo>
                  <a:pt x="5143805" y="1384916"/>
                  <a:pt x="5172501" y="1401170"/>
                  <a:pt x="5199797" y="1419367"/>
                </a:cubicBezTo>
                <a:lnTo>
                  <a:pt x="5240740" y="1446663"/>
                </a:lnTo>
                <a:cubicBezTo>
                  <a:pt x="5312771" y="1440660"/>
                  <a:pt x="5464598" y="1428916"/>
                  <a:pt x="5540991" y="1419367"/>
                </a:cubicBezTo>
                <a:cubicBezTo>
                  <a:pt x="5568449" y="1415935"/>
                  <a:pt x="5595582" y="1410268"/>
                  <a:pt x="5622877" y="1405719"/>
                </a:cubicBezTo>
                <a:cubicBezTo>
                  <a:pt x="5641074" y="1414818"/>
                  <a:pt x="5665643" y="1416460"/>
                  <a:pt x="5677468" y="1433015"/>
                </a:cubicBezTo>
                <a:cubicBezTo>
                  <a:pt x="5690951" y="1451891"/>
                  <a:pt x="5685490" y="1478750"/>
                  <a:pt x="5691116" y="1501254"/>
                </a:cubicBezTo>
                <a:cubicBezTo>
                  <a:pt x="5694605" y="1515210"/>
                  <a:pt x="5698811" y="1529101"/>
                  <a:pt x="5704764" y="1542197"/>
                </a:cubicBezTo>
                <a:cubicBezTo>
                  <a:pt x="5721602" y="1579240"/>
                  <a:pt x="5746487" y="1612777"/>
                  <a:pt x="5759355" y="1651379"/>
                </a:cubicBezTo>
                <a:cubicBezTo>
                  <a:pt x="5770492" y="1684790"/>
                  <a:pt x="5779219" y="1717401"/>
                  <a:pt x="5800298" y="1746913"/>
                </a:cubicBezTo>
                <a:cubicBezTo>
                  <a:pt x="5811516" y="1762619"/>
                  <a:pt x="5829391" y="1772622"/>
                  <a:pt x="5841241" y="1787857"/>
                </a:cubicBezTo>
                <a:cubicBezTo>
                  <a:pt x="5861381" y="1813752"/>
                  <a:pt x="5877635" y="1842448"/>
                  <a:pt x="5895832" y="1869743"/>
                </a:cubicBezTo>
                <a:cubicBezTo>
                  <a:pt x="5904931" y="1883391"/>
                  <a:pt x="5911530" y="1899087"/>
                  <a:pt x="5923128" y="1910686"/>
                </a:cubicBezTo>
                <a:cubicBezTo>
                  <a:pt x="5936776" y="1924334"/>
                  <a:pt x="5945346" y="1946949"/>
                  <a:pt x="5964071" y="1951630"/>
                </a:cubicBezTo>
                <a:cubicBezTo>
                  <a:pt x="6021615" y="1966016"/>
                  <a:pt x="6082352" y="1960728"/>
                  <a:pt x="6141492" y="1965277"/>
                </a:cubicBezTo>
                <a:cubicBezTo>
                  <a:pt x="6290819" y="2015054"/>
                  <a:pt x="6064628" y="1935665"/>
                  <a:pt x="6223379" y="2006221"/>
                </a:cubicBezTo>
                <a:cubicBezTo>
                  <a:pt x="6249671" y="2017906"/>
                  <a:pt x="6281325" y="2017556"/>
                  <a:pt x="6305265" y="2033516"/>
                </a:cubicBezTo>
                <a:cubicBezTo>
                  <a:pt x="6361816" y="2071217"/>
                  <a:pt x="6330296" y="2056834"/>
                  <a:pt x="6400800" y="2074460"/>
                </a:cubicBezTo>
                <a:cubicBezTo>
                  <a:pt x="6532597" y="2162323"/>
                  <a:pt x="6324467" y="2031077"/>
                  <a:pt x="6509982" y="2115403"/>
                </a:cubicBezTo>
                <a:cubicBezTo>
                  <a:pt x="6539847" y="2128978"/>
                  <a:pt x="6560746" y="2159620"/>
                  <a:pt x="6591868" y="2169994"/>
                </a:cubicBezTo>
                <a:cubicBezTo>
                  <a:pt x="6605516" y="2174543"/>
                  <a:pt x="6619945" y="2177208"/>
                  <a:pt x="6632812" y="2183642"/>
                </a:cubicBezTo>
                <a:cubicBezTo>
                  <a:pt x="6647483" y="2190977"/>
                  <a:pt x="6658766" y="2204275"/>
                  <a:pt x="6673755" y="2210937"/>
                </a:cubicBezTo>
                <a:cubicBezTo>
                  <a:pt x="6700047" y="2222622"/>
                  <a:pt x="6755641" y="2238233"/>
                  <a:pt x="6755641" y="2238233"/>
                </a:cubicBezTo>
                <a:cubicBezTo>
                  <a:pt x="6810910" y="2293501"/>
                  <a:pt x="6821649" y="2314945"/>
                  <a:pt x="6878471" y="2347415"/>
                </a:cubicBezTo>
                <a:cubicBezTo>
                  <a:pt x="6896135" y="2357509"/>
                  <a:pt x="6914865" y="2365612"/>
                  <a:pt x="6933062" y="2374710"/>
                </a:cubicBezTo>
                <a:cubicBezTo>
                  <a:pt x="6942161" y="2388358"/>
                  <a:pt x="6953897" y="2400577"/>
                  <a:pt x="6960358" y="2415654"/>
                </a:cubicBezTo>
                <a:cubicBezTo>
                  <a:pt x="6967747" y="2432894"/>
                  <a:pt x="6968853" y="2452210"/>
                  <a:pt x="6974006" y="2470245"/>
                </a:cubicBezTo>
                <a:cubicBezTo>
                  <a:pt x="6977958" y="2484077"/>
                  <a:pt x="6983104" y="2497540"/>
                  <a:pt x="6987653" y="2511188"/>
                </a:cubicBezTo>
                <a:cubicBezTo>
                  <a:pt x="6992202" y="2656764"/>
                  <a:pt x="6988862" y="2802801"/>
                  <a:pt x="7001301" y="2947916"/>
                </a:cubicBezTo>
                <a:cubicBezTo>
                  <a:pt x="7002702" y="2964259"/>
                  <a:pt x="7021935" y="2973871"/>
                  <a:pt x="7028597" y="2988860"/>
                </a:cubicBezTo>
                <a:cubicBezTo>
                  <a:pt x="7040282" y="3015152"/>
                  <a:pt x="7048914" y="3042833"/>
                  <a:pt x="7055892" y="3070746"/>
                </a:cubicBezTo>
                <a:cubicBezTo>
                  <a:pt x="7064991" y="3107140"/>
                  <a:pt x="7062379" y="3148714"/>
                  <a:pt x="7083188" y="3179928"/>
                </a:cubicBezTo>
                <a:cubicBezTo>
                  <a:pt x="7180716" y="3326222"/>
                  <a:pt x="7028839" y="3104202"/>
                  <a:pt x="7151426" y="3261815"/>
                </a:cubicBezTo>
                <a:cubicBezTo>
                  <a:pt x="7171566" y="3287710"/>
                  <a:pt x="7182820" y="3320504"/>
                  <a:pt x="7206017" y="3343701"/>
                </a:cubicBezTo>
                <a:cubicBezTo>
                  <a:pt x="7270156" y="3407840"/>
                  <a:pt x="7230904" y="3373941"/>
                  <a:pt x="7328847" y="3439236"/>
                </a:cubicBezTo>
                <a:lnTo>
                  <a:pt x="7369791" y="3466531"/>
                </a:lnTo>
                <a:cubicBezTo>
                  <a:pt x="7383439" y="3475629"/>
                  <a:pt x="7395173" y="3488640"/>
                  <a:pt x="7410734" y="3493827"/>
                </a:cubicBezTo>
                <a:lnTo>
                  <a:pt x="7451677" y="3507474"/>
                </a:lnTo>
                <a:cubicBezTo>
                  <a:pt x="7465325" y="3516573"/>
                  <a:pt x="7477631" y="3528108"/>
                  <a:pt x="7492620" y="3534770"/>
                </a:cubicBezTo>
                <a:cubicBezTo>
                  <a:pt x="7518912" y="3546456"/>
                  <a:pt x="7550567" y="3546106"/>
                  <a:pt x="7574507" y="3562066"/>
                </a:cubicBezTo>
                <a:cubicBezTo>
                  <a:pt x="7601803" y="3580263"/>
                  <a:pt x="7630150" y="3596974"/>
                  <a:pt x="7656394" y="3616657"/>
                </a:cubicBezTo>
                <a:cubicBezTo>
                  <a:pt x="7687212" y="3639770"/>
                  <a:pt x="7718664" y="3664937"/>
                  <a:pt x="7751928" y="3684895"/>
                </a:cubicBezTo>
                <a:cubicBezTo>
                  <a:pt x="7760651" y="3690129"/>
                  <a:pt x="7770125" y="3693994"/>
                  <a:pt x="7779223" y="3698543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30160" y="5300640"/>
            <a:ext cx="26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азар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ихаил Пет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Вторая русская кругосветная экспедиц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(1819-18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826920" y="5229360"/>
            <a:ext cx="28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еллинсгауз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Фаддей Фаддееф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468360" y="71280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00720" y="-360"/>
            <a:ext cx="4643280" cy="8492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Book Antiqua"/>
              </a:rPr>
              <a:t>Вторая русская кругосветная экспедици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Book Antiqua"/>
              </a:rPr>
              <a:t>(1819-19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525920" y="1050840"/>
            <a:ext cx="4643640" cy="562140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3 июля 1819 года Кронштадт торжественно проводил в дальнее плавание сразу две экспеди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дна направилась для исследования северной части Тихого океана и определения возможности выхода через Берингов пролив в Атлантический океан, другая - в Южную полярную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Честь исследования антарктических морей выпала набранным из добровольцев экипажам  двух трехмачтовых шлюпов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«Восток» и «Мирный»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441360" y="-25560"/>
            <a:ext cx="3168720" cy="2475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"/>
          <p:cNvSpPr/>
          <p:nvPr/>
        </p:nvSpPr>
        <p:spPr>
          <a:xfrm>
            <a:off x="441360" y="2449440"/>
            <a:ext cx="3168720" cy="82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«Восток» </a:t>
            </a: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(построен в 1818 году в Петербурге, водоизмещение - 900 тонн, вооружение-28 орудий, экипаж-117 человек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396720" y="3317760"/>
            <a:ext cx="3203640" cy="2475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406440" y="5792760"/>
            <a:ext cx="3203640" cy="981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«Мирный» </a:t>
            </a: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(бывший транспорт "Ладога", построенный в 1818 году в Лодейном Поле, водоизмещение - 530 тонн, вооружение - 20 орудий, экипаж - 73 человека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3:44:21Z</dcterms:created>
  <dc:creator>Леонид</dc:creator>
  <dc:description/>
  <dc:language>en-US</dc:language>
  <cp:lastModifiedBy>Black.User</cp:lastModifiedBy>
  <dcterms:modified xsi:type="dcterms:W3CDTF">2011-04-17T07:32:43Z</dcterms:modified>
  <cp:revision>70</cp:revision>
  <dc:subject/>
  <dc:title>Слайд 1</dc:title>
</cp:coreProperties>
</file>