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2A38-BA0C-41B6-9D91-47047D223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4FA9-2904-4529-8D59-5E0878F22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FE70-456B-4D1B-930B-123BCDD06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D53F-34D3-46E5-934E-20827BB4E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EEFD5B-C936-4FD6-98C3-64AA1B689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2C0E6B-615A-4C29-A579-5CB081B47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D5564E-ABE1-4616-B017-D31A3C8FA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9137FA-8158-4310-A8D9-EC652F0C0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9FCB98-BD49-4615-8C3D-4737DD171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6B0BB9-FC3A-45ED-915D-5FF98A105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26B7E2-CED6-45C8-A4B7-B3F697CE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46FD-504B-41A6-869C-2A85F8004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195176-0855-4447-AFF7-9F2A8A3C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A58031-7450-4923-B18F-0F9B27140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04BEF5-6BC9-4844-BB6A-92A4B2011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821B37-3E46-4A9D-AD51-F29019D98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526425-E799-44F0-AAF5-B1FD5095A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153B3-B31B-4644-8111-E829E2B51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D3323-67A3-4A81-9705-53D29E0D8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539C4-6087-4598-93A7-D9C35836C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616C1-365D-44C7-B59B-27006D637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EC5AD-2810-4C06-B069-6C9315A68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0369-DBB8-44A4-983A-DD97891D1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B83E4-CBB7-4156-B2DD-308C4E63B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2F481-6EBE-4064-AB19-0D20586C7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FC9F3-1183-4089-BDA5-108114D86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182CD-672F-4D14-B15A-FCD5A0214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31308-0DEE-423A-8F5E-872ECAEEE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74CA2-EC17-4037-A41C-CD1F35F7C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9429A-3CBA-4294-A2DF-959A7CC83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95A81-7147-4F5A-949A-B0EC3811A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C8F3A-7521-470A-9CB5-F8545BF5A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940B9-DB85-4A5D-AB51-DEE4F0C25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5E57-14F1-4315-8B33-D4D351735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E8AF0-CAC9-4D15-A908-2D715AAFB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4C597-1EB9-4C8A-825C-44E1ABE76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D2BE2-B5E3-48BA-A44F-5C83080F3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F43BF-D70A-4026-AF5A-C454AB586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E2D6F-CE6F-44A0-A21F-A0E7600B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030EB-10E8-4FB7-82A9-2AFEC309B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A299C-41ED-4F9D-AD0F-5E6F9D7D0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1ED75-1D6B-4D87-AE46-DACDF680C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97AF0-5BA0-4C73-B75D-0C251CEE5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FDBED5-2D91-488A-AD5B-829A91FF3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F8C1-5750-4CC9-829D-267009303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033C5-8771-46FA-86F1-A1B5C2F34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8A3F3-D723-4628-BD1C-F1CB2624B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64CF1-1B9E-47E9-9D4B-DA6D7E7E0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FDB8DA-7792-4692-9234-C3D90EE18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D6224A-4AC6-4714-8931-644F9D2A8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69BF2-610E-4C7A-87A6-75791BD6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775557-45C9-488A-9BA0-A61D1E9C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68CE0-F11D-4014-BD56-138B2C42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A69C76-BFAD-4B56-A94B-0C5D61954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59342-3010-4FB0-B999-23F29B0CA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A0CC-9508-4F0C-A942-745438B6C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9CAAF9-6CF2-48B3-A940-5F75344D8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F931-1DF1-402C-9A9C-B7D555DC3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7627-A059-4ED4-A668-74FD7056E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7A03-0FBC-454E-AD56-2E8B53EAD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5C856-4D9B-4E76-A634-CC1CB47BB5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BE93A-1F79-40AA-BABC-E13060E171F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4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3ECC2-B922-440C-A65B-5F71A4A63D4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81433-4C3C-443A-9F4F-033FD524A7A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dt" idx="13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56CE3-9002-476C-98EB-E009326C0A4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4176720"/>
          </a:xfrm>
          <a:prstGeom prst="rect">
            <a:avLst/>
          </a:prstGeom>
          <a:noFill/>
          <a:ln cap="rnd" w="9360">
            <a:solidFill>
              <a:srgbClr val="99cc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Тема урока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Ветер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54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итель географии МОУГСОШ г.Калязина  Соколова А.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324000" y="5877000"/>
          <a:ext cx="3743280" cy="793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5877000"/>
                    <a:ext cx="374328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Основные ветры умеренных широ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95280" y="-38736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99"/>
                </a:solidFill>
                <a:latin typeface="Arial"/>
              </a:rPr>
              <a:t>Свойства ветра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cxnSp>
        <p:nvCxnSpPr>
          <p:cNvPr id="268" name=""/>
          <p:cNvCxnSpPr>
            <a:stCxn id="267" idx="3"/>
            <a:endCxn id="267" idx="3"/>
          </p:cNvCxnSpPr>
          <p:nvPr/>
        </p:nvCxnSpPr>
        <p:spPr>
          <a:xfrm>
            <a:off x="8167320" y="72828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69" name=""/>
          <p:cNvSpPr/>
          <p:nvPr/>
        </p:nvSpPr>
        <p:spPr>
          <a:xfrm>
            <a:off x="2268360" y="4076640"/>
            <a:ext cx="287640" cy="615960"/>
          </a:xfrm>
          <a:prstGeom prst="upArrow">
            <a:avLst>
              <a:gd name="adj1" fmla="val 50000"/>
              <a:gd name="adj2" fmla="val 53536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924360" y="3429000"/>
            <a:ext cx="1152360" cy="360360"/>
          </a:xfrm>
          <a:prstGeom prst="rightArrow">
            <a:avLst>
              <a:gd name="adj1" fmla="val 50000"/>
              <a:gd name="adj2" fmla="val 79945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8360" y="3141720"/>
            <a:ext cx="3382920" cy="863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Сила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баллы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48360" y="3141720"/>
            <a:ext cx="3382920" cy="863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Скорость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м/с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rot="20137200">
            <a:off x="5795640" y="1341000"/>
            <a:ext cx="431640" cy="1656000"/>
          </a:xfrm>
          <a:prstGeom prst="downArrow">
            <a:avLst>
              <a:gd name="adj1" fmla="val 50000"/>
              <a:gd name="adj2" fmla="val 95913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rot="1493400">
            <a:off x="2555640" y="1341000"/>
            <a:ext cx="358560" cy="1656000"/>
          </a:xfrm>
          <a:prstGeom prst="downArrow">
            <a:avLst>
              <a:gd name="adj1" fmla="val 50000"/>
              <a:gd name="adj2" fmla="val 11546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79280" y="4724280"/>
            <a:ext cx="4427640" cy="1224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Разница дав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8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8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8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0" y="-963720"/>
            <a:ext cx="9144000" cy="676908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50920" y="5445000"/>
            <a:ext cx="8510400" cy="18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Вывод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чем больше разница давления, тем больше сила ветра и его скор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657080" y="3393720"/>
            <a:ext cx="20127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950000" y="3213000"/>
            <a:ext cx="4194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0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797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Задание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кажите стрелочками направление ветра. В каком случае скорость ветра будет больш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0" y="2204640"/>
            <a:ext cx="8066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435640" y="2133720"/>
            <a:ext cx="2808360" cy="86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50 мм.рт.с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116000" y="2133720"/>
            <a:ext cx="2448000" cy="86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35 мм.рт.с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187280" y="3860640"/>
            <a:ext cx="2448000" cy="79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70 мм.рт.с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435640" y="3860640"/>
            <a:ext cx="2879640" cy="79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30 мм.рт.с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924360" y="2349360"/>
            <a:ext cx="1079280" cy="360360"/>
          </a:xfrm>
          <a:prstGeom prst="leftArrow">
            <a:avLst>
              <a:gd name="adj1" fmla="val 50000"/>
              <a:gd name="adj2" fmla="val 74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rot="5400000">
            <a:off x="4376520" y="3695400"/>
            <a:ext cx="358920" cy="1121040"/>
          </a:xfrm>
          <a:prstGeom prst="upArrow">
            <a:avLst>
              <a:gd name="adj1" fmla="val 50000"/>
              <a:gd name="adj2" fmla="val 7808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2360" y="4941720"/>
            <a:ext cx="1943280" cy="122580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ве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564000" y="2997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635280" y="4653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780000" y="4653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63468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Задание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24000" y="620640"/>
            <a:ext cx="88200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пределите по шкале Бофорта название вет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0" y="134100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етер в море бушева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евращая волны в ва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Что за слабый ветеро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аруса надуть не смог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етер по морю гуля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 кораблик подгоняе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н бежит себе в волн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 раздутых парусах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ыль с дороги захвати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 потом набравшись си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вертелся, закружил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 столбом до неба взвил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003640" y="1484280"/>
            <a:ext cx="2592720" cy="503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Штор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003640" y="2492280"/>
            <a:ext cx="2592720" cy="503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Шти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076720" y="3789360"/>
            <a:ext cx="251964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вежий ве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148360" y="5229360"/>
            <a:ext cx="2376360" cy="576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мер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2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2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2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2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2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419640" y="0"/>
            <a:ext cx="28080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Задание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6840" y="475920"/>
            <a:ext cx="821844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ие прилагательные вы бы использовали для характеристики ветр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876720" y="2276640"/>
            <a:ext cx="259236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рс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евер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олод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лаж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рага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х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пл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лаб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79280" y="220500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ие свойства воздуха характеризуют эти прилагательны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132000" y="3141720"/>
            <a:ext cx="26640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правление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емпературу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лажность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ил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5651280" y="2997360"/>
            <a:ext cx="136980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5724000" y="3429000"/>
            <a:ext cx="12970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732720" y="5950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732720" y="3284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 flipV="1">
            <a:off x="4284720" y="5013360"/>
            <a:ext cx="273672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 flipV="1">
            <a:off x="5580000" y="4149360"/>
            <a:ext cx="1440000" cy="143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4356000" y="4726080"/>
            <a:ext cx="26640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292720" y="4292640"/>
            <a:ext cx="172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5580000" y="3860640"/>
            <a:ext cx="1440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 flipV="1">
            <a:off x="5292720" y="4581000"/>
            <a:ext cx="1728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8" dur="8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9" dur="8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0" dur="8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3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3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sp>
        <p:nvSpPr>
          <p:cNvPr id="316" name=""/>
          <p:cNvSpPr/>
          <p:nvPr/>
        </p:nvSpPr>
        <p:spPr>
          <a:xfrm>
            <a:off x="684360" y="0"/>
            <a:ext cx="806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Значение ветр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92200" y="1916280"/>
            <a:ext cx="5995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971640" y="549360"/>
            <a:ext cx="8172360" cy="64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Переносит влагу, тепло, семе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                           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Очищает возду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                        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Формирует рельеф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             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Используется человек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Причина природных бедствий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0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7" dur="1" fill="hold"/>
                                        <p:tgtEl>
                                          <p:spTgt spid="3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8" restart="whenNotActive" nodeType="interactiveSeq" fill="hold">
                <p:stCondLst>
                  <p:cond evt="onClick">
                    <p:tgtEl>
                      <p:spTgt spid="319"/>
                    </p:tgtEl>
                  </p:cond>
                </p:stCondLst>
                <p:childTnLst>
                  <p:par>
                    <p:cTn id="549" fill="hold">
                      <p:stCondLst>
                        <p:cond evt="onClick">
                          <p:tgtEl>
                            <p:spTgt spid="319"/>
                          </p:tgtEl>
                        </p:cond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52" dur="1" fill="hold"/>
                                        <p:tgtEl>
                                          <p:spTgt spid="3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етер – это горизонтальное  перемещение воздуха из областей высокого давления в область низког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609300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ичины возникновения вет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-360" y="1125360"/>
            <a:ext cx="889308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60093"/>
                </a:solidFill>
                <a:latin typeface="Arial"/>
              </a:rPr>
              <a:t>Разница в нагревании моря и суш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                             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Разница в давле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етер характеризуется следующими свойствам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8229600" cy="22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правле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ил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корост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784692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cc"/>
                </a:solidFill>
                <a:uFillTx/>
                <a:latin typeface="Arial"/>
              </a:rPr>
              <a:t>Направление</a:t>
            </a:r>
            <a:r>
              <a:rPr b="0" i="1" lang="en-US" sz="4000" spc="-1" strike="noStrike">
                <a:solidFill>
                  <a:srgbClr val="0000cc"/>
                </a:solidFill>
                <a:latin typeface="Arial"/>
              </a:rPr>
              <a:t> - 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это сторона горизонта, откуда дует ветер.</a:t>
            </a:r>
            <a:br>
              <a:rPr sz="4000"/>
            </a:b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Существуют главные направления и промежуточные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1042560" y="6165360"/>
            <a:ext cx="7056360" cy="25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907920"/>
            <a:ext cx="9144000" cy="136872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означьте стрелками направление вет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0" y="335772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0" y="2997360"/>
          <a:ext cx="9144000" cy="2160360"/>
        </p:xfrm>
        <a:graphic>
          <a:graphicData uri="http://schemas.openxmlformats.org/drawingml/2006/table">
            <a:tbl>
              <a:tblPr/>
              <a:tblGrid>
                <a:gridCol w="971640"/>
                <a:gridCol w="1160280"/>
                <a:gridCol w="1006560"/>
                <a:gridCol w="934920"/>
                <a:gridCol w="1225800"/>
                <a:gridCol w="1363680"/>
                <a:gridCol w="1296720"/>
                <a:gridCol w="1184400"/>
              </a:tblGrid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ж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вер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в.-за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в.-вос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го-вос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го-за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6" name=""/>
          <p:cNvSpPr/>
          <p:nvPr/>
        </p:nvSpPr>
        <p:spPr>
          <a:xfrm>
            <a:off x="468360" y="-171360"/>
            <a:ext cx="75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Задание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79280" y="357336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258920" y="36450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203640" y="3789360"/>
            <a:ext cx="792000" cy="485640"/>
          </a:xfrm>
          <a:prstGeom prst="leftArrow">
            <a:avLst>
              <a:gd name="adj1" fmla="val 50000"/>
              <a:gd name="adj2" fmla="val 40771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195640" y="3789360"/>
            <a:ext cx="863640" cy="485640"/>
          </a:xfrm>
          <a:prstGeom prst="rightArrow">
            <a:avLst>
              <a:gd name="adj1" fmla="val 50000"/>
              <a:gd name="adj2" fmla="val 44459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rot="19318200">
            <a:off x="7093080" y="357300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rot="13316400">
            <a:off x="8243640" y="35730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rot="2401800">
            <a:off x="5724000" y="357336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8152200">
            <a:off x="4427280" y="357336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24000" y="-243360"/>
            <a:ext cx="82296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адание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0" y="620280"/>
            <a:ext cx="91440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 направлениях ветров, господствующих в местности, можно узнать по графику, который называется – роза вет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0" y="551664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пределите, какие ветры преобладали в данной местности и сколько дней дул южный ветер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6985080" cy="3528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757920" y="1657080"/>
            <a:ext cx="238608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0" y="907920"/>
          <a:ext cx="9144000" cy="5949720"/>
        </p:xfrm>
        <a:graphic>
          <a:graphicData uri="http://schemas.openxmlformats.org/drawingml/2006/table">
            <a:tbl>
              <a:tblPr/>
              <a:tblGrid>
                <a:gridCol w="2171880"/>
                <a:gridCol w="4160520"/>
                <a:gridCol w="2811600"/>
              </a:tblGrid>
              <a:tr h="82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 вет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правл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йон действ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и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a0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ром с моря на суш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a0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брежные территории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a0fe"/>
                    </a:solidFill>
                  </a:tcPr>
                </a:tc>
              </a:tr>
              <a:tr h="161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ссо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a0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имой с суши на мор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a0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бережья Тихого и Индийского океа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a0fe"/>
                    </a:solidFill>
                  </a:tcPr>
                </a:tc>
              </a:tr>
              <a:tr h="161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сса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оянный ветер С-В направления в северном полушарии,  Ю-В в южном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тропиков к экватор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  <a:tr h="98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адные вет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адн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ренные широ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</a:tbl>
          </a:graphicData>
        </a:graphic>
      </p:graphicFrame>
      <p:sp>
        <p:nvSpPr>
          <p:cNvPr id="261" name=""/>
          <p:cNvSpPr/>
          <p:nvPr/>
        </p:nvSpPr>
        <p:spPr>
          <a:xfrm>
            <a:off x="0" y="189000"/>
            <a:ext cx="9144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Существуют постоянные ветры и ветры меняющие направлени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72" dur="indefinite" restart="never" nodeType="tmRoot">
          <p:childTnLst>
            <p:seq>
              <p:cTn id="173" restart="whenNotActive" nodeType="interactiveSeq" fill="hold">
                <p:stCondLst>
                  <p:cond evt="onClick">
                    <p:tgtEl>
                      <p:spTgt spid="263"/>
                    </p:tgtEl>
                  </p:cond>
                </p:stCondLst>
                <p:childTnLst>
                  <p:par>
                    <p:cTn id="174" fill="hold">
                      <p:stCondLst>
                        <p:cond evt="onClick">
                          <p:tgtEl>
                            <p:spTgt spid="263"/>
                          </p:tgtEl>
                        </p:cond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7" dur="1" fill="hold"/>
                                        <p:tgtEl>
                                          <p:spTgt spid="2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7:43:01Z</dcterms:created>
  <dc:creator>user</dc:creator>
  <dc:description/>
  <dc:language>en-US</dc:language>
  <cp:lastModifiedBy>Инновационный отдел</cp:lastModifiedBy>
  <dcterms:modified xsi:type="dcterms:W3CDTF">2008-08-27T09:02:17Z</dcterms:modified>
  <cp:revision>20</cp:revision>
  <dc:subject/>
  <dc:title>Тема урока: ”Ветер”</dc:title>
</cp:coreProperties>
</file>