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F9CA-B144-4D25-BABC-003FAE45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E00-3495-4F95-B69A-7DEFBA33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4FF7-137D-4B3C-B7D7-F6463EA8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A69E-6913-4B53-AE68-D92C7670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1E7D4-2C61-4CC9-B430-842B7EC4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CE401-9FF7-45C6-9F57-D531A96F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E9BF3-E038-4C42-9FF9-ADA793BC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276CC-1751-43A1-905F-7912B6EA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7EE78-AF8A-4E29-A692-5D12FCD0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904CE-7D7C-428B-8897-74EB10DF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B69D8-CFBB-4DA2-ABDE-375E0C83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5E6-FE08-4D7A-A525-05C329EC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C33F5-24F4-4253-8416-77C5F12A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4AEC8-DEBB-4C4C-A2D2-71E7ED09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9FEF6-A3EC-464C-A84B-ECC1E0CF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A6916-AA49-4803-9F27-9B2D39AE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2E59A-6400-4582-A850-01FC854C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3EBEB-D45C-4C0B-9999-D06DC807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AD4E9-A55A-489D-9F57-08E288AF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3FB8C-3C24-4FCF-8814-94752F62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624B-C51F-4B62-8F75-E48A09D4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CA3E7-E90C-465D-88B5-D0BCBCA7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0A91-D296-445F-93B2-11E54842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909E5-FF4B-47D9-ADAB-154ADB90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2DB3D-26C8-4EA5-AA94-06C69A8A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A7B6-731B-4AFE-9E46-2A64DA19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C68B3-2B9D-4735-B45A-79C08D43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05DF6-DCCE-4056-A1B3-8BF27B5A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B94CC-9B1E-4796-A575-599E3F43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0E446-B240-4A87-A6D5-08E012BB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DFA16-F61B-46F0-A42B-495ACA71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49C29-57EA-4D0E-BE3A-CE6239DF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DB63D-5FF0-4AC0-88B2-B22EC8A1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94A9-0E67-4FC1-B8FD-62FFFB3D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A6D0B-31E5-4EE5-90DC-25330E40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40A09-DEF9-469E-BE0D-8613A01E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A5CC6-B9F0-4149-B958-796A71A5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5ACF7-1D19-4217-82BE-72CF53AB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EB049-C59D-453C-8515-A18C7F15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BD9F6-2EE2-4207-9C65-D4A4B1CC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ED447-072E-48E9-979E-7BA60BA1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D4E12-1072-4F97-A705-29E9F3EB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29B9B-BEC8-430B-8B17-790F1C31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B16C2-F0B2-4F03-80CE-9D211F3C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A2A-DBB2-445D-A8F7-6C343D5D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21ADE-0A74-4421-ABCA-B5E17B06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85552-4CCE-4AC2-8F0E-A0942F41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4B771-F60D-4F62-9D79-2CFFC114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8FB50-A205-4701-8ADF-14AE1A96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07BEF-2D08-40DD-8BA2-030E93B0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1A63D-CC51-4C1B-B0FE-CB349D4C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B00C0-F3D8-4CB8-A942-B3802B08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5189F-F1B8-4261-8B71-C53DEF37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1229A-1FF0-4306-9720-7667F2C4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9C8C8-C4BE-477D-B0CE-ED854CB1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F85-FE66-40AB-92A5-68F7402F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D7AF3-6EDB-4C3B-B2D4-50108C9D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87C-0B04-49A2-8087-B57D9782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39B4-43FC-4A58-B4EC-869D93BB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B4DA-8C33-49EB-B8EC-C605030C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2430-39EF-478C-942D-1228E43F5D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8241-9CF0-4261-BD8D-CB7398F6DF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A1DB-7B6B-423D-A080-059A52F644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9498-5EA5-4747-B391-8763E1EBDE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D2D9-F265-4D9B-A3D3-4AB3D7C8C8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176720"/>
          </a:xfrm>
          <a:prstGeom prst="rect">
            <a:avLst/>
          </a:prstGeom>
          <a:noFill/>
          <a:ln cap="rnd" w="9360">
            <a:solidFill>
              <a:srgbClr val="99cc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етер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54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ь географии МОУГСОШ г.Калязина  Соколова А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24000" y="5877000"/>
          <a:ext cx="3743280" cy="79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5877000"/>
                    <a:ext cx="37432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Основные ветры умеренных шир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-387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Свойства ветр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cxnSp>
        <p:nvCxnSpPr>
          <p:cNvPr id="268" name=""/>
          <p:cNvCxnSpPr>
            <a:stCxn id="267" idx="3"/>
            <a:endCxn id="267" idx="3"/>
          </p:cNvCxnSpPr>
          <p:nvPr/>
        </p:nvCxnSpPr>
        <p:spPr>
          <a:xfrm>
            <a:off x="8167320" y="728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2268360" y="4076640"/>
            <a:ext cx="287640" cy="615960"/>
          </a:xfrm>
          <a:prstGeom prst="upArrow">
            <a:avLst>
              <a:gd name="adj1" fmla="val 50000"/>
              <a:gd name="adj2" fmla="val 5353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24360" y="342900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3141720"/>
            <a:ext cx="338292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ила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баллы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48360" y="3141720"/>
            <a:ext cx="338292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м/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20137200">
            <a:off x="5795640" y="1341000"/>
            <a:ext cx="431640" cy="1656000"/>
          </a:xfrm>
          <a:prstGeom prst="downArrow">
            <a:avLst>
              <a:gd name="adj1" fmla="val 50000"/>
              <a:gd name="adj2" fmla="val 9591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493400">
            <a:off x="2555640" y="1341000"/>
            <a:ext cx="358560" cy="1656000"/>
          </a:xfrm>
          <a:prstGeom prst="downArrow">
            <a:avLst>
              <a:gd name="adj1" fmla="val 50000"/>
              <a:gd name="adj2" fmla="val 11546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9280" y="4724280"/>
            <a:ext cx="4427640" cy="1224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ница да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-96372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920" y="5445000"/>
            <a:ext cx="85104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Вывод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чем больше разница давления, тем больше сила ветра и его скор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657080" y="3393720"/>
            <a:ext cx="20127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50000" y="321300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9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ние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кажите стрелочками направление ветра. В каком случае скорость ветра будет больш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0" y="2204640"/>
            <a:ext cx="8066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2133720"/>
            <a:ext cx="280836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50 мм.рт.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2133720"/>
            <a:ext cx="244800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35 мм.рт.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3860640"/>
            <a:ext cx="244800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70 мм.рт.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35640" y="3860640"/>
            <a:ext cx="287964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30 мм.рт.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24360" y="2349360"/>
            <a:ext cx="1079280" cy="360360"/>
          </a:xfrm>
          <a:prstGeom prst="leftArrow">
            <a:avLst>
              <a:gd name="adj1" fmla="val 50000"/>
              <a:gd name="adj2" fmla="val 74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4376520" y="3695400"/>
            <a:ext cx="358920" cy="1121040"/>
          </a:xfrm>
          <a:prstGeom prst="upArrow">
            <a:avLst>
              <a:gd name="adj1" fmla="val 50000"/>
              <a:gd name="adj2" fmla="val 780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2360" y="4941720"/>
            <a:ext cx="1943280" cy="12258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64000" y="2997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35280" y="465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8000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63468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820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ите по шкале Бофорта название ве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тер в море бушева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вращая волны в в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за слабый ветер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руса надуть не смог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тер по морю гуля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кораблик подгоня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 бежит себе в волн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раздутых парусах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ыль с дороги захват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потом набравшись с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вертелся, закруж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столбом до неба взв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003640" y="1484280"/>
            <a:ext cx="259272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т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2492280"/>
            <a:ext cx="259272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ти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76720" y="3789360"/>
            <a:ext cx="251964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ежий ве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48360" y="5229360"/>
            <a:ext cx="2376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р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419640" y="0"/>
            <a:ext cx="2808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ние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475920"/>
            <a:ext cx="8218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прилагательные вы бы использовали для характеристики вет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76720" y="2276640"/>
            <a:ext cx="2592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р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в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а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г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б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9280" y="2205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свойства воздуха характеризуют эти прилагательн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32000" y="3141720"/>
            <a:ext cx="2664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правление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пературу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жность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651280" y="2997360"/>
            <a:ext cx="13698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724000" y="3429000"/>
            <a:ext cx="1297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732720" y="5950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73272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4284720" y="5013360"/>
            <a:ext cx="2736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5580000" y="4149360"/>
            <a:ext cx="1440000" cy="14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356000" y="4726080"/>
            <a:ext cx="2664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292720" y="4292640"/>
            <a:ext cx="172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580000" y="3860640"/>
            <a:ext cx="1440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5292720" y="4581000"/>
            <a:ext cx="1728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316" name=""/>
          <p:cNvSpPr/>
          <p:nvPr/>
        </p:nvSpPr>
        <p:spPr>
          <a:xfrm>
            <a:off x="684360" y="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начение вет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92200" y="1916280"/>
            <a:ext cx="599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71640" y="549360"/>
            <a:ext cx="817236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Переносит влагу, тепло, сем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         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Очищает возду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      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Формирует релье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Используется челове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Причина природных бедствий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7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2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етер – это горизонтальное  перемещение воздуха из областей высокого давления в область низког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чины возникновения ве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8930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Разница в нагревании моря и су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 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Разница в дав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тер характеризуется следующими свойствам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правл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р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84692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Направление</a:t>
            </a: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 -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это сторона горизонта, откуда дует ветер.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Существуют главные направления и промежуточные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042560" y="6165360"/>
            <a:ext cx="705636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907920"/>
            <a:ext cx="9144000" cy="13687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значьте стрелками направление ве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3357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0" y="2997360"/>
          <a:ext cx="9144000" cy="2160360"/>
        </p:xfrm>
        <a:graphic>
          <a:graphicData uri="http://schemas.openxmlformats.org/drawingml/2006/table">
            <a:tbl>
              <a:tblPr/>
              <a:tblGrid>
                <a:gridCol w="971640"/>
                <a:gridCol w="1160280"/>
                <a:gridCol w="1006560"/>
                <a:gridCol w="934920"/>
                <a:gridCol w="1225800"/>
                <a:gridCol w="1363680"/>
                <a:gridCol w="1296720"/>
                <a:gridCol w="118440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ж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.-за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.-во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го-во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го-за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468360" y="-171360"/>
            <a:ext cx="75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ние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9280" y="35733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58920" y="3645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3640" y="3789360"/>
            <a:ext cx="792000" cy="485640"/>
          </a:xfrm>
          <a:prstGeom prst="leftArrow">
            <a:avLst>
              <a:gd name="adj1" fmla="val 50000"/>
              <a:gd name="adj2" fmla="val 4077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95640" y="3789360"/>
            <a:ext cx="863640" cy="485640"/>
          </a:xfrm>
          <a:prstGeom prst="rightArrow">
            <a:avLst>
              <a:gd name="adj1" fmla="val 50000"/>
              <a:gd name="adj2" fmla="val 4445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9318200">
            <a:off x="7093080" y="35730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3316400">
            <a:off x="8243640" y="357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2401800">
            <a:off x="5724000" y="3573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8152200">
            <a:off x="4427280" y="357336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4000" y="-2433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ние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 направлениях ветров, господствующих в местности, можно узнать по графику, который называется – роза в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0" y="5516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ите, какие ветры преобладали в данной местности и сколько дней дул южный ветер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85080" cy="35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57920" y="1657080"/>
            <a:ext cx="23860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0" y="907920"/>
          <a:ext cx="9144000" cy="5949720"/>
        </p:xfrm>
        <a:graphic>
          <a:graphicData uri="http://schemas.openxmlformats.org/drawingml/2006/table">
            <a:tbl>
              <a:tblPr/>
              <a:tblGrid>
                <a:gridCol w="2171880"/>
                <a:gridCol w="4160520"/>
                <a:gridCol w="2811600"/>
              </a:tblGrid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ве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 дейст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и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ром с моря на суш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режные территории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a0fe"/>
                    </a:solidFill>
                  </a:tcPr>
                </a:tc>
              </a:tr>
              <a:tr h="161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сс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ой с суши на 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ережья Тихого и Индийского оке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a0fe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сс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й ветер С-В направления в северном полушарии,  Ю-В в южно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тропиков к экватор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дные вет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д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ные шир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0" y="189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Существуют постоянные ветры и ветры меняющие направле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2" dur="indefinite" restart="never" nodeType="tmRoot">
          <p:childTnLst>
            <p:seq>
              <p:cTn id="173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7" dur="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43:01Z</dcterms:created>
  <dc:creator>user</dc:creator>
  <dc:description/>
  <dc:language>en-US</dc:language>
  <cp:lastModifiedBy>Инновационный отдел</cp:lastModifiedBy>
  <dcterms:modified xsi:type="dcterms:W3CDTF">2008-08-27T09:02:17Z</dcterms:modified>
  <cp:revision>20</cp:revision>
  <dc:subject/>
  <dc:title>Тема урока: ”Ветер”</dc:title>
</cp:coreProperties>
</file>