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65D-04B9-406B-8322-C8567C9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8F5-DF42-456E-9240-1626057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6C2-B281-40BB-B5BA-2877C0D1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03B-31C0-4A5E-9E18-68DE23AE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E5800-B2B9-403E-B2E2-CBF0E301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A1218-7606-4054-92D7-A9026C9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B705-620D-4A54-BE11-0595639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6C686-9A47-40C7-A554-2FCFF45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6C7F7-0FC3-4E0B-923A-B08A55A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075B-8B5A-43F4-8B95-D03C096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3A205-BAE4-49ED-AE04-775FE02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88-E5F8-42F0-9DD4-5388702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EE57-74DA-44CD-AD59-7DE7CCA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4E264-1423-4D65-B1E7-15BCBCA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EFC33-9536-4BBC-A217-7F7F4D3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2B5D-3EBF-4681-9066-C2C05CFF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929F8-21CE-426A-81A6-29574EA6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9F51-0CC4-4E4D-B412-6B34100B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AA38-DAD7-45DF-9DA4-96234674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023A-5201-476B-A260-1B59069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8801-1E70-4FC2-9093-72CD542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5D5F-FBC1-4FC5-AD13-7A2E607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4AF-1A40-4931-AB51-3E5FDE8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220B-BFD1-4D1B-A8A6-24AB886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B3F6-C8E2-476E-87A6-9449BE2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867E-B23B-43AE-BC63-991DA0B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6E5B-16A2-46BE-8C62-C021B29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AEAB-6FE8-4154-981E-A284EAF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39FC-2D9D-4D4E-8524-FCFEFCF2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D083-D9E1-4491-872B-52469D55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E0A6-21C6-4A76-ACAF-E04DA3F8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4734-4670-40F4-9434-4355D13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E39A-054E-4554-A04C-CCE53B1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98F-4093-489E-9CC5-69D941D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B3C2-1A5F-498B-A18F-8BBAFD88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B808-1F19-4F8F-BF94-950D494F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1097-73EE-4461-B88C-854D81E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3D2C-1AE4-428D-93D6-A769257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88FD-5DF2-49DA-BB25-F8E84FD3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3FDA-B32A-46F2-82D6-6A64B34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02FC-53A4-483D-8B8E-E21498E3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0FAA-EA11-41A5-AB76-95B228A6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E4B9-3C80-4CE6-B54A-52E70A4F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3C69-771F-4200-82F3-894FD0A4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7F5-7ED6-4FD4-B68B-168EE04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CA65-BD78-4109-AC72-83EE638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4B2C-6F35-496E-B424-D9E8889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E007-4C41-45F3-92C5-0DCFBE5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698D-D42D-434D-883A-F09D9C9E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EAF4-9ED2-4463-B372-7A8502F1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8E34-E94D-4DE0-B385-A888A82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6D35-5853-416B-96F8-5CEF8D6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5DDF-9EDA-4B02-8C05-DA22448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4937-2990-498C-9EB1-DFE1A89F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4EEC-ECB9-4EAE-BB2D-483B9EA4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C9F-2D88-4C14-A841-41CF8851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359A-F709-4A01-BA18-F814D6C6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A79-75D5-43C2-B54A-19D6E1E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97E-B33D-4BF3-909F-BC96031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38F-14AA-480E-BB05-4C384EA9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027-2867-4A0F-976C-4B445DA54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6B1-F176-4DCF-90A3-58A88ACE35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023-FD09-43D6-A87E-5E56BBD8B4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3D77-6B15-47CF-BA82-FE8EA94DCF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B517-2AF7-4DF6-B44A-EA2920D135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720"/>
          </a:xfrm>
          <a:prstGeom prst="rect">
            <a:avLst/>
          </a:prstGeom>
          <a:noFill/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те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 географии МОУГСОШ г.Калязина  Соколова А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5877000"/>
          <a:ext cx="374328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5877000"/>
                    <a:ext cx="3743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сновные ветры умеренных ши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-387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войства ветр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67" idx="3"/>
            <a:endCxn id="267" idx="3"/>
          </p:cNvCxnSpPr>
          <p:nvPr/>
        </p:nvCxnSpPr>
        <p:spPr>
          <a:xfrm>
            <a:off x="8167320" y="7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268360" y="4076640"/>
            <a:ext cx="287640" cy="615960"/>
          </a:xfrm>
          <a:prstGeom prst="upArrow">
            <a:avLst>
              <a:gd name="adj1" fmla="val 50000"/>
              <a:gd name="adj2" fmla="val 535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42900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ил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алл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м/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0137200">
            <a:off x="5795640" y="1341000"/>
            <a:ext cx="431640" cy="1656000"/>
          </a:xfrm>
          <a:prstGeom prst="downArrow">
            <a:avLst>
              <a:gd name="adj1" fmla="val 50000"/>
              <a:gd name="adj2" fmla="val 959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493400">
            <a:off x="2555640" y="1341000"/>
            <a:ext cx="358560" cy="1656000"/>
          </a:xfrm>
          <a:prstGeom prst="downArrow">
            <a:avLst>
              <a:gd name="adj1" fmla="val 50000"/>
              <a:gd name="adj2" fmla="val 1154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4724280"/>
            <a:ext cx="4427640" cy="12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ница д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5445000"/>
            <a:ext cx="8510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чем больше разница давления, тем больше сила ветра и его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57080" y="3393720"/>
            <a:ext cx="2012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0" y="321300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ажите стрелочками направление ветра. В каком случае скорость ветра будет бол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0" y="2204640"/>
            <a:ext cx="806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2133720"/>
            <a:ext cx="280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2133720"/>
            <a:ext cx="2448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5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3860640"/>
            <a:ext cx="2448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35640" y="3860640"/>
            <a:ext cx="28796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2349360"/>
            <a:ext cx="1079280" cy="360360"/>
          </a:xfrm>
          <a:prstGeom prst="leftArrow">
            <a:avLst>
              <a:gd name="adj1" fmla="val 50000"/>
              <a:gd name="adj2" fmla="val 7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4376520" y="3695400"/>
            <a:ext cx="358920" cy="1121040"/>
          </a:xfrm>
          <a:prstGeom prst="upArrow">
            <a:avLst>
              <a:gd name="adj1" fmla="val 50000"/>
              <a:gd name="adj2" fmla="val 78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360" y="4941720"/>
            <a:ext cx="1943280" cy="12258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3468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по шкале Бофорта название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в море буш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ая волны в 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за слабый вете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уса надуть не см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по морю гу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ораблик подго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бежит себе в вол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аздутых парус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ь с дороги захват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 набравшись с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ертелся, закруж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толбом до неба взв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03640" y="1484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492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3789360"/>
            <a:ext cx="2519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й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5229360"/>
            <a:ext cx="2376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280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прилагательные вы бы использовали для характеристики ве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76720" y="2276640"/>
            <a:ext cx="259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г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2205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войства воздуха характеризуют эти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3141720"/>
            <a:ext cx="266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651280" y="2997360"/>
            <a:ext cx="1369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24000" y="342900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284720" y="5013360"/>
            <a:ext cx="27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580000" y="4149360"/>
            <a:ext cx="144000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56000" y="4726080"/>
            <a:ext cx="2664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92720" y="4292640"/>
            <a:ext cx="172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580000" y="3860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292720" y="4581000"/>
            <a:ext cx="172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68436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начение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2200" y="1916280"/>
            <a:ext cx="59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549360"/>
            <a:ext cx="81723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ереносит влагу, тепло, с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чищает возд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Формирует релье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Используется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ричина природных бедствий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2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тер – это горизонтальное  перемещение воздуха из областей высокого давления в область низк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 возникновен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Разница в нагревании моря и с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ница в д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 характеризуется следующими свойств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8469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Направление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это сторона горизонта, откуда дует ветер.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уществуют главные направления и промежуточные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42560" y="616536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07920"/>
            <a:ext cx="9144000" cy="13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значьте стрелками направлени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357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2997360"/>
          <a:ext cx="9144000" cy="2160360"/>
        </p:xfrm>
        <a:graphic>
          <a:graphicData uri="http://schemas.openxmlformats.org/drawingml/2006/table">
            <a:tbl>
              <a:tblPr/>
              <a:tblGrid>
                <a:gridCol w="971640"/>
                <a:gridCol w="1160280"/>
                <a:gridCol w="1006560"/>
                <a:gridCol w="934920"/>
                <a:gridCol w="1225800"/>
                <a:gridCol w="1363680"/>
                <a:gridCol w="1296720"/>
                <a:gridCol w="118440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468360" y="-17136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3573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364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3789360"/>
            <a:ext cx="792000" cy="485640"/>
          </a:xfrm>
          <a:prstGeom prst="leftArrow">
            <a:avLst>
              <a:gd name="adj1" fmla="val 50000"/>
              <a:gd name="adj2" fmla="val 4077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378936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318200">
            <a:off x="7093080" y="3573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3316400">
            <a:off x="8243640" y="357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01800">
            <a:off x="5724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52200">
            <a:off x="4427280" y="3573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направлениях ветров, господствующих в местности, можно узнать по графику, который называется – роза в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0" y="551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, какие ветры преобладали в данной местности и сколько дней дул южный ветер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35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57920" y="1657080"/>
            <a:ext cx="238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907920"/>
          <a:ext cx="9144000" cy="5949720"/>
        </p:xfrm>
        <a:graphic>
          <a:graphicData uri="http://schemas.openxmlformats.org/drawingml/2006/table">
            <a:tbl>
              <a:tblPr/>
              <a:tblGrid>
                <a:gridCol w="2171880"/>
                <a:gridCol w="4160520"/>
                <a:gridCol w="281160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е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м с моря на суш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режные территор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 с суши на 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режья Тихого и Индийского оке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ветер С-В направления в северном полушарии,  Ю-В в южн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ропиков к экват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е ве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е шир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0" y="189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ществуют постоянные ветры и ветры меняющие направл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3:01Z</dcterms:created>
  <dc:creator>user</dc:creator>
  <dc:description/>
  <dc:language>en-US</dc:language>
  <cp:lastModifiedBy>Инновационный отдел</cp:lastModifiedBy>
  <dcterms:modified xsi:type="dcterms:W3CDTF">2008-08-27T09:02:17Z</dcterms:modified>
  <cp:revision>20</cp:revision>
  <dc:subject/>
  <dc:title>Тема урока: ”Ветер”</dc:title>
</cp:coreProperties>
</file>