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1C5-EA84-4380-9006-7400191D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6F6-F7E7-4CEE-B7CB-F8017985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E67-44CF-40C3-90C6-CA2D7213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53D-AA68-4AA8-853E-237A30B4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8B84-95AF-4BCA-92BB-CDF510E9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A3F5-5113-46BB-AF61-C93D4E19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8556-8A62-4296-9FE2-3CE6C9D2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C834-8967-4052-B594-4DF36A21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D59D-7926-404A-8443-E8C7B9E4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99F6-5876-4466-B2E7-D366ABB0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A86D-BC9B-4A8A-879F-C0F48AC9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026-AABA-4ED4-9953-21351569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E59B-C950-4677-8402-6A751F76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B646-3475-4173-944C-53BDE960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46DC-B29E-4C3F-A406-ADEA4C5C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93E3-9C5E-446A-AE53-F2EAFCB2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4DF6-A2AA-4389-A647-5E17234D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970-0406-48FA-B417-BB25C939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E71-F1AF-40A1-97E4-6350FB28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C61-9272-44E7-9C03-4EAFBBD1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A10-7AA9-405F-82DB-4F520273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927-C3C2-4735-9249-FABF6191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B14-E154-4930-BB8D-A3741F8B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5D0-C3F0-4826-A616-B7507964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2C7D-2CF0-4185-B124-0BAD5A4599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3B21-81BF-476D-B033-2B796542C4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ienceland.info/images/geography6/pic127.png" TargetMode="External"/><Relationship Id="rId2" Type="http://schemas.openxmlformats.org/officeDocument/2006/relationships/hyperlink" Target="http://fishki.net/picsw/102012/18/bonus/photo/tn.jpg" TargetMode="External"/><Relationship Id="rId3" Type="http://schemas.openxmlformats.org/officeDocument/2006/relationships/hyperlink" Target="http://tsun.sscc.ru/ona_l.jpg" TargetMode="External"/><Relationship Id="rId4" Type="http://schemas.openxmlformats.org/officeDocument/2006/relationships/hyperlink" Target="http://ufoleaks.su/_nw/22/s92458018.jpg" TargetMode="External"/><Relationship Id="rId5" Type="http://schemas.openxmlformats.org/officeDocument/2006/relationships/hyperlink" Target="http://pics.livejournal.com/vindos/pic/00006g37" TargetMode="External"/><Relationship Id="rId6" Type="http://schemas.openxmlformats.org/officeDocument/2006/relationships/hyperlink" Target="http://dic.academic.ru/pictures/enc_geo/v025.jpg" TargetMode="External"/><Relationship Id="rId7" Type="http://schemas.openxmlformats.org/officeDocument/2006/relationships/hyperlink" Target="http://www.topnews.ru/news_id_41459.html" TargetMode="External"/><Relationship Id="rId8" Type="http://schemas.openxmlformats.org/officeDocument/2006/relationships/hyperlink" Target="http://www.baltslon.ru/rus/publications/article252/" TargetMode="External"/><Relationship Id="rId9" Type="http://schemas.openxmlformats.org/officeDocument/2006/relationships/hyperlink" Target="http://www.specletter.com/files/photos/692_ave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gradFill rotWithShape="0">
            <a:gsLst>
              <a:gs pos="0">
                <a:srgbClr val="3dabb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1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332000" y="549360"/>
            <a:ext cx="676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Волны в океан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684360" y="2220840"/>
            <a:ext cx="7993080" cy="463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179280" y="4941720"/>
            <a:ext cx="56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Осипова Е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географии высшей категор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ООШ №5  г. Азова Рост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29" name="Picture 6" descr="картинка прилив и отлив"/>
          <p:cNvPicPr/>
          <p:nvPr/>
        </p:nvPicPr>
        <p:blipFill>
          <a:blip r:embed="rId1"/>
          <a:stretch/>
        </p:blipFill>
        <p:spPr>
          <a:xfrm>
            <a:off x="611280" y="2708280"/>
            <a:ext cx="7993080" cy="378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прилив и отли"/>
          <p:cNvPicPr/>
          <p:nvPr/>
        </p:nvPicPr>
        <p:blipFill>
          <a:blip r:embed="rId2"/>
          <a:stretch/>
        </p:blipFill>
        <p:spPr>
          <a:xfrm>
            <a:off x="2050920" y="260280"/>
            <a:ext cx="518508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2987640" y="64008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ья п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971640" y="3573360"/>
            <a:ext cx="72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а                                        След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а притяжения луны                 Приливы и отл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3564000" y="378936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4643280" y="472428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84360" y="436572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та приливов и отл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м – Залив Фанди 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 м – Бристольский залив 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,5 м – Магелланов пролив 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,3 м – Пролив Ла-Манш в Атлантическ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8172360" y="4292640"/>
            <a:ext cx="43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35839864_highest_backwater_fundy_bay_3"/>
          <p:cNvPicPr/>
          <p:nvPr/>
        </p:nvPicPr>
        <p:blipFill>
          <a:blip r:embed="rId1"/>
          <a:stretch/>
        </p:blipFill>
        <p:spPr>
          <a:xfrm>
            <a:off x="2556000" y="4724280"/>
            <a:ext cx="3960720" cy="1959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13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3"/>
          <p:cNvSpPr/>
          <p:nvPr/>
        </p:nvSpPr>
        <p:spPr>
          <a:xfrm>
            <a:off x="3059280" y="620640"/>
            <a:ext cx="3025440" cy="1873440"/>
          </a:xfrm>
          <a:prstGeom prst="roundRect">
            <a:avLst>
              <a:gd name="adj" fmla="val 16667"/>
            </a:avLst>
          </a:prstGeom>
          <a:solidFill>
            <a:srgbClr val="f4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5"/>
          <p:cNvSpPr/>
          <p:nvPr/>
        </p:nvSpPr>
        <p:spPr>
          <a:xfrm>
            <a:off x="6300720" y="3789360"/>
            <a:ext cx="2521080" cy="2664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664000"/>
              <a:gd name="textAreaBottom" fmla="*/ 2541240 h 2664000"/>
            </a:gdLst>
            <a:ahLst/>
            <a:rect l="textAreaLeft" t="textAreaTop" r="textAreaRight" b="textAreaBottom"/>
            <a:pathLst>
              <a:path w="21600" h="22824">
                <a:moveTo>
                  <a:pt x="3600" y="0"/>
                </a:moveTo>
                <a:arcTo wR="3600" hR="3600" stAng="16200000" swAng="-5400000"/>
                <a:lnTo>
                  <a:pt x="0" y="19224"/>
                </a:lnTo>
                <a:arcTo wR="3600" hR="3600" stAng="10800000" swAng="-5400000"/>
                <a:lnTo>
                  <a:pt x="18000" y="22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зва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яжением 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еана Луно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нц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3348000" y="3716280"/>
            <a:ext cx="2521080" cy="273708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737080"/>
              <a:gd name="textAreaBottom" fmla="*/ 2614320 h 2737080"/>
            </a:gdLst>
            <a:ahLst/>
            <a:rect l="textAreaLeft" t="textAreaTop" r="textAreaRight" b="textAreaBottom"/>
            <a:pathLst>
              <a:path w="21600" h="23450">
                <a:moveTo>
                  <a:pt x="3600" y="0"/>
                </a:moveTo>
                <a:arcTo wR="3600" hR="3600" stAng="16200000" swAng="-5400000"/>
                <a:lnTo>
                  <a:pt x="0" y="19850"/>
                </a:lnTo>
                <a:arcTo wR="3600" hR="3600" stAng="10800000" swAng="-5400000"/>
                <a:lnTo>
                  <a:pt x="18000" y="23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зва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етрясениям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7"/>
          <p:cNvSpPr/>
          <p:nvPr/>
        </p:nvSpPr>
        <p:spPr>
          <a:xfrm>
            <a:off x="395280" y="3716280"/>
            <a:ext cx="2521080" cy="273708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2737080"/>
              <a:gd name="textAreaBottom" fmla="*/ 2614320 h 2737080"/>
            </a:gdLst>
            <a:ahLst/>
            <a:rect l="textAreaLeft" t="textAreaTop" r="textAreaRight" b="textAreaBottom"/>
            <a:pathLst>
              <a:path w="21600" h="23450">
                <a:moveTo>
                  <a:pt x="3600" y="0"/>
                </a:moveTo>
                <a:arcTo wR="3600" hR="3600" stAng="16200000" swAng="-5400000"/>
                <a:lnTo>
                  <a:pt x="0" y="19850"/>
                </a:lnTo>
                <a:arcTo wR="3600" hR="3600" stAng="10800000" swAng="-5400000"/>
                <a:lnTo>
                  <a:pt x="18000" y="23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званные вет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30"/>
          <p:cNvCxnSpPr>
            <a:stCxn id="144" idx="2"/>
            <a:endCxn id="147" idx="0"/>
          </p:cNvCxnSpPr>
          <p:nvPr/>
        </p:nvCxnSpPr>
        <p:spPr>
          <a:xfrm flipH="1">
            <a:off x="1654920" y="2493720"/>
            <a:ext cx="2917080" cy="12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31"/>
          <p:cNvCxnSpPr>
            <a:stCxn id="144" idx="2"/>
            <a:endCxn id="145" idx="0"/>
          </p:cNvCxnSpPr>
          <p:nvPr/>
        </p:nvCxnSpPr>
        <p:spPr>
          <a:xfrm>
            <a:off x="4572000" y="2494080"/>
            <a:ext cx="2990160" cy="12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32"/>
          <p:cNvCxnSpPr>
            <a:stCxn id="144" idx="2"/>
            <a:endCxn id="146" idx="0"/>
          </p:cNvCxnSpPr>
          <p:nvPr/>
        </p:nvCxnSpPr>
        <p:spPr>
          <a:xfrm>
            <a:off x="4571640" y="2493720"/>
            <a:ext cx="37080" cy="122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WordArt 11"/>
          <p:cNvSpPr txBox="1"/>
          <p:nvPr/>
        </p:nvSpPr>
        <p:spPr>
          <a:xfrm>
            <a:off x="3276720" y="1341360"/>
            <a:ext cx="2552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иды вол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2" name="WordArt 12"/>
          <p:cNvSpPr txBox="1"/>
          <p:nvPr/>
        </p:nvSpPr>
        <p:spPr>
          <a:xfrm>
            <a:off x="611280" y="4365720"/>
            <a:ext cx="21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етров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3" name="WordArt 13"/>
          <p:cNvSpPr txBox="1"/>
          <p:nvPr/>
        </p:nvSpPr>
        <p:spPr>
          <a:xfrm>
            <a:off x="3851280" y="4292640"/>
            <a:ext cx="1647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Цу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54" name="WordArt 14"/>
          <p:cNvSpPr txBox="1"/>
          <p:nvPr/>
        </p:nvSpPr>
        <p:spPr>
          <a:xfrm>
            <a:off x="6516720" y="3860640"/>
            <a:ext cx="21175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ливы 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тли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Применение волн.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56" name="Picture 7" descr="катание"/>
          <p:cNvPicPr/>
          <p:nvPr/>
        </p:nvPicPr>
        <p:blipFill>
          <a:blip r:embed="rId1"/>
          <a:stretch/>
        </p:blipFill>
        <p:spPr>
          <a:xfrm>
            <a:off x="1444680" y="1930320"/>
            <a:ext cx="1952640" cy="1951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пэс прилив"/>
          <p:cNvPicPr/>
          <p:nvPr/>
        </p:nvPicPr>
        <p:blipFill>
          <a:blip r:embed="rId2"/>
          <a:stretch/>
        </p:blipFill>
        <p:spPr>
          <a:xfrm>
            <a:off x="395280" y="4076640"/>
            <a:ext cx="3816360" cy="23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пэс"/>
          <p:cNvPicPr/>
          <p:nvPr/>
        </p:nvPicPr>
        <p:blipFill>
          <a:blip r:embed="rId3"/>
          <a:stretch/>
        </p:blipFill>
        <p:spPr>
          <a:xfrm>
            <a:off x="4500720" y="1341360"/>
            <a:ext cx="4248000" cy="381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250920" y="692280"/>
            <a:ext cx="5651280" cy="590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5867280" y="5300640"/>
            <a:ext cx="30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Кислогубская ПЭ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– Северная ПЭ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– Лумбовская ПЭС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– Мезенская ПЭ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Определите виды волн.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62" name="Picture 8" descr="прибой"/>
          <p:cNvPicPr/>
          <p:nvPr/>
        </p:nvPicPr>
        <p:blipFill>
          <a:blip r:embed="rId1"/>
          <a:stretch/>
        </p:blipFill>
        <p:spPr>
          <a:xfrm>
            <a:off x="1116000" y="1844640"/>
            <a:ext cx="2735280" cy="1722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зыбь"/>
          <p:cNvPicPr/>
          <p:nvPr/>
        </p:nvPicPr>
        <p:blipFill>
          <a:blip r:embed="rId2"/>
          <a:stretch/>
        </p:blipFill>
        <p:spPr>
          <a:xfrm>
            <a:off x="1042920" y="4000680"/>
            <a:ext cx="2909880" cy="1942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3"/>
          <a:stretch/>
        </p:blipFill>
        <p:spPr>
          <a:xfrm>
            <a:off x="4932360" y="1916280"/>
            <a:ext cx="3168720" cy="1636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картинка прилив и отлив"/>
          <p:cNvPicPr/>
          <p:nvPr/>
        </p:nvPicPr>
        <p:blipFill>
          <a:blip r:embed="rId4"/>
          <a:stretch/>
        </p:blipFill>
        <p:spPr>
          <a:xfrm>
            <a:off x="4716360" y="3860640"/>
            <a:ext cx="3527640" cy="2159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2320920" y="3495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281640" y="3495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232092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628164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51a07"/>
                </a:solidFill>
                <a:latin typeface="Arial Black"/>
              </a:rPr>
              <a:t>Проверь себя.</a:t>
            </a:r>
            <a:br>
              <a:rPr sz="2900"/>
            </a:br>
            <a:r>
              <a:rPr b="0" lang="ru-RU" sz="2000" spc="-1" strike="noStrike">
                <a:solidFill>
                  <a:srgbClr val="551a07"/>
                </a:solidFill>
                <a:latin typeface="Arial Black"/>
              </a:rPr>
              <a:t>Назовите части волны.</a:t>
            </a:r>
            <a:endParaRPr b="0" lang="en-US" sz="20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71" name="Picture 5" descr="Волны"/>
          <p:cNvPicPr/>
          <p:nvPr/>
        </p:nvPicPr>
        <p:blipFill>
          <a:blip r:embed="rId1"/>
          <a:stretch/>
        </p:blipFill>
        <p:spPr>
          <a:xfrm>
            <a:off x="468360" y="1628640"/>
            <a:ext cx="8137440" cy="4465800"/>
          </a:xfrm>
          <a:prstGeom prst="rect">
            <a:avLst/>
          </a:prstGeom>
          <a:ln w="0">
            <a:noFill/>
          </a:ln>
        </p:spPr>
      </p:pic>
      <p:sp>
        <p:nvSpPr>
          <p:cNvPr id="172" name="Line 7"/>
          <p:cNvSpPr/>
          <p:nvPr/>
        </p:nvSpPr>
        <p:spPr>
          <a:xfrm>
            <a:off x="2556000" y="2781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95640" y="24922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2916360" y="3860640"/>
            <a:ext cx="71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535120" y="364500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2124000" y="530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959120" y="4816440"/>
            <a:ext cx="3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H="1">
            <a:off x="4858920" y="2781360"/>
            <a:ext cx="73080" cy="3097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4932360" y="395136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900000" y="587700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192560" y="59500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51a07"/>
                </a:solidFill>
                <a:latin typeface="Arial Black"/>
              </a:rPr>
              <a:t>Информационные источники: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696080" cy="467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схемы Луна-Земл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ttp://allforchildren.ru/why/illustr/whatis1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схемы возникновения цунами: http://scienceland.info/images/geography6/pic125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схемы прилива и отлива: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scienceland.info/images/geography6/pic127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прилива и отлива: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fishki.net/picsw/102012/18/bonus/photo/t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волны: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http://tsun.sscc.ru/ona_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гигантского цунами: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http://ufoleaks.su/_nw/22/s9245801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ображение волны-убийцы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http://pics.livejournal.com/vindos/pic/00006g3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схемы зыби в сравнение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http://dic.academic.ru/pictures/enc_geo/v025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татья и изображение цунами в Японии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http://www.topnews.ru/news_id_41459.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в публикации "Приливные электростанции: далекое будущее или завтрашний день?" 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http://www.baltslon.ru/rus/publications/article252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ПЭС: </a:t>
            </a:r>
            <a:r>
              <a:rPr b="0" lang="en-US" sz="1300" spc="-1" strike="noStrike" u="sng">
                <a:solidFill>
                  <a:srgbClr val="ff3300"/>
                </a:solidFill>
                <a:uFillTx/>
                <a:latin typeface="Arial"/>
                <a:hlinkClick r:id="rId9"/>
              </a:rPr>
              <a:t>http://www.specletter.com/files/photos/692_ave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зображение фронта цунами: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www.nkj.ru/upload/iblock/c1c/c1c17865ee8e596646f47726a55cc40e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ПЭС во Франции: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referatsonline.ru/uploads/posts/2012-11/energeticheskie-resursy-mirovogo-okeana-3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волны- цунами: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tsun.sscc.ru/tsulab/H_School/PIC/fig4_1.gi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ображение волны: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s://encrypted-tbn3.gstatic.com/images?q=tbn:ANd9GcTW7yM_-2udSk05qPtcuLsbTyM_Xezy-7qpashp-Cs3WUT_APrq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Закончи фразы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gradFill rotWithShape="0">
            <a:gsLst>
              <a:gs pos="0">
                <a:srgbClr val="f4b4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 Количество минеральных веществ в граммах, растворенных в 1 литре воды – это…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Единицы измерения солености воды- это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. Средняя соленость Мирового океана – это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4. Самое соленое море – это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. На соленость влияют – это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6. Температура замерзания океанической воды – это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7. Температура с глубиной в океане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схема волны"/>
          <p:cNvPicPr/>
          <p:nvPr/>
        </p:nvPicPr>
        <p:blipFill>
          <a:blip r:embed="rId1"/>
          <a:stretch/>
        </p:blipFill>
        <p:spPr>
          <a:xfrm>
            <a:off x="250920" y="620640"/>
            <a:ext cx="8642160" cy="4969080"/>
          </a:xfrm>
          <a:prstGeom prst="rect">
            <a:avLst/>
          </a:prstGeom>
          <a:ln w="0">
            <a:noFill/>
          </a:ln>
        </p:spPr>
      </p:pic>
      <p:sp>
        <p:nvSpPr>
          <p:cNvPr id="96" name="WordArt 6"/>
          <p:cNvSpPr txBox="1"/>
          <p:nvPr/>
        </p:nvSpPr>
        <p:spPr>
          <a:xfrm>
            <a:off x="2627280" y="1628640"/>
            <a:ext cx="158436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ИНА ВОЛН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2340000" y="2997360"/>
            <a:ext cx="19000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А ВОЛН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1200" y="333360"/>
            <a:ext cx="756432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551a07"/>
                </a:solidFill>
                <a:latin typeface="Arial Black"/>
              </a:rPr>
              <a:t> </a:t>
            </a:r>
            <a:r>
              <a:rPr b="0" i="1" lang="ru-RU" sz="2900" spc="-1" strike="noStrike">
                <a:solidFill>
                  <a:srgbClr val="551a07"/>
                </a:solidFill>
                <a:latin typeface="Arial Black"/>
              </a:rPr>
              <a:t>Каково же происхождение волн?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99" name="Picture 7" descr="ветровые волны"/>
          <p:cNvPicPr/>
          <p:nvPr/>
        </p:nvPicPr>
        <p:blipFill>
          <a:blip r:embed="rId1"/>
          <a:stretch/>
        </p:blipFill>
        <p:spPr>
          <a:xfrm>
            <a:off x="4427640" y="1125360"/>
            <a:ext cx="41050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зыбь"/>
          <p:cNvPicPr/>
          <p:nvPr/>
        </p:nvPicPr>
        <p:blipFill>
          <a:blip r:embed="rId2"/>
          <a:stretch/>
        </p:blipFill>
        <p:spPr>
          <a:xfrm>
            <a:off x="395280" y="1052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волна"/>
          <p:cNvPicPr/>
          <p:nvPr/>
        </p:nvPicPr>
        <p:blipFill>
          <a:blip r:embed="rId3"/>
          <a:stretch/>
        </p:blipFill>
        <p:spPr>
          <a:xfrm>
            <a:off x="468360" y="364500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волны убийцы"/>
          <p:cNvPicPr/>
          <p:nvPr/>
        </p:nvPicPr>
        <p:blipFill>
          <a:blip r:embed="rId4"/>
          <a:stretch/>
        </p:blipFill>
        <p:spPr>
          <a:xfrm>
            <a:off x="4427640" y="3645000"/>
            <a:ext cx="4111560" cy="23367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684360" y="148428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а                                         след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                                      движени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етровые волны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2411280" y="2852640"/>
            <a:ext cx="194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2700360" y="170028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203640" y="64008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ая п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8" descr="зыбь в сравнении"/>
          <p:cNvPicPr/>
          <p:nvPr/>
        </p:nvPicPr>
        <p:blipFill>
          <a:blip r:embed="rId1"/>
          <a:stretch/>
        </p:blipFill>
        <p:spPr>
          <a:xfrm>
            <a:off x="161928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Какое природное явление может вызвать такие волны?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09" name="Picture 4" descr="00904"/>
          <p:cNvPicPr/>
          <p:nvPr/>
        </p:nvPicPr>
        <p:blipFill>
          <a:blip r:embed="rId1"/>
          <a:stretch/>
        </p:blipFill>
        <p:spPr>
          <a:xfrm>
            <a:off x="468360" y="1557360"/>
            <a:ext cx="7991280" cy="4535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2"/>
          <p:cNvSpPr/>
          <p:nvPr/>
        </p:nvSpPr>
        <p:spPr>
          <a:xfrm>
            <a:off x="1042920" y="19162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а                                      след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етрясение                                цу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3635280" y="2205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067280" y="3284640"/>
            <a:ext cx="1726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03640" y="623736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ая п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pic125"/>
          <p:cNvPicPr/>
          <p:nvPr/>
        </p:nvPicPr>
        <p:blipFill>
          <a:blip r:embed="rId2"/>
          <a:stretch/>
        </p:blipFill>
        <p:spPr>
          <a:xfrm>
            <a:off x="468360" y="1557360"/>
            <a:ext cx="813600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Line 17"/>
          <p:cNvSpPr/>
          <p:nvPr/>
        </p:nvSpPr>
        <p:spPr>
          <a:xfrm>
            <a:off x="5940360" y="2781360"/>
            <a:ext cx="360360" cy="2872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6300720" y="2491920"/>
            <a:ext cx="0" cy="2890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6300720" y="2133720"/>
            <a:ext cx="0" cy="2872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6516720" y="2060280"/>
            <a:ext cx="360360" cy="36036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1"/>
          <p:cNvSpPr/>
          <p:nvPr/>
        </p:nvSpPr>
        <p:spPr>
          <a:xfrm flipH="1" flipV="1">
            <a:off x="5724000" y="2133360"/>
            <a:ext cx="360360" cy="21564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2"/>
          <p:cNvSpPr/>
          <p:nvPr/>
        </p:nvSpPr>
        <p:spPr>
          <a:xfrm>
            <a:off x="6516720" y="6021360"/>
            <a:ext cx="216000" cy="216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Сделайте вывод из таблицы.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44680" y="2185920"/>
            <a:ext cx="66006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3816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корость цу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0-1000 км в час в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-100 км в час у бе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ысота цу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-40 см в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-20, возможно 70  м у бе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500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Цунами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126" name="Picture 7" descr="28 дек 2004"/>
          <p:cNvPicPr/>
          <p:nvPr/>
        </p:nvPicPr>
        <p:blipFill>
          <a:blip r:embed="rId1"/>
          <a:stretch/>
        </p:blipFill>
        <p:spPr>
          <a:xfrm>
            <a:off x="4643280" y="1125360"/>
            <a:ext cx="3773520" cy="452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60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0:35:39Z</dcterms:created>
  <dc:creator>Admin</dc:creator>
  <dc:description/>
  <dc:language>en-US</dc:language>
  <cp:lastModifiedBy>OLEG</cp:lastModifiedBy>
  <dcterms:modified xsi:type="dcterms:W3CDTF">2014-01-09T18:48:01Z</dcterms:modified>
  <cp:revision>7</cp:revision>
  <dc:subject/>
  <dc:title>Слайд 1</dc:title>
</cp:coreProperties>
</file>